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4.jpeg" ContentType="image/jpeg"/>
  <Override PartName="/ppt/media/image13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E2D-39BC-4FC3-96D6-A806122A07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33A-10C8-4F17-B159-0DD62810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BF5-241E-4267-A376-718220A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DF3-6B6D-4FC2-BD47-03F6665E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F68-3BD1-4140-BEA6-484FC71E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D14-0DF8-4534-878A-577C065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B0B-3128-47D9-9CE8-AA098F3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0B2-A517-476F-AF61-5D0D789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E3E-306F-482C-AD1E-9252B001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780-F872-4F66-93BC-91CF351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172-8758-4BCB-84EE-C4B0EAE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046-FBBB-4528-938F-2A78FCB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671-8E62-45B1-89A2-F36AA87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D6E-AE6B-4959-8F39-FB2D4751FC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2060640"/>
            <a:ext cx="770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线、射线、线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2362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85960" y="1828800"/>
            <a:ext cx="2771640" cy="533520"/>
            <a:chOff x="885960" y="1828800"/>
            <a:chExt cx="2771640" cy="533520"/>
          </a:xfrm>
        </p:grpSpPr>
        <p:sp>
          <p:nvSpPr>
            <p:cNvPr id="114" name=""/>
            <p:cNvSpPr/>
            <p:nvPr/>
          </p:nvSpPr>
          <p:spPr>
            <a:xfrm flipH="1" flipV="1">
              <a:off x="3276000" y="2276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14300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5960" y="182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1828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86200" y="1981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① 用两个大写英文字母表示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或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BA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3052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8098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② 用一个小写英文字母表示 ，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  <a:ea typeface="隶书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68600" y="3808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们可以用下列方式表示直线、射线、线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1447920"/>
            <a:ext cx="3460680" cy="609120"/>
            <a:chOff x="685800" y="1447920"/>
            <a:chExt cx="3460680" cy="609120"/>
          </a:xfrm>
        </p:grpSpPr>
        <p:sp>
          <p:nvSpPr>
            <p:cNvPr id="124" name=""/>
            <p:cNvSpPr/>
            <p:nvPr/>
          </p:nvSpPr>
          <p:spPr>
            <a:xfrm>
              <a:off x="1022400" y="20131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946080" y="1969200"/>
              <a:ext cx="763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1447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 flipV="1">
            <a:off x="2361600" y="1980360"/>
            <a:ext cx="7596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1371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685800"/>
            <a:ext cx="426708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 ① 用两个大写字母表示，必须端点写在前，射线上另一个字母写在后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射线 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  <a:ea typeface="隶书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。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说明：①同一条射线有不同的表示；②端点相同的射线不一定是同一条射线，端点不同的射线一定不是同一条射线；③两条射线是同一条射线，必须具备两个条件：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端点相同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延伸的方向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4800600"/>
            <a:ext cx="3460680" cy="641160"/>
            <a:chOff x="609480" y="4800600"/>
            <a:chExt cx="3460680" cy="641160"/>
          </a:xfrm>
        </p:grpSpPr>
        <p:sp>
          <p:nvSpPr>
            <p:cNvPr id="131" name=""/>
            <p:cNvSpPr/>
            <p:nvPr/>
          </p:nvSpPr>
          <p:spPr>
            <a:xfrm>
              <a:off x="946080" y="5365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869760" y="5321880"/>
              <a:ext cx="763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80060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95480" y="4572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952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一个小写字母表示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射线 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990360" y="1752480"/>
            <a:ext cx="2210040" cy="85320"/>
            <a:chOff x="990360" y="1752480"/>
            <a:chExt cx="2210040" cy="85320"/>
          </a:xfrm>
        </p:grpSpPr>
        <p:sp>
          <p:nvSpPr>
            <p:cNvPr id="137" name=""/>
            <p:cNvSpPr/>
            <p:nvPr/>
          </p:nvSpPr>
          <p:spPr>
            <a:xfrm>
              <a:off x="1066680" y="180000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124080" y="1752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90000" y="176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38080" y="1066680"/>
            <a:ext cx="2714760" cy="520560"/>
            <a:chOff x="838080" y="1066680"/>
            <a:chExt cx="2714760" cy="520560"/>
          </a:xfrm>
        </p:grpSpPr>
        <p:sp>
          <p:nvSpPr>
            <p:cNvPr id="141" name=""/>
            <p:cNvSpPr/>
            <p:nvPr/>
          </p:nvSpPr>
          <p:spPr>
            <a:xfrm>
              <a:off x="838080" y="1066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336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6200" y="10666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用两个端点的大写字母表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线段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B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或线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360" y="3962520"/>
            <a:ext cx="2210040" cy="85320"/>
            <a:chOff x="990360" y="3962520"/>
            <a:chExt cx="2210040" cy="85320"/>
          </a:xfrm>
        </p:grpSpPr>
        <p:sp>
          <p:nvSpPr>
            <p:cNvPr id="145" name=""/>
            <p:cNvSpPr/>
            <p:nvPr/>
          </p:nvSpPr>
          <p:spPr>
            <a:xfrm>
              <a:off x="1066680" y="401004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12408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990000" y="3971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7524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124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用一个小写字母表示 ，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线段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1173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0415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出直线、射线、线段三者的区别与联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895480"/>
          <a:ext cx="7696080" cy="2590920"/>
        </p:xfrm>
        <a:graphic>
          <a:graphicData uri="http://schemas.openxmlformats.org/drawingml/2006/table">
            <a:tbl>
              <a:tblPr/>
              <a:tblGrid>
                <a:gridCol w="1235160"/>
                <a:gridCol w="1431720"/>
                <a:gridCol w="2210040"/>
                <a:gridCol w="1295280"/>
                <a:gridCol w="15238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射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线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835280" y="299736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端点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2997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延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29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343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414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向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一个方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无限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343400"/>
            <a:ext cx="16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不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371628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端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5002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向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两个方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限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57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不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49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0133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不向任何方向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延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4941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51055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495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105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67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、填一填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把线段向一个方向无限延伸可以得到—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把线段向两个方向无限延伸可以得到———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——和——都是——的一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876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7400" y="4191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8320" y="4038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6120" y="2209680"/>
            <a:ext cx="25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直线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0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0" y="914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7400" y="4191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6040" y="327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1040" y="1981080"/>
            <a:ext cx="25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直线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838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952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388620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876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876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5943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3809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48920" y="20574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线段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相交于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120" y="1523880"/>
            <a:ext cx="66294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直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过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按下列语句画出图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48690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3886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3886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95280" y="1295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经过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三条线段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90360" y="3962520"/>
            <a:ext cx="2210040" cy="85320"/>
            <a:chOff x="990360" y="3962520"/>
            <a:chExt cx="2210040" cy="85320"/>
          </a:xfrm>
        </p:grpSpPr>
        <p:sp>
          <p:nvSpPr>
            <p:cNvPr id="212" name=""/>
            <p:cNvSpPr/>
            <p:nvPr/>
          </p:nvSpPr>
          <p:spPr>
            <a:xfrm>
              <a:off x="1066680" y="401004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12408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990000" y="3971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524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876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3200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9528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10280" y="41911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724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04960" y="2971800"/>
            <a:ext cx="2210040" cy="85320"/>
            <a:chOff x="3504960" y="2971800"/>
            <a:chExt cx="2210040" cy="85320"/>
          </a:xfrm>
        </p:grpSpPr>
        <p:sp>
          <p:nvSpPr>
            <p:cNvPr id="227" name=""/>
            <p:cNvSpPr/>
            <p:nvPr/>
          </p:nvSpPr>
          <p:spPr>
            <a:xfrm>
              <a:off x="3581280" y="301932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638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504600" y="29808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528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5146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34340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09480" y="380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按下列语句画出图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生活情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581640" cy="248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46196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8320" y="1574640"/>
            <a:ext cx="36687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生活实际，想一想，比较线段长短的方法都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会找出线段的中点，三等分点，四等分点…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选一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图所示，下列说法正确的是（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249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500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34290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34290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3080" y="34290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7800" y="35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98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5733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149720"/>
            <a:ext cx="352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4508640"/>
            <a:ext cx="302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无数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479736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4869000"/>
            <a:ext cx="75960" cy="75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4653000"/>
            <a:ext cx="71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12000" y="4869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17080" y="4941720"/>
            <a:ext cx="7596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96360" y="57340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573408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77080" y="551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34840" y="1371600"/>
            <a:ext cx="13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下列说法正确的是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两点确定两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三点确定一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一点只能作一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一点可以作无数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106668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 下列说法错误的是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  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  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经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365760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95680" y="3885840"/>
            <a:ext cx="36576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07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射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同一条射线，则符合题意的图为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" y="24379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81480" y="2362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8580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72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48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914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所示的直线、射线、线段能相交的是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09480" y="24379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181480" y="2362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8580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1981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67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205740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19810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219320" y="7621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Tahoma"/>
                <a:ea typeface="华文新魏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676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一人固定则可以排几个队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819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两人固定则又可以排几个队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3352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三个人、…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191120" y="5410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71136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flipV="1">
            <a:off x="914400" y="4952520"/>
            <a:ext cx="746748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4495680"/>
            <a:ext cx="3504960" cy="2362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48320" y="2895120"/>
            <a:ext cx="3276360" cy="3962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066680" y="1676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3352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三个人、…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038480" y="4114800"/>
            <a:ext cx="711360" cy="12193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71136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flipV="1">
            <a:off x="914400" y="4952520"/>
            <a:ext cx="746748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9051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已知三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射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线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34340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76320" cy="75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244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2200" y="1828800"/>
            <a:ext cx="2971800" cy="327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4120" y="2438280"/>
            <a:ext cx="1295280" cy="3733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943600" y="3200400"/>
            <a:ext cx="137160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3880" y="1676520"/>
            <a:ext cx="6248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过两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一条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条直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直线、射线、线段三者的区别与联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同几何语言（文字语言、符号语言、图形语言）的相互转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760" y="533520"/>
            <a:ext cx="4282920" cy="28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502920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08440" y="533520"/>
            <a:ext cx="42832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33720" y="22096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谢谢！再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41400"/>
            <a:ext cx="5578200" cy="33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36640" y="3429000"/>
            <a:ext cx="55785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4120" y="4800600"/>
            <a:ext cx="33526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1960" y="43434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3352680"/>
            <a:ext cx="0" cy="31244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95880" y="3429000"/>
            <a:ext cx="1371600" cy="2971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790960" y="3581280"/>
            <a:ext cx="1904760" cy="2667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508720" y="3789360"/>
            <a:ext cx="2590560" cy="20574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81120" y="4191120"/>
            <a:ext cx="3124440" cy="1295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09720" y="3962520"/>
            <a:ext cx="3124440" cy="16761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715000" y="3581280"/>
            <a:ext cx="2286000" cy="22860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24480" y="3276360"/>
            <a:ext cx="1067040" cy="2971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4520" y="45720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70080" y="5410080"/>
            <a:ext cx="80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4419720"/>
            <a:ext cx="3352680" cy="19047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1268280"/>
            <a:ext cx="61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一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画几条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两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画几条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476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通常用大写英文字母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4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动手试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经过两点有一条直线，并且只有一条直线，可以用来说明生活中的哪些现象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6720" y="1143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157032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4560" y="3276720"/>
            <a:ext cx="1069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92320" y="4114800"/>
            <a:ext cx="18558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186048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733840" y="3962520"/>
            <a:ext cx="142704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505320" y="3733920"/>
            <a:ext cx="135576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343400" y="3505320"/>
            <a:ext cx="121284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072120" y="3124080"/>
            <a:ext cx="92700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629400" y="3048120"/>
            <a:ext cx="78408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010280" y="304812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7512120" y="2819520"/>
            <a:ext cx="6411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888320" y="2743200"/>
            <a:ext cx="5698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8229600" y="2743200"/>
            <a:ext cx="42696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8458200" y="274320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8686800" y="2743200"/>
            <a:ext cx="28404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380880" y="2895120"/>
            <a:ext cx="8763120" cy="3962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2960" y="60948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点确定一条直线的应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23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树时，只要定出两个树坑的位置就能确定同一行的树坑所在的直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95280" y="3886200"/>
          <a:ext cx="709164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70916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71600" y="411480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95280" y="4114800"/>
          <a:ext cx="91440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057400" y="4114800"/>
          <a:ext cx="91440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819520" y="4114800"/>
          <a:ext cx="91440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581280" y="4114800"/>
          <a:ext cx="9144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4114800"/>
          <a:ext cx="91440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05520" y="4114800"/>
          <a:ext cx="91440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971640" y="1125360"/>
            <a:ext cx="734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筑工人在砌墙时会在墙的两头分别固定两枚钉子，然后在钉子之间拉一条绳子，确定出一条直的参照线，这样砌出的墙就是直的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27440" cy="41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少年智力开发报·数学专页</dc:creator>
  <dc:description>数学专页集十年辅导教学之经验、八年教育软件之执着、六年教学资源网站之专注，值此十周年之际，向广大师生隆重推出新一代备课平台----《数学专页备课王》！
《数学专页备课王》主要服务于中学教师的备课、课堂训练、课外辅导及日常管理工作；中学生的自主预习、自主练习、自主评测。
《数学专页备课王》内容丰富，资源全面，主要包括 随堂教案、随堂课件、随堂试卷、 随堂学案、数万道同步试题库、1.6万道2005-2010全国各地中考真题库、 近700套2001-2010年中考真题试卷，自1950年以来所有的高考真题试卷大全、常用工具推荐及数学专页相关介绍。
《数学专页备课王》容量大、资源全、功能强！教师一旦拥有她，必将成为教学生涯中的有力助手！</dc:description>
  <cp:keywords>备课王 数学专页</cp:keywords>
  <dc:language>en-US</dc:language>
  <cp:lastModifiedBy>微软用户</cp:lastModifiedBy>
  <dcterms:modified xsi:type="dcterms:W3CDTF">2012-07-16T01:54:41Z</dcterms:modified>
  <cp:revision>4</cp:revision>
  <dc:subject>数学专页备课王</dc:subject>
  <dc:title>数学专页备课王资源文件</dc:title>
</cp:coreProperties>
</file>