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type.wav" ContentType="audio/x-wav"/>
  <Override PartName="/ppt/media/image14.gif" ContentType="image/gif"/>
  <Override PartName="/ppt/media/image9.gif" ContentType="image/gif"/>
  <Override PartName="/ppt/media/image16.png" ContentType="image/pn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198-D330-4E35-BCF7-99BA95FC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F3D-7402-4E0C-BA55-A5B32BE7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454-EFA2-447A-A803-06E916EC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5EC-A6C4-4EEE-B2F8-1551594C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94D5-7FDA-4864-91EC-8E0632DC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0DBF-85C6-4D1F-9E8B-048B2A75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8F36-C7ED-4953-8857-0309422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F77C-8FAD-4418-83E8-3E211F81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FC4-FCE3-4E68-967A-EF8B5AD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7693-6529-476B-9AD5-5F7553D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7890-8309-496C-AD06-2C46629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6DE-E701-4C9A-893F-FF91B050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0349-7CE1-461B-AA97-DF6C010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D11F-3987-4094-ACA2-AC4884D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C83-EBA7-4AF8-8D82-5585703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6D6-25D7-4C2C-83F8-E433D87A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1D86-3ADA-40CC-B838-B4C70604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4B8F-7F84-4252-9849-E3152502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6A3B-29DF-4455-8E8B-D41C94F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E8E4-6BF9-4AEF-96B5-9630A856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36DE-B3A4-49F8-8CC1-FBFAB4AC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CC0F-8935-4846-8370-58807D22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030-9303-4D07-9583-CD0ACA7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3978-C99D-456F-A649-57BBCF06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3151-6D41-4731-8ED8-36F3D24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717C-0F38-4E1B-A96F-F08D7936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BC20-822D-4798-9673-6255D99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01F1-66A5-4B5E-A1B2-1EFDF5BD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9FBB-7F2B-4992-A975-06C3D6A0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FDEA-C1CA-40DD-95D8-3BD337D8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6E7-B3DA-4D3A-8B51-220CE29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6AD-1AA2-49FE-960B-2521E9D4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144-C9CC-459E-92FF-DD9EF4CE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FE1-47A2-4037-ADAF-2998AE2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417-3A91-491A-AB4C-D65F1A00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1FB-C19E-476F-A9B7-6BE3B96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0C5E-9CB5-4679-A4BB-81743765B8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EA1-CBD6-43FB-A1FC-8257D1CAC6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146F-016C-4293-A7B2-A0BBA91845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audio" Target="file:///tmp/home/.config/libreoffice/4/user/gallery/type.wav" TargetMode="External"/><Relationship Id="rId5" Type="http://schemas.microsoft.com/office/2007/relationships/media" Target="file:///tmp/home/.config/libreoffice/4/user/gallery/type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7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17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24080" cy="151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80360" y="3860640"/>
            <a:ext cx="157464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886880" y="5951520"/>
            <a:ext cx="518760" cy="519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3429000"/>
            <a:ext cx="79930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余角和补角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03280" y="1268280"/>
            <a:ext cx="6400800" cy="1298880"/>
          </a:xfrm>
          <a:prstGeom prst="rect">
            <a:avLst/>
          </a:prstGeom>
        </p:spPr>
        <p:txBody>
          <a:bodyPr wrap="none" lIns="91080" rIns="91080" tIns="45360" bIns="45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§4.3.3</a:t>
            </a:r>
            <a:r>
              <a:rPr b="1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　余角和补角</a:t>
            </a:r>
            <a:endParaRPr b="1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2560" y="692280"/>
            <a:ext cx="777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若一个角的补角等于它的余角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倍，求这个角的度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1989000"/>
            <a:ext cx="774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3860640"/>
            <a:ext cx="597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9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47640" y="4653000"/>
            <a:ext cx="3886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得：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 =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5518080"/>
            <a:ext cx="547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答：这个角的度数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0 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2567160"/>
            <a:ext cx="774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余角是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(90°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x°)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1989000"/>
            <a:ext cx="774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它的补角是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(180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°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x°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860640"/>
            <a:ext cx="5978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3932280"/>
            <a:ext cx="597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3213000"/>
            <a:ext cx="774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根据题意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989000"/>
            <a:ext cx="774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设这个角是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 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cc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9280" y="836640"/>
            <a:ext cx="8964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55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如图∠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∠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互补，∠３ 与∠４互补 ，如果∠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∠３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么∠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∠４相等吗？为什么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690200" y="2421000"/>
            <a:ext cx="1874880" cy="934920"/>
            <a:chOff x="1690200" y="2421000"/>
            <a:chExt cx="1874880" cy="934920"/>
          </a:xfrm>
        </p:grpSpPr>
        <p:sp>
          <p:nvSpPr>
            <p:cNvPr id="292" name=""/>
            <p:cNvSpPr/>
            <p:nvPr/>
          </p:nvSpPr>
          <p:spPr>
            <a:xfrm flipH="1">
              <a:off x="1690200" y="2421000"/>
              <a:ext cx="149940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90560" y="3355920"/>
              <a:ext cx="187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9840" y="3139920"/>
              <a:ext cx="74520" cy="215640"/>
            </a:xfrm>
            <a:custGeom>
              <a:avLst/>
              <a:gdLst/>
              <a:ahLst/>
              <a:rect l="l" t="t" r="r" b="b"/>
              <a:pathLst>
                <a:path w="45" h="136">
                  <a:moveTo>
                    <a:pt x="0" y="0"/>
                  </a:moveTo>
                  <a:cubicBezTo>
                    <a:pt x="22" y="11"/>
                    <a:pt x="45" y="23"/>
                    <a:pt x="45" y="46"/>
                  </a:cubicBezTo>
                  <a:cubicBezTo>
                    <a:pt x="45" y="69"/>
                    <a:pt x="0" y="121"/>
                    <a:pt x="0" y="13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5320" y="2636640"/>
              <a:ext cx="975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2360" y="2491920"/>
            <a:ext cx="2768400" cy="866880"/>
            <a:chOff x="252360" y="2491920"/>
            <a:chExt cx="2768400" cy="866880"/>
          </a:xfrm>
        </p:grpSpPr>
        <p:sp>
          <p:nvSpPr>
            <p:cNvPr id="297" name=""/>
            <p:cNvSpPr/>
            <p:nvPr/>
          </p:nvSpPr>
          <p:spPr>
            <a:xfrm flipV="1">
              <a:off x="1654560" y="2491920"/>
              <a:ext cx="1366200" cy="865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2360" y="3357360"/>
              <a:ext cx="1402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8560" y="2492280"/>
              <a:ext cx="504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38920" y="3141000"/>
              <a:ext cx="431640" cy="217800"/>
            </a:xfrm>
            <a:custGeom>
              <a:avLst/>
              <a:gdLst/>
              <a:ahLst/>
              <a:rect l="l" t="t" r="r" b="b"/>
              <a:pathLst>
                <a:path w="227" h="106">
                  <a:moveTo>
                    <a:pt x="0" y="106"/>
                  </a:moveTo>
                  <a:cubicBezTo>
                    <a:pt x="26" y="68"/>
                    <a:pt x="52" y="30"/>
                    <a:pt x="90" y="15"/>
                  </a:cubicBezTo>
                  <a:cubicBezTo>
                    <a:pt x="128" y="0"/>
                    <a:pt x="197" y="15"/>
                    <a:pt x="227" y="15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24000" y="189000"/>
            <a:ext cx="6770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  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探究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补角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0" y="2491920"/>
            <a:ext cx="2770200" cy="866880"/>
            <a:chOff x="4572000" y="2491920"/>
            <a:chExt cx="2770200" cy="866880"/>
          </a:xfrm>
        </p:grpSpPr>
        <p:sp>
          <p:nvSpPr>
            <p:cNvPr id="303" name=""/>
            <p:cNvSpPr/>
            <p:nvPr/>
          </p:nvSpPr>
          <p:spPr>
            <a:xfrm flipV="1">
              <a:off x="5975280" y="2491920"/>
              <a:ext cx="1366920" cy="865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3357360"/>
              <a:ext cx="1403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98920" y="2492280"/>
              <a:ext cx="505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59280" y="3141000"/>
              <a:ext cx="432000" cy="217800"/>
            </a:xfrm>
            <a:custGeom>
              <a:avLst/>
              <a:gdLst/>
              <a:ahLst/>
              <a:rect l="l" t="t" r="r" b="b"/>
              <a:pathLst>
                <a:path w="227" h="106">
                  <a:moveTo>
                    <a:pt x="0" y="106"/>
                  </a:moveTo>
                  <a:cubicBezTo>
                    <a:pt x="26" y="68"/>
                    <a:pt x="52" y="30"/>
                    <a:pt x="90" y="15"/>
                  </a:cubicBezTo>
                  <a:cubicBezTo>
                    <a:pt x="128" y="0"/>
                    <a:pt x="197" y="15"/>
                    <a:pt x="227" y="15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011640" y="2421000"/>
            <a:ext cx="1874880" cy="934920"/>
            <a:chOff x="6011640" y="2421000"/>
            <a:chExt cx="1874880" cy="934920"/>
          </a:xfrm>
        </p:grpSpPr>
        <p:sp>
          <p:nvSpPr>
            <p:cNvPr id="308" name=""/>
            <p:cNvSpPr/>
            <p:nvPr/>
          </p:nvSpPr>
          <p:spPr>
            <a:xfrm flipH="1">
              <a:off x="6011640" y="2421000"/>
              <a:ext cx="149940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2000" y="3355920"/>
              <a:ext cx="187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61280" y="3139920"/>
              <a:ext cx="74520" cy="215640"/>
            </a:xfrm>
            <a:custGeom>
              <a:avLst/>
              <a:gdLst/>
              <a:ahLst/>
              <a:rect l="l" t="t" r="r" b="b"/>
              <a:pathLst>
                <a:path w="45" h="136">
                  <a:moveTo>
                    <a:pt x="0" y="0"/>
                  </a:moveTo>
                  <a:cubicBezTo>
                    <a:pt x="22" y="11"/>
                    <a:pt x="45" y="23"/>
                    <a:pt x="45" y="46"/>
                  </a:cubicBezTo>
                  <a:cubicBezTo>
                    <a:pt x="45" y="69"/>
                    <a:pt x="0" y="121"/>
                    <a:pt x="0" y="13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36760" y="2636640"/>
              <a:ext cx="975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901800" y="4365720"/>
            <a:ext cx="698508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66"/>
                </a:solidFill>
                <a:latin typeface="黑体"/>
                <a:ea typeface="黑体"/>
              </a:rPr>
              <a:t>补角性质：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等角的补角相等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5607E-006 L 0.47257 1.15607E-006 E">
                                      <p:cBhvr>
                                        <p:cTn id="466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4.04624E-006 L -0.47431 4.04624E-006 E">
                                      <p:cBhvr>
                                        <p:cTn id="47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cc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690200" y="2060640"/>
            <a:ext cx="1803600" cy="934920"/>
            <a:chOff x="1690200" y="2060640"/>
            <a:chExt cx="1803600" cy="934920"/>
          </a:xfrm>
        </p:grpSpPr>
        <p:sp>
          <p:nvSpPr>
            <p:cNvPr id="314" name=""/>
            <p:cNvSpPr/>
            <p:nvPr/>
          </p:nvSpPr>
          <p:spPr>
            <a:xfrm flipH="1">
              <a:off x="1690200" y="2060640"/>
              <a:ext cx="144252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90560" y="2995560"/>
              <a:ext cx="1803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22920" y="2779560"/>
              <a:ext cx="71640" cy="215640"/>
            </a:xfrm>
            <a:custGeom>
              <a:avLst/>
              <a:gdLst/>
              <a:ahLst/>
              <a:rect l="l" t="t" r="r" b="b"/>
              <a:pathLst>
                <a:path w="45" h="136">
                  <a:moveTo>
                    <a:pt x="0" y="0"/>
                  </a:moveTo>
                  <a:cubicBezTo>
                    <a:pt x="22" y="11"/>
                    <a:pt x="45" y="23"/>
                    <a:pt x="45" y="46"/>
                  </a:cubicBezTo>
                  <a:cubicBezTo>
                    <a:pt x="45" y="69"/>
                    <a:pt x="0" y="121"/>
                    <a:pt x="0" y="13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83640" y="2276280"/>
              <a:ext cx="9381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282920" y="1989000"/>
            <a:ext cx="2736360" cy="1008000"/>
            <a:chOff x="4282920" y="1989000"/>
            <a:chExt cx="2736360" cy="1008000"/>
          </a:xfrm>
        </p:grpSpPr>
        <p:sp>
          <p:nvSpPr>
            <p:cNvPr id="319" name=""/>
            <p:cNvSpPr/>
            <p:nvPr/>
          </p:nvSpPr>
          <p:spPr>
            <a:xfrm flipH="1">
              <a:off x="5651640" y="2060280"/>
              <a:ext cx="1367640" cy="936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282920" y="2997000"/>
              <a:ext cx="14407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2920" y="2744640"/>
              <a:ext cx="504720" cy="252360"/>
            </a:xfrm>
            <a:custGeom>
              <a:avLst/>
              <a:gdLst/>
              <a:ahLst/>
              <a:rect l="l" t="t" r="r" b="b"/>
              <a:pathLst>
                <a:path w="318" h="159">
                  <a:moveTo>
                    <a:pt x="0" y="159"/>
                  </a:moveTo>
                  <a:cubicBezTo>
                    <a:pt x="19" y="102"/>
                    <a:pt x="38" y="46"/>
                    <a:pt x="91" y="23"/>
                  </a:cubicBezTo>
                  <a:cubicBezTo>
                    <a:pt x="144" y="0"/>
                    <a:pt x="280" y="23"/>
                    <a:pt x="318" y="23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5280" y="1989000"/>
              <a:ext cx="7196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52360" y="2131560"/>
            <a:ext cx="2768400" cy="865440"/>
            <a:chOff x="252360" y="2131560"/>
            <a:chExt cx="2768400" cy="865440"/>
          </a:xfrm>
        </p:grpSpPr>
        <p:sp>
          <p:nvSpPr>
            <p:cNvPr id="324" name=""/>
            <p:cNvSpPr/>
            <p:nvPr/>
          </p:nvSpPr>
          <p:spPr>
            <a:xfrm flipV="1">
              <a:off x="1654560" y="2131560"/>
              <a:ext cx="1366200" cy="863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2360" y="2995560"/>
              <a:ext cx="1402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78560" y="2131920"/>
              <a:ext cx="504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38920" y="2779560"/>
              <a:ext cx="431640" cy="217440"/>
            </a:xfrm>
            <a:custGeom>
              <a:avLst/>
              <a:gdLst/>
              <a:ahLst/>
              <a:rect l="l" t="t" r="r" b="b"/>
              <a:pathLst>
                <a:path w="227" h="106">
                  <a:moveTo>
                    <a:pt x="0" y="106"/>
                  </a:moveTo>
                  <a:cubicBezTo>
                    <a:pt x="26" y="68"/>
                    <a:pt x="52" y="30"/>
                    <a:pt x="90" y="15"/>
                  </a:cubicBezTo>
                  <a:cubicBezTo>
                    <a:pt x="128" y="0"/>
                    <a:pt x="197" y="15"/>
                    <a:pt x="227" y="15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653080" y="1989000"/>
            <a:ext cx="1800360" cy="1006200"/>
            <a:chOff x="5653080" y="1989000"/>
            <a:chExt cx="1800360" cy="1006200"/>
          </a:xfrm>
        </p:grpSpPr>
        <p:sp>
          <p:nvSpPr>
            <p:cNvPr id="329" name=""/>
            <p:cNvSpPr/>
            <p:nvPr/>
          </p:nvSpPr>
          <p:spPr>
            <a:xfrm flipH="1">
              <a:off x="5653080" y="1989000"/>
              <a:ext cx="1440000" cy="10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3080" y="2995200"/>
              <a:ext cx="180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85080" y="2763000"/>
              <a:ext cx="71280" cy="232200"/>
            </a:xfrm>
            <a:custGeom>
              <a:avLst/>
              <a:gdLst/>
              <a:ahLst/>
              <a:rect l="l" t="t" r="r" b="b"/>
              <a:pathLst>
                <a:path w="45" h="136">
                  <a:moveTo>
                    <a:pt x="0" y="0"/>
                  </a:moveTo>
                  <a:cubicBezTo>
                    <a:pt x="22" y="11"/>
                    <a:pt x="45" y="23"/>
                    <a:pt x="45" y="46"/>
                  </a:cubicBezTo>
                  <a:cubicBezTo>
                    <a:pt x="45" y="69"/>
                    <a:pt x="0" y="121"/>
                    <a:pt x="0" y="13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45440" y="2221200"/>
              <a:ext cx="93672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9120" y="3284640"/>
            <a:ext cx="821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393228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=18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16000" y="4437000"/>
            <a:ext cx="345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=∠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4940280"/>
            <a:ext cx="64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  18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5518080"/>
            <a:ext cx="396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：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 =∠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692280"/>
            <a:ext cx="8964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55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如图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互补，∠３ 与∠４互补 ，如果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∠３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么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∠４相等吗？为什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95640" y="6091200"/>
            <a:ext cx="65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这里用到了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等量减等量，差相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9440" y="114480"/>
            <a:ext cx="8602920" cy="716400"/>
          </a:xfrm>
          <a:prstGeom prst="rect">
            <a:avLst/>
          </a:prstGeom>
          <a:solidFill>
            <a:srgbClr val="ffff99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Times New Roman"/>
                <a:ea typeface="黑体"/>
              </a:rPr>
              <a:t>补角性质：等角的补角相等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28464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 +∠4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1800" y="3932280"/>
            <a:ext cx="7810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=18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4940280"/>
            <a:ext cx="64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16000" y="328464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+∠2=18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-1440" y="1125360"/>
            <a:ext cx="914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如图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互余，∠３ 与∠４互余 ，如果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∠３，那么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∠４相等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26920" y="2276640"/>
            <a:ext cx="1368720" cy="1295280"/>
            <a:chOff x="826920" y="2276640"/>
            <a:chExt cx="1368720" cy="1295280"/>
          </a:xfrm>
        </p:grpSpPr>
        <p:sp>
          <p:nvSpPr>
            <p:cNvPr id="347" name=""/>
            <p:cNvSpPr/>
            <p:nvPr/>
          </p:nvSpPr>
          <p:spPr>
            <a:xfrm flipH="1">
              <a:off x="826920" y="2669400"/>
              <a:ext cx="1368720" cy="90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6920" y="2276640"/>
              <a:ext cx="0" cy="1293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6920" y="3216960"/>
              <a:ext cx="287640" cy="15660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cubicBezTo>
                    <a:pt x="31" y="11"/>
                    <a:pt x="63" y="22"/>
                    <a:pt x="90" y="52"/>
                  </a:cubicBezTo>
                  <a:cubicBezTo>
                    <a:pt x="117" y="82"/>
                    <a:pt x="150" y="159"/>
                    <a:pt x="165" y="1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51480" y="2787840"/>
              <a:ext cx="43452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26920" y="2276640"/>
            <a:ext cx="2160360" cy="1306080"/>
            <a:chOff x="826920" y="2276640"/>
            <a:chExt cx="2160360" cy="1306080"/>
          </a:xfrm>
        </p:grpSpPr>
        <p:sp>
          <p:nvSpPr>
            <p:cNvPr id="352" name=""/>
            <p:cNvSpPr/>
            <p:nvPr/>
          </p:nvSpPr>
          <p:spPr>
            <a:xfrm flipH="1">
              <a:off x="841680" y="2276640"/>
              <a:ext cx="1901880" cy="1306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826920" y="3528720"/>
              <a:ext cx="2160360" cy="27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45680" y="3172320"/>
              <a:ext cx="278640" cy="356400"/>
            </a:xfrm>
            <a:custGeom>
              <a:avLst/>
              <a:gdLst/>
              <a:ahLst/>
              <a:rect l="l" t="t" r="r" b="b"/>
              <a:pathLst>
                <a:path w="147" h="272">
                  <a:moveTo>
                    <a:pt x="0" y="0"/>
                  </a:moveTo>
                  <a:cubicBezTo>
                    <a:pt x="63" y="46"/>
                    <a:pt x="127" y="92"/>
                    <a:pt x="137" y="137"/>
                  </a:cubicBezTo>
                  <a:cubicBezTo>
                    <a:pt x="147" y="182"/>
                    <a:pt x="74" y="250"/>
                    <a:pt x="59" y="272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67960" y="2842200"/>
              <a:ext cx="864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24000" y="333360"/>
            <a:ext cx="489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探究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余角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787640" y="2276640"/>
            <a:ext cx="1368360" cy="1295280"/>
            <a:chOff x="4787640" y="2276640"/>
            <a:chExt cx="1368360" cy="1295280"/>
          </a:xfrm>
        </p:grpSpPr>
        <p:sp>
          <p:nvSpPr>
            <p:cNvPr id="358" name=""/>
            <p:cNvSpPr/>
            <p:nvPr/>
          </p:nvSpPr>
          <p:spPr>
            <a:xfrm flipH="1">
              <a:off x="4787640" y="2668680"/>
              <a:ext cx="1368360" cy="90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88000" y="2276640"/>
              <a:ext cx="0" cy="129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88000" y="3218040"/>
              <a:ext cx="287280" cy="15552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cubicBezTo>
                    <a:pt x="31" y="11"/>
                    <a:pt x="63" y="22"/>
                    <a:pt x="90" y="52"/>
                  </a:cubicBezTo>
                  <a:cubicBezTo>
                    <a:pt x="117" y="82"/>
                    <a:pt x="150" y="159"/>
                    <a:pt x="165" y="1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13280" y="2428920"/>
              <a:ext cx="4334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788000" y="2351160"/>
            <a:ext cx="2016000" cy="1231560"/>
            <a:chOff x="4788000" y="2351160"/>
            <a:chExt cx="2016000" cy="1231560"/>
          </a:xfrm>
        </p:grpSpPr>
        <p:sp>
          <p:nvSpPr>
            <p:cNvPr id="363" name=""/>
            <p:cNvSpPr/>
            <p:nvPr/>
          </p:nvSpPr>
          <p:spPr>
            <a:xfrm flipH="1">
              <a:off x="4788000" y="2351160"/>
              <a:ext cx="1774800" cy="1231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788000" y="3527280"/>
              <a:ext cx="2016000" cy="248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71840" y="3191040"/>
              <a:ext cx="260280" cy="336240"/>
            </a:xfrm>
            <a:custGeom>
              <a:avLst/>
              <a:gdLst/>
              <a:ahLst/>
              <a:rect l="l" t="t" r="r" b="b"/>
              <a:pathLst>
                <a:path w="147" h="272">
                  <a:moveTo>
                    <a:pt x="0" y="0"/>
                  </a:moveTo>
                  <a:cubicBezTo>
                    <a:pt x="63" y="46"/>
                    <a:pt x="127" y="92"/>
                    <a:pt x="137" y="137"/>
                  </a:cubicBezTo>
                  <a:cubicBezTo>
                    <a:pt x="147" y="182"/>
                    <a:pt x="74" y="250"/>
                    <a:pt x="59" y="272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22920" y="2809080"/>
              <a:ext cx="806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26920" y="4365720"/>
            <a:ext cx="727416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余角性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等角的余角相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L 0.43316 1.48148E-006 E">
                                      <p:cBhvr>
                                        <p:cTn id="54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-0.42535 -1.85185E-006 E">
                                      <p:cBhvr>
                                        <p:cTn id="54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-1440" y="766800"/>
            <a:ext cx="91454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图∠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∠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互余，∠３ 与∠４互余 ，如果∠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∠３，那么∠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∠４相等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26920" y="2276640"/>
            <a:ext cx="1368720" cy="1295280"/>
            <a:chOff x="826920" y="2276640"/>
            <a:chExt cx="1368720" cy="1295280"/>
          </a:xfrm>
        </p:grpSpPr>
        <p:sp>
          <p:nvSpPr>
            <p:cNvPr id="370" name=""/>
            <p:cNvSpPr/>
            <p:nvPr/>
          </p:nvSpPr>
          <p:spPr>
            <a:xfrm flipH="1">
              <a:off x="826920" y="2669400"/>
              <a:ext cx="1368720" cy="90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6920" y="2276640"/>
              <a:ext cx="0" cy="1293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3216960"/>
              <a:ext cx="287640" cy="15660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cubicBezTo>
                    <a:pt x="31" y="11"/>
                    <a:pt x="63" y="22"/>
                    <a:pt x="90" y="52"/>
                  </a:cubicBezTo>
                  <a:cubicBezTo>
                    <a:pt x="117" y="82"/>
                    <a:pt x="150" y="159"/>
                    <a:pt x="165" y="1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51480" y="2787840"/>
              <a:ext cx="43452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26920" y="2421000"/>
            <a:ext cx="2014560" cy="1162080"/>
            <a:chOff x="826920" y="2421000"/>
            <a:chExt cx="2014560" cy="1162080"/>
          </a:xfrm>
        </p:grpSpPr>
        <p:sp>
          <p:nvSpPr>
            <p:cNvPr id="375" name=""/>
            <p:cNvSpPr/>
            <p:nvPr/>
          </p:nvSpPr>
          <p:spPr>
            <a:xfrm flipH="1">
              <a:off x="840960" y="2421000"/>
              <a:ext cx="1773360" cy="1162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26920" y="3534840"/>
              <a:ext cx="2014560" cy="24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10760" y="3218040"/>
              <a:ext cx="259920" cy="317160"/>
            </a:xfrm>
            <a:custGeom>
              <a:avLst/>
              <a:gdLst/>
              <a:ahLst/>
              <a:rect l="l" t="t" r="r" b="b"/>
              <a:pathLst>
                <a:path w="147" h="272">
                  <a:moveTo>
                    <a:pt x="0" y="0"/>
                  </a:moveTo>
                  <a:cubicBezTo>
                    <a:pt x="63" y="46"/>
                    <a:pt x="127" y="92"/>
                    <a:pt x="137" y="137"/>
                  </a:cubicBezTo>
                  <a:cubicBezTo>
                    <a:pt x="147" y="182"/>
                    <a:pt x="74" y="250"/>
                    <a:pt x="59" y="272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04240" y="2924280"/>
              <a:ext cx="80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808160" y="2268360"/>
            <a:ext cx="1366920" cy="1295280"/>
            <a:chOff x="4808160" y="2268360"/>
            <a:chExt cx="1366920" cy="1295280"/>
          </a:xfrm>
        </p:grpSpPr>
        <p:sp>
          <p:nvSpPr>
            <p:cNvPr id="380" name=""/>
            <p:cNvSpPr/>
            <p:nvPr/>
          </p:nvSpPr>
          <p:spPr>
            <a:xfrm flipH="1">
              <a:off x="4808160" y="2660400"/>
              <a:ext cx="1366920" cy="90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08520" y="2268360"/>
              <a:ext cx="0" cy="129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08520" y="3209760"/>
              <a:ext cx="286920" cy="15552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cubicBezTo>
                    <a:pt x="31" y="11"/>
                    <a:pt x="63" y="22"/>
                    <a:pt x="90" y="52"/>
                  </a:cubicBezTo>
                  <a:cubicBezTo>
                    <a:pt x="117" y="82"/>
                    <a:pt x="150" y="159"/>
                    <a:pt x="165" y="1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33440" y="2420640"/>
              <a:ext cx="43272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8000" y="2421000"/>
            <a:ext cx="2016000" cy="1162080"/>
            <a:chOff x="4788000" y="2421000"/>
            <a:chExt cx="2016000" cy="1162080"/>
          </a:xfrm>
        </p:grpSpPr>
        <p:sp>
          <p:nvSpPr>
            <p:cNvPr id="385" name=""/>
            <p:cNvSpPr/>
            <p:nvPr/>
          </p:nvSpPr>
          <p:spPr>
            <a:xfrm flipH="1">
              <a:off x="4788000" y="2421000"/>
              <a:ext cx="1774800" cy="1162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788000" y="3530880"/>
              <a:ext cx="2016000" cy="237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71840" y="3213360"/>
              <a:ext cx="260280" cy="317520"/>
            </a:xfrm>
            <a:custGeom>
              <a:avLst/>
              <a:gdLst/>
              <a:ahLst/>
              <a:rect l="l" t="t" r="r" b="b"/>
              <a:pathLst>
                <a:path w="147" h="272">
                  <a:moveTo>
                    <a:pt x="0" y="0"/>
                  </a:moveTo>
                  <a:cubicBezTo>
                    <a:pt x="63" y="46"/>
                    <a:pt x="127" y="92"/>
                    <a:pt x="137" y="137"/>
                  </a:cubicBezTo>
                  <a:cubicBezTo>
                    <a:pt x="147" y="182"/>
                    <a:pt x="74" y="250"/>
                    <a:pt x="59" y="272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22920" y="2853000"/>
              <a:ext cx="806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79280" y="3718080"/>
            <a:ext cx="80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71640" y="4221000"/>
            <a:ext cx="734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4797360"/>
            <a:ext cx="439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=∠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71640" y="5373720"/>
            <a:ext cx="590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 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5951520"/>
            <a:ext cx="287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：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 =∠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9440" y="114480"/>
            <a:ext cx="8602920" cy="716400"/>
          </a:xfrm>
          <a:prstGeom prst="rect">
            <a:avLst/>
          </a:prstGeom>
          <a:solidFill>
            <a:srgbClr val="ffff99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Times New Roman"/>
                <a:ea typeface="黑体"/>
              </a:rPr>
              <a:t>余角性质：等角的余角相等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69080" y="5445000"/>
            <a:ext cx="327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等量减等量，差相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280" y="3718080"/>
            <a:ext cx="76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 +∠4=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290840"/>
            <a:ext cx="73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5373720"/>
            <a:ext cx="590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3718080"/>
            <a:ext cx="81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 +∠2=9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22200" y="3284640"/>
            <a:ext cx="4465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98920" y="1052640"/>
            <a:ext cx="0" cy="41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2781360"/>
            <a:ext cx="432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98560" y="522936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14560" y="5445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9120" y="2852640"/>
            <a:ext cx="64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98920" y="981000"/>
            <a:ext cx="50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27280" y="5013360"/>
            <a:ext cx="647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38560" y="3429000"/>
            <a:ext cx="50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404640"/>
            <a:ext cx="482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正东，正南，正西，正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11640" y="1844640"/>
            <a:ext cx="432108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西北方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南方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东南方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东北方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________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052640"/>
            <a:ext cx="19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3359160"/>
            <a:ext cx="35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68360" y="4797360"/>
            <a:ext cx="79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8360" y="3284640"/>
            <a:ext cx="43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98920" y="1268280"/>
            <a:ext cx="576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2000" y="1052640"/>
            <a:ext cx="649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48360" y="1052640"/>
            <a:ext cx="719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12000" y="1052640"/>
            <a:ext cx="719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79640" y="2131920"/>
            <a:ext cx="93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20000" y="1773360"/>
            <a:ext cx="1981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20000" y="2276640"/>
            <a:ext cx="2266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20000" y="3932280"/>
            <a:ext cx="18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20000" y="4510080"/>
            <a:ext cx="12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71640" y="1558800"/>
            <a:ext cx="1727280" cy="1725480"/>
            <a:chOff x="971640" y="1558800"/>
            <a:chExt cx="1727280" cy="1725480"/>
          </a:xfrm>
        </p:grpSpPr>
        <p:sp>
          <p:nvSpPr>
            <p:cNvPr id="425" name=""/>
            <p:cNvSpPr/>
            <p:nvPr/>
          </p:nvSpPr>
          <p:spPr>
            <a:xfrm flipH="1" flipV="1">
              <a:off x="1258920" y="1845720"/>
              <a:ext cx="1440000" cy="14385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71640" y="1558800"/>
              <a:ext cx="431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698920" y="3284640"/>
            <a:ext cx="2086920" cy="1895760"/>
            <a:chOff x="2698920" y="3284640"/>
            <a:chExt cx="2086920" cy="1895760"/>
          </a:xfrm>
        </p:grpSpPr>
        <p:sp>
          <p:nvSpPr>
            <p:cNvPr id="428" name=""/>
            <p:cNvSpPr/>
            <p:nvPr/>
          </p:nvSpPr>
          <p:spPr>
            <a:xfrm>
              <a:off x="2698920" y="3284640"/>
              <a:ext cx="1655280" cy="151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54200" y="4722840"/>
              <a:ext cx="431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042920" y="3284640"/>
            <a:ext cx="1656000" cy="1895760"/>
            <a:chOff x="1042920" y="3284640"/>
            <a:chExt cx="1656000" cy="1895760"/>
          </a:xfrm>
        </p:grpSpPr>
        <p:sp>
          <p:nvSpPr>
            <p:cNvPr id="431" name=""/>
            <p:cNvSpPr/>
            <p:nvPr/>
          </p:nvSpPr>
          <p:spPr>
            <a:xfrm flipH="1">
              <a:off x="1258920" y="3284640"/>
              <a:ext cx="1440000" cy="1438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42920" y="4722840"/>
              <a:ext cx="432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701800" y="1558800"/>
            <a:ext cx="2014200" cy="1725480"/>
            <a:chOff x="2701800" y="1558800"/>
            <a:chExt cx="2014200" cy="1725480"/>
          </a:xfrm>
        </p:grpSpPr>
        <p:sp>
          <p:nvSpPr>
            <p:cNvPr id="434" name=""/>
            <p:cNvSpPr/>
            <p:nvPr/>
          </p:nvSpPr>
          <p:spPr>
            <a:xfrm flipV="1">
              <a:off x="2701800" y="1774440"/>
              <a:ext cx="1511280" cy="1509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9080" y="1558800"/>
              <a:ext cx="646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rot="21010800">
            <a:off x="2771640" y="4005360"/>
            <a:ext cx="938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41480" y="2060640"/>
            <a:ext cx="938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2157600">
            <a:off x="2338560" y="2491920"/>
            <a:ext cx="217440" cy="4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6811800">
            <a:off x="2833560" y="2432160"/>
            <a:ext cx="214200" cy="48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3966200">
            <a:off x="2815920" y="3557520"/>
            <a:ext cx="2174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8933600">
            <a:off x="2338560" y="3645000"/>
            <a:ext cx="2174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21475200">
            <a:off x="1835280" y="40053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690560" y="2852640"/>
            <a:ext cx="3313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4920" y="1052640"/>
            <a:ext cx="0" cy="3311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2852640"/>
            <a:ext cx="360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766800"/>
            <a:ext cx="86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3640" y="4290840"/>
            <a:ext cx="36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7480" y="2781360"/>
            <a:ext cx="57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61080" y="2781360"/>
            <a:ext cx="572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40360" y="1125360"/>
            <a:ext cx="460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南偏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41480" y="4005360"/>
            <a:ext cx="86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94160" y="2637000"/>
            <a:ext cx="341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偏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6000" y="4365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偏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701800" y="2852640"/>
            <a:ext cx="572400" cy="2041920"/>
            <a:chOff x="2701800" y="2852640"/>
            <a:chExt cx="572400" cy="2041920"/>
          </a:xfrm>
        </p:grpSpPr>
        <p:sp>
          <p:nvSpPr>
            <p:cNvPr id="455" name=""/>
            <p:cNvSpPr/>
            <p:nvPr/>
          </p:nvSpPr>
          <p:spPr>
            <a:xfrm flipH="1">
              <a:off x="2916000" y="2852640"/>
              <a:ext cx="358200" cy="1513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01800" y="4437000"/>
              <a:ext cx="356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332000" y="2060640"/>
            <a:ext cx="1942560" cy="792000"/>
            <a:chOff x="1332000" y="2060640"/>
            <a:chExt cx="1942560" cy="792000"/>
          </a:xfrm>
        </p:grpSpPr>
        <p:sp>
          <p:nvSpPr>
            <p:cNvPr id="458" name=""/>
            <p:cNvSpPr/>
            <p:nvPr/>
          </p:nvSpPr>
          <p:spPr>
            <a:xfrm flipH="1" flipV="1">
              <a:off x="1692000" y="2276640"/>
              <a:ext cx="1582560" cy="57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32000" y="2060640"/>
              <a:ext cx="93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274920" y="2852640"/>
            <a:ext cx="1873080" cy="1215720"/>
            <a:chOff x="3274920" y="2852640"/>
            <a:chExt cx="1873080" cy="1215720"/>
          </a:xfrm>
        </p:grpSpPr>
        <p:sp>
          <p:nvSpPr>
            <p:cNvPr id="461" name=""/>
            <p:cNvSpPr/>
            <p:nvPr/>
          </p:nvSpPr>
          <p:spPr>
            <a:xfrm>
              <a:off x="3274920" y="2852640"/>
              <a:ext cx="1604520" cy="85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12680" y="3610800"/>
              <a:ext cx="535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012000" y="1844640"/>
            <a:ext cx="223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12000" y="3502080"/>
            <a:ext cx="180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12000" y="5159520"/>
            <a:ext cx="223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68360" y="1989000"/>
            <a:ext cx="1094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8000" y="3284640"/>
            <a:ext cx="12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596400">
            <a:off x="2873160" y="2179440"/>
            <a:ext cx="212760" cy="55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3508400">
            <a:off x="3465000" y="3022560"/>
            <a:ext cx="154080" cy="53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800000">
            <a:off x="3090600" y="3592080"/>
            <a:ext cx="15732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724360" y="3068640"/>
            <a:ext cx="15264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96360" y="1917720"/>
            <a:ext cx="152280" cy="150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04320" y="342900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37400" y="227664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62600" y="31680"/>
            <a:ext cx="3475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乙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对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地的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位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788000" y="1773360"/>
            <a:ext cx="2087280" cy="2666880"/>
            <a:chOff x="4788000" y="1773360"/>
            <a:chExt cx="2087280" cy="2666880"/>
          </a:xfrm>
        </p:grpSpPr>
        <p:sp>
          <p:nvSpPr>
            <p:cNvPr id="477" name=""/>
            <p:cNvSpPr/>
            <p:nvPr/>
          </p:nvSpPr>
          <p:spPr>
            <a:xfrm>
              <a:off x="4788000" y="3144960"/>
              <a:ext cx="208728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2760" y="1773360"/>
              <a:ext cx="0" cy="26668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49120" y="1197000"/>
            <a:ext cx="3962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先找出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画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出方向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796000" y="1988640"/>
            <a:ext cx="1871640" cy="1150920"/>
          </a:xfrm>
          <a:prstGeom prst="line">
            <a:avLst/>
          </a:prstGeom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9120" y="2637000"/>
            <a:ext cx="403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把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和目的地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线连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接起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6811800">
            <a:off x="5928840" y="2358360"/>
            <a:ext cx="2174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4076640"/>
            <a:ext cx="403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度量向北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蓝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线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00160" y="981000"/>
            <a:ext cx="45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300"/>
                            </p:stCondLst>
                            <p:childTnLst>
                              <p:par>
                                <p:cTn id="8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4.72222E-006 4.93987E-006 L 0.00798 -0.07332 E">
                                      <p:cBhvr>
                                        <p:cTn id="8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580000" y="2706840"/>
            <a:ext cx="152640" cy="153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08720" y="1558800"/>
            <a:ext cx="152640" cy="150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60680" y="313992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93400" y="184464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12760" y="114480"/>
            <a:ext cx="3475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甲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乙地的方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372360" y="260280"/>
            <a:ext cx="2057400" cy="2666880"/>
            <a:chOff x="6372360" y="260280"/>
            <a:chExt cx="2057400" cy="2666880"/>
          </a:xfrm>
        </p:grpSpPr>
        <p:sp>
          <p:nvSpPr>
            <p:cNvPr id="491" name=""/>
            <p:cNvSpPr/>
            <p:nvPr/>
          </p:nvSpPr>
          <p:spPr>
            <a:xfrm>
              <a:off x="6372360" y="1631880"/>
              <a:ext cx="20574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62720" y="260280"/>
              <a:ext cx="0" cy="26668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24000" y="1339920"/>
            <a:ext cx="43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先找出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画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出方向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653080" y="1628640"/>
            <a:ext cx="1727280" cy="1152720"/>
          </a:xfrm>
          <a:prstGeom prst="line">
            <a:avLst/>
          </a:prstGeom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4000" y="2781360"/>
            <a:ext cx="43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把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和目的地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线连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接起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75880" y="299736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rot="6313200">
            <a:off x="6935760" y="1927440"/>
            <a:ext cx="21744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4000" y="4151160"/>
            <a:ext cx="4500360" cy="11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度量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蓝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线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</a:t>
            </a:r>
            <a:r>
              <a:rPr b="1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300"/>
                            </p:stCondLst>
                            <p:childTnLst>
                              <p:par>
                                <p:cTn id="8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8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250" autoRev="1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3" dur="250" autoRev="1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4" dur="250" autoRev="1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2" dur="250" autoRev="1" fill="hold"/>
                                        <p:tgtEl>
                                          <p:spTgt spid="4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348000" y="3645000"/>
            <a:ext cx="417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33840" y="1268280"/>
            <a:ext cx="0" cy="453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61800" y="334152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67400" y="33004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29720" y="6922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15320" y="576252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46640" y="345744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4400" y="3560760"/>
            <a:ext cx="47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9280" y="692280"/>
            <a:ext cx="3889080" cy="579240"/>
            <a:chOff x="179280" y="692280"/>
            <a:chExt cx="3889080" cy="579240"/>
          </a:xfrm>
        </p:grpSpPr>
        <p:sp>
          <p:nvSpPr>
            <p:cNvPr id="508" name=""/>
            <p:cNvSpPr/>
            <p:nvPr/>
          </p:nvSpPr>
          <p:spPr>
            <a:xfrm>
              <a:off x="179280" y="692280"/>
              <a:ext cx="3889080" cy="57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说出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在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53720" y="1198080"/>
              <a:ext cx="113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400800" y="1698480"/>
            <a:ext cx="684360" cy="640440"/>
            <a:chOff x="6400800" y="1698480"/>
            <a:chExt cx="684360" cy="640440"/>
          </a:xfrm>
        </p:grpSpPr>
        <p:sp>
          <p:nvSpPr>
            <p:cNvPr id="511" name=""/>
            <p:cNvSpPr/>
            <p:nvPr/>
          </p:nvSpPr>
          <p:spPr>
            <a:xfrm>
              <a:off x="6604200" y="1698480"/>
              <a:ext cx="480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0800" y="1712880"/>
              <a:ext cx="42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75280" y="1568160"/>
            <a:ext cx="1715760" cy="2067480"/>
            <a:chOff x="5075280" y="1568160"/>
            <a:chExt cx="1715760" cy="2067480"/>
          </a:xfrm>
        </p:grpSpPr>
        <p:sp>
          <p:nvSpPr>
            <p:cNvPr id="514" name=""/>
            <p:cNvSpPr/>
            <p:nvPr/>
          </p:nvSpPr>
          <p:spPr>
            <a:xfrm flipH="1">
              <a:off x="5463000" y="1568160"/>
              <a:ext cx="1328040" cy="2067480"/>
            </a:xfrm>
            <a:prstGeom prst="line">
              <a:avLst/>
            </a:prstGeom>
            <a:ln w="63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075280" y="2350080"/>
              <a:ext cx="1128600" cy="1007640"/>
              <a:chOff x="5075280" y="2350080"/>
              <a:chExt cx="1128600" cy="1007640"/>
            </a:xfrm>
          </p:grpSpPr>
          <p:sp>
            <p:nvSpPr>
              <p:cNvPr id="516" name=""/>
              <p:cNvSpPr/>
              <p:nvPr/>
            </p:nvSpPr>
            <p:spPr>
              <a:xfrm>
                <a:off x="5075280" y="2781360"/>
                <a:ext cx="717120" cy="57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541840" y="2350080"/>
                <a:ext cx="6620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40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 flipV="1">
            <a:off x="5393880" y="2728800"/>
            <a:ext cx="2313720" cy="89676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930560" y="2706840"/>
            <a:ext cx="1730160" cy="1152720"/>
            <a:chOff x="4930560" y="2706840"/>
            <a:chExt cx="1730160" cy="1152720"/>
          </a:xfrm>
        </p:grpSpPr>
        <p:sp>
          <p:nvSpPr>
            <p:cNvPr id="520" name=""/>
            <p:cNvSpPr/>
            <p:nvPr/>
          </p:nvSpPr>
          <p:spPr>
            <a:xfrm>
              <a:off x="4930560" y="2994480"/>
              <a:ext cx="1006560" cy="86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2706840"/>
              <a:ext cx="93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7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030640" y="3573000"/>
            <a:ext cx="2636640" cy="1224360"/>
            <a:chOff x="5030640" y="3573000"/>
            <a:chExt cx="2636640" cy="1224360"/>
          </a:xfrm>
        </p:grpSpPr>
        <p:sp>
          <p:nvSpPr>
            <p:cNvPr id="523" name=""/>
            <p:cNvSpPr/>
            <p:nvPr/>
          </p:nvSpPr>
          <p:spPr>
            <a:xfrm>
              <a:off x="6890760" y="4292640"/>
              <a:ext cx="38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66520" y="4149720"/>
              <a:ext cx="38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3840" y="3645000"/>
              <a:ext cx="2233440" cy="1152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030640" y="3572640"/>
              <a:ext cx="863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200" y="4149720"/>
              <a:ext cx="1008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6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347640" y="3449520"/>
            <a:ext cx="2275200" cy="2210760"/>
            <a:chOff x="3347640" y="3449520"/>
            <a:chExt cx="2275200" cy="2210760"/>
          </a:xfrm>
        </p:grpSpPr>
        <p:sp>
          <p:nvSpPr>
            <p:cNvPr id="529" name=""/>
            <p:cNvSpPr/>
            <p:nvPr/>
          </p:nvSpPr>
          <p:spPr>
            <a:xfrm flipH="1">
              <a:off x="3347640" y="3645000"/>
              <a:ext cx="2087640" cy="1800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 rot="19079400">
              <a:off x="4821120" y="3531240"/>
              <a:ext cx="57744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886200">
              <a:off x="4642920" y="4436640"/>
              <a:ext cx="936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92720" y="4970520"/>
              <a:ext cx="38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9680" y="5141880"/>
              <a:ext cx="6350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494160" y="2997360"/>
            <a:ext cx="501480" cy="826200"/>
            <a:chOff x="3494160" y="2997360"/>
            <a:chExt cx="501480" cy="826200"/>
          </a:xfrm>
        </p:grpSpPr>
        <p:sp>
          <p:nvSpPr>
            <p:cNvPr id="535" name=""/>
            <p:cNvSpPr/>
            <p:nvPr/>
          </p:nvSpPr>
          <p:spPr>
            <a:xfrm>
              <a:off x="3507840" y="3457440"/>
              <a:ext cx="38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4160" y="2997360"/>
              <a:ext cx="5014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79280" y="1484280"/>
            <a:ext cx="3889080" cy="579240"/>
            <a:chOff x="179280" y="1484280"/>
            <a:chExt cx="3889080" cy="579240"/>
          </a:xfrm>
        </p:grpSpPr>
        <p:sp>
          <p:nvSpPr>
            <p:cNvPr id="538" name=""/>
            <p:cNvSpPr/>
            <p:nvPr/>
          </p:nvSpPr>
          <p:spPr>
            <a:xfrm>
              <a:off x="179280" y="1484280"/>
              <a:ext cx="3889080" cy="57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那么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在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53720" y="1987560"/>
              <a:ext cx="113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173920" y="1558440"/>
            <a:ext cx="2087640" cy="2086200"/>
            <a:chOff x="5173920" y="1558440"/>
            <a:chExt cx="2087640" cy="2086200"/>
          </a:xfrm>
        </p:grpSpPr>
        <p:grpSp>
          <p:nvGrpSpPr>
            <p:cNvPr id="541" name=""/>
            <p:cNvGrpSpPr/>
            <p:nvPr/>
          </p:nvGrpSpPr>
          <p:grpSpPr>
            <a:xfrm>
              <a:off x="5173920" y="1558440"/>
              <a:ext cx="2087640" cy="2086200"/>
              <a:chOff x="5173920" y="1558440"/>
              <a:chExt cx="2087640" cy="20862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462280" y="1558440"/>
                <a:ext cx="1799280" cy="2086200"/>
                <a:chOff x="5462280" y="1558440"/>
                <a:chExt cx="1799280" cy="208620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5462280" y="1558440"/>
                  <a:ext cx="1368720" cy="2086200"/>
                  <a:chOff x="5462280" y="1558440"/>
                  <a:chExt cx="1368720" cy="20862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>
                    <a:off x="5462280" y="1558440"/>
                    <a:ext cx="1368720" cy="2086200"/>
                  </a:xfrm>
                  <a:prstGeom prst="line">
                    <a:avLst/>
                  </a:prstGeom>
                  <a:ln w="63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442560" y="1715760"/>
                    <a:ext cx="3834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ahoma"/>
                        <a:ea typeface="宋体"/>
                      </a:rPr>
                      <a:t>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>
                  <a:off x="6687000" y="1774440"/>
                  <a:ext cx="5745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ahoma"/>
                      <a:ea typeface="宋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5173920" y="2924640"/>
                <a:ext cx="576720" cy="43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433840" y="2493000"/>
              <a:ext cx="1008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433840" y="766800"/>
            <a:ext cx="2233440" cy="2085840"/>
            <a:chOff x="5433840" y="766800"/>
            <a:chExt cx="2233440" cy="2085840"/>
          </a:xfrm>
        </p:grpSpPr>
        <p:sp>
          <p:nvSpPr>
            <p:cNvPr id="550" name=""/>
            <p:cNvSpPr/>
            <p:nvPr/>
          </p:nvSpPr>
          <p:spPr>
            <a:xfrm>
              <a:off x="5433840" y="1917000"/>
              <a:ext cx="2233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86920" y="766800"/>
              <a:ext cx="0" cy="2085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482920" y="692280"/>
            <a:ext cx="2019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北偏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82920" y="1484280"/>
            <a:ext cx="2019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南偏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rot="6313200">
            <a:off x="6346800" y="2306160"/>
            <a:ext cx="17604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3988E-006 L 0.0783 0.14219 E">
                                      <p:cBhvr>
                                        <p:cTn id="94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7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6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0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11280" y="6381720"/>
            <a:ext cx="67327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482920" y="981000"/>
            <a:ext cx="938160" cy="540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68720" y="1339920"/>
            <a:ext cx="718920" cy="504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5877000"/>
            <a:ext cx="362160" cy="504720"/>
          </a:xfrm>
          <a:custGeom>
            <a:avLst/>
            <a:gdLst/>
            <a:ahLst/>
            <a:rect l="l" t="t" r="r" b="b"/>
            <a:pathLst>
              <a:path w="159" h="318">
                <a:moveTo>
                  <a:pt x="0" y="0"/>
                </a:moveTo>
                <a:cubicBezTo>
                  <a:pt x="56" y="41"/>
                  <a:pt x="113" y="83"/>
                  <a:pt x="136" y="136"/>
                </a:cubicBezTo>
                <a:cubicBezTo>
                  <a:pt x="159" y="189"/>
                  <a:pt x="136" y="288"/>
                  <a:pt x="136" y="318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411280" y="981000"/>
            <a:ext cx="0" cy="540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3080" y="4726080"/>
            <a:ext cx="288720" cy="142920"/>
          </a:xfrm>
          <a:custGeom>
            <a:avLst/>
            <a:gdLst/>
            <a:ahLst/>
            <a:rect l="l" t="t" r="r" b="b"/>
            <a:pathLst>
              <a:path w="13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29" y="38"/>
                  <a:pt x="136" y="45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2520" y="5445000"/>
            <a:ext cx="122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951360"/>
            <a:ext cx="865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89000"/>
            <a:ext cx="22669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华文行楷"/>
              </a:rPr>
              <a:t>比萨斜塔</a:t>
            </a:r>
            <a:r>
              <a:rPr b="0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49120" y="404640"/>
            <a:ext cx="8570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航行过程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现灯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它南偏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向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它北偏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0°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南偏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°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即北偏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5°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上又分别发现了客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海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仿照表示灯塔方位的方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出表示客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货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海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的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rcRect l="0" t="0" r="0" b="39745"/>
          <a:stretch/>
        </p:blipFill>
        <p:spPr>
          <a:xfrm>
            <a:off x="4645080" y="3359160"/>
            <a:ext cx="3456000" cy="177156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084000" y="3801960"/>
            <a:ext cx="778320" cy="681840"/>
            <a:chOff x="6084000" y="3801960"/>
            <a:chExt cx="778320" cy="681840"/>
          </a:xfrm>
        </p:grpSpPr>
        <p:sp>
          <p:nvSpPr>
            <p:cNvPr id="558" name=""/>
            <p:cNvSpPr/>
            <p:nvPr/>
          </p:nvSpPr>
          <p:spPr>
            <a:xfrm>
              <a:off x="6211800" y="3801960"/>
              <a:ext cx="650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84000" y="4117680"/>
              <a:ext cx="38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211640" y="2351160"/>
            <a:ext cx="4265640" cy="3720240"/>
            <a:chOff x="4211640" y="2351160"/>
            <a:chExt cx="4265640" cy="3720240"/>
          </a:xfrm>
        </p:grpSpPr>
        <p:sp>
          <p:nvSpPr>
            <p:cNvPr id="561" name=""/>
            <p:cNvSpPr/>
            <p:nvPr/>
          </p:nvSpPr>
          <p:spPr>
            <a:xfrm>
              <a:off x="4572000" y="4278960"/>
              <a:ext cx="3457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72280" y="2695320"/>
              <a:ext cx="0" cy="30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72200" y="4120200"/>
              <a:ext cx="50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56280" y="5705280"/>
              <a:ext cx="50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11640" y="4093200"/>
              <a:ext cx="50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70680" y="2351160"/>
              <a:ext cx="50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8231040" y="5416560"/>
            <a:ext cx="86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78400" y="4315320"/>
            <a:ext cx="2435400" cy="154188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883120" y="4422240"/>
            <a:ext cx="1259640" cy="832680"/>
            <a:chOff x="5883120" y="4422240"/>
            <a:chExt cx="1259640" cy="832680"/>
          </a:xfrm>
        </p:grpSpPr>
        <p:sp>
          <p:nvSpPr>
            <p:cNvPr id="570" name=""/>
            <p:cNvSpPr/>
            <p:nvPr/>
          </p:nvSpPr>
          <p:spPr>
            <a:xfrm flipV="1">
              <a:off x="5883120" y="4421880"/>
              <a:ext cx="864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0720" y="4797360"/>
              <a:ext cx="662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9280" y="2276640"/>
            <a:ext cx="4176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向就是南偏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即灯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在的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6302520" y="2567160"/>
            <a:ext cx="1293840" cy="172368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64360" y="2637000"/>
            <a:ext cx="93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659480" y="270684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09440" y="3359160"/>
            <a:ext cx="4173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向就是北偏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即客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在的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33840" y="5299200"/>
            <a:ext cx="77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868720" y="4290840"/>
            <a:ext cx="401400" cy="194652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026760" y="3213000"/>
            <a:ext cx="1207440" cy="848520"/>
            <a:chOff x="6026760" y="3213000"/>
            <a:chExt cx="1207440" cy="848520"/>
          </a:xfrm>
        </p:grpSpPr>
        <p:sp>
          <p:nvSpPr>
            <p:cNvPr id="580" name=""/>
            <p:cNvSpPr/>
            <p:nvPr/>
          </p:nvSpPr>
          <p:spPr>
            <a:xfrm>
              <a:off x="6227640" y="3213000"/>
              <a:ext cx="1006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26760" y="3630600"/>
              <a:ext cx="5724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869080" y="5060160"/>
            <a:ext cx="934920" cy="855720"/>
            <a:chOff x="5869080" y="5060160"/>
            <a:chExt cx="934920" cy="855720"/>
          </a:xfrm>
        </p:grpSpPr>
        <p:sp>
          <p:nvSpPr>
            <p:cNvPr id="583" name=""/>
            <p:cNvSpPr/>
            <p:nvPr/>
          </p:nvSpPr>
          <p:spPr>
            <a:xfrm flipH="1" flipV="1" rot="19224600">
              <a:off x="6029280" y="5108400"/>
              <a:ext cx="271440" cy="3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3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69080" y="5458320"/>
              <a:ext cx="934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09440" y="4437000"/>
            <a:ext cx="4173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向就是南偏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即货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在的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79280" y="5445000"/>
            <a:ext cx="4176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向就是南偏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即海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在的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0" y="2706840"/>
            <a:ext cx="1730520" cy="158400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702040" y="3227400"/>
            <a:ext cx="736560" cy="910080"/>
            <a:chOff x="5702040" y="3227400"/>
            <a:chExt cx="736560" cy="910080"/>
          </a:xfrm>
        </p:grpSpPr>
        <p:sp>
          <p:nvSpPr>
            <p:cNvPr id="589" name=""/>
            <p:cNvSpPr/>
            <p:nvPr/>
          </p:nvSpPr>
          <p:spPr>
            <a:xfrm rot="16803000">
              <a:off x="5903640" y="3588840"/>
              <a:ext cx="430560" cy="57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68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68449"/>
                </a:path>
              </a:pathLst>
            </a:custGeom>
            <a:noFill/>
            <a:ln w="63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02040" y="3227400"/>
              <a:ext cx="662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046" dur="3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1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2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249120" y="189000"/>
            <a:ext cx="4343040" cy="640440"/>
            <a:chOff x="249120" y="189000"/>
            <a:chExt cx="4343040" cy="640440"/>
          </a:xfrm>
        </p:grpSpPr>
        <p:sp>
          <p:nvSpPr>
            <p:cNvPr id="592" name=""/>
            <p:cNvSpPr/>
            <p:nvPr/>
          </p:nvSpPr>
          <p:spPr>
            <a:xfrm>
              <a:off x="623160" y="189000"/>
              <a:ext cx="3969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你的点滴收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249120" y="260280"/>
              <a:ext cx="523800" cy="4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">
            <a:hlinkClick r:id="rId2" action="ppaction://hlinksldjump"/>
          </p:cNvPr>
          <p:cNvSpPr/>
          <p:nvPr/>
        </p:nvSpPr>
        <p:spPr>
          <a:xfrm>
            <a:off x="682560" y="836640"/>
            <a:ext cx="7392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节课你学到了哪些知识？请你说一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395280" y="1844640"/>
          <a:ext cx="8280360" cy="2800440"/>
        </p:xfrm>
        <a:graphic>
          <a:graphicData uri="http://schemas.openxmlformats.org/drawingml/2006/table">
            <a:tbl>
              <a:tblPr/>
              <a:tblGrid>
                <a:gridCol w="1440000"/>
                <a:gridCol w="3313080"/>
                <a:gridCol w="35272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黑体"/>
                          <a:ea typeface="黑体"/>
                        </a:rPr>
                        <a:t>互   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黑体"/>
                          <a:ea typeface="黑体"/>
                        </a:rPr>
                        <a:t>互     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黑体"/>
                          <a:ea typeface="黑体"/>
                        </a:rPr>
                        <a:t>数量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黑体"/>
                          <a:ea typeface="黑体"/>
                        </a:rPr>
                        <a:t>对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黑体"/>
                          <a:ea typeface="黑体"/>
                        </a:rPr>
                        <a:t>图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80"/>
                          </a:solidFill>
                          <a:latin typeface="黑体"/>
                          <a:ea typeface="黑体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"/>
          <p:cNvSpPr/>
          <p:nvPr/>
        </p:nvSpPr>
        <p:spPr>
          <a:xfrm>
            <a:off x="826920" y="1268280"/>
            <a:ext cx="2737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互余和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049480" y="2351160"/>
            <a:ext cx="2089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+∠2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24360" y="2351160"/>
            <a:ext cx="230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+∠4=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778120" y="2811600"/>
            <a:ext cx="1347840" cy="1267200"/>
            <a:chOff x="2778120" y="2811600"/>
            <a:chExt cx="1347840" cy="1267200"/>
          </a:xfrm>
        </p:grpSpPr>
        <p:sp>
          <p:nvSpPr>
            <p:cNvPr id="600" name=""/>
            <p:cNvSpPr/>
            <p:nvPr/>
          </p:nvSpPr>
          <p:spPr>
            <a:xfrm flipH="1">
              <a:off x="2779560" y="3032280"/>
              <a:ext cx="1346400" cy="8229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79560" y="3862080"/>
              <a:ext cx="126864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32000" y="3499560"/>
              <a:ext cx="346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86040" y="2811600"/>
              <a:ext cx="0" cy="101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30680" y="3240720"/>
              <a:ext cx="384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778120" y="3196080"/>
              <a:ext cx="1038240" cy="63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653080" y="2781360"/>
            <a:ext cx="1852560" cy="1080720"/>
            <a:chOff x="5653080" y="2781360"/>
            <a:chExt cx="1852560" cy="1080720"/>
          </a:xfrm>
        </p:grpSpPr>
        <p:sp>
          <p:nvSpPr>
            <p:cNvPr id="607" name=""/>
            <p:cNvSpPr/>
            <p:nvPr/>
          </p:nvSpPr>
          <p:spPr>
            <a:xfrm flipH="1">
              <a:off x="6463080" y="2852640"/>
              <a:ext cx="947520" cy="10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653080" y="2781360"/>
              <a:ext cx="1852560" cy="1080720"/>
              <a:chOff x="5653080" y="2781360"/>
              <a:chExt cx="1852560" cy="1080720"/>
            </a:xfrm>
          </p:grpSpPr>
          <p:sp>
            <p:nvSpPr>
              <p:cNvPr id="609" name=""/>
              <p:cNvSpPr/>
              <p:nvPr/>
            </p:nvSpPr>
            <p:spPr>
              <a:xfrm>
                <a:off x="5653080" y="3854160"/>
                <a:ext cx="802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6560" y="3282840"/>
                <a:ext cx="297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465960" y="2781360"/>
                <a:ext cx="1039680" cy="107424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65960" y="3857400"/>
                <a:ext cx="978120" cy="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00040" y="3282840"/>
                <a:ext cx="2664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99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2340000" y="4076640"/>
            <a:ext cx="266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等角的余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24360" y="4076640"/>
            <a:ext cx="237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等角的补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55640" y="4581360"/>
            <a:ext cx="2738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方位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68360" y="5159520"/>
            <a:ext cx="3456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方位角的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8360" y="5805360"/>
            <a:ext cx="3384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方位角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710160" y="5518080"/>
            <a:ext cx="69840" cy="1079640"/>
          </a:xfrm>
          <a:custGeom>
            <a:avLst/>
            <a:gdLst>
              <a:gd name="textAreaLeft" fmla="*/ 44640 w 69840"/>
              <a:gd name="textAreaRight" fmla="*/ 69840 w 698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49840" y="5299200"/>
            <a:ext cx="2377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顶点是中心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49840" y="5732640"/>
            <a:ext cx="37465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边是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边是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7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285264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图中互余的角是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645000"/>
            <a:ext cx="113410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图中互补的角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 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5667480"/>
            <a:ext cx="954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图中相等的角是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282920" y="836640"/>
            <a:ext cx="2307960" cy="1936080"/>
            <a:chOff x="4282920" y="836640"/>
            <a:chExt cx="2307960" cy="1936080"/>
          </a:xfrm>
        </p:grpSpPr>
        <p:grpSp>
          <p:nvGrpSpPr>
            <p:cNvPr id="626" name=""/>
            <p:cNvGrpSpPr/>
            <p:nvPr/>
          </p:nvGrpSpPr>
          <p:grpSpPr>
            <a:xfrm>
              <a:off x="4572000" y="1052640"/>
              <a:ext cx="1859760" cy="1076400"/>
              <a:chOff x="4572000" y="1052640"/>
              <a:chExt cx="1859760" cy="1076400"/>
            </a:xfrm>
          </p:grpSpPr>
          <p:sp>
            <p:nvSpPr>
              <p:cNvPr id="627" name=""/>
              <p:cNvSpPr/>
              <p:nvPr/>
            </p:nvSpPr>
            <p:spPr>
              <a:xfrm>
                <a:off x="4572000" y="2121120"/>
                <a:ext cx="1859760" cy="3240"/>
              </a:xfrm>
              <a:prstGeom prst="line">
                <a:avLst/>
              </a:prstGeom>
              <a:ln w="63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47240" y="1052640"/>
                <a:ext cx="0" cy="1076400"/>
              </a:xfrm>
              <a:prstGeom prst="line">
                <a:avLst/>
              </a:prstGeom>
              <a:ln w="63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4991040" y="1177920"/>
                <a:ext cx="555840" cy="951120"/>
              </a:xfrm>
              <a:prstGeom prst="line">
                <a:avLst/>
              </a:prstGeom>
              <a:ln w="63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5571000" y="1959120"/>
                <a:ext cx="109800" cy="144360"/>
                <a:chOff x="5571000" y="1959120"/>
                <a:chExt cx="109800" cy="1443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5571000" y="1959120"/>
                  <a:ext cx="1098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680800" y="19591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3" name=""/>
            <p:cNvSpPr/>
            <p:nvPr/>
          </p:nvSpPr>
          <p:spPr>
            <a:xfrm>
              <a:off x="4282920" y="1987560"/>
              <a:ext cx="433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07640" y="836640"/>
              <a:ext cx="433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64720" y="2060640"/>
              <a:ext cx="433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57800" y="2132280"/>
              <a:ext cx="433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16360" y="908280"/>
              <a:ext cx="433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3995640" y="2781360"/>
            <a:ext cx="2519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A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16720" y="2852640"/>
            <a:ext cx="165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780000" y="3645000"/>
            <a:ext cx="180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A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80000" y="364500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B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4437000"/>
            <a:ext cx="244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A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11280" y="4437000"/>
            <a:ext cx="1979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49840" y="5589720"/>
            <a:ext cx="201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A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83280" y="5589720"/>
            <a:ext cx="2089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24000" y="836640"/>
            <a:ext cx="3240000" cy="713160"/>
            <a:chOff x="324000" y="836640"/>
            <a:chExt cx="3240000" cy="713160"/>
          </a:xfrm>
        </p:grpSpPr>
        <p:sp>
          <p:nvSpPr>
            <p:cNvPr id="647" name=""/>
            <p:cNvSpPr/>
            <p:nvPr/>
          </p:nvSpPr>
          <p:spPr>
            <a:xfrm>
              <a:off x="324000" y="836640"/>
              <a:ext cx="3240000" cy="6490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8360" y="909360"/>
              <a:ext cx="2952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看图回答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79280" y="44280"/>
            <a:ext cx="50403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活学活用 加深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79280" y="1052640"/>
            <a:ext cx="8964720" cy="653760"/>
            <a:chOff x="179280" y="1052640"/>
            <a:chExt cx="8964720" cy="653760"/>
          </a:xfrm>
        </p:grpSpPr>
        <p:grpSp>
          <p:nvGrpSpPr>
            <p:cNvPr id="651" name=""/>
            <p:cNvGrpSpPr/>
            <p:nvPr/>
          </p:nvGrpSpPr>
          <p:grpSpPr>
            <a:xfrm>
              <a:off x="179280" y="1052640"/>
              <a:ext cx="8964720" cy="653760"/>
              <a:chOff x="179280" y="1052640"/>
              <a:chExt cx="8964720" cy="653760"/>
            </a:xfrm>
          </p:grpSpPr>
          <p:sp>
            <p:nvSpPr>
              <p:cNvPr id="652" name=""/>
              <p:cNvSpPr/>
              <p:nvPr/>
            </p:nvSpPr>
            <p:spPr>
              <a:xfrm>
                <a:off x="179280" y="1052640"/>
                <a:ext cx="89647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、已知　　的补角是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5°,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则　  的余角是多少度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53" name=""/>
              <p:cNvGraphicFramePr/>
              <p:nvPr/>
            </p:nvGraphicFramePr>
            <p:xfrm>
              <a:off x="1908000" y="1197000"/>
              <a:ext cx="860760" cy="509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8000" y="1197000"/>
                        <a:ext cx="860760" cy="50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55" name=""/>
            <p:cNvGraphicFramePr/>
            <p:nvPr/>
          </p:nvGraphicFramePr>
          <p:xfrm>
            <a:off x="6443640" y="1123920"/>
            <a:ext cx="860400" cy="50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43640" y="1123920"/>
                      <a:ext cx="86040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7" name=""/>
          <p:cNvSpPr/>
          <p:nvPr/>
        </p:nvSpPr>
        <p:spPr>
          <a:xfrm>
            <a:off x="2771640" y="1844640"/>
            <a:ext cx="432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它的余角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15</a:t>
            </a:r>
            <a:r>
              <a:rPr b="1" lang="zh-CN" sz="36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841480" y="2492280"/>
            <a:ext cx="6157440" cy="4104720"/>
            <a:chOff x="2841480" y="2492280"/>
            <a:chExt cx="6157440" cy="4104720"/>
          </a:xfrm>
        </p:grpSpPr>
        <p:grpSp>
          <p:nvGrpSpPr>
            <p:cNvPr id="659" name=""/>
            <p:cNvGrpSpPr/>
            <p:nvPr/>
          </p:nvGrpSpPr>
          <p:grpSpPr>
            <a:xfrm>
              <a:off x="2841480" y="3716280"/>
              <a:ext cx="6157440" cy="2113200"/>
              <a:chOff x="2841480" y="3716280"/>
              <a:chExt cx="6157440" cy="2113200"/>
            </a:xfrm>
          </p:grpSpPr>
          <p:sp>
            <p:nvSpPr>
              <p:cNvPr id="660" name=""/>
              <p:cNvSpPr/>
              <p:nvPr/>
            </p:nvSpPr>
            <p:spPr>
              <a:xfrm>
                <a:off x="3633840" y="4003560"/>
                <a:ext cx="2808360" cy="86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77480" y="4867200"/>
                <a:ext cx="252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27280" y="5084640"/>
                <a:ext cx="576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41480" y="3716280"/>
                <a:ext cx="57456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155280" y="5371920"/>
                <a:ext cx="576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065480" y="2492280"/>
              <a:ext cx="4609080" cy="4104720"/>
              <a:chOff x="4065480" y="2492280"/>
              <a:chExt cx="4609080" cy="4104720"/>
            </a:xfrm>
          </p:grpSpPr>
          <p:pic>
            <p:nvPicPr>
              <p:cNvPr id="66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065480" y="2997000"/>
                <a:ext cx="4609080" cy="3600000"/>
              </a:xfrm>
              <a:prstGeom prst="rect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65480" y="2492280"/>
                <a:ext cx="4609080" cy="3600360"/>
              </a:xfrm>
              <a:prstGeom prst="rect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</p:pic>
        </p:grpSp>
      </p:grpSp>
      <p:sp>
        <p:nvSpPr>
          <p:cNvPr id="668" name=""/>
          <p:cNvSpPr/>
          <p:nvPr/>
        </p:nvSpPr>
        <p:spPr>
          <a:xfrm>
            <a:off x="179280" y="2492280"/>
            <a:ext cx="889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如图两堵墙围一个角</a:t>
            </a:r>
            <a:r>
              <a:rPr b="1" lang="zh-CN" sz="36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人不能进入围墙，我们如何去测量这个角的大小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-36360" y="4916520"/>
            <a:ext cx="6840000" cy="2041920"/>
            <a:chOff x="-36360" y="4916520"/>
            <a:chExt cx="6840000" cy="2041920"/>
          </a:xfrm>
        </p:grpSpPr>
        <p:sp>
          <p:nvSpPr>
            <p:cNvPr id="670" name=""/>
            <p:cNvSpPr/>
            <p:nvPr/>
          </p:nvSpPr>
          <p:spPr>
            <a:xfrm>
              <a:off x="826920" y="5348160"/>
              <a:ext cx="2736360" cy="1008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63640" y="6356520"/>
              <a:ext cx="25207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9280" y="4916520"/>
              <a:ext cx="574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5280" y="6356520"/>
              <a:ext cx="2808000" cy="0"/>
            </a:xfrm>
            <a:prstGeom prst="line">
              <a:avLst/>
            </a:prstGeom>
            <a:ln w="63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-36360" y="6068880"/>
              <a:ext cx="576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19280" y="6500880"/>
              <a:ext cx="576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227640" y="6140520"/>
              <a:ext cx="576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716560" y="5854680"/>
            <a:ext cx="119304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23" y="4109"/>
                </a:moveTo>
                <a:arcTo wR="10800" hR="10800" stAng="-8502979" swAng="8502979"/>
                <a:lnTo>
                  <a:pt x="10800" y="10800"/>
                </a:lnTo>
                <a:close/>
              </a:path>
              <a:path fill="none" w="21600" h="21600">
                <a:moveTo>
                  <a:pt x="2323" y="4109"/>
                </a:moveTo>
                <a:arcTo wR="10800" hR="10800" stAng="-8502979" swAng="8502979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82920" y="6068880"/>
            <a:ext cx="4370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37080" y="5421240"/>
            <a:ext cx="576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24000" y="5854680"/>
            <a:ext cx="577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635280" y="4869000"/>
            <a:ext cx="280692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74920" y="4290840"/>
            <a:ext cx="577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02160" y="5373720"/>
            <a:ext cx="4392720" cy="64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∠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∠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6360" y="65160"/>
            <a:ext cx="503892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活学活用 加深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924360" y="3429000"/>
            <a:ext cx="4969440" cy="2685600"/>
            <a:chOff x="3924360" y="3429000"/>
            <a:chExt cx="4969440" cy="2685600"/>
          </a:xfrm>
        </p:grpSpPr>
        <p:grpSp>
          <p:nvGrpSpPr>
            <p:cNvPr id="686" name=""/>
            <p:cNvGrpSpPr/>
            <p:nvPr/>
          </p:nvGrpSpPr>
          <p:grpSpPr>
            <a:xfrm>
              <a:off x="6085440" y="4651920"/>
              <a:ext cx="1871640" cy="862200"/>
              <a:chOff x="6085440" y="4651920"/>
              <a:chExt cx="1871640" cy="862200"/>
            </a:xfrm>
          </p:grpSpPr>
          <p:sp>
            <p:nvSpPr>
              <p:cNvPr id="687" name=""/>
              <p:cNvSpPr/>
              <p:nvPr/>
            </p:nvSpPr>
            <p:spPr>
              <a:xfrm flipV="1">
                <a:off x="6085440" y="4823280"/>
                <a:ext cx="1442880" cy="6908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532280" y="4651920"/>
                <a:ext cx="4248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228640" y="4044240"/>
              <a:ext cx="801000" cy="1462680"/>
              <a:chOff x="5228640" y="4044240"/>
              <a:chExt cx="801000" cy="1462680"/>
            </a:xfrm>
          </p:grpSpPr>
          <p:sp>
            <p:nvSpPr>
              <p:cNvPr id="690" name=""/>
              <p:cNvSpPr/>
              <p:nvPr/>
            </p:nvSpPr>
            <p:spPr>
              <a:xfrm flipH="1" flipV="1">
                <a:off x="5549400" y="4379040"/>
                <a:ext cx="480240" cy="11278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28600">
                <a:off x="5245560" y="4053600"/>
                <a:ext cx="3078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3924360" y="3429000"/>
              <a:ext cx="4969440" cy="2685600"/>
              <a:chOff x="3924360" y="3429000"/>
              <a:chExt cx="4969440" cy="268560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6032160" y="3850920"/>
                <a:ext cx="1240560" cy="168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88800" y="5582520"/>
                <a:ext cx="62136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29360" y="3429000"/>
                <a:ext cx="62136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72440" y="5487480"/>
                <a:ext cx="621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924360" y="5535360"/>
                <a:ext cx="621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70600" y="5537160"/>
                <a:ext cx="422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289080" y="1125360"/>
            <a:ext cx="6875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如图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OD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平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COA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OE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平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COB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，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①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EOD=__ 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②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图中互余角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对， 互补角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6000" y="2637000"/>
            <a:ext cx="432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03280" y="3219480"/>
            <a:ext cx="57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60720" y="2131920"/>
            <a:ext cx="89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  <a:ea typeface="宋体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324000" y="6404040"/>
            <a:ext cx="8316720" cy="4096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492960" y="-1440"/>
            <a:ext cx="2651040" cy="1846080"/>
          </a:xfrm>
          <a:prstGeom prst="rect">
            <a:avLst/>
          </a:prstGeom>
          <a:ln w="0">
            <a:noFill/>
          </a:ln>
        </p:spPr>
      </p:pic>
      <p:grpSp>
        <p:nvGrpSpPr>
          <p:cNvPr id="705" name=""/>
          <p:cNvGrpSpPr/>
          <p:nvPr/>
        </p:nvGrpSpPr>
        <p:grpSpPr>
          <a:xfrm>
            <a:off x="3924360" y="3429000"/>
            <a:ext cx="4969440" cy="2685600"/>
            <a:chOff x="3924360" y="3429000"/>
            <a:chExt cx="4969440" cy="2685600"/>
          </a:xfrm>
        </p:grpSpPr>
        <p:grpSp>
          <p:nvGrpSpPr>
            <p:cNvPr id="706" name=""/>
            <p:cNvGrpSpPr/>
            <p:nvPr/>
          </p:nvGrpSpPr>
          <p:grpSpPr>
            <a:xfrm>
              <a:off x="6085440" y="4651920"/>
              <a:ext cx="1871640" cy="862200"/>
              <a:chOff x="6085440" y="4651920"/>
              <a:chExt cx="1871640" cy="862200"/>
            </a:xfrm>
          </p:grpSpPr>
          <p:sp>
            <p:nvSpPr>
              <p:cNvPr id="707" name=""/>
              <p:cNvSpPr/>
              <p:nvPr/>
            </p:nvSpPr>
            <p:spPr>
              <a:xfrm flipV="1">
                <a:off x="6085440" y="4823280"/>
                <a:ext cx="1442880" cy="69084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532280" y="4651920"/>
                <a:ext cx="4248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5228640" y="4044240"/>
              <a:ext cx="801000" cy="1462680"/>
              <a:chOff x="5228640" y="4044240"/>
              <a:chExt cx="801000" cy="1462680"/>
            </a:xfrm>
          </p:grpSpPr>
          <p:sp>
            <p:nvSpPr>
              <p:cNvPr id="710" name=""/>
              <p:cNvSpPr/>
              <p:nvPr/>
            </p:nvSpPr>
            <p:spPr>
              <a:xfrm flipH="1" flipV="1">
                <a:off x="5549400" y="4379040"/>
                <a:ext cx="480240" cy="1127880"/>
              </a:xfrm>
              <a:prstGeom prst="line">
                <a:avLst/>
              </a:prstGeom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28600">
                <a:off x="5245560" y="4053600"/>
                <a:ext cx="3078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924360" y="3429000"/>
              <a:ext cx="4969440" cy="2685600"/>
              <a:chOff x="3924360" y="3429000"/>
              <a:chExt cx="4969440" cy="2685600"/>
            </a:xfrm>
          </p:grpSpPr>
          <p:sp>
            <p:nvSpPr>
              <p:cNvPr id="713" name=""/>
              <p:cNvSpPr/>
              <p:nvPr/>
            </p:nvSpPr>
            <p:spPr>
              <a:xfrm flipV="1">
                <a:off x="6032160" y="3850920"/>
                <a:ext cx="1240560" cy="1685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8800" y="5582520"/>
                <a:ext cx="62136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29360" y="3429000"/>
                <a:ext cx="62136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272440" y="5487480"/>
                <a:ext cx="621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924360" y="5535360"/>
                <a:ext cx="621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70600" y="5537160"/>
                <a:ext cx="42220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1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4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1836720" y="393480"/>
            <a:ext cx="719784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认真观察下图，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44360" y="192240"/>
            <a:ext cx="2557080" cy="1652040"/>
            <a:chOff x="144360" y="192240"/>
            <a:chExt cx="2557080" cy="1652040"/>
          </a:xfrm>
        </p:grpSpPr>
        <p:pic>
          <p:nvPicPr>
            <p:cNvPr id="721" name="" descr=""/>
            <p:cNvPicPr/>
            <p:nvPr/>
          </p:nvPicPr>
          <p:blipFill>
            <a:blip r:embed="rId1"/>
            <a:stretch/>
          </p:blipFill>
          <p:spPr>
            <a:xfrm>
              <a:off x="357120" y="279720"/>
              <a:ext cx="1902240" cy="15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 txBox="1"/>
            <p:nvPr/>
          </p:nvSpPr>
          <p:spPr>
            <a:xfrm>
              <a:off x="144360" y="192240"/>
              <a:ext cx="2557080" cy="525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宋体"/>
                </a:rPr>
                <a:t>挑战一下吧！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79280" y="4437000"/>
            <a:ext cx="896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图中哪几对角是相等的角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直角除外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79640" y="1125360"/>
            <a:ext cx="64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图中有哪几对互余的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03280" y="1989000"/>
            <a:ext cx="52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+∠B=90° ∠A+∠2=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403280" y="3139920"/>
            <a:ext cx="52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+∠B=90° ∠1+∠2=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5586480"/>
            <a:ext cx="52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=∠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55640" y="6162840"/>
            <a:ext cx="52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A=∠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736120" y="3498840"/>
            <a:ext cx="81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41840" y="1484280"/>
            <a:ext cx="4144320" cy="3896640"/>
            <a:chOff x="4641840" y="1484280"/>
            <a:chExt cx="4144320" cy="3896640"/>
          </a:xfrm>
        </p:grpSpPr>
        <p:grpSp>
          <p:nvGrpSpPr>
            <p:cNvPr id="731" name=""/>
            <p:cNvGrpSpPr/>
            <p:nvPr/>
          </p:nvGrpSpPr>
          <p:grpSpPr>
            <a:xfrm>
              <a:off x="4721040" y="2034000"/>
              <a:ext cx="4065120" cy="3346920"/>
              <a:chOff x="4721040" y="2034000"/>
              <a:chExt cx="4065120" cy="334692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7558560" y="2180160"/>
                <a:ext cx="504000" cy="365040"/>
                <a:chOff x="7558560" y="2180160"/>
                <a:chExt cx="504000" cy="365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558560" y="2180160"/>
                  <a:ext cx="169920" cy="36504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7728480" y="2360880"/>
                  <a:ext cx="334080" cy="18432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 rot="9132600">
                <a:off x="4952880" y="2764800"/>
                <a:ext cx="3601440" cy="1885320"/>
              </a:xfrm>
              <a:prstGeom prst="rtTriangl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935480" y="2060280"/>
                <a:ext cx="0" cy="16956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7935480" y="3392640"/>
                <a:ext cx="376560" cy="362880"/>
                <a:chOff x="7935480" y="3392640"/>
                <a:chExt cx="376560" cy="36288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7935480" y="3392640"/>
                  <a:ext cx="376560" cy="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312040" y="3392640"/>
                  <a:ext cx="0" cy="362880"/>
                </a:xfrm>
                <a:prstGeom prst="line">
                  <a:avLst/>
                </a:prstGeom>
                <a:ln w="63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0" name=""/>
            <p:cNvSpPr/>
            <p:nvPr/>
          </p:nvSpPr>
          <p:spPr>
            <a:xfrm>
              <a:off x="4641840" y="3709800"/>
              <a:ext cx="814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89240" y="1484280"/>
              <a:ext cx="816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40000" y="3715920"/>
              <a:ext cx="814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 rot="343200">
              <a:off x="7798320" y="2296440"/>
              <a:ext cx="38088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12" y="579"/>
                  </a:moveTo>
                  <a:arcTo wR="10800" hR="10800" stAng="-6530473" swAng="6530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12" y="579"/>
                  </a:moveTo>
                  <a:arcTo wR="10800" hR="10800" stAng="-6530473" swAng="6530473"/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342600">
              <a:off x="7905600" y="2634840"/>
              <a:ext cx="5760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7354440" y="2176560"/>
              <a:ext cx="9619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91" y="80"/>
                  </a:moveTo>
                  <a:arcTo wR="10800" hR="10800" stAng="-5817783" swAng="6851799"/>
                  <a:lnTo>
                    <a:pt x="10800" y="10800"/>
                  </a:lnTo>
                  <a:close/>
                </a:path>
                <a:path fill="none" w="21600" h="21600">
                  <a:moveTo>
                    <a:pt x="9491" y="80"/>
                  </a:moveTo>
                  <a:arcTo wR="10800" hR="10800" stAng="-5817783" swAng="6851799"/>
                </a:path>
              </a:pathLst>
            </a:cu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57600" y="2563560"/>
              <a:ext cx="576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627280" y="5445000"/>
            <a:ext cx="529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（同角的余角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627280" y="6021360"/>
            <a:ext cx="529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（同角的余角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492960" y="5011560"/>
            <a:ext cx="2651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2268000" y="114480"/>
            <a:ext cx="741852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请认真观察下图，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9840" y="260280"/>
            <a:ext cx="2485800" cy="1512720"/>
            <a:chOff x="69840" y="260280"/>
            <a:chExt cx="2485800" cy="1512720"/>
          </a:xfrm>
        </p:grpSpPr>
        <p:pic>
          <p:nvPicPr>
            <p:cNvPr id="752" name="" descr=""/>
            <p:cNvPicPr/>
            <p:nvPr/>
          </p:nvPicPr>
          <p:blipFill>
            <a:blip r:embed="rId1"/>
            <a:stretch/>
          </p:blipFill>
          <p:spPr>
            <a:xfrm>
              <a:off x="276840" y="340560"/>
              <a:ext cx="1849320" cy="14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 txBox="1"/>
            <p:nvPr/>
          </p:nvSpPr>
          <p:spPr>
            <a:xfrm>
              <a:off x="69840" y="260280"/>
              <a:ext cx="2485800" cy="48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66ff"/>
                  </a:solidFill>
                  <a:latin typeface="宋体"/>
                </a:rPr>
                <a:t>挑战一下吧！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0" y="252576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图中哪几对角是相等的角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直角除外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为什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616720" y="3139920"/>
            <a:ext cx="3526920" cy="3926880"/>
            <a:chOff x="5616720" y="3139920"/>
            <a:chExt cx="3526920" cy="3926880"/>
          </a:xfrm>
        </p:grpSpPr>
        <p:grpSp>
          <p:nvGrpSpPr>
            <p:cNvPr id="756" name=""/>
            <p:cNvGrpSpPr/>
            <p:nvPr/>
          </p:nvGrpSpPr>
          <p:grpSpPr>
            <a:xfrm>
              <a:off x="6045480" y="3607920"/>
              <a:ext cx="2662560" cy="3458880"/>
              <a:chOff x="6045480" y="3607920"/>
              <a:chExt cx="2662560" cy="345888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6045480" y="3607920"/>
                <a:ext cx="2662560" cy="3458880"/>
                <a:chOff x="6045480" y="3607920"/>
                <a:chExt cx="2662560" cy="345888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6045480" y="3607920"/>
                  <a:ext cx="2662560" cy="3458880"/>
                  <a:chOff x="6045480" y="3607920"/>
                  <a:chExt cx="2662560" cy="34588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7566480" y="3607920"/>
                    <a:ext cx="1113120" cy="2431440"/>
                  </a:xfrm>
                  <a:prstGeom prst="rtTriangle">
                    <a:avLst/>
                  </a:prstGeom>
                  <a:noFill/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9313800">
                    <a:off x="6172560" y="5477760"/>
                    <a:ext cx="2408040" cy="1136520"/>
                  </a:xfrm>
                  <a:prstGeom prst="rtTriangle">
                    <a:avLst/>
                  </a:prstGeom>
                  <a:noFill/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7565040" y="5758920"/>
                  <a:ext cx="279720" cy="281880"/>
                  <a:chOff x="7565040" y="5758920"/>
                  <a:chExt cx="279720" cy="28188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7565040" y="5758920"/>
                    <a:ext cx="277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844760" y="5758920"/>
                    <a:ext cx="0" cy="281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4" name=""/>
              <p:cNvGrpSpPr/>
              <p:nvPr/>
            </p:nvGrpSpPr>
            <p:grpSpPr>
              <a:xfrm>
                <a:off x="8029800" y="5105160"/>
                <a:ext cx="277560" cy="187560"/>
                <a:chOff x="8029800" y="5105160"/>
                <a:chExt cx="277560" cy="1875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8029800" y="5105160"/>
                  <a:ext cx="93600" cy="187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8123400" y="5197680"/>
                  <a:ext cx="183960" cy="9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7" name=""/>
            <p:cNvSpPr/>
            <p:nvPr/>
          </p:nvSpPr>
          <p:spPr>
            <a:xfrm>
              <a:off x="7008120" y="4825440"/>
              <a:ext cx="372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81080" y="3139920"/>
              <a:ext cx="370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08080" y="4544640"/>
              <a:ext cx="370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772840" y="5760000"/>
              <a:ext cx="370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472880" y="6228360"/>
              <a:ext cx="370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16720" y="5760000"/>
              <a:ext cx="370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2268360" y="692280"/>
            <a:ext cx="64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图中有哪几对互余的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411280" y="1268280"/>
            <a:ext cx="630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(∠A+∠B=90°, ∠A+∠C=9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763640" y="1987560"/>
            <a:ext cx="73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(∠BOE+∠B=90°, ∠COD+∠C=9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8360" y="3718080"/>
            <a:ext cx="52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(∠B=∠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8360" y="4226040"/>
            <a:ext cx="52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(∠A=∠BO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68360" y="4799160"/>
            <a:ext cx="52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(∠A=∠C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31640" y="5299200"/>
            <a:ext cx="52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(∠BOE=∠C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68360" y="3713040"/>
            <a:ext cx="374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同角的余角相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5724360" y="6310440"/>
            <a:ext cx="578160" cy="430200"/>
          </a:xfrm>
          <a:custGeom>
            <a:avLst/>
            <a:gdLst>
              <a:gd name="textAreaLeft" fmla="*/ 27720 w 578160"/>
              <a:gd name="textAreaRight" fmla="*/ 550440 w 5781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9023" h="21600">
                <a:moveTo>
                  <a:pt x="0" y="0"/>
                </a:moveTo>
                <a:lnTo>
                  <a:pt x="29023" y="0"/>
                </a:lnTo>
                <a:lnTo>
                  <a:pt x="29023" y="21600"/>
                </a:lnTo>
                <a:lnTo>
                  <a:pt x="0" y="21600"/>
                </a:lnTo>
                <a:close/>
              </a:path>
              <a:path fill="lightenLess" w="29023" h="21600">
                <a:moveTo>
                  <a:pt x="0" y="0"/>
                </a:moveTo>
                <a:lnTo>
                  <a:pt x="29023" y="0"/>
                </a:lnTo>
                <a:lnTo>
                  <a:pt x="27623" y="1400"/>
                </a:lnTo>
                <a:lnTo>
                  <a:pt x="1400" y="1400"/>
                </a:lnTo>
                <a:close/>
              </a:path>
              <a:path fill="darken" w="29023" h="21600">
                <a:moveTo>
                  <a:pt x="29023" y="0"/>
                </a:moveTo>
                <a:lnTo>
                  <a:pt x="29023" y="21600"/>
                </a:lnTo>
                <a:lnTo>
                  <a:pt x="27623" y="20200"/>
                </a:lnTo>
                <a:lnTo>
                  <a:pt x="27623" y="1400"/>
                </a:lnTo>
                <a:close/>
              </a:path>
              <a:path fill="darkenLess" w="29023" h="21600">
                <a:moveTo>
                  <a:pt x="29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23" y="20200"/>
                </a:lnTo>
                <a:close/>
              </a:path>
              <a:path fill="lighten" w="29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23" h="21600">
                <a:moveTo>
                  <a:pt x="18010" y="10800"/>
                </a:moveTo>
                <a:lnTo>
                  <a:pt x="7505" y="17806"/>
                </a:lnTo>
                <a:lnTo>
                  <a:pt x="7505" y="3794"/>
                </a:lnTo>
                <a:close/>
              </a:path>
              <a:path fill="darken" w="29023" h="21600">
                <a:moveTo>
                  <a:pt x="19855" y="3794"/>
                </a:moveTo>
                <a:lnTo>
                  <a:pt x="19855" y="17806"/>
                </a:lnTo>
                <a:lnTo>
                  <a:pt x="21518" y="17806"/>
                </a:lnTo>
                <a:lnTo>
                  <a:pt x="2151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8317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9280" y="189000"/>
            <a:ext cx="8028000" cy="4321080"/>
          </a:xfrm>
          <a:prstGeom prst="cloudCallout">
            <a:avLst>
              <a:gd name="adj1" fmla="val 38726"/>
              <a:gd name="adj2" fmla="val 60916"/>
            </a:avLst>
          </a:prstGeom>
          <a:gradFill rotWithShape="0">
            <a:gsLst>
              <a:gs pos="0">
                <a:srgbClr val="ffccff"/>
              </a:gs>
              <a:gs pos="100000">
                <a:srgbClr val="ffffcc">
                  <a:alpha val="70196"/>
                </a:srgbClr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453440" y="4869000"/>
            <a:ext cx="1150920" cy="1655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7020000" y="5805360"/>
            <a:ext cx="449280" cy="4492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1042920" y="692280"/>
            <a:ext cx="719928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习题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3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2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5" dur="513878" fill="hold"/>
                                        <p:tgtEl>
                                          <p:spTgt spid="7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763640" y="906480"/>
            <a:ext cx="938160" cy="54752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360" y="1268280"/>
            <a:ext cx="2664000" cy="5041800"/>
            <a:chOff x="4932360" y="1268280"/>
            <a:chExt cx="2664000" cy="5041800"/>
          </a:xfrm>
        </p:grpSpPr>
        <p:sp>
          <p:nvSpPr>
            <p:cNvPr id="141" name=""/>
            <p:cNvSpPr/>
            <p:nvPr/>
          </p:nvSpPr>
          <p:spPr>
            <a:xfrm>
              <a:off x="4932360" y="6310080"/>
              <a:ext cx="2664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004720" y="1268280"/>
              <a:ext cx="862920" cy="5041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9440" y="5735520"/>
              <a:ext cx="360000" cy="504720"/>
            </a:xfrm>
            <a:custGeom>
              <a:avLst/>
              <a:gdLst/>
              <a:ahLst/>
              <a:rect l="l" t="t" r="r" b="b"/>
              <a:pathLst>
                <a:path w="159" h="318">
                  <a:moveTo>
                    <a:pt x="0" y="0"/>
                  </a:moveTo>
                  <a:cubicBezTo>
                    <a:pt x="56" y="41"/>
                    <a:pt x="113" y="83"/>
                    <a:pt x="136" y="136"/>
                  </a:cubicBezTo>
                  <a:cubicBezTo>
                    <a:pt x="159" y="189"/>
                    <a:pt x="136" y="288"/>
                    <a:pt x="136" y="318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8360" y="5230440"/>
              <a:ext cx="122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79640" y="3716280"/>
            <a:ext cx="865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4581360"/>
            <a:ext cx="289080" cy="144720"/>
          </a:xfrm>
          <a:custGeom>
            <a:avLst/>
            <a:gdLst/>
            <a:ahLst/>
            <a:rect l="l" t="t" r="r" b="b"/>
            <a:pathLst>
              <a:path w="13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29" y="38"/>
                  <a:pt x="136" y="45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63640" y="5159520"/>
            <a:ext cx="1152000" cy="1150200"/>
            <a:chOff x="1763640" y="5159520"/>
            <a:chExt cx="1152000" cy="1150200"/>
          </a:xfrm>
        </p:grpSpPr>
        <p:sp>
          <p:nvSpPr>
            <p:cNvPr id="148" name=""/>
            <p:cNvSpPr/>
            <p:nvPr/>
          </p:nvSpPr>
          <p:spPr>
            <a:xfrm>
              <a:off x="1763640" y="5159520"/>
              <a:ext cx="1152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680" y="5159520"/>
              <a:ext cx="0" cy="1150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635280" y="692280"/>
            <a:ext cx="504036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互为余角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互余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两个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和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0°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直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那么这两个角叫做互为余角，其中一个角是另一个角的余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4160" y="1339920"/>
            <a:ext cx="2951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两个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3840" y="2492280"/>
            <a:ext cx="2090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互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8720" y="4221000"/>
            <a:ext cx="431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互为余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4940280"/>
            <a:ext cx="446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即：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是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余角，                               或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是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余角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4736E-006 L -0.34653 4.84736E-006 E">
                                      <p:cBhvr>
                                        <p:cTn id="9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628640"/>
            <a:ext cx="882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图中给出的各角，哪些互为余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1440" y="3324960"/>
            <a:ext cx="1547640" cy="85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8320" y="3723120"/>
            <a:ext cx="1843920" cy="491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661080" y="4939920"/>
            <a:ext cx="158112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2200" y="4939560"/>
            <a:ext cx="29052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39322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1520" y="4728960"/>
            <a:ext cx="1200600" cy="114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132000" y="3068280"/>
            <a:ext cx="172908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840" y="5882400"/>
            <a:ext cx="1626840" cy="51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3645000"/>
            <a:ext cx="84240" cy="215640"/>
          </a:xfrm>
          <a:custGeom>
            <a:avLst/>
            <a:gdLst/>
            <a:ahLst/>
            <a:rect l="l" t="t" r="r" b="b"/>
            <a:pathLst>
              <a:path w="52" h="136">
                <a:moveTo>
                  <a:pt x="0" y="0"/>
                </a:moveTo>
                <a:cubicBezTo>
                  <a:pt x="19" y="11"/>
                  <a:pt x="38" y="22"/>
                  <a:pt x="45" y="45"/>
                </a:cubicBezTo>
                <a:cubicBezTo>
                  <a:pt x="52" y="68"/>
                  <a:pt x="45" y="121"/>
                  <a:pt x="45" y="13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3139920"/>
            <a:ext cx="1082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97200" y="3645000"/>
            <a:ext cx="82800" cy="287280"/>
          </a:xfrm>
          <a:custGeom>
            <a:avLst/>
            <a:gdLst/>
            <a:ahLst/>
            <a:rect l="l" t="t" r="r" b="b"/>
            <a:pathLst>
              <a:path w="52" h="182">
                <a:moveTo>
                  <a:pt x="0" y="0"/>
                </a:moveTo>
                <a:cubicBezTo>
                  <a:pt x="19" y="30"/>
                  <a:pt x="38" y="61"/>
                  <a:pt x="45" y="91"/>
                </a:cubicBezTo>
                <a:cubicBezTo>
                  <a:pt x="52" y="121"/>
                  <a:pt x="45" y="167"/>
                  <a:pt x="45" y="18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3359160"/>
            <a:ext cx="107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586480"/>
            <a:ext cx="144720" cy="433440"/>
          </a:xfrm>
          <a:custGeom>
            <a:avLst/>
            <a:gdLst/>
            <a:ahLst/>
            <a:rect l="l" t="t" r="r" b="b"/>
            <a:pathLst>
              <a:path w="91" h="273">
                <a:moveTo>
                  <a:pt x="0" y="0"/>
                </a:moveTo>
                <a:cubicBezTo>
                  <a:pt x="45" y="46"/>
                  <a:pt x="91" y="92"/>
                  <a:pt x="91" y="137"/>
                </a:cubicBezTo>
                <a:cubicBezTo>
                  <a:pt x="91" y="182"/>
                  <a:pt x="15" y="250"/>
                  <a:pt x="0" y="2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5443560"/>
            <a:ext cx="100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5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83640" y="5159520"/>
            <a:ext cx="504720" cy="287280"/>
          </a:xfrm>
          <a:custGeom>
            <a:avLst/>
            <a:gdLst/>
            <a:ahLst/>
            <a:rect l="l" t="t" r="r" b="b"/>
            <a:pathLst>
              <a:path w="227" h="159">
                <a:moveTo>
                  <a:pt x="0" y="0"/>
                </a:moveTo>
                <a:cubicBezTo>
                  <a:pt x="3" y="56"/>
                  <a:pt x="7" y="113"/>
                  <a:pt x="45" y="136"/>
                </a:cubicBezTo>
                <a:cubicBezTo>
                  <a:pt x="83" y="159"/>
                  <a:pt x="197" y="136"/>
                  <a:pt x="227" y="13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5518080"/>
            <a:ext cx="115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940360" y="2706840"/>
            <a:ext cx="1656000" cy="1369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4076640"/>
            <a:ext cx="1584360" cy="21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72360" y="3718080"/>
            <a:ext cx="69840" cy="433080"/>
          </a:xfrm>
          <a:custGeom>
            <a:avLst/>
            <a:gdLst/>
            <a:ahLst/>
            <a:rect l="l" t="t" r="r" b="b"/>
            <a:pathLst>
              <a:path w="45" h="273">
                <a:moveTo>
                  <a:pt x="0" y="0"/>
                </a:moveTo>
                <a:cubicBezTo>
                  <a:pt x="22" y="46"/>
                  <a:pt x="45" y="92"/>
                  <a:pt x="45" y="137"/>
                </a:cubicBezTo>
                <a:cubicBezTo>
                  <a:pt x="45" y="182"/>
                  <a:pt x="7" y="258"/>
                  <a:pt x="0" y="2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1080" y="3498840"/>
            <a:ext cx="1800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  <a:ea typeface="宋体"/>
              </a:rPr>
              <a:t>44</a:t>
            </a:r>
            <a:r>
              <a:rPr b="1" lang="en-US" sz="4100" spc="-1" strike="noStrike" baseline="40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93800" y="4940280"/>
            <a:ext cx="1222200" cy="1225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4160" y="6165720"/>
            <a:ext cx="208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5805360"/>
            <a:ext cx="154080" cy="360360"/>
          </a:xfrm>
          <a:custGeom>
            <a:avLst/>
            <a:gdLst/>
            <a:ahLst/>
            <a:rect l="l" t="t" r="r" b="b"/>
            <a:pathLst>
              <a:path w="97" h="227">
                <a:moveTo>
                  <a:pt x="0" y="0"/>
                </a:moveTo>
                <a:cubicBezTo>
                  <a:pt x="41" y="26"/>
                  <a:pt x="83" y="53"/>
                  <a:pt x="90" y="91"/>
                </a:cubicBezTo>
                <a:cubicBezTo>
                  <a:pt x="97" y="129"/>
                  <a:pt x="52" y="204"/>
                  <a:pt x="45" y="227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5373720"/>
            <a:ext cx="17272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  <a:ea typeface="宋体"/>
              </a:rPr>
              <a:t>46</a:t>
            </a:r>
            <a:r>
              <a:rPr b="1" lang="en-US" sz="4100" spc="-1" strike="noStrike" baseline="40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4005360"/>
            <a:ext cx="540072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979280" y="4005360"/>
            <a:ext cx="180036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2360" y="4221000"/>
            <a:ext cx="1440000" cy="93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404640"/>
            <a:ext cx="2954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考考你</a:t>
            </a:r>
            <a:r>
              <a:rPr b="1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6310440"/>
            <a:ext cx="8459640" cy="71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9080" y="547560"/>
            <a:ext cx="861840" cy="5832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5805360"/>
            <a:ext cx="504720" cy="576360"/>
          </a:xfrm>
          <a:custGeom>
            <a:avLst/>
            <a:gdLst/>
            <a:ahLst/>
            <a:rect l="l" t="t" r="r" b="b"/>
            <a:pathLst>
              <a:path w="318" h="363">
                <a:moveTo>
                  <a:pt x="0" y="0"/>
                </a:moveTo>
                <a:cubicBezTo>
                  <a:pt x="87" y="38"/>
                  <a:pt x="174" y="76"/>
                  <a:pt x="227" y="136"/>
                </a:cubicBezTo>
                <a:cubicBezTo>
                  <a:pt x="280" y="196"/>
                  <a:pt x="303" y="333"/>
                  <a:pt x="318" y="363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280" y="5518080"/>
            <a:ext cx="494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5721480"/>
            <a:ext cx="647640" cy="588960"/>
          </a:xfrm>
          <a:custGeom>
            <a:avLst/>
            <a:gdLst/>
            <a:ahLst/>
            <a:rect l="l" t="t" r="r" b="b"/>
            <a:pathLst>
              <a:path w="409" h="325">
                <a:moveTo>
                  <a:pt x="409" y="8"/>
                </a:moveTo>
                <a:cubicBezTo>
                  <a:pt x="307" y="4"/>
                  <a:pt x="205" y="0"/>
                  <a:pt x="137" y="53"/>
                </a:cubicBezTo>
                <a:cubicBezTo>
                  <a:pt x="69" y="106"/>
                  <a:pt x="23" y="280"/>
                  <a:pt x="0" y="325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9800" y="5043600"/>
            <a:ext cx="93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11280" y="187200"/>
            <a:ext cx="1224000" cy="6120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1080" y="114480"/>
            <a:ext cx="2014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比萨斜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V="1">
            <a:off x="2482920" y="404280"/>
            <a:ext cx="1152360" cy="590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6310440"/>
            <a:ext cx="2303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5721480"/>
            <a:ext cx="647640" cy="588960"/>
          </a:xfrm>
          <a:custGeom>
            <a:avLst/>
            <a:gdLst/>
            <a:ahLst/>
            <a:rect l="l" t="t" r="r" b="b"/>
            <a:pathLst>
              <a:path w="409" h="325">
                <a:moveTo>
                  <a:pt x="409" y="8"/>
                </a:moveTo>
                <a:cubicBezTo>
                  <a:pt x="307" y="4"/>
                  <a:pt x="205" y="0"/>
                  <a:pt x="137" y="53"/>
                </a:cubicBezTo>
                <a:cubicBezTo>
                  <a:pt x="69" y="106"/>
                  <a:pt x="23" y="280"/>
                  <a:pt x="0" y="325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5043600"/>
            <a:ext cx="93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580000" y="549360"/>
            <a:ext cx="3132000" cy="5833440"/>
            <a:chOff x="5580000" y="549360"/>
            <a:chExt cx="3132000" cy="5833440"/>
          </a:xfrm>
        </p:grpSpPr>
        <p:sp>
          <p:nvSpPr>
            <p:cNvPr id="198" name=""/>
            <p:cNvSpPr/>
            <p:nvPr/>
          </p:nvSpPr>
          <p:spPr>
            <a:xfrm flipV="1">
              <a:off x="5580000" y="549360"/>
              <a:ext cx="1152360" cy="5832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24360" y="573516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0"/>
                  </a:moveTo>
                  <a:cubicBezTo>
                    <a:pt x="87" y="38"/>
                    <a:pt x="174" y="76"/>
                    <a:pt x="227" y="136"/>
                  </a:cubicBezTo>
                  <a:cubicBezTo>
                    <a:pt x="280" y="196"/>
                    <a:pt x="303" y="333"/>
                    <a:pt x="318" y="363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28000" y="5374800"/>
              <a:ext cx="494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80000" y="6382800"/>
              <a:ext cx="3132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490920" y="620640"/>
            <a:ext cx="56530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互为补角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互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两个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和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0°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那么这两个角叫做互为补角，其中一个角是另一个角的补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5280" y="1268280"/>
            <a:ext cx="295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两个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61080" y="2421000"/>
            <a:ext cx="1511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互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49840" y="3718080"/>
            <a:ext cx="4809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、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互为补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4581360"/>
            <a:ext cx="496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即：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是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的补角，                               或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是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的补角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-0.33073 -7.40741E-007 E">
                                      <p:cBhvr>
                                        <p:cTn id="21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1558800"/>
            <a:ext cx="882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图中给出的各角，那些互为补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1440" y="3324960"/>
            <a:ext cx="1547640" cy="85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8320" y="3723120"/>
            <a:ext cx="1843920" cy="491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372360" y="2781360"/>
            <a:ext cx="158436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781360"/>
            <a:ext cx="431640" cy="20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39290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51880" y="2714400"/>
            <a:ext cx="1200600" cy="114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4000" y="3065040"/>
            <a:ext cx="172584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1200" y="3866400"/>
            <a:ext cx="1626840" cy="51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403280" y="4436640"/>
            <a:ext cx="287280" cy="12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79280" y="5732640"/>
            <a:ext cx="1511280" cy="722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229360"/>
            <a:ext cx="151128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834920" y="5229360"/>
            <a:ext cx="1150920" cy="861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08360" y="5443560"/>
            <a:ext cx="1366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356000" y="5443200"/>
            <a:ext cx="115272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33480" y="6165720"/>
            <a:ext cx="1800360" cy="40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234200" y="5229000"/>
            <a:ext cx="1660680" cy="93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645000"/>
            <a:ext cx="84240" cy="215640"/>
          </a:xfrm>
          <a:custGeom>
            <a:avLst/>
            <a:gdLst/>
            <a:ahLst/>
            <a:rect l="l" t="t" r="r" b="b"/>
            <a:pathLst>
              <a:path w="52" h="136">
                <a:moveTo>
                  <a:pt x="0" y="0"/>
                </a:moveTo>
                <a:cubicBezTo>
                  <a:pt x="19" y="11"/>
                  <a:pt x="38" y="22"/>
                  <a:pt x="45" y="45"/>
                </a:cubicBezTo>
                <a:cubicBezTo>
                  <a:pt x="52" y="68"/>
                  <a:pt x="45" y="121"/>
                  <a:pt x="45" y="13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3139920"/>
            <a:ext cx="1082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1640" y="3643200"/>
            <a:ext cx="82800" cy="287280"/>
          </a:xfrm>
          <a:custGeom>
            <a:avLst/>
            <a:gdLst/>
            <a:ahLst/>
            <a:rect l="l" t="t" r="r" b="b"/>
            <a:pathLst>
              <a:path w="52" h="182">
                <a:moveTo>
                  <a:pt x="0" y="0"/>
                </a:moveTo>
                <a:cubicBezTo>
                  <a:pt x="19" y="30"/>
                  <a:pt x="38" y="61"/>
                  <a:pt x="45" y="91"/>
                </a:cubicBezTo>
                <a:cubicBezTo>
                  <a:pt x="52" y="121"/>
                  <a:pt x="45" y="167"/>
                  <a:pt x="45" y="18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0720" y="3354480"/>
            <a:ext cx="107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3570120"/>
            <a:ext cx="144360" cy="433440"/>
          </a:xfrm>
          <a:custGeom>
            <a:avLst/>
            <a:gdLst/>
            <a:ahLst/>
            <a:rect l="l" t="t" r="r" b="b"/>
            <a:pathLst>
              <a:path w="91" h="273">
                <a:moveTo>
                  <a:pt x="0" y="0"/>
                </a:moveTo>
                <a:cubicBezTo>
                  <a:pt x="45" y="46"/>
                  <a:pt x="91" y="92"/>
                  <a:pt x="91" y="137"/>
                </a:cubicBezTo>
                <a:cubicBezTo>
                  <a:pt x="91" y="182"/>
                  <a:pt x="15" y="250"/>
                  <a:pt x="0" y="2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27560"/>
            <a:ext cx="100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2997360"/>
            <a:ext cx="504720" cy="288720"/>
          </a:xfrm>
          <a:custGeom>
            <a:avLst/>
            <a:gdLst/>
            <a:ahLst/>
            <a:rect l="l" t="t" r="r" b="b"/>
            <a:pathLst>
              <a:path w="227" h="159">
                <a:moveTo>
                  <a:pt x="0" y="0"/>
                </a:moveTo>
                <a:cubicBezTo>
                  <a:pt x="3" y="56"/>
                  <a:pt x="7" y="113"/>
                  <a:pt x="45" y="136"/>
                </a:cubicBezTo>
                <a:cubicBezTo>
                  <a:pt x="83" y="159"/>
                  <a:pt x="197" y="136"/>
                  <a:pt x="227" y="13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94520" y="3359160"/>
            <a:ext cx="1147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5518080"/>
            <a:ext cx="287280" cy="358920"/>
          </a:xfrm>
          <a:custGeom>
            <a:avLst/>
            <a:gdLst/>
            <a:ahLst/>
            <a:rect l="l" t="t" r="r" b="b"/>
            <a:pathLst>
              <a:path w="105" h="182">
                <a:moveTo>
                  <a:pt x="105" y="0"/>
                </a:moveTo>
                <a:cubicBezTo>
                  <a:pt x="67" y="7"/>
                  <a:pt x="30" y="15"/>
                  <a:pt x="15" y="45"/>
                </a:cubicBezTo>
                <a:cubicBezTo>
                  <a:pt x="0" y="75"/>
                  <a:pt x="15" y="152"/>
                  <a:pt x="15" y="18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5084640"/>
            <a:ext cx="122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373720"/>
            <a:ext cx="503280" cy="216000"/>
          </a:xfrm>
          <a:custGeom>
            <a:avLst/>
            <a:gdLst/>
            <a:ahLst/>
            <a:rect l="l" t="t" r="r" b="b"/>
            <a:pathLst>
              <a:path w="318" h="143">
                <a:moveTo>
                  <a:pt x="0" y="45"/>
                </a:moveTo>
                <a:cubicBezTo>
                  <a:pt x="41" y="94"/>
                  <a:pt x="83" y="143"/>
                  <a:pt x="136" y="136"/>
                </a:cubicBezTo>
                <a:cubicBezTo>
                  <a:pt x="189" y="129"/>
                  <a:pt x="288" y="23"/>
                  <a:pt x="31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5589720"/>
            <a:ext cx="136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5445000"/>
            <a:ext cx="576360" cy="216000"/>
          </a:xfrm>
          <a:custGeom>
            <a:avLst/>
            <a:gdLst/>
            <a:ahLst/>
            <a:rect l="l" t="t" r="r" b="b"/>
            <a:pathLst>
              <a:path w="227" h="99">
                <a:moveTo>
                  <a:pt x="227" y="0"/>
                </a:moveTo>
                <a:cubicBezTo>
                  <a:pt x="178" y="41"/>
                  <a:pt x="129" y="83"/>
                  <a:pt x="91" y="91"/>
                </a:cubicBezTo>
                <a:cubicBezTo>
                  <a:pt x="53" y="99"/>
                  <a:pt x="15" y="53"/>
                  <a:pt x="0" y="4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5589720"/>
            <a:ext cx="122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0000" y="5902200"/>
            <a:ext cx="504720" cy="335160"/>
          </a:xfrm>
          <a:custGeom>
            <a:avLst/>
            <a:gdLst/>
            <a:ahLst/>
            <a:rect l="l" t="t" r="r" b="b"/>
            <a:pathLst>
              <a:path w="318" h="211">
                <a:moveTo>
                  <a:pt x="0" y="211"/>
                </a:moveTo>
                <a:cubicBezTo>
                  <a:pt x="19" y="135"/>
                  <a:pt x="38" y="60"/>
                  <a:pt x="91" y="30"/>
                </a:cubicBezTo>
                <a:cubicBezTo>
                  <a:pt x="144" y="0"/>
                  <a:pt x="280" y="30"/>
                  <a:pt x="318" y="3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537372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70</a:t>
            </a:r>
            <a:r>
              <a:rPr b="1" lang="en-US" sz="3200" spc="-1" strike="noStrike" baseline="42000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4076640"/>
            <a:ext cx="640872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4076640"/>
            <a:ext cx="16556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348000" y="4151160"/>
            <a:ext cx="1154160" cy="1078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90560" y="3718080"/>
            <a:ext cx="5329440" cy="144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04640"/>
            <a:ext cx="2879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考考你</a:t>
            </a:r>
            <a:r>
              <a:rPr b="1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ffcc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0"/>
            <a:ext cx="41767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华文行楷"/>
              </a:rPr>
              <a:t>我来试一试：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620640"/>
          <a:ext cx="7499520" cy="3529080"/>
        </p:xfrm>
        <a:graphic>
          <a:graphicData uri="http://schemas.openxmlformats.org/drawingml/2006/table">
            <a:tbl>
              <a:tblPr/>
              <a:tblGrid>
                <a:gridCol w="2232000"/>
                <a:gridCol w="2767320"/>
                <a:gridCol w="25002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∠</a:t>
                      </a:r>
                      <a:r>
                        <a:rPr b="1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∠</a:t>
                      </a:r>
                      <a:r>
                        <a:rPr b="1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α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的余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∠</a:t>
                      </a:r>
                      <a:r>
                        <a:rPr b="1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α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的补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7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3400560" y="4586400"/>
            <a:ext cx="19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4920" y="3573360"/>
            <a:ext cx="201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27°37</a:t>
            </a:r>
            <a:r>
              <a:rPr b="1" lang="he-IL" sz="3200" spc="-1" strike="noStrike">
                <a:solidFill>
                  <a:srgbClr val="000099"/>
                </a:solidFill>
                <a:latin typeface="Arial"/>
                <a:ea typeface="宋体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6000" y="357336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117°37</a:t>
            </a:r>
            <a:r>
              <a:rPr b="1" lang="he-IL" sz="3200" spc="-1" strike="noStrike">
                <a:solidFill>
                  <a:srgbClr val="000099"/>
                </a:solidFill>
                <a:latin typeface="Arial"/>
                <a:ea typeface="宋体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126828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8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26828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7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191772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5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56360" y="184464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4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35280" y="242100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242100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56360" y="299736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0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64000" y="299736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9640" y="4149720"/>
          <a:ext cx="7497720" cy="577800"/>
        </p:xfrm>
        <a:graphic>
          <a:graphicData uri="http://schemas.openxmlformats.org/drawingml/2006/table">
            <a:tbl>
              <a:tblPr/>
              <a:tblGrid>
                <a:gridCol w="2232000"/>
                <a:gridCol w="2767320"/>
                <a:gridCol w="24984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9" name=""/>
          <p:cNvGrpSpPr/>
          <p:nvPr/>
        </p:nvGrpSpPr>
        <p:grpSpPr>
          <a:xfrm>
            <a:off x="3132000" y="4149720"/>
            <a:ext cx="2881440" cy="579240"/>
            <a:chOff x="3132000" y="4149720"/>
            <a:chExt cx="2881440" cy="579240"/>
          </a:xfrm>
        </p:grpSpPr>
        <p:sp>
          <p:nvSpPr>
            <p:cNvPr id="260" name=""/>
            <p:cNvSpPr/>
            <p:nvPr/>
          </p:nvSpPr>
          <p:spPr>
            <a:xfrm>
              <a:off x="3132000" y="4149720"/>
              <a:ext cx="288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90°   x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05360" y="4437000"/>
              <a:ext cx="27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580000" y="4149720"/>
            <a:ext cx="2521080" cy="579240"/>
            <a:chOff x="5580000" y="4149720"/>
            <a:chExt cx="2521080" cy="579240"/>
          </a:xfrm>
        </p:grpSpPr>
        <p:sp>
          <p:nvSpPr>
            <p:cNvPr id="263" name=""/>
            <p:cNvSpPr/>
            <p:nvPr/>
          </p:nvSpPr>
          <p:spPr>
            <a:xfrm>
              <a:off x="5580000" y="4149720"/>
              <a:ext cx="252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80°   x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9640" y="4437000"/>
              <a:ext cx="261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901800" y="4726080"/>
            <a:ext cx="676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一个锐角的补角比它的余角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32720" y="4581360"/>
            <a:ext cx="20890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ff"/>
                </a:solidFill>
                <a:latin typeface="黑体"/>
                <a:ea typeface="黑体"/>
              </a:rPr>
              <a:t>90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5229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互余和互补是两个角的数量关系，与它们的位置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ccff"/>
            </a:gs>
            <a:gs pos="100000">
              <a:srgbClr val="00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8360" y="0"/>
            <a:ext cx="7777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练习</a:t>
            </a:r>
            <a:r>
              <a:rPr b="1" lang="zh-CN" sz="4800" spc="-1" strike="noStrike">
                <a:solidFill>
                  <a:srgbClr val="ff66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答题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一个角的补角是它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倍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这个角是多少度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3068640"/>
            <a:ext cx="7991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7480" y="4221000"/>
            <a:ext cx="381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0 –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4940280"/>
            <a:ext cx="359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之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 x =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7480" y="5805360"/>
            <a:ext cx="374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角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7480" y="3139920"/>
            <a:ext cx="802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它的补角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180°- x°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7480" y="4290840"/>
            <a:ext cx="3241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4290840"/>
            <a:ext cx="295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7480" y="4221000"/>
            <a:ext cx="381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0920" y="3718080"/>
            <a:ext cx="799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0920" y="3068640"/>
            <a:ext cx="799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设这个角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5:12:11Z</dcterms:created>
  <dc:creator>贺宏伟</dc:creator>
  <dc:description/>
  <dc:language>en-US</dc:language>
  <cp:lastModifiedBy>微软用户</cp:lastModifiedBy>
  <dcterms:modified xsi:type="dcterms:W3CDTF">2012-07-16T02:00:26Z</dcterms:modified>
  <cp:revision>149</cp:revision>
  <dc:subject/>
  <dc:title>幻灯片 1</dc:title>
</cp:coreProperties>
</file>