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4.wmf" ContentType="image/x-wmf"/>
  <Override PartName="/ppt/media/image5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9.jpeg" ContentType="image/jpeg"/>
  <Override PartName="/ppt/media/image10.jpeg" ContentType="image/jpeg"/>
  <Override PartName="/ppt/media/whoosh.wav" ContentType="audio/x-wav"/>
  <Override PartName="/ppt/media/image13.wmf" ContentType="image/x-wmf"/>
  <Override PartName="/ppt/media/image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FA22-656E-42A1-9095-DB9A10D2A11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1230.org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初中数学资源网 收集整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38B7-1CD8-4C63-9DBF-77ECEE688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1A93-C3A7-4698-85C4-44F15657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ED7D-BF23-42B2-A808-8FF96D1B6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3BF9-9F75-44C0-93C7-AB0B27FF4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0502-2057-44CE-B963-2DF3DAC4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A331-DBFF-4BA8-B9DB-F0A3B4C2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5C74-D3E9-4FDD-BC9C-B35AEC2C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AF64-AC76-40FB-A851-5892F39D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243E-4465-47D8-AACA-BFCA6A2D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20B0-3A31-4A74-A7EB-6ED575A8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5E20-3C92-41BF-BA21-EE43AD6D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B2D7-28A0-4CC2-AA36-1084017A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f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989C-959C-424B-A3A1-A3E3BC1132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f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340000" y="2421000"/>
            <a:ext cx="5410080" cy="533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4.3.1 </a:t>
            </a: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角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f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267080" y="2119320"/>
            <a:ext cx="1752840" cy="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195800" y="1916280"/>
            <a:ext cx="1888920" cy="21744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284720" y="1773000"/>
            <a:ext cx="1800000" cy="34596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267080" y="1484280"/>
            <a:ext cx="1600200" cy="63504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267080" y="1052280"/>
            <a:ext cx="1241640" cy="10666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282920" y="620280"/>
            <a:ext cx="720720" cy="15130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3779640" y="549000"/>
            <a:ext cx="487080" cy="156996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2842920" y="907560"/>
            <a:ext cx="1423800" cy="121140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2268360" y="1773000"/>
            <a:ext cx="1981440" cy="36036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2411280" y="2133720"/>
            <a:ext cx="1825920" cy="36036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2555640" y="2119320"/>
            <a:ext cx="1711080" cy="94932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2916360" y="2119320"/>
            <a:ext cx="1350720" cy="123840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203640" y="2119320"/>
            <a:ext cx="1063440" cy="167004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708360" y="2119320"/>
            <a:ext cx="558720" cy="174132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4211640" y="2119320"/>
            <a:ext cx="55440" cy="181440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267080" y="2119320"/>
            <a:ext cx="376200" cy="167004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267080" y="2119320"/>
            <a:ext cx="736560" cy="159696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267080" y="2119320"/>
            <a:ext cx="1096920" cy="145404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267080" y="2119320"/>
            <a:ext cx="1312920" cy="123840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67080" y="2119320"/>
            <a:ext cx="1524240" cy="8380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67080" y="2119320"/>
            <a:ext cx="1600200" cy="45720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267080" y="2119320"/>
            <a:ext cx="1676520" cy="30492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67080" y="2119320"/>
            <a:ext cx="1752840" cy="152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67080" y="2119320"/>
            <a:ext cx="1752840" cy="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 flipV="1" rot="16200000">
            <a:off x="3848040" y="1699560"/>
            <a:ext cx="837720" cy="761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990" y="66"/>
                </a:moveTo>
                <a:arcTo wR="10800" hR="10800" stAng="-5020509" swAng="21290882"/>
                <a:lnTo>
                  <a:pt x="10800" y="10800"/>
                </a:lnTo>
                <a:close/>
              </a:path>
              <a:path fill="none" w="21600" h="21600">
                <a:moveTo>
                  <a:pt x="11990" y="66"/>
                </a:moveTo>
                <a:arcTo wR="10800" hR="10800" stAng="-5020509" swAng="21290882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1600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638680" y="16621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791320" y="1967040"/>
            <a:ext cx="158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4000" y="378468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00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当终边旋转到与始边重合时，所成的角叫做         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80680" y="2286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周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362680" y="4508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周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4" dur="1" fill="hold">
                                    <p:stCondLst>
                                      <p:cond evt="end">
                                        <p:tn val="591"/>
                                      </p:cond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9" dur="1" fill="hold">
                                    <p:stCondLst>
                                      <p:cond evt="end">
                                        <p:tn val="596"/>
                                      </p:cond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4" dur="1" fill="hold">
                                    <p:stCondLst>
                                      <p:cond evt="end">
                                        <p:tn val="601"/>
                                      </p:cond>
                                    </p:stCondLst>
                                  </p:cTn>
                                  <p:tgtEl>
                                    <p:spTgt spid="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500"/>
                            </p:stCondLst>
                            <p:childTnLst>
                              <p:par>
                                <p:cTn id="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9" dur="1" fill="hold">
                                    <p:stCondLst>
                                      <p:cond evt="end">
                                        <p:tn val="606"/>
                                      </p:cond>
                                    </p:stCondLst>
                                  </p:cTn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4" dur="1" fill="hold">
                                    <p:stCondLst>
                                      <p:cond evt="end">
                                        <p:tn val="611"/>
                                      </p:cond>
                                    </p:stCondLst>
                                  </p:cTn>
                                  <p:tgtEl>
                                    <p:spTgt spid="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500"/>
                            </p:stCondLst>
                            <p:childTnLst>
                              <p:par>
                                <p:cTn id="6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9" dur="1" fill="hold">
                                    <p:stCondLst>
                                      <p:cond evt="end">
                                        <p:tn val="616"/>
                                      </p:cond>
                                    </p:stCondLst>
                                  </p:cTn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3000"/>
                            </p:stCondLst>
                            <p:childTnLst>
                              <p:par>
                                <p:cTn id="6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24" dur="1" fill="hold">
                                    <p:stCondLst>
                                      <p:cond evt="end">
                                        <p:tn val="621"/>
                                      </p:cond>
                                    </p:stCondLst>
                                  </p:cTn>
                                  <p:tgtEl>
                                    <p:spTgt spid="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3500"/>
                            </p:stCondLst>
                            <p:childTnLst>
                              <p:par>
                                <p:cTn id="6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29" dur="1" fill="hold">
                                    <p:stCondLst>
                                      <p:cond evt="end">
                                        <p:tn val="626"/>
                                      </p:cond>
                                    </p:stCondLst>
                                  </p:cTn>
                                  <p:tgtEl>
                                    <p:spTgt spid="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4000"/>
                            </p:stCondLst>
                            <p:childTnLst>
                              <p:par>
                                <p:cTn id="6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4" dur="1" fill="hold">
                                    <p:stCondLst>
                                      <p:cond evt="end">
                                        <p:tn val="631"/>
                                      </p:cond>
                                    </p:stCondLst>
                                  </p:cTn>
                                  <p:tgtEl>
                                    <p:spTgt spid="2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4500"/>
                            </p:stCondLst>
                            <p:childTnLst>
                              <p:par>
                                <p:cTn id="6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9" dur="1" fill="hold">
                                    <p:stCondLst>
                                      <p:cond evt="end">
                                        <p:tn val="636"/>
                                      </p:cond>
                                    </p:stCondLst>
                                  </p:cTn>
                                  <p:tgtEl>
                                    <p:spTgt spid="2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0"/>
                            </p:stCondLst>
                            <p:childTnLst>
                              <p:par>
                                <p:cTn id="6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4" dur="1" fill="hold">
                                    <p:stCondLst>
                                      <p:cond evt="end">
                                        <p:tn val="641"/>
                                      </p:cond>
                                    </p:stCondLst>
                                  </p:cTn>
                                  <p:tgtEl>
                                    <p:spTgt spid="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550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9" dur="1" fill="hold">
                                    <p:stCondLst>
                                      <p:cond evt="end">
                                        <p:tn val="646"/>
                                      </p:cond>
                                    </p:stCondLst>
                                  </p:cTn>
                                  <p:tgtEl>
                                    <p:spTgt spid="2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6000"/>
                            </p:stCondLst>
                            <p:childTnLst>
                              <p:par>
                                <p:cTn id="6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4" dur="1" fill="hold">
                                    <p:stCondLst>
                                      <p:cond evt="end">
                                        <p:tn val="651"/>
                                      </p:cond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6500"/>
                            </p:stCondLst>
                            <p:childTnLst>
                              <p:par>
                                <p:cTn id="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9" dur="1" fill="hold">
                                    <p:stCondLst>
                                      <p:cond evt="end">
                                        <p:tn val="656"/>
                                      </p:cond>
                                    </p:stCondLst>
                                  </p:cTn>
                                  <p:tgtEl>
                                    <p:spTgt spid="2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7000"/>
                            </p:stCondLst>
                            <p:childTnLst>
                              <p:par>
                                <p:cTn id="6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4" dur="1" fill="hold">
                                    <p:stCondLst>
                                      <p:cond evt="end">
                                        <p:tn val="661"/>
                                      </p:cond>
                                    </p:stCondLst>
                                  </p:cTn>
                                  <p:tgtEl>
                                    <p:spTgt spid="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7500"/>
                            </p:stCondLst>
                            <p:childTnLst>
                              <p:par>
                                <p:cTn id="6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9" dur="1" fill="hold">
                                    <p:stCondLst>
                                      <p:cond evt="end">
                                        <p:tn val="666"/>
                                      </p:cond>
                                    </p:stCondLst>
                                  </p:cTn>
                                  <p:tgtEl>
                                    <p:spTgt spid="2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8000"/>
                            </p:stCondLst>
                            <p:childTnLst>
                              <p:par>
                                <p:cTn id="6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4" dur="1" fill="hold">
                                    <p:stCondLst>
                                      <p:cond evt="end">
                                        <p:tn val="671"/>
                                      </p:cond>
                                    </p:stCondLst>
                                  </p:cTn>
                                  <p:tgtEl>
                                    <p:spTgt spid="2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8500"/>
                            </p:stCondLst>
                            <p:childTnLst>
                              <p:par>
                                <p:cTn id="6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9" dur="1" fill="hold">
                                    <p:stCondLst>
                                      <p:cond evt="end">
                                        <p:tn val="676"/>
                                      </p:cond>
                                    </p:stCondLst>
                                  </p:cTn>
                                  <p:tgtEl>
                                    <p:spTgt spid="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9000"/>
                            </p:stCondLst>
                            <p:childTnLst>
                              <p:par>
                                <p:cTn id="6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4" dur="1" fill="hold">
                                    <p:stCondLst>
                                      <p:cond evt="end">
                                        <p:tn val="681"/>
                                      </p:cond>
                                    </p:stCondLst>
                                  </p:cTn>
                                  <p:tgtEl>
                                    <p:spTgt spid="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9500"/>
                            </p:stCondLst>
                            <p:childTnLst>
                              <p:par>
                                <p:cTn id="6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9" dur="1" fill="hold">
                                    <p:stCondLst>
                                      <p:cond evt="end">
                                        <p:tn val="686"/>
                                      </p:cond>
                                    </p:stCondLst>
                                  </p:cTn>
                                  <p:tgtEl>
                                    <p:spTgt spid="2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4" dur="1" fill="hold">
                                    <p:stCondLst>
                                      <p:cond evt="end">
                                        <p:tn val="691"/>
                                      </p:cond>
                                    </p:stCondLst>
                                  </p:cTn>
                                  <p:tgtEl>
                                    <p:spTgt spid="2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0500"/>
                            </p:stCondLst>
                            <p:childTnLst>
                              <p:par>
                                <p:cTn id="6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9" dur="1" fill="hold">
                                    <p:stCondLst>
                                      <p:cond evt="end">
                                        <p:tn val="696"/>
                                      </p:cond>
                                    </p:stCondLst>
                                  </p:cTn>
                                  <p:tgtEl>
                                    <p:spTgt spid="2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1000"/>
                            </p:stCondLst>
                            <p:childTnLst>
                              <p:par>
                                <p:cTn id="7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4" dur="1" fill="hold">
                                    <p:stCondLst>
                                      <p:cond evt="end">
                                        <p:tn val="701"/>
                                      </p:cond>
                                    </p:stCondLst>
                                  </p:cTn>
                                  <p:tgtEl>
                                    <p:spTgt spid="2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1500"/>
                            </p:stCondLst>
                            <p:childTnLst>
                              <p:par>
                                <p:cTn id="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2000"/>
                            </p:stCondLst>
                            <p:childTnLst>
                              <p:par>
                                <p:cTn id="70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f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2265840" y="1267920"/>
            <a:ext cx="794556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角的度量单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95280" y="30682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2929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292929"/>
                </a:solidFill>
                <a:latin typeface="黑体"/>
                <a:ea typeface="黑体"/>
              </a:rPr>
              <a:t>1°=60 ′=3600 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755640" y="3789360"/>
            <a:ext cx="8785080" cy="26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黑体"/>
                <a:ea typeface="黑体"/>
              </a:rPr>
              <a:t>例：</a:t>
            </a: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5°</a:t>
            </a: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＝</a:t>
            </a:r>
            <a:r>
              <a:rPr b="1" lang="zh-CN" sz="2800" spc="-1" strike="noStrike" u="sng">
                <a:solidFill>
                  <a:srgbClr val="993300"/>
                </a:solidFill>
                <a:uFillTx/>
                <a:latin typeface="黑体"/>
                <a:ea typeface="黑体"/>
              </a:rPr>
              <a:t>　　　</a:t>
            </a: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′＝</a:t>
            </a:r>
            <a:r>
              <a:rPr b="1" lang="zh-CN" sz="2800" spc="-1" strike="noStrike" u="sng">
                <a:solidFill>
                  <a:srgbClr val="993300"/>
                </a:solidFill>
                <a:uFillTx/>
                <a:latin typeface="黑体"/>
                <a:ea typeface="黑体"/>
              </a:rPr>
              <a:t>　 　　</a:t>
            </a: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″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38.15°</a:t>
            </a: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＝</a:t>
            </a:r>
            <a:r>
              <a:rPr b="1" lang="zh-CN" sz="2800" spc="-1" strike="noStrike" u="sng">
                <a:solidFill>
                  <a:srgbClr val="993300"/>
                </a:solidFill>
                <a:uFillTx/>
                <a:latin typeface="黑体"/>
                <a:ea typeface="黑体"/>
              </a:rPr>
              <a:t>　　　</a:t>
            </a: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°</a:t>
            </a:r>
            <a:r>
              <a:rPr b="1" lang="zh-CN" sz="2800" spc="-1" strike="noStrike" u="sng">
                <a:solidFill>
                  <a:srgbClr val="993300"/>
                </a:solidFill>
                <a:uFillTx/>
                <a:latin typeface="黑体"/>
                <a:ea typeface="黑体"/>
              </a:rPr>
              <a:t>　　　</a:t>
            </a: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′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36″</a:t>
            </a: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＝</a:t>
            </a:r>
            <a:r>
              <a:rPr b="1" lang="zh-CN" sz="2800" spc="-1" strike="noStrike" u="sng">
                <a:solidFill>
                  <a:srgbClr val="993300"/>
                </a:solidFill>
                <a:uFillTx/>
                <a:latin typeface="黑体"/>
                <a:ea typeface="黑体"/>
              </a:rPr>
              <a:t>　　　</a:t>
            </a: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′</a:t>
            </a: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=</a:t>
            </a:r>
            <a:r>
              <a:rPr b="1" lang="zh-CN" sz="2800" spc="-1" strike="noStrike" u="sng">
                <a:solidFill>
                  <a:srgbClr val="993300"/>
                </a:solidFill>
                <a:uFillTx/>
                <a:latin typeface="黑体"/>
                <a:ea typeface="黑体"/>
              </a:rPr>
              <a:t>　　　</a:t>
            </a: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38°15′</a:t>
            </a: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＝</a:t>
            </a:r>
            <a:r>
              <a:rPr b="1" lang="zh-CN" sz="2800" spc="-1" strike="noStrike" u="sng">
                <a:solidFill>
                  <a:srgbClr val="993300"/>
                </a:solidFill>
                <a:uFillTx/>
                <a:latin typeface="黑体"/>
                <a:ea typeface="黑体"/>
              </a:rPr>
              <a:t>　　　　</a:t>
            </a: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3059280" y="126828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度，分，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1884240" y="1916280"/>
            <a:ext cx="557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黑体"/>
                <a:ea typeface="黑体"/>
              </a:rPr>
              <a:t>1°</a:t>
            </a:r>
            <a:r>
              <a:rPr b="1" lang="zh-CN" sz="2800" spc="-1" strike="noStrike">
                <a:solidFill>
                  <a:srgbClr val="292929"/>
                </a:solidFill>
                <a:latin typeface="黑体"/>
                <a:ea typeface="黑体"/>
              </a:rPr>
              <a:t>的</a:t>
            </a:r>
            <a:r>
              <a:rPr b="1" lang="zh-CN" sz="2800" spc="-1" strike="noStrike">
                <a:solidFill>
                  <a:srgbClr val="292929"/>
                </a:solidFill>
                <a:latin typeface="黑体"/>
                <a:ea typeface="黑体"/>
              </a:rPr>
              <a:t>60</a:t>
            </a:r>
            <a:r>
              <a:rPr b="1" lang="zh-CN" sz="2800" spc="-1" strike="noStrike">
                <a:solidFill>
                  <a:srgbClr val="292929"/>
                </a:solidFill>
                <a:latin typeface="黑体"/>
                <a:ea typeface="黑体"/>
              </a:rPr>
              <a:t>分之一为</a:t>
            </a:r>
            <a:r>
              <a:rPr b="1" lang="zh-CN" sz="2800" spc="-1" strike="noStrike">
                <a:solidFill>
                  <a:srgbClr val="29292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292929"/>
                </a:solidFill>
                <a:latin typeface="黑体"/>
                <a:ea typeface="黑体"/>
              </a:rPr>
              <a:t>分，记作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1′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292929"/>
                </a:solidFill>
                <a:latin typeface="黑体"/>
                <a:ea typeface="黑体"/>
              </a:rPr>
              <a:t>，即</a:t>
            </a:r>
            <a:r>
              <a:rPr b="1" lang="zh-CN" sz="2800" spc="-1" strike="noStrike">
                <a:solidFill>
                  <a:srgbClr val="292929"/>
                </a:solidFill>
                <a:latin typeface="黑体"/>
                <a:ea typeface="黑体"/>
              </a:rPr>
              <a:t>1°</a:t>
            </a:r>
            <a:r>
              <a:rPr b="1" lang="zh-CN" sz="2800" spc="-1" strike="noStrike">
                <a:solidFill>
                  <a:srgbClr val="292929"/>
                </a:solidFill>
                <a:latin typeface="黑体"/>
                <a:ea typeface="黑体"/>
              </a:rPr>
              <a:t>＝</a:t>
            </a:r>
            <a:r>
              <a:rPr b="1" lang="zh-CN" sz="2800" spc="-1" strike="noStrike">
                <a:solidFill>
                  <a:srgbClr val="292929"/>
                </a:solidFill>
                <a:latin typeface="黑体"/>
                <a:ea typeface="黑体"/>
              </a:rPr>
              <a:t>60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1850400" y="2492280"/>
            <a:ext cx="56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黑体"/>
                <a:ea typeface="黑体"/>
              </a:rPr>
              <a:t>1′</a:t>
            </a:r>
            <a:r>
              <a:rPr b="1" lang="zh-CN" sz="2800" spc="-1" strike="noStrike">
                <a:solidFill>
                  <a:srgbClr val="292929"/>
                </a:solidFill>
                <a:latin typeface="黑体"/>
                <a:ea typeface="黑体"/>
              </a:rPr>
              <a:t>的</a:t>
            </a:r>
            <a:r>
              <a:rPr b="1" lang="zh-CN" sz="2800" spc="-1" strike="noStrike">
                <a:solidFill>
                  <a:srgbClr val="292929"/>
                </a:solidFill>
                <a:latin typeface="黑体"/>
                <a:ea typeface="黑体"/>
              </a:rPr>
              <a:t>60</a:t>
            </a:r>
            <a:r>
              <a:rPr b="1" lang="zh-CN" sz="2800" spc="-1" strike="noStrike">
                <a:solidFill>
                  <a:srgbClr val="292929"/>
                </a:solidFill>
                <a:latin typeface="黑体"/>
                <a:ea typeface="黑体"/>
              </a:rPr>
              <a:t>分之一为</a:t>
            </a:r>
            <a:r>
              <a:rPr b="1" lang="zh-CN" sz="2800" spc="-1" strike="noStrike">
                <a:solidFill>
                  <a:srgbClr val="29292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292929"/>
                </a:solidFill>
                <a:latin typeface="黑体"/>
                <a:ea typeface="黑体"/>
              </a:rPr>
              <a:t>秒，记作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1″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292929"/>
                </a:solidFill>
                <a:latin typeface="黑体"/>
                <a:ea typeface="黑体"/>
              </a:rPr>
              <a:t>，即</a:t>
            </a:r>
            <a:r>
              <a:rPr b="1" lang="zh-CN" sz="2800" spc="-1" strike="noStrike">
                <a:solidFill>
                  <a:srgbClr val="292929"/>
                </a:solidFill>
                <a:latin typeface="黑体"/>
                <a:ea typeface="黑体"/>
              </a:rPr>
              <a:t>1′</a:t>
            </a:r>
            <a:r>
              <a:rPr b="1" lang="zh-CN" sz="2800" spc="-1" strike="noStrike">
                <a:solidFill>
                  <a:srgbClr val="292929"/>
                </a:solidFill>
                <a:latin typeface="黑体"/>
                <a:ea typeface="黑体"/>
              </a:rPr>
              <a:t>＝</a:t>
            </a:r>
            <a:r>
              <a:rPr b="1" lang="zh-CN" sz="2800" spc="-1" strike="noStrike">
                <a:solidFill>
                  <a:srgbClr val="292929"/>
                </a:solidFill>
                <a:latin typeface="黑体"/>
                <a:ea typeface="黑体"/>
              </a:rPr>
              <a:t>60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8"/>
          <p:cNvSpPr/>
          <p:nvPr/>
        </p:nvSpPr>
        <p:spPr>
          <a:xfrm>
            <a:off x="0" y="476280"/>
            <a:ext cx="34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黑体"/>
              </a:rPr>
              <a:t>角的度量工具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9"/>
          <p:cNvSpPr/>
          <p:nvPr/>
        </p:nvSpPr>
        <p:spPr>
          <a:xfrm>
            <a:off x="2987640" y="476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黑体"/>
              </a:rPr>
              <a:t>量角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2700360" y="400536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1"/>
          <p:cNvSpPr/>
          <p:nvPr/>
        </p:nvSpPr>
        <p:spPr>
          <a:xfrm>
            <a:off x="4574880" y="38606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92929"/>
                </a:solidFill>
                <a:latin typeface="Arial"/>
                <a:ea typeface="黑体"/>
              </a:rPr>
              <a:t>1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3688920" y="4437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92929"/>
                </a:solidFill>
                <a:latin typeface="黑体"/>
                <a:ea typeface="黑体"/>
              </a:rPr>
              <a:t>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5104080" y="44370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92929"/>
                </a:solidFill>
                <a:latin typeface="黑体"/>
                <a:ea typeface="黑体"/>
              </a:rPr>
              <a:t>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4"/>
          <p:cNvSpPr/>
          <p:nvPr/>
        </p:nvSpPr>
        <p:spPr>
          <a:xfrm>
            <a:off x="2916360" y="4941720"/>
            <a:ext cx="9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92929"/>
                </a:solidFill>
                <a:latin typeface="黑体"/>
                <a:ea typeface="黑体"/>
              </a:rPr>
              <a:t>0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5"/>
          <p:cNvSpPr/>
          <p:nvPr/>
        </p:nvSpPr>
        <p:spPr>
          <a:xfrm>
            <a:off x="4361760" y="49417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92929"/>
                </a:solidFill>
                <a:latin typeface="黑体"/>
                <a:ea typeface="黑体"/>
              </a:rPr>
              <a:t>0.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6"/>
          <p:cNvSpPr/>
          <p:nvPr/>
        </p:nvSpPr>
        <p:spPr>
          <a:xfrm>
            <a:off x="3415320" y="544500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92929"/>
                </a:solidFill>
                <a:latin typeface="黑体"/>
                <a:ea typeface="黑体"/>
              </a:rPr>
              <a:t>38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333360"/>
            <a:ext cx="3276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以度，分，秒为单位的角的度量制叫做角度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3048120" y="503280"/>
            <a:ext cx="2319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66"/>
                  </a:solidFill>
                  <a:miter/>
                </a:ln>
                <a:solidFill>
                  <a:srgbClr val="00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盘点收获</a:t>
            </a:r>
            <a:endParaRPr b="0" lang="en-US" sz="1800" spc="1" strike="noStrike">
              <a:ln w="12600">
                <a:solidFill>
                  <a:srgbClr val="000066"/>
                </a:solidFill>
                <a:miter/>
              </a:ln>
              <a:solidFill>
                <a:srgbClr val="00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02" name=""/>
          <p:cNvSpPr/>
          <p:nvPr/>
        </p:nvSpPr>
        <p:spPr>
          <a:xfrm>
            <a:off x="1692360" y="1630440"/>
            <a:ext cx="7086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角的两种定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692360" y="256212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角的四种表示方法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65360" y="3641760"/>
            <a:ext cx="528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平角、周角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9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f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 rot="21590400">
            <a:off x="2700360" y="115920"/>
            <a:ext cx="3027240" cy="8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达标检测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06" name=""/>
          <p:cNvSpPr/>
          <p:nvPr/>
        </p:nvSpPr>
        <p:spPr>
          <a:xfrm>
            <a:off x="2133000" y="941400"/>
            <a:ext cx="421776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选择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下列语句正确的是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A.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两条直线相交，组成的图形叫做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B.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两条有公共端点的线段组成的图形叫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C.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两条有公共点的射线组成的图形叫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D.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从同一点引出的两条射线组成的图形叫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下列说法正确的是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A.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平角是一条直线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B.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一条射线是一个周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C.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两条射线组成的图形叫做角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D.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两边成一直线的角是平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439160" y="141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464720" y="4003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f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971640" y="765000"/>
            <a:ext cx="770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如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(1)</a:t>
            </a:r>
            <a:r>
              <a:rPr b="0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用三个大写字母表示角</a:t>
            </a:r>
            <a:r>
              <a:rPr b="0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 ∠</a:t>
            </a:r>
            <a:r>
              <a:rPr b="0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为</a:t>
            </a:r>
            <a:r>
              <a:rPr b="0" lang="zh-CN" sz="3200" spc="-1" strike="noStrike" u="sng">
                <a:solidFill>
                  <a:srgbClr val="0000cc"/>
                </a:solidFill>
                <a:uFillTx/>
                <a:latin typeface="黑体"/>
                <a:ea typeface="黑体"/>
              </a:rPr>
              <a:t>　             </a:t>
            </a:r>
            <a:r>
              <a:rPr b="0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 ∠</a:t>
            </a:r>
            <a:r>
              <a:rPr b="0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为</a:t>
            </a:r>
            <a:r>
              <a:rPr b="0" lang="zh-CN" sz="3200" spc="-1" strike="noStrike" u="sng">
                <a:solidFill>
                  <a:srgbClr val="0000cc"/>
                </a:solidFill>
                <a:uFillTx/>
                <a:latin typeface="黑体"/>
                <a:ea typeface="黑体"/>
              </a:rPr>
              <a:t>　          　 </a:t>
            </a:r>
            <a:r>
              <a:rPr b="0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 ∠</a:t>
            </a:r>
            <a:r>
              <a:rPr b="0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为</a:t>
            </a:r>
            <a:r>
              <a:rPr b="0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(2)</a:t>
            </a:r>
            <a:r>
              <a:rPr b="0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可以用一个大写字母表示的角是</a:t>
            </a:r>
            <a:r>
              <a:rPr b="0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2340000" y="4165560"/>
            <a:ext cx="4103640" cy="21430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2195640" y="1700280"/>
            <a:ext cx="31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ED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E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340000" y="21891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DB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或∠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D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340000" y="27655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24000" y="370188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D 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f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81296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4000" y="3333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选  做  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1640" y="393840"/>
            <a:ext cx="63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）如图∠</a:t>
            </a: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AOB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内部画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条射线，问图中一共有多少个角？如果是画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条、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条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56000" y="2481120"/>
            <a:ext cx="63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）∠</a:t>
            </a: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AOB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内部画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99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条射线，问图中一共有多少个角？如果是（</a:t>
            </a: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-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）条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0"/>
            <a:ext cx="2771640" cy="1125360"/>
          </a:xfrm>
          <a:prstGeom prst="wedgeRoundRectCallout">
            <a:avLst>
              <a:gd name="adj1" fmla="val -44671"/>
              <a:gd name="adj2" fmla="val 74541"/>
              <a:gd name="adj3" fmla="val 16667"/>
            </a:avLst>
          </a:prstGeom>
          <a:noFill/>
          <a:ln w="38160">
            <a:solidFill>
              <a:srgbClr val="c606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79280" y="2781360"/>
            <a:ext cx="2442600" cy="2501640"/>
            <a:chOff x="179280" y="2781360"/>
            <a:chExt cx="2442600" cy="2501640"/>
          </a:xfrm>
        </p:grpSpPr>
        <p:sp>
          <p:nvSpPr>
            <p:cNvPr id="321" name=""/>
            <p:cNvSpPr/>
            <p:nvPr/>
          </p:nvSpPr>
          <p:spPr>
            <a:xfrm flipV="1">
              <a:off x="560520" y="3085920"/>
              <a:ext cx="1218960" cy="1371600"/>
            </a:xfrm>
            <a:prstGeom prst="line">
              <a:avLst/>
            </a:prstGeom>
            <a:ln w="38160">
              <a:solidFill>
                <a:srgbClr val="c606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60520" y="4457520"/>
              <a:ext cx="1676160" cy="0"/>
            </a:xfrm>
            <a:prstGeom prst="line">
              <a:avLst/>
            </a:prstGeom>
            <a:ln w="38160">
              <a:solidFill>
                <a:srgbClr val="c606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22280" y="2781360"/>
              <a:ext cx="685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79280" y="4457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238480" y="4457520"/>
              <a:ext cx="383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5280" y="3754440"/>
            <a:ext cx="7543800" cy="3103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523880" y="3049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Times New Roman"/>
              </a:rPr>
              <a:t>观察下面实物，你发现这些实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有什么相同图形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 rot="5400000">
            <a:off x="-762120" y="220968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生活中的图形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392120"/>
            <a:ext cx="8172360" cy="28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4267080"/>
            <a:ext cx="2482920" cy="1764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191120" y="914400"/>
            <a:ext cx="1901880" cy="2759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438280" y="1143000"/>
            <a:ext cx="1597320" cy="2325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04920" y="1371600"/>
            <a:ext cx="1871640" cy="1862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5791320" y="3581280"/>
            <a:ext cx="2290680" cy="2793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971800" y="4038480"/>
            <a:ext cx="2666880" cy="1979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5943600" y="1066680"/>
            <a:ext cx="2819520" cy="211464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914400" y="2022480"/>
            <a:ext cx="762120" cy="263520"/>
            <a:chOff x="914400" y="2022480"/>
            <a:chExt cx="762120" cy="263520"/>
          </a:xfrm>
        </p:grpSpPr>
        <p:sp>
          <p:nvSpPr>
            <p:cNvPr id="62" name=""/>
            <p:cNvSpPr/>
            <p:nvPr/>
          </p:nvSpPr>
          <p:spPr>
            <a:xfrm>
              <a:off x="914400" y="2057400"/>
              <a:ext cx="380880" cy="219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1219320" y="2022480"/>
              <a:ext cx="457200" cy="26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3200400" y="1447920"/>
            <a:ext cx="762120" cy="838080"/>
            <a:chOff x="3200400" y="1447920"/>
            <a:chExt cx="762120" cy="838080"/>
          </a:xfrm>
        </p:grpSpPr>
        <p:sp>
          <p:nvSpPr>
            <p:cNvPr id="65" name=""/>
            <p:cNvSpPr/>
            <p:nvPr/>
          </p:nvSpPr>
          <p:spPr>
            <a:xfrm flipV="1">
              <a:off x="3200400" y="1447920"/>
              <a:ext cx="228600" cy="838080"/>
            </a:xfrm>
            <a:prstGeom prst="line">
              <a:avLst/>
            </a:prstGeom>
            <a:ln w="3816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3200400" y="1676160"/>
              <a:ext cx="762120" cy="609480"/>
            </a:xfrm>
            <a:prstGeom prst="line">
              <a:avLst/>
            </a:prstGeom>
            <a:ln w="3816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4800240" y="1600200"/>
            <a:ext cx="838440" cy="1600200"/>
            <a:chOff x="4800240" y="1600200"/>
            <a:chExt cx="838440" cy="1600200"/>
          </a:xfrm>
        </p:grpSpPr>
        <p:sp>
          <p:nvSpPr>
            <p:cNvPr id="68" name=""/>
            <p:cNvSpPr/>
            <p:nvPr/>
          </p:nvSpPr>
          <p:spPr>
            <a:xfrm flipH="1">
              <a:off x="4800240" y="1600200"/>
              <a:ext cx="228600" cy="16002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029200" y="1600200"/>
              <a:ext cx="609480" cy="15238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6084720" y="1773360"/>
            <a:ext cx="2447640" cy="791640"/>
            <a:chOff x="6084720" y="1773360"/>
            <a:chExt cx="2447640" cy="791640"/>
          </a:xfrm>
        </p:grpSpPr>
        <p:sp>
          <p:nvSpPr>
            <p:cNvPr id="71" name=""/>
            <p:cNvSpPr/>
            <p:nvPr/>
          </p:nvSpPr>
          <p:spPr>
            <a:xfrm flipH="1">
              <a:off x="6084720" y="1773360"/>
              <a:ext cx="748800" cy="71136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11560" y="1775160"/>
              <a:ext cx="1720800" cy="78984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676520" y="4723920"/>
            <a:ext cx="685800" cy="838440"/>
            <a:chOff x="1676520" y="4723920"/>
            <a:chExt cx="685800" cy="838440"/>
          </a:xfrm>
        </p:grpSpPr>
        <p:sp>
          <p:nvSpPr>
            <p:cNvPr id="74" name=""/>
            <p:cNvSpPr/>
            <p:nvPr/>
          </p:nvSpPr>
          <p:spPr>
            <a:xfrm flipV="1">
              <a:off x="1676520" y="4876560"/>
              <a:ext cx="6858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1676520" y="4723920"/>
              <a:ext cx="0" cy="838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3428640" y="4724280"/>
            <a:ext cx="1752840" cy="381240"/>
            <a:chOff x="3428640" y="4724280"/>
            <a:chExt cx="1752840" cy="381240"/>
          </a:xfrm>
        </p:grpSpPr>
        <p:sp>
          <p:nvSpPr>
            <p:cNvPr id="77" name=""/>
            <p:cNvSpPr/>
            <p:nvPr/>
          </p:nvSpPr>
          <p:spPr>
            <a:xfrm flipH="1">
              <a:off x="3428640" y="4724280"/>
              <a:ext cx="685800" cy="3812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114800" y="4724280"/>
              <a:ext cx="1066680" cy="2858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6553080" y="5181480"/>
            <a:ext cx="838440" cy="1143000"/>
            <a:chOff x="6553080" y="5181480"/>
            <a:chExt cx="838440" cy="1143000"/>
          </a:xfrm>
        </p:grpSpPr>
        <p:sp>
          <p:nvSpPr>
            <p:cNvPr id="80" name=""/>
            <p:cNvSpPr/>
            <p:nvPr/>
          </p:nvSpPr>
          <p:spPr>
            <a:xfrm>
              <a:off x="6553080" y="5181480"/>
              <a:ext cx="838440" cy="30492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6858000" y="5486400"/>
              <a:ext cx="533520" cy="83808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f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 flipV="1">
            <a:off x="1779840" y="1703520"/>
            <a:ext cx="2584080" cy="4329720"/>
          </a:xfrm>
          <a:prstGeom prst="line">
            <a:avLst/>
          </a:prstGeom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731960" y="5989680"/>
            <a:ext cx="6585120" cy="107640"/>
            <a:chOff x="1731960" y="5989680"/>
            <a:chExt cx="6585120" cy="107640"/>
          </a:xfrm>
        </p:grpSpPr>
        <p:sp>
          <p:nvSpPr>
            <p:cNvPr id="84" name=""/>
            <p:cNvSpPr/>
            <p:nvPr/>
          </p:nvSpPr>
          <p:spPr>
            <a:xfrm>
              <a:off x="1763640" y="6041880"/>
              <a:ext cx="6553440" cy="0"/>
            </a:xfrm>
            <a:prstGeom prst="line">
              <a:avLst/>
            </a:prstGeom>
            <a:ln w="442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731960" y="5989680"/>
              <a:ext cx="108000" cy="1076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2688840" y="907920"/>
            <a:ext cx="396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角是由有</a:t>
            </a:r>
            <a:r>
              <a:rPr b="1" lang="zh-CN" sz="3600" spc="-1" strike="noStrike">
                <a:solidFill>
                  <a:srgbClr val="f00000"/>
                </a:solidFill>
                <a:latin typeface="Arial"/>
                <a:ea typeface="隶书"/>
              </a:rPr>
              <a:t>公共端点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两条</a:t>
            </a:r>
            <a:r>
              <a:rPr b="1" lang="zh-CN" sz="3600" spc="-1" strike="noStrike">
                <a:solidFill>
                  <a:srgbClr val="f00000"/>
                </a:solidFill>
                <a:latin typeface="Arial"/>
                <a:ea typeface="隶书"/>
              </a:rPr>
              <a:t>射线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组成的图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11440" y="5952960"/>
            <a:ext cx="144360" cy="144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11440" y="595296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11440" y="5952960"/>
            <a:ext cx="144360" cy="144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11440" y="595296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11440" y="5954760"/>
            <a:ext cx="14436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11440" y="59547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11440" y="5954760"/>
            <a:ext cx="14436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11440" y="59547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46000" y="5878440"/>
            <a:ext cx="792360" cy="216000"/>
          </a:xfrm>
          <a:prstGeom prst="rightArrow">
            <a:avLst>
              <a:gd name="adj1" fmla="val 50000"/>
              <a:gd name="adj2" fmla="val 917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43400" y="5710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顶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59800" y="6040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射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8160" y="33051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射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24360" y="6089760"/>
            <a:ext cx="11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50920" y="330516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68560" y="5377320"/>
            <a:ext cx="1294920" cy="12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862" y="1260"/>
                </a:moveTo>
                <a:arcTo wR="10800" hR="10800" stAng="-3722986" swAng="3722986"/>
                <a:lnTo>
                  <a:pt x="10800" y="10800"/>
                </a:lnTo>
                <a:close/>
              </a:path>
              <a:path fill="none" w="21600" h="21600">
                <a:moveTo>
                  <a:pt x="15862" y="1260"/>
                </a:moveTo>
                <a:arcTo wR="10800" hR="10800" stAng="-3722986" swAng="3722986"/>
              </a:path>
            </a:pathLst>
          </a:custGeom>
          <a:noFill/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16000" y="115920"/>
            <a:ext cx="444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角的定义（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2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9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6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3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7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evt="end">
                                        <p:tn val="97"/>
                                      </p:cond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0" dur="1" fill="hold">
                                    <p:stCondLst>
                                      <p:cond delay="20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f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92200" y="47304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角的四种表示方法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7880" y="1450800"/>
            <a:ext cx="742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用三个大写字母表示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但表示</a:t>
            </a:r>
            <a:r>
              <a:rPr b="1" lang="zh-CN" sz="2800" spc="-1" strike="noStrike">
                <a:solidFill>
                  <a:srgbClr val="000066"/>
                </a:solidFill>
                <a:latin typeface="仿宋_GB2312"/>
                <a:ea typeface="仿宋_GB2312"/>
              </a:rPr>
              <a:t>顶点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字母一定写在</a:t>
            </a:r>
            <a:r>
              <a:rPr b="1" lang="zh-CN" sz="2800" spc="-1" strike="noStrike">
                <a:solidFill>
                  <a:srgbClr val="000066"/>
                </a:solidFill>
                <a:latin typeface="仿宋_GB2312"/>
                <a:ea typeface="仿宋_GB2312"/>
              </a:rPr>
              <a:t>中间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9560" y="2413080"/>
            <a:ext cx="796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用一个顶点的字母来表示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但必须是</a:t>
            </a:r>
            <a:r>
              <a:rPr b="1" lang="zh-CN" sz="2800" spc="-1" strike="noStrike" u="sng">
                <a:solidFill>
                  <a:srgbClr val="000066"/>
                </a:solidFill>
                <a:uFillTx/>
                <a:latin typeface="仿宋_GB2312"/>
                <a:ea typeface="仿宋_GB2312"/>
              </a:rPr>
              <a:t>以这个点为顶点的角只有一个</a:t>
            </a:r>
            <a:r>
              <a:rPr b="1" lang="zh-CN" sz="2800" spc="-1" strike="noStrike">
                <a:solidFill>
                  <a:srgbClr val="000066"/>
                </a:solidFill>
                <a:latin typeface="仿宋_GB2312"/>
                <a:ea typeface="仿宋_GB2312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25400" y="3351240"/>
            <a:ext cx="687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希腊字母表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并在靠近顶点处画上弧线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写上希腊字母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5120" y="4219560"/>
            <a:ext cx="714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一个数字表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在靠近顶点处画上弧线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写上数字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f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3276720" y="3860640"/>
            <a:ext cx="4174920" cy="2513520"/>
            <a:chOff x="3276720" y="3860640"/>
            <a:chExt cx="4174920" cy="2513520"/>
          </a:xfrm>
        </p:grpSpPr>
        <p:sp>
          <p:nvSpPr>
            <p:cNvPr id="109" name=""/>
            <p:cNvSpPr/>
            <p:nvPr/>
          </p:nvSpPr>
          <p:spPr>
            <a:xfrm>
              <a:off x="3853080" y="5854320"/>
              <a:ext cx="324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3853080" y="4047120"/>
              <a:ext cx="2160360" cy="180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76720" y="560304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16720" y="5792760"/>
              <a:ext cx="93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364360" y="386064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00720" y="4483800"/>
              <a:ext cx="64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22960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图中的角表示成下列形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①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PO      ②∠AOP      ③∠OP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④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O           ⑤∠COP       ⑥∠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中正确的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______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把你认为正确的序号都填上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练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71840" y="3068640"/>
            <a:ext cx="32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①       ③        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f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847800" y="2233440"/>
          <a:ext cx="7162560" cy="1235160"/>
        </p:xfrm>
        <a:graphic>
          <a:graphicData uri="http://schemas.openxmlformats.org/drawingml/2006/table">
            <a:tbl>
              <a:tblPr/>
              <a:tblGrid>
                <a:gridCol w="1431720"/>
                <a:gridCol w="1433520"/>
                <a:gridCol w="1432080"/>
                <a:gridCol w="1433520"/>
                <a:gridCol w="14317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 ∠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ff0066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ff0066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ff0066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ff0066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ff0066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ff0066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∠</a:t>
                      </a: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C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ff0066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∠</a:t>
                      </a: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B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ff0066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ff0066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∠</a:t>
                      </a: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B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ff0066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193680" y="1459080"/>
            <a:ext cx="887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将图中的角用不同方法表示出来，并填写下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24040" y="5514840"/>
            <a:ext cx="43941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728800" y="4066920"/>
            <a:ext cx="2703600" cy="14475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903920" y="4073400"/>
            <a:ext cx="536400" cy="144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70080" y="5362560"/>
            <a:ext cx="76320" cy="139680"/>
          </a:xfrm>
          <a:custGeom>
            <a:avLst/>
            <a:gdLst/>
            <a:ahLst/>
            <a:rect l="l" t="t" r="r" b="b"/>
            <a:pathLst>
              <a:path w="70" h="82">
                <a:moveTo>
                  <a:pt x="0" y="0"/>
                </a:moveTo>
                <a:cubicBezTo>
                  <a:pt x="36" y="24"/>
                  <a:pt x="50" y="44"/>
                  <a:pt x="70" y="82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75200" y="5286240"/>
            <a:ext cx="152280" cy="214560"/>
          </a:xfrm>
          <a:custGeom>
            <a:avLst/>
            <a:gdLst/>
            <a:ahLst/>
            <a:rect l="l" t="t" r="r" b="b"/>
            <a:pathLst>
              <a:path w="70" h="82">
                <a:moveTo>
                  <a:pt x="0" y="0"/>
                </a:moveTo>
                <a:cubicBezTo>
                  <a:pt x="36" y="24"/>
                  <a:pt x="50" y="44"/>
                  <a:pt x="70" y="82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12880" y="5362560"/>
            <a:ext cx="304920" cy="152280"/>
          </a:xfrm>
          <a:custGeom>
            <a:avLst/>
            <a:gdLst/>
            <a:ahLst/>
            <a:rect l="l" t="t" r="r" b="b"/>
            <a:pathLst>
              <a:path w="294" h="142">
                <a:moveTo>
                  <a:pt x="0" y="142"/>
                </a:moveTo>
                <a:cubicBezTo>
                  <a:pt x="16" y="118"/>
                  <a:pt x="23" y="87"/>
                  <a:pt x="47" y="71"/>
                </a:cubicBezTo>
                <a:cubicBezTo>
                  <a:pt x="153" y="0"/>
                  <a:pt x="89" y="26"/>
                  <a:pt x="247" y="13"/>
                </a:cubicBezTo>
                <a:cubicBezTo>
                  <a:pt x="291" y="27"/>
                  <a:pt x="277" y="13"/>
                  <a:pt x="294" y="48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20560800">
            <a:off x="4654440" y="5370120"/>
            <a:ext cx="311400" cy="101520"/>
          </a:xfrm>
          <a:custGeom>
            <a:avLst/>
            <a:gdLst/>
            <a:ahLst/>
            <a:rect l="l" t="t" r="r" b="b"/>
            <a:pathLst>
              <a:path w="294" h="142">
                <a:moveTo>
                  <a:pt x="0" y="142"/>
                </a:moveTo>
                <a:cubicBezTo>
                  <a:pt x="16" y="118"/>
                  <a:pt x="23" y="87"/>
                  <a:pt x="47" y="71"/>
                </a:cubicBezTo>
                <a:cubicBezTo>
                  <a:pt x="153" y="0"/>
                  <a:pt x="89" y="26"/>
                  <a:pt x="247" y="13"/>
                </a:cubicBezTo>
                <a:cubicBezTo>
                  <a:pt x="291" y="27"/>
                  <a:pt x="277" y="13"/>
                  <a:pt x="294" y="48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16240" y="50832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38640" y="49798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59400" y="38401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67160" y="55260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80960" y="5437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00520" y="5540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9120" y="54943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471920" y="4991040"/>
          <a:ext cx="41292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71920" y="4991040"/>
                    <a:ext cx="41292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2436840" y="4905360"/>
          <a:ext cx="447480" cy="54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6840" y="4905360"/>
                    <a:ext cx="44748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5234040" y="2828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14320" y="2828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86280" y="220356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435640" y="2247840"/>
            <a:ext cx="802800" cy="565200"/>
            <a:chOff x="5435640" y="2247840"/>
            <a:chExt cx="802800" cy="565200"/>
          </a:xfrm>
        </p:grpSpPr>
        <p:sp>
          <p:nvSpPr>
            <p:cNvPr id="142" name=""/>
            <p:cNvSpPr/>
            <p:nvPr/>
          </p:nvSpPr>
          <p:spPr>
            <a:xfrm>
              <a:off x="5435640" y="2247840"/>
              <a:ext cx="56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3" name=""/>
            <p:cNvGraphicFramePr/>
            <p:nvPr/>
          </p:nvGraphicFramePr>
          <p:xfrm>
            <a:off x="5790960" y="2263680"/>
            <a:ext cx="447480" cy="549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90960" y="2263680"/>
                      <a:ext cx="447480" cy="54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5" name=""/>
          <p:cNvGrpSpPr/>
          <p:nvPr/>
        </p:nvGrpSpPr>
        <p:grpSpPr>
          <a:xfrm>
            <a:off x="2602080" y="2255760"/>
            <a:ext cx="907920" cy="520560"/>
            <a:chOff x="2602080" y="2255760"/>
            <a:chExt cx="907920" cy="520560"/>
          </a:xfrm>
        </p:grpSpPr>
        <p:sp>
          <p:nvSpPr>
            <p:cNvPr id="146" name=""/>
            <p:cNvSpPr/>
            <p:nvPr/>
          </p:nvSpPr>
          <p:spPr>
            <a:xfrm>
              <a:off x="2602080" y="2255760"/>
              <a:ext cx="84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3097440" y="2360520"/>
            <a:ext cx="412560" cy="377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097440" y="2360520"/>
                      <a:ext cx="412560" cy="37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9" name=""/>
          <p:cNvSpPr/>
          <p:nvPr/>
        </p:nvSpPr>
        <p:spPr>
          <a:xfrm>
            <a:off x="6802560" y="2292480"/>
            <a:ext cx="103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f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2762280" y="6492960"/>
            <a:ext cx="6479640" cy="179280"/>
            <a:chOff x="2762280" y="6492960"/>
            <a:chExt cx="6479640" cy="179280"/>
          </a:xfrm>
        </p:grpSpPr>
        <p:sp>
          <p:nvSpPr>
            <p:cNvPr id="151" name=""/>
            <p:cNvSpPr/>
            <p:nvPr/>
          </p:nvSpPr>
          <p:spPr>
            <a:xfrm>
              <a:off x="2762280" y="6492960"/>
              <a:ext cx="179280" cy="179280"/>
            </a:xfrm>
            <a:prstGeom prst="ellipse">
              <a:avLst/>
            </a:prstGeom>
            <a:solidFill>
              <a:srgbClr val="ff0000"/>
            </a:solidFill>
            <a:ln w="31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33560" y="6564240"/>
              <a:ext cx="6408360" cy="71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 rot="21480000">
            <a:off x="2843280" y="643572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21360000">
            <a:off x="2838600" y="632412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21240000">
            <a:off x="2830320" y="621360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21120000">
            <a:off x="2817720" y="610236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21000000">
            <a:off x="2801880" y="599076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20880000">
            <a:off x="2781360" y="588168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0760000">
            <a:off x="2757240" y="577332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20640000">
            <a:off x="2730600" y="566532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520000">
            <a:off x="2698560" y="555912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20400000">
            <a:off x="2662200" y="545256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20280000">
            <a:off x="2623680" y="534996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20160000">
            <a:off x="2580840" y="524664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20040000">
            <a:off x="2534760" y="514620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19920000">
            <a:off x="2485800" y="504792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19800000">
            <a:off x="2431800" y="495000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9680000">
            <a:off x="2376000" y="485460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9560000">
            <a:off x="2315880" y="476208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9440000">
            <a:off x="2252520" y="467028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9320000">
            <a:off x="2185920" y="458316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9200000">
            <a:off x="2117880" y="449568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9080000">
            <a:off x="2044440" y="441288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8960000">
            <a:off x="1969560" y="4331880"/>
            <a:ext cx="640908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8840000">
            <a:off x="1890720" y="425268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8720000">
            <a:off x="1809360" y="417816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8600000">
            <a:off x="1727280" y="410544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8480000">
            <a:off x="1639800" y="403668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8360000">
            <a:off x="1552320" y="397044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8240000">
            <a:off x="1460520" y="390708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8120000">
            <a:off x="1368000" y="384624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8000000">
            <a:off x="1272960" y="379080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880000">
            <a:off x="1174680" y="373716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17760000">
            <a:off x="1076040" y="368784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7640000">
            <a:off x="975960" y="364140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7520000">
            <a:off x="873000" y="359856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7400000">
            <a:off x="770040" y="356040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17280000">
            <a:off x="663480" y="352404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7160000">
            <a:off x="556920" y="349272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7040000">
            <a:off x="449280" y="346572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6920000">
            <a:off x="341280" y="3441240"/>
            <a:ext cx="640908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16800000">
            <a:off x="231840" y="342108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6680000">
            <a:off x="120240" y="340524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6560000">
            <a:off x="9360" y="339228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16440000">
            <a:off x="-101520" y="338436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16320000">
            <a:off x="-212760" y="3379320"/>
            <a:ext cx="640908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16200000">
            <a:off x="-317160" y="337824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6080000">
            <a:off x="-428400" y="3378960"/>
            <a:ext cx="640908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15960000">
            <a:off x="-539640" y="338436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15840000">
            <a:off x="-650520" y="339264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15720000">
            <a:off x="-761760" y="340488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5600000">
            <a:off x="-873000" y="342072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5480000">
            <a:off x="-982440" y="3440880"/>
            <a:ext cx="640908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15360000">
            <a:off x="-1090440" y="346536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5240000">
            <a:off x="-1198440" y="349200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5120000">
            <a:off x="-1305000" y="352440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15000000">
            <a:off x="-1411200" y="356040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4880000">
            <a:off x="-1514160" y="359892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4760000">
            <a:off x="-1617480" y="364140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4640000">
            <a:off x="-1717560" y="368748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14520000">
            <a:off x="-1815840" y="3736800"/>
            <a:ext cx="640872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14400000">
            <a:off x="-1914120" y="3791160"/>
            <a:ext cx="64087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-28440" y="2349360"/>
            <a:ext cx="9144000" cy="4262400"/>
            <a:chOff x="-28440" y="2349360"/>
            <a:chExt cx="9144000" cy="4262400"/>
          </a:xfrm>
        </p:grpSpPr>
        <p:sp>
          <p:nvSpPr>
            <p:cNvPr id="214" name=""/>
            <p:cNvSpPr txBox="1"/>
            <p:nvPr/>
          </p:nvSpPr>
          <p:spPr>
            <a:xfrm>
              <a:off x="8755200" y="6021360"/>
              <a:ext cx="3603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0080"/>
                  </a:solidFill>
                  <a:latin typeface="宋体"/>
                </a:rPr>
                <a:t>C</a:t>
              </a:r>
              <a:endParaRPr b="1" lang="en-US" sz="1800" spc="1" strike="noStrike">
                <a:ln w="0">
                  <a:noFill/>
                </a:ln>
                <a:solidFill>
                  <a:srgbClr val="000080"/>
                </a:solidFill>
                <a:latin typeface="宋体"/>
                <a:ea typeface="宋体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2109960" y="6154560"/>
              <a:ext cx="3603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0080"/>
                  </a:solidFill>
                  <a:latin typeface="宋体"/>
                </a:rPr>
                <a:t>A</a:t>
              </a:r>
              <a:endParaRPr b="1" lang="en-US" sz="1800" spc="1" strike="noStrike">
                <a:ln w="0">
                  <a:noFill/>
                </a:ln>
                <a:solidFill>
                  <a:srgbClr val="000080"/>
                </a:solidFill>
                <a:latin typeface="宋体"/>
                <a:ea typeface="宋体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-28440" y="2349360"/>
              <a:ext cx="3603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0080"/>
                  </a:solidFill>
                  <a:latin typeface="宋体"/>
                </a:rPr>
                <a:t>B</a:t>
              </a:r>
              <a:endParaRPr b="1" lang="en-US" sz="1800" spc="1" strike="noStrike">
                <a:ln w="0">
                  <a:noFill/>
                </a:ln>
                <a:solidFill>
                  <a:srgbClr val="000080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1548720" y="5302080"/>
            <a:ext cx="2589480" cy="259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555" y="1359"/>
                </a:moveTo>
                <a:arcTo wR="10800" hR="10800" stAng="-7143209" swAng="7143209"/>
                <a:lnTo>
                  <a:pt x="10800" y="10800"/>
                </a:lnTo>
                <a:close/>
              </a:path>
              <a:path fill="none" w="21600" h="21600">
                <a:moveTo>
                  <a:pt x="5555" y="1359"/>
                </a:moveTo>
                <a:arcTo wR="10800" hR="10800" stAng="-7143209" swAng="7143209"/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92000" y="836640"/>
            <a:ext cx="83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角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隶书"/>
              </a:rPr>
              <a:t>也可以看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一条射线绕端点旋转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隶书"/>
              </a:rPr>
              <a:t>所形成的图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 rot="1722000">
            <a:off x="3203280" y="4051440"/>
            <a:ext cx="257004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角的内部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角的定义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"/>
                            </p:stCondLst>
                            <p:childTnLst>
                              <p:par>
                                <p:cTn id="189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"/>
                            </p:stCondLst>
                            <p:childTnLst>
                              <p:par>
                                <p:cTn id="192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4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"/>
                            </p:stCondLst>
                            <p:childTnLst>
                              <p:par>
                                <p:cTn id="196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8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00"/>
                            </p:stCondLst>
                            <p:childTnLst>
                              <p:par>
                                <p:cTn id="200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6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600"/>
                            </p:stCondLst>
                            <p:childTnLst>
                              <p:par>
                                <p:cTn id="208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0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700"/>
                            </p:stCondLst>
                            <p:childTnLst>
                              <p:par>
                                <p:cTn id="212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4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800"/>
                            </p:stCondLst>
                            <p:childTnLst>
                              <p:par>
                                <p:cTn id="216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8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900"/>
                            </p:stCondLst>
                            <p:childTnLst>
                              <p:par>
                                <p:cTn id="220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2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6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100"/>
                            </p:stCondLst>
                            <p:childTnLst>
                              <p:par>
                                <p:cTn id="228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0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200"/>
                            </p:stCondLst>
                            <p:childTnLst>
                              <p:par>
                                <p:cTn id="232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4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300"/>
                            </p:stCondLst>
                            <p:childTnLst>
                              <p:par>
                                <p:cTn id="236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8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400"/>
                            </p:stCondLst>
                            <p:childTnLst>
                              <p:par>
                                <p:cTn id="240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2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6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600"/>
                            </p:stCondLst>
                            <p:childTnLst>
                              <p:par>
                                <p:cTn id="248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0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700"/>
                            </p:stCondLst>
                            <p:childTnLst>
                              <p:par>
                                <p:cTn id="252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4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800"/>
                            </p:stCondLst>
                            <p:childTnLst>
                              <p:par>
                                <p:cTn id="256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8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900"/>
                            </p:stCondLst>
                            <p:childTnLst>
                              <p:par>
                                <p:cTn id="260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6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100"/>
                            </p:stCondLst>
                            <p:childTnLst>
                              <p:par>
                                <p:cTn id="268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0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200"/>
                            </p:stCondLst>
                            <p:childTnLst>
                              <p:par>
                                <p:cTn id="272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4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300"/>
                            </p:stCondLst>
                            <p:childTnLst>
                              <p:par>
                                <p:cTn id="276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8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400"/>
                            </p:stCondLst>
                            <p:childTnLst>
                              <p:par>
                                <p:cTn id="280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2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6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600"/>
                            </p:stCondLst>
                            <p:childTnLst>
                              <p:par>
                                <p:cTn id="288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0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700"/>
                            </p:stCondLst>
                            <p:childTnLst>
                              <p:par>
                                <p:cTn id="292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4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800"/>
                            </p:stCondLst>
                            <p:childTnLst>
                              <p:par>
                                <p:cTn id="296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8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900"/>
                            </p:stCondLst>
                            <p:childTnLst>
                              <p:par>
                                <p:cTn id="300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2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6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100"/>
                            </p:stCondLst>
                            <p:childTnLst>
                              <p:par>
                                <p:cTn id="308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0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200"/>
                            </p:stCondLst>
                            <p:childTnLst>
                              <p:par>
                                <p:cTn id="312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4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300"/>
                            </p:stCondLst>
                            <p:childTnLst>
                              <p:par>
                                <p:cTn id="316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8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3400"/>
                            </p:stCondLst>
                            <p:childTnLst>
                              <p:par>
                                <p:cTn id="320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2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500"/>
                            </p:stCondLst>
                            <p:childTnLst>
                              <p:par>
                                <p:cTn id="324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6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600"/>
                            </p:stCondLst>
                            <p:childTnLst>
                              <p:par>
                                <p:cTn id="328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0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700"/>
                            </p:stCondLst>
                            <p:childTnLst>
                              <p:par>
                                <p:cTn id="332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4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3800"/>
                            </p:stCondLst>
                            <p:childTnLst>
                              <p:par>
                                <p:cTn id="336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8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900"/>
                            </p:stCondLst>
                            <p:childTnLst>
                              <p:par>
                                <p:cTn id="340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2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6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4100"/>
                            </p:stCondLst>
                            <p:childTnLst>
                              <p:par>
                                <p:cTn id="348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0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4200"/>
                            </p:stCondLst>
                            <p:childTnLst>
                              <p:par>
                                <p:cTn id="352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4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4300"/>
                            </p:stCondLst>
                            <p:childTnLst>
                              <p:par>
                                <p:cTn id="356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8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400"/>
                            </p:stCondLst>
                            <p:childTnLst>
                              <p:par>
                                <p:cTn id="360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2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4500"/>
                            </p:stCondLst>
                            <p:childTnLst>
                              <p:par>
                                <p:cTn id="364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6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4600"/>
                            </p:stCondLst>
                            <p:childTnLst>
                              <p:par>
                                <p:cTn id="368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0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700"/>
                            </p:stCondLst>
                            <p:childTnLst>
                              <p:par>
                                <p:cTn id="372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4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4800"/>
                            </p:stCondLst>
                            <p:childTnLst>
                              <p:par>
                                <p:cTn id="376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8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4900"/>
                            </p:stCondLst>
                            <p:childTnLst>
                              <p:par>
                                <p:cTn id="380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2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0"/>
                            </p:stCondLst>
                            <p:childTnLst>
                              <p:par>
                                <p:cTn id="384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6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100"/>
                            </p:stCondLst>
                            <p:childTnLst>
                              <p:par>
                                <p:cTn id="388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0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200"/>
                            </p:stCondLst>
                            <p:childTnLst>
                              <p:par>
                                <p:cTn id="392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4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300"/>
                            </p:stCondLst>
                            <p:childTnLst>
                              <p:par>
                                <p:cTn id="396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8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2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400"/>
                            </p:stCondLst>
                            <p:childTnLst>
                              <p:par>
                                <p:cTn id="400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2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500"/>
                            </p:stCondLst>
                            <p:childTnLst>
                              <p:par>
                                <p:cTn id="404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6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2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600"/>
                            </p:stCondLst>
                            <p:childTnLst>
                              <p:par>
                                <p:cTn id="408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0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700"/>
                            </p:stCondLst>
                            <p:childTnLst>
                              <p:par>
                                <p:cTn id="412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4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800"/>
                            </p:stCondLst>
                            <p:childTnLst>
                              <p:par>
                                <p:cTn id="416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8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900"/>
                            </p:stCondLst>
                            <p:childTnLst>
                              <p:par>
                                <p:cTn id="420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2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6000"/>
                            </p:stCondLst>
                            <p:childTnLst>
                              <p:par>
                                <p:cTn id="424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6" dur="1" fill="hold">
                                    <p:stCondLst>
                                      <p:cond delay="100"/>
                                    </p:stCondLst>
                                  </p:cTn>
                                  <p:tgtEl>
                                    <p:spTgt spid="2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61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66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f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343400" y="3367080"/>
            <a:ext cx="1905120" cy="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191120" y="3443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791320" y="3443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43200" y="34290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4343400" y="2452680"/>
            <a:ext cx="1523880" cy="91440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4343400" y="2147400"/>
            <a:ext cx="1371600" cy="121932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4343400" y="1995480"/>
            <a:ext cx="1143000" cy="137160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343400" y="1842840"/>
            <a:ext cx="838080" cy="15238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4343400" y="1766520"/>
            <a:ext cx="609480" cy="160020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343400" y="1690200"/>
            <a:ext cx="304920" cy="167652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343400" y="1690200"/>
            <a:ext cx="152280" cy="167652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343400" y="1690200"/>
            <a:ext cx="0" cy="167652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4140000" y="1700280"/>
            <a:ext cx="228600" cy="167616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3962520" y="1690200"/>
            <a:ext cx="380880" cy="167652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3809880" y="1766520"/>
            <a:ext cx="533520" cy="160020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3657240" y="1842840"/>
            <a:ext cx="685800" cy="15238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3505320" y="1919160"/>
            <a:ext cx="838080" cy="144792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3276360" y="1995480"/>
            <a:ext cx="1066680" cy="137160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 flipV="1">
            <a:off x="3123720" y="2147400"/>
            <a:ext cx="1219320" cy="121932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2971800" y="2300040"/>
            <a:ext cx="1371600" cy="10666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2895480" y="2376360"/>
            <a:ext cx="1447920" cy="99072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2819160" y="2529000"/>
            <a:ext cx="1523880" cy="8380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2742840" y="2680920"/>
            <a:ext cx="1600200" cy="68580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2666520" y="2833560"/>
            <a:ext cx="1676520" cy="53352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2666520" y="3061800"/>
            <a:ext cx="1676520" cy="30492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590920" y="3367080"/>
            <a:ext cx="1752480" cy="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rot="1088400">
            <a:off x="3840840" y="3001320"/>
            <a:ext cx="1001520" cy="1031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369" y="4050"/>
                </a:moveTo>
                <a:arcTo wR="10800" hR="10800" stAng="-8479123" swAng="8479123"/>
                <a:lnTo>
                  <a:pt x="10800" y="10800"/>
                </a:lnTo>
                <a:close/>
              </a:path>
              <a:path fill="none" w="21600" h="21600">
                <a:moveTo>
                  <a:pt x="2369" y="4050"/>
                </a:moveTo>
                <a:arcTo wR="10800" hR="10800" stAng="-8479123" swAng="8479123"/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3520" y="396072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如果一个角的终边继续旋转，旋转到与始边成一条直线时，所成的角叫做           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57000" y="4572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平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4343400" y="2452680"/>
            <a:ext cx="2209680" cy="914040"/>
            <a:chOff x="4343400" y="2452680"/>
            <a:chExt cx="2209680" cy="914040"/>
          </a:xfrm>
        </p:grpSpPr>
        <p:sp>
          <p:nvSpPr>
            <p:cNvPr id="251" name=""/>
            <p:cNvSpPr/>
            <p:nvPr/>
          </p:nvSpPr>
          <p:spPr>
            <a:xfrm flipV="1">
              <a:off x="4343400" y="2680920"/>
              <a:ext cx="1752480" cy="6858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95880" y="24526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6917040" y="4659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平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6" dur="1" fill="hold">
                                    <p:stCondLst>
                                      <p:cond evt="end">
                                        <p:tn val="453"/>
                                      </p:cond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2" dur="1" fill="hold">
                                    <p:stCondLst>
                                      <p:cond evt="end">
                                        <p:tn val="459"/>
                                      </p:cond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7" dur="1" fill="hold">
                                    <p:stCondLst>
                                      <p:cond evt="end">
                                        <p:tn val="464"/>
                                      </p:cond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2" dur="1" fill="hold">
                                    <p:stCondLst>
                                      <p:cond evt="end">
                                        <p:tn val="469"/>
                                      </p:cond>
                                    </p:stCondLst>
                                  </p:cTn>
                                  <p:tgtEl>
                                    <p:spTgt spid="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7" dur="1" fill="hold">
                                    <p:stCondLst>
                                      <p:cond evt="end">
                                        <p:tn val="474"/>
                                      </p:cond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5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2" dur="1" fill="hold">
                                    <p:stCondLst>
                                      <p:cond evt="end">
                                        <p:tn val="479"/>
                                      </p:cond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3000"/>
                            </p:stCondLst>
                            <p:childTnLst>
                              <p:par>
                                <p:cTn id="4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7" dur="1" fill="hold">
                                    <p:stCondLst>
                                      <p:cond evt="end">
                                        <p:tn val="484"/>
                                      </p:cond>
                                    </p:stCondLst>
                                  </p:cTn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35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2" dur="1" fill="hold">
                                    <p:stCondLst>
                                      <p:cond evt="end">
                                        <p:tn val="489"/>
                                      </p:cond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4000"/>
                            </p:stCondLst>
                            <p:childTnLst>
                              <p:par>
                                <p:cTn id="4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7" dur="1" fill="hold">
                                    <p:stCondLst>
                                      <p:cond evt="end">
                                        <p:tn val="494"/>
                                      </p:cond>
                                    </p:stCondLst>
                                  </p:cTn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2" dur="1" fill="hold">
                                    <p:stCondLst>
                                      <p:cond evt="end">
                                        <p:tn val="499"/>
                                      </p:cond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7" dur="1" fill="hold">
                                    <p:stCondLst>
                                      <p:cond evt="end">
                                        <p:tn val="504"/>
                                      </p:cond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50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2" dur="1" fill="hold">
                                    <p:stCondLst>
                                      <p:cond evt="end">
                                        <p:tn val="509"/>
                                      </p:cond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600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7" dur="1" fill="hold">
                                    <p:stCondLst>
                                      <p:cond evt="end">
                                        <p:tn val="514"/>
                                      </p:cond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6500"/>
                            </p:stCondLst>
                            <p:childTnLst>
                              <p:par>
                                <p:cTn id="5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2" dur="1" fill="hold">
                                    <p:stCondLst>
                                      <p:cond evt="end">
                                        <p:tn val="519"/>
                                      </p:cond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70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7" dur="1" fill="hold">
                                    <p:stCondLst>
                                      <p:cond evt="end">
                                        <p:tn val="524"/>
                                      </p:cond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7500"/>
                            </p:stCondLst>
                            <p:childTnLst>
                              <p:par>
                                <p:cTn id="5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2" dur="1" fill="hold">
                                    <p:stCondLst>
                                      <p:cond evt="end">
                                        <p:tn val="529"/>
                                      </p:cond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8000"/>
                            </p:stCondLst>
                            <p:childTnLst>
                              <p:par>
                                <p:cTn id="5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7" dur="1" fill="hold">
                                    <p:stCondLst>
                                      <p:cond evt="end">
                                        <p:tn val="534"/>
                                      </p:cond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8500"/>
                            </p:stCondLst>
                            <p:childTnLst>
                              <p:par>
                                <p:cTn id="5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2" dur="1" fill="hold">
                                    <p:stCondLst>
                                      <p:cond evt="end">
                                        <p:tn val="539"/>
                                      </p:cond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90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7" dur="1" fill="hold">
                                    <p:stCondLst>
                                      <p:cond evt="end">
                                        <p:tn val="544"/>
                                      </p:cond>
                                    </p:stCondLst>
                                  </p:cTn>
                                  <p:tgtEl>
                                    <p:spTgt spid="2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9500"/>
                            </p:stCondLst>
                            <p:childTnLst>
                              <p:par>
                                <p:cTn id="5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2" dur="1" fill="hold">
                                    <p:stCondLst>
                                      <p:cond evt="end">
                                        <p:tn val="549"/>
                                      </p:cond>
                                    </p:stCondLst>
                                  </p:cTn>
                                  <p:tgtEl>
                                    <p:spTgt spid="2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7" dur="1" fill="hold">
                                    <p:stCondLst>
                                      <p:cond evt="end">
                                        <p:tn val="554"/>
                                      </p:cond>
                                    </p:stCondLst>
                                  </p:cTn>
                                  <p:tgtEl>
                                    <p:spTgt spid="2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1000"/>
                            </p:stCondLst>
                            <p:childTnLst>
                              <p:par>
                                <p:cTn id="56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1500"/>
                            </p:stCondLst>
                            <p:childTnLst>
                              <p:par>
                                <p:cTn id="5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13:28:39Z</dcterms:created>
  <dc:creator>Lenovo User</dc:creator>
  <dc:description/>
  <dc:language>en-US</dc:language>
  <cp:lastModifiedBy>微软用户</cp:lastModifiedBy>
  <dcterms:modified xsi:type="dcterms:W3CDTF">2012-07-15T14:47:41Z</dcterms:modified>
  <cp:revision>83</cp:revision>
  <dc:subject/>
  <dc:title>幻灯片 1</dc:title>
</cp:coreProperties>
</file>