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typ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33E-802A-41EE-8C5D-010FD4B2F3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281-6775-4E25-BBDF-756636EC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021-BEF2-46B3-8B6F-D3E3FB0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2E2-A9F3-4DE7-A4C4-24C5EBF9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C88-77D6-40AC-A97F-24E6727E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921-05E8-4610-A48C-C0C15E36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5A0-136C-425F-A3F2-0D619F1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AF7-5E1C-421A-8840-361D6060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500-B9F1-438B-B65E-E96436EF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A2B-51F1-4BFF-B864-B29927D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B64-7B73-4855-B3F3-4EA06F4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A31-4251-472F-A6AA-99165CE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E26-4DD3-43BD-854E-5C663E0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E0CC-5A19-4D4B-8F26-D43BE524C9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143000"/>
            <a:ext cx="731520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3.1.2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等式的性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685800"/>
            <a:ext cx="5638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利用等式的基本性质解下面的方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程两边同时减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71640" y="1268280"/>
            <a:ext cx="6308280" cy="538200"/>
            <a:chOff x="971640" y="1268280"/>
            <a:chExt cx="6308280" cy="53820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1807200" y="1284120"/>
                  <a:ext cx="187812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5577840" y="1268280"/>
                  <a:ext cx="170208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4618080" y="126828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1640" y="134460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76640" y="2492280"/>
                <a:ext cx="25970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050920" y="3141720"/>
            <a:ext cx="2382840" cy="459720"/>
            <a:chOff x="2050920" y="3141720"/>
            <a:chExt cx="2382840" cy="459720"/>
          </a:xfrm>
        </p:grpSpPr>
        <p:sp>
          <p:nvSpPr>
            <p:cNvPr id="160" name=""/>
            <p:cNvSpPr/>
            <p:nvPr/>
          </p:nvSpPr>
          <p:spPr>
            <a:xfrm>
              <a:off x="2050920" y="3141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于是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376440" y="3141720"/>
                  <a:ext cx="1057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1600200" y="3733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方程两边同时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09760" y="4427640"/>
                <a:ext cx="2728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2050920" y="5013360"/>
            <a:ext cx="2414880" cy="459720"/>
            <a:chOff x="2050920" y="5013360"/>
            <a:chExt cx="2414880" cy="459720"/>
          </a:xfrm>
        </p:grpSpPr>
        <p:sp>
          <p:nvSpPr>
            <p:cNvPr id="165" name=""/>
            <p:cNvSpPr/>
            <p:nvPr/>
          </p:nvSpPr>
          <p:spPr>
            <a:xfrm>
              <a:off x="2050920" y="5013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于是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344760" y="5029200"/>
                  <a:ext cx="112104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5715000" y="3657600"/>
            <a:ext cx="3124080" cy="2318760"/>
            <a:chOff x="5715000" y="3657600"/>
            <a:chExt cx="3124080" cy="23187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715000" y="3657600"/>
              <a:ext cx="31240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324480" y="53337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认真思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2197080" cy="2361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86200" y="1447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方正舒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20040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3399"/>
                </a:solidFill>
                <a:latin typeface="Times New Roman"/>
              </a:rPr>
              <a:t>课本</a:t>
            </a:r>
            <a:r>
              <a:rPr b="1" i="1" lang="zh-CN" sz="7200" spc="-1" strike="noStrike">
                <a:solidFill>
                  <a:srgbClr val="ff3399"/>
                </a:solidFill>
                <a:latin typeface="Times New Roman"/>
              </a:rPr>
              <a:t>:   </a:t>
            </a:r>
            <a:r>
              <a:rPr b="1" i="1" lang="en-US" sz="7200" spc="-1" strike="noStrike">
                <a:solidFill>
                  <a:srgbClr val="ff3399"/>
                </a:solidFill>
                <a:latin typeface="Times New Roman"/>
              </a:rPr>
              <a:t>84  </a:t>
            </a:r>
            <a:r>
              <a:rPr b="1" i="1" lang="zh-CN" sz="7200" spc="-1" strike="noStrike">
                <a:solidFill>
                  <a:srgbClr val="ff3399"/>
                </a:solidFill>
                <a:latin typeface="Times New Roman"/>
              </a:rPr>
              <a:t>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3399"/>
                </a:solidFill>
                <a:latin typeface="Times New Roman"/>
              </a:rPr>
              <a:t>课堂练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181480" y="3276720"/>
            <a:ext cx="3124080" cy="2318760"/>
            <a:chOff x="5181480" y="3276720"/>
            <a:chExt cx="3124080" cy="231876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1240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90960" y="49528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学会方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9640" y="620640"/>
            <a:ext cx="7010640" cy="1271160"/>
            <a:chOff x="539640" y="620640"/>
            <a:chExt cx="7010640" cy="1271160"/>
          </a:xfrm>
        </p:grpSpPr>
        <p:sp>
          <p:nvSpPr>
            <p:cNvPr id="177" name=""/>
            <p:cNvSpPr/>
            <p:nvPr/>
          </p:nvSpPr>
          <p:spPr>
            <a:xfrm>
              <a:off x="539640" y="6206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解下列方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44560" y="1153800"/>
              <a:ext cx="2133720" cy="459720"/>
              <a:chOff x="844560" y="1153800"/>
              <a:chExt cx="2133720" cy="45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844560" y="11538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1542960" y="1173960"/>
                    <a:ext cx="1435320" cy="43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1" name=""/>
            <p:cNvGrpSpPr/>
            <p:nvPr/>
          </p:nvGrpSpPr>
          <p:grpSpPr>
            <a:xfrm>
              <a:off x="4959360" y="925200"/>
              <a:ext cx="2590920" cy="966600"/>
              <a:chOff x="4959360" y="925200"/>
              <a:chExt cx="2590920" cy="9666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59360" y="11534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5678640" y="925200"/>
                    <a:ext cx="1871640" cy="96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84" name=""/>
          <p:cNvSpPr/>
          <p:nvPr/>
        </p:nvSpPr>
        <p:spPr>
          <a:xfrm>
            <a:off x="533520" y="1828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两边同时除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171880" y="2209680"/>
                <a:ext cx="1485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1143000" y="3200400"/>
            <a:ext cx="2382840" cy="459720"/>
            <a:chOff x="1143000" y="3200400"/>
            <a:chExt cx="2382840" cy="459720"/>
          </a:xfrm>
        </p:grpSpPr>
        <p:sp>
          <p:nvSpPr>
            <p:cNvPr id="187" name=""/>
            <p:cNvSpPr/>
            <p:nvPr/>
          </p:nvSpPr>
          <p:spPr>
            <a:xfrm>
              <a:off x="1143000" y="3200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化简，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2590920" y="3200400"/>
                  <a:ext cx="93492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9" name=""/>
          <p:cNvSpPr/>
          <p:nvPr/>
        </p:nvSpPr>
        <p:spPr>
          <a:xfrm>
            <a:off x="990720" y="3809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两边同时加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84520" y="4267080"/>
                <a:ext cx="2558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1752480" y="4876920"/>
            <a:ext cx="2666880" cy="850680"/>
            <a:chOff x="1752480" y="4876920"/>
            <a:chExt cx="2666880" cy="850680"/>
          </a:xfrm>
        </p:grpSpPr>
        <p:sp>
          <p:nvSpPr>
            <p:cNvPr id="192" name=""/>
            <p:cNvSpPr/>
            <p:nvPr/>
          </p:nvSpPr>
          <p:spPr>
            <a:xfrm>
              <a:off x="1752480" y="51098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化简，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36760" y="4876920"/>
                  <a:ext cx="118260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1219320" y="5668920"/>
            <a:ext cx="4267080" cy="505800"/>
            <a:chOff x="1219320" y="5668920"/>
            <a:chExt cx="4267080" cy="505800"/>
          </a:xfrm>
        </p:grpSpPr>
        <p:sp>
          <p:nvSpPr>
            <p:cNvPr id="195" name=""/>
            <p:cNvSpPr/>
            <p:nvPr/>
          </p:nvSpPr>
          <p:spPr>
            <a:xfrm>
              <a:off x="1219320" y="57150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方程两边同时乘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267080" y="5668920"/>
                  <a:ext cx="121932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般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方程解出未知数的值以后，可以带入原方程检验，看这个值能否使方程的两边相等。如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=-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带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方程的左边，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2+2=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方程的左右两边相等，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=-3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68360" y="2708280"/>
                <a:ext cx="16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643280" y="3645000"/>
                <a:ext cx="1297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645000" y="1438200"/>
            <a:ext cx="4584600" cy="2828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23880" y="2057400"/>
            <a:ext cx="182880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作业</a:t>
            </a: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032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84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447920" y="984240"/>
            <a:ext cx="2209680" cy="1149480"/>
            <a:chOff x="1447920" y="984240"/>
            <a:chExt cx="2209680" cy="11494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447920" y="984240"/>
              <a:ext cx="137160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676520" y="136512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思考题：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84360" y="2492280"/>
            <a:ext cx="8001000" cy="993240"/>
            <a:chOff x="684360" y="2492280"/>
            <a:chExt cx="8001000" cy="993240"/>
          </a:xfrm>
        </p:grpSpPr>
        <p:sp>
          <p:nvSpPr>
            <p:cNvPr id="208" name=""/>
            <p:cNvSpPr/>
            <p:nvPr/>
          </p:nvSpPr>
          <p:spPr>
            <a:xfrm>
              <a:off x="684360" y="24922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关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970360" y="2492280"/>
                  <a:ext cx="19242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4799160" y="2492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解为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那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值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------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7880" y="3025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并求出此时代数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808800" y="2993760"/>
                  <a:ext cx="1251000" cy="48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4951800" y="3025800"/>
              <a:ext cx="9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520" y="3809880"/>
            <a:ext cx="7099200" cy="1069200"/>
            <a:chOff x="533520" y="3809880"/>
            <a:chExt cx="7099200" cy="1069200"/>
          </a:xfrm>
        </p:grpSpPr>
        <p:sp>
          <p:nvSpPr>
            <p:cNvPr id="215" name=""/>
            <p:cNvSpPr/>
            <p:nvPr/>
          </p:nvSpPr>
          <p:spPr>
            <a:xfrm>
              <a:off x="4356000" y="38098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解是方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33520" y="3870360"/>
              <a:ext cx="7099200" cy="1008720"/>
              <a:chOff x="533520" y="3870360"/>
              <a:chExt cx="7099200" cy="1008720"/>
            </a:xfrm>
          </p:grpSpPr>
          <p:sp>
            <p:nvSpPr>
              <p:cNvPr id="217" name=""/>
              <p:cNvSpPr/>
              <p:nvPr/>
            </p:nvSpPr>
            <p:spPr>
              <a:xfrm>
                <a:off x="533520" y="388620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）若方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2286000" y="3886200"/>
                    <a:ext cx="2133720" cy="414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5943600" y="3870360"/>
                    <a:ext cx="16891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0" name=""/>
              <p:cNvSpPr/>
              <p:nvPr/>
            </p:nvSpPr>
            <p:spPr>
              <a:xfrm>
                <a:off x="914400" y="4419360"/>
                <a:ext cx="495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的解的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倍，求出这两个方程的解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914400"/>
            <a:ext cx="693396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5790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28600"/>
            <a:ext cx="0" cy="6477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28600"/>
            <a:ext cx="0" cy="58672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28600"/>
            <a:ext cx="0" cy="541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819520" y="2647800"/>
            <a:ext cx="36576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再见</a:t>
            </a:r>
            <a:endParaRPr b="0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93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并识记等式的两个基本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用等式的性质解一元一次方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自学自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真看课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82-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实例理解等式的两个性质，填空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“分析”部分及解题格式和步骤，思考每个例题各用等式的哪个性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何检验未知数的值在否是方程的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开始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1066680"/>
            <a:ext cx="26672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下面的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009880"/>
            <a:ext cx="8077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下面式子中哪些是方程？哪些是一元一次方程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14400" y="2895480"/>
                <a:ext cx="1828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14800" y="2771640"/>
                <a:ext cx="2082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65160" y="3914640"/>
                <a:ext cx="2082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03320" y="4905360"/>
                <a:ext cx="2730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56200" y="3762360"/>
                <a:ext cx="2701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91120" y="4829040"/>
                <a:ext cx="2195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、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4191120" y="457200"/>
            <a:ext cx="3200400" cy="1099800"/>
            <a:chOff x="4191120" y="457200"/>
            <a:chExt cx="3200400" cy="10998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"/>
              <a:ext cx="107460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343400" y="91440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回忆回忆…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914400"/>
            <a:ext cx="4267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根据所给的条件列出方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981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一个数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这个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505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明家想贷款购买一台价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的笔记本电脑，经银行推算，在付清首付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后，以后每个月还需要付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问小明家多长时间才能将余款付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90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解：设这个数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x,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那么由题意可得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: 46%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x =2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0148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设小明家需要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个月才能将余款付完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由题意可得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00+900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x = 1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638680" y="609480"/>
            <a:ext cx="2514600" cy="1644840"/>
            <a:chOff x="5638680" y="609480"/>
            <a:chExt cx="2514600" cy="164484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638680" y="609480"/>
              <a:ext cx="175284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324480" y="914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你会吗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??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62320" y="2362320"/>
            <a:ext cx="4724280" cy="457200"/>
            <a:chOff x="2362320" y="2362320"/>
            <a:chExt cx="4724280" cy="457200"/>
          </a:xfrm>
        </p:grpSpPr>
        <p:sp>
          <p:nvSpPr>
            <p:cNvPr id="74" name=""/>
            <p:cNvSpPr/>
            <p:nvPr/>
          </p:nvSpPr>
          <p:spPr>
            <a:xfrm>
              <a:off x="2362320" y="2362320"/>
              <a:ext cx="4572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9400" y="2362320"/>
              <a:ext cx="4572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981080" y="2362320"/>
            <a:ext cx="4419720" cy="457200"/>
            <a:chOff x="1981080" y="2362320"/>
            <a:chExt cx="4419720" cy="457200"/>
          </a:xfrm>
        </p:grpSpPr>
        <p:sp>
          <p:nvSpPr>
            <p:cNvPr id="77" name=""/>
            <p:cNvSpPr/>
            <p:nvPr/>
          </p:nvSpPr>
          <p:spPr>
            <a:xfrm>
              <a:off x="617220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523880" y="1676520"/>
            <a:ext cx="6096240" cy="2666520"/>
            <a:chOff x="1523880" y="1676520"/>
            <a:chExt cx="6096240" cy="2666520"/>
          </a:xfrm>
        </p:grpSpPr>
        <p:grpSp>
          <p:nvGrpSpPr>
            <p:cNvPr id="80" name=""/>
            <p:cNvGrpSpPr/>
            <p:nvPr/>
          </p:nvGrpSpPr>
          <p:grpSpPr>
            <a:xfrm>
              <a:off x="1523880" y="1676520"/>
              <a:ext cx="6096240" cy="2666520"/>
              <a:chOff x="1523880" y="1676520"/>
              <a:chExt cx="6096240" cy="2666520"/>
            </a:xfrm>
          </p:grpSpPr>
          <p:sp>
            <p:nvSpPr>
              <p:cNvPr id="81" name=""/>
              <p:cNvSpPr/>
              <p:nvPr/>
            </p:nvSpPr>
            <p:spPr>
              <a:xfrm>
                <a:off x="4343400" y="3429000"/>
                <a:ext cx="380880" cy="4572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62320" y="2819520"/>
                <a:ext cx="38088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77120" y="2819520"/>
                <a:ext cx="38088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0789200">
                <a:off x="4417560" y="1750680"/>
                <a:ext cx="230400" cy="2133720"/>
              </a:xfrm>
              <a:custGeom>
                <a:avLst/>
                <a:gdLst>
                  <a:gd name="textAreaLeft" fmla="*/ 50400 w 230400"/>
                  <a:gd name="textAreaRight" fmla="*/ 180000 w 230400"/>
                  <a:gd name="textAreaTop" fmla="*/ 469080 h 2133720"/>
                  <a:gd name="textAreaBottom" fmla="*/ 1664640 h 213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562720" y="2743200"/>
                <a:ext cx="2057400" cy="228600"/>
              </a:xfrm>
              <a:custGeom>
                <a:avLst/>
                <a:gdLst>
                  <a:gd name="textAreaLeft" fmla="*/ 452160 w 2057400"/>
                  <a:gd name="textAreaRight" fmla="*/ 1605240 w 205740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23880" y="2743200"/>
                <a:ext cx="2057400" cy="228600"/>
              </a:xfrm>
              <a:custGeom>
                <a:avLst/>
                <a:gdLst>
                  <a:gd name="textAreaLeft" fmla="*/ 452160 w 2057400"/>
                  <a:gd name="textAreaRight" fmla="*/ 1605240 w 205740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09880" y="1676520"/>
                <a:ext cx="1371600" cy="8380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6000" y="3353040"/>
                <a:ext cx="457200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0800000">
                <a:off x="1828800" y="4114440"/>
                <a:ext cx="1905120" cy="228600"/>
              </a:xfrm>
              <a:custGeom>
                <a:avLst/>
                <a:gdLst>
                  <a:gd name="textAreaLeft" fmla="*/ 418680 w 1905120"/>
                  <a:gd name="textAreaRight" fmla="*/ 1486440 w 190512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0800000">
                <a:off x="5410080" y="4114440"/>
                <a:ext cx="1905120" cy="228600"/>
              </a:xfrm>
              <a:custGeom>
                <a:avLst/>
                <a:gdLst>
                  <a:gd name="textAreaLeft" fmla="*/ 418680 w 1905120"/>
                  <a:gd name="textAreaRight" fmla="*/ 1486440 w 1905120"/>
                  <a:gd name="textAreaTop" fmla="*/ 50040 h 228600"/>
                  <a:gd name="textAreaBottom" fmla="*/ 1785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14600" y="3886200"/>
                <a:ext cx="396252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4495680" y="1752840"/>
                <a:ext cx="0" cy="167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419720" y="335304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2120" y="46782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等式的基本性质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等式两边加（或减）同一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式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结果仍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880" y="76320"/>
            <a:ext cx="5486400" cy="1734840"/>
            <a:chOff x="380880" y="76320"/>
            <a:chExt cx="5486400" cy="17348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380880" y="76320"/>
              <a:ext cx="1395360" cy="17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00200" y="68544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133720" y="2362320"/>
            <a:ext cx="5029200" cy="457200"/>
            <a:chOff x="2133720" y="2362320"/>
            <a:chExt cx="5029200" cy="457200"/>
          </a:xfrm>
        </p:grpSpPr>
        <p:sp>
          <p:nvSpPr>
            <p:cNvPr id="99" name=""/>
            <p:cNvSpPr/>
            <p:nvPr/>
          </p:nvSpPr>
          <p:spPr>
            <a:xfrm>
              <a:off x="213372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96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84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84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76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4320" y="2362320"/>
              <a:ext cx="228600" cy="457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447920" y="1676520"/>
            <a:ext cx="6095520" cy="2666520"/>
            <a:chOff x="1447920" y="1676520"/>
            <a:chExt cx="6095520" cy="2666520"/>
          </a:xfrm>
        </p:grpSpPr>
        <p:sp>
          <p:nvSpPr>
            <p:cNvPr id="106" name=""/>
            <p:cNvSpPr/>
            <p:nvPr/>
          </p:nvSpPr>
          <p:spPr>
            <a:xfrm>
              <a:off x="5943600" y="2362320"/>
              <a:ext cx="2282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2362320"/>
              <a:ext cx="2282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447920" y="1676520"/>
              <a:ext cx="6095520" cy="2666520"/>
              <a:chOff x="1447920" y="1676520"/>
              <a:chExt cx="6095520" cy="26665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447920" y="1676520"/>
                <a:ext cx="6095520" cy="2666520"/>
                <a:chOff x="1447920" y="1676520"/>
                <a:chExt cx="6095520" cy="2666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267080" y="3429000"/>
                  <a:ext cx="38052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286000" y="2819520"/>
                  <a:ext cx="380520" cy="68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00800" y="2819520"/>
                  <a:ext cx="380520" cy="68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0789200">
                  <a:off x="4340880" y="1750680"/>
                  <a:ext cx="230040" cy="2133720"/>
                </a:xfrm>
                <a:custGeom>
                  <a:avLst/>
                  <a:gdLst>
                    <a:gd name="textAreaLeft" fmla="*/ 50400 w 230040"/>
                    <a:gd name="textAreaRight" fmla="*/ 179640 w 230040"/>
                    <a:gd name="textAreaTop" fmla="*/ 469080 h 2133720"/>
                    <a:gd name="textAreaBottom" fmla="*/ 1664640 h 2133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486400" y="2743200"/>
                  <a:ext cx="2057040" cy="228600"/>
                </a:xfrm>
                <a:custGeom>
                  <a:avLst/>
                  <a:gdLst>
                    <a:gd name="textAreaLeft" fmla="*/ 452160 w 2057040"/>
                    <a:gd name="textAreaRight" fmla="*/ 1604880 w 2057040"/>
                    <a:gd name="textAreaTop" fmla="*/ 50040 h 228600"/>
                    <a:gd name="textAreaBottom" fmla="*/ 1785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920" y="2743200"/>
                  <a:ext cx="2057040" cy="228600"/>
                </a:xfrm>
                <a:custGeom>
                  <a:avLst/>
                  <a:gdLst>
                    <a:gd name="textAreaLeft" fmla="*/ 452160 w 2057040"/>
                    <a:gd name="textAreaRight" fmla="*/ 1604880 w 2057040"/>
                    <a:gd name="textAreaTop" fmla="*/ 50040 h 228600"/>
                    <a:gd name="textAreaBottom" fmla="*/ 1785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33560" y="1676520"/>
                  <a:ext cx="1371240" cy="838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09680" y="3353040"/>
                  <a:ext cx="4571640" cy="152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0800000">
                  <a:off x="1752120" y="4114440"/>
                  <a:ext cx="1904760" cy="228600"/>
                </a:xfrm>
                <a:custGeom>
                  <a:avLst/>
                  <a:gdLst>
                    <a:gd name="textAreaLeft" fmla="*/ 418680 w 1904760"/>
                    <a:gd name="textAreaRight" fmla="*/ 1486080 w 1904760"/>
                    <a:gd name="textAreaTop" fmla="*/ 50040 h 228600"/>
                    <a:gd name="textAreaBottom" fmla="*/ 1785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0800000">
                  <a:off x="5333400" y="4114440"/>
                  <a:ext cx="1904760" cy="228600"/>
                </a:xfrm>
                <a:custGeom>
                  <a:avLst/>
                  <a:gdLst>
                    <a:gd name="textAreaLeft" fmla="*/ 418680 w 1904760"/>
                    <a:gd name="textAreaRight" fmla="*/ 1486080 w 1904760"/>
                    <a:gd name="textAreaTop" fmla="*/ 50040 h 228600"/>
                    <a:gd name="textAreaBottom" fmla="*/ 1785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38280" y="3886200"/>
                  <a:ext cx="396216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4419360" y="1752840"/>
                  <a:ext cx="0" cy="1676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343400" y="3276720"/>
                <a:ext cx="22824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609480" y="4449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等式的基本性质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等式两边乘同一个数，或除以同一个不为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的数，结果仍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76320"/>
            <a:ext cx="5486400" cy="1734840"/>
            <a:chOff x="380880" y="76320"/>
            <a:chExt cx="5486400" cy="17348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80880" y="76320"/>
              <a:ext cx="1395360" cy="17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600200" y="685440"/>
              <a:ext cx="42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  <a:ea typeface="方正舒体"/>
                </a:rPr>
                <a:t>你能发现什么规律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19350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等式的基本性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等式两边加（或减）同一个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或式子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，结果仍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005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等式的基本性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等式两边乘同一个数，或除以同一个不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的数，结果仍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43280" y="0"/>
            <a:ext cx="3876840" cy="2039760"/>
            <a:chOff x="4643280" y="0"/>
            <a:chExt cx="3876840" cy="20397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700680" y="0"/>
              <a:ext cx="181944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643280" y="10666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99"/>
                  </a:solidFill>
                  <a:latin typeface="Times New Roman"/>
                  <a:ea typeface="方正舒体"/>
                </a:rPr>
                <a:t>你理解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ff00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在下面的括号内填上适当的数或者式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9480" y="1676520"/>
            <a:ext cx="4792680" cy="1206360"/>
            <a:chOff x="609480" y="1676520"/>
            <a:chExt cx="4792680" cy="120636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935000" y="1676520"/>
                  <a:ext cx="34671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609480" y="17524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09480" y="3192480"/>
            <a:ext cx="5715000" cy="1150920"/>
            <a:chOff x="609480" y="3192480"/>
            <a:chExt cx="5715000" cy="115092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1855800" y="3192480"/>
                  <a:ext cx="446868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609480" y="320040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9480" y="4572000"/>
            <a:ext cx="8382240" cy="1119240"/>
            <a:chOff x="609480" y="4572000"/>
            <a:chExt cx="8382240" cy="111924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911240" y="4572000"/>
                  <a:ext cx="7080480" cy="11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09480" y="457200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95480" y="3794040"/>
                <a:ext cx="7621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336840" y="5105520"/>
                <a:ext cx="487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183520" y="5181480"/>
                <a:ext cx="274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10240" y="2346480"/>
                <a:ext cx="304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715000" y="1371600"/>
            <a:ext cx="3048120" cy="2181600"/>
            <a:chOff x="5715000" y="1371600"/>
            <a:chExt cx="3048120" cy="2181600"/>
          </a:xfrm>
        </p:grpSpPr>
        <p:grpSp>
          <p:nvGrpSpPr>
            <p:cNvPr id="147" name=""/>
            <p:cNvGrpSpPr/>
            <p:nvPr/>
          </p:nvGrpSpPr>
          <p:grpSpPr>
            <a:xfrm>
              <a:off x="6400800" y="1371600"/>
              <a:ext cx="1219320" cy="1752480"/>
              <a:chOff x="6400800" y="1371600"/>
              <a:chExt cx="1219320" cy="1752480"/>
            </a:xfrm>
          </p:grpSpPr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00800" y="1676160"/>
                <a:ext cx="1190520" cy="14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1371600"/>
                <a:ext cx="457200" cy="44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5715000" y="29718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想一想、练一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7-16T01:29:19Z</dcterms:modified>
  <cp:revision>7</cp:revision>
  <dc:subject/>
  <dc:title>幻灯片 1</dc:title>
</cp:coreProperties>
</file>