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gif" ContentType="image/gif"/>
  <Override PartName="/ppt/media/MTO_041.WAV" ContentType="audio/x-wav"/>
  <Override PartName="/ppt/media/MTA_035.WAV" ContentType="audio/x-wav"/>
  <Override PartName="/ppt/media/image3.png" ContentType="image/png"/>
  <Override PartName="/ppt/media/type.wav" ContentType="audio/x-wav"/>
  <Override PartName="/ppt/media/image7.jpeg" ContentType="image/jpeg"/>
  <Override PartName="/ppt/media/image17.gif" ContentType="image/gif"/>
  <Override PartName="/ppt/media/image16.png" ContentType="image/png"/>
  <Override PartName="/ppt/media/image13.wmf" ContentType="image/x-wmf"/>
  <Override PartName="/ppt/media/image5.gif" ContentType="image/gif"/>
  <Override PartName="/ppt/media/image10.gif" ContentType="image/gif"/>
  <Override PartName="/ppt/media/image12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1.jpeg" ContentType="image/jpeg"/>
  <Override PartName="/ppt/media/image15.wmf" ContentType="image/x-wmf"/>
  <Override PartName="/ppt/media/image4.gif" ContentType="image/gi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4CF-5E5E-45A6-9824-E7794E31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FBA-C4A0-478C-992B-64EF21A0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3CB-6A46-42A1-A62F-40A28C3E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B80F-CEEE-4295-B2BD-8DB7AC72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E23-21A2-4085-8C5C-A4391036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4BFE-A872-4CA6-B020-15B4E3B3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024-217A-4E11-A655-53036A03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764-C116-4C96-B764-DCB6E4AB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0829-58BB-430E-9D66-304E990E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CEE-0382-480A-BC5F-D7678469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E8EC-6885-4843-8CC9-91E1E13A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929-07E1-4D03-B253-849924DB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8E24-F35D-4DAB-93A7-9EBB7039A0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tmp/home/.config/libreoffice/4/user/gallery/1.WAV" TargetMode="External"/><Relationship Id="rId3" Type="http://schemas.openxmlformats.org/officeDocument/2006/relationships/image" Target="../media/image4.gif"/><Relationship Id="rId4" Type="http://schemas.openxmlformats.org/officeDocument/2006/relationships/hyperlink" Target="file:///tmp/home/.config/libreoffice/4/user/gallery/1.WAV" TargetMode="External"/><Relationship Id="rId5" Type="http://schemas.openxmlformats.org/officeDocument/2006/relationships/image" Target="../media/image12.png"/><Relationship Id="rId6" Type="http://schemas.openxmlformats.org/officeDocument/2006/relationships/audio" Target="../media/MTA_035.WAV"/><Relationship Id="rId7" Type="http://schemas.openxmlformats.org/officeDocument/2006/relationships/audio" Target="../media/MTA_035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hyperlink" Target="file:///tmp/home/.config/libreoffice/4/user/gallery/j0074951.wav" TargetMode="External"/><Relationship Id="rId4" Type="http://schemas.openxmlformats.org/officeDocument/2006/relationships/image" Target="../media/image14.wmf"/><Relationship Id="rId5" Type="http://schemas.openxmlformats.org/officeDocument/2006/relationships/hyperlink" Target="file:///tmp/home/.config/libreoffice/4/user/gallery/j0074951.wav" TargetMode="External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hyperlink" Target="file:///tmp/home/.config/libreoffice/4/user/gallery/j0074951.wav" TargetMode="External"/><Relationship Id="rId11" Type="http://schemas.openxmlformats.org/officeDocument/2006/relationships/image" Target="../media/image14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7.gif"/><Relationship Id="rId17" Type="http://schemas.openxmlformats.org/officeDocument/2006/relationships/hyperlink" Target="file:///tmp/home/.config/libreoffice/4/user/gallery/1.WAV" TargetMode="External"/><Relationship Id="rId18" Type="http://schemas.openxmlformats.org/officeDocument/2006/relationships/image" Target="../media/image4.gif"/><Relationship Id="rId19" Type="http://schemas.openxmlformats.org/officeDocument/2006/relationships/audio" Target="../media/MTA_035.WAV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1.WAV" TargetMode="External"/><Relationship Id="rId2" Type="http://schemas.openxmlformats.org/officeDocument/2006/relationships/hyperlink" Target="file:///tmp/home/.config/libreoffice/4/user/gallery/1.WAV" TargetMode="Externa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hyperlink" Target="file:///tmp/home/.config/libreoffice/4/user/gallery/1.WAV" TargetMode="External"/><Relationship Id="rId8" Type="http://schemas.openxmlformats.org/officeDocument/2006/relationships/hyperlink" Target="file:///tmp/home/.config/libreoffice/4/user/gallery/1.WAV" TargetMode="External"/><Relationship Id="rId9" Type="http://schemas.openxmlformats.org/officeDocument/2006/relationships/hyperlink" Target="file:///tmp/home/.config/libreoffice/4/user/gallery/1.WAV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1.WAV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1.WAV" TargetMode="External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file:///tmp/home/.config/libreoffice/4/user/gallery/1.WAV" TargetMode="External"/><Relationship Id="rId3" Type="http://schemas.openxmlformats.org/officeDocument/2006/relationships/audio" Target="../media/MTA_035.WAV"/><Relationship Id="rId4" Type="http://schemas.openxmlformats.org/officeDocument/2006/relationships/audio" Target="../media/MTO_041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tmp/home/.config/libreoffice/4/user/gallery/1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3" descr=""/>
          <p:cNvPicPr/>
          <p:nvPr/>
        </p:nvPicPr>
        <p:blipFill>
          <a:blip r:embed="rId1"/>
          <a:stretch/>
        </p:blipFill>
        <p:spPr>
          <a:xfrm>
            <a:off x="2401920" y="2414520"/>
            <a:ext cx="5772240" cy="23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30240" y="981000"/>
            <a:ext cx="793908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一根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4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铁丝围成一个长方形，使它长是宽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倍，长方形的长、宽各应是多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01"/>
          <p:cNvPicPr/>
          <p:nvPr/>
        </p:nvPicPr>
        <p:blipFill>
          <a:blip r:embed="rId1"/>
          <a:stretch/>
        </p:blipFill>
        <p:spPr>
          <a:xfrm>
            <a:off x="9055080" y="692280"/>
            <a:ext cx="2463840" cy="9522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6"/>
          <p:cNvSpPr/>
          <p:nvPr/>
        </p:nvSpPr>
        <p:spPr>
          <a:xfrm>
            <a:off x="3568680" y="2801880"/>
            <a:ext cx="65376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解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3703680" y="2709720"/>
            <a:ext cx="590688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长方形的宽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么长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367160" y="3467160"/>
            <a:ext cx="192888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列方程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5391000" y="4221000"/>
            <a:ext cx="234504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.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=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2"/>
          <p:cNvGrpSpPr/>
          <p:nvPr/>
        </p:nvGrpSpPr>
        <p:grpSpPr>
          <a:xfrm>
            <a:off x="1290240" y="2793960"/>
            <a:ext cx="2413080" cy="3877560"/>
            <a:chOff x="1290240" y="2793960"/>
            <a:chExt cx="2413080" cy="3877560"/>
          </a:xfrm>
        </p:grpSpPr>
        <p:grpSp>
          <p:nvGrpSpPr>
            <p:cNvPr id="121" name="Group 3"/>
            <p:cNvGrpSpPr/>
            <p:nvPr/>
          </p:nvGrpSpPr>
          <p:grpSpPr>
            <a:xfrm>
              <a:off x="1290600" y="4370760"/>
              <a:ext cx="1653120" cy="1890720"/>
              <a:chOff x="1290600" y="4370760"/>
              <a:chExt cx="1653120" cy="1890720"/>
            </a:xfrm>
          </p:grpSpPr>
          <p:sp>
            <p:nvSpPr>
              <p:cNvPr id="122" name="Line 4"/>
              <p:cNvSpPr/>
              <p:nvPr/>
            </p:nvSpPr>
            <p:spPr>
              <a:xfrm>
                <a:off x="1290600" y="4370760"/>
                <a:ext cx="1653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5"/>
              <p:cNvSpPr/>
              <p:nvPr/>
            </p:nvSpPr>
            <p:spPr>
              <a:xfrm>
                <a:off x="1290600" y="4370760"/>
                <a:ext cx="0" cy="18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6"/>
              <p:cNvSpPr/>
              <p:nvPr/>
            </p:nvSpPr>
            <p:spPr>
              <a:xfrm>
                <a:off x="2943720" y="4370760"/>
                <a:ext cx="0" cy="18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7"/>
              <p:cNvSpPr/>
              <p:nvPr/>
            </p:nvSpPr>
            <p:spPr>
              <a:xfrm>
                <a:off x="1290600" y="6261480"/>
                <a:ext cx="1653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9"/>
            <p:cNvGrpSpPr/>
            <p:nvPr/>
          </p:nvGrpSpPr>
          <p:grpSpPr>
            <a:xfrm>
              <a:off x="1290240" y="2793960"/>
              <a:ext cx="1585800" cy="567000"/>
              <a:chOff x="1290240" y="2793960"/>
              <a:chExt cx="1585800" cy="567000"/>
            </a:xfrm>
          </p:grpSpPr>
          <p:sp>
            <p:nvSpPr>
              <p:cNvPr id="127" name="Line 10"/>
              <p:cNvSpPr/>
              <p:nvPr/>
            </p:nvSpPr>
            <p:spPr>
              <a:xfrm>
                <a:off x="1635480" y="2793960"/>
                <a:ext cx="1240560" cy="6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1"/>
              <p:cNvSpPr/>
              <p:nvPr/>
            </p:nvSpPr>
            <p:spPr>
              <a:xfrm flipH="1">
                <a:off x="1290240" y="2857680"/>
                <a:ext cx="1517400" cy="25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2"/>
              <p:cNvSpPr/>
              <p:nvPr/>
            </p:nvSpPr>
            <p:spPr>
              <a:xfrm flipV="1">
                <a:off x="1358640" y="3046680"/>
                <a:ext cx="1310760" cy="6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13"/>
              <p:cNvSpPr/>
              <p:nvPr/>
            </p:nvSpPr>
            <p:spPr>
              <a:xfrm flipH="1">
                <a:off x="1427040" y="3046680"/>
                <a:ext cx="1242360" cy="31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4"/>
              <p:cNvSpPr/>
              <p:nvPr/>
            </p:nvSpPr>
            <p:spPr>
              <a:xfrm flipV="1">
                <a:off x="1427400" y="3298320"/>
                <a:ext cx="1310400" cy="6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Line 15"/>
            <p:cNvSpPr/>
            <p:nvPr/>
          </p:nvSpPr>
          <p:spPr>
            <a:xfrm>
              <a:off x="2048760" y="3423960"/>
              <a:ext cx="0" cy="818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0"/>
            <p:cNvSpPr/>
            <p:nvPr/>
          </p:nvSpPr>
          <p:spPr>
            <a:xfrm>
              <a:off x="1893600" y="6192360"/>
              <a:ext cx="54972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1"/>
            <p:cNvSpPr/>
            <p:nvPr/>
          </p:nvSpPr>
          <p:spPr>
            <a:xfrm>
              <a:off x="3016800" y="5064480"/>
              <a:ext cx="686520" cy="7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.5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xyfm26"/>
          <p:cNvPicPr/>
          <p:nvPr/>
        </p:nvPicPr>
        <p:blipFill>
          <a:blip r:embed="rId1"/>
          <a:stretch/>
        </p:blipFill>
        <p:spPr>
          <a:xfrm>
            <a:off x="216000" y="1357200"/>
            <a:ext cx="3127320" cy="2143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649680" y="1227240"/>
            <a:ext cx="567036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校女生占全体学生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2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比男生 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，这个学校有多少学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827160" y="2604960"/>
            <a:ext cx="5623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973680" y="2495520"/>
            <a:ext cx="556236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设这个学校的学生有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人，那么女生数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.5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男生数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(1-0.52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963960" y="3645000"/>
            <a:ext cx="1540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列方程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280040" y="4076640"/>
            <a:ext cx="3644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1-0.52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8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27040" y="4976640"/>
            <a:ext cx="2104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895320" y="4694400"/>
            <a:ext cx="11462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小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893880" y="5445000"/>
            <a:ext cx="19461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实际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2338560" y="5710320"/>
            <a:ext cx="5101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8015400" y="5448240"/>
            <a:ext cx="8060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元一次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038400" y="5229360"/>
            <a:ext cx="210528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设未知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4782960" y="5229360"/>
            <a:ext cx="226548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找等量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4800" y="1125360"/>
            <a:ext cx="24289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想一想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170080" y="1125360"/>
            <a:ext cx="6564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使得方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 700+15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2 45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成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值应为多少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252520" y="1701720"/>
            <a:ext cx="4213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 700+15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值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554280" y="2117880"/>
            <a:ext cx="30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 700+150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1=1 85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458800" y="2727360"/>
            <a:ext cx="322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 700+15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值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630600" y="3260880"/>
            <a:ext cx="3238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 700+150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2=2 00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68280" y="4076640"/>
          <a:ext cx="8205840" cy="1309680"/>
        </p:xfrm>
        <a:graphic>
          <a:graphicData uri="http://schemas.openxmlformats.org/drawingml/2006/table">
            <a:tbl>
              <a:tblPr/>
              <a:tblGrid>
                <a:gridCol w="1420560"/>
                <a:gridCol w="837360"/>
                <a:gridCol w="837000"/>
                <a:gridCol w="894240"/>
                <a:gridCol w="776880"/>
                <a:gridCol w="846720"/>
                <a:gridCol w="1060560"/>
                <a:gridCol w="569160"/>
                <a:gridCol w="231840"/>
                <a:gridCol w="731520"/>
              </a:tblGrid>
              <a:tr h="669960"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0+150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 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 Box 46"/>
          <p:cNvSpPr/>
          <p:nvPr/>
        </p:nvSpPr>
        <p:spPr>
          <a:xfrm>
            <a:off x="1360440" y="5662440"/>
            <a:ext cx="7616880" cy="9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5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 700+15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值是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45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方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 700+150=2 45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中的未知数的值应是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7" descr="bear1"/>
          <p:cNvPicPr/>
          <p:nvPr/>
        </p:nvPicPr>
        <p:blipFill>
          <a:blip r:embed="rId1"/>
          <a:stretch/>
        </p:blipFill>
        <p:spPr>
          <a:xfrm>
            <a:off x="8626320" y="5595840"/>
            <a:ext cx="1419480" cy="1262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2"/>
          <p:cNvSpPr/>
          <p:nvPr/>
        </p:nvSpPr>
        <p:spPr>
          <a:xfrm>
            <a:off x="3487680" y="2236680"/>
            <a:ext cx="3726000" cy="720720"/>
          </a:xfrm>
          <a:prstGeom prst="wedgeRoundRectCallout">
            <a:avLst>
              <a:gd name="adj1" fmla="val 12370"/>
              <a:gd name="adj2" fmla="val -81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ART_2797"/>
          <p:cNvPicPr/>
          <p:nvPr/>
        </p:nvPicPr>
        <p:blipFill>
          <a:blip r:embed="rId1">
            <a:grayscl/>
          </a:blip>
          <a:stretch/>
        </p:blipFill>
        <p:spPr>
          <a:xfrm>
            <a:off x="1182600" y="1100160"/>
            <a:ext cx="8601120" cy="5734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59" name="Text Box 5"/>
          <p:cNvSpPr/>
          <p:nvPr/>
        </p:nvSpPr>
        <p:spPr>
          <a:xfrm>
            <a:off x="5338440" y="1773360"/>
            <a:ext cx="5623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406680" y="1868400"/>
            <a:ext cx="432000" cy="1590120"/>
          </a:xfrm>
          <a:prstGeom prst="rect">
            <a:avLst/>
          </a:prstGeom>
          <a:solidFill>
            <a:srgbClr val="feec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本节课学了哪些内容？哪些方法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240080" y="2806560"/>
            <a:ext cx="501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5409720" y="2820960"/>
            <a:ext cx="1546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含有未知数的等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3894120" y="4365720"/>
            <a:ext cx="403200" cy="852480"/>
          </a:xfrm>
          <a:custGeom>
            <a:avLst/>
            <a:gdLst>
              <a:gd name="textAreaLeft" fmla="*/ 257760 w 403200"/>
              <a:gd name="textAreaRight" fmla="*/ 403560 w 403200"/>
              <a:gd name="textAreaTop" fmla="*/ 21960 h 852480"/>
              <a:gd name="textAreaBottom" fmla="*/ 830520 h 8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4418280" y="4149720"/>
            <a:ext cx="806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设未知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4502880" y="4906800"/>
            <a:ext cx="958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找相等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4280040" y="4124160"/>
            <a:ext cx="395892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含未知数的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子表示问题中的数量关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6460200" y="4897440"/>
            <a:ext cx="958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列出方程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5359320" y="4365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4243320" y="2374920"/>
            <a:ext cx="501480" cy="403200"/>
          </a:xfrm>
          <a:prstGeom prst="rect">
            <a:avLst/>
          </a:prstGeom>
          <a:solidFill>
            <a:srgbClr val="f0f2a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4525920" y="3664080"/>
            <a:ext cx="1568160" cy="403200"/>
          </a:xfrm>
          <a:prstGeom prst="rect">
            <a:avLst/>
          </a:prstGeom>
          <a:solidFill>
            <a:srgbClr val="f0f2a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解决实际问题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7" descr="HOSE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51920" y="5921280"/>
            <a:ext cx="1135080" cy="936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9"/>
          <p:cNvSpPr/>
          <p:nvPr/>
        </p:nvSpPr>
        <p:spPr>
          <a:xfrm>
            <a:off x="4291920" y="3241800"/>
            <a:ext cx="6537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列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0"/>
          <p:cNvSpPr/>
          <p:nvPr/>
        </p:nvSpPr>
        <p:spPr>
          <a:xfrm>
            <a:off x="3894120" y="2957400"/>
            <a:ext cx="325440" cy="576360"/>
          </a:xfrm>
          <a:custGeom>
            <a:avLst/>
            <a:gdLst>
              <a:gd name="textAreaLeft" fmla="*/ 208080 w 325440"/>
              <a:gd name="textAreaRight" fmla="*/ 325800 w 3254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1">
            <a:hlinkClick r:id="rId4"/>
          </p:cNvPr>
          <p:cNvSpPr/>
          <p:nvPr/>
        </p:nvSpPr>
        <p:spPr>
          <a:xfrm>
            <a:off x="3038400" y="477720"/>
            <a:ext cx="4697640" cy="358920"/>
          </a:xfrm>
          <a:prstGeom prst="flowChartDecision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黑体"/>
              </a:rPr>
              <a:t>活动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黑体"/>
              </a:rPr>
              <a:t>: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归纳总结   巩固发展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5694480" y="5160960"/>
            <a:ext cx="56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3" descr="BOOK08"/>
          <p:cNvPicPr/>
          <p:nvPr/>
        </p:nvPicPr>
        <p:blipFill>
          <a:blip r:embed="rId5"/>
          <a:stretch/>
        </p:blipFill>
        <p:spPr>
          <a:xfrm>
            <a:off x="590400" y="730080"/>
            <a:ext cx="1457640" cy="104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25599992275238"/>
                                  </p:iterate>
                                  <p:childTnLst>
                                    <p:set>
                                      <p:cBhvr>
                                        <p:cTn id="402" fill="hold">
                                          <p:stCondLst>
                                            <p:cond delay="7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TA_03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TA_03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6686640" y="1701720"/>
            <a:ext cx="3136680" cy="2087640"/>
          </a:xfrm>
          <a:prstGeom prst="cloudCallout">
            <a:avLst>
              <a:gd name="adj1" fmla="val -53819"/>
              <a:gd name="adj2" fmla="val 4157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上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头、 下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5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足，问鸡兔各有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1471680" y="2708280"/>
            <a:ext cx="4843080" cy="3263400"/>
            <a:chOff x="1471680" y="2708280"/>
            <a:chExt cx="4843080" cy="3263400"/>
          </a:xfrm>
        </p:grpSpPr>
        <p:sp>
          <p:nvSpPr>
            <p:cNvPr id="179" name="AutoShape 4"/>
            <p:cNvSpPr/>
            <p:nvPr/>
          </p:nvSpPr>
          <p:spPr>
            <a:xfrm>
              <a:off x="1471680" y="2918160"/>
              <a:ext cx="4698360" cy="3009960"/>
            </a:xfrm>
            <a:prstGeom prst="can">
              <a:avLst>
                <a:gd name="adj" fmla="val 25000"/>
              </a:avLst>
            </a:prstGeom>
            <a:solidFill>
              <a:srgbClr val="ccffff">
                <a:alpha val="50000"/>
              </a:srgbClr>
            </a:solidFill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>
              <a:off x="5953320" y="3477960"/>
              <a:ext cx="0" cy="2239920"/>
            </a:xfrm>
            <a:prstGeom prst="line">
              <a:avLst/>
            </a:prstGeom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6" descr="AN02334_"/>
            <p:cNvPicPr/>
            <p:nvPr/>
          </p:nvPicPr>
          <p:blipFill>
            <a:blip r:embed="rId1"/>
            <a:stretch/>
          </p:blipFill>
          <p:spPr>
            <a:xfrm>
              <a:off x="4146120" y="2847960"/>
              <a:ext cx="2168640" cy="19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7" descr="AN02334_"/>
            <p:cNvPicPr/>
            <p:nvPr/>
          </p:nvPicPr>
          <p:blipFill>
            <a:blip r:embed="rId2"/>
            <a:stretch/>
          </p:blipFill>
          <p:spPr>
            <a:xfrm>
              <a:off x="3495600" y="2918160"/>
              <a:ext cx="2168640" cy="19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8" descr="AN01154_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977480" y="2708280"/>
              <a:ext cx="1850400" cy="17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9" descr="AN01154_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2122200" y="3268080"/>
              <a:ext cx="1850760" cy="17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0" descr="AN01919_"/>
            <p:cNvPicPr/>
            <p:nvPr/>
          </p:nvPicPr>
          <p:blipFill>
            <a:blip r:embed="rId7"/>
            <a:stretch/>
          </p:blipFill>
          <p:spPr>
            <a:xfrm>
              <a:off x="1688400" y="3198240"/>
              <a:ext cx="155232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1" descr="AN01919_"/>
            <p:cNvPicPr/>
            <p:nvPr/>
          </p:nvPicPr>
          <p:blipFill>
            <a:blip r:embed="rId8"/>
            <a:stretch/>
          </p:blipFill>
          <p:spPr>
            <a:xfrm>
              <a:off x="2122200" y="3687840"/>
              <a:ext cx="1552320" cy="166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2" descr="AN01919_"/>
            <p:cNvPicPr/>
            <p:nvPr/>
          </p:nvPicPr>
          <p:blipFill>
            <a:blip r:embed="rId9"/>
            <a:stretch/>
          </p:blipFill>
          <p:spPr>
            <a:xfrm>
              <a:off x="2628360" y="4038120"/>
              <a:ext cx="155232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3" descr="AN01154_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1832760" y="4248360"/>
              <a:ext cx="1850760" cy="17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4" descr="AN02334_"/>
            <p:cNvPicPr/>
            <p:nvPr/>
          </p:nvPicPr>
          <p:blipFill>
            <a:blip r:embed="rId12"/>
            <a:stretch/>
          </p:blipFill>
          <p:spPr>
            <a:xfrm>
              <a:off x="3857040" y="3408120"/>
              <a:ext cx="2168640" cy="18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5" descr="AN02334_"/>
            <p:cNvPicPr/>
            <p:nvPr/>
          </p:nvPicPr>
          <p:blipFill>
            <a:blip r:embed="rId13"/>
            <a:stretch/>
          </p:blipFill>
          <p:spPr>
            <a:xfrm>
              <a:off x="3640320" y="4038120"/>
              <a:ext cx="216864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Line 16"/>
            <p:cNvSpPr/>
            <p:nvPr/>
          </p:nvSpPr>
          <p:spPr>
            <a:xfrm>
              <a:off x="1832760" y="3477960"/>
              <a:ext cx="0" cy="2239920"/>
            </a:xfrm>
            <a:prstGeom prst="line">
              <a:avLst/>
            </a:prstGeom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7"/>
            <p:cNvSpPr/>
            <p:nvPr/>
          </p:nvSpPr>
          <p:spPr>
            <a:xfrm>
              <a:off x="2194560" y="3548160"/>
              <a:ext cx="0" cy="2239560"/>
            </a:xfrm>
            <a:prstGeom prst="line">
              <a:avLst/>
            </a:prstGeom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8"/>
            <p:cNvSpPr/>
            <p:nvPr/>
          </p:nvSpPr>
          <p:spPr>
            <a:xfrm>
              <a:off x="2628360" y="3618360"/>
              <a:ext cx="0" cy="2239560"/>
            </a:xfrm>
            <a:prstGeom prst="line">
              <a:avLst/>
            </a:prstGeom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9"/>
            <p:cNvSpPr/>
            <p:nvPr/>
          </p:nvSpPr>
          <p:spPr>
            <a:xfrm>
              <a:off x="3061800" y="3687840"/>
              <a:ext cx="0" cy="2239920"/>
            </a:xfrm>
            <a:prstGeom prst="line">
              <a:avLst/>
            </a:prstGeom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0"/>
            <p:cNvSpPr/>
            <p:nvPr/>
          </p:nvSpPr>
          <p:spPr>
            <a:xfrm>
              <a:off x="3567600" y="3687840"/>
              <a:ext cx="0" cy="2239920"/>
            </a:xfrm>
            <a:prstGeom prst="line">
              <a:avLst/>
            </a:prstGeom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1"/>
            <p:cNvSpPr/>
            <p:nvPr/>
          </p:nvSpPr>
          <p:spPr>
            <a:xfrm>
              <a:off x="4001400" y="3687840"/>
              <a:ext cx="0" cy="2239920"/>
            </a:xfrm>
            <a:prstGeom prst="line">
              <a:avLst/>
            </a:prstGeom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2"/>
            <p:cNvSpPr/>
            <p:nvPr/>
          </p:nvSpPr>
          <p:spPr>
            <a:xfrm>
              <a:off x="4363200" y="3687840"/>
              <a:ext cx="0" cy="2239920"/>
            </a:xfrm>
            <a:prstGeom prst="line">
              <a:avLst/>
            </a:prstGeom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3"/>
            <p:cNvSpPr/>
            <p:nvPr/>
          </p:nvSpPr>
          <p:spPr>
            <a:xfrm>
              <a:off x="4724640" y="3687840"/>
              <a:ext cx="0" cy="2239920"/>
            </a:xfrm>
            <a:prstGeom prst="line">
              <a:avLst/>
            </a:prstGeom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4"/>
            <p:cNvSpPr/>
            <p:nvPr/>
          </p:nvSpPr>
          <p:spPr>
            <a:xfrm>
              <a:off x="5158080" y="3618360"/>
              <a:ext cx="0" cy="2239560"/>
            </a:xfrm>
            <a:prstGeom prst="line">
              <a:avLst/>
            </a:prstGeom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5"/>
            <p:cNvSpPr/>
            <p:nvPr/>
          </p:nvSpPr>
          <p:spPr>
            <a:xfrm>
              <a:off x="5591880" y="3548160"/>
              <a:ext cx="0" cy="2239560"/>
            </a:xfrm>
            <a:prstGeom prst="line">
              <a:avLst/>
            </a:prstGeom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26"/>
          <p:cNvSpPr/>
          <p:nvPr/>
        </p:nvSpPr>
        <p:spPr>
          <a:xfrm>
            <a:off x="2706480" y="563400"/>
            <a:ext cx="16290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4700" spc="-1" strike="noStrike">
                <a:solidFill>
                  <a:srgbClr val="669900"/>
                </a:solidFill>
                <a:latin typeface="Arial"/>
                <a:ea typeface="隶书"/>
              </a:rPr>
              <a:t>自主探索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27"/>
          <p:cNvSpPr txBox="1"/>
          <p:nvPr/>
        </p:nvSpPr>
        <p:spPr>
          <a:xfrm>
            <a:off x="1687680" y="1555920"/>
            <a:ext cx="491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鸡兔同笼</a:t>
            </a:r>
            <a:endParaRPr b="1" lang="en-US" sz="54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3" name="Text Box 28"/>
          <p:cNvSpPr/>
          <p:nvPr/>
        </p:nvSpPr>
        <p:spPr>
          <a:xfrm>
            <a:off x="-19080" y="0"/>
            <a:ext cx="790560" cy="6858000"/>
          </a:xfrm>
          <a:prstGeom prst="rect">
            <a:avLst/>
          </a:prstGeom>
          <a:gradFill rotWithShape="0">
            <a:gsLst>
              <a:gs pos="0">
                <a:srgbClr val="6600cc"/>
              </a:gs>
              <a:gs pos="50000">
                <a:srgbClr val="9999ff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 vert="eaVer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   思维拓宽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9" descr="judi"/>
          <p:cNvPicPr/>
          <p:nvPr/>
        </p:nvPicPr>
        <p:blipFill>
          <a:blip r:embed="rId16"/>
          <a:stretch/>
        </p:blipFill>
        <p:spPr>
          <a:xfrm>
            <a:off x="930240" y="476280"/>
            <a:ext cx="1416240" cy="1225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0" descr="HOSE1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8464680" y="5300640"/>
            <a:ext cx="1500120" cy="1238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MTA_03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8480" y="2130120"/>
            <a:ext cx="7429320" cy="26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准备好学习用品吧！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要上课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3680" y="692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3.1.1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一元一次方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3">
            <a:hlinkClick r:id="rId1"/>
          </p:cNvPr>
          <p:cNvSpPr/>
          <p:nvPr/>
        </p:nvSpPr>
        <p:spPr>
          <a:xfrm>
            <a:off x="966960" y="339120"/>
            <a:ext cx="3403440" cy="664920"/>
          </a:xfrm>
          <a:prstGeom prst="flowChartAlternateProcess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一、学习任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>
            <a:hlinkClick r:id="rId2"/>
          </p:cNvPr>
          <p:cNvSpPr/>
          <p:nvPr/>
        </p:nvSpPr>
        <p:spPr>
          <a:xfrm>
            <a:off x="6006960" y="481680"/>
            <a:ext cx="3241800" cy="664920"/>
          </a:xfrm>
          <a:prstGeom prst="flowChartAlternateProcess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二、学习过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>
            <a:hlinkClick r:id="rId3" action="ppaction://hlinksldjump"/>
          </p:cNvPr>
          <p:cNvSpPr/>
          <p:nvPr/>
        </p:nvSpPr>
        <p:spPr>
          <a:xfrm>
            <a:off x="785880" y="6098400"/>
            <a:ext cx="3565440" cy="664920"/>
          </a:xfrm>
          <a:prstGeom prst="flowChartAlternateProcess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三、思维拓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26880" y="1557360"/>
            <a:ext cx="4600800" cy="1013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了解什么是方程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体会字母表示数的好处，画示意图有利于分析问题，找相等关系是列方程的重要一步，从算式到方程（从算术到代数）是数学的一大进步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会将实际问题抽象为数学问题，通过列方程解决问题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>
            <a:hlinkClick r:id="rId4" action="ppaction://hlinksldjump"/>
          </p:cNvPr>
          <p:cNvSpPr/>
          <p:nvPr/>
        </p:nvSpPr>
        <p:spPr>
          <a:xfrm>
            <a:off x="4998960" y="2492280"/>
            <a:ext cx="5905440" cy="432000"/>
          </a:xfrm>
          <a:prstGeom prst="flowChartDecision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黑体"/>
              </a:rPr>
              <a:t>活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黑体"/>
              </a:rPr>
              <a:t>创设情境  提出问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>
            <a:hlinkClick r:id="rId5" action="ppaction://hlinksldjump"/>
          </p:cNvPr>
          <p:cNvSpPr/>
          <p:nvPr/>
        </p:nvSpPr>
        <p:spPr>
          <a:xfrm>
            <a:off x="5359320" y="3286080"/>
            <a:ext cx="5688000" cy="430200"/>
          </a:xfrm>
          <a:prstGeom prst="flowChartDecision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黑体"/>
              </a:rPr>
              <a:t>活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算术困难   字母帮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>
            <a:hlinkClick r:id="rId6" action="ppaction://hlinksldjump"/>
          </p:cNvPr>
          <p:cNvSpPr/>
          <p:nvPr/>
        </p:nvSpPr>
        <p:spPr>
          <a:xfrm>
            <a:off x="5072040" y="4148280"/>
            <a:ext cx="5975280" cy="433080"/>
          </a:xfrm>
          <a:prstGeom prst="flowChartDecision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黑体"/>
              </a:rPr>
              <a:t>活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找到关系   列出方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>
            <a:hlinkClick r:id="rId7"/>
          </p:cNvPr>
          <p:cNvSpPr/>
          <p:nvPr/>
        </p:nvSpPr>
        <p:spPr>
          <a:xfrm>
            <a:off x="5143680" y="1701720"/>
            <a:ext cx="5472000" cy="358920"/>
          </a:xfrm>
          <a:prstGeom prst="flowChartDecision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黑体"/>
              </a:rPr>
              <a:t>活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义方程   回顾举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2">
            <a:hlinkClick r:id="rId8"/>
          </p:cNvPr>
          <p:cNvSpPr/>
          <p:nvPr/>
        </p:nvSpPr>
        <p:spPr>
          <a:xfrm>
            <a:off x="5359320" y="4943520"/>
            <a:ext cx="5616720" cy="430200"/>
          </a:xfrm>
          <a:prstGeom prst="flowChartDecision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黑体"/>
              </a:rPr>
              <a:t>活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拓广探索  训练提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174600" y="1197000"/>
            <a:ext cx="2795760" cy="289080"/>
          </a:xfrm>
          <a:prstGeom prst="flowChartDecision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黑体"/>
              </a:rPr>
              <a:t>1. </a:t>
            </a: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黑体"/>
              </a:rPr>
              <a:t>目标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174600" y="3933720"/>
            <a:ext cx="3529080" cy="241560"/>
          </a:xfrm>
          <a:prstGeom prst="flowChartDecision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黑体"/>
              </a:rPr>
              <a:t>2. </a:t>
            </a: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黑体"/>
              </a:rPr>
              <a:t>重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360360" y="4365720"/>
            <a:ext cx="4567320" cy="708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知道什么是方程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找相等关系列方程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>
            <a:off x="206280" y="5229360"/>
            <a:ext cx="4073760" cy="314280"/>
          </a:xfrm>
          <a:prstGeom prst="flowChartDecision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黑体"/>
              </a:rPr>
              <a:t>3. </a:t>
            </a: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黑体"/>
              </a:rPr>
              <a:t>难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43080" y="5589720"/>
            <a:ext cx="4584600" cy="403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找相等关系列方程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>
            <a:hlinkClick r:id="rId9"/>
          </p:cNvPr>
          <p:cNvSpPr/>
          <p:nvPr/>
        </p:nvSpPr>
        <p:spPr>
          <a:xfrm>
            <a:off x="4869000" y="5734080"/>
            <a:ext cx="5418000" cy="430200"/>
          </a:xfrm>
          <a:prstGeom prst="flowChartDecision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黑体"/>
              </a:rPr>
              <a:t>活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归纳总结  巩固发展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62"/>
          <p:cNvPicPr/>
          <p:nvPr/>
        </p:nvPicPr>
        <p:blipFill>
          <a:blip r:embed="rId1"/>
          <a:stretch/>
        </p:blipFill>
        <p:spPr>
          <a:xfrm>
            <a:off x="851040" y="1557360"/>
            <a:ext cx="4941720" cy="258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n42"/>
          <p:cNvPicPr/>
          <p:nvPr/>
        </p:nvPicPr>
        <p:blipFill>
          <a:blip r:embed="rId2"/>
          <a:stretch/>
        </p:blipFill>
        <p:spPr>
          <a:xfrm>
            <a:off x="687240" y="1341360"/>
            <a:ext cx="1020960" cy="84924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"/>
          <p:cNvSpPr/>
          <p:nvPr/>
        </p:nvSpPr>
        <p:spPr>
          <a:xfrm>
            <a:off x="0" y="549360"/>
            <a:ext cx="3117960" cy="1295280"/>
          </a:xfrm>
          <a:prstGeom prst="cloudCallout">
            <a:avLst>
              <a:gd name="adj1" fmla="val 6185"/>
              <a:gd name="adj2" fmla="val 137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你知道什么叫方程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2550960" y="404640"/>
            <a:ext cx="5113440" cy="1152720"/>
          </a:xfrm>
          <a:prstGeom prst="cloudCallout">
            <a:avLst>
              <a:gd name="adj1" fmla="val -8347"/>
              <a:gd name="adj2" fmla="val 209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含有未知数的等式</a:t>
            </a:r>
            <a:r>
              <a:rPr b="1" lang="en-US" sz="2500" spc="-1" strike="noStrike">
                <a:solidFill>
                  <a:srgbClr val="ff3300"/>
                </a:solidFill>
                <a:latin typeface="宋体"/>
              </a:rPr>
              <a:t>——</a:t>
            </a: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方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6438960" y="1052640"/>
            <a:ext cx="3848040" cy="1079280"/>
          </a:xfrm>
          <a:prstGeom prst="cloudCallout">
            <a:avLst>
              <a:gd name="adj1" fmla="val -22199"/>
              <a:gd name="adj2" fmla="val 105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你能举出一些方程的例子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HOSE1"/>
          <p:cNvPicPr/>
          <p:nvPr/>
        </p:nvPicPr>
        <p:blipFill>
          <a:blip r:embed="rId3"/>
          <a:stretch/>
        </p:blipFill>
        <p:spPr>
          <a:xfrm>
            <a:off x="8383680" y="5286240"/>
            <a:ext cx="1903320" cy="15717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0"/>
          <p:cNvSpPr/>
          <p:nvPr/>
        </p:nvSpPr>
        <p:spPr>
          <a:xfrm>
            <a:off x="687240" y="4005360"/>
            <a:ext cx="899316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练习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１．判断下列式子是不是方程，正确打“√”，错误打“</a:t>
            </a:r>
            <a:r>
              <a:rPr b="0" i="1" lang="en-US" sz="2500" spc="-1" strike="noStrike">
                <a:solidFill>
                  <a:srgbClr val="000000"/>
                </a:solidFill>
                <a:latin typeface="黑体"/>
                <a:ea typeface="黑体"/>
              </a:rPr>
              <a:t>x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　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(1)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１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+2=3        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)        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(4)          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　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(2)  1+2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=4       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)       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　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(5)   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=2               (    )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　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   x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+1-3        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)       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　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(6)   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-1=0              (    )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1"/>
              <p:cNvSpPr txBox="1"/>
              <p:nvPr/>
            </p:nvSpPr>
            <p:spPr>
              <a:xfrm>
                <a:off x="5854680" y="4941720"/>
                <a:ext cx="137628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 Box 13"/>
          <p:cNvSpPr/>
          <p:nvPr/>
        </p:nvSpPr>
        <p:spPr>
          <a:xfrm>
            <a:off x="3732120" y="4876920"/>
            <a:ext cx="405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732120" y="5715000"/>
            <a:ext cx="3859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7999560" y="4876920"/>
            <a:ext cx="4060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3728880" y="5257800"/>
            <a:ext cx="3704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8072280" y="5715000"/>
            <a:ext cx="3704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7996320" y="5257800"/>
            <a:ext cx="458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2" descr="广告创意"/>
          <p:cNvPicPr/>
          <p:nvPr/>
        </p:nvPicPr>
        <p:blipFill>
          <a:blip r:embed="rId4"/>
          <a:stretch/>
        </p:blipFill>
        <p:spPr>
          <a:xfrm>
            <a:off x="7375680" y="2852640"/>
            <a:ext cx="863280" cy="86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5" descr="SCHL_021"/>
          <p:cNvPicPr/>
          <p:nvPr/>
        </p:nvPicPr>
        <p:blipFill>
          <a:blip r:embed="rId1"/>
          <a:stretch/>
        </p:blipFill>
        <p:spPr>
          <a:xfrm>
            <a:off x="0" y="4941720"/>
            <a:ext cx="2470320" cy="182088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37">
            <a:hlinkClick r:id="rId2"/>
          </p:cNvPr>
          <p:cNvSpPr/>
          <p:nvPr/>
        </p:nvSpPr>
        <p:spPr>
          <a:xfrm>
            <a:off x="2631960" y="476280"/>
            <a:ext cx="5824800" cy="431640"/>
          </a:xfrm>
          <a:prstGeom prst="flowChartDecision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黑体"/>
              </a:rPr>
              <a:t>活动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黑体"/>
              </a:rPr>
              <a:t>:</a:t>
            </a: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黑体"/>
              </a:rPr>
              <a:t>创设情境  提出问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6600" y="1052640"/>
            <a:ext cx="8785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辆客车和一辆卡车同时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地出发沿同一公路同方向行驶，客车的行驶速度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㎞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/h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车的行驶速度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0km/h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客车比卡车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时经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地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两地间的路程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87680" y="5373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你会用算术方法解决这个问题吗？列算式试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66960" y="3068640"/>
            <a:ext cx="669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63680" y="1916280"/>
            <a:ext cx="64818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分析：</a:t>
            </a:r>
            <a:r>
              <a:rPr b="0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若知道</a:t>
            </a:r>
            <a:r>
              <a:rPr b="0" lang="en-US" sz="20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333399"/>
                </a:solidFill>
                <a:latin typeface="黑体"/>
                <a:ea typeface="黑体"/>
              </a:rPr>
              <a:t>B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两地间的路程是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千米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895320" y="3213000"/>
            <a:ext cx="7920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黑体"/>
              </a:rPr>
              <a:t>从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黑体"/>
              </a:rPr>
              <a:t>A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黑体"/>
              </a:rPr>
              <a:t>到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黑体"/>
              </a:rPr>
              <a:t>B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黑体"/>
              </a:rPr>
              <a:t>地客车行驶的时间是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黑体"/>
              </a:rPr>
              <a:t>x/70h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黑体"/>
              </a:rPr>
              <a:t>，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</a:rPr>
              <a:t>卡车行驶的时间是</a:t>
            </a: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x/60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3"/>
          <p:cNvSpPr/>
          <p:nvPr/>
        </p:nvSpPr>
        <p:spPr>
          <a:xfrm>
            <a:off x="966960" y="2421000"/>
            <a:ext cx="363348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用含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的式子表示</a:t>
            </a:r>
            <a:r>
              <a:rPr b="1" lang="zh-CN" sz="1900" spc="-1" strike="noStrike">
                <a:solidFill>
                  <a:srgbClr val="ff3300"/>
                </a:solidFill>
                <a:latin typeface="Arial"/>
              </a:rPr>
              <a:t>时间：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5"/>
          <p:cNvSpPr/>
          <p:nvPr/>
        </p:nvSpPr>
        <p:spPr>
          <a:xfrm>
            <a:off x="1317600" y="4005360"/>
            <a:ext cx="806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列方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6"/>
          <p:cNvSpPr/>
          <p:nvPr/>
        </p:nvSpPr>
        <p:spPr>
          <a:xfrm>
            <a:off x="606600" y="4005360"/>
            <a:ext cx="604980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0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根据</a:t>
            </a:r>
            <a:r>
              <a:rPr b="0" lang="en-US" sz="2000" spc="-1" strike="noStrike">
                <a:solidFill>
                  <a:srgbClr val="333399"/>
                </a:solidFill>
                <a:latin typeface="黑体"/>
                <a:ea typeface="黑体"/>
              </a:rPr>
              <a:t>__________ </a:t>
            </a:r>
            <a:r>
              <a:rPr b="0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，得到</a:t>
            </a:r>
            <a:r>
              <a:rPr b="0" lang="en-US" sz="2000" spc="-1" strike="noStrike">
                <a:solidFill>
                  <a:srgbClr val="333399"/>
                </a:solidFill>
                <a:latin typeface="黑体"/>
                <a:ea typeface="黑体"/>
              </a:rPr>
              <a:t>_______</a:t>
            </a:r>
            <a:r>
              <a:rPr b="0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列出方程</a:t>
            </a:r>
            <a:r>
              <a:rPr b="0" lang="en-US" sz="2000" spc="-1" strike="noStrike">
                <a:solidFill>
                  <a:srgbClr val="333399"/>
                </a:solidFill>
                <a:latin typeface="黑体"/>
                <a:ea typeface="黑体"/>
              </a:rPr>
              <a:t>________________</a:t>
            </a:r>
            <a:r>
              <a:rPr b="0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7"/>
              <p:cNvSpPr txBox="1"/>
              <p:nvPr/>
            </p:nvSpPr>
            <p:spPr>
              <a:xfrm>
                <a:off x="3772080" y="4437000"/>
                <a:ext cx="1299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48"/>
          <p:cNvSpPr/>
          <p:nvPr/>
        </p:nvSpPr>
        <p:spPr>
          <a:xfrm>
            <a:off x="2840040" y="4005360"/>
            <a:ext cx="156996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Times New Roman"/>
              </a:rPr>
              <a:t>题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9"/>
          <p:cNvSpPr/>
          <p:nvPr/>
        </p:nvSpPr>
        <p:spPr>
          <a:xfrm>
            <a:off x="5413320" y="3933720"/>
            <a:ext cx="118116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Times New Roman"/>
              </a:rPr>
              <a:t>时间相差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1600" spc="-1" strike="noStrike">
                <a:solidFill>
                  <a:srgbClr val="ff3300"/>
                </a:solidFill>
                <a:latin typeface="Times New Roman"/>
              </a:rPr>
              <a:t>小时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4"/>
          <p:cNvSpPr/>
          <p:nvPr/>
        </p:nvSpPr>
        <p:spPr>
          <a:xfrm>
            <a:off x="181080" y="920880"/>
            <a:ext cx="100026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1900" spc="-1" strike="noStrike">
                <a:solidFill>
                  <a:srgbClr val="0000ff"/>
                </a:solidFill>
                <a:latin typeface="Arial"/>
              </a:rPr>
              <a:t>问题：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一辆客车和一辆卡车同时从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地出发沿同一公路同方向行驶，客车的行驶速度是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㎞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h,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卡车的行驶速度是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0km/h,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客车比卡车早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小时经过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地，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两地间的路程是多少？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5">
            <a:hlinkClick r:id="rId1"/>
          </p:cNvPr>
          <p:cNvSpPr/>
          <p:nvPr/>
        </p:nvSpPr>
        <p:spPr>
          <a:xfrm>
            <a:off x="2550960" y="406440"/>
            <a:ext cx="6337440" cy="358560"/>
          </a:xfrm>
          <a:prstGeom prst="flowChartDecision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黑体"/>
              </a:rPr>
              <a:t>活动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黑体"/>
              </a:rPr>
              <a:t>: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算术困难   字母帮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0"/>
          <p:cNvSpPr/>
          <p:nvPr/>
        </p:nvSpPr>
        <p:spPr>
          <a:xfrm>
            <a:off x="7299000" y="4216320"/>
            <a:ext cx="324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7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2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0">
                                          <p:stCondLst>
                                            <p:cond delay="132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2">
                                          <p:stCondLst>
                                            <p:cond delay="165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4" fill="hold">
                                          <p:stCondLst>
                                            <p:cond delay="64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4" fill="hold">
                                          <p:stCondLst>
                                            <p:cond delay="67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4" fill="hold">
                                          <p:stCondLst>
                                            <p:cond delay="131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4" fill="hold">
                                          <p:stCondLst>
                                            <p:cond delay="133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4" fill="hold">
                                          <p:stCondLst>
                                            <p:cond delay="164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4" fill="hold">
                                          <p:stCondLst>
                                            <p:cond delay="166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4" fill="hold">
                                          <p:stCondLst>
                                            <p:cond delay="180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4" fill="hold">
                                          <p:stCondLst>
                                            <p:cond delay="183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7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2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0">
                                          <p:stCondLst>
                                            <p:cond delay="132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2">
                                          <p:stCondLst>
                                            <p:cond delay="165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4" fill="hold">
                                          <p:stCondLst>
                                            <p:cond delay="64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4" fill="hold">
                                          <p:stCondLst>
                                            <p:cond delay="67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4" fill="hold">
                                          <p:stCondLst>
                                            <p:cond delay="131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4" fill="hold">
                                          <p:stCondLst>
                                            <p:cond delay="133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4" fill="hold">
                                          <p:stCondLst>
                                            <p:cond delay="164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4" fill="hold">
                                          <p:stCondLst>
                                            <p:cond delay="166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4" fill="hold">
                                          <p:stCondLst>
                                            <p:cond delay="180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4" fill="hold">
                                          <p:stCondLst>
                                            <p:cond delay="18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34960" y="2421000"/>
            <a:ext cx="8739360" cy="866880"/>
          </a:xfrm>
          <a:prstGeom prst="rect">
            <a:avLst/>
          </a:prstGeom>
          <a:solidFill>
            <a:srgbClr val="ff33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HOSE1"/>
          <p:cNvPicPr/>
          <p:nvPr/>
        </p:nvPicPr>
        <p:blipFill>
          <a:blip r:embed="rId1"/>
          <a:stretch/>
        </p:blipFill>
        <p:spPr>
          <a:xfrm>
            <a:off x="8464680" y="3500280"/>
            <a:ext cx="1822320" cy="1503360"/>
          </a:xfrm>
          <a:prstGeom prst="rect">
            <a:avLst/>
          </a:prstGeom>
          <a:ln w="0">
            <a:noFill/>
          </a:ln>
        </p:spPr>
      </p:pic>
      <p:sp>
        <p:nvSpPr>
          <p:cNvPr id="92" name="Line 9"/>
          <p:cNvSpPr/>
          <p:nvPr/>
        </p:nvSpPr>
        <p:spPr>
          <a:xfrm>
            <a:off x="3198960" y="3068640"/>
            <a:ext cx="463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3990960" y="2565360"/>
            <a:ext cx="3240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000" spc="-1" strike="noStrike">
                <a:solidFill>
                  <a:srgbClr val="f0f2ac"/>
                </a:solidFill>
                <a:latin typeface="Arial"/>
              </a:rPr>
              <a:t>设未知数         找等量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8023320" y="2708280"/>
            <a:ext cx="896760" cy="403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1614600" y="2708280"/>
            <a:ext cx="1569960" cy="403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实际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90600" y="4005360"/>
            <a:ext cx="955980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练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根据下列条件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出方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用一根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4c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的铁丝围成一个正方形，正方形的边长是多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三分之一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和等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根据下列问题，设未知数列出方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 环形跑道一周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0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沿跑道跑多少周可以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3 00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14"/>
          <p:cNvSpPr txBox="1"/>
          <p:nvPr/>
        </p:nvSpPr>
        <p:spPr>
          <a:xfrm>
            <a:off x="2911320" y="3429000"/>
            <a:ext cx="343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小试牛刀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606600" y="2924280"/>
            <a:ext cx="111096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归 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6">
            <a:hlinkClick r:id="rId2"/>
          </p:cNvPr>
          <p:cNvSpPr/>
          <p:nvPr/>
        </p:nvSpPr>
        <p:spPr>
          <a:xfrm>
            <a:off x="2190600" y="981000"/>
            <a:ext cx="6696360" cy="358920"/>
          </a:xfrm>
          <a:prstGeom prst="flowChartDecision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黑体"/>
              </a:rPr>
              <a:t>活动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黑体"/>
              </a:rPr>
              <a:t>: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找到关系   列出方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A_03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O_04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4960" y="764640"/>
            <a:ext cx="925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上面我们列出的方程有什么特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98600" y="3645000"/>
            <a:ext cx="18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600" y="3645000"/>
            <a:ext cx="88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们都只含有一个未知数，并且未知数的次数都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9320" y="522936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个未知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并且未知数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次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68440" y="4437000"/>
            <a:ext cx="110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元一次方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66960" y="155736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温馨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含有未知量的个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未知量的次数    两方面考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509760" y="981000"/>
            <a:ext cx="542592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练习　根据下列问题，设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　　　知数并列出方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06600" y="1967040"/>
            <a:ext cx="482436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台计算机已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7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，预计每月再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，经过多少月这台计算机的使用时间达到规定的修检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 4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638"/>
          <p:cNvPicPr/>
          <p:nvPr/>
        </p:nvPicPr>
        <p:blipFill>
          <a:blip r:embed="rId1"/>
          <a:stretch/>
        </p:blipFill>
        <p:spPr>
          <a:xfrm>
            <a:off x="6222960" y="1360440"/>
            <a:ext cx="3780000" cy="22478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1614600" y="3860640"/>
            <a:ext cx="1293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181240" y="3716280"/>
            <a:ext cx="7066080" cy="23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后这台计算机的使用时间达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 4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后使用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 700+15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756880" y="5413320"/>
            <a:ext cx="10836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列方程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4037040" y="5413320"/>
            <a:ext cx="41306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700+15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2 4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9">
            <a:hlinkClick r:id="rId2"/>
          </p:cNvPr>
          <p:cNvSpPr/>
          <p:nvPr/>
        </p:nvSpPr>
        <p:spPr>
          <a:xfrm>
            <a:off x="2911320" y="622440"/>
            <a:ext cx="4699080" cy="358560"/>
          </a:xfrm>
          <a:prstGeom prst="flowChartDecision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活动</a:t>
            </a:r>
            <a:r>
              <a:rPr b="1" lang="en-US" sz="25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拓广探索   训练提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0:42:39Z</dcterms:created>
  <dc:creator>Pan</dc:creator>
  <dc:description/>
  <cp:keywords/>
  <dc:language>en-US</dc:language>
  <cp:lastModifiedBy>User</cp:lastModifiedBy>
  <cp:lastPrinted>1900-01-04T05:08:28Z</cp:lastPrinted>
  <dcterms:modified xsi:type="dcterms:W3CDTF">2013-11-22T09:53:19Z</dcterms:modified>
  <cp:revision>130</cp:revision>
  <dc:subject/>
  <dc:title>幻灯片 1</dc:title>
</cp:coreProperties>
</file>