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0.png" ContentType="image/png"/>
  <Override PartName="/ppt/media/image16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3.wmf" ContentType="image/x-wmf"/>
  <Override PartName="/ppt/media/image8.jpeg" ContentType="image/jpeg"/>
  <Override PartName="/ppt/media/NOTIFY.WAV" ContentType="audio/x-wav"/>
  <Override PartName="/ppt/media/image15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C064-51FA-491B-B28C-475A63E2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CD4-FB37-468E-9C6B-BF35AB36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9D62-9324-45BE-BBE9-F2B377B3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59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55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1600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59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55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3060-496D-40A6-8E73-D553FB2F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970-C46E-4B4B-B2C7-17F1E434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759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355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1600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759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355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522-3598-4B84-86E9-EFA75CDC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6759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55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11600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6759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355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905-FACA-4105-9AF7-68D86BC8B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6759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5560" y="155736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111600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6759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235560" y="3921480"/>
            <a:ext cx="2437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9FB-47D9-4B34-9364-534DD9A7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EEC-743E-42D0-BFCB-BD715AEC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DC9-F521-472E-80ED-E9EE6FB2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5360" y="392148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76C-162C-4249-9C6A-F8FC5F61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5360" y="1557360"/>
            <a:ext cx="369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6000" y="3921480"/>
            <a:ext cx="7570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B237-6758-4105-9297-89A6DCF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nordri.net/" TargetMode="External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FF8D-56A4-4B38-9892-26C4B2D772D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6" descr="powerbar_update_light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7" descr="powerstore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8" descr="tm_logo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2177640" y="3859920"/>
            <a:ext cx="345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0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0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2" descr="cc"/>
          <p:cNvPicPr/>
          <p:nvPr/>
        </p:nvPicPr>
        <p:blipFill>
          <a:blip r:embed="rId9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57" name="Line 23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5" descr="tm_logo"/>
          <p:cNvPicPr/>
          <p:nvPr/>
        </p:nvPicPr>
        <p:blipFill>
          <a:blip r:embed="rId10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9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™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17.jpg"/>
          <p:cNvPicPr/>
          <p:nvPr/>
        </p:nvPicPr>
        <p:blipFill>
          <a:blip r:embed="rId2"/>
          <a:stretch/>
        </p:blipFill>
        <p:spPr>
          <a:xfrm>
            <a:off x="-1836720" y="0"/>
            <a:ext cx="11737800" cy="91202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图片7.png"/>
          <p:cNvPicPr/>
          <p:nvPr/>
        </p:nvPicPr>
        <p:blipFill>
          <a:blip r:embed="rId3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8" descr="图片4.png"/>
          <p:cNvPicPr/>
          <p:nvPr/>
        </p:nvPicPr>
        <p:blipFill>
          <a:blip r:embed="rId4"/>
          <a:stretch/>
        </p:blipFill>
        <p:spPr>
          <a:xfrm>
            <a:off x="0" y="0"/>
            <a:ext cx="22683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9640" y="1196640"/>
            <a:ext cx="6481800" cy="180036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efefe">
                  <a:alpha val="8313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995640" y="4149360"/>
            <a:ext cx="4392720" cy="1079640"/>
          </a:xfrm>
          <a:prstGeom prst="rect">
            <a:avLst/>
          </a:prstGeom>
          <a:gradFill rotWithShape="0">
            <a:gsLst>
              <a:gs pos="0">
                <a:srgbClr val="ffffff">
                  <a:alpha val="60392"/>
                </a:srgbClr>
              </a:gs>
              <a:gs pos="100000">
                <a:srgbClr val="fefefe">
                  <a:alpha val="60392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24000"/>
          </a:bodyPr>
          <a:p>
            <a:pPr marL="82080" indent="-82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78200" indent="-6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274320" indent="-54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83760" indent="-54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93560" indent="-5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93560" indent="-5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93560" indent="-54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6" descr="17.jpg"/>
          <p:cNvPicPr/>
          <p:nvPr/>
        </p:nvPicPr>
        <p:blipFill>
          <a:blip r:embed="rId2"/>
          <a:stretch/>
        </p:blipFill>
        <p:spPr>
          <a:xfrm>
            <a:off x="0" y="0"/>
            <a:ext cx="71424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116000" y="1557360"/>
            <a:ext cx="75708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audio" Target="../media/NOTIFY.WAV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11280" y="1628640"/>
            <a:ext cx="6732720" cy="1224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efefe">
                  <a:alpha val="83137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华文隶书"/>
              </a:rPr>
              <a:t>1.5.3</a:t>
            </a:r>
            <a:r>
              <a:rPr b="0" lang="en-US" sz="7200" spc="-1" strike="noStrike">
                <a:solidFill>
                  <a:srgbClr val="0000ff"/>
                </a:solidFill>
                <a:latin typeface="华文隶书"/>
              </a:rPr>
              <a:t>  </a:t>
            </a:r>
            <a:r>
              <a:rPr b="0" lang="zh-CN" sz="7200" spc="-1" strike="noStrike">
                <a:solidFill>
                  <a:srgbClr val="0000ff"/>
                </a:solidFill>
                <a:latin typeface="Calibri"/>
              </a:rPr>
              <a:t>近 似 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042920" y="404640"/>
            <a:ext cx="753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下列实际问题中出现的数，哪些是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精确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哪些是</a:t>
            </a:r>
            <a:r>
              <a:rPr b="1" lang="zh-CN" sz="3600" spc="-1" strike="noStrike">
                <a:solidFill>
                  <a:srgbClr val="c0504d"/>
                </a:solidFill>
                <a:latin typeface="Arial"/>
                <a:ea typeface="黑体"/>
              </a:rPr>
              <a:t>近似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1042920" y="1989000"/>
            <a:ext cx="6624720" cy="27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初一（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有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5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名同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地球的半径约为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370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千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华人民共和国现在有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级行政单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明的身高接近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6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0" y="45720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16000" y="1916280"/>
            <a:ext cx="75708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⑴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0201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精确到千分位）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⑵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8.496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精确到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.01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⑶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.294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精确到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.1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⑷</a:t>
            </a:r>
            <a:r>
              <a:rPr b="0" lang="en-US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3595</a:t>
            </a:r>
            <a:r>
              <a:rPr b="0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保留四个有效数字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94836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332000" y="792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四舍五入法，把下列各数按括号内的要求取近似值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802980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71280" y="2637000"/>
            <a:ext cx="71276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ff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Calibri"/>
                <a:ea typeface="楷体_GB2312"/>
              </a:rPr>
              <a:t>用四舍五入法得到的接近于实际值的数叫近似数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/>
          <p:nvPr/>
        </p:nvSpPr>
        <p:spPr>
          <a:xfrm>
            <a:off x="2463840" y="126828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近 似 数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54764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什么叫准确数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198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与实际完全符合的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1547640" y="4149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黑体"/>
                <a:ea typeface="黑体"/>
              </a:rPr>
              <a:t>表示一个近似数与准确数接近的程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21300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什么叫精确度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16000" y="475920"/>
            <a:ext cx="7704000" cy="58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对近似数，人们常需知道他的精确度。一个近似数的精确度通常有以下两种表述方式 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用四舍五入法表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用有效数字的个数表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619280" y="263700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1.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19280" y="4005360"/>
            <a:ext cx="504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2.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799308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按四舍五入法对圆周率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π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仿宋_GB2312"/>
              </a:rPr>
              <a:t>取近似值时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8028000" cy="403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π≈3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精确到个位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π≈3.1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精确到</a:t>
            </a: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0.1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或叫做精确到十分位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π≈3.14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精确到</a:t>
            </a: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0.01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或叫做精确到百分位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π≈3.142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精确到</a:t>
            </a: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0.001</a:t>
            </a:r>
            <a:r>
              <a:rPr b="1" lang="zh-CN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或叫做精确到千分位</a:t>
            </a:r>
            <a:r>
              <a:rPr b="1" lang="en-US" sz="3200" spc="-1" strike="noStrike">
                <a:solidFill>
                  <a:srgbClr val="3333ff"/>
                </a:solidFill>
                <a:latin typeface="Book Antiqua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Book Antiqua"/>
                <a:ea typeface="仿宋_GB2312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4508640"/>
            <a:ext cx="5761080" cy="1871640"/>
          </a:xfrm>
          <a:prstGeom prst="cloudCallout">
            <a:avLst>
              <a:gd name="adj1" fmla="val -53828"/>
              <a:gd name="adj2" fmla="val -74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近似数四舍五入到哪一位，就说这个近似数精确到哪一位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1340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3.1415926535898 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86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有 效 数 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7570800" cy="23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从左边第一个不是</a:t>
            </a:r>
            <a:r>
              <a:rPr b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0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的数字起，到精确到的数位（即最后一位四舍五入所得的数）止，所有的数字称为有效数字</a:t>
            </a:r>
            <a:r>
              <a:rPr b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132000" y="4076640"/>
            <a:ext cx="230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15320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5084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有效数字：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1692360" y="40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如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8644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例题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67690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近似数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5×1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精确到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位，有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有效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首先把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.5×10</a:t>
            </a:r>
            <a:r>
              <a:rPr b="1" lang="en-US" sz="16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仿宋_GB2312"/>
              </a:rPr>
              <a:t>拆开，得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500</a:t>
            </a:r>
            <a:r>
              <a:rPr b="1" lang="zh-CN" sz="3200" spc="-1" strike="noStrike">
                <a:solidFill>
                  <a:srgbClr val="0000ff"/>
                </a:solidFill>
                <a:latin typeface="Calibri"/>
                <a:ea typeface="仿宋_GB2312"/>
              </a:rPr>
              <a:t>，知道了精确到千位，</a:t>
            </a: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.5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有两个有效数字所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a8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00a8"/>
                </a:solidFill>
                <a:latin typeface="仿宋_GB2312"/>
                <a:ea typeface="仿宋_GB2312"/>
              </a:rPr>
              <a:t>近似数</a:t>
            </a:r>
            <a:r>
              <a:rPr b="1" lang="en-US" sz="3200" spc="-1" strike="noStrike">
                <a:solidFill>
                  <a:srgbClr val="0000a8"/>
                </a:solidFill>
                <a:latin typeface="仿宋_GB2312"/>
                <a:ea typeface="仿宋_GB2312"/>
              </a:rPr>
              <a:t>3.5×10</a:t>
            </a:r>
            <a:r>
              <a:rPr b="1" lang="en-US" sz="1600" spc="-1" strike="noStrike">
                <a:solidFill>
                  <a:srgbClr val="0000a8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a8"/>
                </a:solidFill>
                <a:latin typeface="仿宋_GB2312"/>
                <a:ea typeface="仿宋_GB2312"/>
              </a:rPr>
              <a:t>精确到 </a:t>
            </a:r>
            <a:r>
              <a:rPr b="1" lang="zh-CN" sz="3200" spc="-1" strike="noStrike" u="sng">
                <a:solidFill>
                  <a:srgbClr val="0000a8"/>
                </a:solidFill>
                <a:uFillTx/>
                <a:latin typeface="仿宋_GB2312"/>
                <a:ea typeface="仿宋_GB2312"/>
              </a:rPr>
              <a:t>千 </a:t>
            </a:r>
            <a:r>
              <a:rPr b="1" lang="zh-CN" sz="3200" spc="-1" strike="noStrike">
                <a:solidFill>
                  <a:srgbClr val="0000a8"/>
                </a:solidFill>
                <a:latin typeface="仿宋_GB2312"/>
                <a:ea typeface="仿宋_GB2312"/>
              </a:rPr>
              <a:t>位，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a8"/>
                </a:solidFill>
                <a:uFillTx/>
                <a:latin typeface="仿宋_GB2312"/>
                <a:ea typeface="仿宋_GB2312"/>
              </a:rPr>
              <a:t>  </a:t>
            </a:r>
            <a:r>
              <a:rPr b="1" lang="en-US" sz="3200" spc="-1" strike="noStrike" u="sng">
                <a:solidFill>
                  <a:srgbClr val="0000a8"/>
                </a:solidFill>
                <a:uFillTx/>
                <a:latin typeface="仿宋_GB2312"/>
                <a:ea typeface="仿宋_GB2312"/>
              </a:rPr>
              <a:t>2 </a:t>
            </a:r>
            <a:r>
              <a:rPr b="1" lang="zh-CN" sz="3200" spc="-1" strike="noStrike">
                <a:solidFill>
                  <a:srgbClr val="0000a8"/>
                </a:solidFill>
                <a:latin typeface="仿宋_GB2312"/>
                <a:ea typeface="仿宋_GB2312"/>
              </a:rPr>
              <a:t>个有效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89960" y="2852640"/>
            <a:ext cx="14540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例题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1700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2.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2408760" y="16286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1125360"/>
            <a:ext cx="4032360" cy="1727280"/>
          </a:xfrm>
          <a:prstGeom prst="cloudCallout">
            <a:avLst>
              <a:gd name="adj1" fmla="val -73662"/>
              <a:gd name="adj2" fmla="val 6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我带有单位，那我应该是有几个有效数字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4292640"/>
            <a:ext cx="60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</a:t>
            </a: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</a:t>
            </a:r>
            <a:r>
              <a:rPr b="1" lang="en-US" sz="4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两个有效数字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 rot="20714400">
            <a:off x="971640" y="3068280"/>
            <a:ext cx="196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黑体"/>
              </a:rPr>
              <a:t>试一试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27236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近似数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5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万精确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位，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有效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近似数</a:t>
            </a: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.4062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精确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个有效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47×10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精确到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位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有效数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84720" y="4076640"/>
            <a:ext cx="266400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64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20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7-09T14:38:12Z</dcterms:modified>
  <cp:revision>21</cp:revision>
  <dc:subject/>
  <dc:title>幻灯片 1</dc:title>
</cp:coreProperties>
</file>