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E2EE-961E-4BCF-A676-07F50015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684A-45A9-45DE-A824-EE9CBA33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CFC6-8017-4200-A0E3-8779E5EB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E8FE-1A37-4934-A2E0-90465310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33EF-A92E-424F-862D-EBF59A70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BE23-7A2F-4393-849E-AF4E36F4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9BDD-F06D-4B3C-8200-978C302F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636A-9E0E-4DD5-80B5-DCE9582C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0CBC-F78E-4F58-BF5C-E154AA37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0AE2-463B-4536-8E30-F4DA0868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C4A5-B378-455E-A9DF-34984555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3606-03D9-405D-A179-2B63E373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2DC6-1D9F-4AB1-A742-817205EDC4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349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000000"/>
                </a:solidFill>
                <a:latin typeface="Arial"/>
              </a:rPr>
              <a:t>1.5.2</a:t>
            </a:r>
            <a:r>
              <a:rPr b="1" i="1" lang="zh-CN" sz="9600" spc="-1" strike="noStrike">
                <a:solidFill>
                  <a:srgbClr val="000000"/>
                </a:solidFill>
                <a:latin typeface="Arial"/>
              </a:rPr>
              <a:t>科学记数法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布置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习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５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０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9440" y="2060640"/>
            <a:ext cx="8277840" cy="30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填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=______                 10</a:t>
            </a:r>
            <a:r>
              <a:rPr b="1" lang="zh-CN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=______               10</a:t>
            </a:r>
            <a:r>
              <a:rPr b="1" lang="zh-CN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=_________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=__________                 10</a:t>
            </a:r>
            <a:r>
              <a:rPr b="1" lang="zh-CN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=_____________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09120" y="304560"/>
            <a:ext cx="76964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现实生活中我们知道太阳的半径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千米、光的速度约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秒、世界人口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6858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9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066680"/>
            <a:ext cx="22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1066680"/>
            <a:ext cx="20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1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27432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2743200"/>
            <a:ext cx="13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28195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39625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3962520"/>
            <a:ext cx="19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5013360"/>
            <a:ext cx="82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同学们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你们发现了什么呢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566100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一般地 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,10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的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n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次幂等于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10……0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（在１的后面有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n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个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0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67000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________________________=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12952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5.67×(                         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705720" y="1143000"/>
            <a:ext cx="2174040" cy="749520"/>
            <a:chOff x="6705720" y="1143000"/>
            <a:chExt cx="2174040" cy="749520"/>
          </a:xfrm>
        </p:grpSpPr>
        <p:sp>
          <p:nvSpPr>
            <p:cNvPr id="57" name=""/>
            <p:cNvSpPr/>
            <p:nvPr/>
          </p:nvSpPr>
          <p:spPr>
            <a:xfrm>
              <a:off x="6705720" y="1311120"/>
              <a:ext cx="1895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5.67×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557200" y="1143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80880" y="2666880"/>
            <a:ext cx="8153280" cy="1709280"/>
            <a:chOff x="380880" y="2666880"/>
            <a:chExt cx="8153280" cy="1709280"/>
          </a:xfrm>
        </p:grpSpPr>
        <p:sp>
          <p:nvSpPr>
            <p:cNvPr id="60" name=""/>
            <p:cNvSpPr/>
            <p:nvPr/>
          </p:nvSpPr>
          <p:spPr>
            <a:xfrm>
              <a:off x="7011720" y="266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0880" y="2819160"/>
              <a:ext cx="81532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象上面这样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，把一个大于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的数表示成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</a:rPr>
                <a:t>×10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的形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（其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是整数数位只有一位的数，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是正整数），使用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是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科学记数法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210760" y="228600"/>
            <a:ext cx="1933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活动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能利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乘方表示一些大数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98108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读作“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5.67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乘以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次方（或幂）”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4221000"/>
            <a:ext cx="8281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太阳半径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696000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记作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光的速度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300000000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记作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世界人口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6100000000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记作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427640" y="3933720"/>
            <a:ext cx="2196720" cy="749520"/>
            <a:chOff x="4427640" y="3933720"/>
            <a:chExt cx="2196720" cy="749520"/>
          </a:xfrm>
        </p:grpSpPr>
        <p:sp>
          <p:nvSpPr>
            <p:cNvPr id="66" name=""/>
            <p:cNvSpPr/>
            <p:nvPr/>
          </p:nvSpPr>
          <p:spPr>
            <a:xfrm>
              <a:off x="4427640" y="4101840"/>
              <a:ext cx="187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6.96×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01800" y="3933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643280" y="4724280"/>
            <a:ext cx="2066760" cy="749520"/>
            <a:chOff x="4643280" y="4724280"/>
            <a:chExt cx="2066760" cy="749520"/>
          </a:xfrm>
        </p:grpSpPr>
        <p:sp>
          <p:nvSpPr>
            <p:cNvPr id="69" name=""/>
            <p:cNvSpPr/>
            <p:nvPr/>
          </p:nvSpPr>
          <p:spPr>
            <a:xfrm>
              <a:off x="4643280" y="4892400"/>
              <a:ext cx="185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    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3 ×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387480" y="4724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292720" y="5516640"/>
            <a:ext cx="2079000" cy="703440"/>
            <a:chOff x="5292720" y="5516640"/>
            <a:chExt cx="2079000" cy="703440"/>
          </a:xfrm>
        </p:grpSpPr>
        <p:sp>
          <p:nvSpPr>
            <p:cNvPr id="72" name=""/>
            <p:cNvSpPr/>
            <p:nvPr/>
          </p:nvSpPr>
          <p:spPr>
            <a:xfrm>
              <a:off x="5292720" y="5638680"/>
              <a:ext cx="187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6.1×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049160" y="5516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736440" y="1295280"/>
            <a:ext cx="21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28036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活动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科学记数法表示下列各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00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7000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3000000000,    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3280" y="501336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4191120"/>
            <a:ext cx="822960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用科学记数法表示下列各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87,    10000,    70500000,    10003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   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1905120"/>
            <a:ext cx="548640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  100000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7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300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0 0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0000  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08080" y="1905120"/>
            <a:ext cx="8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=10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2438280"/>
            <a:ext cx="23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=5.7×10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2895480"/>
            <a:ext cx="24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=1.23×10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3429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×10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1828800"/>
            <a:ext cx="21081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=1× 10</a:t>
            </a:r>
            <a:r>
              <a:rPr b="1" lang="en-US" sz="3200" spc="-1" strike="noStrike" baseline="30000">
                <a:solidFill>
                  <a:srgbClr val="ff33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03280" y="227664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答：等号左边整数的位数比右边的１０的指数大１，      即１０的指数比这个数的整数位数小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4221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① 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如果一个数为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位数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用科学计数法表示它时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,10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的指数是多少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?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如果它是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9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位整数呢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?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如果它是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n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位整数呢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41300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新魏"/>
              </a:rPr>
              <a:t>、上面的式子中，等号左边整数的位数与右边１０的指数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55640" y="404640"/>
            <a:ext cx="15462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思考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11280" y="3429000"/>
            <a:ext cx="158112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6600">
                    <a:alpha val="89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问题</a:t>
            </a:r>
            <a:r>
              <a:rPr b="1" i="1" lang="en-US" sz="54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6600">
                    <a:alpha val="89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:</a:t>
            </a:r>
            <a:endParaRPr b="1" i="1" lang="en-US" sz="5400" spc="1" strike="noStrike">
              <a:ln w="12600">
                <a:solidFill>
                  <a:srgbClr val="ff6600"/>
                </a:solidFill>
                <a:miter/>
              </a:ln>
              <a:solidFill>
                <a:srgbClr val="ff6600">
                  <a:alpha val="89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68360" y="5516640"/>
            <a:ext cx="5111640" cy="664920"/>
            <a:chOff x="468360" y="5516640"/>
            <a:chExt cx="5111640" cy="664920"/>
          </a:xfrm>
        </p:grpSpPr>
        <p:sp>
          <p:nvSpPr>
            <p:cNvPr id="90" name=""/>
            <p:cNvSpPr/>
            <p:nvPr/>
          </p:nvSpPr>
          <p:spPr>
            <a:xfrm>
              <a:off x="468360" y="5661000"/>
              <a:ext cx="511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华文新魏"/>
                  <a:ea typeface="华文新魏"/>
                </a:rPr>
                <a:t>② </a:t>
              </a:r>
              <a:r>
                <a:rPr b="1" lang="zh-CN" sz="2800" spc="-1" strike="noStrike">
                  <a:solidFill>
                    <a:srgbClr val="333399"/>
                  </a:solidFill>
                  <a:latin typeface="华文新魏"/>
                  <a:ea typeface="华文新魏"/>
                </a:rPr>
                <a:t>3.005×10  </a:t>
              </a:r>
              <a:r>
                <a:rPr b="1" lang="zh-CN" sz="2800" spc="-1" strike="noStrike">
                  <a:solidFill>
                    <a:srgbClr val="333399"/>
                  </a:solidFill>
                  <a:latin typeface="华文新魏"/>
                  <a:ea typeface="华文新魏"/>
                </a:rPr>
                <a:t>原来是几位数</a:t>
              </a:r>
              <a:r>
                <a:rPr b="1" lang="zh-CN" sz="2800" spc="-1" strike="noStrike">
                  <a:solidFill>
                    <a:srgbClr val="333399"/>
                  </a:solidFill>
                  <a:latin typeface="华文新魏"/>
                  <a:ea typeface="华文新魏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29440" y="55166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活动</a:t>
            </a:r>
            <a:r>
              <a:rPr b="0" lang="zh-CN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出下列用科学记数法表示的各数的原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×1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 ____________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02×1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.008×1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_________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74×1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170028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08360" y="2349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02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51280" y="2924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70 08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24360" y="350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 74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99cc00"/>
                </a:solidFill>
                <a:uFillTx/>
                <a:latin typeface="Arial"/>
              </a:rPr>
              <a:t>综合与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比例尺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:8000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地图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量得太原到北京的距离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.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厘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科学记数法表示太原到北京的实际距离是多少千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 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科学记数法表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粒纽扣式电池能够污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升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太原市每年报废这种电池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000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废旧电池不回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年报废的电池所污染的水约多少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科学记数法表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56960" y="3357720"/>
            <a:ext cx="8820360" cy="664920"/>
            <a:chOff x="156960" y="3357720"/>
            <a:chExt cx="8820360" cy="664920"/>
          </a:xfrm>
        </p:grpSpPr>
        <p:sp>
          <p:nvSpPr>
            <p:cNvPr id="101" name=""/>
            <p:cNvSpPr/>
            <p:nvPr/>
          </p:nvSpPr>
          <p:spPr>
            <a:xfrm>
              <a:off x="156960" y="3502080"/>
              <a:ext cx="882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6.4×8000000=51200000(cm)=512(km)=5.12×10  (km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66160" y="3357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95280" y="5877000"/>
            <a:ext cx="7993080" cy="593640"/>
            <a:chOff x="395280" y="5877000"/>
            <a:chExt cx="7993080" cy="593640"/>
          </a:xfrm>
        </p:grpSpPr>
        <p:sp>
          <p:nvSpPr>
            <p:cNvPr id="104" name=""/>
            <p:cNvSpPr/>
            <p:nvPr/>
          </p:nvSpPr>
          <p:spPr>
            <a:xfrm>
              <a:off x="395280" y="5950080"/>
              <a:ext cx="799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60×10 000 000=6×100 000 000=6×10   (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升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50520" y="587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00"/>
                </a:solidFill>
                <a:latin typeface="Arial"/>
              </a:rPr>
              <a:t>智力挑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686800" cy="3197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0200000÷2000=201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利用科学记数法可改写成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(4.02×10</a:t>
            </a:r>
            <a:r>
              <a:rPr b="1" lang="zh-CN" sz="3200" spc="-1" strike="noStrike" baseline="30000">
                <a:solidFill>
                  <a:srgbClr val="333399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)÷(2×10</a:t>
            </a:r>
            <a:r>
              <a:rPr b="1" lang="zh-CN" sz="32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)=2.01×10</a:t>
            </a:r>
            <a:r>
              <a:rPr b="1" lang="zh-CN" sz="32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仿照上面的改写方法自选三个等式试一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能发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a×1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÷(b×1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算法有什么规律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用你发现的规律直接计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6×1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÷(1.2×1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454760" y="1197000"/>
            <a:ext cx="6051960" cy="726120"/>
            <a:chOff x="1454760" y="1197000"/>
            <a:chExt cx="6051960" cy="726120"/>
          </a:xfrm>
        </p:grpSpPr>
        <p:sp>
          <p:nvSpPr>
            <p:cNvPr id="109" name=""/>
            <p:cNvSpPr/>
            <p:nvPr/>
          </p:nvSpPr>
          <p:spPr>
            <a:xfrm>
              <a:off x="1454760" y="1341720"/>
              <a:ext cx="605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Arial"/>
                </a:rPr>
                <a:t>⑴</a:t>
              </a:r>
              <a:r>
                <a:rPr b="1" lang="zh-CN" sz="3200" spc="-1" strike="noStrike">
                  <a:solidFill>
                    <a:srgbClr val="333399"/>
                  </a:solidFill>
                  <a:latin typeface="Arial"/>
                </a:rPr>
                <a:t>计算：</a:t>
              </a:r>
              <a:r>
                <a:rPr b="1" lang="zh-CN" sz="3200" spc="-1" strike="noStrike">
                  <a:solidFill>
                    <a:srgbClr val="333399"/>
                  </a:solidFill>
                  <a:latin typeface="Arial"/>
                </a:rPr>
                <a:t>(-2)  ×5 </a:t>
              </a:r>
              <a:r>
                <a:rPr b="1" lang="zh-CN" sz="3200" spc="-1" strike="noStrike">
                  <a:solidFill>
                    <a:srgbClr val="333399"/>
                  </a:solidFill>
                  <a:latin typeface="Arial"/>
                </a:rPr>
                <a:t>（结果用科学记数法表示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94160" y="11970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57440" y="11970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5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11280" y="1989000"/>
            <a:ext cx="7343640" cy="726120"/>
            <a:chOff x="611280" y="1989000"/>
            <a:chExt cx="7343640" cy="726120"/>
          </a:xfrm>
        </p:grpSpPr>
        <p:sp>
          <p:nvSpPr>
            <p:cNvPr id="113" name=""/>
            <p:cNvSpPr/>
            <p:nvPr/>
          </p:nvSpPr>
          <p:spPr>
            <a:xfrm>
              <a:off x="611280" y="2133720"/>
              <a:ext cx="734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解：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(-2)  ×5  =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（－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2×5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）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×5=5×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94880" y="19890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3800" y="19890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26160" y="19890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18520" y="19890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5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91040" y="5229360"/>
            <a:ext cx="3405600" cy="664920"/>
            <a:chOff x="4991040" y="5229360"/>
            <a:chExt cx="3405600" cy="664920"/>
          </a:xfrm>
        </p:grpSpPr>
        <p:sp>
          <p:nvSpPr>
            <p:cNvPr id="119" name=""/>
            <p:cNvSpPr/>
            <p:nvPr/>
          </p:nvSpPr>
          <p:spPr>
            <a:xfrm>
              <a:off x="4991040" y="5373720"/>
              <a:ext cx="264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=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（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6÷1.2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）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×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89880" y="5229360"/>
              <a:ext cx="80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13</a:t>
              </a: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－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936680" y="5950080"/>
            <a:ext cx="1457280" cy="591840"/>
            <a:chOff x="4936680" y="5950080"/>
            <a:chExt cx="1457280" cy="591840"/>
          </a:xfrm>
        </p:grpSpPr>
        <p:sp>
          <p:nvSpPr>
            <p:cNvPr id="122" name=""/>
            <p:cNvSpPr/>
            <p:nvPr/>
          </p:nvSpPr>
          <p:spPr>
            <a:xfrm>
              <a:off x="4936680" y="6021360"/>
              <a:ext cx="118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=5×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86880" y="5950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580000" y="4221000"/>
            <a:ext cx="3563640" cy="663480"/>
            <a:chOff x="5580000" y="4221000"/>
            <a:chExt cx="3563640" cy="663480"/>
          </a:xfrm>
        </p:grpSpPr>
        <p:sp>
          <p:nvSpPr>
            <p:cNvPr id="125" name=""/>
            <p:cNvSpPr/>
            <p:nvPr/>
          </p:nvSpPr>
          <p:spPr>
            <a:xfrm>
              <a:off x="5580000" y="4363920"/>
              <a:ext cx="3563640" cy="5205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"/>
                </a:rPr>
                <a:t>=(a÷b)×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923240" y="4221000"/>
              <a:ext cx="77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m</a:t>
              </a: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－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 rot="319800">
            <a:off x="533520" y="533520"/>
            <a:ext cx="2776320" cy="14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12600">
                  <a:solidFill>
                    <a:srgbClr val="cc99ff"/>
                  </a:solidFill>
                  <a:miter/>
                </a:ln>
                <a:solidFill>
                  <a:srgbClr val="cc99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小结：</a:t>
            </a:r>
            <a:endParaRPr b="1" i="1" lang="en-US" sz="9600" spc="1" strike="noStrike">
              <a:ln w="12600">
                <a:solidFill>
                  <a:srgbClr val="cc99ff"/>
                </a:solidFill>
                <a:miter/>
              </a:ln>
              <a:solidFill>
                <a:srgbClr val="cc99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2286000"/>
            <a:ext cx="7619760" cy="2104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Arial"/>
              </a:rPr>
              <a:t>　　这节课我们主要学习了哪些知识？有何体会和收获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01:54:55Z</dcterms:created>
  <dc:creator>微软用户</dc:creator>
  <dc:description/>
  <dc:language>en-US</dc:language>
  <cp:lastModifiedBy>微软用户</cp:lastModifiedBy>
  <dcterms:modified xsi:type="dcterms:W3CDTF">2012-07-16T01:19:58Z</dcterms:modified>
  <cp:revision>43</cp:revision>
  <dc:subject/>
  <dc:title>科学记数法</dc:title>
</cp:coreProperties>
</file>