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16.wmf" ContentType="image/x-wmf"/>
  <Override PartName="/ppt/media/image8.png" ContentType="image/png"/>
  <Override PartName="/ppt/media/image3.jpeg" ContentType="image/jpeg"/>
  <Override PartName="/ppt/media/image30.jpeg" ContentType="image/jpeg"/>
  <Override PartName="/ppt/media/image18.wmf" ContentType="image/x-wmf"/>
  <Override PartName="/ppt/media/image5.jpeg" ContentType="image/jpeg"/>
  <Override PartName="/ppt/media/image17.wmf" ContentType="image/x-wmf"/>
  <Override PartName="/ppt/media/image4.gif" ContentType="image/gif"/>
  <Override PartName="/ppt/media/image13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7.gif" ContentType="image/gif"/>
  <Override PartName="/ppt/media/image23.wmf" ContentType="image/x-wmf"/>
  <Override PartName="/ppt/media/image12.png" ContentType="image/png"/>
  <Override PartName="/ppt/media/image2.gif" ContentType="image/gif"/>
  <Override PartName="/ppt/media/image2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26.wmf" ContentType="image/x-wmf"/>
  <Override PartName="/ppt/media/image25.wmf" ContentType="image/x-wmf"/>
  <Override PartName="/ppt/media/image15.jpeg" ContentType="image/jpeg"/>
  <Override PartName="/ppt/media/image19.wmf" ContentType="image/x-wmf"/>
  <Override PartName="/ppt/media/image6.gif" ContentType="image/gif"/>
  <Override PartName="/ppt/media/image21.jpeg" ContentType="image/jpeg"/>
  <Override PartName="/ppt/media/image20.jpeg" ContentType="image/jpeg"/>
  <Override PartName="/ppt/media/image22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7F7-BCDA-4769-AA13-FF8BEDB585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初中数学资源网 收集整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2C8-6B56-44D4-B920-FB2BC224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1FE-4973-40DF-9F67-08EB666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DE2-28B1-4CDF-93D0-0F447B80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40A-BACB-4C2A-8746-5C4BBB5F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4B5-3EB2-4E14-973A-2F2E5D6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761-4487-407C-9B28-2FD76DB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F32-B7CC-491E-B8C7-05A3AD91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3CA-657C-41D8-A6EF-2EAB131F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078-1D03-47B8-AF7A-A7872FF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D20-6E06-4F77-A450-DB2CCF92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9E9-BBCE-4BC4-B98A-790DB03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B13-1EDA-48C0-B1C9-75DCADC1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5228-4E27-42BD-B22E-2894CD54B4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image" Target="../media/image27.gif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4323" t="6053" r="4323" b="8297"/>
          <a:stretch/>
        </p:blipFill>
        <p:spPr>
          <a:xfrm>
            <a:off x="1116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547640" y="1700280"/>
            <a:ext cx="19447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PMingLiU"/>
              </a:rPr>
              <a:t>§1.5.1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10800000"/>
              </a:gradFill>
              <a:latin typeface="PMingLiU"/>
              <a:ea typeface="PMingLiU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635280" y="1628640"/>
            <a:ext cx="428472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ffff"/>
                    </a:gs>
                  </a:gsLst>
                  <a:lin ang="10800000"/>
                </a:gradFill>
                <a:latin typeface="黑体"/>
              </a:rPr>
              <a:t>乘方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07040" y="5229360"/>
            <a:ext cx="28576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18840" y="112464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决下列问题，你能从中发现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734840"/>
            <a:ext cx="64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各等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各等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9120" y="3141360"/>
            <a:ext cx="747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答：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幂；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次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它们的结果分别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446940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3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的积的相反数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次幂的相反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结果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81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-3)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表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-3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的积或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-3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次幂，结果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8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0720" y="496800"/>
            <a:ext cx="12474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交流与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90480" y="119628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决下列问题，你能从中发现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1935360"/>
            <a:ext cx="64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什么区别？各等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68360" y="2770200"/>
                <a:ext cx="1366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79280" y="385920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答：  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×3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平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之积，等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而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×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平方，等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19280" y="4735440"/>
                <a:ext cx="60451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的平方</m:t>
                        </m:r>
                        <m:r>
                          <m:t xml:space="preserve">，</m:t>
                        </m:r>
                        <m:r>
                          <m:rPr>
                            <m:lit/>
                            <m:nor/>
                          </m:rPr>
                          <m:t xml:space="preserve">等于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，</m:t>
                        </m:r>
                      </m:e>
                      <m:e>
                        <m:r>
                          <m:t xml:space="preserve">而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的平方与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的商</m:t>
                        </m:r>
                        <m:r>
                          <m:t xml:space="preserve">，</m:t>
                        </m:r>
                        <m:r>
                          <m:rPr>
                            <m:lit/>
                            <m:nor/>
                          </m:rPr>
                          <m:t xml:space="preserve">等于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40720" y="496800"/>
            <a:ext cx="12474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交流与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11592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84360" y="692280"/>
                <a:ext cx="7416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820880" y="1963800"/>
                <a:ext cx="1684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19640" y="2060640"/>
                <a:ext cx="3313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3076560"/>
                <a:ext cx="1749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35280" y="3220920"/>
                <a:ext cx="3673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391520" y="3213000"/>
                <a:ext cx="4618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732720" y="2060640"/>
                <a:ext cx="792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186920" y="188424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33480" y="4181400"/>
                <a:ext cx="1616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92440" y="4259160"/>
                <a:ext cx="32180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977160" y="4149720"/>
                <a:ext cx="907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58920" y="3213000"/>
            <a:ext cx="70866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幂的底数是正数，那么这个幂有可能是负数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4653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能！正数的任何次幂是都是正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0" t="0" r="72080" b="67054"/>
          <a:stretch/>
        </p:blipFill>
        <p:spPr>
          <a:xfrm>
            <a:off x="611280" y="33336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65000" y="1071720"/>
            <a:ext cx="60328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发现负数的幂的正负有什么规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指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时，负数的幂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指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时，负数的幂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549360"/>
            <a:ext cx="842472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幂的性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负数的奇次幂是负数，负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偶次幂是正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数的任何次幂都是正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任何正整数次幂是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1187280" y="1125360"/>
            <a:ext cx="7236720" cy="3547800"/>
            <a:chOff x="1187280" y="1125360"/>
            <a:chExt cx="7236720" cy="3547800"/>
          </a:xfrm>
        </p:grpSpPr>
        <p:grpSp>
          <p:nvGrpSpPr>
            <p:cNvPr id="229" name=""/>
            <p:cNvGrpSpPr/>
            <p:nvPr/>
          </p:nvGrpSpPr>
          <p:grpSpPr>
            <a:xfrm>
              <a:off x="1187280" y="1125360"/>
              <a:ext cx="7236720" cy="3547800"/>
              <a:chOff x="1187280" y="1125360"/>
              <a:chExt cx="7236720" cy="3547800"/>
            </a:xfrm>
          </p:grpSpPr>
          <p:sp>
            <p:nvSpPr>
              <p:cNvPr id="230" name=""/>
              <p:cNvSpPr/>
              <p:nvPr/>
            </p:nvSpPr>
            <p:spPr>
              <a:xfrm>
                <a:off x="1187280" y="1125360"/>
                <a:ext cx="7236720" cy="354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         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口答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      是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填“正”或“负”）数；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      是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填“正”或“负”）数；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=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；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）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=</a:t>
                </a:r>
                <a:r>
                  <a:rPr b="0" lang="zh-CN" sz="32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；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1891080" y="1730160"/>
                    <a:ext cx="1409760" cy="784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2" name=""/>
                  <p:cNvSpPr txBox="1"/>
                  <p:nvPr/>
                </p:nvSpPr>
                <p:spPr>
                  <a:xfrm>
                    <a:off x="1910160" y="2491920"/>
                    <a:ext cx="1303560" cy="78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2139840" y="3335040"/>
                  <a:ext cx="5137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124000" y="4149720"/>
                <a:ext cx="381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348000" y="321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39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17733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2492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76720" y="620640"/>
            <a:ext cx="1828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9800"/>
                  </a:outerShdw>
                </a:effectLst>
                <a:latin typeface="楷体_GB2312"/>
              </a:rPr>
              <a:t>课堂练习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0098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0" name=""/>
          <p:cNvSpPr/>
          <p:nvPr/>
        </p:nvSpPr>
        <p:spPr>
          <a:xfrm>
            <a:off x="3153240" y="4365720"/>
            <a:ext cx="33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课本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3-4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，练习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4840" y="2060640"/>
            <a:ext cx="746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7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920" y="3213000"/>
            <a:ext cx="79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-10)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-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51280" y="3500280"/>
                <a:ext cx="4064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5182920" cy="411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547640" y="1341360"/>
            <a:ext cx="4608720" cy="3035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6227640" y="1557360"/>
            <a:ext cx="1676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6720" y="981000"/>
            <a:ext cx="4104000" cy="3123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珠穆朗玛峰是世界的最高峰，它的海拔高度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884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把一张足够大的厚度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0.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毫米的纸，连续对折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次的厚度能超过珠穆朗玛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38480" cy="4424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≈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≈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40360" y="115920"/>
            <a:ext cx="2443320" cy="923760"/>
            <a:chOff x="5940360" y="115920"/>
            <a:chExt cx="2443320" cy="923760"/>
          </a:xfrm>
        </p:grpSpPr>
        <p:grpSp>
          <p:nvGrpSpPr>
            <p:cNvPr id="252" name=""/>
            <p:cNvGrpSpPr/>
            <p:nvPr/>
          </p:nvGrpSpPr>
          <p:grpSpPr>
            <a:xfrm>
              <a:off x="5943600" y="576360"/>
              <a:ext cx="2440080" cy="457200"/>
              <a:chOff x="5943600" y="576360"/>
              <a:chExt cx="2440080" cy="4572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5943600" y="576360"/>
                <a:ext cx="2129040" cy="457200"/>
                <a:chOff x="5943600" y="576360"/>
                <a:chExt cx="2129040" cy="4572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43600" y="576360"/>
                  <a:ext cx="1800" cy="457200"/>
                </a:xfrm>
                <a:prstGeom prst="rect">
                  <a:avLst/>
                </a:pr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45400" y="576360"/>
                  <a:ext cx="1440" cy="457200"/>
                </a:xfrm>
                <a:prstGeom prst="rect">
                  <a:avLst/>
                </a:prstGeom>
                <a:solidFill>
                  <a:srgbClr val="02cc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46840" y="576360"/>
                  <a:ext cx="1800" cy="457200"/>
                </a:xfrm>
                <a:prstGeom prst="rect">
                  <a:avLst/>
                </a:prstGeom>
                <a:solidFill>
                  <a:srgbClr val="05cc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48640" y="576360"/>
                  <a:ext cx="1440" cy="457200"/>
                </a:xfrm>
                <a:prstGeom prst="rect">
                  <a:avLst/>
                </a:prstGeom>
                <a:solidFill>
                  <a:srgbClr val="07c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50080" y="576360"/>
                  <a:ext cx="1800" cy="457200"/>
                </a:xfrm>
                <a:prstGeom prst="rect">
                  <a:avLst/>
                </a:prstGeom>
                <a:solidFill>
                  <a:srgbClr val="0acc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51880" y="576360"/>
                  <a:ext cx="1440" cy="457200"/>
                </a:xfrm>
                <a:prstGeom prst="rect">
                  <a:avLst/>
                </a:prstGeom>
                <a:solidFill>
                  <a:srgbClr val="0cc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53320" y="576360"/>
                  <a:ext cx="1440" cy="457200"/>
                </a:xfrm>
                <a:prstGeom prst="rect">
                  <a:avLst/>
                </a:prstGeom>
                <a:solidFill>
                  <a:srgbClr val="0ecc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54760" y="576360"/>
                  <a:ext cx="1800" cy="457200"/>
                </a:xfrm>
                <a:prstGeom prst="rect">
                  <a:avLst/>
                </a:prstGeom>
                <a:solidFill>
                  <a:srgbClr val="10cc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56560" y="576360"/>
                  <a:ext cx="3240" cy="457200"/>
                </a:xfrm>
                <a:prstGeom prst="rect">
                  <a:avLst/>
                </a:prstGeom>
                <a:solidFill>
                  <a:srgbClr val="12cc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59800" y="576360"/>
                  <a:ext cx="4680" cy="457200"/>
                </a:xfrm>
                <a:prstGeom prst="rect">
                  <a:avLst/>
                </a:prstGeom>
                <a:solidFill>
                  <a:srgbClr val="14cc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64480" y="576360"/>
                  <a:ext cx="4680" cy="457200"/>
                </a:xfrm>
                <a:prstGeom prst="rect">
                  <a:avLst/>
                </a:prstGeom>
                <a:solidFill>
                  <a:srgbClr val="16cc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969160" y="576360"/>
                  <a:ext cx="4680" cy="457200"/>
                </a:xfrm>
                <a:prstGeom prst="rect">
                  <a:avLst/>
                </a:prstGeom>
                <a:solidFill>
                  <a:srgbClr val="18cc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73840" y="576360"/>
                  <a:ext cx="6480" cy="457200"/>
                </a:xfrm>
                <a:prstGeom prst="rect">
                  <a:avLst/>
                </a:prstGeom>
                <a:solidFill>
                  <a:srgbClr val="1acc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980320" y="576360"/>
                  <a:ext cx="6480" cy="457200"/>
                </a:xfrm>
                <a:prstGeom prst="rect">
                  <a:avLst/>
                </a:prstGeom>
                <a:solidFill>
                  <a:srgbClr val="1cc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86800" y="576360"/>
                  <a:ext cx="4680" cy="457200"/>
                </a:xfrm>
                <a:prstGeom prst="rect">
                  <a:avLst/>
                </a:prstGeom>
                <a:solidFill>
                  <a:srgbClr val="1ec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91480" y="576360"/>
                  <a:ext cx="4680" cy="457200"/>
                </a:xfrm>
                <a:prstGeom prst="rect">
                  <a:avLst/>
                </a:prstGeom>
                <a:solidFill>
                  <a:srgbClr val="20cd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96160" y="576360"/>
                  <a:ext cx="6480" cy="457200"/>
                </a:xfrm>
                <a:prstGeom prst="rect">
                  <a:avLst/>
                </a:prstGeom>
                <a:solidFill>
                  <a:srgbClr val="22cd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02640" y="576360"/>
                  <a:ext cx="4680" cy="457200"/>
                </a:xfrm>
                <a:prstGeom prst="rect">
                  <a:avLst/>
                </a:prstGeom>
                <a:solidFill>
                  <a:srgbClr val="24c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07320" y="576360"/>
                  <a:ext cx="4680" cy="457200"/>
                </a:xfrm>
                <a:prstGeom prst="rect">
                  <a:avLst/>
                </a:prstGeom>
                <a:solidFill>
                  <a:srgbClr val="26c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012000" y="576360"/>
                  <a:ext cx="6480" cy="457200"/>
                </a:xfrm>
                <a:prstGeom prst="rect">
                  <a:avLst/>
                </a:prstGeom>
                <a:solidFill>
                  <a:srgbClr val="28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018480" y="576360"/>
                  <a:ext cx="7920" cy="457200"/>
                </a:xfrm>
                <a:prstGeom prst="rect">
                  <a:avLst/>
                </a:prstGeom>
                <a:solidFill>
                  <a:srgbClr val="2acd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026400" y="576360"/>
                  <a:ext cx="6120" cy="457200"/>
                </a:xfrm>
                <a:prstGeom prst="rect">
                  <a:avLst/>
                </a:prstGeom>
                <a:solidFill>
                  <a:srgbClr val="2cc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32520" y="576360"/>
                  <a:ext cx="7920" cy="457200"/>
                </a:xfrm>
                <a:prstGeom prst="rect">
                  <a:avLst/>
                </a:prstGeom>
                <a:solidFill>
                  <a:srgbClr val="2ec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40440" y="576360"/>
                  <a:ext cx="6480" cy="457200"/>
                </a:xfrm>
                <a:prstGeom prst="rect">
                  <a:avLst/>
                </a:prstGeom>
                <a:solidFill>
                  <a:srgbClr val="30c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046920" y="576360"/>
                  <a:ext cx="9720" cy="457200"/>
                </a:xfrm>
                <a:prstGeom prst="rect">
                  <a:avLst/>
                </a:prstGeom>
                <a:solidFill>
                  <a:srgbClr val="32ce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056640" y="576360"/>
                  <a:ext cx="7920" cy="457200"/>
                </a:xfrm>
                <a:prstGeom prst="rect">
                  <a:avLst/>
                </a:prstGeom>
                <a:solidFill>
                  <a:srgbClr val="34ce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64560" y="576360"/>
                  <a:ext cx="6120" cy="457200"/>
                </a:xfrm>
                <a:prstGeom prst="rect">
                  <a:avLst/>
                </a:prstGeom>
                <a:solidFill>
                  <a:srgbClr val="36c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70680" y="576360"/>
                  <a:ext cx="4680" cy="457200"/>
                </a:xfrm>
                <a:prstGeom prst="rect">
                  <a:avLst/>
                </a:prstGeom>
                <a:solidFill>
                  <a:srgbClr val="38c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075360" y="576360"/>
                  <a:ext cx="9720" cy="457200"/>
                </a:xfrm>
                <a:prstGeom prst="rect">
                  <a:avLst/>
                </a:prstGeom>
                <a:solidFill>
                  <a:srgbClr val="3ac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85080" y="576360"/>
                  <a:ext cx="6480" cy="457200"/>
                </a:xfrm>
                <a:prstGeom prst="rect">
                  <a:avLst/>
                </a:prstGeom>
                <a:solidFill>
                  <a:srgbClr val="3cc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91560" y="576360"/>
                  <a:ext cx="7920" cy="457200"/>
                </a:xfrm>
                <a:prstGeom prst="rect">
                  <a:avLst/>
                </a:prstGeom>
                <a:solidFill>
                  <a:srgbClr val="3ecf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099480" y="576360"/>
                  <a:ext cx="6120" cy="457200"/>
                </a:xfrm>
                <a:prstGeom prst="rect">
                  <a:avLst/>
                </a:prstGeom>
                <a:solidFill>
                  <a:srgbClr val="40c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105600" y="576360"/>
                  <a:ext cx="6480" cy="457200"/>
                </a:xfrm>
                <a:prstGeom prst="rect">
                  <a:avLst/>
                </a:prstGeom>
                <a:solidFill>
                  <a:srgbClr val="42c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112080" y="576360"/>
                  <a:ext cx="7920" cy="457200"/>
                </a:xfrm>
                <a:prstGeom prst="rect">
                  <a:avLst/>
                </a:prstGeom>
                <a:solidFill>
                  <a:srgbClr val="44cf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120000" y="576360"/>
                  <a:ext cx="7920" cy="457200"/>
                </a:xfrm>
                <a:prstGeom prst="rect">
                  <a:avLst/>
                </a:prstGeom>
                <a:solidFill>
                  <a:srgbClr val="46c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27920" y="576360"/>
                  <a:ext cx="9360" cy="457200"/>
                </a:xfrm>
                <a:prstGeom prst="rect">
                  <a:avLst/>
                </a:prstGeom>
                <a:solidFill>
                  <a:srgbClr val="48c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137280" y="576360"/>
                  <a:ext cx="6480" cy="457200"/>
                </a:xfrm>
                <a:prstGeom prst="rect">
                  <a:avLst/>
                </a:prstGeom>
                <a:solidFill>
                  <a:srgbClr val="4ad0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143760" y="576360"/>
                  <a:ext cx="4680" cy="457200"/>
                </a:xfrm>
                <a:prstGeom prst="rect">
                  <a:avLst/>
                </a:prstGeom>
                <a:solidFill>
                  <a:srgbClr val="4cd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148440" y="576360"/>
                  <a:ext cx="7920" cy="457200"/>
                </a:xfrm>
                <a:prstGeom prst="rect">
                  <a:avLst/>
                </a:prstGeom>
                <a:solidFill>
                  <a:srgbClr val="4ed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156360" y="576360"/>
                  <a:ext cx="7920" cy="457200"/>
                </a:xfrm>
                <a:prstGeom prst="rect">
                  <a:avLst/>
                </a:prstGeom>
                <a:solidFill>
                  <a:srgbClr val="50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164280" y="576360"/>
                  <a:ext cx="6480" cy="457200"/>
                </a:xfrm>
                <a:prstGeom prst="rect">
                  <a:avLst/>
                </a:prstGeom>
                <a:solidFill>
                  <a:srgbClr val="52d1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170760" y="576360"/>
                  <a:ext cx="7920" cy="457200"/>
                </a:xfrm>
                <a:prstGeom prst="rect">
                  <a:avLst/>
                </a:prstGeom>
                <a:solidFill>
                  <a:srgbClr val="54d1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178680" y="576360"/>
                  <a:ext cx="6480" cy="457200"/>
                </a:xfrm>
                <a:prstGeom prst="rect">
                  <a:avLst/>
                </a:prstGeom>
                <a:solidFill>
                  <a:srgbClr val="56d1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185160" y="576360"/>
                  <a:ext cx="7920" cy="457200"/>
                </a:xfrm>
                <a:prstGeom prst="rect">
                  <a:avLst/>
                </a:prstGeom>
                <a:solidFill>
                  <a:srgbClr val="58d1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93080" y="576360"/>
                  <a:ext cx="6120" cy="457200"/>
                </a:xfrm>
                <a:prstGeom prst="rect">
                  <a:avLst/>
                </a:prstGeom>
                <a:solidFill>
                  <a:srgbClr val="5ad2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99200" y="576360"/>
                  <a:ext cx="9720" cy="457200"/>
                </a:xfrm>
                <a:prstGeom prst="rect">
                  <a:avLst/>
                </a:prstGeom>
                <a:solidFill>
                  <a:srgbClr val="5cd2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08920" y="576360"/>
                  <a:ext cx="7920" cy="457200"/>
                </a:xfrm>
                <a:prstGeom prst="rect">
                  <a:avLst/>
                </a:prstGeom>
                <a:solidFill>
                  <a:srgbClr val="5ed3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16840" y="576360"/>
                  <a:ext cx="6480" cy="457200"/>
                </a:xfrm>
                <a:prstGeom prst="rect">
                  <a:avLst/>
                </a:prstGeom>
                <a:solidFill>
                  <a:srgbClr val="60d3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23320" y="576360"/>
                  <a:ext cx="4680" cy="457200"/>
                </a:xfrm>
                <a:prstGeom prst="rect">
                  <a:avLst/>
                </a:prstGeom>
                <a:solidFill>
                  <a:srgbClr val="62d3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28000" y="576360"/>
                  <a:ext cx="6120" cy="457200"/>
                </a:xfrm>
                <a:prstGeom prst="rect">
                  <a:avLst/>
                </a:prstGeom>
                <a:solidFill>
                  <a:srgbClr val="64d3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34120" y="576360"/>
                  <a:ext cx="8280" cy="457200"/>
                </a:xfrm>
                <a:prstGeom prst="rect">
                  <a:avLst/>
                </a:prstGeom>
                <a:solidFill>
                  <a:srgbClr val="66d4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400" y="576360"/>
                  <a:ext cx="9360" cy="457200"/>
                </a:xfrm>
                <a:prstGeom prst="rect">
                  <a:avLst/>
                </a:prstGeom>
                <a:solidFill>
                  <a:srgbClr val="68d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51760" y="576360"/>
                  <a:ext cx="6480" cy="457200"/>
                </a:xfrm>
                <a:prstGeom prst="rect">
                  <a:avLst/>
                </a:prstGeom>
                <a:solidFill>
                  <a:srgbClr val="6ad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258240" y="576360"/>
                  <a:ext cx="6120" cy="457200"/>
                </a:xfrm>
                <a:prstGeom prst="rect">
                  <a:avLst/>
                </a:prstGeom>
                <a:solidFill>
                  <a:srgbClr val="6cd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64360" y="576360"/>
                  <a:ext cx="7920" cy="457200"/>
                </a:xfrm>
                <a:prstGeom prst="rect">
                  <a:avLst/>
                </a:prstGeom>
                <a:solidFill>
                  <a:srgbClr val="6ed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72280" y="576360"/>
                  <a:ext cx="6480" cy="457200"/>
                </a:xfrm>
                <a:prstGeom prst="rect">
                  <a:avLst/>
                </a:prstGeom>
                <a:solidFill>
                  <a:srgbClr val="70d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278760" y="576360"/>
                  <a:ext cx="6480" cy="457200"/>
                </a:xfrm>
                <a:prstGeom prst="rect">
                  <a:avLst/>
                </a:prstGeom>
                <a:solidFill>
                  <a:srgbClr val="72d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85240" y="576360"/>
                  <a:ext cx="9360" cy="457200"/>
                </a:xfrm>
                <a:prstGeom prst="rect">
                  <a:avLst/>
                </a:prstGeom>
                <a:solidFill>
                  <a:srgbClr val="74d6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94600" y="576360"/>
                  <a:ext cx="6480" cy="457200"/>
                </a:xfrm>
                <a:prstGeom prst="rect">
                  <a:avLst/>
                </a:prstGeom>
                <a:solidFill>
                  <a:srgbClr val="76d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301080" y="576360"/>
                  <a:ext cx="6120" cy="457200"/>
                </a:xfrm>
                <a:prstGeom prst="rect">
                  <a:avLst/>
                </a:prstGeom>
                <a:solidFill>
                  <a:srgbClr val="78d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307200" y="576360"/>
                  <a:ext cx="6480" cy="457200"/>
                </a:xfrm>
                <a:prstGeom prst="rect">
                  <a:avLst/>
                </a:prstGeom>
                <a:solidFill>
                  <a:srgbClr val="7ad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313680" y="576360"/>
                  <a:ext cx="6480" cy="457200"/>
                </a:xfrm>
                <a:prstGeom prst="rect">
                  <a:avLst/>
                </a:prstGeom>
                <a:solidFill>
                  <a:srgbClr val="7cd8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320160" y="576360"/>
                  <a:ext cx="7920" cy="457200"/>
                </a:xfrm>
                <a:prstGeom prst="rect">
                  <a:avLst/>
                </a:prstGeom>
                <a:solidFill>
                  <a:srgbClr val="7ed8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328080" y="576360"/>
                  <a:ext cx="9360" cy="457200"/>
                </a:xfrm>
                <a:prstGeom prst="rect">
                  <a:avLst/>
                </a:prstGeom>
                <a:solidFill>
                  <a:srgbClr val="80d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337440" y="576360"/>
                  <a:ext cx="4680" cy="457200"/>
                </a:xfrm>
                <a:prstGeom prst="rect">
                  <a:avLst/>
                </a:prstGeom>
                <a:solidFill>
                  <a:srgbClr val="82d9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42120" y="576360"/>
                  <a:ext cx="9720" cy="457200"/>
                </a:xfrm>
                <a:prstGeom prst="rect">
                  <a:avLst/>
                </a:prstGeom>
                <a:solidFill>
                  <a:srgbClr val="84d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51840" y="576360"/>
                  <a:ext cx="6120" cy="457200"/>
                </a:xfrm>
                <a:prstGeom prst="rect">
                  <a:avLst/>
                </a:prstGeom>
                <a:solidFill>
                  <a:srgbClr val="86d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357960" y="576360"/>
                  <a:ext cx="7920" cy="457200"/>
                </a:xfrm>
                <a:prstGeom prst="rect">
                  <a:avLst/>
                </a:prstGeom>
                <a:solidFill>
                  <a:srgbClr val="88da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65880" y="576360"/>
                  <a:ext cx="6480" cy="457200"/>
                </a:xfrm>
                <a:prstGeom prst="rect">
                  <a:avLst/>
                </a:prstGeom>
                <a:solidFill>
                  <a:srgbClr val="8ad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372360" y="576360"/>
                  <a:ext cx="6480" cy="457200"/>
                </a:xfrm>
                <a:prstGeom prst="rect">
                  <a:avLst/>
                </a:prstGeom>
                <a:solidFill>
                  <a:srgbClr val="8cd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78840" y="576360"/>
                  <a:ext cx="7920" cy="457200"/>
                </a:xfrm>
                <a:prstGeom prst="rect">
                  <a:avLst/>
                </a:prstGeom>
                <a:solidFill>
                  <a:srgbClr val="8edc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86760" y="576360"/>
                  <a:ext cx="7920" cy="457200"/>
                </a:xfrm>
                <a:prstGeom prst="rect">
                  <a:avLst/>
                </a:prstGeom>
                <a:solidFill>
                  <a:srgbClr val="90d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394680" y="576360"/>
                  <a:ext cx="9360" cy="457200"/>
                </a:xfrm>
                <a:prstGeom prst="rect">
                  <a:avLst/>
                </a:prstGeom>
                <a:solidFill>
                  <a:srgbClr val="92dc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404040" y="576360"/>
                  <a:ext cx="6480" cy="457200"/>
                </a:xfrm>
                <a:prstGeom prst="rect">
                  <a:avLst/>
                </a:prstGeom>
                <a:solidFill>
                  <a:srgbClr val="94dd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410520" y="576360"/>
                  <a:ext cx="6480" cy="457200"/>
                </a:xfrm>
                <a:prstGeom prst="rect">
                  <a:avLst/>
                </a:prstGeom>
                <a:solidFill>
                  <a:srgbClr val="96d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417000" y="576360"/>
                  <a:ext cx="7920" cy="457200"/>
                </a:xfrm>
                <a:prstGeom prst="rect">
                  <a:avLst/>
                </a:prstGeom>
                <a:solidFill>
                  <a:srgbClr val="98de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424920" y="576360"/>
                  <a:ext cx="6120" cy="457200"/>
                </a:xfrm>
                <a:prstGeom prst="rect">
                  <a:avLst/>
                </a:prstGeom>
                <a:solidFill>
                  <a:srgbClr val="9ad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431040" y="576360"/>
                  <a:ext cx="6480" cy="457200"/>
                </a:xfrm>
                <a:prstGeom prst="rect">
                  <a:avLst/>
                </a:prstGeom>
                <a:solidFill>
                  <a:srgbClr val="9cd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37520" y="576360"/>
                  <a:ext cx="9360" cy="457200"/>
                </a:xfrm>
                <a:prstGeom prst="rect">
                  <a:avLst/>
                </a:prstGeom>
                <a:solidFill>
                  <a:srgbClr val="9ed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46880" y="576360"/>
                  <a:ext cx="7920" cy="457200"/>
                </a:xfrm>
                <a:prstGeom prst="rect">
                  <a:avLst/>
                </a:prstGeom>
                <a:solidFill>
                  <a:srgbClr val="a0e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454800" y="576360"/>
                  <a:ext cx="6480" cy="457200"/>
                </a:xfrm>
                <a:prstGeom prst="rect">
                  <a:avLst/>
                </a:prstGeom>
                <a:solidFill>
                  <a:srgbClr val="a2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61280" y="576360"/>
                  <a:ext cx="7920" cy="457200"/>
                </a:xfrm>
                <a:prstGeom prst="rect">
                  <a:avLst/>
                </a:prstGeom>
                <a:solidFill>
                  <a:srgbClr val="a4e1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69200" y="576360"/>
                  <a:ext cx="6480" cy="457200"/>
                </a:xfrm>
                <a:prstGeom prst="rect">
                  <a:avLst/>
                </a:prstGeom>
                <a:solidFill>
                  <a:srgbClr val="a6e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475680" y="576360"/>
                  <a:ext cx="9360" cy="457200"/>
                </a:xfrm>
                <a:prstGeom prst="rect">
                  <a:avLst/>
                </a:prstGeom>
                <a:solidFill>
                  <a:srgbClr val="a8e2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485040" y="576360"/>
                  <a:ext cx="7920" cy="457200"/>
                </a:xfrm>
                <a:prstGeom prst="rect">
                  <a:avLst/>
                </a:prstGeom>
                <a:solidFill>
                  <a:srgbClr val="aae3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2960" y="576360"/>
                  <a:ext cx="7920" cy="457200"/>
                </a:xfrm>
                <a:prstGeom prst="rect">
                  <a:avLst/>
                </a:prstGeom>
                <a:solidFill>
                  <a:srgbClr val="ace3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00880" y="576360"/>
                  <a:ext cx="7920" cy="457200"/>
                </a:xfrm>
                <a:prstGeom prst="rect">
                  <a:avLst/>
                </a:prstGeom>
                <a:solidFill>
                  <a:srgbClr val="aee4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08800" y="576360"/>
                  <a:ext cx="9720" cy="457200"/>
                </a:xfrm>
                <a:prstGeom prst="rect">
                  <a:avLst/>
                </a:prstGeom>
                <a:solidFill>
                  <a:srgbClr val="b0e4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518520" y="576360"/>
                  <a:ext cx="9360" cy="457200"/>
                </a:xfrm>
                <a:prstGeom prst="rect">
                  <a:avLst/>
                </a:prstGeom>
                <a:solidFill>
                  <a:srgbClr val="b2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527880" y="576360"/>
                  <a:ext cx="4680" cy="457200"/>
                </a:xfrm>
                <a:prstGeom prst="rect">
                  <a:avLst/>
                </a:prstGeom>
                <a:solidFill>
                  <a:srgbClr val="b4e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32560" y="576360"/>
                  <a:ext cx="9720" cy="457200"/>
                </a:xfrm>
                <a:prstGeom prst="rect">
                  <a:avLst/>
                </a:prstGeom>
                <a:solidFill>
                  <a:srgbClr val="b6e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42280" y="576360"/>
                  <a:ext cx="9360" cy="457200"/>
                </a:xfrm>
                <a:prstGeom prst="rect">
                  <a:avLst/>
                </a:prstGeom>
                <a:solidFill>
                  <a:srgbClr val="b8e6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551640" y="576360"/>
                  <a:ext cx="9720" cy="457200"/>
                </a:xfrm>
                <a:prstGeom prst="rect">
                  <a:avLst/>
                </a:prstGeom>
                <a:solidFill>
                  <a:srgbClr val="bae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61360" y="576360"/>
                  <a:ext cx="7920" cy="457200"/>
                </a:xfrm>
                <a:prstGeom prst="rect">
                  <a:avLst/>
                </a:prstGeom>
                <a:solidFill>
                  <a:srgbClr val="bce8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69280" y="576360"/>
                  <a:ext cx="7920" cy="457200"/>
                </a:xfrm>
                <a:prstGeom prst="rect">
                  <a:avLst/>
                </a:prstGeom>
                <a:solidFill>
                  <a:srgbClr val="bee9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77200" y="576360"/>
                  <a:ext cx="7920" cy="457200"/>
                </a:xfrm>
                <a:prstGeom prst="rect">
                  <a:avLst/>
                </a:prstGeom>
                <a:solidFill>
                  <a:srgbClr val="c0e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85120" y="576360"/>
                  <a:ext cx="9360" cy="457200"/>
                </a:xfrm>
                <a:prstGeom prst="rect">
                  <a:avLst/>
                </a:prstGeom>
                <a:solidFill>
                  <a:srgbClr val="c2e9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94480" y="576360"/>
                  <a:ext cx="9720" cy="457200"/>
                </a:xfrm>
                <a:prstGeom prst="rect">
                  <a:avLst/>
                </a:prstGeom>
                <a:solidFill>
                  <a:srgbClr val="c4e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04200" y="576360"/>
                  <a:ext cx="9360" cy="457200"/>
                </a:xfrm>
                <a:prstGeom prst="rect">
                  <a:avLst/>
                </a:prstGeom>
                <a:solidFill>
                  <a:srgbClr val="c6ea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13560" y="576360"/>
                  <a:ext cx="9720" cy="457200"/>
                </a:xfrm>
                <a:prstGeom prst="rect">
                  <a:avLst/>
                </a:prstGeom>
                <a:solidFill>
                  <a:srgbClr val="c8eb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623280" y="576360"/>
                  <a:ext cx="9360" cy="457200"/>
                </a:xfrm>
                <a:prstGeom prst="rect">
                  <a:avLst/>
                </a:prstGeom>
                <a:solidFill>
                  <a:srgbClr val="cae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632640" y="576360"/>
                  <a:ext cx="12960" cy="457200"/>
                </a:xfrm>
                <a:prstGeom prst="rect">
                  <a:avLst/>
                </a:prstGeom>
                <a:solidFill>
                  <a:srgbClr val="cce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45600" y="576360"/>
                  <a:ext cx="10800" cy="457200"/>
                </a:xfrm>
                <a:prstGeom prst="rect">
                  <a:avLst/>
                </a:prstGeom>
                <a:solidFill>
                  <a:srgbClr val="cee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56400" y="576360"/>
                  <a:ext cx="9720" cy="457200"/>
                </a:xfrm>
                <a:prstGeom prst="rect">
                  <a:avLst/>
                </a:prstGeom>
                <a:solidFill>
                  <a:srgbClr val="d0e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66120" y="576360"/>
                  <a:ext cx="9360" cy="457200"/>
                </a:xfrm>
                <a:prstGeom prst="rect">
                  <a:avLst/>
                </a:prstGeom>
                <a:solidFill>
                  <a:srgbClr val="d2e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5480" y="576360"/>
                  <a:ext cx="9720" cy="457200"/>
                </a:xfrm>
                <a:prstGeom prst="rect">
                  <a:avLst/>
                </a:prstGeom>
                <a:solidFill>
                  <a:srgbClr val="d4e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5200" y="576360"/>
                  <a:ext cx="14400" cy="457200"/>
                </a:xfrm>
                <a:prstGeom prst="rect">
                  <a:avLst/>
                </a:prstGeom>
                <a:solidFill>
                  <a:srgbClr val="d6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699600" y="576360"/>
                  <a:ext cx="12600" cy="457200"/>
                </a:xfrm>
                <a:prstGeom prst="rect">
                  <a:avLst/>
                </a:prstGeom>
                <a:solidFill>
                  <a:srgbClr val="d8f1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12200" y="576360"/>
                  <a:ext cx="11160" cy="457200"/>
                </a:xfrm>
                <a:prstGeom prst="rect">
                  <a:avLst/>
                </a:prstGeom>
                <a:solidFill>
                  <a:srgbClr val="da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3360" y="576360"/>
                  <a:ext cx="9360" cy="457200"/>
                </a:xfrm>
                <a:prstGeom prst="rect">
                  <a:avLst/>
                </a:prstGeom>
                <a:solidFill>
                  <a:srgbClr val="dcf2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732720" y="576360"/>
                  <a:ext cx="14400" cy="457200"/>
                </a:xfrm>
                <a:prstGeom prst="rect">
                  <a:avLst/>
                </a:prstGeom>
                <a:solidFill>
                  <a:srgbClr val="def3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747120" y="576360"/>
                  <a:ext cx="12600" cy="457200"/>
                </a:xfrm>
                <a:prstGeom prst="rect">
                  <a:avLst/>
                </a:prstGeom>
                <a:solidFill>
                  <a:srgbClr val="e0f3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59720" y="576360"/>
                  <a:ext cx="15840" cy="457200"/>
                </a:xfrm>
                <a:prstGeom prst="rect">
                  <a:avLst/>
                </a:prstGeom>
                <a:solidFill>
                  <a:srgbClr val="e2f4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775560" y="576360"/>
                  <a:ext cx="12600" cy="457200"/>
                </a:xfrm>
                <a:prstGeom prst="rect">
                  <a:avLst/>
                </a:prstGeom>
                <a:solidFill>
                  <a:srgbClr val="e4f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788160" y="576360"/>
                  <a:ext cx="17640" cy="457200"/>
                </a:xfrm>
                <a:prstGeom prst="rect">
                  <a:avLst/>
                </a:prstGeom>
                <a:solidFill>
                  <a:srgbClr val="e6f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805800" y="576360"/>
                  <a:ext cx="12600" cy="457200"/>
                </a:xfrm>
                <a:prstGeom prst="rect">
                  <a:avLst/>
                </a:prstGeom>
                <a:solidFill>
                  <a:srgbClr val="e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818400" y="576360"/>
                  <a:ext cx="17640" cy="457200"/>
                </a:xfrm>
                <a:prstGeom prst="rect">
                  <a:avLst/>
                </a:prstGeom>
                <a:solidFill>
                  <a:srgbClr val="eaf7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836040" y="576360"/>
                  <a:ext cx="17280" cy="457200"/>
                </a:xfrm>
                <a:prstGeom prst="rect">
                  <a:avLst/>
                </a:prstGeom>
                <a:solidFill>
                  <a:srgbClr val="ecf8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853320" y="576360"/>
                  <a:ext cx="20880" cy="457200"/>
                </a:xfrm>
                <a:prstGeom prst="rect">
                  <a:avLst/>
                </a:prstGeom>
                <a:solidFill>
                  <a:srgbClr val="eef8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74200" y="576360"/>
                  <a:ext cx="17280" cy="457200"/>
                </a:xfrm>
                <a:prstGeom prst="rect">
                  <a:avLst/>
                </a:prstGeom>
                <a:solidFill>
                  <a:srgbClr val="f0f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891480" y="576360"/>
                  <a:ext cx="28440" cy="457200"/>
                </a:xfrm>
                <a:prstGeom prst="rect">
                  <a:avLst/>
                </a:prstGeom>
                <a:solidFill>
                  <a:srgbClr val="f2f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919920" y="576360"/>
                  <a:ext cx="30240" cy="457200"/>
                </a:xfrm>
                <a:prstGeom prst="rect">
                  <a:avLst/>
                </a:prstGeom>
                <a:solidFill>
                  <a:srgbClr val="f4fb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950160" y="576360"/>
                  <a:ext cx="28800" cy="457200"/>
                </a:xfrm>
                <a:prstGeom prst="rect">
                  <a:avLst/>
                </a:prstGeom>
                <a:solidFill>
                  <a:srgbClr val="f6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78960" y="576360"/>
                  <a:ext cx="27000" cy="457200"/>
                </a:xfrm>
                <a:prstGeom prst="rect">
                  <a:avLst/>
                </a:prstGeom>
                <a:solidFill>
                  <a:srgbClr val="f8fc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05960" y="576360"/>
                  <a:ext cx="48960" cy="457200"/>
                </a:xfrm>
                <a:prstGeom prst="rect">
                  <a:avLst/>
                </a:prstGeom>
                <a:solidFill>
                  <a:srgbClr val="fa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54920" y="576360"/>
                  <a:ext cx="47880" cy="457200"/>
                </a:xfrm>
                <a:prstGeom prst="rect">
                  <a:avLst/>
                </a:prstGeom>
                <a:solidFill>
                  <a:srgbClr val="fc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102800" y="576360"/>
                  <a:ext cx="142560" cy="457200"/>
                </a:xfrm>
                <a:prstGeom prst="rect">
                  <a:avLst/>
                </a:prstGeom>
                <a:solidFill>
                  <a:srgbClr val="fe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245360" y="576360"/>
                  <a:ext cx="55800" cy="457200"/>
                </a:xfrm>
                <a:prstGeom prst="rect">
                  <a:avLst/>
                </a:prstGeom>
                <a:solidFill>
                  <a:srgbClr val="fc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301160" y="576360"/>
                  <a:ext cx="38160" cy="457200"/>
                </a:xfrm>
                <a:prstGeom prst="rect">
                  <a:avLst/>
                </a:prstGeom>
                <a:solidFill>
                  <a:srgbClr val="fa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339320" y="576360"/>
                  <a:ext cx="29880" cy="457200"/>
                </a:xfrm>
                <a:prstGeom prst="rect">
                  <a:avLst/>
                </a:prstGeom>
                <a:solidFill>
                  <a:srgbClr val="f8fc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369200" y="576360"/>
                  <a:ext cx="28800" cy="457200"/>
                </a:xfrm>
                <a:prstGeom prst="rect">
                  <a:avLst/>
                </a:prstGeom>
                <a:solidFill>
                  <a:srgbClr val="f6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398000" y="576360"/>
                  <a:ext cx="17280" cy="457200"/>
                </a:xfrm>
                <a:prstGeom prst="rect">
                  <a:avLst/>
                </a:prstGeom>
                <a:solidFill>
                  <a:srgbClr val="f4fb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415280" y="576360"/>
                  <a:ext cx="30240" cy="457200"/>
                </a:xfrm>
                <a:prstGeom prst="rect">
                  <a:avLst/>
                </a:prstGeom>
                <a:solidFill>
                  <a:srgbClr val="f2f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445520" y="576360"/>
                  <a:ext cx="17640" cy="457200"/>
                </a:xfrm>
                <a:prstGeom prst="rect">
                  <a:avLst/>
                </a:prstGeom>
                <a:solidFill>
                  <a:srgbClr val="f0f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463160" y="576360"/>
                  <a:ext cx="20520" cy="457200"/>
                </a:xfrm>
                <a:prstGeom prst="rect">
                  <a:avLst/>
                </a:prstGeom>
                <a:solidFill>
                  <a:srgbClr val="eef8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83680" y="576360"/>
                  <a:ext cx="17280" cy="457200"/>
                </a:xfrm>
                <a:prstGeom prst="rect">
                  <a:avLst/>
                </a:prstGeom>
                <a:solidFill>
                  <a:srgbClr val="ecf8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00960" y="576360"/>
                  <a:ext cx="12960" cy="457200"/>
                </a:xfrm>
                <a:prstGeom prst="rect">
                  <a:avLst/>
                </a:prstGeom>
                <a:solidFill>
                  <a:srgbClr val="eaf7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513920" y="576360"/>
                  <a:ext cx="15840" cy="457200"/>
                </a:xfrm>
                <a:prstGeom prst="rect">
                  <a:avLst/>
                </a:prstGeom>
                <a:solidFill>
                  <a:srgbClr val="e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529760" y="576360"/>
                  <a:ext cx="17280" cy="457200"/>
                </a:xfrm>
                <a:prstGeom prst="rect">
                  <a:avLst/>
                </a:prstGeom>
                <a:solidFill>
                  <a:srgbClr val="e6f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547040" y="576360"/>
                  <a:ext cx="12960" cy="457200"/>
                </a:xfrm>
                <a:prstGeom prst="rect">
                  <a:avLst/>
                </a:prstGeom>
                <a:solidFill>
                  <a:srgbClr val="e4f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560000" y="576360"/>
                  <a:ext cx="15840" cy="457200"/>
                </a:xfrm>
                <a:prstGeom prst="rect">
                  <a:avLst/>
                </a:prstGeom>
                <a:solidFill>
                  <a:srgbClr val="e2f4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75840" y="576360"/>
                  <a:ext cx="12600" cy="457200"/>
                </a:xfrm>
                <a:prstGeom prst="rect">
                  <a:avLst/>
                </a:prstGeom>
                <a:solidFill>
                  <a:srgbClr val="e0f4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88440" y="576360"/>
                  <a:ext cx="11160" cy="457200"/>
                </a:xfrm>
                <a:prstGeom prst="rect">
                  <a:avLst/>
                </a:prstGeom>
                <a:solidFill>
                  <a:srgbClr val="def3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599600" y="576360"/>
                  <a:ext cx="9360" cy="457200"/>
                </a:xfrm>
                <a:prstGeom prst="rect">
                  <a:avLst/>
                </a:prstGeom>
                <a:solidFill>
                  <a:srgbClr val="dcf2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608960" y="576360"/>
                  <a:ext cx="14400" cy="457200"/>
                </a:xfrm>
                <a:prstGeom prst="rect">
                  <a:avLst/>
                </a:prstGeom>
                <a:solidFill>
                  <a:srgbClr val="da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623360" y="576360"/>
                  <a:ext cx="12600" cy="457200"/>
                </a:xfrm>
                <a:prstGeom prst="rect">
                  <a:avLst/>
                </a:prstGeom>
                <a:solidFill>
                  <a:srgbClr val="d8f1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35960" y="576360"/>
                  <a:ext cx="11160" cy="457200"/>
                </a:xfrm>
                <a:prstGeom prst="rect">
                  <a:avLst/>
                </a:prstGeom>
                <a:solidFill>
                  <a:srgbClr val="d6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647120" y="576360"/>
                  <a:ext cx="9720" cy="457200"/>
                </a:xfrm>
                <a:prstGeom prst="rect">
                  <a:avLst/>
                </a:prstGeom>
                <a:solidFill>
                  <a:srgbClr val="d4e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656840" y="576360"/>
                  <a:ext cx="9360" cy="457200"/>
                </a:xfrm>
                <a:prstGeom prst="rect">
                  <a:avLst/>
                </a:prstGeom>
                <a:solidFill>
                  <a:srgbClr val="d2e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66200" y="576360"/>
                  <a:ext cx="9360" cy="457200"/>
                </a:xfrm>
                <a:prstGeom prst="rect">
                  <a:avLst/>
                </a:prstGeom>
                <a:solidFill>
                  <a:srgbClr val="d0e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75560" y="576360"/>
                  <a:ext cx="14400" cy="457200"/>
                </a:xfrm>
                <a:prstGeom prst="rect">
                  <a:avLst/>
                </a:prstGeom>
                <a:solidFill>
                  <a:srgbClr val="cee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89960" y="576360"/>
                  <a:ext cx="9720" cy="457200"/>
                </a:xfrm>
                <a:prstGeom prst="rect">
                  <a:avLst/>
                </a:prstGeom>
                <a:solidFill>
                  <a:srgbClr val="cc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699680" y="576360"/>
                  <a:ext cx="9360" cy="457200"/>
                </a:xfrm>
                <a:prstGeom prst="rect">
                  <a:avLst/>
                </a:prstGeom>
                <a:solidFill>
                  <a:srgbClr val="cae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709040" y="576360"/>
                  <a:ext cx="11160" cy="457200"/>
                </a:xfrm>
                <a:prstGeom prst="rect">
                  <a:avLst/>
                </a:prstGeom>
                <a:solidFill>
                  <a:srgbClr val="c8ec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720200" y="576360"/>
                  <a:ext cx="7920" cy="457200"/>
                </a:xfrm>
                <a:prstGeom prst="rect">
                  <a:avLst/>
                </a:prstGeom>
                <a:solidFill>
                  <a:srgbClr val="c6eb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728120" y="576360"/>
                  <a:ext cx="9360" cy="457200"/>
                </a:xfrm>
                <a:prstGeom prst="rect">
                  <a:avLst/>
                </a:prstGeom>
                <a:solidFill>
                  <a:srgbClr val="c4e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37480" y="576360"/>
                  <a:ext cx="9720" cy="457200"/>
                </a:xfrm>
                <a:prstGeom prst="rect">
                  <a:avLst/>
                </a:prstGeom>
                <a:solidFill>
                  <a:srgbClr val="c2e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747200" y="576360"/>
                  <a:ext cx="6480" cy="457200"/>
                </a:xfrm>
                <a:prstGeom prst="rect">
                  <a:avLst/>
                </a:prstGeom>
                <a:solidFill>
                  <a:srgbClr val="c0e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753680" y="576360"/>
                  <a:ext cx="7920" cy="457200"/>
                </a:xfrm>
                <a:prstGeom prst="rect">
                  <a:avLst/>
                </a:prstGeom>
                <a:solidFill>
                  <a:srgbClr val="bee9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761600" y="576360"/>
                  <a:ext cx="9360" cy="457200"/>
                </a:xfrm>
                <a:prstGeom prst="rect">
                  <a:avLst/>
                </a:prstGeom>
                <a:solidFill>
                  <a:srgbClr val="bce8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770960" y="576360"/>
                  <a:ext cx="9720" cy="457200"/>
                </a:xfrm>
                <a:prstGeom prst="rect">
                  <a:avLst/>
                </a:prstGeom>
                <a:solidFill>
                  <a:srgbClr val="bae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780680" y="576360"/>
                  <a:ext cx="9360" cy="457200"/>
                </a:xfrm>
                <a:prstGeom prst="rect">
                  <a:avLst/>
                </a:prstGeom>
                <a:solidFill>
                  <a:srgbClr val="b8e6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790040" y="576360"/>
                  <a:ext cx="6480" cy="457200"/>
                </a:xfrm>
                <a:prstGeom prst="rect">
                  <a:avLst/>
                </a:prstGeom>
                <a:solidFill>
                  <a:srgbClr val="b6e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796520" y="576360"/>
                  <a:ext cx="7920" cy="457200"/>
                </a:xfrm>
                <a:prstGeom prst="rect">
                  <a:avLst/>
                </a:prstGeom>
                <a:solidFill>
                  <a:srgbClr val="b4e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804440" y="576360"/>
                  <a:ext cx="9360" cy="457200"/>
                </a:xfrm>
                <a:prstGeom prst="rect">
                  <a:avLst/>
                </a:prstGeom>
                <a:solidFill>
                  <a:srgbClr val="b2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813800" y="576360"/>
                  <a:ext cx="9720" cy="457200"/>
                </a:xfrm>
                <a:prstGeom prst="rect">
                  <a:avLst/>
                </a:prstGeom>
                <a:solidFill>
                  <a:srgbClr val="b0e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823520" y="576360"/>
                  <a:ext cx="6120" cy="457200"/>
                </a:xfrm>
                <a:prstGeom prst="rect">
                  <a:avLst/>
                </a:prstGeom>
                <a:solidFill>
                  <a:srgbClr val="aee4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829640" y="576360"/>
                  <a:ext cx="7920" cy="457200"/>
                </a:xfrm>
                <a:prstGeom prst="rect">
                  <a:avLst/>
                </a:prstGeom>
                <a:solidFill>
                  <a:srgbClr val="ace3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837560" y="576360"/>
                  <a:ext cx="9720" cy="457200"/>
                </a:xfrm>
                <a:prstGeom prst="rect">
                  <a:avLst/>
                </a:prstGeom>
                <a:solidFill>
                  <a:srgbClr val="aae3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847280" y="576360"/>
                  <a:ext cx="7920" cy="457200"/>
                </a:xfrm>
                <a:prstGeom prst="rect">
                  <a:avLst/>
                </a:prstGeom>
                <a:solidFill>
                  <a:srgbClr val="a8e2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855200" y="576360"/>
                  <a:ext cx="6120" cy="457200"/>
                </a:xfrm>
                <a:prstGeom prst="rect">
                  <a:avLst/>
                </a:prstGeom>
                <a:solidFill>
                  <a:srgbClr val="a6e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861320" y="576360"/>
                  <a:ext cx="9720" cy="457200"/>
                </a:xfrm>
                <a:prstGeom prst="rect">
                  <a:avLst/>
                </a:prstGeom>
                <a:solidFill>
                  <a:srgbClr val="a4e1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871040" y="576360"/>
                  <a:ext cx="4680" cy="457200"/>
                </a:xfrm>
                <a:prstGeom prst="rect">
                  <a:avLst/>
                </a:prstGeom>
                <a:solidFill>
                  <a:srgbClr val="a2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875720" y="576360"/>
                  <a:ext cx="9720" cy="457200"/>
                </a:xfrm>
                <a:prstGeom prst="rect">
                  <a:avLst/>
                </a:prstGeom>
                <a:solidFill>
                  <a:srgbClr val="a0e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885440" y="576360"/>
                  <a:ext cx="7920" cy="457200"/>
                </a:xfrm>
                <a:prstGeom prst="rect">
                  <a:avLst/>
                </a:prstGeom>
                <a:solidFill>
                  <a:srgbClr val="9ed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93360" y="576360"/>
                  <a:ext cx="6120" cy="457200"/>
                </a:xfrm>
                <a:prstGeom prst="rect">
                  <a:avLst/>
                </a:prstGeom>
                <a:solidFill>
                  <a:srgbClr val="9cd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899480" y="576360"/>
                  <a:ext cx="6480" cy="457200"/>
                </a:xfrm>
                <a:prstGeom prst="rect">
                  <a:avLst/>
                </a:prstGeom>
                <a:solidFill>
                  <a:srgbClr val="9ad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05960" y="576360"/>
                  <a:ext cx="7920" cy="457200"/>
                </a:xfrm>
                <a:prstGeom prst="rect">
                  <a:avLst/>
                </a:prstGeom>
                <a:solidFill>
                  <a:srgbClr val="98de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13880" y="576360"/>
                  <a:ext cx="6480" cy="457200"/>
                </a:xfrm>
                <a:prstGeom prst="rect">
                  <a:avLst/>
                </a:prstGeom>
                <a:solidFill>
                  <a:srgbClr val="96d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20360" y="576360"/>
                  <a:ext cx="7920" cy="457200"/>
                </a:xfrm>
                <a:prstGeom prst="rect">
                  <a:avLst/>
                </a:prstGeom>
                <a:solidFill>
                  <a:srgbClr val="94dd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28280" y="576360"/>
                  <a:ext cx="9360" cy="457200"/>
                </a:xfrm>
                <a:prstGeom prst="rect">
                  <a:avLst/>
                </a:prstGeom>
                <a:solidFill>
                  <a:srgbClr val="92dd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37640" y="576360"/>
                  <a:ext cx="6480" cy="457200"/>
                </a:xfrm>
                <a:prstGeom prst="rect">
                  <a:avLst/>
                </a:prstGeom>
                <a:solidFill>
                  <a:srgbClr val="90d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4120" y="576360"/>
                  <a:ext cx="7920" cy="457200"/>
                </a:xfrm>
                <a:prstGeom prst="rect">
                  <a:avLst/>
                </a:prstGeom>
                <a:solidFill>
                  <a:srgbClr val="8edc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52040" y="576360"/>
                  <a:ext cx="6120" cy="457200"/>
                </a:xfrm>
                <a:prstGeom prst="rect">
                  <a:avLst/>
                </a:prstGeom>
                <a:solidFill>
                  <a:srgbClr val="8cd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58160" y="576360"/>
                  <a:ext cx="7920" cy="457200"/>
                </a:xfrm>
                <a:prstGeom prst="rect">
                  <a:avLst/>
                </a:prstGeom>
                <a:solidFill>
                  <a:srgbClr val="8ad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966080" y="576360"/>
                  <a:ext cx="6480" cy="457200"/>
                </a:xfrm>
                <a:prstGeom prst="rect">
                  <a:avLst/>
                </a:prstGeom>
                <a:solidFill>
                  <a:srgbClr val="88da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972560" y="576360"/>
                  <a:ext cx="7920" cy="457200"/>
                </a:xfrm>
                <a:prstGeom prst="rect">
                  <a:avLst/>
                </a:prstGeom>
                <a:solidFill>
                  <a:srgbClr val="86d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980480" y="576360"/>
                  <a:ext cx="7920" cy="457200"/>
                </a:xfrm>
                <a:prstGeom prst="rect">
                  <a:avLst/>
                </a:prstGeom>
                <a:solidFill>
                  <a:srgbClr val="84d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988400" y="576360"/>
                  <a:ext cx="6480" cy="457200"/>
                </a:xfrm>
                <a:prstGeom prst="rect">
                  <a:avLst/>
                </a:prstGeom>
                <a:solidFill>
                  <a:srgbClr val="82d9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994880" y="576360"/>
                  <a:ext cx="9360" cy="457200"/>
                </a:xfrm>
                <a:prstGeom prst="rect">
                  <a:avLst/>
                </a:prstGeom>
                <a:solidFill>
                  <a:srgbClr val="80d9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004240" y="576360"/>
                  <a:ext cx="6480" cy="457200"/>
                </a:xfrm>
                <a:prstGeom prst="rect">
                  <a:avLst/>
                </a:prstGeom>
                <a:solidFill>
                  <a:srgbClr val="7ed8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010720" y="576360"/>
                  <a:ext cx="6480" cy="457200"/>
                </a:xfrm>
                <a:prstGeom prst="rect">
                  <a:avLst/>
                </a:prstGeom>
                <a:solidFill>
                  <a:srgbClr val="7cd8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8017200" y="576360"/>
                  <a:ext cx="6120" cy="457200"/>
                </a:xfrm>
                <a:prstGeom prst="rect">
                  <a:avLst/>
                </a:prstGeom>
                <a:solidFill>
                  <a:srgbClr val="7ad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023320" y="576360"/>
                  <a:ext cx="4680" cy="457200"/>
                </a:xfrm>
                <a:prstGeom prst="rect">
                  <a:avLst/>
                </a:prstGeom>
                <a:solidFill>
                  <a:srgbClr val="78d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028000" y="576360"/>
                  <a:ext cx="9720" cy="457200"/>
                </a:xfrm>
                <a:prstGeom prst="rect">
                  <a:avLst/>
                </a:prstGeom>
                <a:solidFill>
                  <a:srgbClr val="76d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037720" y="576360"/>
                  <a:ext cx="7920" cy="457200"/>
                </a:xfrm>
                <a:prstGeom prst="rect">
                  <a:avLst/>
                </a:prstGeom>
                <a:solidFill>
                  <a:srgbClr val="74d6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045640" y="576360"/>
                  <a:ext cx="6480" cy="457200"/>
                </a:xfrm>
                <a:prstGeom prst="rect">
                  <a:avLst/>
                </a:prstGeom>
                <a:solidFill>
                  <a:srgbClr val="72d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052120" y="576360"/>
                  <a:ext cx="6120" cy="457200"/>
                </a:xfrm>
                <a:prstGeom prst="rect">
                  <a:avLst/>
                </a:prstGeom>
                <a:solidFill>
                  <a:srgbClr val="70d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058240" y="576360"/>
                  <a:ext cx="7920" cy="457200"/>
                </a:xfrm>
                <a:prstGeom prst="rect">
                  <a:avLst/>
                </a:prstGeom>
                <a:solidFill>
                  <a:srgbClr val="6ed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066160" y="576360"/>
                  <a:ext cx="6480" cy="457200"/>
                </a:xfrm>
                <a:prstGeom prst="rect">
                  <a:avLst/>
                </a:prstGeom>
                <a:solidFill>
                  <a:srgbClr val="6cd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8072640" y="576360"/>
                <a:ext cx="7920" cy="457200"/>
              </a:xfrm>
              <a:prstGeom prst="rect">
                <a:avLst/>
              </a:prstGeom>
              <a:solidFill>
                <a:srgbClr val="6a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080560" y="576360"/>
                <a:ext cx="9360" cy="457200"/>
              </a:xfrm>
              <a:prstGeom prst="rect">
                <a:avLst/>
              </a:prstGeom>
              <a:solidFill>
                <a:srgbClr val="68d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089920" y="576360"/>
                <a:ext cx="6480" cy="457200"/>
              </a:xfrm>
              <a:prstGeom prst="rect">
                <a:avLst/>
              </a:prstGeom>
              <a:solidFill>
                <a:srgbClr val="66d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096400" y="576360"/>
                <a:ext cx="6480" cy="457200"/>
              </a:xfrm>
              <a:prstGeom prst="rect">
                <a:avLst/>
              </a:prstGeom>
              <a:solidFill>
                <a:srgbClr val="64d3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02880" y="576360"/>
                <a:ext cx="4680" cy="457200"/>
              </a:xfrm>
              <a:prstGeom prst="rect">
                <a:avLst/>
              </a:prstGeom>
              <a:solidFill>
                <a:srgbClr val="62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07560" y="576360"/>
                <a:ext cx="6480" cy="457200"/>
              </a:xfrm>
              <a:prstGeom prst="rect">
                <a:avLst/>
              </a:prstGeom>
              <a:solidFill>
                <a:srgbClr val="60d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14040" y="576360"/>
                <a:ext cx="9360" cy="457200"/>
              </a:xfrm>
              <a:prstGeom prst="rect">
                <a:avLst/>
              </a:prstGeom>
              <a:solidFill>
                <a:srgbClr val="5ed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23400" y="576360"/>
                <a:ext cx="7920" cy="457200"/>
              </a:xfrm>
              <a:prstGeom prst="rect">
                <a:avLst/>
              </a:prstGeom>
              <a:solidFill>
                <a:srgbClr val="5cd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31320" y="576360"/>
                <a:ext cx="7920" cy="457200"/>
              </a:xfrm>
              <a:prstGeom prst="rect">
                <a:avLst/>
              </a:prstGeom>
              <a:solidFill>
                <a:srgbClr val="5ad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39240" y="576360"/>
                <a:ext cx="6480" cy="457200"/>
              </a:xfrm>
              <a:prstGeom prst="rect">
                <a:avLst/>
              </a:prstGeom>
              <a:solidFill>
                <a:srgbClr val="58d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45720" y="576360"/>
                <a:ext cx="6120" cy="457200"/>
              </a:xfrm>
              <a:prstGeom prst="rect">
                <a:avLst/>
              </a:prstGeom>
              <a:solidFill>
                <a:srgbClr val="56d1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51840" y="576360"/>
                <a:ext cx="7920" cy="457200"/>
              </a:xfrm>
              <a:prstGeom prst="rect">
                <a:avLst/>
              </a:prstGeom>
              <a:solidFill>
                <a:srgbClr val="54d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59760" y="576360"/>
                <a:ext cx="6480" cy="457200"/>
              </a:xfrm>
              <a:prstGeom prst="rect">
                <a:avLst/>
              </a:prstGeom>
              <a:solidFill>
                <a:srgbClr val="52d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66240" y="576360"/>
                <a:ext cx="9720" cy="457200"/>
              </a:xfrm>
              <a:prstGeom prst="rect">
                <a:avLst/>
              </a:prstGeom>
              <a:solidFill>
                <a:srgbClr val="50d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75960" y="576360"/>
                <a:ext cx="4680" cy="457200"/>
              </a:xfrm>
              <a:prstGeom prst="rect">
                <a:avLst/>
              </a:prstGeom>
              <a:solidFill>
                <a:srgbClr val="4ed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80640" y="576360"/>
                <a:ext cx="6120" cy="457200"/>
              </a:xfrm>
              <a:prstGeom prst="rect">
                <a:avLst/>
              </a:prstGeom>
              <a:solidFill>
                <a:srgbClr val="4cd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86760" y="576360"/>
                <a:ext cx="7920" cy="457200"/>
              </a:xfrm>
              <a:prstGeom prst="rect">
                <a:avLst/>
              </a:prstGeom>
              <a:solidFill>
                <a:srgbClr val="4ad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194680" y="576360"/>
                <a:ext cx="9720" cy="457200"/>
              </a:xfrm>
              <a:prstGeom prst="rect">
                <a:avLst/>
              </a:prstGeom>
              <a:solidFill>
                <a:srgbClr val="48d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04400" y="576360"/>
                <a:ext cx="6480" cy="457200"/>
              </a:xfrm>
              <a:prstGeom prst="rect">
                <a:avLst/>
              </a:prstGeom>
              <a:solidFill>
                <a:srgbClr val="46cf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10880" y="576360"/>
                <a:ext cx="7920" cy="457200"/>
              </a:xfrm>
              <a:prstGeom prst="rect">
                <a:avLst/>
              </a:prstGeom>
              <a:solidFill>
                <a:srgbClr val="44c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18800" y="576360"/>
                <a:ext cx="6120" cy="457200"/>
              </a:xfrm>
              <a:prstGeom prst="rect">
                <a:avLst/>
              </a:prstGeom>
              <a:solidFill>
                <a:srgbClr val="42c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24920" y="576360"/>
                <a:ext cx="7920" cy="457200"/>
              </a:xfrm>
              <a:prstGeom prst="rect">
                <a:avLst/>
              </a:prstGeom>
              <a:solidFill>
                <a:srgbClr val="40c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32840" y="576360"/>
                <a:ext cx="6480" cy="457200"/>
              </a:xfrm>
              <a:prstGeom prst="rect">
                <a:avLst/>
              </a:prstGeom>
              <a:solidFill>
                <a:srgbClr val="3ec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39320" y="576360"/>
                <a:ext cx="7920" cy="457200"/>
              </a:xfrm>
              <a:prstGeom prst="rect">
                <a:avLst/>
              </a:prstGeom>
              <a:solidFill>
                <a:srgbClr val="3cc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247240" y="576360"/>
                <a:ext cx="7920" cy="457200"/>
              </a:xfrm>
              <a:prstGeom prst="rect">
                <a:avLst/>
              </a:prstGeom>
              <a:solidFill>
                <a:srgbClr val="3a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255160" y="576360"/>
                <a:ext cx="4680" cy="457200"/>
              </a:xfrm>
              <a:prstGeom prst="rect">
                <a:avLst/>
              </a:prstGeom>
              <a:solidFill>
                <a:srgbClr val="38c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259840" y="576360"/>
                <a:ext cx="6480" cy="457200"/>
              </a:xfrm>
              <a:prstGeom prst="rect">
                <a:avLst/>
              </a:prstGeom>
              <a:solidFill>
                <a:srgbClr val="36c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66320" y="576360"/>
                <a:ext cx="9360" cy="457200"/>
              </a:xfrm>
              <a:prstGeom prst="rect">
                <a:avLst/>
              </a:prstGeom>
              <a:solidFill>
                <a:srgbClr val="34c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275680" y="576360"/>
                <a:ext cx="7920" cy="457200"/>
              </a:xfrm>
              <a:prstGeom prst="rect">
                <a:avLst/>
              </a:prstGeom>
              <a:solidFill>
                <a:srgbClr val="32c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83600" y="576360"/>
                <a:ext cx="7920" cy="457200"/>
              </a:xfrm>
              <a:prstGeom prst="rect">
                <a:avLst/>
              </a:prstGeom>
              <a:solidFill>
                <a:srgbClr val="30c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91520" y="576360"/>
                <a:ext cx="6480" cy="457200"/>
              </a:xfrm>
              <a:prstGeom prst="rect">
                <a:avLst/>
              </a:prstGeom>
              <a:solidFill>
                <a:srgbClr val="2ec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98000" y="576360"/>
                <a:ext cx="6480" cy="457200"/>
              </a:xfrm>
              <a:prstGeom prst="rect">
                <a:avLst/>
              </a:prstGeom>
              <a:solidFill>
                <a:srgbClr val="2cc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304480" y="576360"/>
                <a:ext cx="7920" cy="457200"/>
              </a:xfrm>
              <a:prstGeom prst="rect">
                <a:avLst/>
              </a:prstGeom>
              <a:solidFill>
                <a:srgbClr val="2acd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312400" y="576360"/>
                <a:ext cx="6120" cy="457200"/>
              </a:xfrm>
              <a:prstGeom prst="rect">
                <a:avLst/>
              </a:prstGeom>
              <a:solidFill>
                <a:srgbClr val="28c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18520" y="576360"/>
                <a:ext cx="5040" cy="457200"/>
              </a:xfrm>
              <a:prstGeom prst="rect">
                <a:avLst/>
              </a:prstGeom>
              <a:solidFill>
                <a:srgbClr val="26c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323560" y="576360"/>
                <a:ext cx="4680" cy="457200"/>
              </a:xfrm>
              <a:prstGeom prst="rect">
                <a:avLst/>
              </a:prstGeom>
              <a:solidFill>
                <a:srgbClr val="24c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328240" y="576360"/>
                <a:ext cx="6480" cy="457200"/>
              </a:xfrm>
              <a:prstGeom prst="rect">
                <a:avLst/>
              </a:prstGeom>
              <a:solidFill>
                <a:srgbClr val="22c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334720" y="576360"/>
                <a:ext cx="4680" cy="457200"/>
              </a:xfrm>
              <a:prstGeom prst="rect">
                <a:avLst/>
              </a:prstGeom>
              <a:solidFill>
                <a:srgbClr val="20c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339400" y="576360"/>
                <a:ext cx="4680" cy="457200"/>
              </a:xfrm>
              <a:prstGeom prst="rect">
                <a:avLst/>
              </a:prstGeom>
              <a:solidFill>
                <a:srgbClr val="1ec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344080" y="576360"/>
                <a:ext cx="6480" cy="457200"/>
              </a:xfrm>
              <a:prstGeom prst="rect">
                <a:avLst/>
              </a:prstGeom>
              <a:solidFill>
                <a:srgbClr val="1c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350560" y="576360"/>
                <a:ext cx="6120" cy="457200"/>
              </a:xfrm>
              <a:prstGeom prst="rect">
                <a:avLst/>
              </a:prstGeom>
              <a:solidFill>
                <a:srgbClr val="1ac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356680" y="576360"/>
                <a:ext cx="4680" cy="457200"/>
              </a:xfrm>
              <a:prstGeom prst="rect">
                <a:avLst/>
              </a:prstGeom>
              <a:solidFill>
                <a:srgbClr val="18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361360" y="576360"/>
                <a:ext cx="5040" cy="457200"/>
              </a:xfrm>
              <a:prstGeom prst="rect">
                <a:avLst/>
              </a:prstGeom>
              <a:solidFill>
                <a:srgbClr val="16c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366400" y="576360"/>
                <a:ext cx="3240" cy="457200"/>
              </a:xfrm>
              <a:prstGeom prst="rect">
                <a:avLst/>
              </a:prstGeom>
              <a:solidFill>
                <a:srgbClr val="14c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369640" y="576360"/>
                <a:ext cx="2880" cy="457200"/>
              </a:xfrm>
              <a:prstGeom prst="rect">
                <a:avLst/>
              </a:prstGeom>
              <a:solidFill>
                <a:srgbClr val="12c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372520" y="576360"/>
                <a:ext cx="1800" cy="457200"/>
              </a:xfrm>
              <a:prstGeom prst="rect">
                <a:avLst/>
              </a:prstGeom>
              <a:solidFill>
                <a:srgbClr val="10c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372520" y="576360"/>
                <a:ext cx="1800" cy="457200"/>
              </a:xfrm>
              <a:prstGeom prst="rect">
                <a:avLst/>
              </a:prstGeom>
              <a:solidFill>
                <a:srgbClr val="0ec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374320" y="576360"/>
                <a:ext cx="1440" cy="457200"/>
              </a:xfrm>
              <a:prstGeom prst="rect">
                <a:avLst/>
              </a:prstGeom>
              <a:solidFill>
                <a:srgbClr val="0c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375760" y="576360"/>
                <a:ext cx="1800" cy="457200"/>
              </a:xfrm>
              <a:prstGeom prst="rect">
                <a:avLst/>
              </a:prstGeom>
              <a:solidFill>
                <a:srgbClr val="0ac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377560" y="576360"/>
                <a:ext cx="1440" cy="457200"/>
              </a:xfrm>
              <a:prstGeom prst="rect">
                <a:avLst/>
              </a:prstGeom>
              <a:solidFill>
                <a:srgbClr val="07c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379000" y="576360"/>
                <a:ext cx="1440" cy="457200"/>
              </a:xfrm>
              <a:prstGeom prst="rect">
                <a:avLst/>
              </a:prstGeom>
              <a:solidFill>
                <a:srgbClr val="05cc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380440" y="576360"/>
                <a:ext cx="1800" cy="457200"/>
              </a:xfrm>
              <a:prstGeom prst="rect">
                <a:avLst/>
              </a:prstGeom>
              <a:solidFill>
                <a:srgbClr val="02c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943600" y="576360"/>
                <a:ext cx="2440080" cy="457200"/>
              </a:xfrm>
              <a:prstGeom prst="rect">
                <a:avLst/>
              </a:prstGeom>
              <a:noFill/>
              <a:ln cap="rnd"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945040" y="119160"/>
              <a:ext cx="822240" cy="823680"/>
              <a:chOff x="5945040" y="119160"/>
              <a:chExt cx="822240" cy="823680"/>
            </a:xfrm>
          </p:grpSpPr>
          <p:pic>
            <p:nvPicPr>
              <p:cNvPr id="5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5040" y="119160"/>
                <a:ext cx="822240" cy="82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45040" y="119160"/>
                <a:ext cx="822240" cy="82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0" name=""/>
            <p:cNvSpPr/>
            <p:nvPr/>
          </p:nvSpPr>
          <p:spPr>
            <a:xfrm>
              <a:off x="7099920" y="258840"/>
              <a:ext cx="508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c0c0"/>
                  </a:solidFill>
                  <a:latin typeface="宋体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5940360" y="582480"/>
              <a:ext cx="2440080" cy="457200"/>
              <a:chOff x="5940360" y="582480"/>
              <a:chExt cx="2440080" cy="45720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5940360" y="582480"/>
                <a:ext cx="2129040" cy="457200"/>
                <a:chOff x="5940360" y="582480"/>
                <a:chExt cx="2129040" cy="4572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940360" y="582480"/>
                  <a:ext cx="1800" cy="457200"/>
                </a:xfrm>
                <a:prstGeom prst="rect">
                  <a:avLst/>
                </a:pr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2160" y="582480"/>
                  <a:ext cx="1440" cy="457200"/>
                </a:xfrm>
                <a:prstGeom prst="rect">
                  <a:avLst/>
                </a:prstGeom>
                <a:solidFill>
                  <a:srgbClr val="02cc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943600" y="582480"/>
                  <a:ext cx="1800" cy="457200"/>
                </a:xfrm>
                <a:prstGeom prst="rect">
                  <a:avLst/>
                </a:prstGeom>
                <a:solidFill>
                  <a:srgbClr val="05cc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45400" y="582480"/>
                  <a:ext cx="1440" cy="457200"/>
                </a:xfrm>
                <a:prstGeom prst="rect">
                  <a:avLst/>
                </a:prstGeom>
                <a:solidFill>
                  <a:srgbClr val="07c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46840" y="582480"/>
                  <a:ext cx="1800" cy="457200"/>
                </a:xfrm>
                <a:prstGeom prst="rect">
                  <a:avLst/>
                </a:prstGeom>
                <a:solidFill>
                  <a:srgbClr val="0acc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948640" y="582480"/>
                  <a:ext cx="1440" cy="457200"/>
                </a:xfrm>
                <a:prstGeom prst="rect">
                  <a:avLst/>
                </a:prstGeom>
                <a:solidFill>
                  <a:srgbClr val="0cc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950080" y="582480"/>
                  <a:ext cx="1440" cy="457200"/>
                </a:xfrm>
                <a:prstGeom prst="rect">
                  <a:avLst/>
                </a:prstGeom>
                <a:solidFill>
                  <a:srgbClr val="0ecc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51520" y="582480"/>
                  <a:ext cx="1800" cy="457200"/>
                </a:xfrm>
                <a:prstGeom prst="rect">
                  <a:avLst/>
                </a:prstGeom>
                <a:solidFill>
                  <a:srgbClr val="10cc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953320" y="582480"/>
                  <a:ext cx="3240" cy="457200"/>
                </a:xfrm>
                <a:prstGeom prst="rect">
                  <a:avLst/>
                </a:prstGeom>
                <a:solidFill>
                  <a:srgbClr val="12cc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956560" y="582480"/>
                  <a:ext cx="4680" cy="457200"/>
                </a:xfrm>
                <a:prstGeom prst="rect">
                  <a:avLst/>
                </a:prstGeom>
                <a:solidFill>
                  <a:srgbClr val="14cc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961240" y="582480"/>
                  <a:ext cx="4680" cy="457200"/>
                </a:xfrm>
                <a:prstGeom prst="rect">
                  <a:avLst/>
                </a:prstGeom>
                <a:solidFill>
                  <a:srgbClr val="16cc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65920" y="582480"/>
                  <a:ext cx="4680" cy="457200"/>
                </a:xfrm>
                <a:prstGeom prst="rect">
                  <a:avLst/>
                </a:prstGeom>
                <a:solidFill>
                  <a:srgbClr val="18cc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970600" y="582480"/>
                  <a:ext cx="6480" cy="457200"/>
                </a:xfrm>
                <a:prstGeom prst="rect">
                  <a:avLst/>
                </a:prstGeom>
                <a:solidFill>
                  <a:srgbClr val="1acc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977080" y="582480"/>
                  <a:ext cx="6480" cy="457200"/>
                </a:xfrm>
                <a:prstGeom prst="rect">
                  <a:avLst/>
                </a:prstGeom>
                <a:solidFill>
                  <a:srgbClr val="1cc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983560" y="582480"/>
                  <a:ext cx="4680" cy="457200"/>
                </a:xfrm>
                <a:prstGeom prst="rect">
                  <a:avLst/>
                </a:prstGeom>
                <a:solidFill>
                  <a:srgbClr val="1ecc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988240" y="582480"/>
                  <a:ext cx="4680" cy="457200"/>
                </a:xfrm>
                <a:prstGeom prst="rect">
                  <a:avLst/>
                </a:prstGeom>
                <a:solidFill>
                  <a:srgbClr val="20cd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92920" y="582480"/>
                  <a:ext cx="6480" cy="457200"/>
                </a:xfrm>
                <a:prstGeom prst="rect">
                  <a:avLst/>
                </a:prstGeom>
                <a:solidFill>
                  <a:srgbClr val="22cd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99400" y="582480"/>
                  <a:ext cx="4680" cy="457200"/>
                </a:xfrm>
                <a:prstGeom prst="rect">
                  <a:avLst/>
                </a:prstGeom>
                <a:solidFill>
                  <a:srgbClr val="24cd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004080" y="582480"/>
                  <a:ext cx="4680" cy="457200"/>
                </a:xfrm>
                <a:prstGeom prst="rect">
                  <a:avLst/>
                </a:prstGeom>
                <a:solidFill>
                  <a:srgbClr val="26c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08760" y="582480"/>
                  <a:ext cx="6480" cy="457200"/>
                </a:xfrm>
                <a:prstGeom prst="rect">
                  <a:avLst/>
                </a:prstGeom>
                <a:solidFill>
                  <a:srgbClr val="28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015240" y="582480"/>
                  <a:ext cx="7920" cy="457200"/>
                </a:xfrm>
                <a:prstGeom prst="rect">
                  <a:avLst/>
                </a:prstGeom>
                <a:solidFill>
                  <a:srgbClr val="2acd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023160" y="582480"/>
                  <a:ext cx="6120" cy="457200"/>
                </a:xfrm>
                <a:prstGeom prst="rect">
                  <a:avLst/>
                </a:prstGeom>
                <a:solidFill>
                  <a:srgbClr val="2cc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29280" y="582480"/>
                  <a:ext cx="7920" cy="457200"/>
                </a:xfrm>
                <a:prstGeom prst="rect">
                  <a:avLst/>
                </a:prstGeom>
                <a:solidFill>
                  <a:srgbClr val="2ecd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37200" y="582480"/>
                  <a:ext cx="6480" cy="457200"/>
                </a:xfrm>
                <a:prstGeom prst="rect">
                  <a:avLst/>
                </a:prstGeom>
                <a:solidFill>
                  <a:srgbClr val="30cd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43680" y="582480"/>
                  <a:ext cx="9720" cy="457200"/>
                </a:xfrm>
                <a:prstGeom prst="rect">
                  <a:avLst/>
                </a:prstGeom>
                <a:solidFill>
                  <a:srgbClr val="32ce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053400" y="582480"/>
                  <a:ext cx="7920" cy="457200"/>
                </a:xfrm>
                <a:prstGeom prst="rect">
                  <a:avLst/>
                </a:prstGeom>
                <a:solidFill>
                  <a:srgbClr val="34ce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061320" y="582480"/>
                  <a:ext cx="6120" cy="457200"/>
                </a:xfrm>
                <a:prstGeom prst="rect">
                  <a:avLst/>
                </a:prstGeom>
                <a:solidFill>
                  <a:srgbClr val="36ce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067440" y="582480"/>
                  <a:ext cx="4680" cy="457200"/>
                </a:xfrm>
                <a:prstGeom prst="rect">
                  <a:avLst/>
                </a:prstGeom>
                <a:solidFill>
                  <a:srgbClr val="38ce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072120" y="582480"/>
                  <a:ext cx="9720" cy="457200"/>
                </a:xfrm>
                <a:prstGeom prst="rect">
                  <a:avLst/>
                </a:prstGeom>
                <a:solidFill>
                  <a:srgbClr val="3ace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81840" y="582480"/>
                  <a:ext cx="6480" cy="457200"/>
                </a:xfrm>
                <a:prstGeom prst="rect">
                  <a:avLst/>
                </a:prstGeom>
                <a:solidFill>
                  <a:srgbClr val="3cce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88320" y="582480"/>
                  <a:ext cx="7920" cy="457200"/>
                </a:xfrm>
                <a:prstGeom prst="rect">
                  <a:avLst/>
                </a:prstGeom>
                <a:solidFill>
                  <a:srgbClr val="3ecf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096240" y="582480"/>
                  <a:ext cx="6120" cy="457200"/>
                </a:xfrm>
                <a:prstGeom prst="rect">
                  <a:avLst/>
                </a:prstGeom>
                <a:solidFill>
                  <a:srgbClr val="40c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102360" y="582480"/>
                  <a:ext cx="6480" cy="457200"/>
                </a:xfrm>
                <a:prstGeom prst="rect">
                  <a:avLst/>
                </a:prstGeom>
                <a:solidFill>
                  <a:srgbClr val="42c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108840" y="582480"/>
                  <a:ext cx="7920" cy="457200"/>
                </a:xfrm>
                <a:prstGeom prst="rect">
                  <a:avLst/>
                </a:prstGeom>
                <a:solidFill>
                  <a:srgbClr val="44cf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116760" y="582480"/>
                  <a:ext cx="7920" cy="457200"/>
                </a:xfrm>
                <a:prstGeom prst="rect">
                  <a:avLst/>
                </a:prstGeom>
                <a:solidFill>
                  <a:srgbClr val="46cf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124680" y="582480"/>
                  <a:ext cx="9360" cy="457200"/>
                </a:xfrm>
                <a:prstGeom prst="rect">
                  <a:avLst/>
                </a:prstGeom>
                <a:solidFill>
                  <a:srgbClr val="48c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34040" y="582480"/>
                  <a:ext cx="6480" cy="457200"/>
                </a:xfrm>
                <a:prstGeom prst="rect">
                  <a:avLst/>
                </a:prstGeom>
                <a:solidFill>
                  <a:srgbClr val="4ad0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140520" y="582480"/>
                  <a:ext cx="4680" cy="457200"/>
                </a:xfrm>
                <a:prstGeom prst="rect">
                  <a:avLst/>
                </a:prstGeom>
                <a:solidFill>
                  <a:srgbClr val="4cd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145200" y="582480"/>
                  <a:ext cx="7920" cy="457200"/>
                </a:xfrm>
                <a:prstGeom prst="rect">
                  <a:avLst/>
                </a:prstGeom>
                <a:solidFill>
                  <a:srgbClr val="4ed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153120" y="582480"/>
                  <a:ext cx="7920" cy="457200"/>
                </a:xfrm>
                <a:prstGeom prst="rect">
                  <a:avLst/>
                </a:prstGeom>
                <a:solidFill>
                  <a:srgbClr val="50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161040" y="582480"/>
                  <a:ext cx="6480" cy="457200"/>
                </a:xfrm>
                <a:prstGeom prst="rect">
                  <a:avLst/>
                </a:prstGeom>
                <a:solidFill>
                  <a:srgbClr val="52d1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167520" y="582480"/>
                  <a:ext cx="7920" cy="457200"/>
                </a:xfrm>
                <a:prstGeom prst="rect">
                  <a:avLst/>
                </a:prstGeom>
                <a:solidFill>
                  <a:srgbClr val="54d1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175440" y="582480"/>
                  <a:ext cx="6480" cy="457200"/>
                </a:xfrm>
                <a:prstGeom prst="rect">
                  <a:avLst/>
                </a:prstGeom>
                <a:solidFill>
                  <a:srgbClr val="56d1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181920" y="582480"/>
                  <a:ext cx="7920" cy="457200"/>
                </a:xfrm>
                <a:prstGeom prst="rect">
                  <a:avLst/>
                </a:prstGeom>
                <a:solidFill>
                  <a:srgbClr val="58d1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189840" y="582480"/>
                  <a:ext cx="6120" cy="457200"/>
                </a:xfrm>
                <a:prstGeom prst="rect">
                  <a:avLst/>
                </a:prstGeom>
                <a:solidFill>
                  <a:srgbClr val="5ad2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195960" y="582480"/>
                  <a:ext cx="9720" cy="457200"/>
                </a:xfrm>
                <a:prstGeom prst="rect">
                  <a:avLst/>
                </a:prstGeom>
                <a:solidFill>
                  <a:srgbClr val="5cd2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205680" y="582480"/>
                  <a:ext cx="7920" cy="457200"/>
                </a:xfrm>
                <a:prstGeom prst="rect">
                  <a:avLst/>
                </a:prstGeom>
                <a:solidFill>
                  <a:srgbClr val="5ed3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213600" y="582480"/>
                  <a:ext cx="6480" cy="457200"/>
                </a:xfrm>
                <a:prstGeom prst="rect">
                  <a:avLst/>
                </a:prstGeom>
                <a:solidFill>
                  <a:srgbClr val="60d3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220080" y="582480"/>
                  <a:ext cx="4680" cy="457200"/>
                </a:xfrm>
                <a:prstGeom prst="rect">
                  <a:avLst/>
                </a:prstGeom>
                <a:solidFill>
                  <a:srgbClr val="62d3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224760" y="582480"/>
                  <a:ext cx="6120" cy="457200"/>
                </a:xfrm>
                <a:prstGeom prst="rect">
                  <a:avLst/>
                </a:prstGeom>
                <a:solidFill>
                  <a:srgbClr val="64d3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230880" y="582480"/>
                  <a:ext cx="8280" cy="457200"/>
                </a:xfrm>
                <a:prstGeom prst="rect">
                  <a:avLst/>
                </a:prstGeom>
                <a:solidFill>
                  <a:srgbClr val="66d4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239160" y="582480"/>
                  <a:ext cx="9360" cy="457200"/>
                </a:xfrm>
                <a:prstGeom prst="rect">
                  <a:avLst/>
                </a:prstGeom>
                <a:solidFill>
                  <a:srgbClr val="68d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248520" y="582480"/>
                  <a:ext cx="6480" cy="457200"/>
                </a:xfrm>
                <a:prstGeom prst="rect">
                  <a:avLst/>
                </a:prstGeom>
                <a:solidFill>
                  <a:srgbClr val="6ad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55000" y="582480"/>
                  <a:ext cx="6120" cy="457200"/>
                </a:xfrm>
                <a:prstGeom prst="rect">
                  <a:avLst/>
                </a:prstGeom>
                <a:solidFill>
                  <a:srgbClr val="6cd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261120" y="582480"/>
                  <a:ext cx="7920" cy="457200"/>
                </a:xfrm>
                <a:prstGeom prst="rect">
                  <a:avLst/>
                </a:prstGeom>
                <a:solidFill>
                  <a:srgbClr val="6ed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269040" y="582480"/>
                  <a:ext cx="6480" cy="457200"/>
                </a:xfrm>
                <a:prstGeom prst="rect">
                  <a:avLst/>
                </a:prstGeom>
                <a:solidFill>
                  <a:srgbClr val="70d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275520" y="582480"/>
                  <a:ext cx="6480" cy="457200"/>
                </a:xfrm>
                <a:prstGeom prst="rect">
                  <a:avLst/>
                </a:prstGeom>
                <a:solidFill>
                  <a:srgbClr val="72d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282000" y="582480"/>
                  <a:ext cx="9360" cy="457200"/>
                </a:xfrm>
                <a:prstGeom prst="rect">
                  <a:avLst/>
                </a:prstGeom>
                <a:solidFill>
                  <a:srgbClr val="74d6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291360" y="582480"/>
                  <a:ext cx="6480" cy="457200"/>
                </a:xfrm>
                <a:prstGeom prst="rect">
                  <a:avLst/>
                </a:prstGeom>
                <a:solidFill>
                  <a:srgbClr val="76d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297840" y="582480"/>
                  <a:ext cx="6120" cy="457200"/>
                </a:xfrm>
                <a:prstGeom prst="rect">
                  <a:avLst/>
                </a:prstGeom>
                <a:solidFill>
                  <a:srgbClr val="78d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303960" y="582480"/>
                  <a:ext cx="6480" cy="457200"/>
                </a:xfrm>
                <a:prstGeom prst="rect">
                  <a:avLst/>
                </a:prstGeom>
                <a:solidFill>
                  <a:srgbClr val="7ad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310440" y="582480"/>
                  <a:ext cx="6480" cy="457200"/>
                </a:xfrm>
                <a:prstGeom prst="rect">
                  <a:avLst/>
                </a:prstGeom>
                <a:solidFill>
                  <a:srgbClr val="7cd8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316920" y="582480"/>
                  <a:ext cx="7920" cy="457200"/>
                </a:xfrm>
                <a:prstGeom prst="rect">
                  <a:avLst/>
                </a:prstGeom>
                <a:solidFill>
                  <a:srgbClr val="7ed8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324840" y="582480"/>
                  <a:ext cx="9360" cy="457200"/>
                </a:xfrm>
                <a:prstGeom prst="rect">
                  <a:avLst/>
                </a:prstGeom>
                <a:solidFill>
                  <a:srgbClr val="80d8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334200" y="582480"/>
                  <a:ext cx="4680" cy="457200"/>
                </a:xfrm>
                <a:prstGeom prst="rect">
                  <a:avLst/>
                </a:prstGeom>
                <a:solidFill>
                  <a:srgbClr val="82d9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338880" y="582480"/>
                  <a:ext cx="9720" cy="457200"/>
                </a:xfrm>
                <a:prstGeom prst="rect">
                  <a:avLst/>
                </a:prstGeom>
                <a:solidFill>
                  <a:srgbClr val="84d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348600" y="582480"/>
                  <a:ext cx="6120" cy="457200"/>
                </a:xfrm>
                <a:prstGeom prst="rect">
                  <a:avLst/>
                </a:prstGeom>
                <a:solidFill>
                  <a:srgbClr val="86d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354720" y="582480"/>
                  <a:ext cx="7920" cy="457200"/>
                </a:xfrm>
                <a:prstGeom prst="rect">
                  <a:avLst/>
                </a:prstGeom>
                <a:solidFill>
                  <a:srgbClr val="88da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362640" y="582480"/>
                  <a:ext cx="6480" cy="457200"/>
                </a:xfrm>
                <a:prstGeom prst="rect">
                  <a:avLst/>
                </a:prstGeom>
                <a:solidFill>
                  <a:srgbClr val="8ad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369120" y="582480"/>
                  <a:ext cx="6480" cy="457200"/>
                </a:xfrm>
                <a:prstGeom prst="rect">
                  <a:avLst/>
                </a:prstGeom>
                <a:solidFill>
                  <a:srgbClr val="8cd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375600" y="582480"/>
                  <a:ext cx="7920" cy="457200"/>
                </a:xfrm>
                <a:prstGeom prst="rect">
                  <a:avLst/>
                </a:prstGeom>
                <a:solidFill>
                  <a:srgbClr val="8edc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383520" y="582480"/>
                  <a:ext cx="7920" cy="457200"/>
                </a:xfrm>
                <a:prstGeom prst="rect">
                  <a:avLst/>
                </a:prstGeom>
                <a:solidFill>
                  <a:srgbClr val="90d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6391440" y="582480"/>
                  <a:ext cx="9360" cy="457200"/>
                </a:xfrm>
                <a:prstGeom prst="rect">
                  <a:avLst/>
                </a:prstGeom>
                <a:solidFill>
                  <a:srgbClr val="92dc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400800" y="582480"/>
                  <a:ext cx="6480" cy="457200"/>
                </a:xfrm>
                <a:prstGeom prst="rect">
                  <a:avLst/>
                </a:prstGeom>
                <a:solidFill>
                  <a:srgbClr val="94dd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407280" y="582480"/>
                  <a:ext cx="6480" cy="457200"/>
                </a:xfrm>
                <a:prstGeom prst="rect">
                  <a:avLst/>
                </a:prstGeom>
                <a:solidFill>
                  <a:srgbClr val="96d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413760" y="582480"/>
                  <a:ext cx="7920" cy="457200"/>
                </a:xfrm>
                <a:prstGeom prst="rect">
                  <a:avLst/>
                </a:prstGeom>
                <a:solidFill>
                  <a:srgbClr val="98de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6421680" y="582480"/>
                  <a:ext cx="6120" cy="457200"/>
                </a:xfrm>
                <a:prstGeom prst="rect">
                  <a:avLst/>
                </a:prstGeom>
                <a:solidFill>
                  <a:srgbClr val="9ad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427800" y="582480"/>
                  <a:ext cx="6480" cy="457200"/>
                </a:xfrm>
                <a:prstGeom prst="rect">
                  <a:avLst/>
                </a:prstGeom>
                <a:solidFill>
                  <a:srgbClr val="9cd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434280" y="582480"/>
                  <a:ext cx="9360" cy="457200"/>
                </a:xfrm>
                <a:prstGeom prst="rect">
                  <a:avLst/>
                </a:prstGeom>
                <a:solidFill>
                  <a:srgbClr val="9ed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6443640" y="582480"/>
                  <a:ext cx="7920" cy="457200"/>
                </a:xfrm>
                <a:prstGeom prst="rect">
                  <a:avLst/>
                </a:prstGeom>
                <a:solidFill>
                  <a:srgbClr val="a0e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451560" y="582480"/>
                  <a:ext cx="6480" cy="457200"/>
                </a:xfrm>
                <a:prstGeom prst="rect">
                  <a:avLst/>
                </a:prstGeom>
                <a:solidFill>
                  <a:srgbClr val="a2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458040" y="582480"/>
                  <a:ext cx="7920" cy="457200"/>
                </a:xfrm>
                <a:prstGeom prst="rect">
                  <a:avLst/>
                </a:prstGeom>
                <a:solidFill>
                  <a:srgbClr val="a4e1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465960" y="582480"/>
                  <a:ext cx="6480" cy="457200"/>
                </a:xfrm>
                <a:prstGeom prst="rect">
                  <a:avLst/>
                </a:prstGeom>
                <a:solidFill>
                  <a:srgbClr val="a6e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472440" y="582480"/>
                  <a:ext cx="9360" cy="457200"/>
                </a:xfrm>
                <a:prstGeom prst="rect">
                  <a:avLst/>
                </a:prstGeom>
                <a:solidFill>
                  <a:srgbClr val="a8e2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481800" y="582480"/>
                  <a:ext cx="7920" cy="457200"/>
                </a:xfrm>
                <a:prstGeom prst="rect">
                  <a:avLst/>
                </a:prstGeom>
                <a:solidFill>
                  <a:srgbClr val="aae3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489720" y="582480"/>
                  <a:ext cx="7920" cy="457200"/>
                </a:xfrm>
                <a:prstGeom prst="rect">
                  <a:avLst/>
                </a:prstGeom>
                <a:solidFill>
                  <a:srgbClr val="ace3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497640" y="582480"/>
                  <a:ext cx="7920" cy="457200"/>
                </a:xfrm>
                <a:prstGeom prst="rect">
                  <a:avLst/>
                </a:prstGeom>
                <a:solidFill>
                  <a:srgbClr val="aee4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505560" y="582480"/>
                  <a:ext cx="9720" cy="457200"/>
                </a:xfrm>
                <a:prstGeom prst="rect">
                  <a:avLst/>
                </a:prstGeom>
                <a:solidFill>
                  <a:srgbClr val="b0e4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515280" y="582480"/>
                  <a:ext cx="9360" cy="457200"/>
                </a:xfrm>
                <a:prstGeom prst="rect">
                  <a:avLst/>
                </a:prstGeom>
                <a:solidFill>
                  <a:srgbClr val="b2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524640" y="582480"/>
                  <a:ext cx="4680" cy="457200"/>
                </a:xfrm>
                <a:prstGeom prst="rect">
                  <a:avLst/>
                </a:prstGeom>
                <a:solidFill>
                  <a:srgbClr val="b4e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529320" y="582480"/>
                  <a:ext cx="9720" cy="457200"/>
                </a:xfrm>
                <a:prstGeom prst="rect">
                  <a:avLst/>
                </a:prstGeom>
                <a:solidFill>
                  <a:srgbClr val="b6e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539040" y="582480"/>
                  <a:ext cx="9360" cy="457200"/>
                </a:xfrm>
                <a:prstGeom prst="rect">
                  <a:avLst/>
                </a:prstGeom>
                <a:solidFill>
                  <a:srgbClr val="b8e6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548400" y="582480"/>
                  <a:ext cx="9720" cy="457200"/>
                </a:xfrm>
                <a:prstGeom prst="rect">
                  <a:avLst/>
                </a:prstGeom>
                <a:solidFill>
                  <a:srgbClr val="bae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558120" y="582480"/>
                  <a:ext cx="7920" cy="457200"/>
                </a:xfrm>
                <a:prstGeom prst="rect">
                  <a:avLst/>
                </a:prstGeom>
                <a:solidFill>
                  <a:srgbClr val="bce8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566040" y="582480"/>
                  <a:ext cx="7920" cy="457200"/>
                </a:xfrm>
                <a:prstGeom prst="rect">
                  <a:avLst/>
                </a:prstGeom>
                <a:solidFill>
                  <a:srgbClr val="bee9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573960" y="582480"/>
                  <a:ext cx="7920" cy="457200"/>
                </a:xfrm>
                <a:prstGeom prst="rect">
                  <a:avLst/>
                </a:prstGeom>
                <a:solidFill>
                  <a:srgbClr val="c0e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581880" y="582480"/>
                  <a:ext cx="9360" cy="457200"/>
                </a:xfrm>
                <a:prstGeom prst="rect">
                  <a:avLst/>
                </a:prstGeom>
                <a:solidFill>
                  <a:srgbClr val="c2e9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91240" y="582480"/>
                  <a:ext cx="9720" cy="457200"/>
                </a:xfrm>
                <a:prstGeom prst="rect">
                  <a:avLst/>
                </a:prstGeom>
                <a:solidFill>
                  <a:srgbClr val="c4e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600960" y="582480"/>
                  <a:ext cx="9360" cy="457200"/>
                </a:xfrm>
                <a:prstGeom prst="rect">
                  <a:avLst/>
                </a:prstGeom>
                <a:solidFill>
                  <a:srgbClr val="c6ea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610320" y="582480"/>
                  <a:ext cx="9720" cy="457200"/>
                </a:xfrm>
                <a:prstGeom prst="rect">
                  <a:avLst/>
                </a:prstGeom>
                <a:solidFill>
                  <a:srgbClr val="c8eb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620040" y="582480"/>
                  <a:ext cx="9360" cy="457200"/>
                </a:xfrm>
                <a:prstGeom prst="rect">
                  <a:avLst/>
                </a:prstGeom>
                <a:solidFill>
                  <a:srgbClr val="cae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629400" y="582480"/>
                  <a:ext cx="12960" cy="457200"/>
                </a:xfrm>
                <a:prstGeom prst="rect">
                  <a:avLst/>
                </a:prstGeom>
                <a:solidFill>
                  <a:srgbClr val="cce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642360" y="582480"/>
                  <a:ext cx="10800" cy="457200"/>
                </a:xfrm>
                <a:prstGeom prst="rect">
                  <a:avLst/>
                </a:prstGeom>
                <a:solidFill>
                  <a:srgbClr val="cee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53160" y="582480"/>
                  <a:ext cx="9720" cy="457200"/>
                </a:xfrm>
                <a:prstGeom prst="rect">
                  <a:avLst/>
                </a:prstGeom>
                <a:solidFill>
                  <a:srgbClr val="d0e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662880" y="582480"/>
                  <a:ext cx="9360" cy="457200"/>
                </a:xfrm>
                <a:prstGeom prst="rect">
                  <a:avLst/>
                </a:prstGeom>
                <a:solidFill>
                  <a:srgbClr val="d2e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672240" y="582480"/>
                  <a:ext cx="9720" cy="457200"/>
                </a:xfrm>
                <a:prstGeom prst="rect">
                  <a:avLst/>
                </a:prstGeom>
                <a:solidFill>
                  <a:srgbClr val="d4e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681960" y="582480"/>
                  <a:ext cx="14400" cy="457200"/>
                </a:xfrm>
                <a:prstGeom prst="rect">
                  <a:avLst/>
                </a:prstGeom>
                <a:solidFill>
                  <a:srgbClr val="d6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96360" y="582480"/>
                  <a:ext cx="12600" cy="457200"/>
                </a:xfrm>
                <a:prstGeom prst="rect">
                  <a:avLst/>
                </a:prstGeom>
                <a:solidFill>
                  <a:srgbClr val="d8f1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708960" y="582480"/>
                  <a:ext cx="11160" cy="457200"/>
                </a:xfrm>
                <a:prstGeom prst="rect">
                  <a:avLst/>
                </a:prstGeom>
                <a:solidFill>
                  <a:srgbClr val="da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720120" y="582480"/>
                  <a:ext cx="9360" cy="457200"/>
                </a:xfrm>
                <a:prstGeom prst="rect">
                  <a:avLst/>
                </a:prstGeom>
                <a:solidFill>
                  <a:srgbClr val="dcf2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729480" y="582480"/>
                  <a:ext cx="14400" cy="457200"/>
                </a:xfrm>
                <a:prstGeom prst="rect">
                  <a:avLst/>
                </a:prstGeom>
                <a:solidFill>
                  <a:srgbClr val="def3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743880" y="582480"/>
                  <a:ext cx="12600" cy="457200"/>
                </a:xfrm>
                <a:prstGeom prst="rect">
                  <a:avLst/>
                </a:prstGeom>
                <a:solidFill>
                  <a:srgbClr val="e0f3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756480" y="582480"/>
                  <a:ext cx="15840" cy="457200"/>
                </a:xfrm>
                <a:prstGeom prst="rect">
                  <a:avLst/>
                </a:prstGeom>
                <a:solidFill>
                  <a:srgbClr val="e2f4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772320" y="582480"/>
                  <a:ext cx="12600" cy="457200"/>
                </a:xfrm>
                <a:prstGeom prst="rect">
                  <a:avLst/>
                </a:prstGeom>
                <a:solidFill>
                  <a:srgbClr val="e4f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784920" y="582480"/>
                  <a:ext cx="17640" cy="457200"/>
                </a:xfrm>
                <a:prstGeom prst="rect">
                  <a:avLst/>
                </a:prstGeom>
                <a:solidFill>
                  <a:srgbClr val="e6f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802560" y="582480"/>
                  <a:ext cx="12600" cy="457200"/>
                </a:xfrm>
                <a:prstGeom prst="rect">
                  <a:avLst/>
                </a:prstGeom>
                <a:solidFill>
                  <a:srgbClr val="e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815160" y="582480"/>
                  <a:ext cx="17640" cy="457200"/>
                </a:xfrm>
                <a:prstGeom prst="rect">
                  <a:avLst/>
                </a:prstGeom>
                <a:solidFill>
                  <a:srgbClr val="eaf7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832800" y="582480"/>
                  <a:ext cx="17280" cy="457200"/>
                </a:xfrm>
                <a:prstGeom prst="rect">
                  <a:avLst/>
                </a:prstGeom>
                <a:solidFill>
                  <a:srgbClr val="ecf8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850080" y="582480"/>
                  <a:ext cx="20880" cy="457200"/>
                </a:xfrm>
                <a:prstGeom prst="rect">
                  <a:avLst/>
                </a:prstGeom>
                <a:solidFill>
                  <a:srgbClr val="eef8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870960" y="582480"/>
                  <a:ext cx="17280" cy="457200"/>
                </a:xfrm>
                <a:prstGeom prst="rect">
                  <a:avLst/>
                </a:prstGeom>
                <a:solidFill>
                  <a:srgbClr val="f0f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888240" y="582480"/>
                  <a:ext cx="28440" cy="457200"/>
                </a:xfrm>
                <a:prstGeom prst="rect">
                  <a:avLst/>
                </a:prstGeom>
                <a:solidFill>
                  <a:srgbClr val="f2f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916680" y="582480"/>
                  <a:ext cx="30240" cy="457200"/>
                </a:xfrm>
                <a:prstGeom prst="rect">
                  <a:avLst/>
                </a:prstGeom>
                <a:solidFill>
                  <a:srgbClr val="f4fb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46920" y="582480"/>
                  <a:ext cx="28800" cy="457200"/>
                </a:xfrm>
                <a:prstGeom prst="rect">
                  <a:avLst/>
                </a:prstGeom>
                <a:solidFill>
                  <a:srgbClr val="f6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975720" y="582480"/>
                  <a:ext cx="27000" cy="457200"/>
                </a:xfrm>
                <a:prstGeom prst="rect">
                  <a:avLst/>
                </a:prstGeom>
                <a:solidFill>
                  <a:srgbClr val="f8fc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002720" y="582480"/>
                  <a:ext cx="48960" cy="457200"/>
                </a:xfrm>
                <a:prstGeom prst="rect">
                  <a:avLst/>
                </a:prstGeom>
                <a:solidFill>
                  <a:srgbClr val="fa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051680" y="582480"/>
                  <a:ext cx="47880" cy="457200"/>
                </a:xfrm>
                <a:prstGeom prst="rect">
                  <a:avLst/>
                </a:prstGeom>
                <a:solidFill>
                  <a:srgbClr val="fc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099560" y="582480"/>
                  <a:ext cx="142560" cy="457200"/>
                </a:xfrm>
                <a:prstGeom prst="rect">
                  <a:avLst/>
                </a:prstGeom>
                <a:solidFill>
                  <a:srgbClr val="fe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242120" y="582480"/>
                  <a:ext cx="55800" cy="457200"/>
                </a:xfrm>
                <a:prstGeom prst="rect">
                  <a:avLst/>
                </a:prstGeom>
                <a:solidFill>
                  <a:srgbClr val="fcfe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297920" y="582480"/>
                  <a:ext cx="38160" cy="457200"/>
                </a:xfrm>
                <a:prstGeom prst="rect">
                  <a:avLst/>
                </a:prstGeom>
                <a:solidFill>
                  <a:srgbClr val="fafd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336080" y="582480"/>
                  <a:ext cx="29880" cy="457200"/>
                </a:xfrm>
                <a:prstGeom prst="rect">
                  <a:avLst/>
                </a:prstGeom>
                <a:solidFill>
                  <a:srgbClr val="f8fc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365960" y="582480"/>
                  <a:ext cx="28800" cy="457200"/>
                </a:xfrm>
                <a:prstGeom prst="rect">
                  <a:avLst/>
                </a:prstGeom>
                <a:solidFill>
                  <a:srgbClr val="f6f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394760" y="582480"/>
                  <a:ext cx="17280" cy="457200"/>
                </a:xfrm>
                <a:prstGeom prst="rect">
                  <a:avLst/>
                </a:prstGeom>
                <a:solidFill>
                  <a:srgbClr val="f4fb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412040" y="582480"/>
                  <a:ext cx="30240" cy="457200"/>
                </a:xfrm>
                <a:prstGeom prst="rect">
                  <a:avLst/>
                </a:prstGeom>
                <a:solidFill>
                  <a:srgbClr val="f2f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442280" y="582480"/>
                  <a:ext cx="17640" cy="457200"/>
                </a:xfrm>
                <a:prstGeom prst="rect">
                  <a:avLst/>
                </a:prstGeom>
                <a:solidFill>
                  <a:srgbClr val="f0f9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459920" y="582480"/>
                  <a:ext cx="20520" cy="457200"/>
                </a:xfrm>
                <a:prstGeom prst="rect">
                  <a:avLst/>
                </a:prstGeom>
                <a:solidFill>
                  <a:srgbClr val="eef8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480440" y="582480"/>
                  <a:ext cx="17280" cy="457200"/>
                </a:xfrm>
                <a:prstGeom prst="rect">
                  <a:avLst/>
                </a:prstGeom>
                <a:solidFill>
                  <a:srgbClr val="ecf8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97720" y="582480"/>
                  <a:ext cx="12960" cy="457200"/>
                </a:xfrm>
                <a:prstGeom prst="rect">
                  <a:avLst/>
                </a:prstGeom>
                <a:solidFill>
                  <a:srgbClr val="eaf7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510680" y="582480"/>
                  <a:ext cx="15840" cy="457200"/>
                </a:xfrm>
                <a:prstGeom prst="rect">
                  <a:avLst/>
                </a:prstGeom>
                <a:solidFill>
                  <a:srgbClr val="e8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526520" y="582480"/>
                  <a:ext cx="17280" cy="457200"/>
                </a:xfrm>
                <a:prstGeom prst="rect">
                  <a:avLst/>
                </a:prstGeom>
                <a:solidFill>
                  <a:srgbClr val="e6f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543800" y="582480"/>
                  <a:ext cx="12960" cy="457200"/>
                </a:xfrm>
                <a:prstGeom prst="rect">
                  <a:avLst/>
                </a:prstGeom>
                <a:solidFill>
                  <a:srgbClr val="e4f5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7556760" y="582480"/>
                  <a:ext cx="15840" cy="457200"/>
                </a:xfrm>
                <a:prstGeom prst="rect">
                  <a:avLst/>
                </a:prstGeom>
                <a:solidFill>
                  <a:srgbClr val="e2f4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572600" y="582480"/>
                  <a:ext cx="12600" cy="457200"/>
                </a:xfrm>
                <a:prstGeom prst="rect">
                  <a:avLst/>
                </a:prstGeom>
                <a:solidFill>
                  <a:srgbClr val="e0f4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585200" y="582480"/>
                  <a:ext cx="11160" cy="457200"/>
                </a:xfrm>
                <a:prstGeom prst="rect">
                  <a:avLst/>
                </a:prstGeom>
                <a:solidFill>
                  <a:srgbClr val="def3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7596360" y="582480"/>
                  <a:ext cx="9360" cy="457200"/>
                </a:xfrm>
                <a:prstGeom prst="rect">
                  <a:avLst/>
                </a:prstGeom>
                <a:solidFill>
                  <a:srgbClr val="dcf2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605720" y="582480"/>
                  <a:ext cx="14400" cy="457200"/>
                </a:xfrm>
                <a:prstGeom prst="rect">
                  <a:avLst/>
                </a:prstGeom>
                <a:solidFill>
                  <a:srgbClr val="daf2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620120" y="582480"/>
                  <a:ext cx="12600" cy="457200"/>
                </a:xfrm>
                <a:prstGeom prst="rect">
                  <a:avLst/>
                </a:prstGeom>
                <a:solidFill>
                  <a:srgbClr val="d8f1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632720" y="582480"/>
                  <a:ext cx="11160" cy="457200"/>
                </a:xfrm>
                <a:prstGeom prst="rect">
                  <a:avLst/>
                </a:prstGeom>
                <a:solidFill>
                  <a:srgbClr val="d6f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643880" y="582480"/>
                  <a:ext cx="9720" cy="457200"/>
                </a:xfrm>
                <a:prstGeom prst="rect">
                  <a:avLst/>
                </a:prstGeom>
                <a:solidFill>
                  <a:srgbClr val="d4e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7653600" y="582480"/>
                  <a:ext cx="9360" cy="457200"/>
                </a:xfrm>
                <a:prstGeom prst="rect">
                  <a:avLst/>
                </a:prstGeom>
                <a:solidFill>
                  <a:srgbClr val="d2e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662960" y="582480"/>
                  <a:ext cx="9360" cy="457200"/>
                </a:xfrm>
                <a:prstGeom prst="rect">
                  <a:avLst/>
                </a:prstGeom>
                <a:solidFill>
                  <a:srgbClr val="d0ee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672320" y="582480"/>
                  <a:ext cx="14400" cy="457200"/>
                </a:xfrm>
                <a:prstGeom prst="rect">
                  <a:avLst/>
                </a:prstGeom>
                <a:solidFill>
                  <a:srgbClr val="cee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7686720" y="582480"/>
                  <a:ext cx="9720" cy="457200"/>
                </a:xfrm>
                <a:prstGeom prst="rect">
                  <a:avLst/>
                </a:prstGeom>
                <a:solidFill>
                  <a:srgbClr val="cce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7696440" y="582480"/>
                  <a:ext cx="9360" cy="457200"/>
                </a:xfrm>
                <a:prstGeom prst="rect">
                  <a:avLst/>
                </a:prstGeom>
                <a:solidFill>
                  <a:srgbClr val="cae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705800" y="582480"/>
                  <a:ext cx="11160" cy="457200"/>
                </a:xfrm>
                <a:prstGeom prst="rect">
                  <a:avLst/>
                </a:prstGeom>
                <a:solidFill>
                  <a:srgbClr val="c8ec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716960" y="582480"/>
                  <a:ext cx="7920" cy="457200"/>
                </a:xfrm>
                <a:prstGeom prst="rect">
                  <a:avLst/>
                </a:prstGeom>
                <a:solidFill>
                  <a:srgbClr val="c6eb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724880" y="582480"/>
                  <a:ext cx="9360" cy="457200"/>
                </a:xfrm>
                <a:prstGeom prst="rect">
                  <a:avLst/>
                </a:prstGeom>
                <a:solidFill>
                  <a:srgbClr val="c4ea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734240" y="582480"/>
                  <a:ext cx="9720" cy="457200"/>
                </a:xfrm>
                <a:prstGeom prst="rect">
                  <a:avLst/>
                </a:prstGeom>
                <a:solidFill>
                  <a:srgbClr val="c2ea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743960" y="582480"/>
                  <a:ext cx="6480" cy="457200"/>
                </a:xfrm>
                <a:prstGeom prst="rect">
                  <a:avLst/>
                </a:prstGeom>
                <a:solidFill>
                  <a:srgbClr val="c0e9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750440" y="582480"/>
                  <a:ext cx="7920" cy="457200"/>
                </a:xfrm>
                <a:prstGeom prst="rect">
                  <a:avLst/>
                </a:prstGeom>
                <a:solidFill>
                  <a:srgbClr val="bee9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758360" y="582480"/>
                  <a:ext cx="9360" cy="457200"/>
                </a:xfrm>
                <a:prstGeom prst="rect">
                  <a:avLst/>
                </a:prstGeom>
                <a:solidFill>
                  <a:srgbClr val="bce8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767720" y="582480"/>
                  <a:ext cx="9720" cy="457200"/>
                </a:xfrm>
                <a:prstGeom prst="rect">
                  <a:avLst/>
                </a:prstGeom>
                <a:solidFill>
                  <a:srgbClr val="bae7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777440" y="582480"/>
                  <a:ext cx="9360" cy="457200"/>
                </a:xfrm>
                <a:prstGeom prst="rect">
                  <a:avLst/>
                </a:prstGeom>
                <a:solidFill>
                  <a:srgbClr val="b8e6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86800" y="582480"/>
                  <a:ext cx="6480" cy="457200"/>
                </a:xfrm>
                <a:prstGeom prst="rect">
                  <a:avLst/>
                </a:prstGeom>
                <a:solidFill>
                  <a:srgbClr val="b6e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793280" y="582480"/>
                  <a:ext cx="7920" cy="457200"/>
                </a:xfrm>
                <a:prstGeom prst="rect">
                  <a:avLst/>
                </a:prstGeom>
                <a:solidFill>
                  <a:srgbClr val="b4e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801200" y="582480"/>
                  <a:ext cx="9360" cy="457200"/>
                </a:xfrm>
                <a:prstGeom prst="rect">
                  <a:avLst/>
                </a:prstGeom>
                <a:solidFill>
                  <a:srgbClr val="b2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810560" y="582480"/>
                  <a:ext cx="9720" cy="457200"/>
                </a:xfrm>
                <a:prstGeom prst="rect">
                  <a:avLst/>
                </a:prstGeom>
                <a:solidFill>
                  <a:srgbClr val="b0e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820280" y="582480"/>
                  <a:ext cx="6120" cy="457200"/>
                </a:xfrm>
                <a:prstGeom prst="rect">
                  <a:avLst/>
                </a:prstGeom>
                <a:solidFill>
                  <a:srgbClr val="aee4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826400" y="582480"/>
                  <a:ext cx="7920" cy="457200"/>
                </a:xfrm>
                <a:prstGeom prst="rect">
                  <a:avLst/>
                </a:prstGeom>
                <a:solidFill>
                  <a:srgbClr val="ace3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834320" y="582480"/>
                  <a:ext cx="9720" cy="457200"/>
                </a:xfrm>
                <a:prstGeom prst="rect">
                  <a:avLst/>
                </a:prstGeom>
                <a:solidFill>
                  <a:srgbClr val="aae3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844040" y="582480"/>
                  <a:ext cx="7920" cy="457200"/>
                </a:xfrm>
                <a:prstGeom prst="rect">
                  <a:avLst/>
                </a:prstGeom>
                <a:solidFill>
                  <a:srgbClr val="a8e2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851960" y="582480"/>
                  <a:ext cx="6120" cy="457200"/>
                </a:xfrm>
                <a:prstGeom prst="rect">
                  <a:avLst/>
                </a:prstGeom>
                <a:solidFill>
                  <a:srgbClr val="a6e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858080" y="582480"/>
                  <a:ext cx="9720" cy="457200"/>
                </a:xfrm>
                <a:prstGeom prst="rect">
                  <a:avLst/>
                </a:prstGeom>
                <a:solidFill>
                  <a:srgbClr val="a4e1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867800" y="582480"/>
                  <a:ext cx="4680" cy="457200"/>
                </a:xfrm>
                <a:prstGeom prst="rect">
                  <a:avLst/>
                </a:prstGeom>
                <a:solidFill>
                  <a:srgbClr val="a2e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872480" y="582480"/>
                  <a:ext cx="9720" cy="457200"/>
                </a:xfrm>
                <a:prstGeom prst="rect">
                  <a:avLst/>
                </a:prstGeom>
                <a:solidFill>
                  <a:srgbClr val="a0e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882200" y="582480"/>
                  <a:ext cx="7920" cy="457200"/>
                </a:xfrm>
                <a:prstGeom prst="rect">
                  <a:avLst/>
                </a:prstGeom>
                <a:solidFill>
                  <a:srgbClr val="9ed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890120" y="582480"/>
                  <a:ext cx="6120" cy="457200"/>
                </a:xfrm>
                <a:prstGeom prst="rect">
                  <a:avLst/>
                </a:prstGeom>
                <a:solidFill>
                  <a:srgbClr val="9cd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896240" y="582480"/>
                  <a:ext cx="6480" cy="457200"/>
                </a:xfrm>
                <a:prstGeom prst="rect">
                  <a:avLst/>
                </a:prstGeom>
                <a:solidFill>
                  <a:srgbClr val="9ad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02720" y="582480"/>
                  <a:ext cx="7920" cy="457200"/>
                </a:xfrm>
                <a:prstGeom prst="rect">
                  <a:avLst/>
                </a:prstGeom>
                <a:solidFill>
                  <a:srgbClr val="98de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910640" y="582480"/>
                  <a:ext cx="6480" cy="457200"/>
                </a:xfrm>
                <a:prstGeom prst="rect">
                  <a:avLst/>
                </a:prstGeom>
                <a:solidFill>
                  <a:srgbClr val="96dd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917120" y="582480"/>
                  <a:ext cx="7920" cy="457200"/>
                </a:xfrm>
                <a:prstGeom prst="rect">
                  <a:avLst/>
                </a:prstGeom>
                <a:solidFill>
                  <a:srgbClr val="94dd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925040" y="582480"/>
                  <a:ext cx="9360" cy="457200"/>
                </a:xfrm>
                <a:prstGeom prst="rect">
                  <a:avLst/>
                </a:prstGeom>
                <a:solidFill>
                  <a:srgbClr val="92dd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934400" y="582480"/>
                  <a:ext cx="6480" cy="457200"/>
                </a:xfrm>
                <a:prstGeom prst="rect">
                  <a:avLst/>
                </a:prstGeom>
                <a:solidFill>
                  <a:srgbClr val="90dc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940880" y="582480"/>
                  <a:ext cx="7920" cy="457200"/>
                </a:xfrm>
                <a:prstGeom prst="rect">
                  <a:avLst/>
                </a:prstGeom>
                <a:solidFill>
                  <a:srgbClr val="8edc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948800" y="582480"/>
                  <a:ext cx="6120" cy="457200"/>
                </a:xfrm>
                <a:prstGeom prst="rect">
                  <a:avLst/>
                </a:prstGeom>
                <a:solidFill>
                  <a:srgbClr val="8cdb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954920" y="582480"/>
                  <a:ext cx="7920" cy="457200"/>
                </a:xfrm>
                <a:prstGeom prst="rect">
                  <a:avLst/>
                </a:prstGeom>
                <a:solidFill>
                  <a:srgbClr val="8ad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962840" y="582480"/>
                  <a:ext cx="6480" cy="457200"/>
                </a:xfrm>
                <a:prstGeom prst="rect">
                  <a:avLst/>
                </a:prstGeom>
                <a:solidFill>
                  <a:srgbClr val="88da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969320" y="582480"/>
                  <a:ext cx="7920" cy="457200"/>
                </a:xfrm>
                <a:prstGeom prst="rect">
                  <a:avLst/>
                </a:prstGeom>
                <a:solidFill>
                  <a:srgbClr val="86d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977240" y="582480"/>
                  <a:ext cx="7920" cy="457200"/>
                </a:xfrm>
                <a:prstGeom prst="rect">
                  <a:avLst/>
                </a:prstGeom>
                <a:solidFill>
                  <a:srgbClr val="84d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985160" y="582480"/>
                  <a:ext cx="6480" cy="457200"/>
                </a:xfrm>
                <a:prstGeom prst="rect">
                  <a:avLst/>
                </a:prstGeom>
                <a:solidFill>
                  <a:srgbClr val="82d9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991640" y="582480"/>
                  <a:ext cx="9360" cy="457200"/>
                </a:xfrm>
                <a:prstGeom prst="rect">
                  <a:avLst/>
                </a:prstGeom>
                <a:solidFill>
                  <a:srgbClr val="80d9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001000" y="582480"/>
                  <a:ext cx="6480" cy="457200"/>
                </a:xfrm>
                <a:prstGeom prst="rect">
                  <a:avLst/>
                </a:prstGeom>
                <a:solidFill>
                  <a:srgbClr val="7ed8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007480" y="582480"/>
                  <a:ext cx="6480" cy="457200"/>
                </a:xfrm>
                <a:prstGeom prst="rect">
                  <a:avLst/>
                </a:prstGeom>
                <a:solidFill>
                  <a:srgbClr val="7cd8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013960" y="582480"/>
                  <a:ext cx="6120" cy="457200"/>
                </a:xfrm>
                <a:prstGeom prst="rect">
                  <a:avLst/>
                </a:prstGeom>
                <a:solidFill>
                  <a:srgbClr val="7ad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020080" y="582480"/>
                  <a:ext cx="4680" cy="457200"/>
                </a:xfrm>
                <a:prstGeom prst="rect">
                  <a:avLst/>
                </a:prstGeom>
                <a:solidFill>
                  <a:srgbClr val="78d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024760" y="582480"/>
                  <a:ext cx="9720" cy="457200"/>
                </a:xfrm>
                <a:prstGeom prst="rect">
                  <a:avLst/>
                </a:prstGeom>
                <a:solidFill>
                  <a:srgbClr val="76d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034480" y="582480"/>
                  <a:ext cx="7920" cy="457200"/>
                </a:xfrm>
                <a:prstGeom prst="rect">
                  <a:avLst/>
                </a:prstGeom>
                <a:solidFill>
                  <a:srgbClr val="74d6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042400" y="582480"/>
                  <a:ext cx="6480" cy="457200"/>
                </a:xfrm>
                <a:prstGeom prst="rect">
                  <a:avLst/>
                </a:prstGeom>
                <a:solidFill>
                  <a:srgbClr val="72d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048880" y="582480"/>
                  <a:ext cx="6120" cy="457200"/>
                </a:xfrm>
                <a:prstGeom prst="rect">
                  <a:avLst/>
                </a:prstGeom>
                <a:solidFill>
                  <a:srgbClr val="70d6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055000" y="582480"/>
                  <a:ext cx="7920" cy="457200"/>
                </a:xfrm>
                <a:prstGeom prst="rect">
                  <a:avLst/>
                </a:prstGeom>
                <a:solidFill>
                  <a:srgbClr val="6ed5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062920" y="582480"/>
                  <a:ext cx="6480" cy="457200"/>
                </a:xfrm>
                <a:prstGeom prst="rect">
                  <a:avLst/>
                </a:prstGeom>
                <a:solidFill>
                  <a:srgbClr val="6cd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" name=""/>
              <p:cNvSpPr/>
              <p:nvPr/>
            </p:nvSpPr>
            <p:spPr>
              <a:xfrm>
                <a:off x="8069400" y="582480"/>
                <a:ext cx="7920" cy="457200"/>
              </a:xfrm>
              <a:prstGeom prst="rect">
                <a:avLst/>
              </a:prstGeom>
              <a:solidFill>
                <a:srgbClr val="6ad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77320" y="582480"/>
                <a:ext cx="9360" cy="457200"/>
              </a:xfrm>
              <a:prstGeom prst="rect">
                <a:avLst/>
              </a:prstGeom>
              <a:solidFill>
                <a:srgbClr val="68d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86680" y="582480"/>
                <a:ext cx="6480" cy="457200"/>
              </a:xfrm>
              <a:prstGeom prst="rect">
                <a:avLst/>
              </a:prstGeom>
              <a:solidFill>
                <a:srgbClr val="66d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93160" y="582480"/>
                <a:ext cx="6480" cy="457200"/>
              </a:xfrm>
              <a:prstGeom prst="rect">
                <a:avLst/>
              </a:prstGeom>
              <a:solidFill>
                <a:srgbClr val="64d3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99640" y="582480"/>
                <a:ext cx="4680" cy="457200"/>
              </a:xfrm>
              <a:prstGeom prst="rect">
                <a:avLst/>
              </a:prstGeom>
              <a:solidFill>
                <a:srgbClr val="62d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104320" y="582480"/>
                <a:ext cx="6480" cy="457200"/>
              </a:xfrm>
              <a:prstGeom prst="rect">
                <a:avLst/>
              </a:prstGeom>
              <a:solidFill>
                <a:srgbClr val="60d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110800" y="582480"/>
                <a:ext cx="9360" cy="457200"/>
              </a:xfrm>
              <a:prstGeom prst="rect">
                <a:avLst/>
              </a:prstGeom>
              <a:solidFill>
                <a:srgbClr val="5ed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20160" y="582480"/>
                <a:ext cx="7920" cy="457200"/>
              </a:xfrm>
              <a:prstGeom prst="rect">
                <a:avLst/>
              </a:prstGeom>
              <a:solidFill>
                <a:srgbClr val="5cd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28080" y="582480"/>
                <a:ext cx="7920" cy="457200"/>
              </a:xfrm>
              <a:prstGeom prst="rect">
                <a:avLst/>
              </a:prstGeom>
              <a:solidFill>
                <a:srgbClr val="5ad2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136000" y="582480"/>
                <a:ext cx="6480" cy="457200"/>
              </a:xfrm>
              <a:prstGeom prst="rect">
                <a:avLst/>
              </a:prstGeom>
              <a:solidFill>
                <a:srgbClr val="58d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142480" y="582480"/>
                <a:ext cx="6120" cy="457200"/>
              </a:xfrm>
              <a:prstGeom prst="rect">
                <a:avLst/>
              </a:prstGeom>
              <a:solidFill>
                <a:srgbClr val="56d1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48600" y="582480"/>
                <a:ext cx="7920" cy="457200"/>
              </a:xfrm>
              <a:prstGeom prst="rect">
                <a:avLst/>
              </a:prstGeom>
              <a:solidFill>
                <a:srgbClr val="54d1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56520" y="582480"/>
                <a:ext cx="6480" cy="457200"/>
              </a:xfrm>
              <a:prstGeom prst="rect">
                <a:avLst/>
              </a:prstGeom>
              <a:solidFill>
                <a:srgbClr val="52d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63000" y="582480"/>
                <a:ext cx="9720" cy="457200"/>
              </a:xfrm>
              <a:prstGeom prst="rect">
                <a:avLst/>
              </a:prstGeom>
              <a:solidFill>
                <a:srgbClr val="50d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72720" y="582480"/>
                <a:ext cx="4680" cy="457200"/>
              </a:xfrm>
              <a:prstGeom prst="rect">
                <a:avLst/>
              </a:prstGeom>
              <a:solidFill>
                <a:srgbClr val="4ed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77400" y="582480"/>
                <a:ext cx="6120" cy="457200"/>
              </a:xfrm>
              <a:prstGeom prst="rect">
                <a:avLst/>
              </a:prstGeom>
              <a:solidFill>
                <a:srgbClr val="4cd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83520" y="582480"/>
                <a:ext cx="7920" cy="457200"/>
              </a:xfrm>
              <a:prstGeom prst="rect">
                <a:avLst/>
              </a:prstGeom>
              <a:solidFill>
                <a:srgbClr val="4ad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91440" y="582480"/>
                <a:ext cx="9720" cy="457200"/>
              </a:xfrm>
              <a:prstGeom prst="rect">
                <a:avLst/>
              </a:prstGeom>
              <a:solidFill>
                <a:srgbClr val="48d0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201160" y="582480"/>
                <a:ext cx="6480" cy="457200"/>
              </a:xfrm>
              <a:prstGeom prst="rect">
                <a:avLst/>
              </a:prstGeom>
              <a:solidFill>
                <a:srgbClr val="46cf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207640" y="582480"/>
                <a:ext cx="7920" cy="457200"/>
              </a:xfrm>
              <a:prstGeom prst="rect">
                <a:avLst/>
              </a:prstGeom>
              <a:solidFill>
                <a:srgbClr val="44c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15560" y="582480"/>
                <a:ext cx="6120" cy="457200"/>
              </a:xfrm>
              <a:prstGeom prst="rect">
                <a:avLst/>
              </a:prstGeom>
              <a:solidFill>
                <a:srgbClr val="42c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221680" y="582480"/>
                <a:ext cx="7920" cy="457200"/>
              </a:xfrm>
              <a:prstGeom prst="rect">
                <a:avLst/>
              </a:prstGeom>
              <a:solidFill>
                <a:srgbClr val="40c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29600" y="582480"/>
                <a:ext cx="6480" cy="457200"/>
              </a:xfrm>
              <a:prstGeom prst="rect">
                <a:avLst/>
              </a:prstGeom>
              <a:solidFill>
                <a:srgbClr val="3ec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36080" y="582480"/>
                <a:ext cx="7920" cy="457200"/>
              </a:xfrm>
              <a:prstGeom prst="rect">
                <a:avLst/>
              </a:prstGeom>
              <a:solidFill>
                <a:srgbClr val="3cce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244000" y="582480"/>
                <a:ext cx="7920" cy="457200"/>
              </a:xfrm>
              <a:prstGeom prst="rect">
                <a:avLst/>
              </a:prstGeom>
              <a:solidFill>
                <a:srgbClr val="3ace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251920" y="582480"/>
                <a:ext cx="4680" cy="457200"/>
              </a:xfrm>
              <a:prstGeom prst="rect">
                <a:avLst/>
              </a:prstGeom>
              <a:solidFill>
                <a:srgbClr val="38c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256600" y="582480"/>
                <a:ext cx="6480" cy="457200"/>
              </a:xfrm>
              <a:prstGeom prst="rect">
                <a:avLst/>
              </a:prstGeom>
              <a:solidFill>
                <a:srgbClr val="36c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263080" y="582480"/>
                <a:ext cx="9360" cy="457200"/>
              </a:xfrm>
              <a:prstGeom prst="rect">
                <a:avLst/>
              </a:prstGeom>
              <a:solidFill>
                <a:srgbClr val="34ce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72440" y="582480"/>
                <a:ext cx="7920" cy="457200"/>
              </a:xfrm>
              <a:prstGeom prst="rect">
                <a:avLst/>
              </a:prstGeom>
              <a:solidFill>
                <a:srgbClr val="32c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80360" y="582480"/>
                <a:ext cx="7920" cy="457200"/>
              </a:xfrm>
              <a:prstGeom prst="rect">
                <a:avLst/>
              </a:prstGeom>
              <a:solidFill>
                <a:srgbClr val="30c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88280" y="582480"/>
                <a:ext cx="6480" cy="457200"/>
              </a:xfrm>
              <a:prstGeom prst="rect">
                <a:avLst/>
              </a:prstGeom>
              <a:solidFill>
                <a:srgbClr val="2ec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94760" y="582480"/>
                <a:ext cx="6480" cy="457200"/>
              </a:xfrm>
              <a:prstGeom prst="rect">
                <a:avLst/>
              </a:prstGeom>
              <a:solidFill>
                <a:srgbClr val="2cc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301240" y="582480"/>
                <a:ext cx="7920" cy="457200"/>
              </a:xfrm>
              <a:prstGeom prst="rect">
                <a:avLst/>
              </a:prstGeom>
              <a:solidFill>
                <a:srgbClr val="2acd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309160" y="582480"/>
                <a:ext cx="6120" cy="457200"/>
              </a:xfrm>
              <a:prstGeom prst="rect">
                <a:avLst/>
              </a:prstGeom>
              <a:solidFill>
                <a:srgbClr val="28c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315280" y="582480"/>
                <a:ext cx="5040" cy="457200"/>
              </a:xfrm>
              <a:prstGeom prst="rect">
                <a:avLst/>
              </a:prstGeom>
              <a:solidFill>
                <a:srgbClr val="26c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320320" y="582480"/>
                <a:ext cx="4680" cy="457200"/>
              </a:xfrm>
              <a:prstGeom prst="rect">
                <a:avLst/>
              </a:prstGeom>
              <a:solidFill>
                <a:srgbClr val="24cd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325000" y="582480"/>
                <a:ext cx="6480" cy="457200"/>
              </a:xfrm>
              <a:prstGeom prst="rect">
                <a:avLst/>
              </a:prstGeom>
              <a:solidFill>
                <a:srgbClr val="22c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331480" y="582480"/>
                <a:ext cx="4680" cy="457200"/>
              </a:xfrm>
              <a:prstGeom prst="rect">
                <a:avLst/>
              </a:prstGeom>
              <a:solidFill>
                <a:srgbClr val="20cd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336160" y="582480"/>
                <a:ext cx="4680" cy="457200"/>
              </a:xfrm>
              <a:prstGeom prst="rect">
                <a:avLst/>
              </a:prstGeom>
              <a:solidFill>
                <a:srgbClr val="1ecc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340840" y="582480"/>
                <a:ext cx="6480" cy="457200"/>
              </a:xfrm>
              <a:prstGeom prst="rect">
                <a:avLst/>
              </a:prstGeom>
              <a:solidFill>
                <a:srgbClr val="1cc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347320" y="582480"/>
                <a:ext cx="6120" cy="457200"/>
              </a:xfrm>
              <a:prstGeom prst="rect">
                <a:avLst/>
              </a:prstGeom>
              <a:solidFill>
                <a:srgbClr val="1ac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353440" y="582480"/>
                <a:ext cx="4680" cy="457200"/>
              </a:xfrm>
              <a:prstGeom prst="rect">
                <a:avLst/>
              </a:prstGeom>
              <a:solidFill>
                <a:srgbClr val="18c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358120" y="582480"/>
                <a:ext cx="5040" cy="457200"/>
              </a:xfrm>
              <a:prstGeom prst="rect">
                <a:avLst/>
              </a:prstGeom>
              <a:solidFill>
                <a:srgbClr val="16c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363160" y="582480"/>
                <a:ext cx="3240" cy="457200"/>
              </a:xfrm>
              <a:prstGeom prst="rect">
                <a:avLst/>
              </a:prstGeom>
              <a:solidFill>
                <a:srgbClr val="14c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366400" y="582480"/>
                <a:ext cx="2880" cy="457200"/>
              </a:xfrm>
              <a:prstGeom prst="rect">
                <a:avLst/>
              </a:prstGeom>
              <a:solidFill>
                <a:srgbClr val="12c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369280" y="582480"/>
                <a:ext cx="1800" cy="457200"/>
              </a:xfrm>
              <a:prstGeom prst="rect">
                <a:avLst/>
              </a:prstGeom>
              <a:solidFill>
                <a:srgbClr val="10c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69280" y="582480"/>
                <a:ext cx="1800" cy="457200"/>
              </a:xfrm>
              <a:prstGeom prst="rect">
                <a:avLst/>
              </a:prstGeom>
              <a:solidFill>
                <a:srgbClr val="0ec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71080" y="582480"/>
                <a:ext cx="1440" cy="457200"/>
              </a:xfrm>
              <a:prstGeom prst="rect">
                <a:avLst/>
              </a:prstGeom>
              <a:solidFill>
                <a:srgbClr val="0c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72520" y="582480"/>
                <a:ext cx="1800" cy="457200"/>
              </a:xfrm>
              <a:prstGeom prst="rect">
                <a:avLst/>
              </a:prstGeom>
              <a:solidFill>
                <a:srgbClr val="0ac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74320" y="582480"/>
                <a:ext cx="1440" cy="457200"/>
              </a:xfrm>
              <a:prstGeom prst="rect">
                <a:avLst/>
              </a:prstGeom>
              <a:solidFill>
                <a:srgbClr val="07c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75760" y="582480"/>
                <a:ext cx="1440" cy="457200"/>
              </a:xfrm>
              <a:prstGeom prst="rect">
                <a:avLst/>
              </a:prstGeom>
              <a:solidFill>
                <a:srgbClr val="05cc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77200" y="582480"/>
                <a:ext cx="1800" cy="457200"/>
              </a:xfrm>
              <a:prstGeom prst="rect">
                <a:avLst/>
              </a:prstGeom>
              <a:solidFill>
                <a:srgbClr val="02c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940360" y="582480"/>
                <a:ext cx="2440080" cy="457200"/>
              </a:xfrm>
              <a:prstGeom prst="rect">
                <a:avLst/>
              </a:prstGeom>
              <a:noFill/>
              <a:ln cap="rnd"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943600" y="115920"/>
              <a:ext cx="822240" cy="824040"/>
              <a:chOff x="5943600" y="115920"/>
              <a:chExt cx="822240" cy="824040"/>
            </a:xfrm>
          </p:grpSpPr>
          <p:pic>
            <p:nvPicPr>
              <p:cNvPr id="7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43600" y="115920"/>
                <a:ext cx="822240" cy="8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3600" y="115920"/>
                <a:ext cx="822240" cy="82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9" name=""/>
            <p:cNvSpPr/>
            <p:nvPr/>
          </p:nvSpPr>
          <p:spPr>
            <a:xfrm>
              <a:off x="7082280" y="247680"/>
              <a:ext cx="508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宋体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4932360" y="537372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206236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255680" y="48448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若对折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次，算式中有几个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71600" y="144792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折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次可裁成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张，即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×2=2</a:t>
            </a:r>
            <a:r>
              <a:rPr b="0" lang="zh-CN" sz="3600" spc="-1" strike="noStrike" baseline="30000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71600" y="2101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折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次可裁成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张，即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×2×2=2</a:t>
            </a:r>
            <a:r>
              <a:rPr b="0" lang="zh-CN" sz="3600" spc="-1" strike="noStrike" baseline="30000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32000" y="270828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若对折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0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次可裁成几张？请用一个算式表示（不用算出结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6516720" y="333360"/>
            <a:ext cx="23335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楷体_GB2312"/>
              </a:rPr>
              <a:t>动手做一做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11280" y="1844640"/>
            <a:ext cx="8153280" cy="581400"/>
            <a:chOff x="611280" y="1844640"/>
            <a:chExt cx="8153280" cy="581400"/>
          </a:xfrm>
        </p:grpSpPr>
        <p:sp>
          <p:nvSpPr>
            <p:cNvPr id="53" name=""/>
            <p:cNvSpPr/>
            <p:nvPr/>
          </p:nvSpPr>
          <p:spPr>
            <a:xfrm>
              <a:off x="611280" y="184464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种求  个</a:t>
              </a:r>
              <a:r>
                <a:rPr b="0" lang="zh-CN" sz="2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相同因数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积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运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叫做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425680" y="1989000"/>
                  <a:ext cx="345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" name=""/>
          <p:cNvSpPr/>
          <p:nvPr/>
        </p:nvSpPr>
        <p:spPr>
          <a:xfrm>
            <a:off x="755640" y="242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乘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55640" y="5805360"/>
            <a:ext cx="7543800" cy="610200"/>
            <a:chOff x="755640" y="5805360"/>
            <a:chExt cx="7543800" cy="610200"/>
          </a:xfrm>
        </p:grpSpPr>
        <p:sp>
          <p:nvSpPr>
            <p:cNvPr id="57" name=""/>
            <p:cNvSpPr/>
            <p:nvPr/>
          </p:nvSpPr>
          <p:spPr>
            <a:xfrm>
              <a:off x="755640" y="58341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   中，  叫做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底数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  叫做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指数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333440" y="5805360"/>
                  <a:ext cx="4888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736720" y="598644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175360" y="591012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403280" y="3645000"/>
            <a:ext cx="3086280" cy="1401840"/>
            <a:chOff x="1403280" y="3645000"/>
            <a:chExt cx="3086280" cy="1401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262320" y="3645000"/>
                  <a:ext cx="1227240" cy="14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1936800" y="4239000"/>
              <a:ext cx="1295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03280" y="3934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4000" y="2997360"/>
            <a:ext cx="8305560" cy="1343520"/>
            <a:chOff x="324000" y="2997360"/>
            <a:chExt cx="8305560" cy="1343520"/>
          </a:xfrm>
        </p:grpSpPr>
        <p:sp>
          <p:nvSpPr>
            <p:cNvPr id="66" name=""/>
            <p:cNvSpPr/>
            <p:nvPr/>
          </p:nvSpPr>
          <p:spPr>
            <a:xfrm>
              <a:off x="324000" y="3017880"/>
              <a:ext cx="83055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作  的  次方，也可以读作  的  次幂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847520" y="3170520"/>
                  <a:ext cx="345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30216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264456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18164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628560" y="2997360"/>
                  <a:ext cx="483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356000" y="3789360"/>
            <a:ext cx="4038840" cy="581400"/>
            <a:chOff x="4356000" y="3789360"/>
            <a:chExt cx="4038840" cy="581400"/>
          </a:xfrm>
        </p:grpSpPr>
        <p:sp>
          <p:nvSpPr>
            <p:cNvPr id="73" name=""/>
            <p:cNvSpPr/>
            <p:nvPr/>
          </p:nvSpPr>
          <p:spPr>
            <a:xfrm>
              <a:off x="5651640" y="409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356000" y="3789360"/>
              <a:ext cx="4038840" cy="581400"/>
              <a:chOff x="4356000" y="3789360"/>
              <a:chExt cx="4038840" cy="581400"/>
            </a:xfrm>
          </p:grpSpPr>
          <p:sp>
            <p:nvSpPr>
              <p:cNvPr id="75" name=""/>
              <p:cNvSpPr/>
              <p:nvPr/>
            </p:nvSpPr>
            <p:spPr>
              <a:xfrm>
                <a:off x="4737240" y="378936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Times New Roman"/>
                    <a:ea typeface="华文新魏"/>
                  </a:rPr>
                  <a:t>指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08840" y="3789360"/>
                <a:ext cx="228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因数的个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4356000" y="4140360"/>
                <a:ext cx="53352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3132000" y="4724280"/>
            <a:ext cx="2514600" cy="1038600"/>
            <a:chOff x="3132000" y="4724280"/>
            <a:chExt cx="2514600" cy="1038600"/>
          </a:xfrm>
        </p:grpSpPr>
        <p:sp>
          <p:nvSpPr>
            <p:cNvPr id="79" name=""/>
            <p:cNvSpPr/>
            <p:nvPr/>
          </p:nvSpPr>
          <p:spPr>
            <a:xfrm>
              <a:off x="3132000" y="51814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底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646440" y="4724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6400" y="5486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03600" y="5181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因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87640" y="1901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52320" y="380880"/>
            <a:ext cx="6205680" cy="581400"/>
            <a:chOff x="652320" y="380880"/>
            <a:chExt cx="6205680" cy="581400"/>
          </a:xfrm>
        </p:grpSpPr>
        <p:sp>
          <p:nvSpPr>
            <p:cNvPr id="85" name=""/>
            <p:cNvSpPr/>
            <p:nvPr/>
          </p:nvSpPr>
          <p:spPr>
            <a:xfrm>
              <a:off x="914400" y="380880"/>
              <a:ext cx="59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相同的因数   相乘，即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52320" y="45720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548160" y="45720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" name=""/>
          <p:cNvGrpSpPr/>
          <p:nvPr/>
        </p:nvGrpSpPr>
        <p:grpSpPr>
          <a:xfrm>
            <a:off x="611280" y="990720"/>
            <a:ext cx="3733560" cy="591120"/>
            <a:chOff x="611280" y="990720"/>
            <a:chExt cx="3733560" cy="591120"/>
          </a:xfrm>
        </p:grpSpPr>
        <p:sp>
          <p:nvSpPr>
            <p:cNvPr id="89" name=""/>
            <p:cNvSpPr/>
            <p:nvPr/>
          </p:nvSpPr>
          <p:spPr>
            <a:xfrm>
              <a:off x="611280" y="100044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们把它记作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187440" y="990720"/>
                  <a:ext cx="92844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1320" y="533520"/>
                <a:ext cx="2836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662520" y="1197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7092000" y="-243720"/>
            <a:ext cx="144720" cy="2448000"/>
          </a:xfrm>
          <a:custGeom>
            <a:avLst/>
            <a:gdLst>
              <a:gd name="textAreaLeft" fmla="*/ 0 w 144720"/>
              <a:gd name="textAreaRight" fmla="*/ 52200 w 144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34"/>
                </a:lnTo>
                <a:cubicBezTo>
                  <a:pt x="10800" y="9534"/>
                  <a:pt x="16200" y="10434"/>
                  <a:pt x="21600" y="10434"/>
                </a:cubicBezTo>
                <a:cubicBezTo>
                  <a:pt x="16200" y="10434"/>
                  <a:pt x="10800" y="11334"/>
                  <a:pt x="10800" y="122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722320" y="67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8464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548160" y="69228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后的厚度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071880" y="1413000"/>
          <a:ext cx="129528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71880" y="1413000"/>
                    <a:ext cx="1295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4443480" y="1488960"/>
          <a:ext cx="2863800" cy="42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3480" y="1488960"/>
                    <a:ext cx="28638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"/>
          <p:cNvGraphicFramePr/>
          <p:nvPr/>
        </p:nvGraphicFramePr>
        <p:xfrm>
          <a:off x="4462560" y="2022480"/>
          <a:ext cx="2724120" cy="41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62560" y="2022480"/>
                    <a:ext cx="27241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"/>
          <p:cNvGraphicFramePr/>
          <p:nvPr/>
        </p:nvGraphicFramePr>
        <p:xfrm>
          <a:off x="3201840" y="3267000"/>
          <a:ext cx="314640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01840" y="3267000"/>
                    <a:ext cx="3146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3929760" y="38512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折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后的厚度超过珠穆朗玛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4519440" y="2556000"/>
          <a:ext cx="2487960" cy="41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19440" y="2556000"/>
                    <a:ext cx="24879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7740720" y="23760"/>
            <a:ext cx="1371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1979640" y="765000"/>
            <a:ext cx="49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让大家与你分享快乐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"/>
          <p:cNvSpPr/>
          <p:nvPr/>
        </p:nvSpPr>
        <p:spPr>
          <a:xfrm>
            <a:off x="1547640" y="263700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，通过这节课的学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你有哪些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611280" y="1844640"/>
            <a:ext cx="8153280" cy="581400"/>
            <a:chOff x="611280" y="1844640"/>
            <a:chExt cx="8153280" cy="581400"/>
          </a:xfrm>
        </p:grpSpPr>
        <p:sp>
          <p:nvSpPr>
            <p:cNvPr id="794" name=""/>
            <p:cNvSpPr/>
            <p:nvPr/>
          </p:nvSpPr>
          <p:spPr>
            <a:xfrm>
              <a:off x="611280" y="1844640"/>
              <a:ext cx="81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种求  个</a:t>
              </a:r>
              <a:r>
                <a:rPr b="0" lang="zh-CN" sz="28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相同因数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积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运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叫做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5" name=""/>
                <p:cNvSpPr txBox="1"/>
                <p:nvPr/>
              </p:nvSpPr>
              <p:spPr>
                <a:xfrm>
                  <a:off x="2425680" y="1989000"/>
                  <a:ext cx="34596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6" name=""/>
          <p:cNvSpPr/>
          <p:nvPr/>
        </p:nvSpPr>
        <p:spPr>
          <a:xfrm>
            <a:off x="755640" y="242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乘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55640" y="5805360"/>
            <a:ext cx="7543800" cy="610200"/>
            <a:chOff x="755640" y="5805360"/>
            <a:chExt cx="7543800" cy="610200"/>
          </a:xfrm>
        </p:grpSpPr>
        <p:sp>
          <p:nvSpPr>
            <p:cNvPr id="798" name=""/>
            <p:cNvSpPr/>
            <p:nvPr/>
          </p:nvSpPr>
          <p:spPr>
            <a:xfrm>
              <a:off x="755640" y="58341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   中，  叫做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底数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  叫做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指数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1333440" y="5805360"/>
                  <a:ext cx="4888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0" name=""/>
                <p:cNvSpPr txBox="1"/>
                <p:nvPr/>
              </p:nvSpPr>
              <p:spPr>
                <a:xfrm>
                  <a:off x="2736720" y="598644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1" name=""/>
                <p:cNvSpPr txBox="1"/>
                <p:nvPr/>
              </p:nvSpPr>
              <p:spPr>
                <a:xfrm>
                  <a:off x="5175360" y="591012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2" name=""/>
          <p:cNvGrpSpPr/>
          <p:nvPr/>
        </p:nvGrpSpPr>
        <p:grpSpPr>
          <a:xfrm>
            <a:off x="1403280" y="3645000"/>
            <a:ext cx="3086280" cy="1401840"/>
            <a:chOff x="1403280" y="3645000"/>
            <a:chExt cx="3086280" cy="1401840"/>
          </a:xfrm>
        </p:grpSpPr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3262320" y="3645000"/>
                  <a:ext cx="1227240" cy="14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1936800" y="4239000"/>
              <a:ext cx="1295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03280" y="3934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24000" y="2997360"/>
            <a:ext cx="8305560" cy="1343520"/>
            <a:chOff x="324000" y="2997360"/>
            <a:chExt cx="8305560" cy="1343520"/>
          </a:xfrm>
        </p:grpSpPr>
        <p:sp>
          <p:nvSpPr>
            <p:cNvPr id="807" name=""/>
            <p:cNvSpPr/>
            <p:nvPr/>
          </p:nvSpPr>
          <p:spPr>
            <a:xfrm>
              <a:off x="324000" y="3017880"/>
              <a:ext cx="83055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读作  的  次方，也可以读作  的  次幂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8" name=""/>
                <p:cNvSpPr txBox="1"/>
                <p:nvPr/>
              </p:nvSpPr>
              <p:spPr>
                <a:xfrm>
                  <a:off x="1847520" y="3170520"/>
                  <a:ext cx="345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630216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264456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1" name=""/>
                <p:cNvSpPr txBox="1"/>
                <p:nvPr/>
              </p:nvSpPr>
              <p:spPr>
                <a:xfrm>
                  <a:off x="7181640" y="3170520"/>
                  <a:ext cx="3456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628560" y="2997360"/>
                  <a:ext cx="483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3" name=""/>
          <p:cNvGrpSpPr/>
          <p:nvPr/>
        </p:nvGrpSpPr>
        <p:grpSpPr>
          <a:xfrm>
            <a:off x="4356000" y="3789360"/>
            <a:ext cx="4038840" cy="581400"/>
            <a:chOff x="4356000" y="3789360"/>
            <a:chExt cx="4038840" cy="581400"/>
          </a:xfrm>
        </p:grpSpPr>
        <p:sp>
          <p:nvSpPr>
            <p:cNvPr id="814" name=""/>
            <p:cNvSpPr/>
            <p:nvPr/>
          </p:nvSpPr>
          <p:spPr>
            <a:xfrm>
              <a:off x="5651640" y="40942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4356000" y="3789360"/>
              <a:ext cx="4038840" cy="581400"/>
              <a:chOff x="4356000" y="3789360"/>
              <a:chExt cx="4038840" cy="581400"/>
            </a:xfrm>
          </p:grpSpPr>
          <p:sp>
            <p:nvSpPr>
              <p:cNvPr id="816" name=""/>
              <p:cNvSpPr/>
              <p:nvPr/>
            </p:nvSpPr>
            <p:spPr>
              <a:xfrm>
                <a:off x="4737240" y="378936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Times New Roman"/>
                    <a:ea typeface="华文新魏"/>
                  </a:rPr>
                  <a:t>指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08840" y="3789360"/>
                <a:ext cx="228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因数的个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4356000" y="4140360"/>
                <a:ext cx="53352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3132000" y="4724280"/>
            <a:ext cx="2514600" cy="1038600"/>
            <a:chOff x="3132000" y="4724280"/>
            <a:chExt cx="2514600" cy="1038600"/>
          </a:xfrm>
        </p:grpSpPr>
        <p:sp>
          <p:nvSpPr>
            <p:cNvPr id="820" name=""/>
            <p:cNvSpPr/>
            <p:nvPr/>
          </p:nvSpPr>
          <p:spPr>
            <a:xfrm>
              <a:off x="3132000" y="51814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底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3646440" y="4724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46400" y="5486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03600" y="5181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因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987640" y="1901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楷体_GB2312"/>
                <a:ea typeface="楷体_GB2312"/>
              </a:rPr>
              <a:t>相同因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52320" y="380880"/>
            <a:ext cx="6205680" cy="581400"/>
            <a:chOff x="652320" y="380880"/>
            <a:chExt cx="6205680" cy="581400"/>
          </a:xfrm>
        </p:grpSpPr>
        <p:sp>
          <p:nvSpPr>
            <p:cNvPr id="826" name=""/>
            <p:cNvSpPr/>
            <p:nvPr/>
          </p:nvSpPr>
          <p:spPr>
            <a:xfrm>
              <a:off x="914400" y="380880"/>
              <a:ext cx="59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相同的因数   相乘，即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7" name=""/>
                <p:cNvSpPr txBox="1"/>
                <p:nvPr/>
              </p:nvSpPr>
              <p:spPr>
                <a:xfrm>
                  <a:off x="652320" y="45720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8" name=""/>
                <p:cNvSpPr txBox="1"/>
                <p:nvPr/>
              </p:nvSpPr>
              <p:spPr>
                <a:xfrm>
                  <a:off x="3548160" y="457200"/>
                  <a:ext cx="414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9" name=""/>
          <p:cNvGrpSpPr/>
          <p:nvPr/>
        </p:nvGrpSpPr>
        <p:grpSpPr>
          <a:xfrm>
            <a:off x="611280" y="990720"/>
            <a:ext cx="3733560" cy="591120"/>
            <a:chOff x="611280" y="990720"/>
            <a:chExt cx="3733560" cy="591120"/>
          </a:xfrm>
        </p:grpSpPr>
        <p:sp>
          <p:nvSpPr>
            <p:cNvPr id="830" name=""/>
            <p:cNvSpPr/>
            <p:nvPr/>
          </p:nvSpPr>
          <p:spPr>
            <a:xfrm>
              <a:off x="611280" y="100044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们把它记作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3187440" y="990720"/>
                  <a:ext cx="92844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5791320" y="533520"/>
                <a:ext cx="2836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6662520" y="1197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5400000">
            <a:off x="7092000" y="-243720"/>
            <a:ext cx="144720" cy="2448000"/>
          </a:xfrm>
          <a:custGeom>
            <a:avLst/>
            <a:gdLst>
              <a:gd name="textAreaLeft" fmla="*/ 0 w 144720"/>
              <a:gd name="textAreaRight" fmla="*/ 52200 w 144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34"/>
                </a:lnTo>
                <a:cubicBezTo>
                  <a:pt x="10800" y="9534"/>
                  <a:pt x="16200" y="10434"/>
                  <a:pt x="21600" y="10434"/>
                </a:cubicBezTo>
                <a:cubicBezTo>
                  <a:pt x="16200" y="10434"/>
                  <a:pt x="10800" y="11334"/>
                  <a:pt x="10800" y="122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468360" y="549360"/>
            <a:ext cx="842472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幂的性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负数的奇次幂是负数，负数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偶次幂是正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正数的任何次幂都是正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任何正整数次幂是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208680" y="1700280"/>
            <a:ext cx="210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6804000" y="762120"/>
            <a:ext cx="1980720" cy="6095880"/>
            <a:chOff x="6804000" y="762120"/>
            <a:chExt cx="1980720" cy="6095880"/>
          </a:xfrm>
        </p:grpSpPr>
        <p:grpSp>
          <p:nvGrpSpPr>
            <p:cNvPr id="838" name=""/>
            <p:cNvGrpSpPr/>
            <p:nvPr/>
          </p:nvGrpSpPr>
          <p:grpSpPr>
            <a:xfrm>
              <a:off x="7566120" y="762120"/>
              <a:ext cx="1218600" cy="6095880"/>
              <a:chOff x="7566120" y="762120"/>
              <a:chExt cx="1218600" cy="6095880"/>
            </a:xfrm>
          </p:grpSpPr>
          <p:grpSp>
            <p:nvGrpSpPr>
              <p:cNvPr id="839" name=""/>
              <p:cNvGrpSpPr/>
              <p:nvPr/>
            </p:nvGrpSpPr>
            <p:grpSpPr>
              <a:xfrm>
                <a:off x="7566120" y="6172200"/>
                <a:ext cx="1142640" cy="685800"/>
                <a:chOff x="7566120" y="6172200"/>
                <a:chExt cx="1142640" cy="6858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566120" y="617220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022960" y="632448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7566120" y="5410080"/>
                <a:ext cx="1142640" cy="685800"/>
                <a:chOff x="7566120" y="5410080"/>
                <a:chExt cx="1142640" cy="6858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566120" y="541008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022960" y="556236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7566120" y="4648320"/>
                <a:ext cx="1142640" cy="685800"/>
                <a:chOff x="7566120" y="4648320"/>
                <a:chExt cx="1142640" cy="6858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566120" y="464832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022960" y="480060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7566120" y="3962520"/>
                <a:ext cx="1142640" cy="685800"/>
                <a:chOff x="7566120" y="3962520"/>
                <a:chExt cx="1142640" cy="6858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566120" y="396252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022960" y="411480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7642080" y="3086280"/>
                <a:ext cx="1142640" cy="685800"/>
                <a:chOff x="7642080" y="3086280"/>
                <a:chExt cx="1142640" cy="6858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7642080" y="308628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098920" y="323856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7642080" y="2209680"/>
                <a:ext cx="1142640" cy="685800"/>
                <a:chOff x="7642080" y="2209680"/>
                <a:chExt cx="1142640" cy="6858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7642080" y="220968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098920" y="236196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7642080" y="1447920"/>
                <a:ext cx="1142640" cy="685800"/>
                <a:chOff x="7642080" y="1447920"/>
                <a:chExt cx="1142640" cy="6858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7642080" y="144792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098920" y="160020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7566120" y="762120"/>
                <a:ext cx="1142640" cy="685800"/>
                <a:chOff x="7566120" y="762120"/>
                <a:chExt cx="1142640" cy="6858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7566120" y="762120"/>
                  <a:ext cx="114264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2960" y="914400"/>
                  <a:ext cx="4568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3" name=""/>
            <p:cNvGrpSpPr/>
            <p:nvPr/>
          </p:nvGrpSpPr>
          <p:grpSpPr>
            <a:xfrm>
              <a:off x="6804000" y="1142640"/>
              <a:ext cx="762120" cy="5486760"/>
              <a:chOff x="6804000" y="1142640"/>
              <a:chExt cx="762120" cy="548676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6880320" y="4267440"/>
                <a:ext cx="609480" cy="38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6880320" y="2667240"/>
                <a:ext cx="609480" cy="38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880320" y="1142640"/>
                <a:ext cx="609480" cy="381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80320" y="1828800"/>
                <a:ext cx="60948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956640" y="3353040"/>
                <a:ext cx="6094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80320" y="4876920"/>
                <a:ext cx="60948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6880320" y="5790960"/>
                <a:ext cx="6094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04000" y="6400800"/>
                <a:ext cx="6858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4495680" y="1295280"/>
            <a:ext cx="2133720" cy="5105520"/>
            <a:chOff x="4495680" y="1295280"/>
            <a:chExt cx="2133720" cy="5105520"/>
          </a:xfrm>
        </p:grpSpPr>
        <p:grpSp>
          <p:nvGrpSpPr>
            <p:cNvPr id="873" name=""/>
            <p:cNvGrpSpPr/>
            <p:nvPr/>
          </p:nvGrpSpPr>
          <p:grpSpPr>
            <a:xfrm>
              <a:off x="5410080" y="1295280"/>
              <a:ext cx="1219320" cy="5105520"/>
              <a:chOff x="5410080" y="1295280"/>
              <a:chExt cx="1219320" cy="510552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410080" y="5715000"/>
                <a:ext cx="1143000" cy="685800"/>
                <a:chOff x="5410080" y="5715000"/>
                <a:chExt cx="1143000" cy="6858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410080" y="571500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867280" y="586728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5486400" y="4343400"/>
                <a:ext cx="1143000" cy="685800"/>
                <a:chOff x="5486400" y="4343400"/>
                <a:chExt cx="1143000" cy="6858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5486400" y="434340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943600" y="449568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5486400" y="2743200"/>
                <a:ext cx="1143000" cy="685800"/>
                <a:chOff x="5486400" y="2743200"/>
                <a:chExt cx="1143000" cy="68580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5486400" y="274320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943600" y="289548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5486400" y="1295280"/>
                <a:ext cx="1143000" cy="685800"/>
                <a:chOff x="5486400" y="1295280"/>
                <a:chExt cx="1143000" cy="6858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486400" y="129528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943600" y="144756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6" name=""/>
            <p:cNvGrpSpPr/>
            <p:nvPr/>
          </p:nvGrpSpPr>
          <p:grpSpPr>
            <a:xfrm>
              <a:off x="4495680" y="1905120"/>
              <a:ext cx="838080" cy="4038480"/>
              <a:chOff x="4495680" y="1905120"/>
              <a:chExt cx="838080" cy="4038480"/>
            </a:xfrm>
          </p:grpSpPr>
          <p:sp>
            <p:nvSpPr>
              <p:cNvPr id="887" name=""/>
              <p:cNvSpPr/>
              <p:nvPr/>
            </p:nvSpPr>
            <p:spPr>
              <a:xfrm flipV="1">
                <a:off x="4647960" y="1905120"/>
                <a:ext cx="609480" cy="380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571640" y="2743200"/>
                <a:ext cx="76212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4495680" y="4876920"/>
                <a:ext cx="83808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71640" y="5486400"/>
                <a:ext cx="6858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"/>
          <p:cNvGrpSpPr/>
          <p:nvPr/>
        </p:nvGrpSpPr>
        <p:grpSpPr>
          <a:xfrm>
            <a:off x="2700360" y="2276640"/>
            <a:ext cx="1828800" cy="3504960"/>
            <a:chOff x="2700360" y="2276640"/>
            <a:chExt cx="1828800" cy="3504960"/>
          </a:xfrm>
        </p:grpSpPr>
        <p:grpSp>
          <p:nvGrpSpPr>
            <p:cNvPr id="892" name=""/>
            <p:cNvGrpSpPr/>
            <p:nvPr/>
          </p:nvGrpSpPr>
          <p:grpSpPr>
            <a:xfrm>
              <a:off x="3386160" y="2276640"/>
              <a:ext cx="1143000" cy="3504960"/>
              <a:chOff x="3386160" y="2276640"/>
              <a:chExt cx="1143000" cy="3504960"/>
            </a:xfrm>
          </p:grpSpPr>
          <p:grpSp>
            <p:nvGrpSpPr>
              <p:cNvPr id="893" name=""/>
              <p:cNvGrpSpPr/>
              <p:nvPr/>
            </p:nvGrpSpPr>
            <p:grpSpPr>
              <a:xfrm>
                <a:off x="3386160" y="5095800"/>
                <a:ext cx="1143000" cy="685800"/>
                <a:chOff x="3386160" y="5095800"/>
                <a:chExt cx="1143000" cy="68580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3386160" y="509580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843360" y="524808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386160" y="2276640"/>
                <a:ext cx="1143000" cy="685800"/>
                <a:chOff x="3386160" y="2276640"/>
                <a:chExt cx="1143000" cy="68580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386160" y="2276640"/>
                  <a:ext cx="11430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99"/>
                    </a:gs>
                    <a:gs pos="100000">
                      <a:srgbClr val="755e4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843360" y="2428920"/>
                  <a:ext cx="4572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66"/>
                    </a:gs>
                    <a:gs pos="100000">
                      <a:srgbClr val="cc9bb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2700360" y="2809800"/>
              <a:ext cx="762120" cy="2056680"/>
              <a:chOff x="2700360" y="2809800"/>
              <a:chExt cx="762120" cy="205668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2700360" y="2809800"/>
                <a:ext cx="762120" cy="609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700360" y="4104720"/>
                <a:ext cx="6858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5800" y="907920"/>
            <a:ext cx="1169640" cy="5029200"/>
            <a:chOff x="55800" y="907920"/>
            <a:chExt cx="1169640" cy="5029200"/>
          </a:xfrm>
        </p:grpSpPr>
        <p:sp>
          <p:nvSpPr>
            <p:cNvPr id="903" name=""/>
            <p:cNvSpPr/>
            <p:nvPr/>
          </p:nvSpPr>
          <p:spPr>
            <a:xfrm>
              <a:off x="539640" y="983880"/>
              <a:ext cx="685800" cy="49532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433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800" y="907920"/>
              <a:ext cx="115524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细胞分裂示意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1523880" y="3505320"/>
            <a:ext cx="1143000" cy="685800"/>
            <a:chOff x="1523880" y="3505320"/>
            <a:chExt cx="1143000" cy="685800"/>
          </a:xfrm>
        </p:grpSpPr>
        <p:sp>
          <p:nvSpPr>
            <p:cNvPr id="906" name=""/>
            <p:cNvSpPr/>
            <p:nvPr/>
          </p:nvSpPr>
          <p:spPr>
            <a:xfrm>
              <a:off x="1523880" y="3505320"/>
              <a:ext cx="1143000" cy="6858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981080" y="3657600"/>
              <a:ext cx="457200" cy="22860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cc9bb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900000" y="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后分裂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经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，这种细胞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能分裂成多少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08360" y="3716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508720" y="3645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×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6000" y="35733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×2×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40" y="-220680"/>
            <a:ext cx="546120" cy="17524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课后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14" name="WordArt 12"/>
          <p:cNvSpPr txBox="1"/>
          <p:nvPr/>
        </p:nvSpPr>
        <p:spPr>
          <a:xfrm>
            <a:off x="3492360" y="2421000"/>
            <a:ext cx="30290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再  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5" name="WordArt 11"/>
          <p:cNvSpPr txBox="1"/>
          <p:nvPr/>
        </p:nvSpPr>
        <p:spPr>
          <a:xfrm>
            <a:off x="3276720" y="105264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143752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9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8064360" cy="62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    中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，读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表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乘的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</a:t>
            </a:r>
            <a:r>
              <a:rPr b="1" lang="zh-CN" sz="5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底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指数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乘的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187280" y="3789360"/>
                <a:ext cx="12988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47640" y="1052640"/>
                <a:ext cx="559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211640" y="3645000"/>
                <a:ext cx="3398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372360" y="37893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50920" y="4581360"/>
            <a:ext cx="2209680" cy="882360"/>
            <a:chOff x="2050920" y="4581360"/>
            <a:chExt cx="2209680" cy="882360"/>
          </a:xfrm>
        </p:grpSpPr>
        <p:sp>
          <p:nvSpPr>
            <p:cNvPr id="100" name=""/>
            <p:cNvSpPr/>
            <p:nvPr/>
          </p:nvSpPr>
          <p:spPr>
            <a:xfrm>
              <a:off x="2431800" y="47336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</a:t>
              </a:r>
              <a:r>
                <a:rPr b="0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次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2050920" y="4581360"/>
                  <a:ext cx="339480" cy="88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3635280" y="1052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11253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77336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方</a:t>
            </a: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（或</a:t>
            </a: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次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16880" y="5457960"/>
            <a:ext cx="1527120" cy="1400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948360" y="1916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1844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54840" y="4865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20000" y="4508640"/>
                <a:ext cx="3394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04640"/>
            <a:ext cx="820872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      中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，读作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相乘的积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      中，底数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指数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读作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相乘的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84360" y="333360"/>
                <a:ext cx="1219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68360" y="2276640"/>
                <a:ext cx="12574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724360" y="476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9920" y="10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052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1920" y="2852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300720" y="2421000"/>
                <a:ext cx="72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" name=""/>
          <p:cNvGrpSpPr/>
          <p:nvPr/>
        </p:nvGrpSpPr>
        <p:grpSpPr>
          <a:xfrm>
            <a:off x="3995640" y="2852640"/>
            <a:ext cx="4536720" cy="581400"/>
            <a:chOff x="3995640" y="2852640"/>
            <a:chExt cx="4536720" cy="581400"/>
          </a:xfrm>
        </p:grpSpPr>
        <p:sp>
          <p:nvSpPr>
            <p:cNvPr id="119" name=""/>
            <p:cNvSpPr/>
            <p:nvPr/>
          </p:nvSpPr>
          <p:spPr>
            <a:xfrm>
              <a:off x="4076280" y="2852640"/>
              <a:ext cx="445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7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次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995640" y="2965320"/>
                  <a:ext cx="76968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16880" y="5457960"/>
            <a:ext cx="1527120" cy="1400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47640" y="16286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62864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500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419640" y="3573360"/>
                <a:ext cx="72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066680" y="990720"/>
              <a:ext cx="693432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zh-CN" sz="32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可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br>
                <a:rPr sz="3200"/>
              </a:b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看成幂的话，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可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828800" y="2857680"/>
                  <a:ext cx="3808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3962520" y="4419720"/>
            <a:ext cx="1143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50292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23920" y="4876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48320" y="51814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1197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197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18446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一次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459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284640"/>
            <a:ext cx="23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一次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666880" y="4419720"/>
            <a:ext cx="3657600" cy="1143000"/>
            <a:chOff x="2666880" y="4419720"/>
            <a:chExt cx="3657600" cy="1143000"/>
          </a:xfrm>
        </p:grpSpPr>
        <p:sp>
          <p:nvSpPr>
            <p:cNvPr id="143" name=""/>
            <p:cNvSpPr/>
            <p:nvPr/>
          </p:nvSpPr>
          <p:spPr>
            <a:xfrm>
              <a:off x="3962520" y="4419720"/>
              <a:ext cx="1143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66880" y="4648320"/>
              <a:ext cx="3657600" cy="764280"/>
              <a:chOff x="2666880" y="4648320"/>
              <a:chExt cx="3657600" cy="764280"/>
            </a:xfrm>
          </p:grpSpPr>
          <p:sp>
            <p:nvSpPr>
              <p:cNvPr id="145" name=""/>
              <p:cNvSpPr/>
              <p:nvPr/>
            </p:nvSpPr>
            <p:spPr>
              <a:xfrm>
                <a:off x="4676400" y="46879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54200" y="4732200"/>
                <a:ext cx="27360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24080" y="50292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6880" y="4800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723920" y="48769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86400" y="4648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指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648320" y="5181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8640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底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16880" y="5457960"/>
            <a:ext cx="1527120" cy="1400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256536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9144000" cy="6875640"/>
            <a:chOff x="0" y="0"/>
            <a:chExt cx="9144000" cy="687564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176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066680" y="0"/>
              <a:ext cx="8001000" cy="61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 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课堂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把下列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乘法式子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成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形式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×1×1×1×1×1×1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×3×3×3×3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    　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68360" y="5084640"/>
                <a:ext cx="19814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219640" y="3141720"/>
                <a:ext cx="52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03280" y="4508640"/>
                <a:ext cx="762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32360" y="5013360"/>
                <a:ext cx="660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443640" y="2349360"/>
                <a:ext cx="442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616880" y="545796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219320" y="809640"/>
              <a:ext cx="6781680" cy="46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、把下列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成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法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形式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35000" y="1701720"/>
                <a:ext cx="1317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05120" y="2379600"/>
                <a:ext cx="819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46440" y="3352680"/>
                <a:ext cx="1315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408480" y="1784520"/>
                <a:ext cx="352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22480" y="2286000"/>
                <a:ext cx="172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14760" y="3352680"/>
                <a:ext cx="2100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914400" y="4267080"/>
            <a:ext cx="7924680" cy="657720"/>
            <a:chOff x="914400" y="4267080"/>
            <a:chExt cx="7924680" cy="657720"/>
          </a:xfrm>
        </p:grpSpPr>
        <p:sp>
          <p:nvSpPr>
            <p:cNvPr id="174" name=""/>
            <p:cNvSpPr/>
            <p:nvPr/>
          </p:nvSpPr>
          <p:spPr>
            <a:xfrm>
              <a:off x="914400" y="4343400"/>
              <a:ext cx="79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思考：用乘方式子怎么表示   的相反数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019920" y="4267080"/>
                  <a:ext cx="5158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85080" y="573408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9880" y="5715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5257800"/>
            <a:ext cx="1963440" cy="635040"/>
            <a:chOff x="3733920" y="5257800"/>
            <a:chExt cx="1963440" cy="635040"/>
          </a:xfrm>
        </p:grpSpPr>
        <p:grpSp>
          <p:nvGrpSpPr>
            <p:cNvPr id="179" name=""/>
            <p:cNvGrpSpPr/>
            <p:nvPr/>
          </p:nvGrpSpPr>
          <p:grpSpPr>
            <a:xfrm>
              <a:off x="4952880" y="5257800"/>
              <a:ext cx="744480" cy="635040"/>
              <a:chOff x="4952880" y="5257800"/>
              <a:chExt cx="744480" cy="635040"/>
            </a:xfrm>
          </p:grpSpPr>
          <mc:AlternateContent>
            <mc:Choice xmlns:a14="http://schemas.microsoft.com/office/drawing/2010/main" Requires="a14">
              <p:sp>
                <p:nvSpPr>
                  <p:cNvPr id="180" name=""/>
                  <p:cNvSpPr txBox="1"/>
                  <p:nvPr/>
                </p:nvSpPr>
                <p:spPr>
                  <a:xfrm>
                    <a:off x="5181480" y="5257800"/>
                    <a:ext cx="515880" cy="63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1" name=""/>
              <p:cNvSpPr/>
              <p:nvPr/>
            </p:nvSpPr>
            <p:spPr>
              <a:xfrm>
                <a:off x="4952880" y="53341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733920" y="5410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答案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43000" y="609480"/>
            <a:ext cx="73915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各题是否正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①         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②            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③            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90920" y="2098800"/>
                <a:ext cx="1676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66880" y="3505320"/>
                <a:ext cx="2248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670120" y="2817720"/>
                <a:ext cx="2319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666880" y="4233960"/>
                <a:ext cx="5243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5238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2097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616880" y="545796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74480" y="1124640"/>
            <a:ext cx="46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决下列问题，你能从中发现什么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625400"/>
            <a:ext cx="64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各等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各等于什么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什么区别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什么区别？各等于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195640" y="3284640"/>
                <a:ext cx="13665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40720" y="496800"/>
            <a:ext cx="1247400" cy="5205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交流与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6654960"/>
            <a:ext cx="203040" cy="2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06236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7:15:29Z</dcterms:created>
  <dc:creator>zhengde</dc:creator>
  <dc:description/>
  <dc:language>en-US</dc:language>
  <cp:lastModifiedBy>微软用户</cp:lastModifiedBy>
  <dcterms:modified xsi:type="dcterms:W3CDTF">2012-07-16T01:18:43Z</dcterms:modified>
  <cp:revision>71</cp:revision>
  <dc:subject/>
  <dc:title>PowerPoint 演示文稿</dc:title>
</cp:coreProperties>
</file>