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2.wmf" ContentType="image/x-wmf"/>
  <Override PartName="/ppt/media/image4.png" ContentType="image/png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04D-4A6E-4BF3-9BFD-9368D209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7E68-B7F0-4519-A285-6C4C06B2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A3E-68F8-4426-8E17-D6BA14D1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BB7-9928-4208-9AAA-40050C7A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B10B-7910-4919-9B17-C87398FF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2CBC-ECD4-468A-B7C6-9090445B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3686-5B69-496A-9B49-9A72A010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5CCA-7E7A-4536-B48D-A7A73DB9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E51F-04F9-4569-B778-C2730919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F3CA-3FE1-4BF2-90FF-A5D7BA35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129A-ECE1-4090-B6E2-A81534AF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2461-CD54-47E5-B31E-60F3ECFA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9112-2394-41B1-A7BB-FF7750D2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A549-28C2-4262-A2AF-6B36CA68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92DC-510F-4B95-90A7-0CD939A1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50A0-F2AB-4721-9687-082CF78B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7EB1-AC52-4854-854C-84DD5BEF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9758-D106-48D2-8DF5-DBC8070F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EE8B5-3FFC-4CE2-ACAB-2CB35A11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75FED-5392-41FC-B24D-AA7044A5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34B23-844A-4742-9931-2B14EB62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87BC1-F8F9-46F8-89C8-E1C9FB23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D4F-026B-4454-9DFF-17CB9F8A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27A31-C911-41DC-A1BA-92A06979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F1227-93F6-4192-BB49-A3A32ADA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95FAA-10D1-4F8F-8A68-FF508830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0FBC-E4CE-45CD-B17F-D08A684E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CB11A-EF46-43E2-AD48-856A0FB3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5D8CF-576D-4D33-B7E8-DCC917CC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7979-FBD9-4716-8C43-017BB44F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D4C-ECD2-4033-91E4-EC154A7F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0ED-CBB4-4C38-9161-69577A72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6ED-CD15-4896-A6F7-4F5A7621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C17-F3A6-4E8C-9E28-E03D2978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520-BD36-4AC3-9D61-67A527B1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069-8412-4788-9106-83B478C8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2704-E812-4BAE-8EAF-7AA6CCF0C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8B69-66D7-4854-8B4F-A4C3D93EF4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B326-D5D9-4824-8DC1-3A67437461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4.wmf"/><Relationship Id="rId1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124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.3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有理数的加减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第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课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E:\李燃\教师教学用书\人民教育电子音像出版社 社标字.png"/>
          <p:cNvPicPr/>
          <p:nvPr/>
        </p:nvPicPr>
        <p:blipFill>
          <a:blip r:embed="rId2"/>
          <a:stretch/>
        </p:blipFill>
        <p:spPr>
          <a:xfrm>
            <a:off x="6750000" y="6253200"/>
            <a:ext cx="2173320" cy="47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1022040" y="14119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：</a:t>
            </a:r>
            <a:r>
              <a:rPr b="1" lang="zh-CN" sz="3200" spc="-1" strike="noStrike">
                <a:solidFill>
                  <a:srgbClr val="99cc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9"/>
          <p:cNvGraphicFramePr/>
          <p:nvPr/>
        </p:nvGraphicFramePr>
        <p:xfrm>
          <a:off x="681120" y="2060640"/>
          <a:ext cx="5479920" cy="57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120" y="2060640"/>
                    <a:ext cx="54799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3"/>
          <p:cNvSpPr/>
          <p:nvPr/>
        </p:nvSpPr>
        <p:spPr>
          <a:xfrm>
            <a:off x="3768480" y="421848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404640"/>
            <a:ext cx="1584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练习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7" name=""/>
          <p:cNvSpPr/>
          <p:nvPr/>
        </p:nvSpPr>
        <p:spPr>
          <a:xfrm>
            <a:off x="3903120" y="61992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科书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7"/>
          <p:cNvGraphicFramePr/>
          <p:nvPr/>
        </p:nvGraphicFramePr>
        <p:xfrm>
          <a:off x="733320" y="4508640"/>
          <a:ext cx="2167200" cy="528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3320" y="4508640"/>
                    <a:ext cx="216720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7"/>
          <p:cNvGraphicFramePr/>
          <p:nvPr/>
        </p:nvGraphicFramePr>
        <p:xfrm>
          <a:off x="826920" y="5373720"/>
          <a:ext cx="820800" cy="528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5373720"/>
                    <a:ext cx="82080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9"/>
          <p:cNvGraphicFramePr/>
          <p:nvPr/>
        </p:nvGraphicFramePr>
        <p:xfrm>
          <a:off x="712800" y="3716280"/>
          <a:ext cx="3278160" cy="52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3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2800" y="3716280"/>
                    <a:ext cx="32781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250920" y="2911320"/>
            <a:ext cx="5770440" cy="571680"/>
            <a:chOff x="250920" y="2911320"/>
            <a:chExt cx="5770440" cy="571680"/>
          </a:xfrm>
        </p:grpSpPr>
        <p:sp>
          <p:nvSpPr>
            <p:cNvPr id="245" name=""/>
            <p:cNvSpPr/>
            <p:nvPr/>
          </p:nvSpPr>
          <p:spPr>
            <a:xfrm>
              <a:off x="250920" y="292428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6" name="Object 9"/>
            <p:cNvGraphicFramePr/>
            <p:nvPr/>
          </p:nvGraphicFramePr>
          <p:xfrm>
            <a:off x="1108080" y="2911320"/>
            <a:ext cx="4913280" cy="5716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47" name="Object 9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108080" y="2911320"/>
                      <a:ext cx="491328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968040" y="16246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：</a:t>
            </a:r>
            <a:r>
              <a:rPr b="1" lang="zh-CN" sz="3200" spc="-1" strike="noStrike">
                <a:solidFill>
                  <a:srgbClr val="99cc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Object 8"/>
          <p:cNvGraphicFramePr/>
          <p:nvPr/>
        </p:nvGraphicFramePr>
        <p:xfrm>
          <a:off x="1801800" y="1446120"/>
          <a:ext cx="4565520" cy="106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1800" y="1446120"/>
                    <a:ext cx="456552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13"/>
          <p:cNvSpPr/>
          <p:nvPr/>
        </p:nvSpPr>
        <p:spPr>
          <a:xfrm>
            <a:off x="3768480" y="421848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404640"/>
            <a:ext cx="1584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练习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104840" y="2405160"/>
            <a:ext cx="4813200" cy="1063440"/>
            <a:chOff x="1104840" y="2405160"/>
            <a:chExt cx="4813200" cy="1063440"/>
          </a:xfrm>
        </p:grpSpPr>
        <p:sp>
          <p:nvSpPr>
            <p:cNvPr id="254" name=""/>
            <p:cNvSpPr/>
            <p:nvPr/>
          </p:nvSpPr>
          <p:spPr>
            <a:xfrm>
              <a:off x="1104840" y="263664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5" name="Object 8"/>
            <p:cNvGraphicFramePr/>
            <p:nvPr/>
          </p:nvGraphicFramePr>
          <p:xfrm>
            <a:off x="1992240" y="2405160"/>
            <a:ext cx="3925800" cy="1063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6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92240" y="2405160"/>
                      <a:ext cx="3925800" cy="10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57" name="Object 8"/>
          <p:cNvGraphicFramePr/>
          <p:nvPr/>
        </p:nvGraphicFramePr>
        <p:xfrm>
          <a:off x="1609560" y="3557520"/>
          <a:ext cx="3189600" cy="106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9560" y="3557520"/>
                    <a:ext cx="31896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8"/>
          <p:cNvGraphicFramePr/>
          <p:nvPr/>
        </p:nvGraphicFramePr>
        <p:xfrm>
          <a:off x="1608120" y="4640400"/>
          <a:ext cx="3490920" cy="1063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8120" y="4640400"/>
                    <a:ext cx="349092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8"/>
          <p:cNvGraphicFramePr/>
          <p:nvPr/>
        </p:nvGraphicFramePr>
        <p:xfrm>
          <a:off x="1608120" y="5726160"/>
          <a:ext cx="1407960" cy="1063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2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08120" y="5726160"/>
                    <a:ext cx="140796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3903120" y="61992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科书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24000" y="1628640"/>
            <a:ext cx="86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理数的加减混合运算可以统一为什么运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说说使用加法结合律时遵循什么原则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5280" y="476280"/>
            <a:ext cx="20192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归纳小结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195640" y="3500280"/>
            <a:ext cx="4824360" cy="2159280"/>
            <a:chOff x="2195640" y="3500280"/>
            <a:chExt cx="4824360" cy="2159280"/>
          </a:xfrm>
        </p:grpSpPr>
        <p:sp>
          <p:nvSpPr>
            <p:cNvPr id="267" name=""/>
            <p:cNvSpPr/>
            <p:nvPr/>
          </p:nvSpPr>
          <p:spPr>
            <a:xfrm>
              <a:off x="2195640" y="3500280"/>
              <a:ext cx="4824360" cy="2159280"/>
            </a:xfrm>
            <a:prstGeom prst="cloudCallout">
              <a:avLst>
                <a:gd name="adj1" fmla="val 60398"/>
                <a:gd name="adj2" fmla="val -75884"/>
              </a:avLst>
            </a:prstGeom>
            <a:solidFill>
              <a:srgbClr val="0000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2771640" y="3931920"/>
              <a:ext cx="417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1.</a:t>
              </a: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互为相反数的数相结合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2.</a:t>
              </a: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能凑整的数相结合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3.</a:t>
              </a: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同分母的数相结合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63640" y="19155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科书习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题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549360"/>
            <a:ext cx="20192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布置作业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900000" y="1628640"/>
            <a:ext cx="7417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节课我们继续学习！再见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582480" y="19155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有理数的加法法则．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303200" y="2635200"/>
            <a:ext cx="57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有理数的加法运算律．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1303200" y="335592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有理数的减法法则．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287360" y="4148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小学加减法混合运算的顺序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476280"/>
            <a:ext cx="20192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知识回顾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984960" y="170100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例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2579760" y="1739880"/>
          <a:ext cx="523224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9760" y="1739880"/>
                    <a:ext cx="523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7"/>
          <p:cNvSpPr/>
          <p:nvPr/>
        </p:nvSpPr>
        <p:spPr>
          <a:xfrm>
            <a:off x="611280" y="2226240"/>
            <a:ext cx="85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这个算式中有加法，也有减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可以根据有理数减法法则，把它改写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970560" y="2427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6920" y="333360"/>
            <a:ext cx="2019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尝试计算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1787400" y="3767040"/>
          <a:ext cx="5089680" cy="56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87400" y="3767040"/>
                    <a:ext cx="50896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403280" y="4365720"/>
            <a:ext cx="547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364000" y="4726080"/>
            <a:ext cx="3492720" cy="1511280"/>
            <a:chOff x="5364000" y="4726080"/>
            <a:chExt cx="3492720" cy="1511280"/>
          </a:xfrm>
        </p:grpSpPr>
        <p:sp>
          <p:nvSpPr>
            <p:cNvPr id="154" name=""/>
            <p:cNvSpPr/>
            <p:nvPr/>
          </p:nvSpPr>
          <p:spPr>
            <a:xfrm>
              <a:off x="5364000" y="4726080"/>
              <a:ext cx="3492720" cy="1511280"/>
            </a:xfrm>
            <a:prstGeom prst="cloudCallout">
              <a:avLst>
                <a:gd name="adj1" fmla="val -83180"/>
                <a:gd name="adj2" fmla="val -66384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67280" y="5013360"/>
              <a:ext cx="266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使问题转化为几个有理数的加法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939240" y="155016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例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2629080" y="1557360"/>
          <a:ext cx="4967280" cy="55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9080" y="1557360"/>
                    <a:ext cx="4967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10"/>
          <p:cNvSpPr/>
          <p:nvPr/>
        </p:nvSpPr>
        <p:spPr>
          <a:xfrm>
            <a:off x="981360" y="23479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95280" y="476280"/>
            <a:ext cx="20192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尝试计算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1571760" y="3139920"/>
          <a:ext cx="50878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71760" y="3139920"/>
                    <a:ext cx="50878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403280" y="4653000"/>
            <a:ext cx="54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1855800" y="2492280"/>
          <a:ext cx="5021280" cy="579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55800" y="2492280"/>
                    <a:ext cx="50212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4"/>
          <p:cNvGraphicFramePr/>
          <p:nvPr/>
        </p:nvGraphicFramePr>
        <p:xfrm>
          <a:off x="1566720" y="3933720"/>
          <a:ext cx="6029640" cy="576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66720" y="3933720"/>
                    <a:ext cx="60296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4"/>
          <p:cNvGraphicFramePr/>
          <p:nvPr/>
        </p:nvGraphicFramePr>
        <p:xfrm>
          <a:off x="1576440" y="4724280"/>
          <a:ext cx="2892240" cy="576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6440" y="4724280"/>
                    <a:ext cx="2892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4"/>
          <p:cNvGraphicFramePr/>
          <p:nvPr/>
        </p:nvGraphicFramePr>
        <p:xfrm>
          <a:off x="1617840" y="5516640"/>
          <a:ext cx="1585800" cy="520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516640"/>
                    <a:ext cx="1585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5837040" y="4900680"/>
            <a:ext cx="2726280" cy="2170080"/>
            <a:chOff x="5837040" y="4900680"/>
            <a:chExt cx="2726280" cy="2170080"/>
          </a:xfrm>
        </p:grpSpPr>
        <p:sp>
          <p:nvSpPr>
            <p:cNvPr id="173" name=""/>
            <p:cNvSpPr/>
            <p:nvPr/>
          </p:nvSpPr>
          <p:spPr>
            <a:xfrm rot="1074600">
              <a:off x="6011640" y="5229360"/>
              <a:ext cx="2376360" cy="1512720"/>
            </a:xfrm>
            <a:prstGeom prst="cloudCallout">
              <a:avLst>
                <a:gd name="adj1" fmla="val -83944"/>
                <a:gd name="adj2" fmla="val -4218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43640" y="558792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Arial"/>
                </a:rPr>
                <a:t>这里使用了哪些运算律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1908000" y="3068640"/>
                <a:ext cx="4824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 txBox="1"/>
          <p:nvPr/>
        </p:nvSpPr>
        <p:spPr>
          <a:xfrm>
            <a:off x="395280" y="549360"/>
            <a:ext cx="122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归纳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62864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入相反数后，加减混合运算可以统一为加法运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5"/>
          <p:cNvGraphicFramePr/>
          <p:nvPr/>
        </p:nvGraphicFramePr>
        <p:xfrm>
          <a:off x="1690560" y="1413000"/>
          <a:ext cx="4753080" cy="59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0560" y="1413000"/>
                    <a:ext cx="4753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7"/>
          <p:cNvSpPr/>
          <p:nvPr/>
        </p:nvSpPr>
        <p:spPr>
          <a:xfrm>
            <a:off x="755640" y="4139280"/>
            <a:ext cx="7829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个算式可以读作“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和”，或读作“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03280" y="765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算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1916280"/>
            <a:ext cx="784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四个数的和，为书写简单，可以省略算式中的括号和加号，把它写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340000" y="3500280"/>
                <a:ext cx="29034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984960" y="162324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例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2625840" y="1628640"/>
          <a:ext cx="475452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5840" y="1628640"/>
                    <a:ext cx="47545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0"/>
          <p:cNvSpPr/>
          <p:nvPr/>
        </p:nvSpPr>
        <p:spPr>
          <a:xfrm>
            <a:off x="981360" y="242100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26920" y="333360"/>
            <a:ext cx="2019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简单的写法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1668600" y="3249720"/>
          <a:ext cx="3341520" cy="53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3249720"/>
                    <a:ext cx="33415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403280" y="4726080"/>
            <a:ext cx="547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1922400" y="2378160"/>
          <a:ext cx="4869000" cy="60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22400" y="2378160"/>
                    <a:ext cx="4869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4"/>
          <p:cNvGraphicFramePr/>
          <p:nvPr/>
        </p:nvGraphicFramePr>
        <p:xfrm>
          <a:off x="1674720" y="4003560"/>
          <a:ext cx="3335400" cy="50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4720" y="4003560"/>
                    <a:ext cx="33354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4"/>
          <p:cNvGraphicFramePr/>
          <p:nvPr/>
        </p:nvGraphicFramePr>
        <p:xfrm>
          <a:off x="1671480" y="4726080"/>
          <a:ext cx="1963800" cy="511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726080"/>
                    <a:ext cx="19638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4"/>
          <p:cNvGraphicFramePr/>
          <p:nvPr/>
        </p:nvGraphicFramePr>
        <p:xfrm>
          <a:off x="1692360" y="5410080"/>
          <a:ext cx="1409760" cy="511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92360" y="5410080"/>
                    <a:ext cx="14097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822920" y="4581360"/>
            <a:ext cx="3709800" cy="2016360"/>
          </a:xfrm>
          <a:prstGeom prst="cloudCallout">
            <a:avLst>
              <a:gd name="adj1" fmla="val -50986"/>
              <a:gd name="adj2" fmla="val -100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大胆探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在符号简写这个环节，有什么小窍门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360" y="476280"/>
            <a:ext cx="122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究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1508040"/>
            <a:ext cx="864072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数轴上，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表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有理数减法，分别计算下列情况下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的距离；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能发现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的距离与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的关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1022040" y="14119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：</a:t>
            </a:r>
            <a:r>
              <a:rPr b="1" lang="zh-CN" sz="3200" spc="-1" strike="noStrike">
                <a:solidFill>
                  <a:srgbClr val="99cc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9"/>
          <p:cNvGraphicFramePr/>
          <p:nvPr/>
        </p:nvGraphicFramePr>
        <p:xfrm>
          <a:off x="738360" y="2133720"/>
          <a:ext cx="3041640" cy="57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360" y="2133720"/>
                    <a:ext cx="3041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8"/>
          <p:cNvGraphicFramePr/>
          <p:nvPr/>
        </p:nvGraphicFramePr>
        <p:xfrm>
          <a:off x="4595760" y="2133720"/>
          <a:ext cx="4194360" cy="531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95760" y="2133720"/>
                    <a:ext cx="41943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7"/>
          <p:cNvGraphicFramePr/>
          <p:nvPr/>
        </p:nvGraphicFramePr>
        <p:xfrm>
          <a:off x="749160" y="3621240"/>
          <a:ext cx="3175200" cy="50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9160" y="3621240"/>
                    <a:ext cx="3175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13"/>
          <p:cNvSpPr/>
          <p:nvPr/>
        </p:nvSpPr>
        <p:spPr>
          <a:xfrm>
            <a:off x="3768480" y="421848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95280" y="476280"/>
            <a:ext cx="1584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练习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2" name=""/>
          <p:cNvSpPr/>
          <p:nvPr/>
        </p:nvSpPr>
        <p:spPr>
          <a:xfrm>
            <a:off x="3903120" y="61992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科书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7"/>
          <p:cNvGraphicFramePr/>
          <p:nvPr/>
        </p:nvGraphicFramePr>
        <p:xfrm>
          <a:off x="752400" y="4292640"/>
          <a:ext cx="1947960" cy="492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4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2400" y="4292640"/>
                    <a:ext cx="1947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750960" y="4916520"/>
          <a:ext cx="1444680" cy="485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0960" y="4916520"/>
                    <a:ext cx="14446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250920" y="2924280"/>
            <a:ext cx="3457080" cy="520560"/>
            <a:chOff x="250920" y="2924280"/>
            <a:chExt cx="3457080" cy="520560"/>
          </a:xfrm>
        </p:grpSpPr>
        <p:sp>
          <p:nvSpPr>
            <p:cNvPr id="218" name=""/>
            <p:cNvSpPr/>
            <p:nvPr/>
          </p:nvSpPr>
          <p:spPr>
            <a:xfrm>
              <a:off x="250920" y="2924280"/>
              <a:ext cx="8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9" name="Object 9"/>
            <p:cNvGraphicFramePr/>
            <p:nvPr/>
          </p:nvGraphicFramePr>
          <p:xfrm>
            <a:off x="1218600" y="2924280"/>
            <a:ext cx="2489400" cy="5054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20" name="Object 9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218600" y="2924280"/>
                      <a:ext cx="2489400" cy="50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1" name="Object 8"/>
          <p:cNvGraphicFramePr/>
          <p:nvPr/>
        </p:nvGraphicFramePr>
        <p:xfrm>
          <a:off x="4788000" y="3611520"/>
          <a:ext cx="4060800" cy="512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2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788000" y="3611520"/>
                    <a:ext cx="406080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8"/>
          <p:cNvGraphicFramePr/>
          <p:nvPr/>
        </p:nvGraphicFramePr>
        <p:xfrm>
          <a:off x="4784760" y="4354560"/>
          <a:ext cx="1731960" cy="4730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4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784760" y="4354560"/>
                    <a:ext cx="17319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8"/>
          <p:cNvGraphicFramePr/>
          <p:nvPr/>
        </p:nvGraphicFramePr>
        <p:xfrm>
          <a:off x="4788000" y="5041800"/>
          <a:ext cx="792000" cy="501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26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788000" y="5041800"/>
                    <a:ext cx="7920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4211640" y="2708280"/>
            <a:ext cx="0" cy="295272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84720" y="2905200"/>
            <a:ext cx="4535280" cy="539640"/>
            <a:chOff x="4284720" y="2905200"/>
            <a:chExt cx="4535280" cy="539640"/>
          </a:xfrm>
        </p:grpSpPr>
        <p:sp>
          <p:nvSpPr>
            <p:cNvPr id="229" name=""/>
            <p:cNvSpPr/>
            <p:nvPr/>
          </p:nvSpPr>
          <p:spPr>
            <a:xfrm>
              <a:off x="4284720" y="292428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0" name="Object 8"/>
            <p:cNvGraphicFramePr/>
            <p:nvPr/>
          </p:nvGraphicFramePr>
          <p:xfrm>
            <a:off x="5178600" y="2905200"/>
            <a:ext cx="3641400" cy="4903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231" name="Object 8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78600" y="2905200"/>
                      <a:ext cx="3641400" cy="49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1:40:56Z</dcterms:created>
  <dc:creator>User</dc:creator>
  <dc:description/>
  <dc:language>en-US</dc:language>
  <cp:lastModifiedBy>User</cp:lastModifiedBy>
  <dcterms:modified xsi:type="dcterms:W3CDTF">2013-11-25T06:59:18Z</dcterms:modified>
  <cp:revision>82</cp:revision>
  <dc:subject/>
  <dc:title>幻灯片 1</dc:title>
</cp:coreProperties>
</file>