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camera.wav" ContentType="audio/x-wav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D58-FC81-4ECA-8505-7ADF6A14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0E6-F6D7-46F9-9F9E-3ED8BFA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F76-E6C4-4088-93BD-CC18694F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4CD-7002-4384-BE6F-0A56A3A7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F04E-B2BE-4DB1-A860-65E5CD45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EBCB-BFCB-4688-8735-68A27F12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1FFD-F889-43E9-B971-FA1D721D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737F-C1E7-471D-BB1F-A8FF0C11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DE90-D6A9-43FB-A950-FD980457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0BF3-C10A-413F-AFCF-127AEE63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CFAD-80D1-42B8-B115-5B5AAB7A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C93-C8A6-4014-9CBA-0046D65D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D637-96D9-4347-9216-C4EC0E3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A5BA-F485-480D-8D03-F050B3D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3010-41F9-4B76-86DB-2DC9DE43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4E81-1A16-465D-8C6A-86FA545B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2B96-32DB-4B14-A295-E5C40617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B95-A6EA-4FBF-88AD-7A2AB8FC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CF3-2B12-446D-A7DF-DCD951EC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B07-F283-4B58-A9D6-CF0D46D4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8A7-64FE-4CC7-A1F3-A06C44EB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F74-4C54-4D43-86FD-41384A8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92F-A02A-43EE-9EE8-CD93CA1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4D9-9FA2-4787-90D9-B162971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0D68-CA9B-40FE-81BF-612FE02CBF3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未标题-2 拷贝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04F2-56F1-4343-8A8A-C7EC2040E07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未标题-2 拷贝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6"/>
          <p:cNvSpPr/>
          <p:nvPr/>
        </p:nvSpPr>
        <p:spPr>
          <a:xfrm>
            <a:off x="2669400" y="3542400"/>
            <a:ext cx="39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一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二节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理数的加法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755640" y="112536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加法结合律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三个数相加，先把前两个数相加，或者先把后两个数相加，和不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195640" y="3500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a+b)+c=a+(b+c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025720" y="508464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般地，任意若干个数相加，无论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数相加的先后次序如何，其和都不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10348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484360" y="407664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1268280"/>
            <a:ext cx="91440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5+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-13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+18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-2.48)+4.33+(-7.52)+(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4.33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133200" y="74448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计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1217520" y="175248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解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原式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(15+18)+(-13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218680" y="2184480"/>
            <a:ext cx="175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33+(-13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2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1447200" y="350028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原式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[(-2.48)+(-7.52)]+[(+4.33)+(-4.33)]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230560" y="3984480"/>
            <a:ext cx="15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(-10)+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=-1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1258920" y="5084640"/>
                <a:ext cx="20876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2"/>
              <p:cNvSpPr txBox="1"/>
              <p:nvPr/>
            </p:nvSpPr>
            <p:spPr>
              <a:xfrm>
                <a:off x="4211640" y="4221000"/>
                <a:ext cx="468144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（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）</m:t>
                    </m:r>
                    <m:r>
                      <m:t xml:space="preserve">+</m:t>
                    </m:r>
                    <m:r>
                      <m:t xml:space="preserve">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）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3"/>
              <p:cNvSpPr txBox="1"/>
              <p:nvPr/>
            </p:nvSpPr>
            <p:spPr>
              <a:xfrm>
                <a:off x="5446800" y="4844880"/>
                <a:ext cx="162396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533520" y="1371600"/>
            <a:ext cx="7926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使用运算律通常有下列情形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互为相反数的两个数可先相加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几个数相加得整数时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可先相加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同分母的分数可以先相加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(4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符号相同的数可以先相加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187280" y="11970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小明遥控一辆玩具赛车，让它从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地出发，先向东行驶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5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再向西行驶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5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然后又向东行驶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0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再向西行驶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5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问玩具赛车最后停在何处？一共行驶了多少米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70880" y="824040"/>
            <a:ext cx="8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505880" y="3808440"/>
            <a:ext cx="32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解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记向东为正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根据题意得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52880" y="4311720"/>
            <a:ext cx="46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(1)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(+15)+(-25)+(+20)+(-3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258600" y="43498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=-2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807480" y="4941720"/>
            <a:ext cx="57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）、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|+15|+|-25|+|+20|+|-35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6519240" y="49417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=9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255040" y="5661000"/>
            <a:ext cx="50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答：小明的遥控车最后停在小明的西边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米处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共行驶了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千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826920" y="155736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用简便方法计算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+45.3)+(-9.5)+(+4.7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+2.5)+(+3     )+(+1    )+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4457160" y="2276640"/>
            <a:ext cx="688320" cy="2090160"/>
            <a:chOff x="4457160" y="2276640"/>
            <a:chExt cx="688320" cy="2090160"/>
          </a:xfrm>
        </p:grpSpPr>
        <p:sp>
          <p:nvSpPr>
            <p:cNvPr id="163" name="Text Box 6"/>
            <p:cNvSpPr/>
            <p:nvPr/>
          </p:nvSpPr>
          <p:spPr>
            <a:xfrm>
              <a:off x="4457160" y="2276640"/>
              <a:ext cx="68832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—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4632120" y="3053880"/>
              <a:ext cx="435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5" name="Group 8"/>
          <p:cNvGrpSpPr/>
          <p:nvPr/>
        </p:nvGrpSpPr>
        <p:grpSpPr>
          <a:xfrm>
            <a:off x="6158880" y="2276640"/>
            <a:ext cx="688320" cy="2090160"/>
            <a:chOff x="6158880" y="2276640"/>
            <a:chExt cx="688320" cy="2090160"/>
          </a:xfrm>
        </p:grpSpPr>
        <p:sp>
          <p:nvSpPr>
            <p:cNvPr id="166" name="Text Box 9"/>
            <p:cNvSpPr/>
            <p:nvPr/>
          </p:nvSpPr>
          <p:spPr>
            <a:xfrm>
              <a:off x="6158880" y="2276640"/>
              <a:ext cx="68832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—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6333840" y="3053880"/>
              <a:ext cx="435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8" name="Group 11"/>
          <p:cNvGrpSpPr/>
          <p:nvPr/>
        </p:nvGrpSpPr>
        <p:grpSpPr>
          <a:xfrm>
            <a:off x="7382880" y="2276640"/>
            <a:ext cx="688320" cy="2090160"/>
            <a:chOff x="7382880" y="2276640"/>
            <a:chExt cx="688320" cy="2090160"/>
          </a:xfrm>
        </p:grpSpPr>
        <p:sp>
          <p:nvSpPr>
            <p:cNvPr id="169" name="Text Box 12"/>
            <p:cNvSpPr/>
            <p:nvPr/>
          </p:nvSpPr>
          <p:spPr>
            <a:xfrm>
              <a:off x="7382880" y="2276640"/>
              <a:ext cx="68832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宋体"/>
                </a:rPr>
                <a:t>—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7557840" y="3053880"/>
              <a:ext cx="435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50507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726840" y="907920"/>
            <a:ext cx="11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练习</a:t>
            </a: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28600" y="762120"/>
            <a:ext cx="852012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蚂蚁从某点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出发在一条直线上来回爬行，假定向右爬行的路程为正数，向左爬行的路程为负数，爬过的各段路程依次为（单位：厘米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6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-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10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-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-7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+1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-1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蚂蚁最后是否回到了出发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蚂蚁离开出发点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最远是多少厘米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在爬行过程中，如果爬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奖励一粒芝麻，则蚂蚁一共得到多少粒芝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734520" y="37130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811640" y="4437000"/>
            <a:ext cx="12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838200" y="573408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685800" y="1886040"/>
            <a:ext cx="716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用“﹥”或“﹤”符号填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&l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&l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|a|&gt;|b|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|a|&lt;|b|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那么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0" y="69228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Picture 5" descr="BS00975_"/>
          <p:cNvPicPr/>
          <p:nvPr/>
        </p:nvPicPr>
        <p:blipFill>
          <a:blip r:embed="rId2"/>
          <a:stretch/>
        </p:blipFill>
        <p:spPr>
          <a:xfrm>
            <a:off x="5486400" y="609480"/>
            <a:ext cx="2590920" cy="1598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5519880" y="2494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457960" y="3448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﹤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6783480" y="426096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681960" y="517536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﹤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3492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     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95280" y="1628640"/>
            <a:ext cx="856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、加法的运算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加法交换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两个数相加，交换加数的位置，和不变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+b=b+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加法结合律：三个数相加，先把前两个数相加，或者先把后两个数相加，和不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(a+b)+c=a+(b+c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二、使用运算律通常有下列情形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互为相反数的两个数可先相加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几个数相加得整数时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可先相加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同分母的分数可以先相加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符号相同的数可以先相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HaoSc6_305_20052411334360_S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5"/>
          <p:cNvSpPr txBox="1"/>
          <p:nvPr/>
        </p:nvSpPr>
        <p:spPr>
          <a:xfrm>
            <a:off x="1692360" y="1341360"/>
            <a:ext cx="6264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再见！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971640" y="2133720"/>
            <a:ext cx="727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同号两数相加，取相同的符号，并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把绝对值相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异号两数相加，取绝对值较大的加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数的符号，并用较大的绝对值减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较小的绝对值。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互为相反数的两个数相加得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一个数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相加，仍得这个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619280" y="836640"/>
            <a:ext cx="590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有理数加法法则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04920" y="4046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分析特征   强化理解   总结步骤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1268280"/>
            <a:ext cx="87631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 -  4 )  +  ( -  8 ) =  -  ( 4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8 )= - 1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↓           ↓          ↓       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数相加      取相同符号    两个加数的绝对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 -  9 ) + (+ 2)    =  -   ( 9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2) =  -7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↓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↓          ↓       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异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数相加     取绝对值较大    两个加数的绝对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符号               由大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减去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小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42920" y="544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同号两数之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这是名符其实的和，做加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863640" indent="-863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异号两数之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表面上叫“和”，其实是做减法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89" name="Object 6"/>
          <p:cNvGraphicFramePr/>
          <p:nvPr/>
        </p:nvGraphicFramePr>
        <p:xfrm>
          <a:off x="0" y="5589720"/>
          <a:ext cx="1066680" cy="10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589720"/>
                    <a:ext cx="1066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有理数中的“和”与小学算术中 “和”的比较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4000" y="1989000"/>
          <a:ext cx="8497800" cy="3640320"/>
        </p:xfrm>
        <a:graphic>
          <a:graphicData uri="http://schemas.openxmlformats.org/drawingml/2006/table">
            <a:tbl>
              <a:tblPr/>
              <a:tblGrid>
                <a:gridCol w="2884320"/>
                <a:gridCol w="2857680"/>
                <a:gridCol w="275580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和的符号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和与加数关系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算术中的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不谈符号，通常是正数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比两个加数都大或相等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有理数中的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正、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负、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为零</a:t>
                      </a:r>
                      <a:r>
                        <a:rPr b="0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能比两个加数都大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能比两个加数都小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可能大于其中一个而小于另一个加数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7"/>
          <p:cNvSpPr/>
          <p:nvPr/>
        </p:nvSpPr>
        <p:spPr>
          <a:xfrm>
            <a:off x="2328480" y="21337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结果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83808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类型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0" y="5805360"/>
            <a:ext cx="95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有理数运算中，算术中的某些结论不一定再成立。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838080" y="4572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990720" y="304920"/>
            <a:ext cx="285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0" y="76500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对比异同   强化记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33520" y="68580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运算步骤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90720" y="345924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再确定和的符号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371600" y="4800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后进行绝对值的加减运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2133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先判断类型  （同号、异号等）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733920" y="2895480"/>
            <a:ext cx="609480" cy="609840"/>
          </a:xfrm>
          <a:prstGeom prst="downArrow">
            <a:avLst>
              <a:gd name="adj1" fmla="val 50000"/>
              <a:gd name="adj2" fmla="val 25015"/>
            </a:avLst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3733920" y="41911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Picture 9" descr="PE03254_"/>
          <p:cNvPicPr/>
          <p:nvPr/>
        </p:nvPicPr>
        <p:blipFill>
          <a:blip r:embed="rId2"/>
          <a:stretch/>
        </p:blipFill>
        <p:spPr>
          <a:xfrm>
            <a:off x="7524720" y="83664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304920" y="1179360"/>
            <a:ext cx="85341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做一做  （口答）确定下列各题中和的符号，并计算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5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        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6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       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 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0+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    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3.5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－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1.08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0            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   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－ 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5940360" y="3357720"/>
                <a:ext cx="362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6084720" y="5084640"/>
                <a:ext cx="282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7740720" y="5084640"/>
                <a:ext cx="282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7"/>
          <p:cNvSpPr/>
          <p:nvPr/>
        </p:nvSpPr>
        <p:spPr>
          <a:xfrm>
            <a:off x="3710880" y="263700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1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041320" y="269388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782160" y="3486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229800" y="3573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6659640" y="3284640"/>
                <a:ext cx="3618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Text Box 12"/>
          <p:cNvSpPr/>
          <p:nvPr/>
        </p:nvSpPr>
        <p:spPr>
          <a:xfrm>
            <a:off x="3998160" y="43657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2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10432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3.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3424680" y="522936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-1.0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8231760" y="5229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468360" y="1773360"/>
            <a:ext cx="7989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9.18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6.18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6.18+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9.18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.37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.6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.6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.37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79280" y="1125360"/>
            <a:ext cx="3097440" cy="2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宋体"/>
              </a:rPr>
              <a:t>计算并观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宋体"/>
              <a:ea typeface="宋体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35200" y="1790640"/>
            <a:ext cx="121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006520" y="272736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157440" y="359100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7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301800" y="445608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7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457200" y="16765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加法交换律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两个数相加，交换加数的位置，和不变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90920" y="3657600"/>
            <a:ext cx="270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a+b=b+a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380880" y="762120"/>
            <a:ext cx="79362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8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8+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)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7)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1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7)+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)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1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2)+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7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(+27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6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2)+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7)+(+27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62000" y="80172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582880" y="1773360"/>
            <a:ext cx="106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56560" y="278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806880" y="256536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28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927840" y="379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951600" y="357336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28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6711840" y="4586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806880" y="443700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2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78492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806880" y="544500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 -2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0:21:30Z</dcterms:created>
  <dc:creator>www.dearedu.com</dc:creator>
  <dc:description>www.dearedu.com</dc:description>
  <cp:keywords>www.dearedu.com</cp:keywords>
  <dc:language>en-US</dc:language>
  <cp:lastModifiedBy>User</cp:lastModifiedBy>
  <dcterms:modified xsi:type="dcterms:W3CDTF">2013-11-25T06:58:15Z</dcterms:modified>
  <cp:revision>46</cp:revision>
  <dc:subject>www.dearedu.com</dc:subject>
  <dc:title>www.dearedu.com</dc:title>
</cp:coreProperties>
</file>