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wmf" ContentType="image/x-wmf"/>
  <Override PartName="/ppt/media/cashreg.wav" ContentType="audio/x-wav"/>
  <Override PartName="/ppt/media/image7.gif" ContentType="image/gif"/>
  <Override PartName="/ppt/media/image5.jpeg" ContentType="image/jpeg"/>
  <Override PartName="/ppt/media/image6.png" ContentType="image/png"/>
  <Override PartName="/ppt/media/laser.wav" ContentType="audio/x-wav"/>
  <Override PartName="/ppt/media/image4.jpeg" ContentType="image/jpeg"/>
  <Override PartName="/ppt/media/image2.png" ContentType="image/png"/>
  <Override PartName="/ppt/media/image21.gif" ContentType="image/gif"/>
  <Override PartName="/ppt/media/image20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18.gif" ContentType="image/gif"/>
  <Override PartName="/ppt/media/image17.png" ContentType="image/png"/>
  <Override PartName="/ppt/media/image14.jpeg" ContentType="image/jpeg"/>
  <Override PartName="/ppt/media/image13.gif" ContentType="image/gif"/>
  <Override PartName="/ppt/media/image16.png" ContentType="image/png"/>
  <Override PartName="/ppt/media/image12.gif" ContentType="image/gif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16F7-46DC-44B5-8FF6-85C1799C0C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682-0287-4A73-B081-6D81E95C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DC0-5014-41AF-B5AB-E623B804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E5E-2E75-4094-9C37-24F8DCDF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F0A-D22C-4220-8460-9EC60ADF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FDDE-5EFC-413E-A128-EE04FE34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0494-D27B-4897-942E-4B0EB70D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CE29-2ACB-47C7-901E-05A6E402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65D9-824E-468C-A984-F2FD0EA9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72F2-3194-4B2F-AED2-8E0E3092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25DA-F45A-4A35-A324-F3576B36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96F9-87CE-4238-9B00-4074EC4B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FE2-1AB9-4185-892E-2AA8238E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4BA6-5275-4984-899C-A0C70DBC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4F60-F0AE-4C41-B8F6-BDCE35A2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C87E-CB11-4612-8C86-639BBF67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2402-5A4F-4217-B2A0-5D793358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7BD5-5359-4EB0-BE9F-2CC8D5F6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CDE-18CB-4AAB-95FE-A5D7B549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610-7406-4302-9EEC-AB73ECE7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FD0-6239-4048-BD62-A5E07928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A58-75C9-41E1-A6EC-BB7E708A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3F8-9171-4079-B94B-94B82446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5B0-0164-4C29-A855-1112B2BC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286-6DF4-4785-B638-548359B0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9541-3D60-45F7-923B-3CF64C72192D}" type="datetime">
              <a:rPr b="0" lang="zh-CN" sz="1400" spc="-1" strike="noStrike">
                <a:solidFill>
                  <a:srgbClr val="007a77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620B-A4E6-4AE3-9B5D-19811767AA12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B149-CEC1-428B-B39C-C5E6A26CFF56}" type="datetime">
              <a:rPr b="0" lang="zh-CN" sz="1400" spc="-1" strike="noStrike">
                <a:solidFill>
                  <a:srgbClr val="007a77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1D8C-C496-40E8-A36E-54FA7B14C48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jpeg"/><Relationship Id="rId8" Type="http://schemas.openxmlformats.org/officeDocument/2006/relationships/hyperlink" Target="file:///tmp/home/.config/libreoffice/4/user/gallery/breeze.wav" TargetMode="External"/><Relationship Id="rId9" Type="http://schemas.openxmlformats.org/officeDocument/2006/relationships/image" Target="../media/image12.gif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image" Target="../media/image13.gif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5640" y="1412640"/>
            <a:ext cx="676764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创艺简隶书"/>
              </a:rPr>
              <a:t>有理数的加法运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4880" y="401760"/>
            <a:ext cx="245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71640" y="5373720"/>
            <a:ext cx="7391160" cy="1023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0920" y="206064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2.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绝对值不相等的异号两数相加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2360" y="40464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3) 5+(-3 ) = 2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75280" y="33336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4) 3+(-5 ) = -2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0920" y="119700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5) 5+(-5 ) = 0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0920" y="285264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取</a:t>
            </a:r>
            <a:r>
              <a:rPr b="1" lang="zh-CN" sz="4400" spc="-1" strike="noStrike" u="sng">
                <a:solidFill>
                  <a:srgbClr val="009900"/>
                </a:solidFill>
                <a:uFillTx/>
                <a:latin typeface="Arial"/>
                <a:ea typeface="黑体"/>
              </a:rPr>
              <a:t>　　　　　　　　　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的符号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42920" y="2781360"/>
            <a:ext cx="61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绝对值较大的加数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4000" y="357336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并用较</a:t>
            </a:r>
            <a:r>
              <a:rPr b="1" lang="zh-CN" sz="4400" spc="-1" strike="noStrike" u="sng">
                <a:solidFill>
                  <a:srgbClr val="009900"/>
                </a:solidFill>
                <a:uFillTx/>
                <a:latin typeface="Arial"/>
                <a:ea typeface="黑体"/>
              </a:rPr>
              <a:t>　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的绝对值</a:t>
            </a:r>
            <a:r>
              <a:rPr b="1" lang="zh-CN" sz="4400" spc="-1" strike="noStrike" u="sng">
                <a:solidFill>
                  <a:srgbClr val="009900"/>
                </a:solidFill>
                <a:uFillTx/>
                <a:latin typeface="Arial"/>
                <a:ea typeface="黑体"/>
              </a:rPr>
              <a:t>　　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较</a:t>
            </a:r>
            <a:r>
              <a:rPr b="1" lang="zh-CN" sz="4400" spc="-1" strike="noStrike" u="sng">
                <a:solidFill>
                  <a:srgbClr val="009900"/>
                </a:solidFill>
                <a:uFillTx/>
                <a:latin typeface="Arial"/>
                <a:ea typeface="黑体"/>
              </a:rPr>
              <a:t>　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的绝对值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79640" y="35305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大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88000" y="350028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减去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353052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小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0920" y="501336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互为相反数的两个数相加得</a:t>
            </a:r>
            <a:r>
              <a:rPr b="1" lang="zh-CN" sz="4400" spc="-1" strike="noStrike" u="sng">
                <a:solidFill>
                  <a:srgbClr val="009900"/>
                </a:solidFill>
                <a:uFillTx/>
                <a:latin typeface="Arial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93080" y="49719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Arial"/>
                <a:ea typeface="黑体"/>
              </a:rPr>
              <a:t>0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427640" y="54936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2) (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4.7)+3.9;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84720" y="20192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0.8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753080" y="19890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51280" y="1270080"/>
            <a:ext cx="40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(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.7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.9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00" y="54936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幼圆"/>
              </a:rPr>
              <a:t>例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幼圆"/>
              </a:rPr>
              <a:t>:(1) (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幼圆"/>
              </a:rPr>
              <a:t>4)+(+8);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44720" y="194616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2720" y="198756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1280" y="12682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26920" y="2882880"/>
            <a:ext cx="46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3) 15+(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22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);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11280" y="3603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2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5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4360" y="45403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00720" y="2913120"/>
            <a:ext cx="43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4) (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0.9)+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1.5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88000" y="367524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.5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0.9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61080" y="4611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 0.6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5280" y="6915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黑体"/>
              </a:rPr>
              <a:t>(1)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258920" y="476280"/>
            <a:ext cx="2448000" cy="1227240"/>
            <a:chOff x="1258920" y="476280"/>
            <a:chExt cx="2448000" cy="1227240"/>
          </a:xfrm>
        </p:grpSpPr>
        <p:grpSp>
          <p:nvGrpSpPr>
            <p:cNvPr id="432" name=""/>
            <p:cNvGrpSpPr/>
            <p:nvPr/>
          </p:nvGrpSpPr>
          <p:grpSpPr>
            <a:xfrm>
              <a:off x="1258920" y="476280"/>
              <a:ext cx="792000" cy="1227240"/>
              <a:chOff x="1258920" y="476280"/>
              <a:chExt cx="792000" cy="1227240"/>
            </a:xfrm>
          </p:grpSpPr>
          <p:sp>
            <p:nvSpPr>
              <p:cNvPr id="433" name=""/>
              <p:cNvSpPr/>
              <p:nvPr/>
            </p:nvSpPr>
            <p:spPr>
              <a:xfrm>
                <a:off x="1258920" y="100008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2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58920" y="47628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1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90600" y="109044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268360" y="1085760"/>
              <a:ext cx="216000" cy="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2556000" y="476280"/>
              <a:ext cx="792000" cy="1227240"/>
              <a:chOff x="2556000" y="476280"/>
              <a:chExt cx="792000" cy="1227240"/>
            </a:xfrm>
          </p:grpSpPr>
          <p:sp>
            <p:nvSpPr>
              <p:cNvPr id="438" name=""/>
              <p:cNvSpPr/>
              <p:nvPr/>
            </p:nvSpPr>
            <p:spPr>
              <a:xfrm>
                <a:off x="2556000" y="100008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3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56000" y="47628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2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87680" y="109044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1979640" y="711360"/>
              <a:ext cx="172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(      )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92360" y="71136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+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11280" y="1628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1280" y="27795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044720" y="1413000"/>
            <a:ext cx="3456000" cy="1227240"/>
            <a:chOff x="1044720" y="1413000"/>
            <a:chExt cx="3456000" cy="1227240"/>
          </a:xfrm>
        </p:grpSpPr>
        <p:grpSp>
          <p:nvGrpSpPr>
            <p:cNvPr id="446" name=""/>
            <p:cNvGrpSpPr/>
            <p:nvPr/>
          </p:nvGrpSpPr>
          <p:grpSpPr>
            <a:xfrm>
              <a:off x="2916360" y="1413000"/>
              <a:ext cx="792000" cy="1227240"/>
              <a:chOff x="2916360" y="1413000"/>
              <a:chExt cx="792000" cy="1227240"/>
            </a:xfrm>
          </p:grpSpPr>
          <p:sp>
            <p:nvSpPr>
              <p:cNvPr id="447" name=""/>
              <p:cNvSpPr/>
              <p:nvPr/>
            </p:nvSpPr>
            <p:spPr>
              <a:xfrm>
                <a:off x="2916360" y="193680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2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916360" y="141300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1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948040" y="202716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979640" y="1413000"/>
              <a:ext cx="792000" cy="1227240"/>
              <a:chOff x="1979640" y="1413000"/>
              <a:chExt cx="792000" cy="1227240"/>
            </a:xfrm>
          </p:grpSpPr>
          <p:sp>
            <p:nvSpPr>
              <p:cNvPr id="451" name=""/>
              <p:cNvSpPr/>
              <p:nvPr/>
            </p:nvSpPr>
            <p:spPr>
              <a:xfrm>
                <a:off x="1979640" y="193680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3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979640" y="141300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2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011320" y="202716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1044720" y="1628640"/>
              <a:ext cx="345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en-US" sz="44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 </a:t>
              </a:r>
              <a:r>
                <a:rPr b="1" lang="en-US" sz="4400" spc="-1" strike="noStrike">
                  <a:solidFill>
                    <a:srgbClr val="007a77"/>
                  </a:solidFill>
                  <a:latin typeface="Arial"/>
                </a:rPr>
                <a:t>(    </a:t>
              </a:r>
              <a:r>
                <a:rPr b="1" lang="en-US" sz="4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-  </a:t>
              </a:r>
              <a:r>
                <a:rPr b="1" lang="en-US" sz="4400" spc="-1" strike="noStrike">
                  <a:solidFill>
                    <a:srgbClr val="007a77"/>
                  </a:solidFill>
                  <a:latin typeface="Arial"/>
                </a:rPr>
                <a:t>)</a:t>
              </a:r>
              <a:endParaRPr b="0" lang="en-US" sz="4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206360" y="2563920"/>
            <a:ext cx="1204920" cy="1227240"/>
            <a:chOff x="1206360" y="2563920"/>
            <a:chExt cx="1204920" cy="1227240"/>
          </a:xfrm>
        </p:grpSpPr>
        <p:grpSp>
          <p:nvGrpSpPr>
            <p:cNvPr id="456" name=""/>
            <p:cNvGrpSpPr/>
            <p:nvPr/>
          </p:nvGrpSpPr>
          <p:grpSpPr>
            <a:xfrm>
              <a:off x="1619280" y="2563920"/>
              <a:ext cx="792000" cy="1227240"/>
              <a:chOff x="1619280" y="2563920"/>
              <a:chExt cx="792000" cy="1227240"/>
            </a:xfrm>
          </p:grpSpPr>
          <p:sp>
            <p:nvSpPr>
              <p:cNvPr id="457" name=""/>
              <p:cNvSpPr/>
              <p:nvPr/>
            </p:nvSpPr>
            <p:spPr>
              <a:xfrm>
                <a:off x="1619280" y="308772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6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619280" y="256392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1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650960" y="317808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1206360" y="2781360"/>
              <a:ext cx="36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endParaRPr b="0" lang="en-US" sz="4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4500720" y="6915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黑体"/>
              </a:rPr>
              <a:t>(2)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940360" y="476280"/>
            <a:ext cx="792000" cy="1227240"/>
            <a:chOff x="5940360" y="476280"/>
            <a:chExt cx="792000" cy="1227240"/>
          </a:xfrm>
        </p:grpSpPr>
        <p:sp>
          <p:nvSpPr>
            <p:cNvPr id="463" name=""/>
            <p:cNvSpPr/>
            <p:nvPr/>
          </p:nvSpPr>
          <p:spPr>
            <a:xfrm>
              <a:off x="5940360" y="100008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4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40360" y="47628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1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72040" y="1090440"/>
              <a:ext cx="431640" cy="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7308720" y="1085760"/>
            <a:ext cx="216000" cy="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596360" y="476280"/>
            <a:ext cx="792000" cy="1227240"/>
            <a:chOff x="7596360" y="476280"/>
            <a:chExt cx="792000" cy="1227240"/>
          </a:xfrm>
        </p:grpSpPr>
        <p:sp>
          <p:nvSpPr>
            <p:cNvPr id="468" name=""/>
            <p:cNvSpPr/>
            <p:nvPr/>
          </p:nvSpPr>
          <p:spPr>
            <a:xfrm>
              <a:off x="7596360" y="100008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2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6360" y="47628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1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28040" y="1090440"/>
              <a:ext cx="431640" cy="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5508720" y="7095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黑体"/>
              </a:rPr>
              <a:t>+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计算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19640" y="692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(       )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59640" y="692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黑体"/>
              </a:rPr>
              <a:t>+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48360" y="70956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(       )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32360" y="16984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5292720" y="1482840"/>
            <a:ext cx="3456000" cy="1227240"/>
            <a:chOff x="5292720" y="1482840"/>
            <a:chExt cx="3456000" cy="1227240"/>
          </a:xfrm>
        </p:grpSpPr>
        <p:grpSp>
          <p:nvGrpSpPr>
            <p:cNvPr id="478" name=""/>
            <p:cNvGrpSpPr/>
            <p:nvPr/>
          </p:nvGrpSpPr>
          <p:grpSpPr>
            <a:xfrm>
              <a:off x="7164360" y="1482840"/>
              <a:ext cx="792000" cy="1227240"/>
              <a:chOff x="7164360" y="1482840"/>
              <a:chExt cx="792000" cy="1227240"/>
            </a:xfrm>
          </p:grpSpPr>
          <p:sp>
            <p:nvSpPr>
              <p:cNvPr id="479" name=""/>
              <p:cNvSpPr/>
              <p:nvPr/>
            </p:nvSpPr>
            <p:spPr>
              <a:xfrm>
                <a:off x="7164360" y="200664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4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164360" y="148284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1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196040" y="209700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6227640" y="1482840"/>
              <a:ext cx="792000" cy="1227240"/>
              <a:chOff x="6227640" y="1482840"/>
              <a:chExt cx="792000" cy="1227240"/>
            </a:xfrm>
          </p:grpSpPr>
          <p:sp>
            <p:nvSpPr>
              <p:cNvPr id="483" name=""/>
              <p:cNvSpPr/>
              <p:nvPr/>
            </p:nvSpPr>
            <p:spPr>
              <a:xfrm>
                <a:off x="6227640" y="200664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2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227640" y="148284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1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259320" y="209700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292720" y="1698480"/>
              <a:ext cx="345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en-US" sz="44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 </a:t>
              </a:r>
              <a:r>
                <a:rPr b="1" lang="en-US" sz="4400" spc="-1" strike="noStrike">
                  <a:solidFill>
                    <a:srgbClr val="007a77"/>
                  </a:solidFill>
                  <a:latin typeface="Arial"/>
                </a:rPr>
                <a:t>(    </a:t>
              </a:r>
              <a:r>
                <a:rPr b="1" lang="en-US" sz="4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-  </a:t>
              </a:r>
              <a:r>
                <a:rPr b="1" lang="en-US" sz="4400" spc="-1" strike="noStrike">
                  <a:solidFill>
                    <a:srgbClr val="007a77"/>
                  </a:solidFill>
                  <a:latin typeface="Arial"/>
                </a:rPr>
                <a:t>)</a:t>
              </a:r>
              <a:endParaRPr b="0" lang="en-US" sz="4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4932360" y="2781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383080" y="2563920"/>
            <a:ext cx="1204920" cy="1227240"/>
            <a:chOff x="5383080" y="2563920"/>
            <a:chExt cx="1204920" cy="1227240"/>
          </a:xfrm>
        </p:grpSpPr>
        <p:grpSp>
          <p:nvGrpSpPr>
            <p:cNvPr id="489" name=""/>
            <p:cNvGrpSpPr/>
            <p:nvPr/>
          </p:nvGrpSpPr>
          <p:grpSpPr>
            <a:xfrm>
              <a:off x="5796000" y="2563920"/>
              <a:ext cx="792000" cy="1227240"/>
              <a:chOff x="5796000" y="2563920"/>
              <a:chExt cx="792000" cy="1227240"/>
            </a:xfrm>
          </p:grpSpPr>
          <p:sp>
            <p:nvSpPr>
              <p:cNvPr id="490" name=""/>
              <p:cNvSpPr/>
              <p:nvPr/>
            </p:nvSpPr>
            <p:spPr>
              <a:xfrm>
                <a:off x="5796000" y="308772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4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796000" y="256392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1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27680" y="317808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383080" y="2781360"/>
              <a:ext cx="36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endParaRPr b="0" lang="en-US" sz="4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11280" y="3716280"/>
            <a:ext cx="3957120" cy="1227240"/>
            <a:chOff x="611280" y="3716280"/>
            <a:chExt cx="3957120" cy="1227240"/>
          </a:xfrm>
        </p:grpSpPr>
        <p:sp>
          <p:nvSpPr>
            <p:cNvPr id="495" name=""/>
            <p:cNvSpPr/>
            <p:nvPr/>
          </p:nvSpPr>
          <p:spPr>
            <a:xfrm>
              <a:off x="611280" y="3933000"/>
              <a:ext cx="10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(3)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1258920" y="3716280"/>
              <a:ext cx="3309480" cy="1227240"/>
              <a:chOff x="1258920" y="3716280"/>
              <a:chExt cx="3309480" cy="12272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2050920" y="3716280"/>
                <a:ext cx="791640" cy="1227240"/>
                <a:chOff x="2050920" y="3716280"/>
                <a:chExt cx="791640" cy="12272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2050920" y="4240080"/>
                  <a:ext cx="791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33cc"/>
                      </a:solidFill>
                      <a:latin typeface="Arial"/>
                      <a:ea typeface="楷体_GB2312"/>
                    </a:rPr>
                    <a:t>4</a:t>
                  </a:r>
                  <a:endParaRPr b="0" lang="en-US" sz="4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050920" y="3716280"/>
                  <a:ext cx="791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33cc"/>
                      </a:solidFill>
                      <a:latin typeface="Arial"/>
                      <a:ea typeface="楷体_GB2312"/>
                    </a:rPr>
                    <a:t>3</a:t>
                  </a:r>
                  <a:endParaRPr b="0" lang="en-US" sz="4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082240" y="4330440"/>
                  <a:ext cx="431280" cy="0"/>
                </a:xfrm>
                <a:prstGeom prst="line">
                  <a:avLst/>
                </a:prstGeom>
                <a:ln w="507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1690560" y="3949560"/>
                <a:ext cx="791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3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403280" y="3931920"/>
                <a:ext cx="574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黑体"/>
                  </a:rPr>
                  <a:t>+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555640" y="3951000"/>
                <a:ext cx="717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黑体"/>
                  </a:rPr>
                  <a:t>+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3633480" y="3716280"/>
                <a:ext cx="792000" cy="1227240"/>
                <a:chOff x="3633480" y="3716280"/>
                <a:chExt cx="792000" cy="122724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633480" y="4240080"/>
                  <a:ext cx="792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33cc"/>
                      </a:solidFill>
                      <a:latin typeface="Arial"/>
                      <a:ea typeface="楷体_GB2312"/>
                    </a:rPr>
                    <a:t>4</a:t>
                  </a:r>
                  <a:endParaRPr b="0" lang="en-US" sz="4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633480" y="3716280"/>
                  <a:ext cx="792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33cc"/>
                      </a:solidFill>
                      <a:latin typeface="Arial"/>
                      <a:ea typeface="楷体_GB2312"/>
                    </a:rPr>
                    <a:t>3</a:t>
                  </a:r>
                  <a:endParaRPr b="0" lang="en-US" sz="4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665160" y="4330440"/>
                  <a:ext cx="431640" cy="0"/>
                </a:xfrm>
                <a:prstGeom prst="line">
                  <a:avLst/>
                </a:prstGeom>
                <a:ln w="507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" name=""/>
              <p:cNvSpPr/>
              <p:nvPr/>
            </p:nvSpPr>
            <p:spPr>
              <a:xfrm>
                <a:off x="3273120" y="394956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3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984400" y="3931920"/>
                <a:ext cx="717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-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841480" y="3931920"/>
                <a:ext cx="1726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(       )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258920" y="3951000"/>
                <a:ext cx="1726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(       )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2" name=""/>
          <p:cNvSpPr/>
          <p:nvPr/>
        </p:nvSpPr>
        <p:spPr>
          <a:xfrm>
            <a:off x="684360" y="4754520"/>
            <a:ext cx="15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16000" y="479664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黑体"/>
              </a:rPr>
              <a:t>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572000" y="3716280"/>
            <a:ext cx="3959280" cy="1227240"/>
            <a:chOff x="4572000" y="3716280"/>
            <a:chExt cx="3959280" cy="1227240"/>
          </a:xfrm>
        </p:grpSpPr>
        <p:sp>
          <p:nvSpPr>
            <p:cNvPr id="515" name=""/>
            <p:cNvSpPr/>
            <p:nvPr/>
          </p:nvSpPr>
          <p:spPr>
            <a:xfrm>
              <a:off x="4572000" y="3933000"/>
              <a:ext cx="10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(4)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6012000" y="3716280"/>
              <a:ext cx="792000" cy="1227240"/>
              <a:chOff x="6012000" y="3716280"/>
              <a:chExt cx="792000" cy="1227240"/>
            </a:xfrm>
          </p:grpSpPr>
          <p:sp>
            <p:nvSpPr>
              <p:cNvPr id="517" name=""/>
              <p:cNvSpPr/>
              <p:nvPr/>
            </p:nvSpPr>
            <p:spPr>
              <a:xfrm>
                <a:off x="6012000" y="424008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3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12000" y="371628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1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43680" y="433044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5651640" y="394956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2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64000" y="3932280"/>
              <a:ext cx="57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16720" y="3951360"/>
              <a:ext cx="717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+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7594560" y="3716280"/>
              <a:ext cx="792000" cy="1227240"/>
              <a:chOff x="7594560" y="3716280"/>
              <a:chExt cx="792000" cy="1227240"/>
            </a:xfrm>
          </p:grpSpPr>
          <p:sp>
            <p:nvSpPr>
              <p:cNvPr id="524" name=""/>
              <p:cNvSpPr/>
              <p:nvPr/>
            </p:nvSpPr>
            <p:spPr>
              <a:xfrm>
                <a:off x="7594560" y="424008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3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594560" y="371628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1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626240" y="433044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7234200" y="394956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2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48360" y="3933720"/>
              <a:ext cx="717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+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3951360"/>
              <a:ext cx="172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(       )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21440" y="3933720"/>
              <a:ext cx="1726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(       )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4932360" y="47545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64000" y="479664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黑体"/>
              </a:rPr>
              <a:t>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95280" y="35172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(5)(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＋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4)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＋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6)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；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56000" y="332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(6)(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16)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＋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+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18)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；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44720" y="1762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2720" y="180324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11280" y="10540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05440" y="169056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73440" y="173196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0" y="9828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6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25440" y="2422440"/>
            <a:ext cx="3238200" cy="1227240"/>
            <a:chOff x="325440" y="2422440"/>
            <a:chExt cx="3238200" cy="1227240"/>
          </a:xfrm>
        </p:grpSpPr>
        <p:grpSp>
          <p:nvGrpSpPr>
            <p:cNvPr id="542" name=""/>
            <p:cNvGrpSpPr/>
            <p:nvPr/>
          </p:nvGrpSpPr>
          <p:grpSpPr>
            <a:xfrm>
              <a:off x="1765440" y="2422440"/>
              <a:ext cx="792000" cy="1227240"/>
              <a:chOff x="1765440" y="2422440"/>
              <a:chExt cx="792000" cy="1227240"/>
            </a:xfrm>
          </p:grpSpPr>
          <p:sp>
            <p:nvSpPr>
              <p:cNvPr id="543" name=""/>
              <p:cNvSpPr/>
              <p:nvPr/>
            </p:nvSpPr>
            <p:spPr>
              <a:xfrm>
                <a:off x="1765440" y="294624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7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765440" y="242244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3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797120" y="303660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325440" y="2422440"/>
              <a:ext cx="3238200" cy="1227240"/>
              <a:chOff x="325440" y="2422440"/>
              <a:chExt cx="3238200" cy="1227240"/>
            </a:xfrm>
          </p:grpSpPr>
          <p:sp>
            <p:nvSpPr>
              <p:cNvPr id="547" name=""/>
              <p:cNvSpPr/>
              <p:nvPr/>
            </p:nvSpPr>
            <p:spPr>
              <a:xfrm>
                <a:off x="325440" y="2639160"/>
                <a:ext cx="1081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黑体"/>
                  </a:rPr>
                  <a:t>(7)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60360" y="2638440"/>
                <a:ext cx="574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-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270160" y="2657520"/>
                <a:ext cx="717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黑体"/>
                  </a:rPr>
                  <a:t>+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2771640" y="2422440"/>
                <a:ext cx="792000" cy="1227240"/>
                <a:chOff x="2771640" y="2422440"/>
                <a:chExt cx="792000" cy="122724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2771640" y="2946240"/>
                  <a:ext cx="792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33cc"/>
                      </a:solidFill>
                      <a:latin typeface="Arial"/>
                      <a:ea typeface="楷体_GB2312"/>
                    </a:rPr>
                    <a:t>3</a:t>
                  </a:r>
                  <a:endParaRPr b="0" lang="en-US" sz="4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771640" y="2422440"/>
                  <a:ext cx="792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33cc"/>
                      </a:solidFill>
                      <a:latin typeface="Arial"/>
                      <a:ea typeface="楷体_GB2312"/>
                    </a:rPr>
                    <a:t>1</a:t>
                  </a:r>
                  <a:endParaRPr b="0" lang="en-US" sz="4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803320" y="3036600"/>
                  <a:ext cx="431640" cy="0"/>
                </a:xfrm>
                <a:prstGeom prst="line">
                  <a:avLst/>
                </a:prstGeom>
                <a:ln w="507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54" name=""/>
          <p:cNvSpPr/>
          <p:nvPr/>
        </p:nvSpPr>
        <p:spPr>
          <a:xfrm>
            <a:off x="611280" y="37479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900000" y="3502080"/>
            <a:ext cx="2880000" cy="1227240"/>
            <a:chOff x="900000" y="3502080"/>
            <a:chExt cx="2880000" cy="1227240"/>
          </a:xfrm>
        </p:grpSpPr>
        <p:grpSp>
          <p:nvGrpSpPr>
            <p:cNvPr id="556" name=""/>
            <p:cNvGrpSpPr/>
            <p:nvPr/>
          </p:nvGrpSpPr>
          <p:grpSpPr>
            <a:xfrm>
              <a:off x="1763640" y="3502080"/>
              <a:ext cx="792000" cy="1227240"/>
              <a:chOff x="1763640" y="3502080"/>
              <a:chExt cx="792000" cy="1227240"/>
            </a:xfrm>
          </p:grpSpPr>
          <p:sp>
            <p:nvSpPr>
              <p:cNvPr id="557" name=""/>
              <p:cNvSpPr/>
              <p:nvPr/>
            </p:nvSpPr>
            <p:spPr>
              <a:xfrm>
                <a:off x="1763640" y="402588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7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763640" y="350208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3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795320" y="411624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770200" y="3502080"/>
              <a:ext cx="792000" cy="1227240"/>
              <a:chOff x="2770200" y="3502080"/>
              <a:chExt cx="792000" cy="1227240"/>
            </a:xfrm>
          </p:grpSpPr>
          <p:sp>
            <p:nvSpPr>
              <p:cNvPr id="561" name=""/>
              <p:cNvSpPr/>
              <p:nvPr/>
            </p:nvSpPr>
            <p:spPr>
              <a:xfrm>
                <a:off x="2770200" y="402588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3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770200" y="350208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1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801880" y="411624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900000" y="3718080"/>
              <a:ext cx="2880000" cy="776160"/>
              <a:chOff x="900000" y="3718080"/>
              <a:chExt cx="2880000" cy="77616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1476360" y="3736800"/>
                <a:ext cx="2303640" cy="757440"/>
                <a:chOff x="1476360" y="3736800"/>
                <a:chExt cx="2303640" cy="75744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1476360" y="3790800"/>
                  <a:ext cx="2303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33cc"/>
                      </a:solidFill>
                      <a:latin typeface="Arial"/>
                      <a:ea typeface="楷体_GB2312"/>
                    </a:rPr>
                    <a:t>(           )</a:t>
                  </a:r>
                  <a:endParaRPr b="0" lang="en-US" sz="4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268360" y="3736800"/>
                  <a:ext cx="7178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33cc"/>
                      </a:solidFill>
                      <a:latin typeface="黑体"/>
                      <a:ea typeface="黑体"/>
                    </a:rPr>
                    <a:t>-</a:t>
                  </a:r>
                  <a:endParaRPr b="0" lang="en-US" sz="4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900000" y="3718080"/>
                <a:ext cx="936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7a77"/>
                    </a:solidFill>
                    <a:latin typeface="Arial"/>
                  </a:rPr>
                  <a:t> </a:t>
                </a:r>
                <a:r>
                  <a:rPr b="1" lang="en-US" sz="44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-</a:t>
                </a:r>
                <a:endParaRPr b="0" lang="en-US" sz="4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9" name=""/>
          <p:cNvSpPr/>
          <p:nvPr/>
        </p:nvSpPr>
        <p:spPr>
          <a:xfrm>
            <a:off x="611280" y="461340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900000" y="4437000"/>
            <a:ext cx="2880000" cy="1513080"/>
            <a:chOff x="900000" y="4437000"/>
            <a:chExt cx="2880000" cy="1513080"/>
          </a:xfrm>
        </p:grpSpPr>
        <p:sp>
          <p:nvSpPr>
            <p:cNvPr id="571" name=""/>
            <p:cNvSpPr/>
            <p:nvPr/>
          </p:nvSpPr>
          <p:spPr>
            <a:xfrm>
              <a:off x="900000" y="461340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endParaRPr b="0" lang="en-US" sz="4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05080" y="4637160"/>
              <a:ext cx="2303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(             )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340000" y="4656240"/>
              <a:ext cx="717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63640" y="496080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21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8000" y="443700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9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95320" y="5051520"/>
              <a:ext cx="544680" cy="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843280" y="496260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21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87640" y="443880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7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874960" y="5052960"/>
              <a:ext cx="617400" cy="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611280" y="573408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1116000" y="5445000"/>
            <a:ext cx="1440000" cy="1298880"/>
            <a:chOff x="1116000" y="5445000"/>
            <a:chExt cx="1440000" cy="1298880"/>
          </a:xfrm>
        </p:grpSpPr>
        <p:sp>
          <p:nvSpPr>
            <p:cNvPr id="582" name=""/>
            <p:cNvSpPr/>
            <p:nvPr/>
          </p:nvSpPr>
          <p:spPr>
            <a:xfrm>
              <a:off x="1116000" y="5734080"/>
              <a:ext cx="717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19280" y="60404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21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63640" y="544500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2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650960" y="6130800"/>
              <a:ext cx="617400" cy="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4284720" y="2780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(8)(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10.1)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＋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7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；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73440" y="446580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72000" y="3716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5005440" y="4424400"/>
            <a:ext cx="1798560" cy="776880"/>
            <a:chOff x="5005440" y="4424400"/>
            <a:chExt cx="1798560" cy="776880"/>
          </a:xfrm>
        </p:grpSpPr>
        <p:sp>
          <p:nvSpPr>
            <p:cNvPr id="590" name=""/>
            <p:cNvSpPr/>
            <p:nvPr/>
          </p:nvSpPr>
          <p:spPr>
            <a:xfrm>
              <a:off x="5005440" y="442440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endParaRPr b="0" lang="en-US" sz="4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08720" y="443700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9900"/>
                  </a:solidFill>
                  <a:latin typeface="Arial"/>
                  <a:ea typeface="黑体"/>
                </a:rPr>
                <a:t>3.1</a:t>
              </a:r>
              <a:endParaRPr b="0" lang="en-US" sz="4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4932360" y="3746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0.1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50920" y="47628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Arial"/>
              </a:rPr>
              <a:t>(6) (-5 ) +0 = -5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55640" y="14130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一个数和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0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相加，</a:t>
            </a:r>
            <a:r>
              <a:rPr b="1" lang="zh-CN" sz="4400" spc="-1" strike="noStrike" u="sng">
                <a:solidFill>
                  <a:srgbClr val="ff66cc"/>
                </a:solidFill>
                <a:uFillTx/>
                <a:latin typeface="Arial"/>
                <a:ea typeface="黑体"/>
              </a:rPr>
              <a:t>                     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003640" y="1298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仍得这个数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0920" y="227664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幼圆"/>
              </a:rPr>
              <a:t>例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幼圆"/>
              </a:rPr>
              <a:t>:</a:t>
            </a:r>
            <a:r>
              <a:rPr b="1" lang="zh-CN" sz="4400" spc="-1" strike="noStrike">
                <a:solidFill>
                  <a:srgbClr val="33cc33"/>
                </a:solidFill>
                <a:latin typeface="Arial"/>
                <a:ea typeface="幼圆"/>
              </a:rPr>
              <a:t>(1) (</a:t>
            </a:r>
            <a:r>
              <a:rPr b="1" lang="zh-CN" sz="4400" spc="-1" strike="noStrike">
                <a:solidFill>
                  <a:srgbClr val="33cc33"/>
                </a:solidFill>
                <a:latin typeface="黑体"/>
                <a:ea typeface="黑体"/>
              </a:rPr>
              <a:t>-</a:t>
            </a:r>
            <a:r>
              <a:rPr b="1" lang="zh-CN" sz="4400" spc="-1" strike="noStrike">
                <a:solidFill>
                  <a:srgbClr val="33cc33"/>
                </a:solidFill>
                <a:latin typeface="Arial"/>
                <a:ea typeface="幼圆"/>
              </a:rPr>
              <a:t>2008)+0;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76360" y="306864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908000" y="309888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33cc33"/>
                </a:solidFill>
                <a:latin typeface="Arial"/>
                <a:ea typeface="幼圆"/>
              </a:rPr>
              <a:t>2008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932360" y="220500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幼圆"/>
              </a:rPr>
              <a:t>(2) (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+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幼圆"/>
              </a:rPr>
              <a:t>3.2)+0;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292720" y="302724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97440" y="299736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幼圆"/>
              </a:rPr>
              <a:t>3.2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42920" y="389088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幼圆"/>
              </a:rPr>
              <a:t>(3) 0+(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幼圆"/>
              </a:rPr>
              <a:t>8);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03280" y="469440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835280" y="47242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幼圆"/>
              </a:rPr>
              <a:t>8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19640" y="489888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859280" y="3643200"/>
            <a:ext cx="3673440" cy="1227240"/>
            <a:chOff x="4859280" y="3643200"/>
            <a:chExt cx="3673440" cy="1227240"/>
          </a:xfrm>
        </p:grpSpPr>
        <p:sp>
          <p:nvSpPr>
            <p:cNvPr id="607" name=""/>
            <p:cNvSpPr/>
            <p:nvPr/>
          </p:nvSpPr>
          <p:spPr>
            <a:xfrm>
              <a:off x="4859280" y="3860640"/>
              <a:ext cx="3673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  <a:ea typeface="幼圆"/>
                </a:rPr>
                <a:t>(4) 0+(</a:t>
              </a:r>
              <a:r>
                <a:rPr b="1" lang="en-US" sz="4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+</a:t>
              </a:r>
              <a:r>
                <a:rPr b="1" lang="en-US" sz="4400" spc="-1" strike="noStrike">
                  <a:solidFill>
                    <a:srgbClr val="3333cc"/>
                  </a:solidFill>
                  <a:latin typeface="Arial"/>
                  <a:ea typeface="幼圆"/>
                </a:rPr>
                <a:t>   );</a:t>
              </a:r>
              <a:endParaRPr b="0" lang="en-US" sz="4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6877080" y="3643200"/>
              <a:ext cx="792000" cy="1227240"/>
              <a:chOff x="6877080" y="3643200"/>
              <a:chExt cx="792000" cy="1227240"/>
            </a:xfrm>
          </p:grpSpPr>
          <p:sp>
            <p:nvSpPr>
              <p:cNvPr id="609" name=""/>
              <p:cNvSpPr/>
              <p:nvPr/>
            </p:nvSpPr>
            <p:spPr>
              <a:xfrm>
                <a:off x="6877080" y="416700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2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77080" y="364320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1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908760" y="425736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5724360" y="4653000"/>
            <a:ext cx="792000" cy="1227240"/>
            <a:chOff x="5724360" y="4653000"/>
            <a:chExt cx="792000" cy="1227240"/>
          </a:xfrm>
        </p:grpSpPr>
        <p:sp>
          <p:nvSpPr>
            <p:cNvPr id="613" name=""/>
            <p:cNvSpPr/>
            <p:nvPr/>
          </p:nvSpPr>
          <p:spPr>
            <a:xfrm>
              <a:off x="5724360" y="517680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2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24360" y="465300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1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56040" y="5267160"/>
              <a:ext cx="431640" cy="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324000" y="69228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1.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同号两数相加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79280" y="6336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有理数加法的法则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390920" y="703440"/>
            <a:ext cx="45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取</a:t>
            </a:r>
            <a:r>
              <a:rPr b="1" lang="zh-CN" sz="4400" spc="-1" strike="noStrike" u="sng">
                <a:solidFill>
                  <a:srgbClr val="009900"/>
                </a:solidFill>
                <a:uFillTx/>
                <a:latin typeface="Arial"/>
                <a:ea typeface="黑体"/>
              </a:rPr>
              <a:t>　　　　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符号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57080" y="148428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并把</a:t>
            </a:r>
            <a:r>
              <a:rPr b="1" lang="zh-CN" sz="4400" spc="-1" strike="noStrike" u="sng">
                <a:solidFill>
                  <a:srgbClr val="009900"/>
                </a:solidFill>
                <a:uFillTx/>
                <a:latin typeface="Arial"/>
                <a:ea typeface="黑体"/>
              </a:rPr>
              <a:t>　　　　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相加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219640" y="620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相同的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124000" y="141300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绝对值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0920" y="220500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2.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绝对值不相等的异号两数相加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0920" y="299736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取</a:t>
            </a:r>
            <a:r>
              <a:rPr b="1" lang="zh-CN" sz="4400" spc="-1" strike="noStrike" u="sng">
                <a:solidFill>
                  <a:srgbClr val="009900"/>
                </a:solidFill>
                <a:uFillTx/>
                <a:latin typeface="Arial"/>
                <a:ea typeface="黑体"/>
              </a:rPr>
              <a:t>　　　　　　　　　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的符号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42920" y="2925720"/>
            <a:ext cx="61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绝对值较大的加数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87280" y="371808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并用较</a:t>
            </a:r>
            <a:r>
              <a:rPr b="1" lang="zh-CN" sz="4400" spc="-1" strike="noStrike" u="sng">
                <a:solidFill>
                  <a:srgbClr val="009900"/>
                </a:solidFill>
                <a:uFillTx/>
                <a:latin typeface="Arial"/>
                <a:ea typeface="黑体"/>
              </a:rPr>
              <a:t>　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的绝对值</a:t>
            </a:r>
            <a:r>
              <a:rPr b="1" lang="zh-CN" sz="4400" spc="-1" strike="noStrike" u="sng">
                <a:solidFill>
                  <a:srgbClr val="009900"/>
                </a:solidFill>
                <a:uFillTx/>
                <a:latin typeface="Arial"/>
                <a:ea typeface="黑体"/>
              </a:rPr>
              <a:t>　　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较</a:t>
            </a:r>
            <a:r>
              <a:rPr b="1" lang="zh-CN" sz="4400" spc="-1" strike="noStrike" u="sng">
                <a:solidFill>
                  <a:srgbClr val="009900"/>
                </a:solidFill>
                <a:uFillTx/>
                <a:latin typeface="Arial"/>
                <a:ea typeface="黑体"/>
              </a:rPr>
              <a:t>　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的绝对值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79640" y="367524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大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88000" y="364500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减去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443640" y="367524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小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0920" y="501156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互为相反数的两个数相加得</a:t>
            </a:r>
            <a:r>
              <a:rPr b="1" lang="zh-CN" sz="4400" spc="-1" strike="noStrike" u="sng">
                <a:solidFill>
                  <a:srgbClr val="009900"/>
                </a:solidFill>
                <a:uFillTx/>
                <a:latin typeface="Arial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093080" y="49705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Arial"/>
                <a:ea typeface="黑体"/>
              </a:rPr>
              <a:t>0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66560" y="5718240"/>
            <a:ext cx="813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一个数和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0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相加，</a:t>
            </a:r>
            <a:r>
              <a:rPr b="1" lang="zh-CN" sz="4400" spc="-1" strike="noStrike" u="sng">
                <a:solidFill>
                  <a:srgbClr val="ff66cc"/>
                </a:solidFill>
                <a:uFillTx/>
                <a:latin typeface="Arial"/>
                <a:ea typeface="黑体"/>
              </a:rPr>
              <a:t>                     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714920" y="56037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仍得这个数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84582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经典行楷简"/>
                <a:ea typeface="经典行楷简"/>
              </a:rPr>
              <a:t>三、强化理解   总结步骤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24000" y="9079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( -  4 )  +  ( -  8 ) =  -  ( 4  +  8 )= - 12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 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↓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↓      ↓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同号两数相加               取相同符号   通过绝对值化归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                             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为算术数的加法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( -  9 ) + (+ 2) =  -   ( 9 - 2) = -7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 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↓            ↓      ↓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异号两数相加      取绝对值较大   通过绝对值化归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的加数的符号   为算术数的减法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09840" y="19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8144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539640" y="4724280"/>
          <a:ext cx="1728720" cy="168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4724280"/>
                    <a:ext cx="172872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539640" y="476280"/>
            <a:ext cx="27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加法口决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268360" y="1268280"/>
            <a:ext cx="27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Times New Roman"/>
              </a:rPr>
              <a:t>同取同，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356000" y="1287360"/>
            <a:ext cx="27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9900"/>
                </a:solidFill>
                <a:latin typeface="Times New Roman"/>
              </a:rPr>
              <a:t>值”相加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68360" y="213372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异取 “值”大，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08720" y="20908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再相减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68360" y="292428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互为相反和为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0,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68360" y="378936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有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0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相加还是它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11280" y="549360"/>
            <a:ext cx="82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口算下列各题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(1) (-4)+(-7)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；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(2) (+4)+(-7)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(3) (-4)+(+7)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；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(4) (+4)+(-4)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；      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(5) (-9)+(+2)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；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(6) (-9)+0.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64000" y="134136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-11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812000" y="13413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-3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08360" y="213372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885080" y="2060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35280" y="288288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-7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524720" y="2781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-9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1202040" cy="180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520" y="1153800"/>
            <a:ext cx="8512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黑体"/>
                <a:ea typeface="黑体"/>
              </a:rPr>
              <a:t>下面的计算题哪些答案是错误的？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55640" y="180324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+7)+3=10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11280" y="25956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-7+(+3)=-4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5280" y="356076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-3)+(-7)=10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645080" y="277020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-15+(-22)=-7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68360" y="468324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(-0.9)+(+1.2)=-0.3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6920" y="3560760"/>
            <a:ext cx="281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0+(-5)=5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76720" y="187488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-8+(+8)=0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539640" y="115920"/>
            <a:ext cx="7632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比一比，看谁最聪明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3780000" y="3573360"/>
          <a:ext cx="80136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3573360"/>
                    <a:ext cx="8013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8101080" y="2708280"/>
          <a:ext cx="801720" cy="88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01080" y="2708280"/>
                    <a:ext cx="8017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8101080" y="3429000"/>
          <a:ext cx="801720" cy="888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01080" y="3429000"/>
                    <a:ext cx="8017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5148360" y="4653000"/>
          <a:ext cx="801720" cy="888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48360" y="4653000"/>
                    <a:ext cx="8017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9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0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5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6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7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2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3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1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2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3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3" dur="8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4" dur="8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5" dur="8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6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7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bf7ff"/>
                </a:solidFill>
                <a:latin typeface="经典行楷简"/>
                <a:ea typeface="经典行楷简"/>
              </a:rPr>
              <a:t>一</a:t>
            </a:r>
            <a:r>
              <a:rPr b="1" lang="zh-CN" sz="4400" spc="-1" strike="noStrike">
                <a:solidFill>
                  <a:srgbClr val="ebf7ff"/>
                </a:solidFill>
                <a:latin typeface="经典行楷简"/>
                <a:ea typeface="经典行楷简"/>
              </a:rPr>
              <a:t>.</a:t>
            </a:r>
            <a:r>
              <a:rPr b="1" lang="zh-CN" sz="4400" spc="-1" strike="noStrike">
                <a:solidFill>
                  <a:srgbClr val="ebf7ff"/>
                </a:solidFill>
                <a:latin typeface="经典行楷简"/>
                <a:ea typeface="经典行楷简"/>
              </a:rPr>
              <a:t>复习提问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比较下列各数绝对值的大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(1)7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；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(2)-7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(3)-3.5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；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(4)-1/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-2/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0040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596360" y="0"/>
          <a:ext cx="11872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6360" y="0"/>
                    <a:ext cx="1187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11280" y="5445000"/>
            <a:ext cx="7391160" cy="952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95280" y="333360"/>
            <a:ext cx="7416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作业：计算下列各题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(1) 180+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-1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(2)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-1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+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-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(3)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5+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-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(4)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0+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-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(5)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-1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+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+2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                 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(6)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-2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+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(7)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+4.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+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-4.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96000" y="836640"/>
            <a:ext cx="4140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09480" indent="-609480" algn="just">
              <a:lnSpc>
                <a:spcPct val="13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6 ) + (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8 )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609480" indent="-609480" algn="just">
              <a:lnSpc>
                <a:spcPct val="13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5.2 + (- 4.5)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609480" indent="-609480" algn="just">
              <a:lnSpc>
                <a:spcPct val="13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1.3+(-3.4)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95280" y="333360"/>
            <a:ext cx="7416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作业：计算下列各题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(1) 180+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-1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(2)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-1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+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-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(3)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5+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-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(4)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0+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-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(5)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-1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+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+2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                 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(6)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-2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+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(7)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+4.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+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-4.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56000" y="83664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70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643280" y="151452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-11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64000" y="206064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35280" y="270828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-2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76720" y="331488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+12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08360" y="386064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-23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64000" y="450864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250920" y="620640"/>
            <a:ext cx="4140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609480" indent="-609480" algn="just">
              <a:lnSpc>
                <a:spcPct val="13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6 ) + (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8 )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609480" indent="-609480" algn="just">
              <a:lnSpc>
                <a:spcPct val="13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5.2 + (- 4.5)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 marL="609480" indent="-609480" algn="just">
              <a:lnSpc>
                <a:spcPct val="13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1.3+(-3.4)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56000" y="83664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-14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29080" y="165888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0.7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356000" y="252252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7.9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700360" y="87120"/>
            <a:ext cx="4648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讨   论   题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48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两个数的和一定大于其中一个加数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对吗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11280" y="2060640"/>
            <a:ext cx="75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-3)+(-5)=-8,  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995640" y="2019240"/>
            <a:ext cx="43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-8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不大于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-3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-5.      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11280" y="285264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-3)+0=-3,      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51280" y="2852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-3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不大于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-3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0.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55640" y="3860640"/>
            <a:ext cx="75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因此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这种说法是错误的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(1)  ( -6 ) + ( -8 ) ; (2)  5.2  +  (- 4.5) ;  (3)         +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323640" y="333000"/>
            <a:ext cx="7777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c0c0"/>
                </a:solidFill>
                <a:latin typeface="经典行楷简"/>
                <a:ea typeface="经典行楷简"/>
              </a:rPr>
              <a:t>五、巩固练习</a:t>
            </a:r>
            <a:br>
              <a:rPr sz="3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计算下列各题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6300720" y="1413000"/>
          <a:ext cx="5382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1413000"/>
                    <a:ext cx="538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7380360" y="1413000"/>
          <a:ext cx="59364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80360" y="1413000"/>
                    <a:ext cx="593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"/>
          <p:cNvSpPr/>
          <p:nvPr/>
        </p:nvSpPr>
        <p:spPr>
          <a:xfrm>
            <a:off x="900000" y="2924280"/>
            <a:ext cx="7734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口算下列各题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(1)(-4)+(-7)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                   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(2)(+4)+(-7)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(3)(-4)+(+7)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                  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(4)(+4)+(-4)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      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(5)(-9)+(+2)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                   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(6)(-9)+0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74796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7162920" y="5181480"/>
          <a:ext cx="1647720" cy="1057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62920" y="5181480"/>
                    <a:ext cx="16477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2924280"/>
            <a:ext cx="647640" cy="53316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780000" y="2997360"/>
            <a:ext cx="571320" cy="457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"/>
          <p:cNvGraphicFramePr/>
          <p:nvPr/>
        </p:nvGraphicFramePr>
        <p:xfrm>
          <a:off x="0" y="333360"/>
          <a:ext cx="9144000" cy="652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3360"/>
                    <a:ext cx="914400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7" name=""/>
          <p:cNvSpPr/>
          <p:nvPr/>
        </p:nvSpPr>
        <p:spPr>
          <a:xfrm>
            <a:off x="426708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2928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7956720" y="189000"/>
          <a:ext cx="99036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56720" y="189000"/>
                    <a:ext cx="9903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1" name=""/>
          <p:cNvSpPr/>
          <p:nvPr/>
        </p:nvSpPr>
        <p:spPr>
          <a:xfrm>
            <a:off x="154764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9051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187280" y="1268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经典行楷简"/>
              </a:rPr>
              <a:t>六、拓展迁移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403280" y="2421000"/>
            <a:ext cx="67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、若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|a|=3|b|=2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且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异号，则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a+b=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（         ）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5    B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    C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或者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-1    D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、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或者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-5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58920" y="299736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3645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、若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|a|+|b|=0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则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a=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（       ）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b=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（         ）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03280" y="4653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a&gt;0,b&lt;0, |a|&lt;|b|,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则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a+b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（           ）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点击查看放大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95280" y="988560"/>
            <a:ext cx="3641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经典行楷简"/>
                <a:ea typeface="经典行楷简"/>
              </a:rPr>
              <a:t>七、课时小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312408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6708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380880" y="5562720"/>
          <a:ext cx="182880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562720"/>
                    <a:ext cx="18288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"/>
          <p:cNvSpPr/>
          <p:nvPr/>
        </p:nvSpPr>
        <p:spPr>
          <a:xfrm>
            <a:off x="1258920" y="2349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这节课我们主要学习了有理数加法的运算法则，并熟练应用运算法则进行计算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376200" y="1989000"/>
            <a:ext cx="1521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  <a:ea typeface="汉鼎简隶变"/>
              </a:rPr>
              <a:t>布置作业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6360" y="234936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书本第</a:t>
            </a: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24</a:t>
            </a: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页第一大题</a:t>
            </a: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7</a:t>
            </a: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四小题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-1523880" y="-638280"/>
            <a:ext cx="12191760" cy="813456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8269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3203640" y="270828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556000" y="1989000"/>
            <a:ext cx="45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7a77"/>
                </a:solidFill>
                <a:latin typeface="汉鼎简行书"/>
                <a:ea typeface="汉鼎简行书"/>
              </a:rPr>
              <a:t>再   见</a:t>
            </a:r>
            <a:endParaRPr b="0" lang="en-US" sz="9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4"/>
          <a:stretch/>
        </p:blipFill>
        <p:spPr>
          <a:xfrm>
            <a:off x="3780000" y="2060640"/>
            <a:ext cx="2233440" cy="132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7" dur="157500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836640"/>
            <a:ext cx="6783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说明下列用负数表示的量的实际意义</a:t>
            </a:r>
            <a:br>
              <a:rPr sz="3200"/>
            </a:b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小花第一次前进了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米，接着按同一方向又前进了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米；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北京的气温第一天上升了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3℃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，第二天又上升了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1℃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；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东方汽车向东走了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千米之后，再向东走了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千米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。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76360" y="5589720"/>
            <a:ext cx="7391520" cy="95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956720" y="260280"/>
          <a:ext cx="942840" cy="15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6720" y="260280"/>
                    <a:ext cx="94284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经典行楷简"/>
                <a:ea typeface="经典行楷简"/>
              </a:rPr>
              <a:t>二、动态演示   分类归纳   总结法则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35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问题</a:t>
            </a:r>
            <a:r>
              <a:rPr b="1" i="1" lang="zh-CN" sz="3200" spc="-1" strike="noStrike">
                <a:solidFill>
                  <a:srgbClr val="007a77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小明在东西方向的马路上活动，我们规定向东为正，向西为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235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235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220968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18432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(1)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向东走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步，再向东走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步，两次运动后总的结果是什么？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220968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220968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992320"/>
            <a:ext cx="0" cy="45720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2992320"/>
            <a:ext cx="0" cy="45720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2438280"/>
            <a:ext cx="1905120" cy="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438280"/>
            <a:ext cx="1143000" cy="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314496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30360" y="2057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82880" y="2057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+3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43280" y="3048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8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+8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80880" y="4647960"/>
            <a:ext cx="8381880" cy="536040"/>
            <a:chOff x="380880" y="4647960"/>
            <a:chExt cx="8381880" cy="536040"/>
          </a:xfrm>
        </p:grpSpPr>
        <p:grpSp>
          <p:nvGrpSpPr>
            <p:cNvPr id="117" name=""/>
            <p:cNvGrpSpPr/>
            <p:nvPr/>
          </p:nvGrpSpPr>
          <p:grpSpPr>
            <a:xfrm>
              <a:off x="380880" y="4647960"/>
              <a:ext cx="8229600" cy="152640"/>
              <a:chOff x="380880" y="4647960"/>
              <a:chExt cx="8229600" cy="152640"/>
            </a:xfrm>
          </p:grpSpPr>
          <p:sp>
            <p:nvSpPr>
              <p:cNvPr id="118" name=""/>
              <p:cNvSpPr/>
              <p:nvPr/>
            </p:nvSpPr>
            <p:spPr>
              <a:xfrm>
                <a:off x="380880" y="4800600"/>
                <a:ext cx="82296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53316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91404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129528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167616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05704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243828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281916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320004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358128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96216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434304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472428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510516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548604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586728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24816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662904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701028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739116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777204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8153280" y="464796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85440" y="47242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343400" y="432288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38606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(2)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向西走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步，再向西走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步，两次运动后总的结果是什么？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676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676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汉鼎简行书"/>
              </a:rPr>
              <a:t>同向情况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34340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34340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500868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500868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438280" y="4495680"/>
            <a:ext cx="1905120" cy="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294920" y="449568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94880" y="4114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3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18760" y="4114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24960" y="5105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8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294920" y="518148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533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-8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5867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：同号两数相加，取相同的符号，并把绝对值相加。 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7680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4920" y="2590560"/>
            <a:ext cx="8839080" cy="536040"/>
            <a:chOff x="304920" y="2590560"/>
            <a:chExt cx="8839080" cy="536040"/>
          </a:xfrm>
        </p:grpSpPr>
        <p:grpSp>
          <p:nvGrpSpPr>
            <p:cNvPr id="159" name=""/>
            <p:cNvGrpSpPr/>
            <p:nvPr/>
          </p:nvGrpSpPr>
          <p:grpSpPr>
            <a:xfrm>
              <a:off x="304920" y="2590560"/>
              <a:ext cx="8381880" cy="536040"/>
              <a:chOff x="304920" y="2590560"/>
              <a:chExt cx="8381880" cy="53604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304920" y="2590560"/>
                <a:ext cx="8229600" cy="152640"/>
                <a:chOff x="304920" y="2590560"/>
                <a:chExt cx="8229600" cy="1526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04920" y="2743200"/>
                  <a:ext cx="822960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457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>
                  <a:off x="838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1219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>
                  <a:off x="1600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1981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2362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2743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3124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3505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3886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4267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4648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5029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5410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5791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6172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6553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6934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7315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7696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8077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609480" y="266688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84" name=""/>
            <p:cNvGraphicFramePr/>
            <p:nvPr/>
          </p:nvGraphicFramePr>
          <p:xfrm>
            <a:off x="8553600" y="2590920"/>
            <a:ext cx="590400" cy="438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53600" y="2590920"/>
                      <a:ext cx="59040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5280" y="108252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1) 5+3 = 8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05264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2) (-5)+(-3 ) = -8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1.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同号两数相加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100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三、有理数加法的法则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90920" y="1855800"/>
            <a:ext cx="45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取</a:t>
            </a:r>
            <a:r>
              <a:rPr b="1" lang="zh-CN" sz="4400" spc="-1" strike="noStrike" u="sng">
                <a:solidFill>
                  <a:srgbClr val="009900"/>
                </a:solidFill>
                <a:uFillTx/>
                <a:latin typeface="Arial"/>
                <a:ea typeface="黑体"/>
              </a:rPr>
              <a:t>　　　　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符号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7080" y="263700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并把</a:t>
            </a:r>
            <a:r>
              <a:rPr b="1" lang="zh-CN" sz="4400" spc="-1" strike="noStrike" u="sng">
                <a:solidFill>
                  <a:srgbClr val="009900"/>
                </a:solidFill>
                <a:uFillTx/>
                <a:latin typeface="Arial"/>
                <a:ea typeface="黑体"/>
              </a:rPr>
              <a:t>　　　　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相加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53080" y="3429000"/>
            <a:ext cx="37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2) (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3)+(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9);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177336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相同的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256536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  <a:ea typeface="黑体"/>
              </a:rPr>
              <a:t>绝对值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53080" y="4898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21440" y="48690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41497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(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3+9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42900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例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:(1) (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+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3)+(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+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8);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32000" y="482616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4867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98560" y="4148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3+8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551664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3) (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+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2)+(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+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18);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5589720"/>
            <a:ext cx="37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4) (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7)+(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3);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616720" y="216216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4720" y="213192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3280" y="1413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(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7+3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20890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63640" y="21304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1840" y="1411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+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2+18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69228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3) (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+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2)+(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+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18);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37080" y="692280"/>
            <a:ext cx="37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4) (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7)+(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3);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295416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5) (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13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)+(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8);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386064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3333cc"/>
                </a:solidFill>
                <a:latin typeface="黑体"/>
                <a:ea typeface="黑体"/>
              </a:rPr>
              <a:t>-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3+8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4653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468324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43280" y="299736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6) 4.1+7;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3716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1.1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口算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71064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(1)(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＋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8)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＋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＋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5)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；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(2)(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－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8)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＋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－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5.2)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；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78200" y="1587600"/>
            <a:ext cx="165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黑体"/>
                <a:ea typeface="黑体"/>
              </a:rPr>
              <a:t>+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0360" y="158760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3.2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95280" y="2378160"/>
            <a:ext cx="4176720" cy="1227240"/>
            <a:chOff x="395280" y="2378160"/>
            <a:chExt cx="4176720" cy="1227240"/>
          </a:xfrm>
        </p:grpSpPr>
        <p:sp>
          <p:nvSpPr>
            <p:cNvPr id="223" name=""/>
            <p:cNvSpPr/>
            <p:nvPr/>
          </p:nvSpPr>
          <p:spPr>
            <a:xfrm>
              <a:off x="395280" y="2593440"/>
              <a:ext cx="10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(3)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58920" y="2987640"/>
              <a:ext cx="216000" cy="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835280" y="2378160"/>
              <a:ext cx="792000" cy="1227240"/>
              <a:chOff x="1835280" y="2378160"/>
              <a:chExt cx="792000" cy="1227240"/>
            </a:xfrm>
          </p:grpSpPr>
          <p:sp>
            <p:nvSpPr>
              <p:cNvPr id="226" name=""/>
              <p:cNvSpPr/>
              <p:nvPr/>
            </p:nvSpPr>
            <p:spPr>
              <a:xfrm>
                <a:off x="1835280" y="290196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2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35280" y="237816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1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66960" y="299232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1474920" y="261468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5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42920" y="2594160"/>
              <a:ext cx="172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(       )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2844720" y="2378160"/>
              <a:ext cx="1727280" cy="1227240"/>
              <a:chOff x="2844720" y="2378160"/>
              <a:chExt cx="1727280" cy="122724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0720" y="2987640"/>
                <a:ext cx="21600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3637080" y="2378160"/>
                <a:ext cx="792000" cy="1227240"/>
                <a:chOff x="3637080" y="2378160"/>
                <a:chExt cx="792000" cy="12272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3637080" y="2901960"/>
                  <a:ext cx="792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33cc"/>
                      </a:solidFill>
                      <a:latin typeface="Arial"/>
                      <a:ea typeface="楷体_GB2312"/>
                    </a:rPr>
                    <a:t>2</a:t>
                  </a:r>
                  <a:endParaRPr b="0" lang="en-US" sz="4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37080" y="2378160"/>
                  <a:ext cx="792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33cc"/>
                      </a:solidFill>
                      <a:latin typeface="Arial"/>
                      <a:ea typeface="楷体_GB2312"/>
                    </a:rPr>
                    <a:t>1</a:t>
                  </a:r>
                  <a:endParaRPr b="0" lang="en-US" sz="4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668760" y="2992320"/>
                  <a:ext cx="431640" cy="0"/>
                </a:xfrm>
                <a:prstGeom prst="line">
                  <a:avLst/>
                </a:prstGeom>
                <a:ln w="507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3276720" y="261468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3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44720" y="2613240"/>
                <a:ext cx="1727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(       )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484360" y="261324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+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356000" y="2378160"/>
            <a:ext cx="4248360" cy="1227240"/>
            <a:chOff x="4356000" y="2378160"/>
            <a:chExt cx="4248360" cy="1227240"/>
          </a:xfrm>
        </p:grpSpPr>
        <p:sp>
          <p:nvSpPr>
            <p:cNvPr id="241" name=""/>
            <p:cNvSpPr/>
            <p:nvPr/>
          </p:nvSpPr>
          <p:spPr>
            <a:xfrm>
              <a:off x="4356000" y="2592720"/>
              <a:ext cx="10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(4)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5869080" y="2378160"/>
              <a:ext cx="792000" cy="1227240"/>
              <a:chOff x="5869080" y="2378160"/>
              <a:chExt cx="792000" cy="1227240"/>
            </a:xfrm>
          </p:grpSpPr>
          <p:sp>
            <p:nvSpPr>
              <p:cNvPr id="243" name=""/>
              <p:cNvSpPr/>
              <p:nvPr/>
            </p:nvSpPr>
            <p:spPr>
              <a:xfrm>
                <a:off x="5869080" y="290196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4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869080" y="2378160"/>
                <a:ext cx="79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1</a:t>
                </a:r>
                <a:endParaRPr b="0" lang="en-US" sz="40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00760" y="2992320"/>
                <a:ext cx="431640" cy="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508720" y="26114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3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78520" y="2611440"/>
              <a:ext cx="1726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楷体_GB2312"/>
                </a:rPr>
                <a:t>(       )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21440" y="2593800"/>
              <a:ext cx="57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+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45080" y="2611440"/>
              <a:ext cx="215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+2.75</a:t>
              </a:r>
              <a:endParaRPr b="0" lang="en-US" sz="4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193840" y="37465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43640" y="360216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黑体"/>
                <a:ea typeface="黑体"/>
              </a:rPr>
              <a:t>6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9640" y="476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方正黄草简体"/>
              </a:rPr>
              <a:t>异向情况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1066680"/>
            <a:ext cx="63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(3)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向东走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步，再向西走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步，两次运动后总的结果是什么？</a:t>
            </a:r>
            <a:r>
              <a:rPr b="0" lang="zh-CN" sz="11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67080" y="152388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152388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152388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2306520"/>
            <a:ext cx="0" cy="45720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2306520"/>
            <a:ext cx="0" cy="45720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1828800"/>
            <a:ext cx="1905120" cy="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23960" y="2438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2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+2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00280" y="1447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52480" y="1295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3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028840" y="167652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25146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80880" y="4343040"/>
            <a:ext cx="8381880" cy="536040"/>
            <a:chOff x="380880" y="4343040"/>
            <a:chExt cx="8381880" cy="536040"/>
          </a:xfrm>
        </p:grpSpPr>
        <p:grpSp>
          <p:nvGrpSpPr>
            <p:cNvPr id="267" name=""/>
            <p:cNvGrpSpPr/>
            <p:nvPr/>
          </p:nvGrpSpPr>
          <p:grpSpPr>
            <a:xfrm>
              <a:off x="380880" y="4343040"/>
              <a:ext cx="8229600" cy="152640"/>
              <a:chOff x="380880" y="4343040"/>
              <a:chExt cx="8229600" cy="152640"/>
            </a:xfrm>
          </p:grpSpPr>
          <p:sp>
            <p:nvSpPr>
              <p:cNvPr id="268" name=""/>
              <p:cNvSpPr/>
              <p:nvPr/>
            </p:nvSpPr>
            <p:spPr>
              <a:xfrm>
                <a:off x="380880" y="4495680"/>
                <a:ext cx="82296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53316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91404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129528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167616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205704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243828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281916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320004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358128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396216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434304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472428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510516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48604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586728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624816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662904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701028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739116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777204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8153280" y="43430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685440" y="441936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343400" y="401796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76360" y="3429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(4)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向西走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步，再向东走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步，两次运动后总的结果是什么？ 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403848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81280" y="403848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43400" y="470376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81280" y="470376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438280" y="4267080"/>
            <a:ext cx="1905120" cy="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15760" y="3733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+3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44280" y="3886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96560" y="4724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2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580920" y="4876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43200" y="5105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-2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38280" y="411480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56386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：绝对值不相等的异号两数相加，取绝对值较大的加数的符号，并用较大的绝对值减去较小的绝对值。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680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04920" y="1752480"/>
            <a:ext cx="8746920" cy="688320"/>
            <a:chOff x="304920" y="1752480"/>
            <a:chExt cx="8746920" cy="688320"/>
          </a:xfrm>
        </p:grpSpPr>
        <p:grpSp>
          <p:nvGrpSpPr>
            <p:cNvPr id="307" name=""/>
            <p:cNvGrpSpPr/>
            <p:nvPr/>
          </p:nvGrpSpPr>
          <p:grpSpPr>
            <a:xfrm>
              <a:off x="304920" y="1904760"/>
              <a:ext cx="8381880" cy="536040"/>
              <a:chOff x="304920" y="1904760"/>
              <a:chExt cx="8381880" cy="53604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304920" y="1904760"/>
                <a:ext cx="8229600" cy="152640"/>
                <a:chOff x="304920" y="1904760"/>
                <a:chExt cx="8229600" cy="1526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04920" y="2057400"/>
                  <a:ext cx="822960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457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838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1219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1600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1981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2362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2743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3124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3505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3886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4267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4648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5029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5410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5791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6172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6553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6934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7315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7696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>
                  <a:off x="8077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609480" y="198108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32" name=""/>
            <p:cNvGraphicFramePr/>
            <p:nvPr/>
          </p:nvGraphicFramePr>
          <p:xfrm>
            <a:off x="8610480" y="1752480"/>
            <a:ext cx="441360" cy="533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610480" y="1752480"/>
                      <a:ext cx="4413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0880" y="3808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8840" indent="-142884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问题</a:t>
            </a:r>
            <a:r>
              <a:rPr b="1" i="1" lang="zh-CN" sz="2400" spc="-1" strike="noStrike">
                <a:solidFill>
                  <a:srgbClr val="007a77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</a:rPr>
              <a:t>在东西走向的马路上，小明从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</a:rPr>
              <a:t>点出发，向东走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</a:rPr>
              <a:t>步，再向西走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  <a:p>
            <a:pPr marL="1428840" indent="-142884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Times New Roman"/>
              </a:rPr>
              <a:t>                  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</a:rPr>
              <a:t>步，两次运动后总的结果是什么？ 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5280" y="371628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8840" indent="-142884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Times New Roman"/>
              </a:rPr>
              <a:t>问题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</a:rPr>
              <a:t>：在东西走向的马路上，小明从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</a:rPr>
              <a:t>O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</a:rPr>
              <a:t>点出发，向西走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</a:rPr>
              <a:t>步，再向东走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</a:rPr>
              <a:t>步，两次运动后总的结果是什么？ 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67080" y="152388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72200" y="152388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1828800"/>
            <a:ext cx="1905120" cy="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2514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0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00280" y="1447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52480" y="1143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267080" y="1523880"/>
            <a:ext cx="190512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2971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：互为相反数的两个数相加得零。 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0" y="5867280"/>
            <a:ext cx="49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</a:rPr>
              <a:t>：一个数同零相加，仍得这个数。 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80880" y="4800240"/>
            <a:ext cx="8381880" cy="536040"/>
            <a:chOff x="380880" y="4800240"/>
            <a:chExt cx="8381880" cy="536040"/>
          </a:xfrm>
        </p:grpSpPr>
        <p:grpSp>
          <p:nvGrpSpPr>
            <p:cNvPr id="346" name=""/>
            <p:cNvGrpSpPr/>
            <p:nvPr/>
          </p:nvGrpSpPr>
          <p:grpSpPr>
            <a:xfrm>
              <a:off x="380880" y="4800240"/>
              <a:ext cx="8229600" cy="152640"/>
              <a:chOff x="380880" y="4800240"/>
              <a:chExt cx="8229600" cy="152640"/>
            </a:xfrm>
          </p:grpSpPr>
          <p:sp>
            <p:nvSpPr>
              <p:cNvPr id="347" name=""/>
              <p:cNvSpPr/>
              <p:nvPr/>
            </p:nvSpPr>
            <p:spPr>
              <a:xfrm>
                <a:off x="380880" y="4952880"/>
                <a:ext cx="82296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53316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91404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29528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67616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205704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43828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281916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320004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358128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396216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434304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472428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510516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548604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586728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624816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662904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01028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739116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777204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8153280" y="4800240"/>
                <a:ext cx="0" cy="152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85440" y="487656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4343400" y="447516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38280" y="4495680"/>
            <a:ext cx="0" cy="325440"/>
          </a:xfrm>
          <a:prstGeom prst="line">
            <a:avLst/>
          </a:prstGeom>
          <a:ln w="1260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438280" y="4724280"/>
            <a:ext cx="1905120" cy="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42440" y="4343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5410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 0 = -5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7680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04920" y="1828800"/>
            <a:ext cx="8839080" cy="612000"/>
            <a:chOff x="304920" y="1828800"/>
            <a:chExt cx="8839080" cy="612000"/>
          </a:xfrm>
        </p:grpSpPr>
        <p:grpSp>
          <p:nvGrpSpPr>
            <p:cNvPr id="377" name=""/>
            <p:cNvGrpSpPr/>
            <p:nvPr/>
          </p:nvGrpSpPr>
          <p:grpSpPr>
            <a:xfrm>
              <a:off x="304920" y="1904760"/>
              <a:ext cx="8381880" cy="536040"/>
              <a:chOff x="304920" y="1904760"/>
              <a:chExt cx="8381880" cy="53604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304920" y="1904760"/>
                <a:ext cx="8229600" cy="152640"/>
                <a:chOff x="304920" y="1904760"/>
                <a:chExt cx="8229600" cy="15264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04920" y="2057400"/>
                  <a:ext cx="822960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457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838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1219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1600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1981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2362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2743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3124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V="1">
                  <a:off x="3505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3886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V="1">
                  <a:off x="4267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4648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5029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5410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5791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6172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6553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6934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7315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7696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>
                  <a:off x="8077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609480" y="198108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02" name=""/>
            <p:cNvGraphicFramePr/>
            <p:nvPr/>
          </p:nvGraphicFramePr>
          <p:xfrm>
            <a:off x="8553600" y="1828800"/>
            <a:ext cx="590400" cy="438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53600" y="1828800"/>
                      <a:ext cx="59040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9T11:29:06Z</dcterms:created>
  <dc:creator>www.dearedu.com</dc:creator>
  <dc:description>www.dearedu.com</dc:description>
  <cp:keywords>www.dearedu.com</cp:keywords>
  <dc:language>en-US</dc:language>
  <cp:lastModifiedBy>User</cp:lastModifiedBy>
  <dcterms:modified xsi:type="dcterms:W3CDTF">2013-11-25T06:56:41Z</dcterms:modified>
  <cp:revision>2</cp:revision>
  <dc:subject>www.dearedu.com</dc:subject>
  <dc:title>www.dearedu.com</dc:title>
</cp:coreProperties>
</file>