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7.wmf" ContentType="image/x-wm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F0C-1F56-4C48-A9DD-38F9E47C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EFF-DDC4-406F-A3F4-9D17D60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9B1-DB2B-4673-9CAF-83A80CCA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580-C26F-4230-BF7A-8C41AD49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3EB-F844-4495-B7AC-048E50DE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368-7F15-4C74-880D-40C23B9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644-BCF3-49FE-90FF-6CD5115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610-5F72-48A2-B55D-42EE5EA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413-A0F3-44AE-BFBE-C7D6585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B72-0D25-4388-86E5-AF36ADEA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32F-8AD6-4B30-84FA-8A74A9F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6B1-A4B1-4E0C-AB42-C2D014C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725D-6C27-4AEA-9855-87F9EAC71B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数学"/>
          <p:cNvPicPr/>
          <p:nvPr/>
        </p:nvPicPr>
        <p:blipFill>
          <a:blip r:embed="rId3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693600" y="2048040"/>
            <a:ext cx="2889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课时  绝对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ws_6A0"/>
          <p:cNvPicPr/>
          <p:nvPr/>
        </p:nvPicPr>
        <p:blipFill>
          <a:blip r:embed="rId1"/>
          <a:stretch/>
        </p:blipFill>
        <p:spPr>
          <a:xfrm>
            <a:off x="2925720" y="730080"/>
            <a:ext cx="3122640" cy="611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671120" y="1544760"/>
            <a:ext cx="536688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如果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互为相反数，那么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说出下列各数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意义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68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相反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498320" y="3672000"/>
            <a:ext cx="2470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化简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结果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858560" y="369900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468680" y="3711600"/>
            <a:ext cx="201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7"/>
          <p:cNvGraphicFramePr/>
          <p:nvPr/>
        </p:nvGraphicFramePr>
        <p:xfrm>
          <a:off x="617400" y="3044880"/>
          <a:ext cx="77407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3044880"/>
                    <a:ext cx="7740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8"/>
          <p:cNvSpPr/>
          <p:nvPr/>
        </p:nvSpPr>
        <p:spPr>
          <a:xfrm>
            <a:off x="6549120" y="1425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476160" y="2445840"/>
            <a:ext cx="6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6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4"/>
          <a:stretch/>
        </p:blipFill>
        <p:spPr>
          <a:xfrm>
            <a:off x="3449520" y="2955960"/>
            <a:ext cx="406440" cy="51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11"/>
          <p:cNvGraphicFramePr/>
          <p:nvPr/>
        </p:nvGraphicFramePr>
        <p:xfrm>
          <a:off x="700200" y="4156200"/>
          <a:ext cx="77403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200" y="4156200"/>
                    <a:ext cx="77403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137640" y="880920"/>
            <a:ext cx="18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879200" y="1447920"/>
            <a:ext cx="205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24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61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24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37"/>
              </a:lnSpc>
              <a:tabLst>
                <a:tab algn="l" pos="0"/>
                <a:tab algn="l" pos="673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比较下列各数的大小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27480" y="3741840"/>
            <a:ext cx="1434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1)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.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04720" y="3754440"/>
            <a:ext cx="1423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12080" y="4073400"/>
            <a:ext cx="3220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1)0&g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.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因为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6&lt;0,1&gt;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6&lt;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7"/>
          <p:cNvGraphicFramePr/>
          <p:nvPr/>
        </p:nvGraphicFramePr>
        <p:xfrm>
          <a:off x="739800" y="574560"/>
          <a:ext cx="7740720" cy="11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74560"/>
                    <a:ext cx="774072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8"/>
          <p:cNvGraphicFramePr/>
          <p:nvPr/>
        </p:nvGraphicFramePr>
        <p:xfrm>
          <a:off x="701640" y="1884240"/>
          <a:ext cx="7740720" cy="11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1884240"/>
                    <a:ext cx="774072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9"/>
          <p:cNvSpPr/>
          <p:nvPr/>
        </p:nvSpPr>
        <p:spPr>
          <a:xfrm>
            <a:off x="3975480" y="194832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07040" y="247932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5"/>
          <a:stretch/>
        </p:blipFill>
        <p:spPr>
          <a:xfrm>
            <a:off x="6627960" y="1749600"/>
            <a:ext cx="241200" cy="51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6"/>
          <a:stretch/>
        </p:blipFill>
        <p:spPr>
          <a:xfrm>
            <a:off x="5654520" y="2324160"/>
            <a:ext cx="5335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ws_6A1"/>
          <p:cNvPicPr/>
          <p:nvPr/>
        </p:nvPicPr>
        <p:blipFill>
          <a:blip r:embed="rId1"/>
          <a:stretch/>
        </p:blipFill>
        <p:spPr>
          <a:xfrm>
            <a:off x="684360" y="1282680"/>
            <a:ext cx="1547640" cy="36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_6A2"/>
          <p:cNvPicPr/>
          <p:nvPr/>
        </p:nvPicPr>
        <p:blipFill>
          <a:blip r:embed="rId2"/>
          <a:stretch/>
        </p:blipFill>
        <p:spPr>
          <a:xfrm>
            <a:off x="3032280" y="642960"/>
            <a:ext cx="3084480" cy="601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560320" y="1455840"/>
            <a:ext cx="10065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绝对值的意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883240" y="1795320"/>
            <a:ext cx="1999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若一个数的绝对值等于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则这个数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105680" y="183204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773760" y="1843200"/>
            <a:ext cx="201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253160" y="2135160"/>
            <a:ext cx="643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218400" y="2135160"/>
            <a:ext cx="795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960440" y="2135160"/>
            <a:ext cx="1307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924240" y="2135160"/>
            <a:ext cx="132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或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857960" y="2476440"/>
            <a:ext cx="2051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求下列各数的绝对值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3"/>
          <p:cNvGraphicFramePr/>
          <p:nvPr/>
        </p:nvGraphicFramePr>
        <p:xfrm>
          <a:off x="701640" y="2824200"/>
          <a:ext cx="77407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2824200"/>
                    <a:ext cx="77407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701640" y="3500280"/>
          <a:ext cx="7740720" cy="113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640" y="3500280"/>
                    <a:ext cx="77407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ws_6A3"/>
          <p:cNvPicPr/>
          <p:nvPr/>
        </p:nvPicPr>
        <p:blipFill>
          <a:blip r:embed="rId1"/>
          <a:stretch/>
        </p:blipFill>
        <p:spPr>
          <a:xfrm>
            <a:off x="1717560" y="1298520"/>
            <a:ext cx="1509840" cy="352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829960" y="1298520"/>
            <a:ext cx="313308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比较有理数的大小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重难点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</a:rPr>
              <a:t>比较下列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各组数的大小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7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37480" y="2708280"/>
            <a:ext cx="21492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0.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＜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.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ws_6A4"/>
          <p:cNvPicPr/>
          <p:nvPr/>
        </p:nvPicPr>
        <p:blipFill>
          <a:blip r:embed="rId1"/>
          <a:stretch/>
        </p:blipFill>
        <p:spPr>
          <a:xfrm>
            <a:off x="2644920" y="2717640"/>
            <a:ext cx="3846240" cy="52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986120" y="895320"/>
            <a:ext cx="50652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把数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.5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在数轴上表示出来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把这三个数相互连接起来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把这三个数相互连接起来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85400" y="2274840"/>
            <a:ext cx="5208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数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.5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在数轴上的位置如图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343760" y="328140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45240" y="3560760"/>
            <a:ext cx="33868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)&g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.5)&g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3&l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.5)&l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ws_6A5"/>
          <p:cNvPicPr/>
          <p:nvPr/>
        </p:nvPicPr>
        <p:blipFill>
          <a:blip r:embed="rId1"/>
          <a:stretch/>
        </p:blipFill>
        <p:spPr>
          <a:xfrm>
            <a:off x="684360" y="1459080"/>
            <a:ext cx="1419120" cy="334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613240" y="1521000"/>
            <a:ext cx="2231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绝对值的非负性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深化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447560" y="1935000"/>
            <a:ext cx="45072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若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|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96000" y="3003480"/>
            <a:ext cx="5938920" cy="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|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|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即 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 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 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443600" y="2452680"/>
            <a:ext cx="3105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|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|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2|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ws_6A6"/>
          <p:cNvPicPr/>
          <p:nvPr/>
        </p:nvPicPr>
        <p:blipFill>
          <a:blip r:embed="rId1"/>
          <a:stretch/>
        </p:blipFill>
        <p:spPr>
          <a:xfrm>
            <a:off x="684360" y="893880"/>
            <a:ext cx="2425680" cy="34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902240" y="1241280"/>
            <a:ext cx="19026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两个有理数的大小比较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个正数大小比较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72880" y="2193840"/>
            <a:ext cx="48614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较两个小数大小，先看整数部分，整数部分大的那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8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大；整数部分相同的看十分位上的数哪个大，以此类推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8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较两个分数大小，同分母分数，分子大的分数大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7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异分母分数，先通分再比较大小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50120" y="3830760"/>
            <a:ext cx="558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比较分数与小数大小，一般将小数化分数，再比较大小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744920" y="1109520"/>
            <a:ext cx="1902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两个负数大小比较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950120" y="1467000"/>
            <a:ext cx="2291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先求这两个负数的绝对值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8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比较绝对值大小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627640" y="2455920"/>
            <a:ext cx="4302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根据绝对值大的这个数反而小来判断两个负数大小得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66520" y="2744640"/>
            <a:ext cx="503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结论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0040" y="3152880"/>
            <a:ext cx="312732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一正一负大小比较，正数大于负数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4)0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负数大小比较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于负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正数大小比较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于正数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38:30Z</dcterms:created>
  <dc:creator>www.dearedu.com</dc:creator>
  <dc:description>www.dearedu.com</dc:description>
  <cp:keywords>www.dearedu.com</cp:keywords>
  <dc:language>en-US</dc:language>
  <cp:lastModifiedBy>gr</cp:lastModifiedBy>
  <cp:lastPrinted>1899-12-30T00:00:00Z</cp:lastPrinted>
  <dcterms:modified xsi:type="dcterms:W3CDTF">2011-09-16T01:23:02Z</dcterms:modified>
  <cp:revision>2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