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23.jpeg" ContentType="image/jpe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3.jpeg" ContentType="image/jpeg"/>
  <Override PartName="/ppt/media/image17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6C7-DC69-4C16-8D90-FC2BD0A0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205-5CDF-4545-9B7E-04A55A3D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116-CA4B-4F88-9395-A71F832F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5F2-349B-4947-BB39-05E368FE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F16-300C-4E95-BB9D-B29A9E82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0A8-5589-42F5-81C8-D33E7AB0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EB4-6391-4FDB-B957-054B08FD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4C6-5D58-42FE-B64E-F74B8313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7BE-5250-49D0-B842-6090AD63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497-7DC2-4CB1-AE58-FFB4F9C9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06C-A9C5-476F-A558-A472EFB9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8E9-1960-47F3-9CC6-130CBEFF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A447-F9D7-430E-8217-8EF608F594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数学"/>
          <p:cNvPicPr/>
          <p:nvPr/>
        </p:nvPicPr>
        <p:blipFill>
          <a:blip r:embed="rId3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2070360" y="1698480"/>
            <a:ext cx="109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方正大标宋_GBK"/>
                <a:ea typeface="方正大标宋_GBK"/>
              </a:rPr>
              <a:t>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869280" y="1666800"/>
            <a:ext cx="12351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方正大标宋_GBK"/>
                <a:ea typeface="方正大标宋_GBK"/>
              </a:rPr>
              <a:t>有理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688120" y="2479680"/>
            <a:ext cx="354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第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1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课时  有理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336384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伏家营中学            付宝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ws_686"/>
          <p:cNvPicPr/>
          <p:nvPr/>
        </p:nvPicPr>
        <p:blipFill>
          <a:blip r:embed="rId1"/>
          <a:stretch/>
        </p:blipFill>
        <p:spPr>
          <a:xfrm>
            <a:off x="2941560" y="525600"/>
            <a:ext cx="3252960" cy="63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226240" y="1327320"/>
            <a:ext cx="3385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下列数中，既不是正数也不是负数的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177680" y="1360440"/>
            <a:ext cx="9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310400" y="1666800"/>
            <a:ext cx="811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303000" y="1666800"/>
            <a:ext cx="628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054040" y="1666800"/>
            <a:ext cx="628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946920" y="1666800"/>
            <a:ext cx="8542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757120" y="2044800"/>
            <a:ext cx="9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939680" y="2008080"/>
            <a:ext cx="2547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下列各数中，负数的个数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253160" y="2975040"/>
            <a:ext cx="6436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303000" y="2975040"/>
            <a:ext cx="628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054040" y="2975040"/>
            <a:ext cx="628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946560" y="2975040"/>
            <a:ext cx="6436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2086920" y="3316320"/>
            <a:ext cx="2722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用计算器计算下列各分数的值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6"/>
          <p:cNvGraphicFramePr/>
          <p:nvPr/>
        </p:nvGraphicFramePr>
        <p:xfrm>
          <a:off x="701640" y="2314440"/>
          <a:ext cx="774072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2314440"/>
                    <a:ext cx="77407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7"/>
          <p:cNvGraphicFramePr/>
          <p:nvPr/>
        </p:nvGraphicFramePr>
        <p:xfrm>
          <a:off x="701640" y="3614760"/>
          <a:ext cx="7740720" cy="111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640" y="3614760"/>
                    <a:ext cx="77407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18"/>
          <p:cNvSpPr/>
          <p:nvPr/>
        </p:nvSpPr>
        <p:spPr>
          <a:xfrm>
            <a:off x="6693840" y="13032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5330880" y="1979640"/>
            <a:ext cx="45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1967760" y="3630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21"/>
          <p:cNvGraphicFramePr/>
          <p:nvPr/>
        </p:nvGraphicFramePr>
        <p:xfrm>
          <a:off x="3919680" y="3613320"/>
          <a:ext cx="7740360" cy="4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19680" y="3613320"/>
                    <a:ext cx="7740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22"/>
          <p:cNvSpPr/>
          <p:nvPr/>
        </p:nvSpPr>
        <p:spPr>
          <a:xfrm>
            <a:off x="5595840" y="370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0.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1946160" y="4255920"/>
            <a:ext cx="60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1.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24"/>
          <p:cNvGraphicFramePr/>
          <p:nvPr/>
        </p:nvGraphicFramePr>
        <p:xfrm>
          <a:off x="3814920" y="4178160"/>
          <a:ext cx="7740360" cy="44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Object 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14920" y="4178160"/>
                    <a:ext cx="774036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25"/>
          <p:cNvGraphicFramePr/>
          <p:nvPr/>
        </p:nvGraphicFramePr>
        <p:xfrm>
          <a:off x="5386320" y="4178160"/>
          <a:ext cx="7740720" cy="44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" name="Object 2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86320" y="4178160"/>
                    <a:ext cx="774072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68040" y="988920"/>
            <a:ext cx="721224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统称为整数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统称为分数；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统称为有理数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086920" y="2212920"/>
            <a:ext cx="2722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指出下列各数中的整数和分数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112480" y="9032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正整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019760" y="89388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零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5678640" y="8938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负整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93320" y="12938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正分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862360" y="12938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负分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928480" y="130320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整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7696800" y="128268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分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11"/>
          <p:cNvGraphicFramePr/>
          <p:nvPr/>
        </p:nvGraphicFramePr>
        <p:xfrm>
          <a:off x="701640" y="2651040"/>
          <a:ext cx="77407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651040"/>
                    <a:ext cx="77407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2"/>
          <p:cNvGraphicFramePr/>
          <p:nvPr/>
        </p:nvGraphicFramePr>
        <p:xfrm>
          <a:off x="701640" y="3271680"/>
          <a:ext cx="774072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271680"/>
                    <a:ext cx="77407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ws_687"/>
          <p:cNvPicPr/>
          <p:nvPr/>
        </p:nvPicPr>
        <p:blipFill>
          <a:blip r:embed="rId1"/>
          <a:stretch/>
        </p:blipFill>
        <p:spPr>
          <a:xfrm>
            <a:off x="684360" y="1370160"/>
            <a:ext cx="1444320" cy="344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ws_688"/>
          <p:cNvPicPr/>
          <p:nvPr/>
        </p:nvPicPr>
        <p:blipFill>
          <a:blip r:embed="rId2"/>
          <a:stretch/>
        </p:blipFill>
        <p:spPr>
          <a:xfrm>
            <a:off x="2760840" y="568440"/>
            <a:ext cx="3627360" cy="706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457360" y="1523880"/>
            <a:ext cx="10065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有理数的概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28080" y="1967040"/>
            <a:ext cx="9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359000" y="1933560"/>
            <a:ext cx="15922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6.8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不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自然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有理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970160" y="1967040"/>
            <a:ext cx="1107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分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负有理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353680" y="3159000"/>
            <a:ext cx="3098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判断题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对的打“√”，错的打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×”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884240" y="3565440"/>
            <a:ext cx="25653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整数和分数统称为有理数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正数和负数统称为有理数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663160" y="3603600"/>
            <a:ext cx="93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055960" y="4384800"/>
            <a:ext cx="30682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正整数和正分数统称为正有理数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515280" y="4419720"/>
            <a:ext cx="9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149640" y="1890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5105520" y="3456360"/>
            <a:ext cx="33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222160" y="3877200"/>
            <a:ext cx="33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021360" y="4288320"/>
            <a:ext cx="33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ws_68A"/>
          <p:cNvPicPr/>
          <p:nvPr/>
        </p:nvPicPr>
        <p:blipFill>
          <a:blip r:embed="rId1"/>
          <a:stretch/>
        </p:blipFill>
        <p:spPr>
          <a:xfrm>
            <a:off x="620640" y="784080"/>
            <a:ext cx="1522440" cy="354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492640" y="950760"/>
            <a:ext cx="17283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有理数的分类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难点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647720" y="1359000"/>
            <a:ext cx="1876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下列说法正确的有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60120" y="1393920"/>
            <a:ext cx="9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169880" y="1393920"/>
            <a:ext cx="18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830600" y="1768320"/>
            <a:ext cx="254376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是整数，也是正数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24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11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是正小数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不是正分数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12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自然数一定是正数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88"/>
              </a:lnSpc>
              <a:tabLst>
                <a:tab algn="l" pos="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负分数一定是负有理数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13920" y="4154400"/>
            <a:ext cx="948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336120" y="4154400"/>
            <a:ext cx="933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299200" y="4154400"/>
            <a:ext cx="933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7405200" y="4154400"/>
            <a:ext cx="948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12"/>
          <p:cNvGraphicFramePr/>
          <p:nvPr/>
        </p:nvGraphicFramePr>
        <p:xfrm>
          <a:off x="638280" y="2181240"/>
          <a:ext cx="774072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280" y="2181240"/>
                    <a:ext cx="77407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658960" y="893880"/>
            <a:ext cx="4398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下列各数中，哪些是整数？哪些是分数？哪些是负数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95480" y="1301760"/>
            <a:ext cx="11743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哪些是非负数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701640" y="1722600"/>
          <a:ext cx="774072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1722600"/>
                    <a:ext cx="774072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5"/>
          <p:cNvGraphicFramePr/>
          <p:nvPr/>
        </p:nvGraphicFramePr>
        <p:xfrm>
          <a:off x="701640" y="2335320"/>
          <a:ext cx="7740720" cy="20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2335320"/>
                    <a:ext cx="774072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ws_68B"/>
          <p:cNvPicPr/>
          <p:nvPr/>
        </p:nvPicPr>
        <p:blipFill>
          <a:blip r:embed="rId1"/>
          <a:stretch/>
        </p:blipFill>
        <p:spPr>
          <a:xfrm>
            <a:off x="1058760" y="946080"/>
            <a:ext cx="1392480" cy="325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27720" y="1012680"/>
            <a:ext cx="427068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7873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数集的概念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知识拓展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873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7873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把下列各数填在相应的大括号内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873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7873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7873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24"/>
              </a:lnSpc>
              <a:tabLst>
                <a:tab algn="l" pos="0"/>
                <a:tab algn="l" pos="7873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888200" y="2506680"/>
            <a:ext cx="1040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正数集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非负数集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整数集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负分数集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683320" y="2506680"/>
            <a:ext cx="8254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6"/>
          <p:cNvGraphicFramePr/>
          <p:nvPr/>
        </p:nvGraphicFramePr>
        <p:xfrm>
          <a:off x="1076400" y="1760400"/>
          <a:ext cx="77407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6400" y="1760400"/>
                    <a:ext cx="7740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7"/>
          <p:cNvSpPr/>
          <p:nvPr/>
        </p:nvSpPr>
        <p:spPr>
          <a:xfrm>
            <a:off x="3784320" y="2814840"/>
            <a:ext cx="123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6,4.2,0,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715920" y="2457360"/>
            <a:ext cx="95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6,4.2,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639960" y="3255480"/>
            <a:ext cx="125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6,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4,0,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10"/>
          <p:cNvGraphicFramePr/>
          <p:nvPr/>
        </p:nvGraphicFramePr>
        <p:xfrm>
          <a:off x="3416400" y="3600360"/>
          <a:ext cx="7740720" cy="59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6400" y="3600360"/>
                    <a:ext cx="7740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ws_68C"/>
          <p:cNvPicPr/>
          <p:nvPr/>
        </p:nvPicPr>
        <p:blipFill>
          <a:blip r:embed="rId1"/>
          <a:stretch/>
        </p:blipFill>
        <p:spPr>
          <a:xfrm>
            <a:off x="774720" y="1957320"/>
            <a:ext cx="7599240" cy="1079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2076840" y="839880"/>
            <a:ext cx="3307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将下列各数填在图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中相应的圈内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345200" y="3174840"/>
            <a:ext cx="4485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01640" y="1289160"/>
          <a:ext cx="774072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89160"/>
                    <a:ext cx="77407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701640" y="3541680"/>
          <a:ext cx="7740720" cy="103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640" y="3541680"/>
                    <a:ext cx="77407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ws_68D"/>
          <p:cNvPicPr/>
          <p:nvPr/>
        </p:nvPicPr>
        <p:blipFill>
          <a:blip r:embed="rId1"/>
          <a:stretch/>
        </p:blipFill>
        <p:spPr>
          <a:xfrm>
            <a:off x="684360" y="1055520"/>
            <a:ext cx="2334960" cy="333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604880" y="1527120"/>
            <a:ext cx="10065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数集的意义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066040" y="1935000"/>
            <a:ext cx="351792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正数集合包括所有的正整数、正分数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负整数集合包括所有的正整数和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57920" y="2752560"/>
            <a:ext cx="3697560" cy="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数集合包括所有的正整数、负整数和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4)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分数集合包括所有的负分数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小数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628880" y="3570120"/>
            <a:ext cx="649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(4)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有理数集合包括整数、分数、有限小数和无限循环小数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3:38:21Z</dcterms:created>
  <dc:creator>www.dearedu.com</dc:creator>
  <dc:description>www.dearedu.com</dc:description>
  <cp:keywords>www.dearedu.com</cp:keywords>
  <dc:language>en-US</dc:language>
  <cp:lastModifiedBy>User</cp:lastModifiedBy>
  <cp:lastPrinted>1899-12-30T00:00:00Z</cp:lastPrinted>
  <dcterms:modified xsi:type="dcterms:W3CDTF">2013-11-25T07:01:47Z</dcterms:modified>
  <cp:revision>4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