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whoosh.wav" ContentType="audio/x-wav"/>
  <Override PartName="/ppt/media/image15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1F53-79BF-47D7-8D88-6BD469384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994D-5B6D-4F70-85EA-C7D0D781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33AA-CCC5-48E6-A80B-8CC74395F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3BDF-D47C-404A-86C9-D152E1A6F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6312-1762-4AA6-B772-8C6E7571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A763-9535-42D5-BAC4-824FB1DB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3307-24C5-4956-BAFE-75B8B9C3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2A86-027D-433C-9F23-CC862D7A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D962-FA31-441B-8E9E-484B516C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BAFE-FE00-43B0-9D2E-16C9A2EB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7261-7B06-477F-8776-99D07B04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7BC6-383A-4FD2-9619-3AD486B1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8B5B-3BB3-4805-9ED8-3B1A92C837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22360" y="412920"/>
            <a:ext cx="438120" cy="474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05040" y="4129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46200" y="835200"/>
            <a:ext cx="422280" cy="474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1592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31840" y="762120"/>
            <a:ext cx="560160" cy="4222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36400" y="1035000"/>
            <a:ext cx="8226720" cy="46080"/>
          </a:xfrm>
          <a:prstGeom prst="rect">
            <a:avLst/>
          </a:prstGeom>
          <a:gradFill rotWithShape="0">
            <a:gsLst>
              <a:gs pos="0">
                <a:srgbClr val="fdd7e7"/>
              </a:gs>
              <a:gs pos="100000">
                <a:srgbClr val="00005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85960" y="304920"/>
            <a:ext cx="31680" cy="10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14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image" Target="../media/image5.pn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92040" y="333360"/>
            <a:ext cx="45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彩云"/>
                <a:ea typeface="华文彩云"/>
              </a:rPr>
              <a:t>《</a:t>
            </a:r>
            <a:r>
              <a:rPr b="1" lang="zh-CN" sz="3600" spc="-1" strike="noStrike">
                <a:solidFill>
                  <a:srgbClr val="0000ff"/>
                </a:solidFill>
                <a:latin typeface="华文彩云"/>
                <a:ea typeface="华文彩云"/>
              </a:rPr>
              <a:t>数学》</a:t>
            </a:r>
            <a:r>
              <a:rPr b="1" lang="zh-CN" sz="3600" spc="-1" strike="noStrike">
                <a:solidFill>
                  <a:srgbClr val="0000ff"/>
                </a:solidFill>
                <a:latin typeface="华文彩云"/>
                <a:ea typeface="华文彩云"/>
              </a:rPr>
              <a:t>( </a:t>
            </a:r>
            <a:r>
              <a:rPr b="1" lang="zh-CN" sz="3600" spc="-1" strike="noStrike">
                <a:solidFill>
                  <a:srgbClr val="0000ff"/>
                </a:solidFill>
                <a:latin typeface="华文彩云"/>
                <a:ea typeface="华文彩云"/>
              </a:rPr>
              <a:t>新人教版</a:t>
            </a:r>
            <a:r>
              <a:rPr b="1" lang="zh-CN" sz="3600" spc="-1" strike="noStrike">
                <a:solidFill>
                  <a:srgbClr val="0000ff"/>
                </a:solidFill>
                <a:latin typeface="华文彩云"/>
                <a:ea typeface="华文彩云"/>
              </a:rPr>
              <a:t>.</a:t>
            </a:r>
            <a:r>
              <a:rPr b="1" lang="zh-CN" sz="3600" spc="-1" strike="noStrike">
                <a:solidFill>
                  <a:srgbClr val="0000ff"/>
                </a:solidFill>
                <a:latin typeface="华文彩云"/>
                <a:ea typeface="华文彩云"/>
              </a:rPr>
              <a:t>七年级 上册 </a:t>
            </a:r>
            <a:r>
              <a:rPr b="1" lang="zh-CN" sz="3600" spc="-1" strike="noStrike">
                <a:solidFill>
                  <a:srgbClr val="0000ff"/>
                </a:solidFill>
                <a:latin typeface="华文彩云"/>
                <a:ea typeface="华文彩云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838080" y="2666880"/>
            <a:ext cx="64008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3300"/>
                </a:solidFill>
                <a:latin typeface="Times New Roman"/>
              </a:rPr>
              <a:t>第一章   有理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341360"/>
            <a:ext cx="9144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9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9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下列国家年平均森林面积（单位：千米</a:t>
            </a:r>
            <a:r>
              <a:rPr b="1" lang="zh-CN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的变化情况是：中国减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6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印度增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韩国减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新西兰增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3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泰国减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29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孟加拉减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用正数和负数表示这六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90~199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年平均森林面积增长量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7245360"/>
            <a:ext cx="78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解：中国－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866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，印度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72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，韩国－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130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，   新西兰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434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，泰国－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3294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，孟加拉－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8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8397720"/>
            <a:ext cx="705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解：中国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866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，印度－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72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，韩国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130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，新西兰－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434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，泰国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3294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，孟加拉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88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；所得结果与增长量符号相反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933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如何表示森林面积减少量，所得结果与增长量有什么关系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561440" y="5380200"/>
            <a:ext cx="1582560" cy="147780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3048120" y="41400"/>
            <a:ext cx="2895480" cy="645480"/>
            <a:chOff x="3048120" y="41400"/>
            <a:chExt cx="2895480" cy="645480"/>
          </a:xfrm>
        </p:grpSpPr>
        <p:pic>
          <p:nvPicPr>
            <p:cNvPr id="115" name="" descr=""/>
            <p:cNvPicPr/>
            <p:nvPr/>
          </p:nvPicPr>
          <p:blipFill>
            <a:blip r:embed="rId3"/>
            <a:stretch/>
          </p:blipFill>
          <p:spPr>
            <a:xfrm>
              <a:off x="4137120" y="147600"/>
              <a:ext cx="5223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3346560" y="684360"/>
              <a:ext cx="2259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00400" y="46080"/>
              <a:ext cx="240516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48120" y="276120"/>
              <a:ext cx="450720" cy="40320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0" y="0"/>
                  </a:moveTo>
                  <a:lnTo>
                    <a:pt x="0" y="192"/>
                  </a:lnTo>
                  <a:lnTo>
                    <a:pt x="192" y="192"/>
                  </a:lnTo>
                </a:path>
              </a:pathLst>
            </a:custGeom>
            <a:noFill/>
            <a:ln w="57240">
              <a:solidFill>
                <a:srgbClr val="cc6600"/>
              </a:solidFill>
              <a:round/>
              <a:tailEnd len="med" type="triangle" w="med"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48120" y="44280"/>
              <a:ext cx="289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练习   拓展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41400"/>
              <a:ext cx="338040" cy="30168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lnTo>
                    <a:pt x="0" y="0"/>
                  </a:lnTo>
                  <a:lnTo>
                    <a:pt x="0" y="144"/>
                  </a:lnTo>
                </a:path>
              </a:pathLst>
            </a:custGeom>
            <a:noFill/>
            <a:ln w="57240">
              <a:solidFill>
                <a:srgbClr val="cc6600"/>
              </a:solidFill>
              <a:round/>
              <a:tailEnd len="med" type="triangle" w="med"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52920" y="281160"/>
              <a:ext cx="338400" cy="40320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0" y="192"/>
                  </a:moveTo>
                  <a:lnTo>
                    <a:pt x="144" y="192"/>
                  </a:lnTo>
                  <a:lnTo>
                    <a:pt x="144" y="0"/>
                  </a:lnTo>
                </a:path>
              </a:pathLst>
            </a:custGeom>
            <a:noFill/>
            <a:ln w="57240">
              <a:solidFill>
                <a:srgbClr val="cc6600"/>
              </a:solidFill>
              <a:round/>
              <a:tailEnd len="med" type="triangle" w="med"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40240" y="46080"/>
              <a:ext cx="451080" cy="30168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144"/>
                  </a:moveTo>
                  <a:lnTo>
                    <a:pt x="192" y="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cc6600"/>
              </a:solidFill>
              <a:round/>
              <a:tailEnd len="med" type="triangle" w="med"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列用正数和负数表示的相反意义的量，其中正确的是（　　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00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全球财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强中对主要零售业的统计，大荣公司年收入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5320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美元，利润为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52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美元，该公司亏损额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52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美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如果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.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比海平面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.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，那么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.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表示比海平面低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.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如果收入增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记作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，那么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表示支出减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一天早晨的气温是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中午比早晨上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所以中午的气温是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304920"/>
            <a:ext cx="2880000" cy="7189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73ff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探究活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阅读与思考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229600" cy="452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阅读教科书《用正负数表示加工允许误差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直径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0.032mm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直径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9.97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零件是否合格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知道还有哪些事件可以用正负数表示允许误差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请举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838080" y="5410080"/>
            <a:ext cx="1543320" cy="10303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7772400" y="4876920"/>
            <a:ext cx="808200" cy="16318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3962520" y="5410080"/>
            <a:ext cx="1511280" cy="998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304920" y="0"/>
            <a:ext cx="161928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352680" y="304920"/>
            <a:ext cx="2880000" cy="7189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73ff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探究活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1280" y="141300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于实际测量时的误差限制，或为了表示在某一数值上下浮动的一个范围时，许多产品及说明上用到了诸如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00±3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这样的表示方法，例如：某工业用设备的零件直径尺寸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00±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㎜），它表示该直径的正常尺寸应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9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㎜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0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㎜之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378936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娃哈哈饮料公司生产的一促瓶装饮料外包装上印有“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600±3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ml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”字样，请问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±3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ml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是什么含义？质检局对该产品抽查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瓶，容量分别是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603ml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611ml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589m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l573ml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627ml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问抽查产品的容量是否合格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5640" y="54450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抽查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瓶饮料均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600-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600+ 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之间，因此是合格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95280" y="1195560"/>
            <a:ext cx="79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、有一批食品罐头，标准质量为每听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500g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，现抽取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听样品进行检测，结果如下表。（单位：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60360" y="2057400"/>
          <a:ext cx="8244000" cy="1371600"/>
        </p:xfrm>
        <a:graphic>
          <a:graphicData uri="http://schemas.openxmlformats.org/drawingml/2006/table">
            <a:tbl>
              <a:tblPr/>
              <a:tblGrid>
                <a:gridCol w="1040040"/>
                <a:gridCol w="718920"/>
                <a:gridCol w="720720"/>
                <a:gridCol w="720720"/>
                <a:gridCol w="720720"/>
                <a:gridCol w="722520"/>
                <a:gridCol w="718920"/>
                <a:gridCol w="720720"/>
                <a:gridCol w="720720"/>
                <a:gridCol w="719280"/>
                <a:gridCol w="72072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质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1525680" y="2109960"/>
            <a:ext cx="457200" cy="6858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7440" y="2109960"/>
            <a:ext cx="457200" cy="6858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73240" y="2109960"/>
            <a:ext cx="457200" cy="6858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59040" y="2109960"/>
            <a:ext cx="457200" cy="6858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21160" y="2109960"/>
            <a:ext cx="457200" cy="6858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83280" y="2109960"/>
            <a:ext cx="457200" cy="6858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69080" y="2109960"/>
            <a:ext cx="457200" cy="6858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54880" y="2109960"/>
            <a:ext cx="457200" cy="6858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316640" y="2109960"/>
            <a:ext cx="457200" cy="6858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02440" y="2109960"/>
            <a:ext cx="457200" cy="6858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3405240"/>
            <a:ext cx="809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如果把超标准的质量的克数用正数表示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不足的用负数表示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在下表中列出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听罐头与标准质量的差值表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.(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单位：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79440" y="4243320"/>
          <a:ext cx="8224920" cy="1706400"/>
        </p:xfrm>
        <a:graphic>
          <a:graphicData uri="http://schemas.openxmlformats.org/drawingml/2006/table">
            <a:tbl>
              <a:tblPr/>
              <a:tblGrid>
                <a:gridCol w="909720"/>
                <a:gridCol w="730440"/>
                <a:gridCol w="731520"/>
                <a:gridCol w="731880"/>
                <a:gridCol w="731880"/>
                <a:gridCol w="733320"/>
                <a:gridCol w="730440"/>
                <a:gridCol w="731880"/>
                <a:gridCol w="731880"/>
                <a:gridCol w="730080"/>
                <a:gridCol w="731880"/>
              </a:tblGrid>
              <a:tr h="75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质量误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1438200" y="4319640"/>
            <a:ext cx="457200" cy="6858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00320" y="4319640"/>
            <a:ext cx="457200" cy="6858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86120" y="4319640"/>
            <a:ext cx="457200" cy="6858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71920" y="4319640"/>
            <a:ext cx="457200" cy="6858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4040" y="4319640"/>
            <a:ext cx="457200" cy="6858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95800" y="4319640"/>
            <a:ext cx="457200" cy="6858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81600" y="4319640"/>
            <a:ext cx="457200" cy="6858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67400" y="4319640"/>
            <a:ext cx="457200" cy="6858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229520" y="4319640"/>
            <a:ext cx="457200" cy="6858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915320" y="4319640"/>
            <a:ext cx="457200" cy="6858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65040" y="5878440"/>
            <a:ext cx="8016840" cy="551160"/>
            <a:chOff x="365040" y="5878440"/>
            <a:chExt cx="8016840" cy="551160"/>
          </a:xfrm>
        </p:grpSpPr>
        <p:sp>
          <p:nvSpPr>
            <p:cNvPr id="160" name=""/>
            <p:cNvSpPr/>
            <p:nvPr/>
          </p:nvSpPr>
          <p:spPr>
            <a:xfrm>
              <a:off x="365040" y="5919840"/>
              <a:ext cx="801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b1515"/>
                  </a:solidFill>
                  <a:latin typeface="Times New Roman"/>
                </a:rPr>
                <a:t>如果在罐头的标签上注有：“                       ”，则在所抽取的罐头中是否有不合格的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" name=""/>
                <p:cNvSpPr txBox="1"/>
                <p:nvPr/>
              </p:nvSpPr>
              <p:spPr>
                <a:xfrm>
                  <a:off x="4216320" y="5878440"/>
                  <a:ext cx="1879560" cy="55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质量：</m:t>
                      </m:r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500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sub>
                        <m:sup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</m:sup>
                      </m:sSubSup>
                      <m:r>
                        <m:t xml:space="preserve">g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2" name=""/>
          <p:cNvSpPr/>
          <p:nvPr/>
        </p:nvSpPr>
        <p:spPr>
          <a:xfrm>
            <a:off x="1422360" y="5234040"/>
            <a:ext cx="21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08160" y="523404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70280" y="5234040"/>
            <a:ext cx="15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56080" y="5234040"/>
            <a:ext cx="23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17840" y="5234040"/>
            <a:ext cx="15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95800" y="52340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765760" y="5234040"/>
            <a:ext cx="96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527880" y="5234040"/>
            <a:ext cx="9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289640" y="5234040"/>
            <a:ext cx="181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975440" y="5234040"/>
            <a:ext cx="13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29600" y="5943600"/>
            <a:ext cx="914400" cy="91440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3048120" y="41400"/>
            <a:ext cx="2895480" cy="645480"/>
            <a:chOff x="3048120" y="41400"/>
            <a:chExt cx="2895480" cy="645480"/>
          </a:xfrm>
        </p:grpSpPr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4137120" y="147600"/>
              <a:ext cx="5223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3346560" y="684360"/>
              <a:ext cx="2259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00400" y="46080"/>
              <a:ext cx="240516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276120"/>
              <a:ext cx="450720" cy="40320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0" y="0"/>
                  </a:moveTo>
                  <a:lnTo>
                    <a:pt x="0" y="192"/>
                  </a:lnTo>
                  <a:lnTo>
                    <a:pt x="192" y="192"/>
                  </a:lnTo>
                </a:path>
              </a:pathLst>
            </a:custGeom>
            <a:noFill/>
            <a:ln w="57240">
              <a:solidFill>
                <a:srgbClr val="cc6600"/>
              </a:solidFill>
              <a:round/>
              <a:tailEnd len="med" type="triangle" w="med"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048120" y="44280"/>
              <a:ext cx="289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应用   提高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48120" y="41400"/>
              <a:ext cx="338040" cy="30168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lnTo>
                    <a:pt x="0" y="0"/>
                  </a:lnTo>
                  <a:lnTo>
                    <a:pt x="0" y="144"/>
                  </a:lnTo>
                </a:path>
              </a:pathLst>
            </a:custGeom>
            <a:noFill/>
            <a:ln w="57240">
              <a:solidFill>
                <a:srgbClr val="cc6600"/>
              </a:solidFill>
              <a:round/>
              <a:tailEnd len="med" type="triangle" w="med"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452920" y="281160"/>
              <a:ext cx="338400" cy="40320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0" y="192"/>
                  </a:moveTo>
                  <a:lnTo>
                    <a:pt x="144" y="192"/>
                  </a:lnTo>
                  <a:lnTo>
                    <a:pt x="144" y="0"/>
                  </a:lnTo>
                </a:path>
              </a:pathLst>
            </a:custGeom>
            <a:noFill/>
            <a:ln w="57240">
              <a:solidFill>
                <a:srgbClr val="cc6600"/>
              </a:solidFill>
              <a:round/>
              <a:tailEnd len="med" type="triangle" w="med"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40240" y="46080"/>
              <a:ext cx="451080" cy="30168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144"/>
                  </a:moveTo>
                  <a:lnTo>
                    <a:pt x="192" y="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cc6600"/>
              </a:solidFill>
              <a:round/>
              <a:tailEnd len="med" type="triangle" w="med"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050840" y="1409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36640" y="2171880"/>
            <a:ext cx="1843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33520" y="1866960"/>
            <a:ext cx="18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15177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一周内，对一河流水位进行测量，记录如下（周日的水位变化与上周六比较，其后的每一天与前一天比较） 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685800" y="2463840"/>
          <a:ext cx="7848720" cy="1296720"/>
        </p:xfrm>
        <a:graphic>
          <a:graphicData uri="http://schemas.openxmlformats.org/drawingml/2006/table">
            <a:tbl>
              <a:tblPr/>
              <a:tblGrid>
                <a:gridCol w="1066680"/>
                <a:gridCol w="1067040"/>
                <a:gridCol w="1066680"/>
                <a:gridCol w="1295280"/>
                <a:gridCol w="1067040"/>
                <a:gridCol w="1143000"/>
                <a:gridCol w="1143000"/>
              </a:tblGrid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周  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周 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周 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周   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周 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周  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周  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f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上升</a:t>
                      </a:r>
                      <a:r>
                        <a:rPr b="1" lang="zh-CN" sz="2400" spc="-1" strike="noStrike">
                          <a:solidFill>
                            <a:srgbClr val="db1515"/>
                          </a:solidFill>
                          <a:latin typeface="Times New Roman"/>
                        </a:rPr>
                        <a:t>2c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8ee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上升</a:t>
                      </a:r>
                      <a:r>
                        <a:rPr b="1" lang="zh-CN" sz="2400" spc="-1" strike="noStrike">
                          <a:solidFill>
                            <a:srgbClr val="db1515"/>
                          </a:solidFill>
                          <a:latin typeface="Times New Roman"/>
                        </a:rPr>
                        <a:t>3c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8ee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上升</a:t>
                      </a:r>
                      <a:r>
                        <a:rPr b="1" lang="zh-CN" sz="2400" spc="-1" strike="noStrike">
                          <a:solidFill>
                            <a:srgbClr val="db1515"/>
                          </a:solidFill>
                          <a:latin typeface="Times New Roman"/>
                        </a:rPr>
                        <a:t>1c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8ee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上升</a:t>
                      </a:r>
                      <a:r>
                        <a:rPr b="1" lang="zh-CN" sz="2400" spc="-1" strike="noStrike">
                          <a:solidFill>
                            <a:srgbClr val="db1515"/>
                          </a:solidFill>
                          <a:latin typeface="Times New Roman"/>
                        </a:rPr>
                        <a:t>0.5c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8ee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下降</a:t>
                      </a:r>
                      <a:r>
                        <a:rPr b="1" lang="zh-CN" sz="2400" spc="-1" strike="noStrike">
                          <a:solidFill>
                            <a:srgbClr val="db1515"/>
                          </a:solidFill>
                          <a:latin typeface="Times New Roman"/>
                        </a:rPr>
                        <a:t>1c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8ee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下降</a:t>
                      </a:r>
                      <a:r>
                        <a:rPr b="1" lang="zh-CN" sz="2400" spc="-1" strike="noStrike">
                          <a:solidFill>
                            <a:srgbClr val="db1515"/>
                          </a:solidFill>
                          <a:latin typeface="Times New Roman"/>
                        </a:rPr>
                        <a:t>2c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8ee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上升</a:t>
                      </a:r>
                      <a:r>
                        <a:rPr b="1" lang="zh-CN" sz="2400" spc="-1" strike="noStrike">
                          <a:solidFill>
                            <a:srgbClr val="db1515"/>
                          </a:solidFill>
                          <a:latin typeface="Times New Roman"/>
                        </a:rPr>
                        <a:t>1c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8eef0"/>
                    </a:solidFill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617400" y="42210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果把上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c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记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2c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那么其余几天的水位变化应怎样记录？若上周六水位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0c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则这一周每一天的水位分别是多少？水位最高和最低分别是哪一天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8229600" y="5943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728640" y="3741840"/>
            <a:ext cx="11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1515"/>
                </a:solidFill>
                <a:latin typeface="Times New Roman"/>
              </a:rPr>
              <a:t>202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79480" y="3754440"/>
            <a:ext cx="11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1515"/>
                </a:solidFill>
                <a:latin typeface="Times New Roman"/>
              </a:rPr>
              <a:t>205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09800" y="37544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1515"/>
                </a:solidFill>
                <a:latin typeface="Times New Roman"/>
              </a:rPr>
              <a:t>206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35440" y="3763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1515"/>
                </a:solidFill>
                <a:latin typeface="Times New Roman"/>
              </a:rPr>
              <a:t>206.5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89680" y="37544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1515"/>
                </a:solidFill>
                <a:latin typeface="Times New Roman"/>
              </a:rPr>
              <a:t>205.5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92800" y="375444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1515"/>
                </a:solidFill>
                <a:latin typeface="Times New Roman"/>
              </a:rPr>
              <a:t>203.5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512120" y="3763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1515"/>
                </a:solidFill>
                <a:latin typeface="Times New Roman"/>
              </a:rPr>
              <a:t>204.5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3048120" y="41400"/>
            <a:ext cx="2895480" cy="645480"/>
            <a:chOff x="3048120" y="41400"/>
            <a:chExt cx="2895480" cy="645480"/>
          </a:xfrm>
        </p:grpSpPr>
        <p:pic>
          <p:nvPicPr>
            <p:cNvPr id="197" name="" descr=""/>
            <p:cNvPicPr/>
            <p:nvPr/>
          </p:nvPicPr>
          <p:blipFill>
            <a:blip r:embed="rId3"/>
            <a:stretch/>
          </p:blipFill>
          <p:spPr>
            <a:xfrm>
              <a:off x="4137120" y="147600"/>
              <a:ext cx="5223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3346560" y="684360"/>
              <a:ext cx="2259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00400" y="46080"/>
              <a:ext cx="240516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048120" y="276120"/>
              <a:ext cx="450720" cy="40320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0" y="0"/>
                  </a:moveTo>
                  <a:lnTo>
                    <a:pt x="0" y="192"/>
                  </a:lnTo>
                  <a:lnTo>
                    <a:pt x="192" y="192"/>
                  </a:lnTo>
                </a:path>
              </a:pathLst>
            </a:custGeom>
            <a:noFill/>
            <a:ln w="57240">
              <a:solidFill>
                <a:srgbClr val="cc6600"/>
              </a:solidFill>
              <a:round/>
              <a:tailEnd len="med" type="triangle" w="med"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48120" y="44280"/>
              <a:ext cx="289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应用   提高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48120" y="41400"/>
              <a:ext cx="338040" cy="30168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lnTo>
                    <a:pt x="0" y="0"/>
                  </a:lnTo>
                  <a:lnTo>
                    <a:pt x="0" y="144"/>
                  </a:lnTo>
                </a:path>
              </a:pathLst>
            </a:custGeom>
            <a:noFill/>
            <a:ln w="57240">
              <a:solidFill>
                <a:srgbClr val="cc6600"/>
              </a:solidFill>
              <a:round/>
              <a:tailEnd len="med" type="triangle" w="med"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52920" y="281160"/>
              <a:ext cx="338400" cy="40320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0" y="192"/>
                  </a:moveTo>
                  <a:lnTo>
                    <a:pt x="144" y="192"/>
                  </a:lnTo>
                  <a:lnTo>
                    <a:pt x="144" y="0"/>
                  </a:lnTo>
                </a:path>
              </a:pathLst>
            </a:custGeom>
            <a:noFill/>
            <a:ln w="57240">
              <a:solidFill>
                <a:srgbClr val="cc6600"/>
              </a:solidFill>
              <a:round/>
              <a:tailEnd len="med" type="triangle" w="med"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40240" y="46080"/>
              <a:ext cx="451080" cy="30168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144"/>
                  </a:moveTo>
                  <a:lnTo>
                    <a:pt x="192" y="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cc6600"/>
              </a:solidFill>
              <a:round/>
              <a:tailEnd len="med" type="triangle" w="med"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4920" y="1519200"/>
            <a:ext cx="910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收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记作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，那么支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记作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海面上的高度为正，海面下的高度为负，那么海面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8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记作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，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9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的意义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若下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记作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，那么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表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不升不降记作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表是某周周一至周五每日某一股票的涨跌情况（单位：元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则该股票上涨的是星期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下跌的是星期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203640" y="189000"/>
            <a:ext cx="2808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4428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华文彩云"/>
              </a:rPr>
              <a:t>随堂练习</a:t>
            </a:r>
            <a:endParaRPr b="0" lang="en-US" sz="2400" spc="1" strike="noStrike">
              <a:ln w="4428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华文彩云"/>
              <a:ea typeface="华文彩云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971640" y="4235400"/>
          <a:ext cx="6913440" cy="1073160"/>
        </p:xfrm>
        <a:graphic>
          <a:graphicData uri="http://schemas.openxmlformats.org/drawingml/2006/table">
            <a:tbl>
              <a:tblPr/>
              <a:tblGrid>
                <a:gridCol w="941400"/>
                <a:gridCol w="1101600"/>
                <a:gridCol w="1309680"/>
                <a:gridCol w="1149480"/>
                <a:gridCol w="1311120"/>
                <a:gridCol w="1100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涨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＋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＋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－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＋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－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-228600" y="1295280"/>
            <a:ext cx="9372600" cy="16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摩托车厂本周计划每天生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辆摩托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于工人实行轮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天上班的人数不一定相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实际每天生产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计划量相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增长值如下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447920" y="2209680"/>
          <a:ext cx="7208640" cy="1636560"/>
        </p:xfrm>
        <a:graphic>
          <a:graphicData uri="http://schemas.openxmlformats.org/drawingml/2006/table">
            <a:tbl>
              <a:tblPr/>
              <a:tblGrid>
                <a:gridCol w="901440"/>
                <a:gridCol w="900000"/>
                <a:gridCol w="901800"/>
                <a:gridCol w="901800"/>
                <a:gridCol w="900000"/>
                <a:gridCol w="901800"/>
                <a:gridCol w="900000"/>
                <a:gridCol w="901800"/>
              </a:tblGrid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增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380880" y="373392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根据上面的记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哪几天生产的摩托车比计划量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星期几生产的摩托车最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多少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星期几生产的摩托车最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多少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6934320" y="380880"/>
            <a:ext cx="1925640" cy="8542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352680" y="304920"/>
            <a:ext cx="2880000" cy="7189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73ff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探究活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502920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正、负数表示的基准通常为“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0”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，但并不是所有的基准都必须为“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0”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，比如上例中就是以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250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为基准量，高于它的部分记为正，低于它的部分记为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352680" y="304920"/>
            <a:ext cx="2880000" cy="7189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73ff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作    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" action="ppaction://hlinkshowjump?jump=firstslide"/>
          </p:cNvPr>
          <p:cNvSpPr/>
          <p:nvPr/>
        </p:nvSpPr>
        <p:spPr>
          <a:xfrm>
            <a:off x="6934320" y="6497640"/>
            <a:ext cx="71892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13500000"/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be"/>
                </a:solidFill>
                <a:latin typeface="Times New Roman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previousslide"/>
          </p:cNvPr>
          <p:cNvSpPr/>
          <p:nvPr/>
        </p:nvSpPr>
        <p:spPr>
          <a:xfrm>
            <a:off x="7677000" y="6499080"/>
            <a:ext cx="719280" cy="35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13500000"/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be"/>
                </a:solidFill>
                <a:latin typeface="Times New Roman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8415360" y="6499080"/>
            <a:ext cx="719280" cy="35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13500000"/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be"/>
                </a:solidFill>
                <a:latin typeface="Times New Roman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2560" y="60948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课本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P5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预习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节《有理数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4876920"/>
            <a:ext cx="693396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二课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172360" y="189000"/>
            <a:ext cx="647640" cy="431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3505320" y="2286000"/>
            <a:ext cx="5257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1.1</a:t>
            </a: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正数与负数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657600" y="5074560"/>
            <a:ext cx="175248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00000" y="1844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一个数不是正数就是负数，对吗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59280" y="260280"/>
            <a:ext cx="2879640" cy="7192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73ff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思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1497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  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0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既不是正数也不是负数。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0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是正负数的分界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76720" y="304920"/>
            <a:ext cx="2879640" cy="71892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知识回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920" y="2060640"/>
            <a:ext cx="853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如果收入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2000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元，记为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+2000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元，那么支出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5000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元，记为</a:t>
            </a:r>
            <a:r>
              <a:rPr b="1" lang="zh-CN" sz="3600" spc="-1" strike="noStrike" u="sng">
                <a:solidFill>
                  <a:srgbClr val="cc3300"/>
                </a:solidFill>
                <a:uFillTx/>
                <a:latin typeface="Times New Roman"/>
              </a:rPr>
              <a:t>　　　　　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2.“</a:t>
            </a: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如果一个数不是正数，那么它就是负数”这个说法对吗？为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391520" y="4114800"/>
            <a:ext cx="1752480" cy="2362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619280" y="126828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思考 并回答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4869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3.</a:t>
            </a: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海拔</a:t>
            </a: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+300</a:t>
            </a: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米表示高于海平面</a:t>
            </a: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300</a:t>
            </a: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米，则海拔</a:t>
            </a: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-600</a:t>
            </a: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米表示</a:t>
            </a:r>
            <a:r>
              <a:rPr b="1" lang="zh-CN" sz="3600" spc="-1" strike="noStrike" u="sng">
                <a:solidFill>
                  <a:srgbClr val="cc3300"/>
                </a:solidFill>
                <a:uFillTx/>
                <a:latin typeface="宋体"/>
              </a:rPr>
              <a:t>　　　　　　　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-1066680" y="3657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4360" y="14130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5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你认为负数的引入有什么作用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270828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6.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向东走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200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米，记为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+200,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那么向西走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200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米，记为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宋体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；向东走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-200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米实际表示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宋体"/>
              </a:rPr>
              <a:t>　　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42920" y="1989000"/>
            <a:ext cx="724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可以表示具有相反意义的量了</a:t>
            </a:r>
            <a:r>
              <a:rPr b="1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44370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宋体"/>
              </a:rPr>
              <a:t>说明：这是一个用正负数描述向指定方向变化情况的例子， 通常向指定方向变化用正数表示；向指定方向的相反方向变化用负数表示。即负数表示向指定方向的相反方向变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304920"/>
            <a:ext cx="2879640" cy="71892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知识回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例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：一个月内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小明体重增加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2kg,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小华体重减少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1kg,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小强体重无变化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写出他们这个月的体重增长值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059280" y="260280"/>
            <a:ext cx="2895480" cy="645480"/>
            <a:chOff x="3059280" y="260280"/>
            <a:chExt cx="2895480" cy="645480"/>
          </a:xfrm>
        </p:grpSpPr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4148280" y="366480"/>
              <a:ext cx="5223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357720" y="903240"/>
              <a:ext cx="2259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11560" y="264960"/>
              <a:ext cx="240516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59280" y="495000"/>
              <a:ext cx="450720" cy="40320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0" y="0"/>
                  </a:moveTo>
                  <a:lnTo>
                    <a:pt x="0" y="192"/>
                  </a:lnTo>
                  <a:lnTo>
                    <a:pt x="192" y="192"/>
                  </a:lnTo>
                </a:path>
              </a:pathLst>
            </a:custGeom>
            <a:noFill/>
            <a:ln w="57240">
              <a:solidFill>
                <a:srgbClr val="cc6600"/>
              </a:solidFill>
              <a:round/>
              <a:tailEnd len="med" type="triangle" w="med"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059280" y="263160"/>
              <a:ext cx="289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探索   思考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59280" y="260280"/>
              <a:ext cx="338040" cy="30168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lnTo>
                    <a:pt x="0" y="0"/>
                  </a:lnTo>
                  <a:lnTo>
                    <a:pt x="0" y="144"/>
                  </a:lnTo>
                </a:path>
              </a:pathLst>
            </a:custGeom>
            <a:noFill/>
            <a:ln w="57240">
              <a:solidFill>
                <a:srgbClr val="cc6600"/>
              </a:solidFill>
              <a:round/>
              <a:tailEnd len="med" type="triangle" w="med"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464080" y="500040"/>
              <a:ext cx="338400" cy="40320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0" y="192"/>
                  </a:moveTo>
                  <a:lnTo>
                    <a:pt x="144" y="192"/>
                  </a:lnTo>
                  <a:lnTo>
                    <a:pt x="144" y="0"/>
                  </a:lnTo>
                </a:path>
              </a:pathLst>
            </a:custGeom>
            <a:noFill/>
            <a:ln w="57240">
              <a:solidFill>
                <a:srgbClr val="cc6600"/>
              </a:solidFill>
              <a:round/>
              <a:tailEnd len="med" type="triangle" w="med"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351400" y="264960"/>
              <a:ext cx="451080" cy="30168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144"/>
                  </a:moveTo>
                  <a:lnTo>
                    <a:pt x="192" y="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cc6600"/>
              </a:solidFill>
              <a:round/>
              <a:tailEnd len="med" type="triangle" w="med"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257800" y="3308400"/>
            <a:ext cx="3886200" cy="3549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3645000"/>
            <a:ext cx="57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个月小明体重增长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2k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42920" y="4437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华体重增长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kg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16000" y="530064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强体重增长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0k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8720" y="1125360"/>
            <a:ext cx="86756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2001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年下列国家的商品进出口总额比上一年的变化情况是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美国减少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6.4%,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德国增长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1.3%,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　                法国减少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2.4%,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英国减少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3.5%,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　                意大利增长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0.2%,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中国增长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7.5%.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写出这些国家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2001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年商品进出口总额的增长率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中国港口"/>
          <p:cNvPicPr/>
          <p:nvPr/>
        </p:nvPicPr>
        <p:blipFill>
          <a:blip r:embed="rId2"/>
          <a:stretch/>
        </p:blipFill>
        <p:spPr>
          <a:xfrm>
            <a:off x="5724360" y="5300640"/>
            <a:ext cx="3419640" cy="155736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3059280" y="260280"/>
            <a:ext cx="2895480" cy="645480"/>
            <a:chOff x="3059280" y="260280"/>
            <a:chExt cx="2895480" cy="645480"/>
          </a:xfrm>
        </p:grpSpPr>
        <p:pic>
          <p:nvPicPr>
            <p:cNvPr id="85" name="" descr=""/>
            <p:cNvPicPr/>
            <p:nvPr/>
          </p:nvPicPr>
          <p:blipFill>
            <a:blip r:embed="rId3"/>
            <a:stretch/>
          </p:blipFill>
          <p:spPr>
            <a:xfrm>
              <a:off x="4148280" y="366480"/>
              <a:ext cx="5223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3357720" y="903240"/>
              <a:ext cx="2259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11560" y="264960"/>
              <a:ext cx="240516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59280" y="495000"/>
              <a:ext cx="450720" cy="40320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0" y="0"/>
                  </a:moveTo>
                  <a:lnTo>
                    <a:pt x="0" y="192"/>
                  </a:lnTo>
                  <a:lnTo>
                    <a:pt x="192" y="192"/>
                  </a:lnTo>
                </a:path>
              </a:pathLst>
            </a:custGeom>
            <a:noFill/>
            <a:ln w="57240">
              <a:solidFill>
                <a:srgbClr val="cc6600"/>
              </a:solidFill>
              <a:round/>
              <a:tailEnd len="med" type="triangle" w="med"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059280" y="263160"/>
              <a:ext cx="289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探索   思考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59280" y="260280"/>
              <a:ext cx="338040" cy="30168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lnTo>
                    <a:pt x="0" y="0"/>
                  </a:lnTo>
                  <a:lnTo>
                    <a:pt x="0" y="144"/>
                  </a:lnTo>
                </a:path>
              </a:pathLst>
            </a:custGeom>
            <a:noFill/>
            <a:ln w="57240">
              <a:solidFill>
                <a:srgbClr val="cc6600"/>
              </a:solidFill>
              <a:round/>
              <a:tailEnd len="med" type="triangle" w="med"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464080" y="500040"/>
              <a:ext cx="338400" cy="40320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0" y="192"/>
                  </a:moveTo>
                  <a:lnTo>
                    <a:pt x="144" y="192"/>
                  </a:lnTo>
                  <a:lnTo>
                    <a:pt x="144" y="0"/>
                  </a:lnTo>
                </a:path>
              </a:pathLst>
            </a:custGeom>
            <a:noFill/>
            <a:ln w="57240">
              <a:solidFill>
                <a:srgbClr val="cc6600"/>
              </a:solidFill>
              <a:round/>
              <a:tailEnd len="med" type="triangle" w="med"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351400" y="264960"/>
              <a:ext cx="451080" cy="30168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144"/>
                  </a:moveTo>
                  <a:lnTo>
                    <a:pt x="192" y="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cc6600"/>
              </a:solidFill>
              <a:round/>
              <a:tailEnd len="med" type="triangle" w="med"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0" y="3357720"/>
            <a:ext cx="83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：六个国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商品进出口额的增长率 ：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393372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美国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－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6.4%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98920" y="4005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德国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1.3%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5640" y="464976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法国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－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2.4%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98920" y="4654440"/>
            <a:ext cx="45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英国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－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3.5%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522936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意大利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＋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0.2%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27280" y="522936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国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＋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7.5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laptop"/>
          <p:cNvSpPr/>
          <p:nvPr/>
        </p:nvSpPr>
        <p:spPr>
          <a:xfrm>
            <a:off x="252360" y="836640"/>
            <a:ext cx="7632720" cy="5472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76360" y="1125360"/>
            <a:ext cx="5257800" cy="2664000"/>
          </a:xfrm>
          <a:prstGeom prst="cloudCallout">
            <a:avLst>
              <a:gd name="adj1" fmla="val -32337"/>
              <a:gd name="adj2" fmla="val 53217"/>
            </a:avLst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负”与“正”相对，增长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就是减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增长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％，是什么意思？什么情况下增长率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98920" y="1341360"/>
            <a:ext cx="3745080" cy="1366920"/>
          </a:xfrm>
          <a:prstGeom prst="cloudCallout">
            <a:avLst>
              <a:gd name="adj1" fmla="val -49532"/>
              <a:gd name="adj2" fmla="val 30486"/>
            </a:avLst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增长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6.4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％，就是减少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6.4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56360" y="2852640"/>
            <a:ext cx="3456000" cy="2448000"/>
          </a:xfrm>
          <a:prstGeom prst="cloudCallout">
            <a:avLst>
              <a:gd name="adj1" fmla="val -60518"/>
              <a:gd name="adj2" fmla="val -46694"/>
            </a:avLst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既没有增加又没有减少的情况下增长率为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800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134136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引入负数以后，“增长”就有了普遍的含义：如果增长量为正数，那么就是我们以前所说的真正的增长，如果增长为负数，这就是我们以前所说的减少，但可以理解为负增长。所以，以后遇到增长时，其增长量可正也可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627280" y="476280"/>
            <a:ext cx="4103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本题小结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346720"/>
            <a:ext cx="9144000" cy="1511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在同一个问题中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别用正数与负数表示的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具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_____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意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6018120"/>
            <a:ext cx="28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相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5T07:22:25Z</dcterms:created>
  <dc:creator>番茄花园</dc:creator>
  <dc:description/>
  <dc:language>en-US</dc:language>
  <cp:lastModifiedBy>微软用户</cp:lastModifiedBy>
  <dcterms:modified xsi:type="dcterms:W3CDTF">2011-09-15T08:17:42Z</dcterms:modified>
  <cp:revision>24</cp:revision>
  <dc:subject/>
  <dc:title>PowerPoint 演示文稿</dc:title>
</cp:coreProperties>
</file>