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wmf" ContentType="image/x-wmf"/>
  <Override PartName="/ppt/media/image7.jpeg" ContentType="image/jpeg"/>
  <Override PartName="/ppt/media/image16.jpeg" ContentType="image/jpeg"/>
  <Override PartName="/ppt/media/image15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8999538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000" y="272880"/>
            <a:ext cx="8099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000" y="160056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0000" y="367272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0000" y="272880"/>
            <a:ext cx="8099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0000" y="160056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0440" y="160056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0000" y="367272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00440" y="367272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000" y="272880"/>
            <a:ext cx="8099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0000" y="160056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88520" y="160056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27400" y="160056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000" y="367272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188520" y="367272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927400" y="367272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0000" y="272880"/>
            <a:ext cx="8099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0000" y="1600560"/>
            <a:ext cx="8099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0000" y="272880"/>
            <a:ext cx="8099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0000" y="1600560"/>
            <a:ext cx="8099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000" y="272880"/>
            <a:ext cx="8099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0000" y="1600560"/>
            <a:ext cx="39524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00440" y="1600560"/>
            <a:ext cx="39524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0000" y="272880"/>
            <a:ext cx="8099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0000" y="272880"/>
            <a:ext cx="80996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0000" y="272880"/>
            <a:ext cx="8099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0000" y="160056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0440" y="1600560"/>
            <a:ext cx="39524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0000" y="367272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000" y="272880"/>
            <a:ext cx="8099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000" y="1600560"/>
            <a:ext cx="39524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440" y="160056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00440" y="367272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000" y="272880"/>
            <a:ext cx="8099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000" y="160056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440" y="160056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0000" y="367272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1080" cy="683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1092600" y="2997360"/>
            <a:ext cx="15544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6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方正宋黑简体"/>
                <a:ea typeface="方正宋黑简体"/>
              </a:rPr>
              <a:t>第 </a:t>
            </a:r>
            <a:r>
              <a:rPr b="1" lang="en-US" sz="3000" spc="-1" strike="noStrike">
                <a:solidFill>
                  <a:srgbClr val="ff00ff"/>
                </a:solidFill>
                <a:latin typeface="方正宋黑简体"/>
                <a:ea typeface="方正宋黑简体"/>
              </a:rPr>
              <a:t>3 </a:t>
            </a:r>
            <a:r>
              <a:rPr b="1" lang="zh-CN" sz="3000" spc="-1" strike="noStrike">
                <a:solidFill>
                  <a:srgbClr val="ff00ff"/>
                </a:solidFill>
                <a:latin typeface="方正宋黑简体"/>
                <a:ea typeface="方正宋黑简体"/>
              </a:rPr>
              <a:t>课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4625280" y="2987640"/>
            <a:ext cx="19504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6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方正宋黑简体"/>
                <a:ea typeface="方正宋黑简体"/>
              </a:rPr>
              <a:t>一次函数与二元一次方程 </a:t>
            </a:r>
            <a:r>
              <a:rPr b="1" lang="en-US" sz="3000" spc="-1" strike="noStrike">
                <a:solidFill>
                  <a:srgbClr val="ff00ff"/>
                </a:solidFill>
                <a:latin typeface="方正宋黑简体"/>
                <a:ea typeface="方正宋黑简体"/>
              </a:rPr>
              <a:t>(</a:t>
            </a:r>
            <a:r>
              <a:rPr b="1" lang="zh-CN" sz="3000" spc="-1" strike="noStrike">
                <a:solidFill>
                  <a:srgbClr val="ff00ff"/>
                </a:solidFill>
                <a:latin typeface="方正宋黑简体"/>
                <a:ea typeface="方正宋黑简体"/>
              </a:rPr>
              <a:t>组</a:t>
            </a:r>
            <a:r>
              <a:rPr b="1" lang="en-US" sz="3000" spc="-1" strike="noStrike">
                <a:solidFill>
                  <a:srgbClr val="ff00ff"/>
                </a:solidFill>
                <a:latin typeface="方正宋黑简体"/>
                <a:ea typeface="方正宋黑简体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962680" y="1474920"/>
            <a:ext cx="2857320" cy="1587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622600" y="682560"/>
            <a:ext cx="3868560" cy="23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48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．某单位准备和一个个体车主或一国有出租车公司其中的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家签订月租车合同．设汽车每月行驶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千米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73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应付给个体车主的月费用是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元，应付给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87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有出租车公司的月费用是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元，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分别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73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之间的函数关系图象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两条射线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如图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64680" y="3360600"/>
            <a:ext cx="17611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观察图象回答下列问题：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56720" y="3203640"/>
            <a:ext cx="4485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63560" y="3889440"/>
            <a:ext cx="5707080" cy="23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48"/>
              </a:lnSpc>
              <a:tabLst>
                <a:tab algn="l" pos="0"/>
                <a:tab algn="l" pos="53352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每月行驶的路程在什么范围内时，租国有公司的车合算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3352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37"/>
              </a:lnSpc>
              <a:tabLst>
                <a:tab algn="l" pos="0"/>
                <a:tab algn="l" pos="53352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每月行驶的路程等于多少时，租两家车的费用相同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3352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73"/>
              </a:lnSpc>
              <a:tabLst>
                <a:tab algn="l" pos="0"/>
                <a:tab algn="l" pos="53352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(1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每月行驶的路程少于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1 500 km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时，租国有公司的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3352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62"/>
              </a:lnSpc>
              <a:tabLst>
                <a:tab algn="l" pos="0"/>
                <a:tab algn="l" pos="53352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合算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3352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53352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每月行驶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1 500 km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时，租两家车的费用相同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673200" y="71136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2894040" y="3670200"/>
            <a:ext cx="2541600" cy="255744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1366560" y="1420920"/>
            <a:ext cx="6248520" cy="12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48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．一次函数与二元一次方程</a:t>
            </a:r>
            <a:r>
              <a:rPr b="0" lang="en-US" sz="21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(</a:t>
            </a:r>
            <a:r>
              <a:rPr b="0" lang="zh-CN" sz="21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组</a:t>
            </a:r>
            <a:r>
              <a:rPr b="0" lang="en-US" sz="21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)</a:t>
            </a:r>
            <a:r>
              <a:rPr b="0" lang="zh-CN" sz="21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的关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73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探究：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如图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，在同一平面直角坐标系中作出一次函数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62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的图象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，设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，则两条直线的交点坐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34920" y="2981160"/>
            <a:ext cx="2295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标为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．方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程组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28520" y="6215040"/>
            <a:ext cx="4485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2040" y="2771640"/>
          <a:ext cx="7618320" cy="906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02040" y="2771640"/>
                    <a:ext cx="761832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6465240" y="2771640"/>
            <a:ext cx="3754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11680" y="3132000"/>
            <a:ext cx="1407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25240" y="2911320"/>
            <a:ext cx="8388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,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39440" y="1293840"/>
            <a:ext cx="563004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归纳：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一般地，每个二元一次方程组都对应两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24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于是也对应两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从“数”的角度看，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87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方程组相当于考虑自变量为何值时两个函数的值相等，以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及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4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个函数值是何值；从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形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的角度看，解方程组相当于确定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04760" y="3608280"/>
            <a:ext cx="21495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条直线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坐标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76520" y="4289400"/>
            <a:ext cx="37558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．活用方程组，解决函数问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87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二元一次方程组和一次函数的关系相当密切，灵活应用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4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们“数”和“形”的亲密合作关系，有助于我们解题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88800" y="1836720"/>
            <a:ext cx="279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次函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11960" y="1836720"/>
            <a:ext cx="3358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直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16200" y="3606840"/>
            <a:ext cx="3358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交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3200" y="711360"/>
            <a:ext cx="3009960" cy="67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476360" y="1643040"/>
            <a:ext cx="1440000" cy="407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111480" y="4076640"/>
            <a:ext cx="2755800" cy="1612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46440" y="1711440"/>
            <a:ext cx="6279840" cy="8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一次函数与二元一次方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的关系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重点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5"/>
              </a:lnSpc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例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如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已知函数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图象交于点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46680" y="2860560"/>
            <a:ext cx="2742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则根据图象可得，关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二元一次方程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3720" y="2860560"/>
            <a:ext cx="5036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解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4160" y="3629160"/>
            <a:ext cx="394416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3568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68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68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68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68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68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68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68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68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68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68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68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68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68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68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85"/>
              </a:lnSpc>
              <a:tabLst>
                <a:tab algn="l" pos="0"/>
                <a:tab algn="l" pos="3568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038400"/>
            <a:ext cx="8999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357960" y="2670120"/>
            <a:ext cx="11048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86240" y="1390680"/>
            <a:ext cx="248904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黑体"/>
              </a:rPr>
              <a:t>思路导引：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根据一次函数与二元一次方程组的关系解答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解析：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依据所给一次函数图象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可知交点为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即为对应二元一次方程组的解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26120" y="4308480"/>
            <a:ext cx="385632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黑体"/>
              </a:rPr>
              <a:t>【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黑体"/>
              </a:rPr>
              <a:t>规律总结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黑体"/>
              </a:rPr>
              <a:t>】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利用一次函数图象解二元一次方程组，相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5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于已知两条直线相交，确定交点的横坐标与纵坐标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2560" y="3186000"/>
            <a:ext cx="76183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11280" y="1009800"/>
            <a:ext cx="1231920" cy="393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183360" y="1730520"/>
            <a:ext cx="2565360" cy="1879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352880" y="1108080"/>
            <a:ext cx="503496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558720"/>
                <a:tab algn="l" pos="3022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活用方程组，解决函数问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3022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3022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tabLst>
                <a:tab algn="l" pos="0"/>
                <a:tab algn="l" pos="558720"/>
                <a:tab algn="l" pos="3022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例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小东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A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地出发以某一速度向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3022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74"/>
              </a:lnSpc>
              <a:tabLst>
                <a:tab algn="l" pos="0"/>
                <a:tab algn="l" pos="558720"/>
                <a:tab algn="l" pos="3022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地走去，同时小明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地出发以另一速度向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3022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63"/>
              </a:lnSpc>
              <a:tabLst>
                <a:tab algn="l" pos="0"/>
                <a:tab algn="l" pos="558720"/>
                <a:tab algn="l" pos="3022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地而行，如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图中的线段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分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3022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74"/>
              </a:lnSpc>
              <a:tabLst>
                <a:tab algn="l" pos="0"/>
                <a:tab algn="l" pos="558720"/>
                <a:tab algn="l" pos="3022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表示小东、小明离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地的距离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千米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与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12960" y="3819600"/>
            <a:ext cx="3754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86520" y="3819600"/>
            <a:ext cx="441792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用时间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小时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关系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63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试用文字说明：交点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所表示的实际意义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74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试求出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两地之间的距离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87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思路导引：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结合图象，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寻找等量关系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83920" y="1305000"/>
            <a:ext cx="6112080" cy="21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黑体"/>
              </a:rPr>
              <a:t>解：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结合一次函数图象的意义，可以知道交点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P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所表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49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的实际意义是：经过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.5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小时后，小东与小明在距离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地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7.5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4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米处相遇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25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设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又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经过点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2.5,7.5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和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4,0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62320" y="4776840"/>
            <a:ext cx="4085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∴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0.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当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时，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故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两地之间的距离为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0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千米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1280" y="3789360"/>
            <a:ext cx="761832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73200" y="1357200"/>
            <a:ext cx="1778040" cy="444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79880" y="2058840"/>
            <a:ext cx="48384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已知二元一次方程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有一组公共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7280" y="2655720"/>
            <a:ext cx="6955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0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8200" y="2811600"/>
            <a:ext cx="4631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那么一次函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图象的交点坐标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1840" y="3713040"/>
            <a:ext cx="936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1280" y="3713040"/>
            <a:ext cx="936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9720" y="3735360"/>
            <a:ext cx="1864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15000" y="4232160"/>
            <a:ext cx="13262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,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,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44920" y="4232160"/>
            <a:ext cx="13417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2,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,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670120"/>
            <a:ext cx="69840" cy="649440"/>
          </a:xfrm>
          <a:custGeom>
            <a:avLst/>
            <a:gdLst>
              <a:gd name="textAreaLeft" fmla="*/ 44640 w 69840"/>
              <a:gd name="textAreaRight" fmla="*/ 69840 w 6984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159600" y="698400"/>
            <a:ext cx="1981080" cy="1575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029680" y="760320"/>
            <a:ext cx="2754000" cy="13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小亮用作图象的方法解二元一次方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组时，在同一直角坐标系内作出了相应的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个一次函数的图象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如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他解的这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70120" y="2387520"/>
            <a:ext cx="8312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方程组是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47280" y="2435400"/>
            <a:ext cx="936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23280" y="2425680"/>
            <a:ext cx="2019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40800" y="2387520"/>
            <a:ext cx="4485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07120" y="5176800"/>
            <a:ext cx="558216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黑体"/>
              </a:rPr>
              <a:t>点拨：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由图象知，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的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的系数都应为负数，排除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74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又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的交点为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2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代入验证可知只有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D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符合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25400" y="2900520"/>
            <a:ext cx="76186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8:15:15Z</dcterms:created>
  <dc:creator> </dc:creator>
  <dc:description/>
  <cp:keywords/>
  <dc:language>en-US</dc:language>
  <cp:lastModifiedBy>微软用户</cp:lastModifiedBy>
  <cp:lastPrinted>1899-12-30T00:00:00Z</cp:lastPrinted>
  <dcterms:modified xsi:type="dcterms:W3CDTF">2011-08-07T08:49:38Z</dcterms:modified>
  <cp:revision>1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