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C5F5-A3CD-4C06-989D-300AD80C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585-3379-45D1-8451-8DC55F80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762-F6E4-421E-AAB1-2B980D3B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77D-0BF8-40AC-AECE-D9E941B0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F45-3C48-4A53-A3C4-87D4195A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DCC-4D09-44EF-B3D0-7A732805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03B-D67B-4B14-B405-550D983F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B629-794F-4AF1-A3A3-043A07D9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CDD-EAE2-4AD1-A76B-E24206AB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0C9-840F-455C-8A5D-DDA10BD5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2CD-676C-4AAD-8BD1-18B50842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CD5-21B9-4391-BD74-45A511D7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6687-392F-4384-A6BD-077444FE0D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280" y="2984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八年级  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14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1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与三角形有关的线段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课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E:\李燃\教师教学用书\人民教育电子音像出版社 社标字.png"/>
          <p:cNvPicPr/>
          <p:nvPr/>
        </p:nvPicPr>
        <p:blipFill>
          <a:blip r:embed="rId2"/>
          <a:stretch/>
        </p:blipFill>
        <p:spPr>
          <a:xfrm>
            <a:off x="6732720" y="6237360"/>
            <a:ext cx="2173320" cy="47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1"/>
          <p:cNvSpPr/>
          <p:nvPr/>
        </p:nvSpPr>
        <p:spPr>
          <a:xfrm>
            <a:off x="230040" y="4051440"/>
            <a:ext cx="61214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+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AC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＞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　  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AC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+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BC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＞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　  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+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BC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＞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　  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即三角形两边的和大于第三边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5" name="矩形 6"/>
          <p:cNvSpPr/>
          <p:nvPr/>
        </p:nvSpPr>
        <p:spPr>
          <a:xfrm>
            <a:off x="237960" y="642960"/>
            <a:ext cx="563580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探索与证明三角形三边的关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30040" y="1641600"/>
            <a:ext cx="896472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任意画一个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一只小虫从点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发，沿三角形的边爬到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它有几条路线可以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择？各条线路的长一样吗？你能运用所学知识解释你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果吗？你能由此推出三条边之间有怎样的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118840" y="3678120"/>
            <a:ext cx="3794400" cy="2844360"/>
            <a:chOff x="5118840" y="3678120"/>
            <a:chExt cx="3794400" cy="28443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5465880" y="4068360"/>
              <a:ext cx="3114720" cy="22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118840" y="60019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96360" y="5989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76040" y="36781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373040" y="3741840"/>
            <a:ext cx="63612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角形两边的差小于第三边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4" name="矩形 6"/>
          <p:cNvSpPr/>
          <p:nvPr/>
        </p:nvSpPr>
        <p:spPr>
          <a:xfrm>
            <a:off x="237960" y="642960"/>
            <a:ext cx="563580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探索与证明三角形三边的关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54080" y="1568520"/>
            <a:ext cx="8964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追问　由不等式②③移项可得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由此你能得出什么结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-520560" y="2952720"/>
            <a:ext cx="99565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能．因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符合三角形两边的和大于第三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不能．因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符合三角形两边的和大于第三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能．因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符合三角形两边的和大于第三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8" name="矩形 6"/>
          <p:cNvSpPr/>
          <p:nvPr/>
        </p:nvSpPr>
        <p:spPr>
          <a:xfrm>
            <a:off x="237960" y="642960"/>
            <a:ext cx="803592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巩固并运用“三角形两边的和大于第三边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200" y="1593720"/>
            <a:ext cx="9115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下列长度的三条线段能否组成三角形？为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么？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1" name="矩形 6"/>
          <p:cNvSpPr/>
          <p:nvPr/>
        </p:nvSpPr>
        <p:spPr>
          <a:xfrm>
            <a:off x="237960" y="642960"/>
            <a:ext cx="803592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巩固并运用“三角形两边的和大于第三边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4720" y="3549600"/>
            <a:ext cx="53715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 用较小两条线段的和与第三条线段做比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　若较小两条线段的和大于第三条线段，就能保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任意两条线段的和大于第三条线段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1619280"/>
            <a:ext cx="8893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追问　解决这类问题我们通常用哪两条线段的和与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条线段做比较就可以了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43080" y="3470400"/>
            <a:ext cx="9144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底边长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腰长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得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6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，三边长分别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2 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6" name="矩形 6"/>
          <p:cNvSpPr/>
          <p:nvPr/>
        </p:nvSpPr>
        <p:spPr>
          <a:xfrm>
            <a:off x="237960" y="642960"/>
            <a:ext cx="803592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巩固并运用“三角形两边的和大于第三边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7960" y="1603440"/>
            <a:ext cx="88934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用一条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细绳围成一个等腰三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形．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果腰长是底边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倍，那么各边的长是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9" name="矩形 6"/>
          <p:cNvSpPr/>
          <p:nvPr/>
        </p:nvSpPr>
        <p:spPr>
          <a:xfrm>
            <a:off x="237960" y="642960"/>
            <a:ext cx="803592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巩固并运用“三角形两边的和大于第三边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200" y="1603440"/>
            <a:ext cx="91821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用一条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细绳围成一个等腰三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形．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能围成有一边的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等腰三角形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43080" y="3470400"/>
            <a:ext cx="9144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的边为底边，设腰长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 解得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的边为腰，设底边长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8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得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3" name="矩形 6"/>
          <p:cNvSpPr/>
          <p:nvPr/>
        </p:nvSpPr>
        <p:spPr>
          <a:xfrm>
            <a:off x="237960" y="642960"/>
            <a:ext cx="803592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巩固并运用“三角形两边的和大于第三边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200" y="1603440"/>
            <a:ext cx="91821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用一条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细绳围成一个等腰三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形．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能围成有一边的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等腰三角形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43080" y="3470400"/>
            <a:ext cx="9144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符合三角形两边的和大于第三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不能围成腰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等腰三角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以上讨论可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围成底边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等腰三角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7" name="矩形 6"/>
          <p:cNvSpPr/>
          <p:nvPr/>
        </p:nvSpPr>
        <p:spPr>
          <a:xfrm>
            <a:off x="237960" y="642960"/>
            <a:ext cx="195264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堂小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6200" y="2428920"/>
            <a:ext cx="87678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本节课学习了哪些知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三角形按角怎样分类？按边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三角形的边具有怎样的性质？是怎样得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0" name="矩形 6"/>
          <p:cNvSpPr/>
          <p:nvPr/>
        </p:nvSpPr>
        <p:spPr>
          <a:xfrm>
            <a:off x="237960" y="642960"/>
            <a:ext cx="195264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布置作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4120" y="2743200"/>
            <a:ext cx="46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科书习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题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250920" y="63972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件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内容占位符 2"/>
          <p:cNvSpPr/>
          <p:nvPr/>
        </p:nvSpPr>
        <p:spPr>
          <a:xfrm>
            <a:off x="387360" y="2084400"/>
            <a:ext cx="852804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学生小学阶段对三角形简单认识的基础上，本节课进一步学习三角形及其有关概念，三角形的分类以及三角形的三边的关系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279360" y="2090880"/>
            <a:ext cx="896292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习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理解三角形及其有关概念及三角形的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理解“三角形两边的和大于第三边”，并运用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性质解决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习重点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角形两边的和大于第三边”的理解和运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9" name=""/>
          <p:cNvSpPr/>
          <p:nvPr/>
        </p:nvSpPr>
        <p:spPr>
          <a:xfrm>
            <a:off x="250920" y="63972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件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1631880"/>
            <a:ext cx="891540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角形是我们熟悉的图形，观察下列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片，你能说一说三角形是怎样的图形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2" name="矩形 6"/>
          <p:cNvSpPr/>
          <p:nvPr/>
        </p:nvSpPr>
        <p:spPr>
          <a:xfrm>
            <a:off x="237960" y="642960"/>
            <a:ext cx="434052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三角形的有关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36560" y="2841480"/>
            <a:ext cx="751536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179280" y="3573360"/>
            <a:ext cx="64803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边：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AC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或 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顶点：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内角：∠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∠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∠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6" name="矩形 6"/>
          <p:cNvSpPr/>
          <p:nvPr/>
        </p:nvSpPr>
        <p:spPr>
          <a:xfrm>
            <a:off x="237960" y="642960"/>
            <a:ext cx="434052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三角形的有关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79280" y="1639800"/>
            <a:ext cx="9142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追问：对于教科书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的三角形，你能说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的边、顶点与内角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942720" y="2700360"/>
            <a:ext cx="4848120" cy="3340080"/>
            <a:chOff x="3942720" y="2700360"/>
            <a:chExt cx="4848120" cy="3340080"/>
          </a:xfrm>
        </p:grpSpPr>
        <p:sp>
          <p:nvSpPr>
            <p:cNvPr id="59" name=""/>
            <p:cNvSpPr/>
            <p:nvPr/>
          </p:nvSpPr>
          <p:spPr>
            <a:xfrm>
              <a:off x="7206120" y="27003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42720" y="5380200"/>
              <a:ext cx="48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85400" y="538020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02080" y="5519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27840" y="4097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05560" y="3995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4276800" y="3068640"/>
              <a:ext cx="4095720" cy="2676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80880" y="3232080"/>
            <a:ext cx="8431200" cy="1323720"/>
            <a:chOff x="380880" y="3232080"/>
            <a:chExt cx="8431200" cy="1323720"/>
          </a:xfrm>
        </p:grpSpPr>
        <p:sp>
          <p:nvSpPr>
            <p:cNvPr id="67" name="AutoShape 6"/>
            <p:cNvSpPr/>
            <p:nvPr/>
          </p:nvSpPr>
          <p:spPr>
            <a:xfrm>
              <a:off x="1788840" y="3617640"/>
              <a:ext cx="1036800" cy="927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7"/>
            <p:cNvSpPr/>
            <p:nvPr/>
          </p:nvSpPr>
          <p:spPr>
            <a:xfrm>
              <a:off x="3236760" y="3401640"/>
              <a:ext cx="738000" cy="1143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8"/>
            <p:cNvSpPr/>
            <p:nvPr/>
          </p:nvSpPr>
          <p:spPr>
            <a:xfrm>
              <a:off x="4384440" y="3524040"/>
              <a:ext cx="1033560" cy="1020600"/>
            </a:xfrm>
            <a:prstGeom prst="triangle">
              <a:avLst>
                <a:gd name="adj" fmla="val 80486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9"/>
            <p:cNvSpPr/>
            <p:nvPr/>
          </p:nvSpPr>
          <p:spPr>
            <a:xfrm>
              <a:off x="5829120" y="3232080"/>
              <a:ext cx="795240" cy="1312560"/>
            </a:xfrm>
            <a:prstGeom prst="rtTriangl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0"/>
            <p:cNvSpPr/>
            <p:nvPr/>
          </p:nvSpPr>
          <p:spPr>
            <a:xfrm>
              <a:off x="7035480" y="3925800"/>
              <a:ext cx="1776600" cy="618840"/>
            </a:xfrm>
            <a:prstGeom prst="triangle">
              <a:avLst>
                <a:gd name="adj" fmla="val 67412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3"/>
            <p:cNvSpPr/>
            <p:nvPr/>
          </p:nvSpPr>
          <p:spPr>
            <a:xfrm>
              <a:off x="380880" y="3465360"/>
              <a:ext cx="1025280" cy="1090440"/>
            </a:xfrm>
            <a:prstGeom prst="triangle">
              <a:avLst>
                <a:gd name="adj" fmla="val 76338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4" name="矩形 6"/>
          <p:cNvSpPr/>
          <p:nvPr/>
        </p:nvSpPr>
        <p:spPr>
          <a:xfrm>
            <a:off x="237960" y="642960"/>
            <a:ext cx="354024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三角形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25360" y="1631880"/>
            <a:ext cx="90788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知道，三角形按角可以分为锐角三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形、直角三角形和钝角三角形．你能按照边的关系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角形进行分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53480" y="4884840"/>
            <a:ext cx="7776000" cy="1561680"/>
            <a:chOff x="753480" y="4884840"/>
            <a:chExt cx="7776000" cy="1561680"/>
          </a:xfrm>
        </p:grpSpPr>
        <p:sp>
          <p:nvSpPr>
            <p:cNvPr id="77" name=""/>
            <p:cNvSpPr/>
            <p:nvPr/>
          </p:nvSpPr>
          <p:spPr>
            <a:xfrm>
              <a:off x="2786400" y="4884840"/>
              <a:ext cx="277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三边都不相等的三角形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3480" y="5341680"/>
              <a:ext cx="109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三角形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84080" y="5722560"/>
              <a:ext cx="208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等腰三角形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10200" y="5437080"/>
              <a:ext cx="34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底边和腰不相等的等腰三角形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69840" y="5925960"/>
              <a:ext cx="171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等边三角形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5625720"/>
              <a:ext cx="165240" cy="723600"/>
            </a:xfrm>
            <a:custGeom>
              <a:avLst/>
              <a:gdLst>
                <a:gd name="textAreaLeft" fmla="*/ 105480 w 165240"/>
                <a:gd name="textAreaRight" fmla="*/ 165600 w 165240"/>
                <a:gd name="textAreaTop" fmla="*/ 18720 h 723600"/>
                <a:gd name="textAreaBottom" fmla="*/ 704880 h 7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70040" y="5130360"/>
              <a:ext cx="217800" cy="952200"/>
            </a:xfrm>
            <a:custGeom>
              <a:avLst/>
              <a:gdLst>
                <a:gd name="textAreaLeft" fmla="*/ 139320 w 217800"/>
                <a:gd name="textAreaRight" fmla="*/ 218160 w 217800"/>
                <a:gd name="textAreaTop" fmla="*/ 24840 h 952200"/>
                <a:gd name="textAreaBottom" fmla="*/ 927360 h 95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5" name="矩形 6"/>
          <p:cNvSpPr/>
          <p:nvPr/>
        </p:nvSpPr>
        <p:spPr>
          <a:xfrm>
            <a:off x="237960" y="642960"/>
            <a:ext cx="354024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三角形的分类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230040" y="1631880"/>
            <a:ext cx="8964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追问　按边分类后的特殊三角形之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们的边和角怎样命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6"/>
          <p:cNvSpPr/>
          <p:nvPr/>
        </p:nvSpPr>
        <p:spPr>
          <a:xfrm>
            <a:off x="179280" y="3373560"/>
            <a:ext cx="41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　图中有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个三角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179280" y="3927600"/>
            <a:ext cx="52628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　三角形的表示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    △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ABE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， △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    △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BEC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， △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EDC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    △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BDC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0" name="矩形 6"/>
          <p:cNvSpPr/>
          <p:nvPr/>
        </p:nvSpPr>
        <p:spPr>
          <a:xfrm>
            <a:off x="237960" y="642960"/>
            <a:ext cx="188928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30040" y="1657440"/>
            <a:ext cx="89647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练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中有几个三角形？用符号表示这些三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145400" y="3043080"/>
            <a:ext cx="4259520" cy="2933280"/>
            <a:chOff x="4145400" y="3043080"/>
            <a:chExt cx="4259520" cy="293328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4475160" y="3454200"/>
              <a:ext cx="380052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02600" y="31320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45400" y="54432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23280" y="5455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68240" y="3043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37920" y="4198680"/>
              <a:ext cx="48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8"/>
          <p:cNvSpPr/>
          <p:nvPr/>
        </p:nvSpPr>
        <p:spPr>
          <a:xfrm>
            <a:off x="5207040" y="1657440"/>
            <a:ext cx="13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1" name="矩形 6"/>
          <p:cNvSpPr/>
          <p:nvPr/>
        </p:nvSpPr>
        <p:spPr>
          <a:xfrm>
            <a:off x="237960" y="642960"/>
            <a:ext cx="188928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17440" y="1657440"/>
            <a:ext cx="896472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练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下列说法正确的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锐角三角形是三条边都不相等的三角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直角三角形不是等腰三角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等腰三角形是等边三角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等边三角形是等腰三角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13:04:31Z</dcterms:created>
  <dc:creator>何鸾</dc:creator>
  <dc:description/>
  <cp:keywords/>
  <dc:language>en-US</dc:language>
  <cp:lastModifiedBy>微软用户</cp:lastModifiedBy>
  <dcterms:modified xsi:type="dcterms:W3CDTF">2013-07-16T08:33:11Z</dcterms:modified>
  <cp:revision>255</cp:revision>
  <dc:subject/>
  <dc:title>5.1 相交线（第1课时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