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6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969C-8DE2-463C-BA69-76CFE4ECD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5293-6A15-47E5-AA77-59C573A6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C6F5-ABAE-45D1-AA4D-A80CF372F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B530-A16C-41A2-ACD1-0160FCCE1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B7B9-D6D6-40B8-B189-A35AF5B1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AE46-DC18-4F35-8E10-5110151B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3C7E-C7EA-46CD-B5BF-7A89925A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DE58-06B4-4FD5-A76D-7FD5E257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2098-6252-4C8D-925E-2D39DB24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D8E7-7689-4071-BCD6-42F8B4DD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D3FD-2110-427B-AD35-46DF3926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AC20-0800-435E-A423-B84FA917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A051-33D8-45BE-A55E-B9EDA291A4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825560" y="2419200"/>
            <a:ext cx="64915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25.3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利用频率估计概率</a:t>
            </a:r>
            <a:r>
              <a:rPr b="0" lang="zh-CN" sz="4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从表中数据可以发现，幼树移植成活的频率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左右摆动，并且随着统计数据的增加，这种规律愈加明显，所以估计幼树移植成活的概率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某商场设立了一个可以自由转动的转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并规定：顾客购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以上能获得一次转动转盘的机会，当转盘停止时，指针落在红色区域就可以获得会员卡一张，请问如果消费超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，那么能够得到会员卡的概率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98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13394" t="19220" r="63287" b="50353"/>
          <a:stretch/>
        </p:blipFill>
        <p:spPr>
          <a:xfrm>
            <a:off x="7667640" y="5084640"/>
            <a:ext cx="112536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80000" y="3933720"/>
            <a:ext cx="1879560" cy="20131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商场换了一个自由转动的转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并规定：顾客购物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以上能获得一次转动转盘的机会，当转盘停止时，指针落在哪一区域就可以获得相应的奖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79840" y="2668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258920" y="2349360"/>
          <a:ext cx="6769080" cy="1871640"/>
        </p:xfrm>
        <a:graphic>
          <a:graphicData uri="http://schemas.openxmlformats.org/drawingml/2006/table">
            <a:tbl>
              <a:tblPr/>
              <a:tblGrid>
                <a:gridCol w="2663640"/>
                <a:gridCol w="692280"/>
                <a:gridCol w="598680"/>
                <a:gridCol w="598320"/>
                <a:gridCol w="595440"/>
                <a:gridCol w="685800"/>
                <a:gridCol w="93492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转动转盘的次数</a:t>
                      </a:r>
                      <a:r>
                        <a:rPr b="1" i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落在“铅笔”的次数</a:t>
                      </a:r>
                      <a:r>
                        <a:rPr b="1" i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3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5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7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落在“铅笔”的频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3635280" y="3500280"/>
          <a:ext cx="266760" cy="57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3500280"/>
                    <a:ext cx="26676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611280" y="4437000"/>
            <a:ext cx="817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估计，当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很大时，频率将会接近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转动该转盘一次，获得铅笔的概率约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4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该转盘中，标有“铅笔”区域的扇形的圆心角大约是多少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精确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45520" y="1773360"/>
            <a:ext cx="25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算并完成表格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5440" y="3644280"/>
            <a:ext cx="6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6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3080" y="3644280"/>
            <a:ext cx="6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7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55560" y="36378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6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96000" y="364428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6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73440" y="364428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682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01800" y="364428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7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956720" y="443592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6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370360" y="486792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69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41120" y="597600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69×360°≈248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2060280"/>
            <a:ext cx="83534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试验的次数越多，所得的频率越能反映概率的大小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频数分布表、扇形图、条形图、直方图都能较好地反映频数、频率的分布情况，我们可以利用它们所提供的信息估计概率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95280" y="2349360"/>
            <a:ext cx="8229600" cy="25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某人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粒黄豆染色后与一袋黄豆充分混匀，接着抓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粒黄豆，进行大量试验后，被抓出染色黄豆的频率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.0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则这袋黄豆原来有多少粒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2331720"/>
            <a:ext cx="73296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能估算一粒小米的重量吗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结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834920" y="2276640"/>
            <a:ext cx="561636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完这节课你有哪些收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9640" y="2349360"/>
            <a:ext cx="83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问题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某厂打算生产一种中学生使用的笔袋，但无法确定各种颜色的产量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认为该如何制定生产计划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74600" cy="1017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708360" y="112536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7960" y="4005360"/>
            <a:ext cx="838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针对中学生喜欢的颜色的问题，小凯调查了九年级某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位同学，结果如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042920" y="2276640"/>
          <a:ext cx="2590920" cy="2587320"/>
        </p:xfrm>
        <a:graphic>
          <a:graphicData uri="http://schemas.openxmlformats.org/drawingml/2006/table">
            <a:tbl>
              <a:tblPr/>
              <a:tblGrid>
                <a:gridCol w="1295640"/>
                <a:gridCol w="1295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颜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学生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4427640" y="2276640"/>
          <a:ext cx="4038480" cy="269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7640" y="2276640"/>
                    <a:ext cx="403848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838080" y="5013360"/>
            <a:ext cx="805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你认为小凯的调查能反映所有九年级同学对文具颜色的喜好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92360" y="60213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9640" y="155736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了更为准确地为文具厂商提供信息，你认为抽样调查应注意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278136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</a:rPr>
              <a:t>抽样调查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更广泛、更有代表性、更有随意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3860640"/>
            <a:ext cx="80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问题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该文具厂就该笔袋的颜色随机调查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 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名中学生，并在调查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 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名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 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名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 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名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 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名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 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名时分别计算了各种颜色的频率，绘制折线图如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11280" y="5303880"/>
            <a:ext cx="817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随着调查次数的增加，红色的频率基本稳定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Microsoft Sans Serif"/>
              </a:rPr>
              <a:t>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左右，因此可以估计调查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0 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名同学时，红色的频率大约仍是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Microsoft Sans Serif"/>
              </a:rPr>
              <a:t>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左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3200" y="3716280"/>
            <a:ext cx="82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随着调查次数的增加，红色的频率如何变化？你能估计调查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0 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名同学时，红色的频率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908000" y="981000"/>
            <a:ext cx="588672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55640" y="134136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你认为该文具厂生产这种笔袋时，对颜色应如何安排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5640" y="2637000"/>
            <a:ext cx="8064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该厂生产这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笔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时，一般可安排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产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0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左右的红色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0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左右的绿色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8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左右的黄色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2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左右的蓝色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0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左右的其他颜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9640" y="2420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同样条件下，大量地重复试验时，根据一个随机事件发生的频率所逐渐稳定到的常数，可以估计这个事件发生的概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24000" y="2204640"/>
            <a:ext cx="85327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某林业部门要了解某种幼树在一定条件下的移植成活率，应采取什么具体做法？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11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2268360" y="1052640"/>
          <a:ext cx="6337440" cy="5630760"/>
        </p:xfrm>
        <a:graphic>
          <a:graphicData uri="http://schemas.openxmlformats.org/drawingml/2006/table">
            <a:tbl>
              <a:tblPr/>
              <a:tblGrid>
                <a:gridCol w="2305080"/>
                <a:gridCol w="1871640"/>
                <a:gridCol w="216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种植总数（</a:t>
                      </a:r>
                      <a:r>
                        <a:rPr b="0" i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成活数（</a:t>
                      </a:r>
                      <a:r>
                        <a:rPr b="0" i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成活的频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2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3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0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6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8028000" y="1052640"/>
                <a:ext cx="3938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04:31:38Z</dcterms:created>
  <dc:creator>user</dc:creator>
  <dc:description/>
  <dc:language>en-US</dc:language>
  <cp:lastModifiedBy>pepyx</cp:lastModifiedBy>
  <dcterms:modified xsi:type="dcterms:W3CDTF">2007-05-22T07:43:44Z</dcterms:modified>
  <cp:revision>120</cp:revision>
  <dc:subject/>
  <dc:title>幻灯片 1</dc:title>
</cp:coreProperties>
</file>