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4CC-3A50-407A-B38B-415E3087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23F-A0FF-4A22-802E-0C231AF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142-5420-4590-88CA-A7C35F17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6D9-D4A3-4F25-9AC8-B0583E89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D6D-D5F8-4CAF-BCD6-F0B8CD8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AEA-D39B-4CDE-8242-61629FF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242-DB17-4242-9059-6CE2FDA7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2FC-A91D-4A4C-A7E8-7BCF238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B2D-A822-4C62-A154-B2AA777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405-2851-4D8B-86E1-F8E41ED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6DD-E8D4-40C2-8B32-A08E529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BA1-7AE1-4AD2-973E-024D364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B57-3E1D-49F4-BB25-17037802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5560" y="2419200"/>
            <a:ext cx="649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25.2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用列举法求概率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由上表可以看出，同时投掷两个骰子，可能出现的结果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，它们出现的可能性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491920"/>
            <a:ext cx="8209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满足两个骰子点数相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为事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中的红色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                                 ；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80000" y="3860640"/>
                <a:ext cx="16570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84360" y="4633560"/>
            <a:ext cx="8459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满足两个骰子点数和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为事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中的阴影部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6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,5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4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6027840"/>
            <a:ext cx="16351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7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足至少有一个骰子的点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为事件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结果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中蓝色方框部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                          ．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297080" cy="79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1504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把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“同时掷两个骰子”改为“把一个骰子掷两次”，所得到的结果有变化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甲口袋中装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相同的小球，它们分别写有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乙口袋中装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相同的小球，它们分别写有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丙口袋中装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相同的小球，它们分别写有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口袋中各随机地取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76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251892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取出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球上恰好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元音字母的概率分别是多少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取出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球上全是辅音字母的概率是多少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3120" y="2923920"/>
            <a:ext cx="8661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树形图列举出的结果看起来一目了然，当事件要经过多次步骤（三步以上）完成时，用这种“树形图”的方法求事件的概率很有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77228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何种概率问题适合用树形图法解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什么时候使用“列表法”方便，什么时候使用“树形图法”方便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卡片上分别写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整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机地抽取一张后放回，再随机地抽取一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第二次取出的数字能够整除第一次取出的数字的概率是多少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某十字路口的汽车，它可能继续直行，也可能向左转或向右转，假设这三种可能性大小相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辆汽车经过这个十字路口，求下列事件的概率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三辆车全部继续直行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两辆车向右转，一辆车向左转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至少有两辆车向左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节课我们学习了哪些内容，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22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：教科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佳要和同学们去郊游，站在镜子前挑选衣服，那么多漂亮的衣服，一共有多少种搭配方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见课件“用列举法求概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gsp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427040"/>
            <a:ext cx="5483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具有何种特点的试验称为古典概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对于古典概型的试验，如何求事件的概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11280" y="1627560"/>
            <a:ext cx="450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次试验中，可能出现的结果有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个；各种结果发生的可能性相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以上特点的试验称为古典概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52360" y="3500280"/>
            <a:ext cx="7451640" cy="2070000"/>
            <a:chOff x="1152360" y="3500280"/>
            <a:chExt cx="7451640" cy="2070000"/>
          </a:xfrm>
        </p:grpSpPr>
        <p:sp>
          <p:nvSpPr>
            <p:cNvPr id="48" name=""/>
            <p:cNvSpPr/>
            <p:nvPr/>
          </p:nvSpPr>
          <p:spPr>
            <a:xfrm>
              <a:off x="1152360" y="3500280"/>
              <a:ext cx="7451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般地，如果在一次试验中，有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可能的结果，并且它们发生的可能性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相等，事件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包含其中的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种结果，那么事件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发生的概率为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4824360" y="4894200"/>
                  <a:ext cx="1042920" cy="67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7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684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掷一颗普通的正方形骰子，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点数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概率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点数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概率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点数为偶数”的概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点数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概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820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掷一个骰子时，向上一面的点数可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．这些点数出现的可能性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348000" y="270828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780000" y="3284640"/>
                <a:ext cx="1223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87240" y="3841920"/>
            <a:ext cx="5862960" cy="2395440"/>
            <a:chOff x="1587240" y="3841920"/>
            <a:chExt cx="5862960" cy="2395440"/>
          </a:xfrm>
        </p:grpSpPr>
        <p:sp>
          <p:nvSpPr>
            <p:cNvPr id="59" name=""/>
            <p:cNvSpPr/>
            <p:nvPr/>
          </p:nvSpPr>
          <p:spPr>
            <a:xfrm>
              <a:off x="1587240" y="3841920"/>
              <a:ext cx="5862960" cy="23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点数为偶数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种可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点数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数为偶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br>
                <a:rPr sz="2400"/>
              </a:b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点数大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种可能，即点数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数大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952720" y="4489560"/>
                  <a:ext cx="827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881440" y="5570640"/>
                  <a:ext cx="8650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137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掷两个质地均匀的骰子，计算下列事件的概率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两个骰子的点数相同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两个骰子点数的和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至少有一个骰子的点数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5084640"/>
            <a:ext cx="1447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举时如何才能尽量避免重复和遗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新用列表法解决上题，并体会列表法对列举所有可能的结果所起的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43120" y="1844640"/>
          <a:ext cx="8300880" cy="4724280"/>
        </p:xfrm>
        <a:graphic>
          <a:graphicData uri="http://schemas.openxmlformats.org/drawingml/2006/table">
            <a:tbl>
              <a:tblPr/>
              <a:tblGrid>
                <a:gridCol w="1054080"/>
                <a:gridCol w="1038240"/>
                <a:gridCol w="1036800"/>
                <a:gridCol w="1038240"/>
                <a:gridCol w="1036440"/>
                <a:gridCol w="1038240"/>
                <a:gridCol w="1036800"/>
                <a:gridCol w="10220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4:31:38Z</dcterms:created>
  <dc:creator>user</dc:creator>
  <dc:description/>
  <dc:language>en-US</dc:language>
  <cp:lastModifiedBy>pepyx</cp:lastModifiedBy>
  <dcterms:modified xsi:type="dcterms:W3CDTF">2014-03-09T09:08:02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