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22.wmf" ContentType="image/x-wmf"/>
  <Override PartName="/ppt/media/image17.wmf" ContentType="image/x-wmf"/>
  <Override PartName="/ppt/media/image16.wmf" ContentType="image/x-wmf"/>
  <Override PartName="/ppt/media/image3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CD7-C5A9-45AC-9D8D-4CFE004E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C8F-8BF6-44E4-9176-A844E474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7B1-BB5A-4ECF-A7AD-D7E9E5BA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8D3-3A40-4EE9-9BA3-3799D8BB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F72-1280-4C1E-8E44-9A27E727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A60-4FC4-43AD-B39D-D9399A42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454-8DAB-4E97-97FF-2E281A23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D90-79B0-4F76-9C62-F99F5D33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C80-8BAF-4D7F-98D8-14B5794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0FF-91E4-42E3-86AF-2E65666F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C16-3E1C-4BA7-93D0-0B9A3A0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A52-A6F4-4218-BA8C-C46E25D1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4F8-785C-4FE7-8D2E-D42B53548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4705" t="3898" r="8811" b="0"/>
          <a:stretch/>
        </p:blipFill>
        <p:spPr>
          <a:xfrm>
            <a:off x="2484360" y="1484280"/>
            <a:ext cx="3167280" cy="22957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940360" y="1197000"/>
            <a:ext cx="3166920" cy="2310840"/>
            <a:chOff x="5940360" y="1197000"/>
            <a:chExt cx="3166920" cy="2310840"/>
          </a:xfrm>
        </p:grpSpPr>
        <p:sp>
          <p:nvSpPr>
            <p:cNvPr id="43" name=""/>
            <p:cNvSpPr/>
            <p:nvPr/>
          </p:nvSpPr>
          <p:spPr>
            <a:xfrm>
              <a:off x="5940360" y="1197000"/>
              <a:ext cx="3166920" cy="229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>
              <a:lum contrast="12000"/>
            </a:blip>
            <a:srcRect l="3358" t="10021" r="15406" b="13422"/>
            <a:stretch/>
          </p:blipFill>
          <p:spPr>
            <a:xfrm>
              <a:off x="6487920" y="1211040"/>
              <a:ext cx="2206800" cy="229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4"/>
          <a:srcRect l="6248" t="3126" r="12490" b="8331"/>
          <a:stretch/>
        </p:blipFill>
        <p:spPr>
          <a:xfrm>
            <a:off x="6326280" y="4221000"/>
            <a:ext cx="2817720" cy="2303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836640"/>
            <a:ext cx="3024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铅球场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645000"/>
            <a:ext cx="19447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纸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24360" y="404640"/>
            <a:ext cx="244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计时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3789360"/>
            <a:ext cx="1800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台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619280" y="4221000"/>
            <a:ext cx="3468600" cy="2157480"/>
          </a:xfrm>
          <a:prstGeom prst="rect">
            <a:avLst/>
          </a:prstGeom>
          <a:ln w="0">
            <a:noFill/>
          </a:ln>
        </p:spPr>
      </p:pic>
      <p:sp>
        <p:nvSpPr>
          <p:cNvPr id="51" name="未知"/>
          <p:cNvSpPr/>
          <p:nvPr/>
        </p:nvSpPr>
        <p:spPr>
          <a:xfrm>
            <a:off x="4140360" y="2421000"/>
            <a:ext cx="1368360" cy="1295280"/>
          </a:xfrm>
          <a:custGeom>
            <a:avLst/>
            <a:gdLst/>
            <a:ahLst/>
            <a:rect l="l" t="t" r="r" b="b"/>
            <a:pathLst>
              <a:path w="915" h="816">
                <a:moveTo>
                  <a:pt x="0" y="816"/>
                </a:moveTo>
                <a:cubicBezTo>
                  <a:pt x="72" y="805"/>
                  <a:pt x="144" y="794"/>
                  <a:pt x="227" y="771"/>
                </a:cubicBezTo>
                <a:cubicBezTo>
                  <a:pt x="310" y="748"/>
                  <a:pt x="416" y="718"/>
                  <a:pt x="499" y="680"/>
                </a:cubicBezTo>
                <a:cubicBezTo>
                  <a:pt x="582" y="642"/>
                  <a:pt x="665" y="597"/>
                  <a:pt x="726" y="544"/>
                </a:cubicBezTo>
                <a:cubicBezTo>
                  <a:pt x="787" y="491"/>
                  <a:pt x="832" y="423"/>
                  <a:pt x="862" y="363"/>
                </a:cubicBezTo>
                <a:cubicBezTo>
                  <a:pt x="892" y="303"/>
                  <a:pt x="915" y="241"/>
                  <a:pt x="907" y="181"/>
                </a:cubicBezTo>
                <a:cubicBezTo>
                  <a:pt x="899" y="121"/>
                  <a:pt x="831" y="30"/>
                  <a:pt x="816" y="0"/>
                </a:cubicBezTo>
              </a:path>
            </a:pathLst>
          </a:custGeom>
          <a:noFill/>
          <a:ln w="1015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未知"/>
          <p:cNvSpPr/>
          <p:nvPr/>
        </p:nvSpPr>
        <p:spPr>
          <a:xfrm>
            <a:off x="1692360" y="4341960"/>
            <a:ext cx="3311280" cy="1319040"/>
          </a:xfrm>
          <a:custGeom>
            <a:avLst/>
            <a:gdLst/>
            <a:ahLst/>
            <a:rect l="l" t="t" r="r" b="b"/>
            <a:pathLst>
              <a:path w="2086" h="831">
                <a:moveTo>
                  <a:pt x="0" y="740"/>
                </a:moveTo>
                <a:cubicBezTo>
                  <a:pt x="38" y="645"/>
                  <a:pt x="76" y="551"/>
                  <a:pt x="136" y="468"/>
                </a:cubicBezTo>
                <a:cubicBezTo>
                  <a:pt x="196" y="385"/>
                  <a:pt x="288" y="301"/>
                  <a:pt x="363" y="241"/>
                </a:cubicBezTo>
                <a:cubicBezTo>
                  <a:pt x="438" y="181"/>
                  <a:pt x="498" y="143"/>
                  <a:pt x="589" y="105"/>
                </a:cubicBezTo>
                <a:cubicBezTo>
                  <a:pt x="680" y="67"/>
                  <a:pt x="809" y="30"/>
                  <a:pt x="907" y="15"/>
                </a:cubicBezTo>
                <a:cubicBezTo>
                  <a:pt x="1005" y="0"/>
                  <a:pt x="1096" y="8"/>
                  <a:pt x="1179" y="15"/>
                </a:cubicBezTo>
                <a:cubicBezTo>
                  <a:pt x="1262" y="22"/>
                  <a:pt x="1338" y="37"/>
                  <a:pt x="1406" y="60"/>
                </a:cubicBezTo>
                <a:cubicBezTo>
                  <a:pt x="1474" y="83"/>
                  <a:pt x="1519" y="106"/>
                  <a:pt x="1587" y="151"/>
                </a:cubicBezTo>
                <a:cubicBezTo>
                  <a:pt x="1655" y="196"/>
                  <a:pt x="1754" y="272"/>
                  <a:pt x="1814" y="332"/>
                </a:cubicBezTo>
                <a:cubicBezTo>
                  <a:pt x="1874" y="392"/>
                  <a:pt x="1905" y="431"/>
                  <a:pt x="1950" y="514"/>
                </a:cubicBezTo>
                <a:cubicBezTo>
                  <a:pt x="1995" y="597"/>
                  <a:pt x="2063" y="778"/>
                  <a:pt x="2086" y="831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未知"/>
          <p:cNvSpPr/>
          <p:nvPr/>
        </p:nvSpPr>
        <p:spPr>
          <a:xfrm rot="19150200">
            <a:off x="6372360" y="1773000"/>
            <a:ext cx="1942920" cy="647640"/>
          </a:xfrm>
          <a:custGeom>
            <a:avLst/>
            <a:gdLst/>
            <a:ahLst/>
            <a:rect l="l" t="t" r="r" b="b"/>
            <a:pathLst>
              <a:path w="2086" h="831">
                <a:moveTo>
                  <a:pt x="0" y="740"/>
                </a:moveTo>
                <a:cubicBezTo>
                  <a:pt x="38" y="645"/>
                  <a:pt x="76" y="551"/>
                  <a:pt x="136" y="468"/>
                </a:cubicBezTo>
                <a:cubicBezTo>
                  <a:pt x="196" y="385"/>
                  <a:pt x="288" y="301"/>
                  <a:pt x="363" y="241"/>
                </a:cubicBezTo>
                <a:cubicBezTo>
                  <a:pt x="438" y="181"/>
                  <a:pt x="498" y="143"/>
                  <a:pt x="589" y="105"/>
                </a:cubicBezTo>
                <a:cubicBezTo>
                  <a:pt x="680" y="67"/>
                  <a:pt x="809" y="30"/>
                  <a:pt x="907" y="15"/>
                </a:cubicBezTo>
                <a:cubicBezTo>
                  <a:pt x="1005" y="0"/>
                  <a:pt x="1096" y="8"/>
                  <a:pt x="1179" y="15"/>
                </a:cubicBezTo>
                <a:cubicBezTo>
                  <a:pt x="1262" y="22"/>
                  <a:pt x="1338" y="37"/>
                  <a:pt x="1406" y="60"/>
                </a:cubicBezTo>
                <a:cubicBezTo>
                  <a:pt x="1474" y="83"/>
                  <a:pt x="1519" y="106"/>
                  <a:pt x="1587" y="151"/>
                </a:cubicBezTo>
                <a:cubicBezTo>
                  <a:pt x="1655" y="196"/>
                  <a:pt x="1754" y="272"/>
                  <a:pt x="1814" y="332"/>
                </a:cubicBezTo>
                <a:cubicBezTo>
                  <a:pt x="1874" y="392"/>
                  <a:pt x="1905" y="431"/>
                  <a:pt x="1950" y="514"/>
                </a:cubicBezTo>
                <a:cubicBezTo>
                  <a:pt x="1995" y="597"/>
                  <a:pt x="2063" y="778"/>
                  <a:pt x="2086" y="831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未知"/>
          <p:cNvSpPr/>
          <p:nvPr/>
        </p:nvSpPr>
        <p:spPr>
          <a:xfrm rot="21410400">
            <a:off x="6517800" y="4284360"/>
            <a:ext cx="2519640" cy="576360"/>
          </a:xfrm>
          <a:custGeom>
            <a:avLst/>
            <a:gdLst/>
            <a:ahLst/>
            <a:rect l="l" t="t" r="r" b="b"/>
            <a:pathLst>
              <a:path w="2086" h="831">
                <a:moveTo>
                  <a:pt x="0" y="740"/>
                </a:moveTo>
                <a:cubicBezTo>
                  <a:pt x="38" y="645"/>
                  <a:pt x="76" y="551"/>
                  <a:pt x="136" y="468"/>
                </a:cubicBezTo>
                <a:cubicBezTo>
                  <a:pt x="196" y="385"/>
                  <a:pt x="288" y="301"/>
                  <a:pt x="363" y="241"/>
                </a:cubicBezTo>
                <a:cubicBezTo>
                  <a:pt x="438" y="181"/>
                  <a:pt x="498" y="143"/>
                  <a:pt x="589" y="105"/>
                </a:cubicBezTo>
                <a:cubicBezTo>
                  <a:pt x="680" y="67"/>
                  <a:pt x="809" y="30"/>
                  <a:pt x="907" y="15"/>
                </a:cubicBezTo>
                <a:cubicBezTo>
                  <a:pt x="1005" y="0"/>
                  <a:pt x="1096" y="8"/>
                  <a:pt x="1179" y="15"/>
                </a:cubicBezTo>
                <a:cubicBezTo>
                  <a:pt x="1262" y="22"/>
                  <a:pt x="1338" y="37"/>
                  <a:pt x="1406" y="60"/>
                </a:cubicBezTo>
                <a:cubicBezTo>
                  <a:pt x="1474" y="83"/>
                  <a:pt x="1519" y="106"/>
                  <a:pt x="1587" y="151"/>
                </a:cubicBezTo>
                <a:cubicBezTo>
                  <a:pt x="1655" y="196"/>
                  <a:pt x="1754" y="272"/>
                  <a:pt x="1814" y="332"/>
                </a:cubicBezTo>
                <a:cubicBezTo>
                  <a:pt x="1874" y="392"/>
                  <a:pt x="1905" y="431"/>
                  <a:pt x="1950" y="514"/>
                </a:cubicBezTo>
                <a:cubicBezTo>
                  <a:pt x="1995" y="597"/>
                  <a:pt x="2063" y="778"/>
                  <a:pt x="2086" y="831"/>
                </a:cubicBezTo>
              </a:path>
            </a:pathLst>
          </a:custGeom>
          <a:noFill/>
          <a:ln w="1015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观察下列实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40320" y="104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情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500"/>
                            </p:stCondLst>
                            <p:childTnLst>
                              <p:par>
                                <p:cTn id="3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492360" y="1628640"/>
            <a:ext cx="5580360" cy="2016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1253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制造弯形管道时，要先按中心线计算“展直长度”，再下料，试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64500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由弧长公式，可得弧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332000" y="4149720"/>
            <a:ext cx="7632360" cy="1007640"/>
            <a:chOff x="1332000" y="4149720"/>
            <a:chExt cx="7632360" cy="1007640"/>
          </a:xfrm>
        </p:grpSpPr>
        <p:sp>
          <p:nvSpPr>
            <p:cNvPr id="197" name=""/>
            <p:cNvSpPr/>
            <p:nvPr/>
          </p:nvSpPr>
          <p:spPr>
            <a:xfrm>
              <a:off x="1332000" y="4198320"/>
              <a:ext cx="7632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69120" y="4149720"/>
              <a:ext cx="4730400" cy="10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95280" y="522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展直长度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6021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答：管道的展直长度为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970mm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7960" y="4292640"/>
            <a:ext cx="16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03280" y="4221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baseline="4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649440" cy="628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114000" y="5229360"/>
            <a:ext cx="59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=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00+1570=297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2133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所示管道的展直长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精确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6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、知识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01480" y="692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扇形的弧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π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面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0π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㎡，则该扇形的圆心角为多少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知识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844640"/>
            <a:ext cx="8675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设扇形半径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圆心角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扇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6093000"/>
            <a:ext cx="61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该扇形的圆心角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64000" y="357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1728720" cy="870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348000" y="263700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3384720" cy="863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908000" y="5157720"/>
            <a:ext cx="3743640" cy="75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835280" y="4292640"/>
            <a:ext cx="18000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836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如图是圆弧形状的纸扇示意图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圆心角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20°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能求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边沿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长度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半径构成的面积是多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280" y="586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5771880" cy="3429000"/>
          </a:xfrm>
          <a:prstGeom prst="rect">
            <a:avLst/>
          </a:prstGeom>
          <a:ln w="0">
            <a:noFill/>
          </a:ln>
        </p:spPr>
      </p:pic>
      <p:sp>
        <p:nvSpPr>
          <p:cNvPr id="220" name="未知"/>
          <p:cNvSpPr/>
          <p:nvPr/>
        </p:nvSpPr>
        <p:spPr>
          <a:xfrm>
            <a:off x="3092400" y="2997360"/>
            <a:ext cx="5440320" cy="2001600"/>
          </a:xfrm>
          <a:custGeom>
            <a:avLst/>
            <a:gdLst/>
            <a:ahLst/>
            <a:rect l="l" t="t" r="r" b="b"/>
            <a:pathLst>
              <a:path w="2086" h="831">
                <a:moveTo>
                  <a:pt x="0" y="740"/>
                </a:moveTo>
                <a:cubicBezTo>
                  <a:pt x="38" y="645"/>
                  <a:pt x="76" y="551"/>
                  <a:pt x="136" y="468"/>
                </a:cubicBezTo>
                <a:cubicBezTo>
                  <a:pt x="196" y="385"/>
                  <a:pt x="288" y="301"/>
                  <a:pt x="363" y="241"/>
                </a:cubicBezTo>
                <a:cubicBezTo>
                  <a:pt x="438" y="181"/>
                  <a:pt x="498" y="143"/>
                  <a:pt x="589" y="105"/>
                </a:cubicBezTo>
                <a:cubicBezTo>
                  <a:pt x="680" y="67"/>
                  <a:pt x="809" y="30"/>
                  <a:pt x="907" y="15"/>
                </a:cubicBezTo>
                <a:cubicBezTo>
                  <a:pt x="1005" y="0"/>
                  <a:pt x="1096" y="8"/>
                  <a:pt x="1179" y="15"/>
                </a:cubicBezTo>
                <a:cubicBezTo>
                  <a:pt x="1262" y="22"/>
                  <a:pt x="1338" y="37"/>
                  <a:pt x="1406" y="60"/>
                </a:cubicBezTo>
                <a:cubicBezTo>
                  <a:pt x="1474" y="83"/>
                  <a:pt x="1519" y="106"/>
                  <a:pt x="1587" y="151"/>
                </a:cubicBezTo>
                <a:cubicBezTo>
                  <a:pt x="1655" y="196"/>
                  <a:pt x="1754" y="272"/>
                  <a:pt x="1814" y="332"/>
                </a:cubicBezTo>
                <a:cubicBezTo>
                  <a:pt x="1874" y="392"/>
                  <a:pt x="1905" y="431"/>
                  <a:pt x="1950" y="514"/>
                </a:cubicBezTo>
                <a:cubicBezTo>
                  <a:pt x="1995" y="597"/>
                  <a:pt x="2063" y="778"/>
                  <a:pt x="2086" y="831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9274400">
            <a:off x="4839120" y="5243760"/>
            <a:ext cx="1564560" cy="15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未知"/>
          <p:cNvSpPr/>
          <p:nvPr/>
        </p:nvSpPr>
        <p:spPr>
          <a:xfrm>
            <a:off x="5796000" y="5013360"/>
            <a:ext cx="2736720" cy="644400"/>
          </a:xfrm>
          <a:custGeom>
            <a:avLst/>
            <a:gdLst/>
            <a:ahLst/>
            <a:rect l="l" t="t" r="r" b="b"/>
            <a:pathLst>
              <a:path w="1043" h="227">
                <a:moveTo>
                  <a:pt x="0" y="227"/>
                </a:moveTo>
                <a:cubicBezTo>
                  <a:pt x="431" y="132"/>
                  <a:pt x="862" y="38"/>
                  <a:pt x="1043" y="0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8520" y="551664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=10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6960" y="4581360"/>
            <a:ext cx="10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23600">
            <a:off x="7061400" y="29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纸扇边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85800" y="465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1440" y="4941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78160" y="5516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0"/>
            <a:ext cx="33242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开心做一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1119240"/>
            <a:ext cx="8208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扇形的圆心角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2800" spc="-1" strike="noStrike" baseline="46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半径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弧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扇形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57720"/>
            <a:ext cx="84963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已知扇形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圆心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3200" spc="-1" strike="noStrike" baseline="46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半径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扇形的弧长是 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3π        B.4π         C.5π          D.6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213372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5600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189000"/>
            <a:ext cx="33242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66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开心做一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66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64000" y="1879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学了本节课你有哪些收获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 rot="567600">
            <a:off x="-17280" y="0"/>
            <a:ext cx="33512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五、小结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1828800"/>
            <a:ext cx="9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197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圆心角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°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对弧长为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492360" y="1700280"/>
          <a:ext cx="144000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700280"/>
                    <a:ext cx="1440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383120" y="63972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、弧长公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256536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扇形面积公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3141720"/>
            <a:ext cx="835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圆心角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°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扇形面积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扇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4869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扇形面积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弧长公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联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用弧长表示扇形面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76720" y="5445000"/>
            <a:ext cx="2016000" cy="1195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61880" y="4149720"/>
            <a:ext cx="1213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扇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4356000" y="3789360"/>
            <a:ext cx="107964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836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如图是圆弧形状的纸扇示意图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半径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圆心角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20°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能求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边沿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长度吗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纸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半径构成的面积是多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586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57718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未知"/>
          <p:cNvSpPr/>
          <p:nvPr/>
        </p:nvSpPr>
        <p:spPr>
          <a:xfrm>
            <a:off x="3092400" y="2997360"/>
            <a:ext cx="5440320" cy="2001600"/>
          </a:xfrm>
          <a:custGeom>
            <a:avLst/>
            <a:gdLst/>
            <a:ahLst/>
            <a:rect l="l" t="t" r="r" b="b"/>
            <a:pathLst>
              <a:path w="2086" h="831">
                <a:moveTo>
                  <a:pt x="0" y="740"/>
                </a:moveTo>
                <a:cubicBezTo>
                  <a:pt x="38" y="645"/>
                  <a:pt x="76" y="551"/>
                  <a:pt x="136" y="468"/>
                </a:cubicBezTo>
                <a:cubicBezTo>
                  <a:pt x="196" y="385"/>
                  <a:pt x="288" y="301"/>
                  <a:pt x="363" y="241"/>
                </a:cubicBezTo>
                <a:cubicBezTo>
                  <a:pt x="438" y="181"/>
                  <a:pt x="498" y="143"/>
                  <a:pt x="589" y="105"/>
                </a:cubicBezTo>
                <a:cubicBezTo>
                  <a:pt x="680" y="67"/>
                  <a:pt x="809" y="30"/>
                  <a:pt x="907" y="15"/>
                </a:cubicBezTo>
                <a:cubicBezTo>
                  <a:pt x="1005" y="0"/>
                  <a:pt x="1096" y="8"/>
                  <a:pt x="1179" y="15"/>
                </a:cubicBezTo>
                <a:cubicBezTo>
                  <a:pt x="1262" y="22"/>
                  <a:pt x="1338" y="37"/>
                  <a:pt x="1406" y="60"/>
                </a:cubicBezTo>
                <a:cubicBezTo>
                  <a:pt x="1474" y="83"/>
                  <a:pt x="1519" y="106"/>
                  <a:pt x="1587" y="151"/>
                </a:cubicBezTo>
                <a:cubicBezTo>
                  <a:pt x="1655" y="196"/>
                  <a:pt x="1754" y="272"/>
                  <a:pt x="1814" y="332"/>
                </a:cubicBezTo>
                <a:cubicBezTo>
                  <a:pt x="1874" y="392"/>
                  <a:pt x="1905" y="431"/>
                  <a:pt x="1950" y="514"/>
                </a:cubicBezTo>
                <a:cubicBezTo>
                  <a:pt x="1995" y="597"/>
                  <a:pt x="2063" y="778"/>
                  <a:pt x="2086" y="831"/>
                </a:cubicBezTo>
              </a:path>
            </a:pathLst>
          </a:custGeom>
          <a:noFill/>
          <a:ln w="101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274400">
            <a:off x="4839120" y="5243760"/>
            <a:ext cx="1564560" cy="154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未知"/>
          <p:cNvSpPr/>
          <p:nvPr/>
        </p:nvSpPr>
        <p:spPr>
          <a:xfrm>
            <a:off x="5796000" y="5013360"/>
            <a:ext cx="2736720" cy="644400"/>
          </a:xfrm>
          <a:custGeom>
            <a:avLst/>
            <a:gdLst/>
            <a:ahLst/>
            <a:rect l="l" t="t" r="r" b="b"/>
            <a:pathLst>
              <a:path w="1043" h="227">
                <a:moveTo>
                  <a:pt x="0" y="227"/>
                </a:moveTo>
                <a:cubicBezTo>
                  <a:pt x="431" y="132"/>
                  <a:pt x="862" y="38"/>
                  <a:pt x="1043" y="0"/>
                </a:cubicBezTo>
              </a:path>
            </a:pathLst>
          </a:custGeom>
          <a:noFill/>
          <a:ln w="7632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18520" y="5516640"/>
            <a:ext cx="17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=10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23600">
            <a:off x="7061400" y="299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纸扇边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5800" y="4653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61440" y="4941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8160" y="5516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211640" y="0"/>
            <a:ext cx="2305080" cy="83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一、情境引入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2852640"/>
            <a:ext cx="777708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1280" y="586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9810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制造弯形管道时，要先按中心线计算“展直长度”，再下料，试计算图所示管道的展直长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位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精确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223200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148360" y="5229360"/>
            <a:ext cx="1296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71640" y="2708280"/>
            <a:ext cx="7343640" cy="1994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弧长和扇形面积</a:t>
            </a:r>
            <a:endParaRPr b="0" lang="en-US" sz="4800" spc="1" strike="noStrike">
              <a:ln w="1260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7" name=""/>
          <p:cNvSpPr/>
          <p:nvPr/>
        </p:nvSpPr>
        <p:spPr>
          <a:xfrm>
            <a:off x="67644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隶书"/>
                <a:ea typeface="隶书"/>
              </a:rPr>
              <a:t>24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119700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扇形的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6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组成圆心角的两条半径和圆心角所对的弧所围成的图形叫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扇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3860640"/>
            <a:ext cx="2303640" cy="2162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91280" y="45086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22520" y="486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2520" y="37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371628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226400">
            <a:off x="5929560" y="3905640"/>
            <a:ext cx="2475360" cy="229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未知"/>
          <p:cNvSpPr/>
          <p:nvPr/>
        </p:nvSpPr>
        <p:spPr>
          <a:xfrm>
            <a:off x="6445080" y="4148280"/>
            <a:ext cx="1656000" cy="720720"/>
          </a:xfrm>
          <a:custGeom>
            <a:avLst/>
            <a:gdLst/>
            <a:ahLst/>
            <a:rect l="l" t="t" r="r" b="b"/>
            <a:pathLst>
              <a:path w="1043" h="454">
                <a:moveTo>
                  <a:pt x="0" y="0"/>
                </a:moveTo>
                <a:lnTo>
                  <a:pt x="499" y="454"/>
                </a:lnTo>
                <a:lnTo>
                  <a:pt x="1043" y="4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93372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扇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541200">
            <a:off x="2484360" y="333000"/>
            <a:ext cx="309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知</a:t>
            </a:r>
            <a:r>
              <a: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讲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91120" y="400536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19840" y="5300640"/>
            <a:ext cx="7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93040" y="3284640"/>
            <a:ext cx="105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907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、已知⊙</a:t>
            </a: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半径为</a:t>
            </a: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R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求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n°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圆心角所对弧长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57360"/>
            <a:ext cx="506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圆周长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206064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=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228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弧长是多少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5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2376360" cy="698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378936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的弧长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的弧长的多少倍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47973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0064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弧长是多少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692360" y="580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796000" y="1701720"/>
            <a:ext cx="2014560" cy="2016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9640" y="234936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6804000" y="2709720"/>
            <a:ext cx="1008000" cy="180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264" y="0"/>
                  <a:pt x="529" y="0"/>
                  <a:pt x="63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9080" y="2205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93440" y="220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7240" y="229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6804000" y="2708280"/>
            <a:ext cx="1008000" cy="21600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0"/>
                </a:moveTo>
                <a:cubicBezTo>
                  <a:pt x="246" y="56"/>
                  <a:pt x="492" y="113"/>
                  <a:pt x="590" y="1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451640" y="2276280"/>
            <a:ext cx="792360" cy="502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37960" y="1989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29242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8410800">
            <a:off x="6454440" y="2412360"/>
            <a:ext cx="72000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3068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560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30686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885080" y="2421000"/>
            <a:ext cx="43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8519400">
            <a:off x="5789160" y="1714680"/>
            <a:ext cx="2044080" cy="20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6012000" y="2708280"/>
            <a:ext cx="1368360" cy="792000"/>
          </a:xfrm>
          <a:custGeom>
            <a:avLst/>
            <a:gdLst/>
            <a:ahLst/>
            <a:rect l="l" t="t" r="r" b="b"/>
            <a:pathLst>
              <a:path w="862" h="499">
                <a:moveTo>
                  <a:pt x="0" y="409"/>
                </a:moveTo>
                <a:lnTo>
                  <a:pt x="499" y="0"/>
                </a:lnTo>
                <a:lnTo>
                  <a:pt x="862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378000">
            <a:off x="7405560" y="2575080"/>
            <a:ext cx="437760" cy="41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700000">
            <a:off x="5313240" y="274680"/>
            <a:ext cx="1054080" cy="350640"/>
          </a:xfrm>
          <a:custGeom>
            <a:avLst/>
            <a:gdLst>
              <a:gd name="textAreaLeft" fmla="*/ 184320 w 1054080"/>
              <a:gd name="textAreaRight" fmla="*/ 764280 w 1054080"/>
              <a:gd name="textAreaTop" fmla="*/ 46800 h 350640"/>
              <a:gd name="textAreaBottom" fmla="*/ 303840 h 350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600000">
            <a:off x="6035400" y="149040"/>
            <a:ext cx="736560" cy="188640"/>
          </a:xfrm>
          <a:custGeom>
            <a:avLst/>
            <a:gdLst>
              <a:gd name="textAreaLeft" fmla="*/ 128880 w 736560"/>
              <a:gd name="textAreaRight" fmla="*/ 534240 w 736560"/>
              <a:gd name="textAreaTop" fmla="*/ 25200 h 188640"/>
              <a:gd name="textAreaBottom" fmla="*/ 163440 h 18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5640" y="0"/>
            <a:ext cx="522360" cy="200160"/>
          </a:xfrm>
          <a:custGeom>
            <a:avLst/>
            <a:gdLst>
              <a:gd name="textAreaLeft" fmla="*/ 91440 w 522360"/>
              <a:gd name="textAreaRight" fmla="*/ 378720 w 52236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5800" y="528480"/>
            <a:ext cx="2643120" cy="176400"/>
          </a:xfrm>
          <a:prstGeom prst="flowChartInputOutpu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16000"/>
            <a:ext cx="1191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203640" y="0"/>
            <a:ext cx="1822320" cy="90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二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828800"/>
            <a:ext cx="9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00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981000"/>
            <a:ext cx="32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弧长公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628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设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圆心角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°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所对弧长为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348000" y="2637000"/>
          <a:ext cx="1440000" cy="107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637000"/>
                    <a:ext cx="14400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24000" y="393372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有时也可以用圆弧端点的字母加上弧的符号后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右上角写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来表示圆弧的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2349360"/>
            <a:ext cx="2014560" cy="2016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299736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7093080" y="3357720"/>
            <a:ext cx="1008000" cy="14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264" y="0"/>
                  <a:pt x="529" y="0"/>
                  <a:pt x="63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8160" y="2852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8252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76320" y="294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7093080" y="3355920"/>
            <a:ext cx="1008000" cy="21600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0"/>
                </a:moveTo>
                <a:cubicBezTo>
                  <a:pt x="246" y="56"/>
                  <a:pt x="492" y="113"/>
                  <a:pt x="590" y="136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未知"/>
          <p:cNvSpPr/>
          <p:nvPr/>
        </p:nvSpPr>
        <p:spPr>
          <a:xfrm>
            <a:off x="6157800" y="3355920"/>
            <a:ext cx="1656000" cy="720720"/>
          </a:xfrm>
          <a:custGeom>
            <a:avLst/>
            <a:gdLst/>
            <a:ahLst/>
            <a:rect l="l" t="t" r="r" b="b"/>
            <a:pathLst>
              <a:path w="998" h="454">
                <a:moveTo>
                  <a:pt x="998" y="454"/>
                </a:moveTo>
                <a:lnTo>
                  <a:pt x="544" y="0"/>
                </a:lnTo>
                <a:lnTo>
                  <a:pt x="0" y="273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8410800">
            <a:off x="6696000" y="2930040"/>
            <a:ext cx="720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02880" y="342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4432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162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5589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4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表示圆弧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CD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的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971640" y="5589720"/>
          <a:ext cx="64908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589720"/>
                    <a:ext cx="64908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 txBox="1"/>
          <p:nvPr/>
        </p:nvSpPr>
        <p:spPr>
          <a:xfrm rot="541200">
            <a:off x="250560" y="0"/>
            <a:ext cx="324000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知</a:t>
            </a:r>
            <a:r>
              <a: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09480" y="83664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已知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径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圆心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扇形的面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3413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半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面积是多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1916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S=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π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lang="en-US" sz="3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23493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圆心角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扇形的面积是多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006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747720" cy="84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3716280"/>
            <a:ext cx="585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圆心角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扇形的面积是圆心角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扇形的面积的多少倍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22936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圆心角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扇形的面积是多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5661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156360" y="2060640"/>
            <a:ext cx="2014560" cy="2016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20000" y="270828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未知"/>
          <p:cNvSpPr/>
          <p:nvPr/>
        </p:nvSpPr>
        <p:spPr>
          <a:xfrm>
            <a:off x="7164360" y="3068640"/>
            <a:ext cx="1008000" cy="14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264" y="0"/>
                  <a:pt x="529" y="0"/>
                  <a:pt x="63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9440" y="25639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53800" y="256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47600" y="265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未知"/>
          <p:cNvSpPr/>
          <p:nvPr/>
        </p:nvSpPr>
        <p:spPr>
          <a:xfrm>
            <a:off x="7164360" y="3067200"/>
            <a:ext cx="1008000" cy="215640"/>
          </a:xfrm>
          <a:custGeom>
            <a:avLst/>
            <a:gdLst/>
            <a:ahLst/>
            <a:rect l="l" t="t" r="r" b="b"/>
            <a:pathLst>
              <a:path w="590" h="136">
                <a:moveTo>
                  <a:pt x="0" y="0"/>
                </a:moveTo>
                <a:cubicBezTo>
                  <a:pt x="246" y="56"/>
                  <a:pt x="492" y="113"/>
                  <a:pt x="590" y="1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885080" y="2635200"/>
            <a:ext cx="432000" cy="5065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39400" y="22035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6229440" y="3067200"/>
            <a:ext cx="1655640" cy="720720"/>
          </a:xfrm>
          <a:custGeom>
            <a:avLst/>
            <a:gdLst/>
            <a:ahLst/>
            <a:rect l="l" t="t" r="r" b="b"/>
            <a:pathLst>
              <a:path w="998" h="454">
                <a:moveTo>
                  <a:pt x="998" y="454"/>
                </a:moveTo>
                <a:lnTo>
                  <a:pt x="544" y="0"/>
                </a:lnTo>
                <a:lnTo>
                  <a:pt x="0" y="273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42926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8410800">
            <a:off x="6767280" y="2641320"/>
            <a:ext cx="72000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164360" y="3715920"/>
            <a:ext cx="0" cy="716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74160" y="313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5960" y="378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342756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700000">
            <a:off x="5108400" y="277920"/>
            <a:ext cx="1076400" cy="350640"/>
          </a:xfrm>
          <a:custGeom>
            <a:avLst/>
            <a:gdLst>
              <a:gd name="textAreaLeft" fmla="*/ 188280 w 1076400"/>
              <a:gd name="textAreaRight" fmla="*/ 780480 w 1076400"/>
              <a:gd name="textAreaTop" fmla="*/ 46800 h 350640"/>
              <a:gd name="textAreaBottom" fmla="*/ 303840 h 350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0">
            <a:off x="5832000" y="147240"/>
            <a:ext cx="757440" cy="189000"/>
          </a:xfrm>
          <a:custGeom>
            <a:avLst/>
            <a:gdLst>
              <a:gd name="textAreaLeft" fmla="*/ 132480 w 757440"/>
              <a:gd name="textAreaRight" fmla="*/ 549360 w 757440"/>
              <a:gd name="textAreaTop" fmla="*/ 25200 h 189000"/>
              <a:gd name="textAreaBottom" fmla="*/ 163800 h 18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7280" y="0"/>
            <a:ext cx="536400" cy="200160"/>
          </a:xfrm>
          <a:custGeom>
            <a:avLst/>
            <a:gdLst>
              <a:gd name="textAreaLeft" fmla="*/ 93600 w 536400"/>
              <a:gd name="textAreaRight" fmla="*/ 388800 w 53640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11640" y="528480"/>
            <a:ext cx="2713320" cy="176400"/>
          </a:xfrm>
          <a:prstGeom prst="flowChartInputOutpu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216000"/>
            <a:ext cx="12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059280" y="0"/>
            <a:ext cx="1871640" cy="907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9640" y="18900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探究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5280" y="907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扇形面积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484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果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半径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圆心角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°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扇形面积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扇形，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39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扇形面积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弧长公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联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用弧长表示扇形面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00360" y="4724280"/>
            <a:ext cx="2016000" cy="1123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46160" y="2852640"/>
            <a:ext cx="1343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Times New Roman"/>
              </a:rPr>
              <a:t>扇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936720" cy="11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 rot="541200">
            <a:off x="610920" y="0"/>
            <a:ext cx="2736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知</a:t>
            </a:r>
            <a:r>
              <a:rPr b="1" lang="en-US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3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7:25:48Z</dcterms:created>
  <dc:creator>dinghuimin</dc:creator>
  <dc:description/>
  <dc:language>en-US</dc:language>
  <cp:lastModifiedBy>微软用户</cp:lastModifiedBy>
  <dcterms:modified xsi:type="dcterms:W3CDTF">2014-03-09T10:06:25Z</dcterms:modified>
  <cp:revision>328</cp:revision>
  <dc:subject/>
  <dc:title>第七章 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