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type.wav" ContentType="audio/x-wav"/>
  <Override PartName="/ppt/media/image1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chimes.wav" ContentType="audio/x-wav"/>
  <Override PartName="/ppt/media/image8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0F8-BE19-4F9B-ABCC-8A85B6A7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270-3E36-4810-BEF5-59BBEB03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455-6E46-476C-B4BC-4580CB45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666-3E8A-4FD3-B826-BAE02E53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443-B7BD-46A0-9CF6-1111E624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BDE-A7C2-4AB3-BC66-92AD361E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8FA-42DB-449E-9196-F82E61BB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6AA-C69F-46BD-9C20-6F9BB2DD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9B3-652E-4E4F-A152-5131330A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8BE-922E-4DC8-939A-390025F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562-B039-4D3A-B090-9397A3B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729-43A7-4AA8-835E-13AE6242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CE39-3C8B-46F8-8C03-C134978A25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9027952&amp;tn=baiduimagedetail&amp;word=&#22278;&#38181;&#20307;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圆锥的侧面积和全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265400" y="3933720"/>
            <a:ext cx="2773440" cy="2531880"/>
            <a:chOff x="1265400" y="3933720"/>
            <a:chExt cx="2773440" cy="2531880"/>
          </a:xfrm>
        </p:grpSpPr>
        <p:sp>
          <p:nvSpPr>
            <p:cNvPr id="121" name=""/>
            <p:cNvSpPr/>
            <p:nvPr/>
          </p:nvSpPr>
          <p:spPr>
            <a:xfrm>
              <a:off x="1706400" y="5805360"/>
              <a:ext cx="1947600" cy="60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265400" y="3933720"/>
              <a:ext cx="2773440" cy="2531880"/>
              <a:chOff x="1265400" y="3933720"/>
              <a:chExt cx="2773440" cy="253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1706040" y="4267800"/>
                <a:ext cx="1947600" cy="18046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06040" y="5805360"/>
                <a:ext cx="1947600" cy="6015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06040" y="6139440"/>
                <a:ext cx="194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79840" y="426780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39560" y="580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15240" y="39337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65400" y="5805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5440" y="5871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58400" y="600588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000" y="5203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11920" y="5003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2484360" y="1096920"/>
            <a:ext cx="63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圆锥的侧面积和全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752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圆锥的侧面积就是弧长为圆锥底面的周长、半径为圆锥的一条母线的长的扇形面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920" y="2514600"/>
            <a:ext cx="8457840" cy="870120"/>
            <a:chOff x="304920" y="2514600"/>
            <a:chExt cx="8457840" cy="870120"/>
          </a:xfrm>
        </p:grpSpPr>
        <p:sp>
          <p:nvSpPr>
            <p:cNvPr id="137" name=""/>
            <p:cNvSpPr/>
            <p:nvPr/>
          </p:nvSpPr>
          <p:spPr>
            <a:xfrm>
              <a:off x="304920" y="2514600"/>
              <a:ext cx="845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圆锥的全面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圆锥的侧面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底面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4550400" y="3168720"/>
                  <a:ext cx="1267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4886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5240" y="76176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圆锥的侧面积和全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2362320" cy="256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543800" y="2787480"/>
                <a:ext cx="5810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38880" y="4311720"/>
                <a:ext cx="1143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33520" y="19810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：设圆锥的母线长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底面半径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圆锥的侧面积公式为：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124080"/>
            <a:ext cx="3200400" cy="1148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5120" y="3178080"/>
                <a:ext cx="25970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侧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2476440" y="3733920"/>
            <a:ext cx="17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819520" y="3917880"/>
                <a:ext cx="65556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85800" y="457200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面积公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00560" y="609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5620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243400"/>
            <a:ext cx="3321000" cy="90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00200" y="5257800"/>
                <a:ext cx="3094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全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侧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底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351520" y="571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87040" y="571500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πra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πr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829800"/>
            <a:ext cx="8153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　一个圆锥形零件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底面半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求这个圆锥形零件的侧面积和全面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34178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906560" y="2781360"/>
            <a:ext cx="3729240" cy="3461760"/>
            <a:chOff x="1906560" y="2781360"/>
            <a:chExt cx="3729240" cy="3461760"/>
          </a:xfrm>
        </p:grpSpPr>
        <p:sp>
          <p:nvSpPr>
            <p:cNvPr id="159" name=""/>
            <p:cNvSpPr/>
            <p:nvPr/>
          </p:nvSpPr>
          <p:spPr>
            <a:xfrm>
              <a:off x="2525040" y="5401080"/>
              <a:ext cx="2725560" cy="842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906560" y="2781360"/>
              <a:ext cx="3729240" cy="3461040"/>
              <a:chOff x="1906560" y="2781360"/>
              <a:chExt cx="3729240" cy="3461040"/>
            </a:xfrm>
          </p:grpSpPr>
          <p:sp>
            <p:nvSpPr>
              <p:cNvPr id="161" name=""/>
              <p:cNvSpPr/>
              <p:nvPr/>
            </p:nvSpPr>
            <p:spPr>
              <a:xfrm>
                <a:off x="2524320" y="3248640"/>
                <a:ext cx="2726280" cy="25257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4320" y="5400720"/>
                <a:ext cx="2726280" cy="841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4320" y="5868360"/>
                <a:ext cx="272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87280" y="3248640"/>
                <a:ext cx="0" cy="261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70240" y="5400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16840" y="2781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06560" y="5400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52400" y="5493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37840" y="568152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89080" y="4559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32480" y="427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1793880"/>
            <a:ext cx="792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玩具厂生产一种圣诞老人的帽子，其圆锥形帽身的母线长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底面半径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生产这种帽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 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，你能帮玩具厂算一算至少需多少平方米的材料吗（不计接缝用料和余料，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1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10200" y="3316320"/>
            <a:ext cx="46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∵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=1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=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3680" y="524016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35.5×10 000 = 2 355 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5040" y="5883120"/>
            <a:ext cx="48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答：至少需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35.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米的材料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8120" y="1066680"/>
            <a:ext cx="4365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想一想   你现在能解决吗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21896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108000" y="303120"/>
            <a:ext cx="53352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824120" y="3716280"/>
            <a:ext cx="4608360" cy="1745640"/>
            <a:chOff x="1824120" y="3716280"/>
            <a:chExt cx="4608360" cy="1745640"/>
          </a:xfrm>
        </p:grpSpPr>
        <p:grpSp>
          <p:nvGrpSpPr>
            <p:cNvPr id="180" name=""/>
            <p:cNvGrpSpPr/>
            <p:nvPr/>
          </p:nvGrpSpPr>
          <p:grpSpPr>
            <a:xfrm>
              <a:off x="1824120" y="3716280"/>
              <a:ext cx="4608360" cy="1745640"/>
              <a:chOff x="1824120" y="3716280"/>
              <a:chExt cx="4608360" cy="1745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824120" y="3716280"/>
                <a:ext cx="4608360" cy="174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∴ </a:t>
                </a:r>
                <a:r>
                  <a:rPr b="0" i="1" lang="zh-CN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S</a:t>
                </a:r>
                <a:r>
                  <a:rPr b="0" lang="zh-CN" sz="2800" spc="-1" strike="noStrike" baseline="-25000">
                    <a:solidFill>
                      <a:srgbClr val="000000"/>
                    </a:solidFill>
                    <a:latin typeface="黑体"/>
                    <a:ea typeface="黑体"/>
                  </a:rPr>
                  <a:t>侧</a:t>
                </a:r>
                <a:r>
                  <a:rPr b="0" lang="zh-CN" sz="3200" spc="-1" strike="noStrike" baseline="-25000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=</a:t>
                </a:r>
                <a:r>
                  <a:rPr b="0" i="1" lang="zh-CN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πr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.14×5×15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=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35.5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cm</a:t>
                </a:r>
                <a:r>
                  <a:rPr b="0" lang="zh-CN" sz="40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)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3948120" y="3744720"/>
                    <a:ext cx="2844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3" name=""/>
                  <p:cNvSpPr txBox="1"/>
                  <p:nvPr/>
                </p:nvSpPr>
                <p:spPr>
                  <a:xfrm>
                    <a:off x="3936960" y="3744720"/>
                    <a:ext cx="15840" cy="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2922840" y="4260960"/>
                  <a:ext cx="52200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982800"/>
            <a:ext cx="7535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生活中的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圆锥侧面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　    蒙古包可以近似地看成由圆锥和圆柱组成的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如果想用毛毡搭建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个底面积为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35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高为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3.5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，外围高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.5 m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的蒙古包，至少需要多少平方米的毛毡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?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结果精确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523520" y="54864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先独立思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再与同伴交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信自己是第一个提供思路和答案的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59876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，圆锥的底面半径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母线长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一只蚂蚁要从底面圆周上一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出发，沿圆锥侧面爬行一圈再回到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问它爬行的最短路线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54160" y="4714920"/>
            <a:ext cx="2395080" cy="2069280"/>
            <a:chOff x="3854160" y="4714920"/>
            <a:chExt cx="2395080" cy="2069280"/>
          </a:xfrm>
        </p:grpSpPr>
        <p:grpSp>
          <p:nvGrpSpPr>
            <p:cNvPr id="191" name=""/>
            <p:cNvGrpSpPr/>
            <p:nvPr/>
          </p:nvGrpSpPr>
          <p:grpSpPr>
            <a:xfrm>
              <a:off x="4171680" y="4969440"/>
              <a:ext cx="1771920" cy="1664640"/>
              <a:chOff x="4171680" y="4969440"/>
              <a:chExt cx="1771920" cy="1664640"/>
            </a:xfrm>
          </p:grpSpPr>
          <p:sp>
            <p:nvSpPr>
              <p:cNvPr id="192" name=""/>
              <p:cNvSpPr/>
              <p:nvPr/>
            </p:nvSpPr>
            <p:spPr>
              <a:xfrm>
                <a:off x="4171680" y="4969440"/>
                <a:ext cx="1771920" cy="14907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90760" y="6284880"/>
                <a:ext cx="1735200" cy="34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190760" y="5794200"/>
              <a:ext cx="1362240" cy="666360"/>
            </a:xfrm>
            <a:custGeom>
              <a:avLst/>
              <a:gdLst/>
              <a:ahLst/>
              <a:rect l="l" t="t" r="r" b="b"/>
              <a:pathLst>
                <a:path w="858" h="459">
                  <a:moveTo>
                    <a:pt x="0" y="459"/>
                  </a:moveTo>
                  <a:cubicBezTo>
                    <a:pt x="210" y="426"/>
                    <a:pt x="421" y="394"/>
                    <a:pt x="564" y="318"/>
                  </a:cubicBezTo>
                  <a:cubicBezTo>
                    <a:pt x="707" y="242"/>
                    <a:pt x="809" y="53"/>
                    <a:pt x="8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00680" y="4714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4160" y="632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5840" y="629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70880" y="3398400"/>
            <a:ext cx="3085920" cy="3264120"/>
            <a:chOff x="3170880" y="3398400"/>
            <a:chExt cx="3085920" cy="3264120"/>
          </a:xfrm>
        </p:grpSpPr>
        <p:sp>
          <p:nvSpPr>
            <p:cNvPr id="199" name=""/>
            <p:cNvSpPr/>
            <p:nvPr/>
          </p:nvSpPr>
          <p:spPr>
            <a:xfrm rot="11039400">
              <a:off x="3274200" y="3494880"/>
              <a:ext cx="287892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92" y="514"/>
                  </a:moveTo>
                  <a:arcTo wR="10800" hR="10800" stAng="-4335320" swAng="8877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92" y="514"/>
                  </a:moveTo>
                  <a:arcTo wR="10800" hR="10800" stAng="-4335320" swAng="887765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4429080" y="3490920"/>
              <a:ext cx="6472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00720" y="31305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213080" y="3490920"/>
            <a:ext cx="216000" cy="2952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990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考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1219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手工制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已知一种圆锥模型的底面半径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高线长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能做出这个圆锥模型吗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952880" y="3346920"/>
            <a:ext cx="2827440" cy="3245760"/>
            <a:chOff x="4952880" y="3346920"/>
            <a:chExt cx="2827440" cy="3245760"/>
          </a:xfrm>
        </p:grpSpPr>
        <p:sp>
          <p:nvSpPr>
            <p:cNvPr id="206" name=""/>
            <p:cNvSpPr/>
            <p:nvPr/>
          </p:nvSpPr>
          <p:spPr>
            <a:xfrm>
              <a:off x="6705720" y="5554440"/>
              <a:ext cx="1074600" cy="1038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52880" y="3346920"/>
              <a:ext cx="2585880" cy="249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06" y="92"/>
                  </a:moveTo>
                  <a:arcTo wR="10800" hR="10800" stAng="-4951297" swAng="173160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06" y="92"/>
                  </a:moveTo>
                  <a:arcTo wR="10800" hR="10800" stAng="-4951297" swAng="17316035"/>
                </a:path>
              </a:pathLst>
            </a:cu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2880" y="3346920"/>
              <a:ext cx="2585880" cy="249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06" y="92"/>
                  </a:moveTo>
                  <a:arcTo wR="10800" hR="10800" stAng="-4951297" swAng="173160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06" y="92"/>
                  </a:moveTo>
                  <a:arcTo wR="10800" hR="10800" stAng="-4951297" swAng="17316035"/>
                </a:path>
              </a:pathLst>
            </a:cu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5554440"/>
              <a:ext cx="1074600" cy="10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246720" y="3352680"/>
              <a:ext cx="168480" cy="12366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6440" y="4027320"/>
              <a:ext cx="1160280" cy="587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11880" y="6026040"/>
              <a:ext cx="6048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25680" y="3352680"/>
            <a:ext cx="2440800" cy="2819520"/>
            <a:chOff x="1525680" y="3352680"/>
            <a:chExt cx="2440800" cy="2819520"/>
          </a:xfrm>
        </p:grpSpPr>
        <p:sp>
          <p:nvSpPr>
            <p:cNvPr id="214" name=""/>
            <p:cNvSpPr/>
            <p:nvPr/>
          </p:nvSpPr>
          <p:spPr>
            <a:xfrm>
              <a:off x="1905120" y="5486400"/>
              <a:ext cx="167616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25680" y="3352680"/>
              <a:ext cx="2440800" cy="2819520"/>
              <a:chOff x="1525680" y="3352680"/>
              <a:chExt cx="2440800" cy="2819520"/>
            </a:xfrm>
          </p:grpSpPr>
          <p:sp>
            <p:nvSpPr>
              <p:cNvPr id="216" name=""/>
              <p:cNvSpPr/>
              <p:nvPr/>
            </p:nvSpPr>
            <p:spPr>
              <a:xfrm>
                <a:off x="1904760" y="3733560"/>
                <a:ext cx="1676520" cy="2057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904760" y="5486400"/>
                <a:ext cx="1676520" cy="685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04760" y="586728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42840" y="3733560"/>
                <a:ext cx="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63400" y="53877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16040" y="3352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525680" y="54864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83080" y="5562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14200" y="5589360"/>
                <a:ext cx="35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4280" y="465120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01840" y="4422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38080" y="24415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本节课我们认识了圆锥的侧面展开图，学会计算圆锥的侧面积和全面积，在认识圆锥的侧面展开图时，应知道圆锥的底面周长就是其侧面展开图扇形的弧长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圆锥的母线就是其侧面展开图扇形的半径，这样在计算侧面积和全面积时才能做到熟练、准确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16304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本节课我们有什么收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6720" y="1828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    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2819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科书习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７、８、９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2280" y="266688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，玩具厂生产一种圣诞老人的帽子，其帽身是圆锥形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 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底面半径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生产这种帽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 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，你能帮玩具厂算一算至少需多少平方米的材料吗（不计接缝用料和余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554880" y="2819520"/>
            <a:ext cx="1979640" cy="2364480"/>
            <a:chOff x="6554880" y="2819520"/>
            <a:chExt cx="1979640" cy="2364480"/>
          </a:xfrm>
        </p:grpSpPr>
        <p:sp>
          <p:nvSpPr>
            <p:cNvPr id="44" name=""/>
            <p:cNvSpPr/>
            <p:nvPr/>
          </p:nvSpPr>
          <p:spPr>
            <a:xfrm>
              <a:off x="6858000" y="2819520"/>
              <a:ext cx="1676520" cy="2057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5488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1676520" y="1413000"/>
            <a:ext cx="58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想一想   你会解决吗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0" y="2511360"/>
            <a:ext cx="2061720" cy="2791080"/>
            <a:chOff x="6858000" y="2511360"/>
            <a:chExt cx="2061720" cy="2791080"/>
          </a:xfrm>
        </p:grpSpPr>
        <p:sp>
          <p:nvSpPr>
            <p:cNvPr id="48" name=""/>
            <p:cNvSpPr/>
            <p:nvPr/>
          </p:nvSpPr>
          <p:spPr>
            <a:xfrm>
              <a:off x="7545240" y="2511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536320" y="4721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858000" y="2816280"/>
              <a:ext cx="1676520" cy="2486160"/>
              <a:chOff x="6858000" y="2816280"/>
              <a:chExt cx="1676520" cy="2486160"/>
            </a:xfrm>
          </p:grpSpPr>
          <p:sp>
            <p:nvSpPr>
              <p:cNvPr id="51" name=""/>
              <p:cNvSpPr/>
              <p:nvPr/>
            </p:nvSpPr>
            <p:spPr>
              <a:xfrm>
                <a:off x="6858000" y="4568760"/>
                <a:ext cx="167652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858000" y="4568760"/>
                <a:ext cx="1676520" cy="685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8000" y="4949640"/>
                <a:ext cx="1676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43800" y="45687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6480" y="4721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30680" y="37306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66200" y="4492440"/>
                <a:ext cx="296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96080" y="2816280"/>
                <a:ext cx="83844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2"/>
          </p:cNvPr>
          <p:cNvPicPr/>
          <p:nvPr/>
        </p:nvPicPr>
        <p:blipFill>
          <a:blip r:embed="rId3"/>
          <a:srcRect l="20378" t="12976" r="23150" b="8220"/>
          <a:stretch/>
        </p:blipFill>
        <p:spPr>
          <a:xfrm>
            <a:off x="1535040" y="2133720"/>
            <a:ext cx="1708200" cy="2170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38520" y="1066680"/>
            <a:ext cx="2610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认识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rcRect l="0" t="0" r="0" b="22122"/>
          <a:stretch/>
        </p:blipFill>
        <p:spPr>
          <a:xfrm>
            <a:off x="4648320" y="4572000"/>
            <a:ext cx="3352680" cy="1901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rcRect l="7064" t="12293" r="14127" b="12895"/>
          <a:stretch/>
        </p:blipFill>
        <p:spPr>
          <a:xfrm>
            <a:off x="1447920" y="4800600"/>
            <a:ext cx="1981080" cy="1771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572000" y="1981080"/>
            <a:ext cx="18730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圆锥是由一个底面和一个侧面围成的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它的底面是一个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侧面是一个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曲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5053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把圆锥底面圆周上的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任意一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与圆锥顶点的连线叫做圆锥的母线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631560" y="4038480"/>
            <a:ext cx="2248200" cy="2534040"/>
            <a:chOff x="6631560" y="4038480"/>
            <a:chExt cx="2248200" cy="2534040"/>
          </a:xfrm>
        </p:grpSpPr>
        <p:sp>
          <p:nvSpPr>
            <p:cNvPr id="67" name=""/>
            <p:cNvSpPr/>
            <p:nvPr/>
          </p:nvSpPr>
          <p:spPr>
            <a:xfrm>
              <a:off x="6880320" y="5811480"/>
              <a:ext cx="1613520" cy="569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80320" y="4354920"/>
              <a:ext cx="1613520" cy="1709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80320" y="5811480"/>
              <a:ext cx="1613520" cy="569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0320" y="6066000"/>
              <a:ext cx="1613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86000" y="4326120"/>
              <a:ext cx="0" cy="1773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24720" y="6051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8560" y="4038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31560" y="596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96360" y="58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52680" y="5898240"/>
              <a:ext cx="35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84120" y="5094360"/>
              <a:ext cx="45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08280" y="490356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624800" y="54594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24760" y="6273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3320" y="6324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76760" y="544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162560" y="4343400"/>
            <a:ext cx="53316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83480" y="4356000"/>
            <a:ext cx="609480" cy="1981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1430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圆锥的再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876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问题：圆锥的母线有几条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1600200"/>
            <a:ext cx="74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连接顶点与底面圆心的线段叫做圆锥的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3623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中</a:t>
            </a:r>
            <a:r>
              <a:rPr b="0" i="1" lang="zh-CN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圆锥的一条母线，而</a:t>
            </a:r>
            <a:r>
              <a:rPr b="0" i="1" lang="zh-CN" sz="28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就是圆锥的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809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圆锥的底面半径、高线、母线长三者之间的关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47920" y="5105520"/>
                <a:ext cx="42465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1" name=""/>
          <p:cNvGrpSpPr/>
          <p:nvPr/>
        </p:nvGrpSpPr>
        <p:grpSpPr>
          <a:xfrm>
            <a:off x="6478920" y="2438280"/>
            <a:ext cx="2484360" cy="2936160"/>
            <a:chOff x="6478920" y="2438280"/>
            <a:chExt cx="2484360" cy="2936160"/>
          </a:xfrm>
        </p:grpSpPr>
        <p:sp>
          <p:nvSpPr>
            <p:cNvPr id="92" name=""/>
            <p:cNvSpPr/>
            <p:nvPr/>
          </p:nvSpPr>
          <p:spPr>
            <a:xfrm>
              <a:off x="6866280" y="4659480"/>
              <a:ext cx="1711800" cy="71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478920" y="2438280"/>
              <a:ext cx="2484360" cy="2936160"/>
              <a:chOff x="6478920" y="2438280"/>
              <a:chExt cx="2484360" cy="2936160"/>
            </a:xfrm>
          </p:grpSpPr>
          <p:sp>
            <p:nvSpPr>
              <p:cNvPr id="94" name=""/>
              <p:cNvSpPr/>
              <p:nvPr/>
            </p:nvSpPr>
            <p:spPr>
              <a:xfrm>
                <a:off x="6865920" y="2834640"/>
                <a:ext cx="1712160" cy="21416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65920" y="4659120"/>
                <a:ext cx="1712160" cy="7138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65920" y="5055840"/>
                <a:ext cx="171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22000" y="2834640"/>
                <a:ext cx="0" cy="222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33560" y="45565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89800" y="24382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78920" y="4659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579880" y="4738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80040" y="4793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23800" y="37882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190720" y="3550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90512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根据下列条件求值（其中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别是圆锥的底面半径、高线、母线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则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=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则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则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_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248520" y="3733920"/>
          <a:ext cx="2430360" cy="27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3733920"/>
                    <a:ext cx="243036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200400" y="838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填      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22760" y="121932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动一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0574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准备好的圆锥模型沿着母线剪开，观察圆锥的侧面展开图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3276720"/>
          <a:ext cx="18464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27672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514600" y="2819520"/>
          <a:ext cx="6332400" cy="21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2819520"/>
                    <a:ext cx="63324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81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      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876920"/>
            <a:ext cx="556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2971800"/>
            <a:ext cx="6248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锥的侧面展开图是什么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计算圆锥的侧面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计算圆锥的全面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6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锥及侧面展开图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38280" y="1749600"/>
            <a:ext cx="6166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韩米娜</dc:creator>
  <dc:description/>
  <dc:language>en-US</dc:language>
  <cp:lastModifiedBy>pepyx</cp:lastModifiedBy>
  <dcterms:modified xsi:type="dcterms:W3CDTF">2007-05-10T01:26:20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