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D75-E334-4D4C-909A-F68382CD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C18-C97B-483C-9AA6-A84B84B7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36DE-38A0-4686-B7A1-101F97CA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865-1D16-4238-89DE-EB5826E5A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E69-77F8-43A9-994E-84F67952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0A6-1BBB-46C2-9D2E-C5937FED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7B4-8FD2-43F5-8213-2C476C1A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ACB-D2A3-4857-8655-8EB4469E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D4B-FB11-4CA3-8066-8B1804F2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EED-BCF6-42BC-9D82-45ED2B84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B59-797D-4E19-8F1B-FC9B9787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591-C593-40AC-BF6D-CA4C6EF5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B79F-49F4-4A19-9088-0CB4D186D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7491;&#22810;&#36793;&#24418;&#21644;&#22278;.gsp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825560" y="2419200"/>
            <a:ext cx="64915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24.3  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正多边形和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280" y="191628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教科书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习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4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５、６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．思考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形的一个内角的度数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心角呢？正多边形的中心角与外角的大小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正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形的半径，边心距，边长又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0920" y="1353600"/>
            <a:ext cx="548352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576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看下列美丽的图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87280" y="2421000"/>
          <a:ext cx="5905800" cy="181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87280" y="2421000"/>
                    <a:ext cx="590580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403280" y="4221000"/>
            <a:ext cx="2540160" cy="2637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211640" y="4365720"/>
            <a:ext cx="273672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47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美丽的图案，都是在日常生活中我们经常能看到的、利用正多边形得到的物体．你能从这些图案中找出正多边形来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1844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知道正多边形和圆有什么关系吗？你能否借助圆做出一个正多边形来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8137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将一个圆五等分，依次连接各分点得到一个五边形，这个五边形一定是正五边形吗？如果是请你证明这个结论．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07664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将圆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分，依次连接各分点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一个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形，这个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形一定是正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边形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1280" y="2060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问题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  各边相等的圆内接多边形是正多边形吗？各角相等的圆内接多边形呢？如果是，说明为什么？如果不是，举出反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58183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生观看课件，理解概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596360" y="5084640"/>
            <a:ext cx="1031760" cy="13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4000" y="3166920"/>
            <a:ext cx="8351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一个亭子（如图）它的地基是半径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4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的正六边形，求地基的周长和面积（精确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　　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24360" y="4292640"/>
          <a:ext cx="171612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4292640"/>
                    <a:ext cx="17161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13564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完成教材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1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页习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题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85080" y="5526000"/>
            <a:ext cx="103176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6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完这节课你有哪些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4:31:38Z</dcterms:created>
  <dc:creator>user</dc:creator>
  <dc:description/>
  <dc:language>en-US</dc:language>
  <cp:lastModifiedBy>pepyx</cp:lastModifiedBy>
  <dcterms:modified xsi:type="dcterms:W3CDTF">2007-05-08T08:03:53Z</dcterms:modified>
  <cp:revision>51</cp:revision>
  <dc:subject/>
  <dc:title>幻灯片 1</dc:title>
</cp:coreProperties>
</file>