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E5CF-5A8A-426C-990E-24769EB902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7.wmf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44560" y="3065400"/>
            <a:ext cx="3670560" cy="3280320"/>
            <a:chOff x="1744560" y="3065400"/>
            <a:chExt cx="3670560" cy="32803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1744560" y="3065400"/>
              <a:ext cx="3670560" cy="31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V="1">
              <a:off x="3522600" y="5270760"/>
              <a:ext cx="1088640" cy="10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1" y="7644"/>
                  </a:moveTo>
                  <a:arcTo wR="10800" hR="10800" stAng="-9780591" swAng="8544029"/>
                  <a:lnTo>
                    <a:pt x="10800" y="10800"/>
                  </a:lnTo>
                  <a:close/>
                </a:path>
                <a:path fill="none" w="21600" h="21600">
                  <a:moveTo>
                    <a:pt x="471" y="7644"/>
                  </a:moveTo>
                  <a:arcTo wR="10800" hR="10800" stAng="-9780591" swAng="8544029"/>
                </a:path>
              </a:pathLst>
            </a:custGeom>
            <a:noFill/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811160" y="4267080"/>
            <a:ext cx="857520" cy="8146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21440" y="3135240"/>
            <a:ext cx="2089080" cy="2032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3000" y="1393920"/>
            <a:ext cx="51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圆和圆的位置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4720" y="2457360"/>
            <a:ext cx="4165560" cy="4076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038400" y="2892600"/>
            <a:ext cx="200340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960720" y="3422520"/>
            <a:ext cx="2671920" cy="2730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398600" y="1028880"/>
            <a:ext cx="72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两圆半径分别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圆心的坐标分别是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和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试判断这两圆的位置关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838680" y="3746520"/>
            <a:ext cx="1512720" cy="1209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4554360" y="3805200"/>
            <a:ext cx="579600" cy="793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86240" y="41904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应         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8520" y="245736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94560" y="4941720"/>
            <a:ext cx="32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8240" y="1473120"/>
            <a:ext cx="818532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空题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半径分别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设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则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位置关系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则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位置关系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则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位置关系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则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位置关系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则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位置关系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则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位置关系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62760" y="199692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外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61320" y="276372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外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93000" y="34750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45480" y="42354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内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61320" y="497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内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78800" y="574056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心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95800" y="476280"/>
            <a:ext cx="30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057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41640" y="378144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&lt;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39800" y="478800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5040" y="3264480"/>
            <a:ext cx="798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两圆半径分别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如果两圆相交，则圆心距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取值范围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39680" y="4511520"/>
            <a:ext cx="775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如果两圆外离，则圆心距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取值范围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19000" y="1382760"/>
            <a:ext cx="78915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⊙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半径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⊙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半径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⊙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⊙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切，则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95800" y="476280"/>
            <a:ext cx="30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76240" y="1589040"/>
            <a:ext cx="826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图中有两圆的多种位置关系，请你找出还没有的位置关系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927520" y="3078000"/>
            <a:ext cx="2876400" cy="2876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999120" y="210492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外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95800" y="476280"/>
            <a:ext cx="30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22200" y="1252440"/>
            <a:ext cx="74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圆五种位置关系中，两圆半径与圆心距的数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87440" y="2087640"/>
            <a:ext cx="865080" cy="865080"/>
          </a:xfrm>
          <a:prstGeom prst="ellipse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6840" y="2408400"/>
            <a:ext cx="303120" cy="303120"/>
          </a:xfrm>
          <a:prstGeom prst="ellipse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63960" y="2098800"/>
            <a:ext cx="884160" cy="884160"/>
          </a:xfrm>
          <a:prstGeom prst="ellipse">
            <a:avLst/>
          </a:prstGeom>
          <a:noFill/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44880" y="2344680"/>
            <a:ext cx="331920" cy="331920"/>
          </a:xfrm>
          <a:prstGeom prst="ellipse">
            <a:avLst/>
          </a:prstGeom>
          <a:noFill/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03760" y="2060640"/>
            <a:ext cx="884160" cy="884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3320" y="2349360"/>
            <a:ext cx="351000" cy="351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16640" y="2075040"/>
            <a:ext cx="808200" cy="8078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35680" y="2266920"/>
            <a:ext cx="373320" cy="37296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1480" y="2070000"/>
            <a:ext cx="884160" cy="884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26400" y="2281320"/>
            <a:ext cx="407880" cy="40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77840" y="4513320"/>
            <a:ext cx="62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两圆相切及相交时的对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19040" y="1969920"/>
          <a:ext cx="8363160" cy="2265120"/>
        </p:xfrm>
        <a:graphic>
          <a:graphicData uri="http://schemas.openxmlformats.org/drawingml/2006/table">
            <a:tbl>
              <a:tblPr/>
              <a:tblGrid>
                <a:gridCol w="857160"/>
                <a:gridCol w="1516320"/>
                <a:gridCol w="1589040"/>
                <a:gridCol w="1600200"/>
                <a:gridCol w="1428840"/>
                <a:gridCol w="137160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性质及判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公共点个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312920" y="31748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外离　　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730520" y="3203640"/>
                <a:ext cx="3920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2962440" y="318456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外切　　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398760" y="3214800"/>
                <a:ext cx="3920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443480" y="3252960"/>
            <a:ext cx="188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外离　 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772160" y="3281400"/>
                <a:ext cx="30780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032520" y="32320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内切　　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526080" y="3224160"/>
                <a:ext cx="3924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7419960" y="3262320"/>
            <a:ext cx="152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内含　　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773840" y="3238560"/>
                <a:ext cx="3924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397160" y="3749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没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3080" y="376380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95840" y="3763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两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51400" y="375444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40560" y="3749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没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1880" y="512280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个圆一定组成一个轴对称图形，其对称轴是两圆连心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当两圆相切时，切点一定在连心线上；</a:t>
            </a:r>
            <a:r>
              <a:rPr b="1" i="1" lang="zh-CN" sz="2400" spc="-1" strike="noStrike">
                <a:solidFill>
                  <a:srgbClr val="ff0066"/>
                </a:solidFill>
                <a:latin typeface="宋体"/>
              </a:rPr>
              <a:t>当两圆相交时，连心线垂直平分公共弦</a:t>
            </a:r>
            <a:r>
              <a:rPr b="1" i="1" lang="zh-CN" sz="2400" spc="-1" strike="noStrike">
                <a:solidFill>
                  <a:srgbClr val="ff0066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95800" y="476280"/>
            <a:ext cx="30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90840" y="39996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复习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4880" y="33717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线和圆的位置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0" y="1989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和圆的位置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62640" y="1905120"/>
            <a:ext cx="1562040" cy="1562040"/>
          </a:xfrm>
          <a:prstGeom prst="ellipse">
            <a:avLst/>
          </a:prstGeom>
          <a:noFill/>
          <a:ln w="66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876920" y="3562200"/>
            <a:ext cx="3924360" cy="1371240"/>
            <a:chOff x="4876920" y="3562200"/>
            <a:chExt cx="3924360" cy="1371240"/>
          </a:xfrm>
        </p:grpSpPr>
        <p:sp>
          <p:nvSpPr>
            <p:cNvPr id="56" name=""/>
            <p:cNvSpPr/>
            <p:nvPr/>
          </p:nvSpPr>
          <p:spPr>
            <a:xfrm flipV="1">
              <a:off x="4876920" y="3657240"/>
              <a:ext cx="3352680" cy="12762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58240" y="3562200"/>
              <a:ext cx="7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391520" y="1238400"/>
            <a:ext cx="857160" cy="642600"/>
            <a:chOff x="7391520" y="1238400"/>
            <a:chExt cx="857160" cy="642600"/>
          </a:xfrm>
        </p:grpSpPr>
        <p:sp>
          <p:nvSpPr>
            <p:cNvPr id="59" name=""/>
            <p:cNvSpPr/>
            <p:nvPr/>
          </p:nvSpPr>
          <p:spPr>
            <a:xfrm>
              <a:off x="7391520" y="1562400"/>
              <a:ext cx="95040" cy="95040"/>
            </a:xfrm>
            <a:prstGeom prst="flowChartConnector">
              <a:avLst/>
            </a:prstGeom>
            <a:solidFill>
              <a:srgbClr val="ff0000"/>
            </a:solidFill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05640" y="1238400"/>
              <a:ext cx="7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70040" y="52275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个圆的位置关系如何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ShockwaveFlash1"/>
          <p:cNvGraphicFramePr/>
          <p:nvPr/>
        </p:nvGraphicFramePr>
        <p:xfrm>
          <a:off x="1262160" y="2162160"/>
          <a:ext cx="6939000" cy="45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2160" y="2162160"/>
                    <a:ext cx="693900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55720" y="1030320"/>
            <a:ext cx="79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摆一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面有许多圆，用鼠标指着圆心，按下左键就能将圆放到你想要的位置，请你根据刚才的观察，摆出你心中两圆的各种位置关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99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动手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ShockwaveFlash1"/>
          <p:cNvGraphicFramePr/>
          <p:nvPr/>
        </p:nvGraphicFramePr>
        <p:xfrm>
          <a:off x="1109520" y="1774800"/>
          <a:ext cx="7344000" cy="439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9520" y="1774800"/>
                    <a:ext cx="73440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390840" y="476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观         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2760" y="1200240"/>
            <a:ext cx="47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圆的五种位置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67200" y="11001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两圆的位置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706840" y="1565280"/>
            <a:ext cx="3639600" cy="1171080"/>
            <a:chOff x="2706840" y="1565280"/>
            <a:chExt cx="3639600" cy="1171080"/>
          </a:xfrm>
        </p:grpSpPr>
        <p:sp>
          <p:nvSpPr>
            <p:cNvPr id="72" name=""/>
            <p:cNvSpPr/>
            <p:nvPr/>
          </p:nvSpPr>
          <p:spPr>
            <a:xfrm>
              <a:off x="4618440" y="1565280"/>
              <a:ext cx="1080" cy="5547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06840" y="2120040"/>
              <a:ext cx="3638520" cy="10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6840" y="2120040"/>
              <a:ext cx="0" cy="61632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18440" y="2120040"/>
              <a:ext cx="1080" cy="61632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45360" y="2120040"/>
              <a:ext cx="1080" cy="61632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842080" y="2738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相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8040" y="2728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62080" y="27892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相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8400" y="4395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21000" y="4464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8880" y="44402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44337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98560" y="3203640"/>
            <a:ext cx="5400360" cy="1162080"/>
            <a:chOff x="1798560" y="3203640"/>
            <a:chExt cx="5400360" cy="1162080"/>
          </a:xfrm>
        </p:grpSpPr>
        <p:grpSp>
          <p:nvGrpSpPr>
            <p:cNvPr id="85" name=""/>
            <p:cNvGrpSpPr/>
            <p:nvPr/>
          </p:nvGrpSpPr>
          <p:grpSpPr>
            <a:xfrm>
              <a:off x="1798560" y="3271680"/>
              <a:ext cx="5400360" cy="1024920"/>
              <a:chOff x="1798560" y="3271680"/>
              <a:chExt cx="5400360" cy="102492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1798560" y="3271680"/>
                <a:ext cx="1367280" cy="1024920"/>
                <a:chOff x="1798560" y="3271680"/>
                <a:chExt cx="1367280" cy="10249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413440" y="3271680"/>
                  <a:ext cx="0" cy="34164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798560" y="3613320"/>
                  <a:ext cx="1367280" cy="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98560" y="3613320"/>
                  <a:ext cx="0" cy="68328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165840" y="3613320"/>
                  <a:ext cx="0" cy="68328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5832000" y="3271680"/>
                <a:ext cx="1366920" cy="1024920"/>
                <a:chOff x="5832000" y="3271680"/>
                <a:chExt cx="1366920" cy="10249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446880" y="3271680"/>
                  <a:ext cx="0" cy="34164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832000" y="3613320"/>
                  <a:ext cx="1366920" cy="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832000" y="3613320"/>
                  <a:ext cx="0" cy="68328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198920" y="3613320"/>
                  <a:ext cx="0" cy="68328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4533120" y="3203640"/>
              <a:ext cx="0" cy="11620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86280" y="4459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9120" y="5326200"/>
            <a:ext cx="1461960" cy="838080"/>
            <a:chOff x="519120" y="5326200"/>
            <a:chExt cx="1461960" cy="838080"/>
          </a:xfrm>
        </p:grpSpPr>
        <p:sp>
          <p:nvSpPr>
            <p:cNvPr id="99" name=""/>
            <p:cNvSpPr/>
            <p:nvPr/>
          </p:nvSpPr>
          <p:spPr>
            <a:xfrm>
              <a:off x="1465200" y="5595840"/>
              <a:ext cx="515880" cy="568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9120" y="5326200"/>
              <a:ext cx="762120" cy="838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5478480"/>
            <a:ext cx="1108080" cy="654120"/>
            <a:chOff x="5410080" y="5478480"/>
            <a:chExt cx="1108080" cy="654120"/>
          </a:xfrm>
        </p:grpSpPr>
        <p:sp>
          <p:nvSpPr>
            <p:cNvPr id="102" name=""/>
            <p:cNvSpPr/>
            <p:nvPr/>
          </p:nvSpPr>
          <p:spPr>
            <a:xfrm flipH="1">
              <a:off x="5410080" y="5478480"/>
              <a:ext cx="676800" cy="654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091200" y="5665680"/>
              <a:ext cx="426960" cy="412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62320" y="5173560"/>
            <a:ext cx="1218960" cy="1219320"/>
            <a:chOff x="2362320" y="5173560"/>
            <a:chExt cx="1218960" cy="1219320"/>
          </a:xfrm>
        </p:grpSpPr>
        <p:sp>
          <p:nvSpPr>
            <p:cNvPr id="105" name=""/>
            <p:cNvSpPr/>
            <p:nvPr/>
          </p:nvSpPr>
          <p:spPr>
            <a:xfrm>
              <a:off x="2362320" y="5173560"/>
              <a:ext cx="1218960" cy="1219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14600" y="5478480"/>
              <a:ext cx="608040" cy="60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010280" y="5043600"/>
            <a:ext cx="1317600" cy="1317600"/>
            <a:chOff x="7010280" y="5043600"/>
            <a:chExt cx="1317600" cy="1317600"/>
          </a:xfrm>
        </p:grpSpPr>
        <p:sp>
          <p:nvSpPr>
            <p:cNvPr id="108" name=""/>
            <p:cNvSpPr/>
            <p:nvPr/>
          </p:nvSpPr>
          <p:spPr>
            <a:xfrm>
              <a:off x="7010280" y="5043600"/>
              <a:ext cx="1317600" cy="1317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97720" y="5324760"/>
              <a:ext cx="830160" cy="830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9880" y="5316480"/>
            <a:ext cx="1371240" cy="986040"/>
            <a:chOff x="3809880" y="5316480"/>
            <a:chExt cx="1371240" cy="986040"/>
          </a:xfrm>
        </p:grpSpPr>
        <p:sp>
          <p:nvSpPr>
            <p:cNvPr id="111" name=""/>
            <p:cNvSpPr/>
            <p:nvPr/>
          </p:nvSpPr>
          <p:spPr>
            <a:xfrm>
              <a:off x="3809880" y="5316480"/>
              <a:ext cx="985680" cy="986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59760" y="5487840"/>
              <a:ext cx="621360" cy="621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467160" y="438120"/>
            <a:ext cx="24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归          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ShockwaveFlash2"/>
          <p:cNvGraphicFramePr/>
          <p:nvPr/>
        </p:nvGraphicFramePr>
        <p:xfrm>
          <a:off x="1324080" y="2046240"/>
          <a:ext cx="6791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ShockwaveFlash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2046240"/>
                    <a:ext cx="6791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848040" y="399960"/>
            <a:ext cx="25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探究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66960" y="1009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圆的位置关系中两圆圆心距与两圆半径间有怎样的数量关系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127320" y="2073240"/>
          <a:ext cx="101304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7320" y="2073240"/>
                    <a:ext cx="10130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438800" y="2065320"/>
          <a:ext cx="17920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38800" y="2065320"/>
                    <a:ext cx="1792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376880" y="2959200"/>
          <a:ext cx="1800000" cy="52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76880" y="2959200"/>
                    <a:ext cx="18000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302000" y="3701880"/>
          <a:ext cx="3171960" cy="55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02000" y="3701880"/>
                    <a:ext cx="317196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363920" y="4603680"/>
          <a:ext cx="1578240" cy="542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63920" y="4603680"/>
                    <a:ext cx="1578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367160" y="5522760"/>
          <a:ext cx="1724040" cy="493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67160" y="5522760"/>
                    <a:ext cx="17240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130400" y="1077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两圆半径分别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圆心距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＞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200" y="29588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两圆外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08920" y="37382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两圆相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08920" y="456516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两圆内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54920" y="5449680"/>
            <a:ext cx="121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宋体"/>
                <a:ea typeface="Times New Roman"/>
              </a:rPr>
              <a:t>两圆内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00" y="49248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38800" y="207972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</a:rPr>
              <a:t>两圆外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160800" y="2965320"/>
          <a:ext cx="1012680" cy="581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60800" y="2965320"/>
                    <a:ext cx="10126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213000" y="3678120"/>
          <a:ext cx="1013040" cy="581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213000" y="3678120"/>
                    <a:ext cx="10130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197160" y="4562640"/>
          <a:ext cx="1013040" cy="581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197160" y="4562640"/>
                    <a:ext cx="10130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224160" y="5408640"/>
          <a:ext cx="1013040" cy="5810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224160" y="5408640"/>
                    <a:ext cx="10130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352680" y="36180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结　　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ShockwaveFlash1"/>
          <p:cNvGraphicFramePr/>
          <p:nvPr/>
        </p:nvGraphicFramePr>
        <p:xfrm>
          <a:off x="1419120" y="2135160"/>
          <a:ext cx="6764400" cy="42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9120" y="2135160"/>
                    <a:ext cx="6764400" cy="4295880"/>
                  </a:xfrm>
                  <a:prstGeom prst="rect">
                    <a:avLst/>
                  </a:prstGeom>
                  <a:ln w="2844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24080" y="1111320"/>
            <a:ext cx="7446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称：圆是轴对称图形，两个圆是否也组成轴对称图形呢？如果能组成轴对称图形，那么对称轴是什么？我们一起来看下面的实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7160" y="436680"/>
            <a:ext cx="33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探究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6880" y="1333440"/>
            <a:ext cx="795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半径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一点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8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为圆心作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⊙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半径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9720" y="3065400"/>
            <a:ext cx="533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解：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设⊙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与⊙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外切于点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则  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PA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OP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所以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PA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=3 cm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设⊙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与⊙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内切于点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则   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PB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OB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所以</a:t>
            </a:r>
            <a:r>
              <a:rPr b="1" i="1" lang="zh-CN" sz="2400" spc="-1" strike="noStrike">
                <a:solidFill>
                  <a:srgbClr val="000099"/>
                </a:solidFill>
                <a:latin typeface="Times New Roman"/>
              </a:rPr>
              <a:t>PB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=13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81640" y="3552840"/>
            <a:ext cx="957240" cy="95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67600" y="4046400"/>
            <a:ext cx="1217520" cy="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45320" y="4002120"/>
            <a:ext cx="88920" cy="8892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40680" y="3770280"/>
            <a:ext cx="493560" cy="493920"/>
          </a:xfrm>
          <a:prstGeom prst="ellipse">
            <a:avLst/>
          </a:prstGeom>
          <a:noFill/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29680" y="4002120"/>
            <a:ext cx="88560" cy="8892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75520" y="2957400"/>
            <a:ext cx="2219040" cy="2219400"/>
          </a:xfrm>
          <a:prstGeom prst="ellipse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35920" y="411804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62760" y="394344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72520" y="394488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32680" y="4005360"/>
            <a:ext cx="88920" cy="8892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73680" y="405936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86240" y="41904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应         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6:47:26Z</dcterms:created>
  <dc:creator>ryh</dc:creator>
  <dc:description/>
  <dc:language>en-US</dc:language>
  <cp:lastModifiedBy>pepyx</cp:lastModifiedBy>
  <dcterms:modified xsi:type="dcterms:W3CDTF">2007-06-28T06:21:32Z</dcterms:modified>
  <cp:revision>147</cp:revision>
  <dc:subject/>
  <dc:title>圆与圆的位置关系</dc:title>
</cp:coreProperties>
</file>