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5F7-8BA5-4AD6-9E05-6DBF302A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AFD-2587-4785-9B57-9575384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14E-BED8-4908-97D1-25ED8286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A6B-35C1-4030-8B2C-7B719A52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9733-DDE6-4881-A526-5D155AC7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3405-7A70-4435-94BF-539E5742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25CD-E9C7-49CF-9BAD-3751BBB5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2806-A803-4901-8146-195AB46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3B0-4280-4975-A2F9-BEF86E0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C7A-A262-4819-BE15-E1239A0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382-548F-4146-ACD0-70576CF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F4E-5347-43CF-9008-F1D85B8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8D7A-D9F3-4962-98D9-A68CC6CB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82D1-6235-4D80-8973-EFB8EC84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F466-9954-42C0-8FB6-7817D2AC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07A-9595-49F6-9AEC-26905D51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751E-E8C2-48AE-AC95-3A75B45F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D52-E90E-4695-8E8D-DBAD8268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858-79FC-4E13-A173-BD6E3757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F5C-7455-46D8-AE2B-0958860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893-A43E-41C7-93A4-BD2B795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EC6-4F64-410D-890B-10E48D67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405-1FB4-4FBF-81EF-F39F004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9C0-E1D3-4E84-8087-CB7326F2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5AD5-BEEB-4AE9-ADE5-E8FAE187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6AA-E5DD-4C51-A141-597FD964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08040" y="2595600"/>
            <a:ext cx="6951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4.2.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直线和圆的位置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4905360"/>
            <a:ext cx="6372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新宋体"/>
                <a:ea typeface="新宋体"/>
              </a:rPr>
              <a:t>这是唐朝诗人王维的诗句，它描述了一幅空旷、荒寂的塞外黄昏日落特有的景象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403280" y="2944800"/>
          <a:ext cx="2739960" cy="6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944800"/>
                    <a:ext cx="2739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0000" y="4816440"/>
                <a:ext cx="2447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384200" y="3857760"/>
                <a:ext cx="2778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295280" y="1196640"/>
            <a:ext cx="75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    已知：如图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一点，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5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圆心，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半径的圆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怎样的位置关系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47628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     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643280" y="2994120"/>
            <a:ext cx="3673440" cy="2344680"/>
            <a:chOff x="4643280" y="2994120"/>
            <a:chExt cx="3673440" cy="2344680"/>
          </a:xfrm>
        </p:grpSpPr>
        <p:sp>
          <p:nvSpPr>
            <p:cNvPr id="218" name=""/>
            <p:cNvSpPr/>
            <p:nvPr/>
          </p:nvSpPr>
          <p:spPr>
            <a:xfrm flipH="1">
              <a:off x="5039640" y="3354120"/>
              <a:ext cx="2232360" cy="1402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076720" y="4649040"/>
              <a:ext cx="2843280" cy="107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08720" y="4686120"/>
              <a:ext cx="71280" cy="70920"/>
            </a:xfrm>
            <a:prstGeom prst="flowChartConnector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0720" y="4757400"/>
              <a:ext cx="5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8000" y="299412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3280" y="46144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24720" y="46861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446040"/>
            <a:ext cx="2232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7680" y="1635120"/>
            <a:ext cx="698832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．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公共点个数是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半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位置关系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02600" y="2600280"/>
            <a:ext cx="779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相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27280" y="5049720"/>
            <a:ext cx="1297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4560" y="3141720"/>
            <a:ext cx="593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20968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08000" y="1665360"/>
            <a:ext cx="763920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已知⊙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圆心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到直线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7 cm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则直线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公共点个数是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已知⊙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直径是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圆心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到直线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，则⊙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与直线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的位置关系是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2637000"/>
            <a:ext cx="761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35280" y="4761000"/>
            <a:ext cx="99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46040"/>
            <a:ext cx="2303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63640" y="1233360"/>
            <a:ext cx="705636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半径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圆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直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若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直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多只有一个公共点，则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（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≤4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4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968640"/>
            <a:ext cx="820908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直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一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圆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距离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直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位置关系是（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切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离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切或相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76360" y="2060640"/>
            <a:ext cx="648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en-US" sz="2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67640" y="4329000"/>
            <a:ext cx="611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en-US" sz="29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446040"/>
            <a:ext cx="2482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  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38320" y="2097000"/>
            <a:ext cx="8762760" cy="4437000"/>
            <a:chOff x="1138320" y="2097000"/>
            <a:chExt cx="8762760" cy="4437000"/>
          </a:xfrm>
        </p:grpSpPr>
        <p:sp>
          <p:nvSpPr>
            <p:cNvPr id="247" name=""/>
            <p:cNvSpPr/>
            <p:nvPr/>
          </p:nvSpPr>
          <p:spPr>
            <a:xfrm>
              <a:off x="1138320" y="2097000"/>
              <a:ext cx="876276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2.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识别直线与圆的位置关系的方法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）一种是根据定义进行识别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没有公共点           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离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只有一个公共点           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切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有两个公共点         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交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）另一种是根据圆心到直线的距离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与圆半径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的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小关系来进行识别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g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离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切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线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与⊙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相交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4897080" y="2905200"/>
              <a:ext cx="5760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5473440" y="3336840"/>
              <a:ext cx="5760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41800" y="3768480"/>
              <a:ext cx="57420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2088720" y="4938480"/>
              <a:ext cx="57600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2088720" y="5370480"/>
              <a:ext cx="574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7"/>
            <a:stretch/>
          </p:blipFill>
          <p:spPr>
            <a:xfrm>
              <a:off x="2088720" y="5729040"/>
              <a:ext cx="57600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2361240" y="1592280"/>
            <a:ext cx="43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与圆的位置关系三种：相离、相切和相交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84720" y="441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     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41280" y="1538280"/>
            <a:ext cx="6912000" cy="3796920"/>
          </a:xfrm>
          <a:prstGeom prst="rect">
            <a:avLst/>
          </a:prstGeom>
          <a:gradFill rotWithShape="0">
            <a:gsLst>
              <a:gs pos="0">
                <a:srgbClr val="c17300"/>
              </a:gs>
              <a:gs pos="100000">
                <a:srgbClr val="ff9900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7480" y="2484360"/>
            <a:ext cx="1438200" cy="461880"/>
          </a:xfrm>
          <a:prstGeom prst="cloudCallout">
            <a:avLst>
              <a:gd name="adj1" fmla="val 272027"/>
              <a:gd name="adj2" fmla="val -28828"/>
            </a:avLst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pPr algn="ctr"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72000" y="4780080"/>
            <a:ext cx="1119240" cy="1181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a4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62360" y="36828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41280" y="4610160"/>
            <a:ext cx="6912000" cy="1892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41280" y="2077920"/>
            <a:ext cx="900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4508640"/>
            <a:ext cx="7164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我们把太阳看成一个圆，地平线看成一条直线，那你能根据直线与圆的公共点的个数想象一下，直线和圆的位置关系有几种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3 -0.00024 L 0.07275 -0.28803 E">
                                      <p:cBhvr>
                                        <p:cTn id="16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00360" y="130500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62360" y="36828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   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62360" y="458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探究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112536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与圆有几种位置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0000" y="1665360"/>
            <a:ext cx="6661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73600" y="4683240"/>
            <a:ext cx="41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直线和圆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唯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共点时，叫做直线和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2360" y="468324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相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920" y="363528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直线与圆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共点时，叫做直线和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1880" y="409248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3880" y="409248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割线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3160" y="514656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3200" y="513864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2360" y="36082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相交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71640" y="819000"/>
            <a:ext cx="7483320" cy="2476440"/>
            <a:chOff x="971640" y="819000"/>
            <a:chExt cx="7483320" cy="2476440"/>
          </a:xfrm>
        </p:grpSpPr>
        <p:grpSp>
          <p:nvGrpSpPr>
            <p:cNvPr id="104" name=""/>
            <p:cNvGrpSpPr/>
            <p:nvPr/>
          </p:nvGrpSpPr>
          <p:grpSpPr>
            <a:xfrm>
              <a:off x="1444680" y="2000160"/>
              <a:ext cx="1295280" cy="1295280"/>
              <a:chOff x="1444680" y="2000160"/>
              <a:chExt cx="1295280" cy="1295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444680" y="2000160"/>
                <a:ext cx="1295280" cy="1295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78200" y="2152440"/>
                <a:ext cx="228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063800" y="3066840"/>
              <a:ext cx="73911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807000" y="1771560"/>
              <a:ext cx="1295280" cy="1295280"/>
              <a:chOff x="3807000" y="1771560"/>
              <a:chExt cx="1295280" cy="1295280"/>
            </a:xfrm>
          </p:grpSpPr>
          <p:sp>
            <p:nvSpPr>
              <p:cNvPr id="109" name=""/>
              <p:cNvSpPr/>
              <p:nvPr/>
            </p:nvSpPr>
            <p:spPr>
              <a:xfrm>
                <a:off x="3807000" y="1771560"/>
                <a:ext cx="1295280" cy="1295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40520" y="1923840"/>
                <a:ext cx="228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971640" y="81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51640" y="1177920"/>
            <a:ext cx="1295280" cy="1295280"/>
            <a:chOff x="6551640" y="1177920"/>
            <a:chExt cx="1295280" cy="1295280"/>
          </a:xfrm>
        </p:grpSpPr>
        <p:sp>
          <p:nvSpPr>
            <p:cNvPr id="113" name=""/>
            <p:cNvSpPr/>
            <p:nvPr/>
          </p:nvSpPr>
          <p:spPr>
            <a:xfrm>
              <a:off x="6551640" y="1177920"/>
              <a:ext cx="1295280" cy="1295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5160" y="1330200"/>
              <a:ext cx="228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92360" y="4586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明确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2880" y="568008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直线与圆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共点时，叫做直线和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12000" y="568008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8920" y="2997360"/>
            <a:ext cx="90360" cy="9036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014640"/>
            <a:ext cx="90360" cy="9036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6920" y="2997360"/>
            <a:ext cx="90360" cy="9036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123336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7280" y="4046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思   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267336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没有公共点           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相离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有一个公共点        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相切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两个公共点         直线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⊙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相交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816280"/>
            <a:ext cx="433440" cy="217440"/>
          </a:xfrm>
          <a:prstGeom prst="leftRightArrow">
            <a:avLst>
              <a:gd name="adj1" fmla="val 50000"/>
              <a:gd name="adj2" fmla="val 39867"/>
            </a:avLst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11640" y="3681360"/>
            <a:ext cx="433440" cy="217440"/>
          </a:xfrm>
          <a:prstGeom prst="leftRightArrow">
            <a:avLst>
              <a:gd name="adj1" fmla="val 50000"/>
              <a:gd name="adj2" fmla="val 39867"/>
            </a:avLst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24360" y="4508640"/>
            <a:ext cx="433440" cy="217440"/>
          </a:xfrm>
          <a:prstGeom prst="leftRightArrow">
            <a:avLst>
              <a:gd name="adj1" fmla="val 50000"/>
              <a:gd name="adj2" fmla="val 39867"/>
            </a:avLst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095640" y="4689360"/>
            <a:ext cx="576360" cy="1115640"/>
            <a:chOff x="3095640" y="4689360"/>
            <a:chExt cx="576360" cy="1115640"/>
          </a:xfrm>
        </p:grpSpPr>
        <p:sp>
          <p:nvSpPr>
            <p:cNvPr id="128" name=""/>
            <p:cNvSpPr/>
            <p:nvPr/>
          </p:nvSpPr>
          <p:spPr>
            <a:xfrm>
              <a:off x="3419640" y="4689360"/>
              <a:ext cx="0" cy="1115640"/>
            </a:xfrm>
            <a:prstGeom prst="line">
              <a:avLst/>
            </a:prstGeom>
            <a:ln w="442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5640" y="528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9640" y="5581800"/>
              <a:ext cx="252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2000" y="5581800"/>
              <a:ext cx="0" cy="2232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59280" y="4329000"/>
            <a:ext cx="936000" cy="792000"/>
            <a:chOff x="3059280" y="4329000"/>
            <a:chExt cx="936000" cy="792000"/>
          </a:xfrm>
        </p:grpSpPr>
        <p:sp>
          <p:nvSpPr>
            <p:cNvPr id="133" name=""/>
            <p:cNvSpPr/>
            <p:nvPr/>
          </p:nvSpPr>
          <p:spPr>
            <a:xfrm>
              <a:off x="3614400" y="461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5640" y="4689360"/>
              <a:ext cx="39492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59280" y="43290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4360" y="1160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否还有其他的方法判断直线与圆的位置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27280" y="4046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思   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2560" y="5394240"/>
            <a:ext cx="3132000" cy="520560"/>
            <a:chOff x="2122560" y="5394240"/>
            <a:chExt cx="3132000" cy="520560"/>
          </a:xfrm>
        </p:grpSpPr>
        <p:sp>
          <p:nvSpPr>
            <p:cNvPr id="139" name=""/>
            <p:cNvSpPr/>
            <p:nvPr/>
          </p:nvSpPr>
          <p:spPr>
            <a:xfrm>
              <a:off x="2122560" y="5789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14920" y="5394240"/>
              <a:ext cx="5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735280" y="3933720"/>
            <a:ext cx="1368360" cy="1368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653000"/>
            <a:ext cx="36360" cy="36360"/>
          </a:xfrm>
          <a:prstGeom prst="flowChartConnector">
            <a:avLst/>
          </a:prstGeom>
          <a:solidFill>
            <a:srgbClr val="3333cc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31300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af2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设⊙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的半径为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，直线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l 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到圆心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的距离为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，在直线和圆的不同位置关系中，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具有怎样的大小关系？反过来，你能根据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4c0af2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4c0af2"/>
                </a:solidFill>
                <a:latin typeface="Times New Roman"/>
              </a:rPr>
              <a:t>的大小关系来确定直线和圆的位置关系吗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95640" y="28893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&gt;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相离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22280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相切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5700600"/>
            <a:ext cx="609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与⊙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1052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半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8720" y="3070080"/>
            <a:ext cx="647640" cy="250920"/>
          </a:xfrm>
          <a:prstGeom prst="leftRightArrow">
            <a:avLst>
              <a:gd name="adj1" fmla="val 50000"/>
              <a:gd name="adj2" fmla="val 5162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437000"/>
            <a:ext cx="647640" cy="250920"/>
          </a:xfrm>
          <a:prstGeom prst="leftRightArrow">
            <a:avLst>
              <a:gd name="adj1" fmla="val 50000"/>
              <a:gd name="adj2" fmla="val 5162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03640" y="5913360"/>
            <a:ext cx="647640" cy="250920"/>
          </a:xfrm>
          <a:prstGeom prst="leftRightArrow">
            <a:avLst>
              <a:gd name="adj1" fmla="val 50000"/>
              <a:gd name="adj2" fmla="val 5162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47640" y="2133720"/>
            <a:ext cx="2268360" cy="1528560"/>
            <a:chOff x="647640" y="2133720"/>
            <a:chExt cx="2268360" cy="1528560"/>
          </a:xfrm>
        </p:grpSpPr>
        <p:sp>
          <p:nvSpPr>
            <p:cNvPr id="152" name=""/>
            <p:cNvSpPr/>
            <p:nvPr/>
          </p:nvSpPr>
          <p:spPr>
            <a:xfrm>
              <a:off x="1655640" y="2602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1280" y="2710080"/>
              <a:ext cx="0" cy="863640"/>
            </a:xfrm>
            <a:prstGeom prst="line">
              <a:avLst/>
            </a:prstGeom>
            <a:ln w="442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7280" y="2781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476360" y="3414960"/>
              <a:ext cx="179280" cy="158760"/>
              <a:chOff x="1476360" y="3414960"/>
              <a:chExt cx="179280" cy="158760"/>
            </a:xfrm>
          </p:grpSpPr>
          <p:sp>
            <p:nvSpPr>
              <p:cNvPr id="156" name=""/>
              <p:cNvSpPr/>
              <p:nvPr/>
            </p:nvSpPr>
            <p:spPr>
              <a:xfrm>
                <a:off x="1476360" y="3435120"/>
                <a:ext cx="17928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54560" y="3414960"/>
                <a:ext cx="0" cy="158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640" y="3573720"/>
              <a:ext cx="1943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2000" y="314172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36720" y="2133720"/>
              <a:ext cx="1150920" cy="1150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7640" y="2745000"/>
              <a:ext cx="331920" cy="36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1280" y="2710080"/>
              <a:ext cx="36360" cy="36360"/>
            </a:xfrm>
            <a:prstGeom prst="flowChartConnector">
              <a:avLst/>
            </a:prstGeom>
            <a:solidFill>
              <a:srgbClr val="3333cc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23860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47640" y="3789360"/>
            <a:ext cx="2340000" cy="1539360"/>
            <a:chOff x="647640" y="3789360"/>
            <a:chExt cx="2340000" cy="1539360"/>
          </a:xfrm>
        </p:grpSpPr>
        <p:sp>
          <p:nvSpPr>
            <p:cNvPr id="165" name=""/>
            <p:cNvSpPr/>
            <p:nvPr/>
          </p:nvSpPr>
          <p:spPr>
            <a:xfrm>
              <a:off x="2303280" y="4471920"/>
              <a:ext cx="6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47640" y="3789360"/>
              <a:ext cx="1943280" cy="1539360"/>
              <a:chOff x="647640" y="3789360"/>
              <a:chExt cx="1943280" cy="1539360"/>
            </a:xfrm>
          </p:grpSpPr>
          <p:sp>
            <p:nvSpPr>
              <p:cNvPr id="167" name=""/>
              <p:cNvSpPr/>
              <p:nvPr/>
            </p:nvSpPr>
            <p:spPr>
              <a:xfrm>
                <a:off x="1655640" y="4257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11280" y="4365720"/>
                <a:ext cx="0" cy="610920"/>
              </a:xfrm>
              <a:prstGeom prst="line">
                <a:avLst/>
              </a:prstGeom>
              <a:ln w="4428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87280" y="44370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476360" y="4761000"/>
                <a:ext cx="179280" cy="158760"/>
                <a:chOff x="1476360" y="4761000"/>
                <a:chExt cx="179280" cy="15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76360" y="4781160"/>
                  <a:ext cx="179280" cy="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654560" y="4761000"/>
                  <a:ext cx="0" cy="158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47640" y="4940280"/>
                <a:ext cx="1943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36720" y="3789360"/>
                <a:ext cx="1150920" cy="115092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47640" y="4400640"/>
                <a:ext cx="331920" cy="36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11280" y="4365720"/>
                <a:ext cx="36360" cy="36360"/>
              </a:xfrm>
              <a:prstGeom prst="flowChartConnector">
                <a:avLst/>
              </a:prstGeom>
              <a:solidFill>
                <a:srgbClr val="3333cc"/>
              </a:solidFill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87280" y="40417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95280" y="48690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611280" y="5337000"/>
            <a:ext cx="2376360" cy="1278720"/>
            <a:chOff x="611280" y="5337000"/>
            <a:chExt cx="2376360" cy="1278720"/>
          </a:xfrm>
        </p:grpSpPr>
        <p:sp>
          <p:nvSpPr>
            <p:cNvPr id="180" name=""/>
            <p:cNvSpPr/>
            <p:nvPr/>
          </p:nvSpPr>
          <p:spPr>
            <a:xfrm>
              <a:off x="611280" y="6252840"/>
              <a:ext cx="1943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2360" y="5605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11280" y="5913360"/>
              <a:ext cx="0" cy="339480"/>
            </a:xfrm>
            <a:prstGeom prst="line">
              <a:avLst/>
            </a:prstGeom>
            <a:ln w="442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6676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511280" y="6073560"/>
              <a:ext cx="179640" cy="158760"/>
              <a:chOff x="1511280" y="6073560"/>
              <a:chExt cx="179640" cy="158760"/>
            </a:xfrm>
          </p:grpSpPr>
          <p:sp>
            <p:nvSpPr>
              <p:cNvPr id="185" name=""/>
              <p:cNvSpPr/>
              <p:nvPr/>
            </p:nvSpPr>
            <p:spPr>
              <a:xfrm>
                <a:off x="1511280" y="6093720"/>
                <a:ext cx="17964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89840" y="6073560"/>
                <a:ext cx="0" cy="158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36720" y="5337000"/>
              <a:ext cx="1150920" cy="1150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8000" y="5948280"/>
              <a:ext cx="503280" cy="1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1280" y="5913360"/>
              <a:ext cx="36720" cy="36360"/>
            </a:xfrm>
            <a:prstGeom prst="flowChartConnector">
              <a:avLst/>
            </a:prstGeom>
            <a:solidFill>
              <a:srgbClr val="3333cc"/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7640" y="5568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4360" y="61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3640" y="578484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35280" y="61560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743280" y="441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归   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219320"/>
          <a:ext cx="8458200" cy="5099040"/>
        </p:xfrm>
        <a:graphic>
          <a:graphicData uri="http://schemas.openxmlformats.org/drawingml/2006/table">
            <a:tbl>
              <a:tblPr/>
              <a:tblGrid>
                <a:gridCol w="2286000"/>
                <a:gridCol w="2046240"/>
                <a:gridCol w="1992240"/>
                <a:gridCol w="2133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直线与圆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位置关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交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       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公共点个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公共点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直线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圆心到直线距离</a:t>
                      </a:r>
                      <a:r>
                        <a:rPr b="1" i="1" lang="en-US" sz="2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zh-CN" sz="2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与半径</a:t>
                      </a:r>
                      <a:r>
                        <a:rPr b="1" i="1" lang="en-US" sz="2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zh-CN" sz="2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的关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348000" y="39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交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割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3897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切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04000" y="4508280"/>
            <a:ext cx="2025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40360" y="5049360"/>
            <a:ext cx="2016360" cy="4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0" y="5661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&lt;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27640" y="573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72360" y="573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&gt;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3897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128000" y="2276640"/>
            <a:ext cx="1496880" cy="1481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43280" y="2313000"/>
            <a:ext cx="1873080" cy="1461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896000" y="2384280"/>
            <a:ext cx="18349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0:49:19Z</dcterms:created>
  <dc:creator>Administrator</dc:creator>
  <dc:description/>
  <dc:language>en-US</dc:language>
  <cp:lastModifiedBy>pepyx</cp:lastModifiedBy>
  <dcterms:modified xsi:type="dcterms:W3CDTF">2014-03-09T09:01:08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