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4FE1-1958-4CBE-96FE-D29614376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B6BE-3386-4542-B18F-FCB80655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43A7-BBEE-430D-BE4A-35CFC2A07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38C3-E380-4E47-B896-C23AC9628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10BB-E671-4433-B1AF-24207870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4BCF-B180-4348-9313-642712B6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F390-8684-4966-915D-C31C7DB7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625A-A332-4846-A36D-E751BC12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7970-2CB5-4647-AC70-B59F5E4B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3077-EE76-4D6F-853B-8E26888B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5FDE-271F-4852-BD6B-1D3D4999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FF17-8C88-4694-9A92-C3573573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4960-43EC-46BE-B695-8BAAEF2A08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-509760"/>
          <a:ext cx="10441080" cy="736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509760"/>
                    <a:ext cx="10441080" cy="736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 txBox="1"/>
          <p:nvPr/>
        </p:nvSpPr>
        <p:spPr>
          <a:xfrm>
            <a:off x="2268360" y="1700280"/>
            <a:ext cx="5472360" cy="20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24.1.4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圆周角（二）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3492360" y="2276640"/>
            <a:ext cx="533412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分析  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连结</a:t>
            </a:r>
            <a:r>
              <a:rPr b="1" i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AO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，</a:t>
            </a:r>
            <a:r>
              <a:rPr b="1" i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CO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，由勾股定理不难得到△</a:t>
            </a:r>
            <a:r>
              <a:rPr b="1" i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ABD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为等腰直角三角形，则∠</a:t>
            </a:r>
            <a:r>
              <a:rPr b="1" i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AOC=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=90°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，又</a:t>
            </a:r>
            <a:r>
              <a:rPr b="1" i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OA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=</a:t>
            </a:r>
            <a:r>
              <a:rPr b="1" i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OC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，</a:t>
            </a:r>
            <a:r>
              <a:rPr b="1" i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AC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长度已知，则可以求出半径和直径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. 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更一般的情况要用正弦定理来求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2585880"/>
            <a:ext cx="2614320" cy="2616480"/>
          </a:xfrm>
          <a:prstGeom prst="ellipse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057400" y="2611440"/>
            <a:ext cx="0" cy="1371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533160" y="2611440"/>
            <a:ext cx="1523880" cy="144792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2611440"/>
            <a:ext cx="1066680" cy="1371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533520" y="3983040"/>
            <a:ext cx="2590560" cy="7632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00200" y="3691080"/>
            <a:ext cx="168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99320" y="383076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520" y="3983040"/>
            <a:ext cx="14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41280" y="2276640"/>
            <a:ext cx="14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05040" y="3862440"/>
            <a:ext cx="42840" cy="4428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80000" y="402912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828440" y="2611440"/>
            <a:ext cx="1219320" cy="1371600"/>
            <a:chOff x="1828440" y="2611440"/>
            <a:chExt cx="1219320" cy="1371600"/>
          </a:xfrm>
        </p:grpSpPr>
        <p:sp>
          <p:nvSpPr>
            <p:cNvPr id="235" name=""/>
            <p:cNvSpPr/>
            <p:nvPr/>
          </p:nvSpPr>
          <p:spPr>
            <a:xfrm flipH="1">
              <a:off x="1828440" y="2611440"/>
              <a:ext cx="228600" cy="1246320"/>
            </a:xfrm>
            <a:prstGeom prst="line">
              <a:avLst/>
            </a:prstGeom>
            <a:ln w="255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1828440" y="3906720"/>
              <a:ext cx="1219320" cy="76320"/>
            </a:xfrm>
            <a:prstGeom prst="line">
              <a:avLst/>
            </a:prstGeom>
            <a:ln w="255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Rectangle 4"/>
          <p:cNvSpPr/>
          <p:nvPr/>
        </p:nvSpPr>
        <p:spPr>
          <a:xfrm>
            <a:off x="304920" y="1053000"/>
            <a:ext cx="883908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.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图，</a:t>
            </a:r>
            <a:r>
              <a:rPr b="1" i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i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i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点在⊙</a:t>
            </a:r>
            <a:r>
              <a:rPr b="1" i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上，</a:t>
            </a:r>
            <a:r>
              <a:rPr b="1" i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D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⊥</a:t>
            </a:r>
            <a:r>
              <a:rPr b="1" i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C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于</a:t>
            </a:r>
            <a:r>
              <a:rPr b="1" i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且</a:t>
            </a:r>
            <a:r>
              <a:rPr b="1" i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C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5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i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C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3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i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B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求⊙</a:t>
            </a:r>
            <a:r>
              <a:rPr b="1" i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直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3716280" y="1514520"/>
                <a:ext cx="6858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228600" y="836640"/>
            <a:ext cx="8534520" cy="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0920" y="42840"/>
            <a:ext cx="223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随堂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89647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(0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青海西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⊙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中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D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长线相交于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P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果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OD=120</a:t>
            </a:r>
            <a:r>
              <a:rPr b="1" lang="zh-CN" sz="32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∠BDC=25</a:t>
            </a:r>
            <a:r>
              <a:rPr b="1" lang="zh-CN" sz="32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那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P=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492360" y="2924280"/>
            <a:ext cx="3455640" cy="4176000"/>
            <a:chOff x="3492360" y="2924280"/>
            <a:chExt cx="3455640" cy="4176000"/>
          </a:xfrm>
        </p:grpSpPr>
        <p:grpSp>
          <p:nvGrpSpPr>
            <p:cNvPr id="243" name=""/>
            <p:cNvGrpSpPr/>
            <p:nvPr/>
          </p:nvGrpSpPr>
          <p:grpSpPr>
            <a:xfrm>
              <a:off x="3689280" y="3129840"/>
              <a:ext cx="2874600" cy="2804400"/>
              <a:chOff x="3689280" y="3129840"/>
              <a:chExt cx="2874600" cy="2804400"/>
            </a:xfrm>
          </p:grpSpPr>
          <p:sp>
            <p:nvSpPr>
              <p:cNvPr id="244" name=""/>
              <p:cNvSpPr/>
              <p:nvPr/>
            </p:nvSpPr>
            <p:spPr>
              <a:xfrm>
                <a:off x="3689280" y="3816720"/>
                <a:ext cx="2232000" cy="2112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834360" y="3129840"/>
                <a:ext cx="2729520" cy="2804400"/>
              </a:xfrm>
              <a:custGeom>
                <a:avLst/>
                <a:gdLst/>
                <a:ahLst/>
                <a:rect l="l" t="t" r="r" b="b"/>
                <a:pathLst>
                  <a:path w="1147" h="1245">
                    <a:moveTo>
                      <a:pt x="0" y="547"/>
                    </a:moveTo>
                    <a:lnTo>
                      <a:pt x="1147" y="0"/>
                    </a:lnTo>
                    <a:lnTo>
                      <a:pt x="405" y="1245"/>
                    </a:lnTo>
                    <a:lnTo>
                      <a:pt x="420" y="765"/>
                    </a:lnTo>
                    <a:lnTo>
                      <a:pt x="0" y="547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867840" y="4363920"/>
                <a:ext cx="19274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740840" y="4794480"/>
                <a:ext cx="135360" cy="128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4403160" y="6424920"/>
              <a:ext cx="914400" cy="67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34640" y="5903640"/>
              <a:ext cx="36216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92360" y="4019400"/>
              <a:ext cx="36216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876560" y="3331800"/>
              <a:ext cx="36216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586200" y="2924280"/>
              <a:ext cx="36180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899320" y="4121280"/>
              <a:ext cx="36180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30200" y="4605120"/>
              <a:ext cx="36216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228600" y="836640"/>
            <a:ext cx="8534520" cy="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1187280" y="2060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425"/>
                </a:solidFill>
                <a:latin typeface="Arial"/>
              </a:rPr>
              <a:t>35</a:t>
            </a:r>
            <a:r>
              <a:rPr b="1" lang="en-US" sz="3200" spc="-1" strike="noStrike" baseline="30000">
                <a:solidFill>
                  <a:srgbClr val="ee0425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0920" y="42840"/>
            <a:ext cx="2376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走进中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4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(0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山东泰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中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∠AO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度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m.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C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上一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弧上不同的两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,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两点重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)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则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D+∠E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度数为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.m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2268360" y="2708280"/>
          <a:ext cx="1368720" cy="9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2708280"/>
                    <a:ext cx="1368720" cy="9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4788000" y="2660760"/>
          <a:ext cx="1225440" cy="91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2660760"/>
                    <a:ext cx="1225440" cy="9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7524720" y="2637000"/>
          <a:ext cx="399960" cy="86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24720" y="2637000"/>
                    <a:ext cx="399960" cy="86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6" name=""/>
          <p:cNvGrpSpPr/>
          <p:nvPr/>
        </p:nvGrpSpPr>
        <p:grpSpPr>
          <a:xfrm>
            <a:off x="3060720" y="3645000"/>
            <a:ext cx="3571920" cy="3214800"/>
            <a:chOff x="3060720" y="3645000"/>
            <a:chExt cx="3571920" cy="3214800"/>
          </a:xfrm>
        </p:grpSpPr>
        <p:sp>
          <p:nvSpPr>
            <p:cNvPr id="267" name=""/>
            <p:cNvSpPr/>
            <p:nvPr/>
          </p:nvSpPr>
          <p:spPr>
            <a:xfrm>
              <a:off x="3564000" y="4076640"/>
              <a:ext cx="2592360" cy="2565360"/>
            </a:xfrm>
            <a:prstGeom prst="ellipse">
              <a:avLst/>
            </a:pr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3993840" y="4076640"/>
              <a:ext cx="934920" cy="22320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932360" y="4149720"/>
              <a:ext cx="431640" cy="2374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5364000" y="5950080"/>
              <a:ext cx="648000" cy="57456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564000" y="5516640"/>
              <a:ext cx="431640" cy="7207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88000" y="5300640"/>
              <a:ext cx="71280" cy="69840"/>
            </a:xfrm>
            <a:prstGeom prst="ellipse">
              <a:avLst/>
            </a:prstGeom>
            <a:noFill/>
            <a:ln w="442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859280" y="5300640"/>
              <a:ext cx="1152720" cy="649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3564000" y="5300640"/>
              <a:ext cx="1295280" cy="2160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502160" y="36450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57800" y="55897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572000" y="4724280"/>
              <a:ext cx="500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636720" y="62784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37080" y="62784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060720" y="53737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228600" y="836640"/>
            <a:ext cx="8534520" cy="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68360" y="0"/>
            <a:ext cx="2376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走进中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7666920" y="2205000"/>
            <a:ext cx="6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425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0" y="83664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如果一个多边形的所有顶点都在同一个圆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这个多边形就叫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圆内接多边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这个圆叫做这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多边形的外接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8600" y="692280"/>
            <a:ext cx="8534520" cy="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5219640" y="2133720"/>
            <a:ext cx="3276720" cy="2952720"/>
            <a:chOff x="5219640" y="2133720"/>
            <a:chExt cx="3276720" cy="2952720"/>
          </a:xfrm>
        </p:grpSpPr>
        <p:sp>
          <p:nvSpPr>
            <p:cNvPr id="287" name=""/>
            <p:cNvSpPr/>
            <p:nvPr/>
          </p:nvSpPr>
          <p:spPr>
            <a:xfrm>
              <a:off x="5616720" y="2637000"/>
              <a:ext cx="2449440" cy="2449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Arial"/>
                </a:rPr>
                <a:t>·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64360" y="2703600"/>
              <a:ext cx="720720" cy="1800000"/>
            </a:xfrm>
            <a:custGeom>
              <a:avLst/>
              <a:gdLst/>
              <a:ahLst/>
              <a:rect l="l" t="t" r="r" b="b"/>
              <a:pathLst>
                <a:path w="1180" h="668">
                  <a:moveTo>
                    <a:pt x="0" y="0"/>
                  </a:moveTo>
                  <a:lnTo>
                    <a:pt x="1180" y="668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96000" y="2846520"/>
              <a:ext cx="360360" cy="1677960"/>
            </a:xfrm>
            <a:custGeom>
              <a:avLst/>
              <a:gdLst/>
              <a:ahLst/>
              <a:rect l="l" t="t" r="r" b="b"/>
              <a:pathLst>
                <a:path w="360" h="648">
                  <a:moveTo>
                    <a:pt x="360" y="0"/>
                  </a:moveTo>
                  <a:lnTo>
                    <a:pt x="0" y="648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580000" y="2205000"/>
              <a:ext cx="46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19640" y="4365720"/>
              <a:ext cx="46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28000" y="4292640"/>
              <a:ext cx="46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08720" y="2133720"/>
              <a:ext cx="46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61080" y="3860640"/>
              <a:ext cx="4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33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796000" y="4503600"/>
              <a:ext cx="20890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6156360" y="2703240"/>
              <a:ext cx="1008000" cy="1429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0" y="2708280"/>
            <a:ext cx="5508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如图，四边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ABC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是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内接四边形， 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是四边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ABC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外接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24000" y="4724280"/>
            <a:ext cx="40338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0425"/>
                </a:solidFill>
                <a:latin typeface="Arial"/>
                <a:ea typeface="黑体"/>
              </a:rPr>
              <a:t>思考：</a:t>
            </a:r>
            <a:r>
              <a:rPr b="1" lang="zh-CN" sz="3200" spc="-1" strike="noStrike">
                <a:solidFill>
                  <a:srgbClr val="ee0425"/>
                </a:solidFill>
                <a:latin typeface="Arial"/>
              </a:rPr>
              <a:t>∠</a:t>
            </a:r>
            <a:r>
              <a:rPr b="1" lang="zh-CN" sz="3200" spc="-1" strike="noStrike">
                <a:solidFill>
                  <a:srgbClr val="ee0425"/>
                </a:solidFill>
                <a:latin typeface="Arial"/>
              </a:rPr>
              <a:t>A+∠C=?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50920" y="5516640"/>
            <a:ext cx="66247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  <a:ea typeface="黑体"/>
              </a:rPr>
              <a:t>能用圆周角定理证明你的结论吗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796000" y="3860640"/>
            <a:ext cx="1008000" cy="648000"/>
          </a:xfrm>
          <a:prstGeom prst="line">
            <a:avLst/>
          </a:prstGeom>
          <a:ln w="5400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6804000" y="2707920"/>
            <a:ext cx="360360" cy="1152360"/>
          </a:xfrm>
          <a:prstGeom prst="line">
            <a:avLst/>
          </a:prstGeom>
          <a:ln w="5400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24000" y="5013360"/>
            <a:ext cx="5903640" cy="574560"/>
          </a:xfrm>
          <a:prstGeom prst="rect">
            <a:avLst/>
          </a:prstGeom>
          <a:solidFill>
            <a:srgbClr val="ffff00"/>
          </a:soli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圆内接四边形的对角互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8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4920" y="981000"/>
            <a:ext cx="86043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⊙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中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∠A0B = 80º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则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CB=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543800" y="1049400"/>
            <a:ext cx="10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b092c"/>
                </a:solidFill>
                <a:latin typeface="黑体"/>
                <a:ea typeface="黑体"/>
              </a:rPr>
              <a:t>140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4140360" y="2679840"/>
            <a:ext cx="4268160" cy="3848040"/>
            <a:chOff x="4140360" y="2679840"/>
            <a:chExt cx="4268160" cy="3848040"/>
          </a:xfrm>
        </p:grpSpPr>
        <p:sp>
          <p:nvSpPr>
            <p:cNvPr id="306" name=""/>
            <p:cNvSpPr/>
            <p:nvPr/>
          </p:nvSpPr>
          <p:spPr>
            <a:xfrm>
              <a:off x="4227480" y="2679840"/>
              <a:ext cx="3165120" cy="31258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4819320" y="4226040"/>
              <a:ext cx="977400" cy="119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19680" y="5424480"/>
              <a:ext cx="1684080" cy="17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6504120" y="4959000"/>
              <a:ext cx="651960" cy="63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flipV="1">
              <a:off x="5797440" y="4225680"/>
              <a:ext cx="1358640" cy="73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140360" y="5100840"/>
              <a:ext cx="109980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364000" y="3716280"/>
              <a:ext cx="109836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589800" y="5588280"/>
              <a:ext cx="109800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308720" y="4579920"/>
              <a:ext cx="109980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 flipV="1">
            <a:off x="4789440" y="2708280"/>
            <a:ext cx="1079640" cy="2736720"/>
          </a:xfrm>
          <a:prstGeom prst="line">
            <a:avLst/>
          </a:prstGeom>
          <a:ln cap="rnd" w="4428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869080" y="2711520"/>
            <a:ext cx="1295280" cy="2232000"/>
          </a:xfrm>
          <a:prstGeom prst="line">
            <a:avLst/>
          </a:prstGeom>
          <a:ln cap="rnd" w="4428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797440" y="2060640"/>
            <a:ext cx="4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28600" y="836640"/>
            <a:ext cx="8534520" cy="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50920" y="42840"/>
            <a:ext cx="2376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随堂练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24000" y="831960"/>
            <a:ext cx="8569080" cy="5205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求证：如果三角形一边上的中线等于这边的一半，那么这个三角形是直角三角形．（提示：作出以这条边为直径的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300720" y="3068640"/>
            <a:ext cx="1944720" cy="194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7222320" y="4003560"/>
            <a:ext cx="71640" cy="71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00720" y="4032360"/>
            <a:ext cx="19447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313320" y="3186000"/>
            <a:ext cx="1405080" cy="838440"/>
          </a:xfrm>
          <a:custGeom>
            <a:avLst/>
            <a:gdLst/>
            <a:ahLst/>
            <a:rect l="l" t="t" r="r" b="b"/>
            <a:pathLst>
              <a:path w="885" h="528">
                <a:moveTo>
                  <a:pt x="0" y="528"/>
                </a:moveTo>
                <a:lnTo>
                  <a:pt x="885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256520" y="3191040"/>
            <a:ext cx="461880" cy="847440"/>
          </a:xfrm>
          <a:custGeom>
            <a:avLst/>
            <a:gdLst/>
            <a:ahLst/>
            <a:rect l="l" t="t" r="r" b="b"/>
            <a:pathLst>
              <a:path w="291" h="534">
                <a:moveTo>
                  <a:pt x="291" y="0"/>
                </a:moveTo>
                <a:lnTo>
                  <a:pt x="0" y="534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728120" y="3200400"/>
            <a:ext cx="514080" cy="833400"/>
          </a:xfrm>
          <a:custGeom>
            <a:avLst/>
            <a:gdLst/>
            <a:ahLst/>
            <a:rect l="l" t="t" r="r" b="b"/>
            <a:pathLst>
              <a:path w="324" h="525">
                <a:moveTo>
                  <a:pt x="0" y="0"/>
                </a:moveTo>
                <a:lnTo>
                  <a:pt x="324" y="52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869080" y="38466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174160" y="386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597800" y="28814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993000" y="4032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0920" y="299736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证： △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直角三角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08000" y="36306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证明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116000" y="36450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以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为直径作⊙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042920" y="422100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∵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O=BO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26920" y="5013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∴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O=BO=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059280" y="5013360"/>
            <a:ext cx="23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∴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点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在⊙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上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30160" y="5708520"/>
            <a:ext cx="28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又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∵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为直径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059280" y="573408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∴∠</a:t>
            </a:r>
            <a:r>
              <a:rPr b="1" i="1" lang="zh-CN" sz="2000" spc="-1" strike="noStrike">
                <a:solidFill>
                  <a:srgbClr val="ff3300"/>
                </a:solidFill>
                <a:latin typeface="Times New Roman"/>
              </a:rPr>
              <a:t>ACB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= 90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250920" y="2205000"/>
            <a:ext cx="7345440" cy="650160"/>
            <a:chOff x="250920" y="2205000"/>
            <a:chExt cx="7345440" cy="650160"/>
          </a:xfrm>
        </p:grpSpPr>
        <p:graphicFrame>
          <p:nvGraphicFramePr>
            <p:cNvPr id="340" name=""/>
            <p:cNvGraphicFramePr/>
            <p:nvPr/>
          </p:nvGraphicFramePr>
          <p:xfrm>
            <a:off x="6353280" y="2205000"/>
            <a:ext cx="306360" cy="647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4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53280" y="2205000"/>
                      <a:ext cx="30636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2" name=""/>
            <p:cNvSpPr/>
            <p:nvPr/>
          </p:nvSpPr>
          <p:spPr>
            <a:xfrm>
              <a:off x="250920" y="2395440"/>
              <a:ext cx="734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已知：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是△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ABC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的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边上的中线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508720" y="2421000"/>
              <a:ext cx="194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且</a:t>
              </a:r>
              <a:r>
                <a:rPr b="1" i="1" lang="zh-CN" sz="2000" spc="-1" strike="noStrike">
                  <a:solidFill>
                    <a:srgbClr val="000000"/>
                  </a:solidFill>
                  <a:latin typeface="Times New Roman"/>
                </a:rPr>
                <a:t>CO=     A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138680" y="640080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∴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△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BC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为直角三角形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28600" y="766800"/>
            <a:ext cx="8534520" cy="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2774160" y="3860640"/>
            <a:ext cx="1563120" cy="936720"/>
            <a:chOff x="2774160" y="3860640"/>
            <a:chExt cx="1563120" cy="936720"/>
          </a:xfrm>
        </p:grpSpPr>
        <p:grpSp>
          <p:nvGrpSpPr>
            <p:cNvPr id="347" name=""/>
            <p:cNvGrpSpPr/>
            <p:nvPr/>
          </p:nvGrpSpPr>
          <p:grpSpPr>
            <a:xfrm>
              <a:off x="2774160" y="3860640"/>
              <a:ext cx="1563120" cy="834480"/>
              <a:chOff x="2774160" y="3860640"/>
              <a:chExt cx="1563120" cy="834480"/>
            </a:xfrm>
          </p:grpSpPr>
          <p:sp>
            <p:nvSpPr>
              <p:cNvPr id="348" name=""/>
              <p:cNvSpPr/>
              <p:nvPr/>
            </p:nvSpPr>
            <p:spPr>
              <a:xfrm>
                <a:off x="2774160" y="4235400"/>
                <a:ext cx="1563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CO=    AB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349" name=""/>
              <p:cNvGraphicFramePr/>
              <p:nvPr/>
            </p:nvGraphicFramePr>
            <p:xfrm>
              <a:off x="2850840" y="3860640"/>
              <a:ext cx="360" cy="5382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50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50840" y="3860640"/>
                        <a:ext cx="360" cy="538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51" name=""/>
            <p:cNvGraphicFramePr/>
            <p:nvPr/>
          </p:nvGraphicFramePr>
          <p:xfrm>
            <a:off x="3492360" y="4149720"/>
            <a:ext cx="273240" cy="647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92360" y="4149720"/>
                      <a:ext cx="27324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53" name=""/>
          <p:cNvSpPr/>
          <p:nvPr/>
        </p:nvSpPr>
        <p:spPr>
          <a:xfrm>
            <a:off x="250920" y="42840"/>
            <a:ext cx="2376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随堂练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5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34920" y="981000"/>
            <a:ext cx="9109080" cy="45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船在航行过程中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船长常常通过测定角度来测定是否会遇到暗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图表示灯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暗礁分布在经过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两点的一个圆形区域内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表示一个危险临界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∠AC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就是“危险角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当船与两个灯塔的夹角大于“危险角”时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就有可能触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当船与两个灯塔的夹角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α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大于“危险角”时，船位于哪个区域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当船与两个灯塔的夹角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小于“危险角”时，船位于哪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区域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5510160" y="4292640"/>
            <a:ext cx="2862720" cy="2305080"/>
            <a:chOff x="5510160" y="4292640"/>
            <a:chExt cx="2862720" cy="2305080"/>
          </a:xfrm>
        </p:grpSpPr>
        <p:sp>
          <p:nvSpPr>
            <p:cNvPr id="356" name=""/>
            <p:cNvSpPr/>
            <p:nvPr/>
          </p:nvSpPr>
          <p:spPr>
            <a:xfrm>
              <a:off x="5510160" y="59230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891040" y="4683240"/>
              <a:ext cx="1914840" cy="1914480"/>
            </a:xfrm>
            <a:prstGeom prst="ellipse">
              <a:avLst/>
            </a:prstGeom>
            <a:noFill/>
            <a:ln cap="rnd" w="442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033960" y="6150240"/>
              <a:ext cx="1609920" cy="144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6033960" y="4788000"/>
              <a:ext cx="371520" cy="136224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405480" y="4788000"/>
              <a:ext cx="1238400" cy="136224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6033960" y="4483080"/>
              <a:ext cx="1828800" cy="166716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7643880" y="4483080"/>
              <a:ext cx="218880" cy="166716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236000" y="4365720"/>
              <a:ext cx="576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824520" y="5616720"/>
              <a:ext cx="4788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814080" y="5683320"/>
              <a:ext cx="3178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624800" y="6131160"/>
              <a:ext cx="475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719480" y="608328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386400" y="4768920"/>
              <a:ext cx="4788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940000" y="450864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843680" y="4464000"/>
              <a:ext cx="47880" cy="478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100720" y="4292640"/>
              <a:ext cx="27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250920" y="42840"/>
            <a:ext cx="2376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拓展提高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28600" y="836640"/>
            <a:ext cx="8534520" cy="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4724280" y="4724280"/>
            <a:ext cx="304920" cy="30492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5432400" y="3741840"/>
            <a:ext cx="2698920" cy="2890800"/>
            <a:chOff x="5432400" y="3741840"/>
            <a:chExt cx="2698920" cy="2890800"/>
          </a:xfrm>
        </p:grpSpPr>
        <p:sp>
          <p:nvSpPr>
            <p:cNvPr id="376" name=""/>
            <p:cNvSpPr txBox="1"/>
            <p:nvPr/>
          </p:nvSpPr>
          <p:spPr>
            <a:xfrm>
              <a:off x="6443640" y="5308560"/>
              <a:ext cx="254160" cy="300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宋体"/>
                </a:rPr>
                <a:t>O</a:t>
              </a:r>
              <a:endPara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5432400" y="3741840"/>
              <a:ext cx="2698920" cy="2890800"/>
              <a:chOff x="5432400" y="3741840"/>
              <a:chExt cx="2698920" cy="2890800"/>
            </a:xfrm>
          </p:grpSpPr>
          <p:sp>
            <p:nvSpPr>
              <p:cNvPr id="378" name=""/>
              <p:cNvSpPr/>
              <p:nvPr/>
            </p:nvSpPr>
            <p:spPr>
              <a:xfrm>
                <a:off x="6781680" y="5186520"/>
                <a:ext cx="22320" cy="457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32400" y="3741840"/>
                <a:ext cx="2698920" cy="28908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0" name=""/>
          <p:cNvGrpSpPr/>
          <p:nvPr/>
        </p:nvGrpSpPr>
        <p:grpSpPr>
          <a:xfrm>
            <a:off x="5564520" y="4036680"/>
            <a:ext cx="2106000" cy="1929240"/>
            <a:chOff x="5564520" y="4036680"/>
            <a:chExt cx="2106000" cy="1929240"/>
          </a:xfrm>
        </p:grpSpPr>
        <p:sp>
          <p:nvSpPr>
            <p:cNvPr id="381" name=""/>
            <p:cNvSpPr/>
            <p:nvPr/>
          </p:nvSpPr>
          <p:spPr>
            <a:xfrm flipH="1">
              <a:off x="5630760" y="4124520"/>
              <a:ext cx="225360" cy="17362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5564520" y="4036680"/>
              <a:ext cx="2106000" cy="1929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0" y="692280"/>
            <a:ext cx="9144000" cy="20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足球比赛中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甲、乙两名队员互相配合向对方球门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MN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进攻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当甲带球冲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点时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乙已跟随冲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从数学角度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此时甲是自己直接射门好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还是迅速将球回传给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让乙射门好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5486400" y="4114800"/>
            <a:ext cx="380880" cy="609480"/>
          </a:xfrm>
          <a:prstGeom prst="line">
            <a:avLst/>
          </a:prstGeom>
          <a:ln cap="rnd" w="50760">
            <a:solidFill>
              <a:srgbClr val="ff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 rot="241200">
            <a:off x="5355360" y="4892400"/>
            <a:ext cx="358920" cy="121896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4419720" y="4130640"/>
            <a:ext cx="4724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5105520" y="6035760"/>
            <a:ext cx="252360" cy="3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B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419720" y="4816440"/>
            <a:ext cx="252360" cy="3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A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7794720" y="3757680"/>
            <a:ext cx="252360" cy="3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N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5410080" y="3749760"/>
            <a:ext cx="252360" cy="3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M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859360" y="3429000"/>
            <a:ext cx="1836720" cy="701640"/>
            <a:chOff x="5859360" y="3429000"/>
            <a:chExt cx="1836720" cy="701640"/>
          </a:xfrm>
        </p:grpSpPr>
        <p:sp>
          <p:nvSpPr>
            <p:cNvPr id="392" name=""/>
            <p:cNvSpPr/>
            <p:nvPr/>
          </p:nvSpPr>
          <p:spPr>
            <a:xfrm>
              <a:off x="5859360" y="3429000"/>
              <a:ext cx="1828800" cy="685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867280" y="35971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867280" y="374976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867280" y="390204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095880" y="34448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400800" y="34448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705720" y="34448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010280" y="34448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315200" y="34448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4648320" y="3902040"/>
            <a:ext cx="699840" cy="9907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5181480" y="4884840"/>
            <a:ext cx="228600" cy="22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C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851720" y="4140360"/>
            <a:ext cx="2804400" cy="786960"/>
            <a:chOff x="4851720" y="4140360"/>
            <a:chExt cx="2804400" cy="786960"/>
          </a:xfrm>
        </p:grpSpPr>
        <p:sp>
          <p:nvSpPr>
            <p:cNvPr id="404" name=""/>
            <p:cNvSpPr/>
            <p:nvPr/>
          </p:nvSpPr>
          <p:spPr>
            <a:xfrm flipV="1">
              <a:off x="4851720" y="4140360"/>
              <a:ext cx="1001160" cy="786960"/>
            </a:xfrm>
            <a:prstGeom prst="line">
              <a:avLst/>
            </a:prstGeom>
            <a:ln w="5076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4876560" y="4142520"/>
              <a:ext cx="2779560" cy="742320"/>
              <a:chOff x="4876560" y="4142520"/>
              <a:chExt cx="2779560" cy="742320"/>
            </a:xfrm>
          </p:grpSpPr>
          <p:sp>
            <p:nvSpPr>
              <p:cNvPr id="406" name=""/>
              <p:cNvSpPr/>
              <p:nvPr/>
            </p:nvSpPr>
            <p:spPr>
              <a:xfrm flipH="1">
                <a:off x="5480280" y="4142520"/>
                <a:ext cx="2175840" cy="567720"/>
              </a:xfrm>
              <a:prstGeom prst="line">
                <a:avLst/>
              </a:prstGeom>
              <a:ln w="5076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>
                <a:off x="4876560" y="4732200"/>
                <a:ext cx="609480" cy="152640"/>
              </a:xfrm>
              <a:prstGeom prst="line">
                <a:avLst/>
              </a:prstGeom>
              <a:ln w="5076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8" name=""/>
          <p:cNvSpPr/>
          <p:nvPr/>
        </p:nvSpPr>
        <p:spPr>
          <a:xfrm>
            <a:off x="5486400" y="5791320"/>
            <a:ext cx="304920" cy="304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28600" y="836640"/>
            <a:ext cx="8534520" cy="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0920" y="42840"/>
            <a:ext cx="2376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拓展提高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3205080"/>
            <a:ext cx="46432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fb092c"/>
                </a:solidFill>
                <a:latin typeface="黑体"/>
                <a:ea typeface="黑体"/>
              </a:rPr>
              <a:t>提示</a:t>
            </a:r>
            <a:r>
              <a:rPr b="1" lang="zh-CN" sz="2800" spc="-1" strike="noStrike">
                <a:solidFill>
                  <a:srgbClr val="fb092c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fb092c"/>
                </a:solidFill>
                <a:latin typeface="黑体"/>
                <a:ea typeface="黑体"/>
              </a:rPr>
              <a:t>从数学角度看</a:t>
            </a:r>
            <a:r>
              <a:rPr b="1" lang="zh-CN" sz="2800" spc="-1" strike="noStrike">
                <a:solidFill>
                  <a:srgbClr val="fb092c"/>
                </a:solidFill>
                <a:latin typeface="黑体"/>
                <a:ea typeface="黑体"/>
              </a:rPr>
              <a:t>,</a:t>
            </a:r>
            <a:r>
              <a:rPr b="1" lang="en-US" sz="2800" spc="-1" strike="noStrike">
                <a:solidFill>
                  <a:srgbClr val="fb092c"/>
                </a:solidFill>
                <a:latin typeface="黑体"/>
                <a:ea typeface="黑体"/>
              </a:rPr>
              <a:t>甲、乙谁射门好</a:t>
            </a:r>
            <a:r>
              <a:rPr b="1" lang="zh-CN" sz="2800" spc="-1" strike="noStrike">
                <a:solidFill>
                  <a:srgbClr val="fb092c"/>
                </a:solidFill>
                <a:latin typeface="黑体"/>
                <a:ea typeface="黑体"/>
              </a:rPr>
              <a:t>,</a:t>
            </a:r>
            <a:r>
              <a:rPr b="1" lang="en-US" sz="2800" spc="-1" strike="noStrike">
                <a:solidFill>
                  <a:srgbClr val="fb092c"/>
                </a:solidFill>
                <a:latin typeface="黑体"/>
                <a:ea typeface="黑体"/>
              </a:rPr>
              <a:t>关键是比较∠</a:t>
            </a:r>
            <a:r>
              <a:rPr b="1" lang="en-US" sz="2800" spc="-1" strike="noStrike">
                <a:solidFill>
                  <a:srgbClr val="fb092c"/>
                </a:solidFill>
                <a:latin typeface="黑体"/>
                <a:ea typeface="黑体"/>
              </a:rPr>
              <a:t>MAN</a:t>
            </a:r>
            <a:r>
              <a:rPr b="1" lang="en-US" sz="2800" spc="-1" strike="noStrike">
                <a:solidFill>
                  <a:srgbClr val="fb092c"/>
                </a:solidFill>
                <a:latin typeface="黑体"/>
                <a:ea typeface="黑体"/>
              </a:rPr>
              <a:t>与∠</a:t>
            </a:r>
            <a:r>
              <a:rPr b="1" lang="en-US" sz="2800" spc="-1" strike="noStrike">
                <a:solidFill>
                  <a:srgbClr val="fb092c"/>
                </a:solidFill>
                <a:latin typeface="黑体"/>
                <a:ea typeface="黑体"/>
              </a:rPr>
              <a:t>MBN</a:t>
            </a:r>
            <a:r>
              <a:rPr b="1" lang="en-US" sz="2800" spc="-1" strike="noStrike">
                <a:solidFill>
                  <a:srgbClr val="fb092c"/>
                </a:solidFill>
                <a:latin typeface="黑体"/>
                <a:ea typeface="黑体"/>
              </a:rPr>
              <a:t>的大小</a:t>
            </a:r>
            <a:r>
              <a:rPr b="1" lang="zh-CN" sz="2800" spc="-1" strike="noStrike">
                <a:solidFill>
                  <a:srgbClr val="fb092c"/>
                </a:solidFill>
                <a:latin typeface="黑体"/>
                <a:ea typeface="黑体"/>
              </a:rPr>
              <a:t>,</a:t>
            </a:r>
            <a:r>
              <a:rPr b="1" lang="en-US" sz="2800" spc="-1" strike="noStrike">
                <a:solidFill>
                  <a:srgbClr val="fb092c"/>
                </a:solidFill>
                <a:latin typeface="黑体"/>
                <a:ea typeface="黑体"/>
              </a:rPr>
              <a:t>角度越大</a:t>
            </a:r>
            <a:r>
              <a:rPr b="1" lang="zh-CN" sz="2800" spc="-1" strike="noStrike">
                <a:solidFill>
                  <a:srgbClr val="fb092c"/>
                </a:solidFill>
                <a:latin typeface="黑体"/>
                <a:ea typeface="黑体"/>
              </a:rPr>
              <a:t>,</a:t>
            </a:r>
            <a:r>
              <a:rPr b="1" lang="en-US" sz="2800" spc="-1" strike="noStrike">
                <a:solidFill>
                  <a:srgbClr val="fb092c"/>
                </a:solidFill>
                <a:latin typeface="黑体"/>
                <a:ea typeface="黑体"/>
              </a:rPr>
              <a:t>射门的机会越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4356000" y="3932280"/>
            <a:ext cx="5004720" cy="5184000"/>
            <a:chOff x="4356000" y="3932280"/>
            <a:chExt cx="5004720" cy="5184000"/>
          </a:xfrm>
        </p:grpSpPr>
        <p:sp>
          <p:nvSpPr>
            <p:cNvPr id="413" name=""/>
            <p:cNvSpPr txBox="1"/>
            <p:nvPr/>
          </p:nvSpPr>
          <p:spPr>
            <a:xfrm>
              <a:off x="6231240" y="6741720"/>
              <a:ext cx="471240" cy="538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47520">
                    <a:solidFill>
                      <a:srgbClr val="0000ff"/>
                    </a:solidFill>
                    <a:miter/>
                  </a:ln>
                  <a:solidFill>
                    <a:srgbClr val="ffffff"/>
                  </a:solidFill>
                  <a:latin typeface="宋体"/>
                </a:rPr>
                <a:t>O</a:t>
              </a:r>
              <a:endParaRPr b="0" lang="en-US" sz="1800" spc="1" strike="noStrike">
                <a:ln w="4752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4356000" y="3932280"/>
              <a:ext cx="5004720" cy="5184000"/>
              <a:chOff x="4356000" y="3932280"/>
              <a:chExt cx="5004720" cy="5184000"/>
            </a:xfrm>
          </p:grpSpPr>
          <p:sp>
            <p:nvSpPr>
              <p:cNvPr id="415" name=""/>
              <p:cNvSpPr/>
              <p:nvPr/>
            </p:nvSpPr>
            <p:spPr>
              <a:xfrm>
                <a:off x="6858000" y="6522840"/>
                <a:ext cx="41040" cy="81720"/>
              </a:xfrm>
              <a:prstGeom prst="ellipse">
                <a:avLst/>
              </a:prstGeom>
              <a:solidFill>
                <a:srgbClr val="ffffff"/>
              </a:solidFill>
              <a:ln w="47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356000" y="3932280"/>
                <a:ext cx="5004720" cy="5184000"/>
              </a:xfrm>
              <a:prstGeom prst="ellipse">
                <a:avLst/>
              </a:prstGeom>
              <a:noFill/>
              <a:ln w="47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7" name=""/>
          <p:cNvSpPr/>
          <p:nvPr/>
        </p:nvSpPr>
        <p:spPr>
          <a:xfrm flipH="1">
            <a:off x="4356000" y="5950080"/>
            <a:ext cx="1224000" cy="907920"/>
          </a:xfrm>
          <a:prstGeom prst="line">
            <a:avLst/>
          </a:prstGeom>
          <a:ln w="6336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4356000" y="4149720"/>
            <a:ext cx="1511280" cy="2708280"/>
          </a:xfrm>
          <a:prstGeom prst="line">
            <a:avLst/>
          </a:prstGeom>
          <a:ln w="6336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8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500"/>
                            </p:stCondLst>
                            <p:childTnLst>
                              <p:par>
                                <p:cTn id="4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4724280" y="4724280"/>
            <a:ext cx="304920" cy="30492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432400" y="3741840"/>
            <a:ext cx="2698920" cy="2890800"/>
            <a:chOff x="5432400" y="3741840"/>
            <a:chExt cx="2698920" cy="2890800"/>
          </a:xfrm>
        </p:grpSpPr>
        <p:sp>
          <p:nvSpPr>
            <p:cNvPr id="421" name=""/>
            <p:cNvSpPr txBox="1"/>
            <p:nvPr/>
          </p:nvSpPr>
          <p:spPr>
            <a:xfrm>
              <a:off x="6443640" y="5308560"/>
              <a:ext cx="254160" cy="300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宋体"/>
                </a:rPr>
                <a:t>O</a:t>
              </a:r>
              <a:endPara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5432400" y="3741840"/>
              <a:ext cx="2698920" cy="2890800"/>
              <a:chOff x="5432400" y="3741840"/>
              <a:chExt cx="2698920" cy="2890800"/>
            </a:xfrm>
          </p:grpSpPr>
          <p:sp>
            <p:nvSpPr>
              <p:cNvPr id="423" name=""/>
              <p:cNvSpPr/>
              <p:nvPr/>
            </p:nvSpPr>
            <p:spPr>
              <a:xfrm>
                <a:off x="6781680" y="5186520"/>
                <a:ext cx="22320" cy="457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432400" y="3741840"/>
                <a:ext cx="2698920" cy="28908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5" name=""/>
          <p:cNvGrpSpPr/>
          <p:nvPr/>
        </p:nvGrpSpPr>
        <p:grpSpPr>
          <a:xfrm>
            <a:off x="5564520" y="4036680"/>
            <a:ext cx="2106000" cy="1929240"/>
            <a:chOff x="5564520" y="4036680"/>
            <a:chExt cx="2106000" cy="1929240"/>
          </a:xfrm>
        </p:grpSpPr>
        <p:sp>
          <p:nvSpPr>
            <p:cNvPr id="426" name=""/>
            <p:cNvSpPr/>
            <p:nvPr/>
          </p:nvSpPr>
          <p:spPr>
            <a:xfrm flipH="1">
              <a:off x="5630760" y="4124520"/>
              <a:ext cx="225360" cy="17362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5564520" y="4036680"/>
              <a:ext cx="2106000" cy="1929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5867280" y="4114800"/>
            <a:ext cx="990720" cy="1143000"/>
          </a:xfrm>
          <a:prstGeom prst="line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692280"/>
            <a:ext cx="9144000" cy="20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足球比赛中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甲、乙两名队员互相配合向对方球门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MN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进攻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当甲带球冲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点时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乙已跟随冲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从数学角度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此时甲是自己直接射门好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还是迅速将球回传给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让乙射门好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6781680" y="4114440"/>
            <a:ext cx="914400" cy="1143000"/>
          </a:xfrm>
          <a:prstGeom prst="line">
            <a:avLst/>
          </a:prstGeom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5486400" y="4114800"/>
            <a:ext cx="380880" cy="609480"/>
          </a:xfrm>
          <a:prstGeom prst="line">
            <a:avLst/>
          </a:prstGeom>
          <a:ln cap="rnd" w="50760">
            <a:solidFill>
              <a:srgbClr val="ff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4419720" y="3429000"/>
            <a:ext cx="4724280" cy="2908440"/>
            <a:chOff x="4419720" y="3429000"/>
            <a:chExt cx="4724280" cy="2908440"/>
          </a:xfrm>
        </p:grpSpPr>
        <p:pic>
          <p:nvPicPr>
            <p:cNvPr id="433" name="" descr=""/>
            <p:cNvPicPr/>
            <p:nvPr/>
          </p:nvPicPr>
          <p:blipFill>
            <a:blip r:embed="rId1"/>
            <a:stretch/>
          </p:blipFill>
          <p:spPr>
            <a:xfrm rot="241200">
              <a:off x="5355360" y="4892400"/>
              <a:ext cx="358920" cy="1218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4" name=""/>
            <p:cNvGrpSpPr/>
            <p:nvPr/>
          </p:nvGrpSpPr>
          <p:grpSpPr>
            <a:xfrm>
              <a:off x="4419720" y="3429000"/>
              <a:ext cx="4724280" cy="2908440"/>
              <a:chOff x="4419720" y="3429000"/>
              <a:chExt cx="4724280" cy="2908440"/>
            </a:xfrm>
          </p:grpSpPr>
          <p:sp>
            <p:nvSpPr>
              <p:cNvPr id="435" name=""/>
              <p:cNvSpPr/>
              <p:nvPr/>
            </p:nvSpPr>
            <p:spPr>
              <a:xfrm>
                <a:off x="4419720" y="4130640"/>
                <a:ext cx="4724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 txBox="1"/>
              <p:nvPr/>
            </p:nvSpPr>
            <p:spPr>
              <a:xfrm>
                <a:off x="5105520" y="6035760"/>
                <a:ext cx="252360" cy="301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2844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B</a:t>
                </a:r>
                <a:endParaRPr b="0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437" name=""/>
              <p:cNvSpPr txBox="1"/>
              <p:nvPr/>
            </p:nvSpPr>
            <p:spPr>
              <a:xfrm>
                <a:off x="4419720" y="4816440"/>
                <a:ext cx="252360" cy="303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2844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A</a:t>
                </a:r>
                <a:endParaRPr b="0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438" name=""/>
              <p:cNvSpPr txBox="1"/>
              <p:nvPr/>
            </p:nvSpPr>
            <p:spPr>
              <a:xfrm>
                <a:off x="7794720" y="3757680"/>
                <a:ext cx="252360" cy="301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2844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N</a:t>
                </a:r>
                <a:endParaRPr b="0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439" name=""/>
              <p:cNvSpPr txBox="1"/>
              <p:nvPr/>
            </p:nvSpPr>
            <p:spPr>
              <a:xfrm>
                <a:off x="5410080" y="3749760"/>
                <a:ext cx="252360" cy="301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2844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M</a:t>
                </a:r>
                <a:endParaRPr b="0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  <p:grpSp>
            <p:nvGrpSpPr>
              <p:cNvPr id="440" name=""/>
              <p:cNvGrpSpPr/>
              <p:nvPr/>
            </p:nvGrpSpPr>
            <p:grpSpPr>
              <a:xfrm>
                <a:off x="5859360" y="3429000"/>
                <a:ext cx="1836720" cy="701640"/>
                <a:chOff x="5859360" y="3429000"/>
                <a:chExt cx="1836720" cy="70164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5859360" y="3429000"/>
                  <a:ext cx="1828800" cy="685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5867280" y="3597120"/>
                  <a:ext cx="1828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5867280" y="3749760"/>
                  <a:ext cx="1752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5867280" y="3902040"/>
                  <a:ext cx="1828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6095880" y="3444840"/>
                  <a:ext cx="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6400800" y="3444840"/>
                  <a:ext cx="0" cy="685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6705720" y="3444840"/>
                  <a:ext cx="0" cy="685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7010280" y="3444840"/>
                  <a:ext cx="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7315200" y="3444840"/>
                  <a:ext cx="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5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648320" y="3902040"/>
                <a:ext cx="699840" cy="990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51" name=""/>
          <p:cNvGrpSpPr/>
          <p:nvPr/>
        </p:nvGrpSpPr>
        <p:grpSpPr>
          <a:xfrm>
            <a:off x="4851720" y="4140360"/>
            <a:ext cx="2804400" cy="968040"/>
            <a:chOff x="4851720" y="4140360"/>
            <a:chExt cx="2804400" cy="968040"/>
          </a:xfrm>
        </p:grpSpPr>
        <p:sp>
          <p:nvSpPr>
            <p:cNvPr id="452" name=""/>
            <p:cNvSpPr/>
            <p:nvPr/>
          </p:nvSpPr>
          <p:spPr>
            <a:xfrm flipV="1">
              <a:off x="4851720" y="4140360"/>
              <a:ext cx="1001160" cy="786960"/>
            </a:xfrm>
            <a:prstGeom prst="line">
              <a:avLst/>
            </a:prstGeom>
            <a:ln w="5076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4876560" y="4142520"/>
              <a:ext cx="2779560" cy="965880"/>
              <a:chOff x="4876560" y="4142520"/>
              <a:chExt cx="2779560" cy="965880"/>
            </a:xfrm>
          </p:grpSpPr>
          <p:sp>
            <p:nvSpPr>
              <p:cNvPr id="454" name=""/>
              <p:cNvSpPr txBox="1"/>
              <p:nvPr/>
            </p:nvSpPr>
            <p:spPr>
              <a:xfrm>
                <a:off x="5181480" y="4884840"/>
                <a:ext cx="228600" cy="223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2844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C</a:t>
                </a:r>
                <a:endParaRPr b="0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  <p:grpSp>
            <p:nvGrpSpPr>
              <p:cNvPr id="455" name=""/>
              <p:cNvGrpSpPr/>
              <p:nvPr/>
            </p:nvGrpSpPr>
            <p:grpSpPr>
              <a:xfrm>
                <a:off x="4876560" y="4142520"/>
                <a:ext cx="2779560" cy="742320"/>
                <a:chOff x="4876560" y="4142520"/>
                <a:chExt cx="2779560" cy="742320"/>
              </a:xfrm>
            </p:grpSpPr>
            <p:sp>
              <p:nvSpPr>
                <p:cNvPr id="456" name=""/>
                <p:cNvSpPr/>
                <p:nvPr/>
              </p:nvSpPr>
              <p:spPr>
                <a:xfrm flipH="1">
                  <a:off x="5480280" y="4142520"/>
                  <a:ext cx="2175840" cy="567720"/>
                </a:xfrm>
                <a:prstGeom prst="line">
                  <a:avLst/>
                </a:prstGeom>
                <a:ln w="50760">
                  <a:solidFill>
                    <a:srgbClr val="ff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flipH="1">
                  <a:off x="4876560" y="4732200"/>
                  <a:ext cx="609480" cy="152640"/>
                </a:xfrm>
                <a:prstGeom prst="line">
                  <a:avLst/>
                </a:prstGeom>
                <a:ln w="50760">
                  <a:solidFill>
                    <a:srgbClr val="ff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58" name=""/>
          <p:cNvSpPr/>
          <p:nvPr/>
        </p:nvSpPr>
        <p:spPr>
          <a:xfrm>
            <a:off x="5486400" y="5791320"/>
            <a:ext cx="304920" cy="304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28600" y="836640"/>
            <a:ext cx="8534520" cy="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50920" y="42840"/>
            <a:ext cx="2376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拓展提高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3205080"/>
            <a:ext cx="46432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fb092c"/>
                </a:solidFill>
                <a:latin typeface="黑体"/>
                <a:ea typeface="黑体"/>
              </a:rPr>
              <a:t>提示</a:t>
            </a:r>
            <a:r>
              <a:rPr b="1" lang="zh-CN" sz="2800" spc="-1" strike="noStrike">
                <a:solidFill>
                  <a:srgbClr val="fb092c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fb092c"/>
                </a:solidFill>
                <a:latin typeface="黑体"/>
                <a:ea typeface="黑体"/>
              </a:rPr>
              <a:t>从数学角度看</a:t>
            </a:r>
            <a:r>
              <a:rPr b="1" lang="zh-CN" sz="2800" spc="-1" strike="noStrike">
                <a:solidFill>
                  <a:srgbClr val="fb092c"/>
                </a:solidFill>
                <a:latin typeface="黑体"/>
                <a:ea typeface="黑体"/>
              </a:rPr>
              <a:t>,</a:t>
            </a:r>
            <a:r>
              <a:rPr b="1" lang="en-US" sz="2800" spc="-1" strike="noStrike">
                <a:solidFill>
                  <a:srgbClr val="fb092c"/>
                </a:solidFill>
                <a:latin typeface="黑体"/>
                <a:ea typeface="黑体"/>
              </a:rPr>
              <a:t>甲、乙谁射门好</a:t>
            </a:r>
            <a:r>
              <a:rPr b="1" lang="zh-CN" sz="2800" spc="-1" strike="noStrike">
                <a:solidFill>
                  <a:srgbClr val="fb092c"/>
                </a:solidFill>
                <a:latin typeface="黑体"/>
                <a:ea typeface="黑体"/>
              </a:rPr>
              <a:t>,</a:t>
            </a:r>
            <a:r>
              <a:rPr b="1" lang="en-US" sz="2800" spc="-1" strike="noStrike">
                <a:solidFill>
                  <a:srgbClr val="fb092c"/>
                </a:solidFill>
                <a:latin typeface="黑体"/>
                <a:ea typeface="黑体"/>
              </a:rPr>
              <a:t>关键是比较∠</a:t>
            </a:r>
            <a:r>
              <a:rPr b="1" lang="en-US" sz="2800" spc="-1" strike="noStrike">
                <a:solidFill>
                  <a:srgbClr val="fb092c"/>
                </a:solidFill>
                <a:latin typeface="黑体"/>
                <a:ea typeface="黑体"/>
              </a:rPr>
              <a:t>MAN</a:t>
            </a:r>
            <a:r>
              <a:rPr b="1" lang="en-US" sz="2800" spc="-1" strike="noStrike">
                <a:solidFill>
                  <a:srgbClr val="fb092c"/>
                </a:solidFill>
                <a:latin typeface="黑体"/>
                <a:ea typeface="黑体"/>
              </a:rPr>
              <a:t>与∠</a:t>
            </a:r>
            <a:r>
              <a:rPr b="1" lang="en-US" sz="2800" spc="-1" strike="noStrike">
                <a:solidFill>
                  <a:srgbClr val="fb092c"/>
                </a:solidFill>
                <a:latin typeface="黑体"/>
                <a:ea typeface="黑体"/>
              </a:rPr>
              <a:t>MBN</a:t>
            </a:r>
            <a:r>
              <a:rPr b="1" lang="en-US" sz="2800" spc="-1" strike="noStrike">
                <a:solidFill>
                  <a:srgbClr val="fb092c"/>
                </a:solidFill>
                <a:latin typeface="黑体"/>
                <a:ea typeface="黑体"/>
              </a:rPr>
              <a:t>的大小</a:t>
            </a:r>
            <a:r>
              <a:rPr b="1" lang="zh-CN" sz="2800" spc="-1" strike="noStrike">
                <a:solidFill>
                  <a:srgbClr val="fb092c"/>
                </a:solidFill>
                <a:latin typeface="黑体"/>
                <a:ea typeface="黑体"/>
              </a:rPr>
              <a:t>,</a:t>
            </a:r>
            <a:r>
              <a:rPr b="1" lang="en-US" sz="2800" spc="-1" strike="noStrike">
                <a:solidFill>
                  <a:srgbClr val="fb092c"/>
                </a:solidFill>
                <a:latin typeface="黑体"/>
                <a:ea typeface="黑体"/>
              </a:rPr>
              <a:t>角度越大</a:t>
            </a:r>
            <a:r>
              <a:rPr b="1" lang="zh-CN" sz="2800" spc="-1" strike="noStrike">
                <a:solidFill>
                  <a:srgbClr val="fb092c"/>
                </a:solidFill>
                <a:latin typeface="黑体"/>
                <a:ea typeface="黑体"/>
              </a:rPr>
              <a:t>,</a:t>
            </a:r>
            <a:r>
              <a:rPr b="1" lang="en-US" sz="2800" spc="-1" strike="noStrike">
                <a:solidFill>
                  <a:srgbClr val="fb092c"/>
                </a:solidFill>
                <a:latin typeface="黑体"/>
                <a:ea typeface="黑体"/>
              </a:rPr>
              <a:t>射门的机会越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8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-1440" y="764640"/>
            <a:ext cx="914544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圆上的一个动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B=    ,P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P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平分线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∠BAC=30</a:t>
            </a:r>
            <a:r>
              <a:rPr b="1" lang="zh-CN" sz="32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当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PA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等于多少度时四边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PAC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有最大面积？最大面积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当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PA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等于多少度时四边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PAC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梯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6588000" y="765000"/>
                <a:ext cx="69084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464" name=""/>
          <p:cNvGrpSpPr/>
          <p:nvPr/>
        </p:nvGrpSpPr>
        <p:grpSpPr>
          <a:xfrm>
            <a:off x="3709800" y="3868560"/>
            <a:ext cx="3149640" cy="3090600"/>
            <a:chOff x="3709800" y="3868560"/>
            <a:chExt cx="3149640" cy="3090600"/>
          </a:xfrm>
        </p:grpSpPr>
        <p:sp>
          <p:nvSpPr>
            <p:cNvPr id="465" name=""/>
            <p:cNvSpPr/>
            <p:nvPr/>
          </p:nvSpPr>
          <p:spPr>
            <a:xfrm>
              <a:off x="4140360" y="3868560"/>
              <a:ext cx="2663640" cy="2590920"/>
            </a:xfrm>
            <a:prstGeom prst="ellipse">
              <a:avLst/>
            </a:pr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84720" y="4587840"/>
              <a:ext cx="2232000" cy="136836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284720" y="5668920"/>
              <a:ext cx="2232000" cy="287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284720" y="4587840"/>
              <a:ext cx="0" cy="10810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284720" y="5668920"/>
              <a:ext cx="1008000" cy="7920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5219640" y="5956200"/>
              <a:ext cx="1297080" cy="5047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284720" y="4587840"/>
              <a:ext cx="1008000" cy="18730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510520" y="4516200"/>
              <a:ext cx="53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860720" y="631656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781440" y="552456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373800" y="574020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09800" y="422892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435640" y="5019480"/>
              <a:ext cx="71280" cy="69840"/>
            </a:xfrm>
            <a:prstGeom prst="ellipse">
              <a:avLst/>
            </a:prstGeom>
            <a:solidFill>
              <a:srgbClr val="bbe0e3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228600" y="692280"/>
            <a:ext cx="8534520" cy="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50920" y="-27000"/>
            <a:ext cx="2376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拓展提高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5292720" y="3860640"/>
            <a:ext cx="358920" cy="259272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4284720" y="3860280"/>
            <a:ext cx="1366920" cy="180036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5651280" y="3860640"/>
            <a:ext cx="865080" cy="208944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734440" y="3406680"/>
            <a:ext cx="583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b092c"/>
                </a:solidFill>
                <a:latin typeface="Arial"/>
              </a:rPr>
              <a:t>P</a:t>
            </a:r>
            <a:r>
              <a:rPr b="1" lang="en-US" sz="3200" spc="-1" strike="noStrike" baseline="-25000">
                <a:solidFill>
                  <a:srgbClr val="fb092c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4284720" y="4508280"/>
            <a:ext cx="2303280" cy="1152360"/>
          </a:xfrm>
          <a:prstGeom prst="line">
            <a:avLst/>
          </a:prstGeom>
          <a:ln w="507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6516720" y="4508640"/>
            <a:ext cx="71280" cy="1441440"/>
          </a:xfrm>
          <a:prstGeom prst="line">
            <a:avLst/>
          </a:prstGeom>
          <a:ln w="507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669360" y="3983040"/>
            <a:ext cx="583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005720" y="3645000"/>
            <a:ext cx="583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P</a:t>
            </a:r>
            <a:r>
              <a:rPr b="1" lang="en-US" sz="3200" spc="-1" strike="noStrike" baseline="-25000">
                <a:solidFill>
                  <a:srgbClr val="ff33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 flipV="1">
            <a:off x="4572000" y="4220640"/>
            <a:ext cx="1944720" cy="1729080"/>
          </a:xfrm>
          <a:prstGeom prst="line">
            <a:avLst/>
          </a:prstGeom>
          <a:ln w="507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4211640" y="4220640"/>
            <a:ext cx="360360" cy="1513080"/>
          </a:xfrm>
          <a:prstGeom prst="line">
            <a:avLst/>
          </a:prstGeom>
          <a:ln w="507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468360" y="3429000"/>
            <a:ext cx="835164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在同圆或等圆中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同弧或等弧所对的圆周角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等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都等于这条弧所对的圆心角的一半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468360" y="1774800"/>
            <a:ext cx="7848720" cy="5814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顶点在圆上，两边与圆相交的角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叫圆周角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468360" y="1125360"/>
            <a:ext cx="2735280" cy="5814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圆周角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468360" y="2768760"/>
            <a:ext cx="2303280" cy="5814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圆周角定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504720" y="4873680"/>
            <a:ext cx="8315280" cy="1556280"/>
          </a:xfrm>
          <a:prstGeom prst="rect">
            <a:avLst/>
          </a:prstGeom>
          <a:noFill/>
          <a:ln w="255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推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半圆或直径所对的圆周角都相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都等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90°; 90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圆周角所对的弦是圆的直径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42840"/>
            <a:ext cx="2376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复习巩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836640"/>
            <a:ext cx="8534520" cy="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9920" y="2392200"/>
            <a:ext cx="36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学科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"/>
          <p:cNvGrpSpPr/>
          <p:nvPr/>
        </p:nvGrpSpPr>
        <p:grpSpPr>
          <a:xfrm>
            <a:off x="6434640" y="4149720"/>
            <a:ext cx="2459880" cy="2448000"/>
            <a:chOff x="6434640" y="4149720"/>
            <a:chExt cx="2459880" cy="2448000"/>
          </a:xfrm>
        </p:grpSpPr>
        <p:sp>
          <p:nvSpPr>
            <p:cNvPr id="491" name="m16Arc 211"/>
            <p:cNvSpPr/>
            <p:nvPr/>
          </p:nvSpPr>
          <p:spPr>
            <a:xfrm rot="16200000">
              <a:off x="6445440" y="4148640"/>
              <a:ext cx="2447640" cy="245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2"/>
                  </a:moveTo>
                  <a:arcTo wR="10800" hR="10800" stAng="-10772052" swAng="107720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2"/>
                  </a:moveTo>
                  <a:arcTo wR="10800" hR="10800" stAng="-10772052" swAng="10772052"/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m16Arc 211"/>
            <p:cNvSpPr/>
            <p:nvPr/>
          </p:nvSpPr>
          <p:spPr>
            <a:xfrm rot="5400000">
              <a:off x="6436080" y="4148280"/>
              <a:ext cx="2447640" cy="245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2"/>
                  </a:moveTo>
                  <a:arcTo wR="10800" hR="10800" stAng="-10772052" swAng="107720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2"/>
                  </a:moveTo>
                  <a:arcTo wR="10800" hR="10800" stAng="-10772052" swAng="10772052"/>
                </a:path>
              </a:pathLst>
            </a:custGeom>
            <a:noFill/>
            <a:ln w="28440">
              <a:solidFill>
                <a:srgbClr val="ffffff">
                  <a:alpha val="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108000" y="61128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如图，你能设法确定一个圆形纸片的圆心吗？你有多少种方法？与同学交流一下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643280" y="1413000"/>
            <a:ext cx="2449800" cy="2449440"/>
          </a:xfrm>
          <a:prstGeom prst="ellipse">
            <a:avLst/>
          </a:prstGeom>
          <a:solidFill>
            <a:srgbClr val="54f6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84360" y="2997360"/>
            <a:ext cx="1871640" cy="1871640"/>
          </a:xfrm>
          <a:prstGeom prst="ellipse">
            <a:avLst/>
          </a:prstGeom>
          <a:solidFill>
            <a:srgbClr val="54f6fe"/>
          </a:solidFill>
          <a:ln w="28440">
            <a:solidFill>
              <a:srgbClr val="54f6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401840" y="49356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466560" y="2919240"/>
            <a:ext cx="2305080" cy="1951200"/>
            <a:chOff x="466560" y="2919240"/>
            <a:chExt cx="2305080" cy="1951200"/>
          </a:xfrm>
        </p:grpSpPr>
        <p:sp>
          <p:nvSpPr>
            <p:cNvPr id="498" name=""/>
            <p:cNvSpPr/>
            <p:nvPr/>
          </p:nvSpPr>
          <p:spPr>
            <a:xfrm>
              <a:off x="466560" y="299232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266560" y="2919240"/>
              <a:ext cx="5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969480" y="2998800"/>
              <a:ext cx="1297080" cy="1871640"/>
              <a:chOff x="969480" y="2998800"/>
              <a:chExt cx="1297080" cy="1871640"/>
            </a:xfrm>
          </p:grpSpPr>
          <p:sp>
            <p:nvSpPr>
              <p:cNvPr id="501" name=""/>
              <p:cNvSpPr/>
              <p:nvPr/>
            </p:nvSpPr>
            <p:spPr>
              <a:xfrm>
                <a:off x="1618920" y="328608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2" name=""/>
              <p:cNvGrpSpPr/>
              <p:nvPr/>
            </p:nvGrpSpPr>
            <p:grpSpPr>
              <a:xfrm>
                <a:off x="969480" y="2998800"/>
                <a:ext cx="1297080" cy="1871640"/>
                <a:chOff x="969480" y="2998800"/>
                <a:chExt cx="1297080" cy="187164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969480" y="3279600"/>
                  <a:ext cx="1297080" cy="7164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1574640" y="3338640"/>
                  <a:ext cx="71280" cy="151128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1604520" y="2998800"/>
                  <a:ext cx="0" cy="1871640"/>
                </a:xfrm>
                <a:prstGeom prst="line">
                  <a:avLst/>
                </a:prstGeom>
                <a:ln w="28440">
                  <a:solidFill>
                    <a:srgbClr val="ffffff">
                      <a:alpha val="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06" name=""/>
          <p:cNvSpPr/>
          <p:nvPr/>
        </p:nvSpPr>
        <p:spPr>
          <a:xfrm>
            <a:off x="1619280" y="2998800"/>
            <a:ext cx="0" cy="1871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807480" y="3480480"/>
            <a:ext cx="1621080" cy="935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619280" y="38480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590840" y="390528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300800" y="5373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675560" y="4149720"/>
            <a:ext cx="0" cy="2448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6442200" y="4149720"/>
            <a:ext cx="2459880" cy="2448000"/>
            <a:chOff x="6442200" y="4149720"/>
            <a:chExt cx="2459880" cy="2448000"/>
          </a:xfrm>
        </p:grpSpPr>
        <p:sp>
          <p:nvSpPr>
            <p:cNvPr id="513" name="m16Arc 211"/>
            <p:cNvSpPr/>
            <p:nvPr/>
          </p:nvSpPr>
          <p:spPr>
            <a:xfrm rot="5400000">
              <a:off x="6443640" y="4148280"/>
              <a:ext cx="2447640" cy="245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2"/>
                  </a:moveTo>
                  <a:arcTo wR="10800" hR="10800" stAng="-10772052" swAng="107720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2"/>
                  </a:moveTo>
                  <a:arcTo wR="10800" hR="10800" stAng="-10772052" swAng="10772052"/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m16Arc 211"/>
            <p:cNvSpPr/>
            <p:nvPr/>
          </p:nvSpPr>
          <p:spPr>
            <a:xfrm rot="16200000">
              <a:off x="6453000" y="4148640"/>
              <a:ext cx="2447640" cy="245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2"/>
                  </a:moveTo>
                  <a:arcTo wR="10800" hR="10800" stAng="-10772052" swAng="107720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2"/>
                  </a:moveTo>
                  <a:arcTo wR="10800" hR="10800" stAng="-10772052" swAng="10772052"/>
                </a:path>
              </a:pathLst>
            </a:custGeom>
            <a:noFill/>
            <a:ln w="28440">
              <a:solidFill>
                <a:srgbClr val="ffffff">
                  <a:alpha val="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6442200" y="4149720"/>
            <a:ext cx="2459880" cy="2448000"/>
            <a:chOff x="6442200" y="4149720"/>
            <a:chExt cx="2459880" cy="2448000"/>
          </a:xfrm>
        </p:grpSpPr>
        <p:sp>
          <p:nvSpPr>
            <p:cNvPr id="516" name="m16Arc 211"/>
            <p:cNvSpPr/>
            <p:nvPr/>
          </p:nvSpPr>
          <p:spPr>
            <a:xfrm rot="5400000">
              <a:off x="6443640" y="4148280"/>
              <a:ext cx="2447640" cy="245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2"/>
                  </a:moveTo>
                  <a:arcTo wR="10800" hR="10800" stAng="-10772052" swAng="107720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2"/>
                  </a:moveTo>
                  <a:arcTo wR="10800" hR="10800" stAng="-10772052" swAng="10772052"/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m16Arc 211"/>
            <p:cNvSpPr/>
            <p:nvPr/>
          </p:nvSpPr>
          <p:spPr>
            <a:xfrm rot="16200000">
              <a:off x="6453000" y="4148640"/>
              <a:ext cx="2447640" cy="245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2"/>
                  </a:moveTo>
                  <a:arcTo wR="10800" hR="10800" stAng="-10772052" swAng="107720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2"/>
                  </a:moveTo>
                  <a:arcTo wR="10800" hR="10800" stAng="-10772052" swAng="10772052"/>
                </a:path>
              </a:pathLst>
            </a:custGeom>
            <a:noFill/>
            <a:ln w="28440">
              <a:solidFill>
                <a:srgbClr val="ffffff">
                  <a:alpha val="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6451560" y="4140720"/>
            <a:ext cx="2448000" cy="2459880"/>
            <a:chOff x="6451560" y="4140720"/>
            <a:chExt cx="2448000" cy="2459880"/>
          </a:xfrm>
        </p:grpSpPr>
        <p:sp>
          <p:nvSpPr>
            <p:cNvPr id="519" name="m16Arc 211"/>
            <p:cNvSpPr/>
            <p:nvPr/>
          </p:nvSpPr>
          <p:spPr>
            <a:xfrm>
              <a:off x="6451560" y="4150080"/>
              <a:ext cx="2447640" cy="245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2"/>
                  </a:moveTo>
                  <a:arcTo wR="10800" hR="10800" stAng="-10772052" swAng="107720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2"/>
                  </a:moveTo>
                  <a:arcTo wR="10800" hR="10800" stAng="-10772052" swAng="10772052"/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m16Arc 211"/>
            <p:cNvSpPr/>
            <p:nvPr/>
          </p:nvSpPr>
          <p:spPr>
            <a:xfrm rot="10800000">
              <a:off x="6451920" y="4140720"/>
              <a:ext cx="2447640" cy="245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2"/>
                  </a:moveTo>
                  <a:arcTo wR="10800" hR="10800" stAng="-10772052" swAng="107720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2"/>
                  </a:moveTo>
                  <a:arcTo wR="10800" hR="10800" stAng="-10772052" swAng="10772052"/>
                </a:path>
              </a:pathLst>
            </a:custGeom>
            <a:noFill/>
            <a:ln w="28440">
              <a:solidFill>
                <a:srgbClr val="ffffff">
                  <a:alpha val="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"/>
          <p:cNvSpPr/>
          <p:nvPr/>
        </p:nvSpPr>
        <p:spPr>
          <a:xfrm flipH="1">
            <a:off x="6451560" y="5373720"/>
            <a:ext cx="2448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451560" y="4140360"/>
            <a:ext cx="2448000" cy="2459880"/>
            <a:chOff x="6451560" y="4140360"/>
            <a:chExt cx="2448000" cy="2459880"/>
          </a:xfrm>
        </p:grpSpPr>
        <p:sp>
          <p:nvSpPr>
            <p:cNvPr id="523" name="m16Arc 211"/>
            <p:cNvSpPr/>
            <p:nvPr/>
          </p:nvSpPr>
          <p:spPr>
            <a:xfrm rot="10800000">
              <a:off x="6451920" y="4140360"/>
              <a:ext cx="2447640" cy="245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2"/>
                  </a:moveTo>
                  <a:arcTo wR="10800" hR="10800" stAng="-10772052" swAng="107720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2"/>
                  </a:moveTo>
                  <a:arcTo wR="10800" hR="10800" stAng="-10772052" swAng="10772052"/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m16Arc 211"/>
            <p:cNvSpPr/>
            <p:nvPr/>
          </p:nvSpPr>
          <p:spPr>
            <a:xfrm>
              <a:off x="6451560" y="4149720"/>
              <a:ext cx="2447640" cy="245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2"/>
                  </a:moveTo>
                  <a:arcTo wR="10800" hR="10800" stAng="-10772052" swAng="107720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2"/>
                  </a:moveTo>
                  <a:arcTo wR="10800" hR="10800" stAng="-10772052" swAng="10772052"/>
                </a:path>
              </a:pathLst>
            </a:custGeom>
            <a:noFill/>
            <a:ln w="28440">
              <a:solidFill>
                <a:srgbClr val="ffffff">
                  <a:alpha val="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6451560" y="4140360"/>
            <a:ext cx="2448000" cy="2459880"/>
            <a:chOff x="6451560" y="4140360"/>
            <a:chExt cx="2448000" cy="2459880"/>
          </a:xfrm>
        </p:grpSpPr>
        <p:sp>
          <p:nvSpPr>
            <p:cNvPr id="526" name="m16Arc 211"/>
            <p:cNvSpPr/>
            <p:nvPr/>
          </p:nvSpPr>
          <p:spPr>
            <a:xfrm rot="10800000">
              <a:off x="6451920" y="4140360"/>
              <a:ext cx="2447640" cy="245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2"/>
                  </a:moveTo>
                  <a:arcTo wR="10800" hR="10800" stAng="-10772052" swAng="107720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2"/>
                  </a:moveTo>
                  <a:arcTo wR="10800" hR="10800" stAng="-10772052" swAng="10772052"/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m16Arc 211"/>
            <p:cNvSpPr/>
            <p:nvPr/>
          </p:nvSpPr>
          <p:spPr>
            <a:xfrm>
              <a:off x="6451560" y="4149720"/>
              <a:ext cx="2447640" cy="245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2"/>
                  </a:moveTo>
                  <a:arcTo wR="10800" hR="10800" stAng="-10772052" swAng="107720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2"/>
                  </a:moveTo>
                  <a:arcTo wR="10800" hR="10800" stAng="-10772052" swAng="10772052"/>
                </a:path>
              </a:pathLst>
            </a:custGeom>
            <a:noFill/>
            <a:ln w="28440">
              <a:solidFill>
                <a:srgbClr val="ffffff">
                  <a:alpha val="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7632720" y="5345280"/>
            <a:ext cx="73080" cy="72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rot="9157200">
            <a:off x="4314240" y="2045880"/>
            <a:ext cx="2663640" cy="1800360"/>
          </a:xfrm>
          <a:prstGeom prst="rtTriangl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673520" y="2467080"/>
            <a:ext cx="2419560" cy="385560"/>
          </a:xfrm>
          <a:custGeom>
            <a:avLst/>
            <a:gdLst/>
            <a:ahLst/>
            <a:rect l="l" t="t" r="r" b="b"/>
            <a:pathLst>
              <a:path w="1524" h="243">
                <a:moveTo>
                  <a:pt x="0" y="0"/>
                </a:moveTo>
                <a:lnTo>
                  <a:pt x="1524" y="243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rot="12106800">
            <a:off x="4140000" y="1787040"/>
            <a:ext cx="2663640" cy="1800360"/>
          </a:xfrm>
          <a:prstGeom prst="rtTriangl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195880" y="1625760"/>
            <a:ext cx="1306440" cy="2046240"/>
          </a:xfrm>
          <a:custGeom>
            <a:avLst/>
            <a:gdLst/>
            <a:ahLst/>
            <a:rect l="l" t="t" r="r" b="b"/>
            <a:pathLst>
              <a:path w="823" h="1289">
                <a:moveTo>
                  <a:pt x="0" y="0"/>
                </a:moveTo>
                <a:lnTo>
                  <a:pt x="823" y="1289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838840" y="23050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810400" y="2608200"/>
            <a:ext cx="72720" cy="73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916360" y="4437000"/>
            <a:ext cx="2087280" cy="2087640"/>
          </a:xfrm>
          <a:prstGeom prst="ellipse">
            <a:avLst/>
          </a:prstGeom>
          <a:solidFill>
            <a:srgbClr val="54f6fe"/>
          </a:solidFill>
          <a:ln w="28440">
            <a:solidFill>
              <a:srgbClr val="54f6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524400" y="4533840"/>
            <a:ext cx="880920" cy="1900440"/>
          </a:xfrm>
          <a:custGeom>
            <a:avLst/>
            <a:gdLst/>
            <a:ahLst/>
            <a:rect l="l" t="t" r="r" b="b"/>
            <a:pathLst>
              <a:path w="555" h="1197">
                <a:moveTo>
                  <a:pt x="0" y="0"/>
                </a:moveTo>
                <a:lnTo>
                  <a:pt x="555" y="1197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114720" y="4867200"/>
            <a:ext cx="738000" cy="1657440"/>
          </a:xfrm>
          <a:custGeom>
            <a:avLst/>
            <a:gdLst/>
            <a:ahLst/>
            <a:rect l="l" t="t" r="r" b="b"/>
            <a:pathLst>
              <a:path w="465" h="1044">
                <a:moveTo>
                  <a:pt x="0" y="0"/>
                </a:moveTo>
                <a:lnTo>
                  <a:pt x="465" y="1044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2989440" y="5055840"/>
            <a:ext cx="1942920" cy="865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116000" y="2349360"/>
            <a:ext cx="129708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5050"/>
                </a:solidFill>
                <a:latin typeface="Times New Roman"/>
              </a:rPr>
              <a:t>方法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421080" y="3860640"/>
            <a:ext cx="129708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5050"/>
                </a:solidFill>
                <a:latin typeface="Times New Roman"/>
              </a:rPr>
              <a:t>方法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732720" y="1268280"/>
            <a:ext cx="129672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5050"/>
                </a:solidFill>
                <a:latin typeface="Times New Roman"/>
              </a:rPr>
              <a:t>方法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172280" y="3608280"/>
            <a:ext cx="129708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5050"/>
                </a:solidFill>
                <a:latin typeface="Times New Roman"/>
              </a:rPr>
              <a:t>方法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932360" y="47545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670120" y="58197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0"/>
            <a:ext cx="2592360" cy="6426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合作交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559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566" dur="2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500"/>
                            </p:stCondLst>
                            <p:childTnLst>
                              <p:par>
                                <p:cTn id="5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3000"/>
                            </p:stCondLst>
                            <p:childTnLst>
                              <p:par>
                                <p:cTn id="5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3500"/>
                            </p:stCondLst>
                            <p:childTnLst>
                              <p:par>
                                <p:cTn id="5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1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582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0"/>
                            </p:stCondLst>
                            <p:childTnLst>
                              <p:par>
                                <p:cTn id="5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500"/>
                            </p:stCondLst>
                            <p:childTnLst>
                              <p:par>
                                <p:cTn id="59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500"/>
                            </p:stCondLst>
                            <p:childTnLst>
                              <p:par>
                                <p:cTn id="6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500"/>
                            </p:stCondLst>
                            <p:childTnLst>
                              <p:par>
                                <p:cTn id="6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500"/>
                            </p:stCondLst>
                            <p:childTnLst>
                              <p:par>
                                <p:cTn id="613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0500"/>
                            </p:stCondLst>
                            <p:childTnLst>
                              <p:par>
                                <p:cTn id="6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1000"/>
                            </p:stCondLst>
                            <p:childTnLst>
                              <p:par>
                                <p:cTn id="6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0" restart="whenNotActive" nodeType="interactiveSeq" fill="hold">
                <p:stCondLst>
                  <p:cond evt="onClick">
                    <p:tgtEl>
                      <p:spTgt spid="541"/>
                    </p:tgtEl>
                  </p:cond>
                </p:stCondLst>
                <p:childTnLst>
                  <p:par>
                    <p:cTn id="631" fill="hold">
                      <p:stCondLst>
                        <p:cond evt="onClick">
                          <p:tgtEl>
                            <p:spTgt spid="541"/>
                          </p:tgtEl>
                        </p:cond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6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500"/>
                            </p:stCondLst>
                            <p:childTnLst>
                              <p:par>
                                <p:cTn id="6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2000"/>
                            </p:stCondLst>
                            <p:childTnLst>
                              <p:par>
                                <p:cTn id="6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9" restart="whenNotActive" nodeType="interactiveSeq" fill="hold">
                <p:stCondLst>
                  <p:cond evt="onClick">
                    <p:tgtEl>
                      <p:spTgt spid="540"/>
                    </p:tgtEl>
                  </p:cond>
                </p:stCondLst>
                <p:childTnLst>
                  <p:par>
                    <p:cTn id="660" fill="hold">
                      <p:stCondLst>
                        <p:cond evt="onClick">
                          <p:tgtEl>
                            <p:spTgt spid="540"/>
                          </p:tgtEl>
                        </p:cond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000"/>
                            </p:stCondLst>
                            <p:childTnLst>
                              <p:par>
                                <p:cTn id="6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4000" y="1125360"/>
            <a:ext cx="64800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图，在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BC=50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则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O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于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.50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.80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.90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.10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373800" y="1197000"/>
            <a:ext cx="1949400" cy="1695600"/>
            <a:chOff x="6373800" y="1197000"/>
            <a:chExt cx="1949400" cy="1695600"/>
          </a:xfrm>
        </p:grpSpPr>
        <p:sp>
          <p:nvSpPr>
            <p:cNvPr id="56" name=""/>
            <p:cNvSpPr/>
            <p:nvPr/>
          </p:nvSpPr>
          <p:spPr>
            <a:xfrm>
              <a:off x="6659640" y="1365120"/>
              <a:ext cx="1512720" cy="1513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659640" y="1509480"/>
              <a:ext cx="1297080" cy="1152720"/>
            </a:xfrm>
            <a:custGeom>
              <a:avLst/>
              <a:gdLst/>
              <a:ahLst/>
              <a:rect l="l" t="t" r="r" b="b"/>
              <a:pathLst>
                <a:path w="817" h="726">
                  <a:moveTo>
                    <a:pt x="772" y="0"/>
                  </a:moveTo>
                  <a:lnTo>
                    <a:pt x="0" y="408"/>
                  </a:lnTo>
                  <a:lnTo>
                    <a:pt x="817" y="726"/>
                  </a:lnTo>
                  <a:lnTo>
                    <a:pt x="454" y="363"/>
                  </a:lnTo>
                  <a:lnTo>
                    <a:pt x="772" y="0"/>
                  </a:ln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813440" y="11970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0425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958160" y="24937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0425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73800" y="19890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0425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016400" y="193968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e0425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 flipH="1">
            <a:off x="3493440" y="1628640"/>
            <a:ext cx="6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425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3573360"/>
            <a:ext cx="67690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图，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等边三角形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动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圆周的劣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，且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重合，则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P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于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.30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.60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.90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.45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6587640" y="3573360"/>
            <a:ext cx="1960560" cy="2404440"/>
            <a:chOff x="6587640" y="3573360"/>
            <a:chExt cx="1960560" cy="2404440"/>
          </a:xfrm>
        </p:grpSpPr>
        <p:sp>
          <p:nvSpPr>
            <p:cNvPr id="65" name=""/>
            <p:cNvSpPr/>
            <p:nvPr/>
          </p:nvSpPr>
          <p:spPr>
            <a:xfrm>
              <a:off x="6748560" y="4005000"/>
              <a:ext cx="1582560" cy="1582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869160" y="4000320"/>
              <a:ext cx="1366920" cy="11826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7395480" y="3573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0425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587280" y="50860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0425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8187480" y="5013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0425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396200" y="4005000"/>
              <a:ext cx="863640" cy="1584360"/>
            </a:xfrm>
            <a:custGeom>
              <a:avLst/>
              <a:gdLst/>
              <a:ahLst/>
              <a:rect l="l" t="t" r="r" b="b"/>
              <a:pathLst>
                <a:path w="544" h="998">
                  <a:moveTo>
                    <a:pt x="91" y="0"/>
                  </a:moveTo>
                  <a:lnTo>
                    <a:pt x="0" y="998"/>
                  </a:lnTo>
                  <a:lnTo>
                    <a:pt x="544" y="726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251120" y="55180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0425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 flipH="1">
            <a:off x="5942160" y="458136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425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42840"/>
            <a:ext cx="223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巩固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836640"/>
            <a:ext cx="8534520" cy="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20" y="1268280"/>
            <a:ext cx="6480000" cy="21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△A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顶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都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∠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0 °,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则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半径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789240" y="1125360"/>
            <a:ext cx="1743480" cy="2272680"/>
            <a:chOff x="6789240" y="1125360"/>
            <a:chExt cx="1743480" cy="2272680"/>
          </a:xfrm>
        </p:grpSpPr>
        <p:sp>
          <p:nvSpPr>
            <p:cNvPr id="77" name=""/>
            <p:cNvSpPr/>
            <p:nvPr/>
          </p:nvSpPr>
          <p:spPr>
            <a:xfrm>
              <a:off x="6950160" y="1466640"/>
              <a:ext cx="1582560" cy="1582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7821000" y="1125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0425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788880" y="25477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0425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7849440" y="29383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0425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7581240" y="1898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0425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149960" y="1509480"/>
              <a:ext cx="846360" cy="1512720"/>
            </a:xfrm>
            <a:custGeom>
              <a:avLst/>
              <a:gdLst/>
              <a:ahLst/>
              <a:rect l="l" t="t" r="r" b="b"/>
              <a:pathLst>
                <a:path w="533" h="953">
                  <a:moveTo>
                    <a:pt x="0" y="789"/>
                  </a:moveTo>
                  <a:lnTo>
                    <a:pt x="533" y="0"/>
                  </a:lnTo>
                  <a:lnTo>
                    <a:pt x="505" y="95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49960" y="2761920"/>
              <a:ext cx="801720" cy="246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34240" y="2266560"/>
              <a:ext cx="73080" cy="7308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 flipH="1">
            <a:off x="2410560" y="2205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425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7149960" y="2319120"/>
            <a:ext cx="625680" cy="461880"/>
          </a:xfrm>
          <a:prstGeom prst="line">
            <a:avLst/>
          </a:prstGeom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759800" y="2305080"/>
            <a:ext cx="182520" cy="692280"/>
          </a:xfrm>
          <a:prstGeom prst="line">
            <a:avLst/>
          </a:prstGeom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836640"/>
            <a:ext cx="8534520" cy="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3213000"/>
            <a:ext cx="396072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</a:rPr>
              <a:t>8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42840"/>
            <a:ext cx="223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巩固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89920" y="2392200"/>
            <a:ext cx="36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学科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08000" y="90792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图，⊙</a:t>
            </a:r>
            <a:r>
              <a:rPr b="1" i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直径</a:t>
            </a:r>
            <a:r>
              <a:rPr b="1" i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0cm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弦</a:t>
            </a:r>
            <a:r>
              <a:rPr b="1" i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cm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∠</a:t>
            </a:r>
            <a:r>
              <a:rPr b="1" i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C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平分线交⊙</a:t>
            </a:r>
            <a:r>
              <a:rPr b="1" i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于</a:t>
            </a:r>
            <a:r>
              <a:rPr b="1" i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求</a:t>
            </a:r>
            <a:r>
              <a:rPr b="1" i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BC</a:t>
            </a:r>
            <a:r>
              <a:rPr b="1" i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i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D</a:t>
            </a:r>
            <a:r>
              <a:rPr b="1" i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i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B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长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25440" y="3165480"/>
                <a:ext cx="52545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250920" y="534816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又在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Rt△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BD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中，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D</a:t>
            </a:r>
            <a:r>
              <a:rPr b="1" lang="zh-CN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BD</a:t>
            </a:r>
            <a:r>
              <a:rPr b="1" lang="zh-CN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=AB</a:t>
            </a:r>
            <a:r>
              <a:rPr b="1" lang="zh-CN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24000" y="5854680"/>
          <a:ext cx="619272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5854680"/>
                    <a:ext cx="619272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6119640" y="1773360"/>
            <a:ext cx="2449800" cy="24494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19640" y="3016080"/>
            <a:ext cx="2449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91320" y="1974960"/>
            <a:ext cx="870120" cy="2246040"/>
          </a:xfrm>
          <a:custGeom>
            <a:avLst/>
            <a:gdLst/>
            <a:ahLst/>
            <a:rect l="l" t="t" r="r" b="b"/>
            <a:pathLst>
              <a:path w="548" h="1415">
                <a:moveTo>
                  <a:pt x="0" y="0"/>
                </a:moveTo>
                <a:lnTo>
                  <a:pt x="548" y="141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91320" y="1962000"/>
            <a:ext cx="1873080" cy="1060560"/>
          </a:xfrm>
          <a:custGeom>
            <a:avLst/>
            <a:gdLst/>
            <a:ahLst/>
            <a:rect l="l" t="t" r="r" b="b"/>
            <a:pathLst>
              <a:path w="1180" h="668">
                <a:moveTo>
                  <a:pt x="0" y="0"/>
                </a:moveTo>
                <a:lnTo>
                  <a:pt x="1180" y="668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6120" y="1968480"/>
            <a:ext cx="571680" cy="1028880"/>
          </a:xfrm>
          <a:custGeom>
            <a:avLst/>
            <a:gdLst/>
            <a:ahLst/>
            <a:rect l="l" t="t" r="r" b="b"/>
            <a:pathLst>
              <a:path w="360" h="648">
                <a:moveTo>
                  <a:pt x="360" y="0"/>
                </a:moveTo>
                <a:lnTo>
                  <a:pt x="0" y="648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32600" y="3009960"/>
            <a:ext cx="1422360" cy="1193760"/>
          </a:xfrm>
          <a:custGeom>
            <a:avLst/>
            <a:gdLst/>
            <a:ahLst/>
            <a:rect l="l" t="t" r="r" b="b"/>
            <a:pathLst>
              <a:path w="896" h="752">
                <a:moveTo>
                  <a:pt x="0" y="0"/>
                </a:moveTo>
                <a:lnTo>
                  <a:pt x="896" y="752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54960" y="3016080"/>
            <a:ext cx="1009440" cy="1194120"/>
          </a:xfrm>
          <a:custGeom>
            <a:avLst/>
            <a:gdLst/>
            <a:ahLst/>
            <a:rect l="l" t="t" r="r" b="b"/>
            <a:pathLst>
              <a:path w="636" h="752">
                <a:moveTo>
                  <a:pt x="0" y="752"/>
                </a:moveTo>
                <a:lnTo>
                  <a:pt x="636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96000" y="28526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569440" y="28526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08720" y="16225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16720" y="4149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64360" y="299736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8000" y="196380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解：∵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是直径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11280" y="19638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∴ ∠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CB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= ∠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DB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=90°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3080" y="2611440"/>
            <a:ext cx="27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在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Rt△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BC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36360" y="39798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∵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CD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平分∠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CB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86840" y="4579920"/>
            <a:ext cx="165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∴</a:t>
            </a:r>
            <a:r>
              <a:rPr b="1" i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AD=BD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129440" y="2708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9640" y="2205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882200">
            <a:off x="6768000" y="1988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3508800">
            <a:off x="6479280" y="20232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45440" y="2133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624720" y="3428640"/>
            <a:ext cx="144360" cy="144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993080" y="3573360"/>
            <a:ext cx="216000" cy="71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42840"/>
            <a:ext cx="223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例题讲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836640"/>
            <a:ext cx="8534520" cy="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24000" y="4348440"/>
            <a:ext cx="2142720" cy="1130400"/>
            <a:chOff x="324000" y="4348440"/>
            <a:chExt cx="2142720" cy="1130400"/>
          </a:xfrm>
        </p:grpSpPr>
        <p:sp>
          <p:nvSpPr>
            <p:cNvPr id="124" name=""/>
            <p:cNvSpPr/>
            <p:nvPr/>
          </p:nvSpPr>
          <p:spPr>
            <a:xfrm>
              <a:off x="324000" y="4581360"/>
              <a:ext cx="208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∴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AD= BD</a:t>
              </a:r>
              <a:r>
                <a:rPr b="1" lang="zh-CN" sz="2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 rot="12657600">
              <a:off x="687600" y="4588560"/>
              <a:ext cx="862920" cy="719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710" y="38"/>
                  </a:moveTo>
                  <a:arcTo wR="10800" hR="10800" stAng="-5110016" swAng="41337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1710" y="38"/>
                  </a:moveTo>
                  <a:arcTo wR="10800" hR="10800" stAng="-5110016" swAng="4133771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 rot="12657600">
              <a:off x="1479960" y="4518720"/>
              <a:ext cx="862920" cy="719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710" y="38"/>
                  </a:moveTo>
                  <a:arcTo wR="10800" hR="10800" stAng="-5110016" swAng="41337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1710" y="38"/>
                  </a:moveTo>
                  <a:arcTo wR="10800" hR="10800" stAng="-5110016" swAng="4133771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683280"/>
            <a:ext cx="8964720" cy="20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以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半径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O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为直径作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⊙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交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C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O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位置关系是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_____, O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B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位置关系是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_____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C=2cm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D=__cm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843280" y="2637000"/>
            <a:ext cx="3530520" cy="2901960"/>
            <a:chOff x="2843280" y="2637000"/>
            <a:chExt cx="3530520" cy="2901960"/>
          </a:xfrm>
        </p:grpSpPr>
        <p:sp>
          <p:nvSpPr>
            <p:cNvPr id="129" name=""/>
            <p:cNvSpPr/>
            <p:nvPr/>
          </p:nvSpPr>
          <p:spPr>
            <a:xfrm>
              <a:off x="2843280" y="3971880"/>
              <a:ext cx="878040" cy="7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642280" y="3995640"/>
              <a:ext cx="73152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87920" y="3146400"/>
              <a:ext cx="73188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762800" y="2637000"/>
              <a:ext cx="7333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299120" y="4167360"/>
              <a:ext cx="733320" cy="8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494160" y="4167360"/>
              <a:ext cx="1171800" cy="8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49720" y="3016440"/>
              <a:ext cx="2508120" cy="2522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3249720" y="4267080"/>
              <a:ext cx="2487600" cy="2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3249720" y="4267080"/>
              <a:ext cx="1243080" cy="20880"/>
            </a:xfrm>
            <a:prstGeom prst="line">
              <a:avLst/>
            </a:prstGeom>
            <a:ln w="42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229200" y="3652920"/>
              <a:ext cx="1285920" cy="1292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3249720" y="3143160"/>
              <a:ext cx="1792440" cy="114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48280" y="3732120"/>
              <a:ext cx="357120" cy="55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34240" y="3125880"/>
              <a:ext cx="726840" cy="1160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28600" y="836640"/>
            <a:ext cx="8534520" cy="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7093080" y="14130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0425"/>
                </a:solidFill>
                <a:latin typeface="Arial"/>
              </a:rPr>
              <a:t>垂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276720" y="19890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0425"/>
                </a:solidFill>
                <a:latin typeface="Arial"/>
              </a:rPr>
              <a:t>平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453440" y="2057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425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42840"/>
            <a:ext cx="223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随堂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65920" y="4005360"/>
            <a:ext cx="36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学科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52000" y="3715920"/>
            <a:ext cx="748836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∠A=50°,∠ABC=60 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直径，则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E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于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.70°           B.110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.90°           D.12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99360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B,A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为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两条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延长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C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D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使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D=AB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若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DB=30</a:t>
            </a:r>
            <a:r>
              <a:rPr b="1" lang="zh-CN" sz="32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则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BOC=________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860720" y="907920"/>
            <a:ext cx="4054320" cy="2570040"/>
            <a:chOff x="4860720" y="907920"/>
            <a:chExt cx="4054320" cy="2570040"/>
          </a:xfrm>
        </p:grpSpPr>
        <p:sp>
          <p:nvSpPr>
            <p:cNvPr id="151" name=""/>
            <p:cNvSpPr/>
            <p:nvPr/>
          </p:nvSpPr>
          <p:spPr>
            <a:xfrm>
              <a:off x="6582240" y="1306800"/>
              <a:ext cx="2120760" cy="2119680"/>
            </a:xfrm>
            <a:prstGeom prst="ellipse">
              <a:avLst/>
            </a:pr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4992480" y="1371960"/>
              <a:ext cx="2916720" cy="13906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2480" y="2763360"/>
              <a:ext cx="3513600" cy="1998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6715440" y="1372320"/>
              <a:ext cx="1193760" cy="15238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7510320" y="1372320"/>
              <a:ext cx="398520" cy="9277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10680" y="2300040"/>
              <a:ext cx="927720" cy="6631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440200" y="28965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18520" y="28965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977240" y="9079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247520" y="22345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60720" y="28306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300720" y="1397160"/>
            <a:ext cx="37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836640"/>
            <a:ext cx="8534520" cy="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931640" y="4221000"/>
            <a:ext cx="6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425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589440" y="4005360"/>
            <a:ext cx="1876320" cy="1854720"/>
            <a:chOff x="6589440" y="4005360"/>
            <a:chExt cx="1876320" cy="1854720"/>
          </a:xfrm>
        </p:grpSpPr>
        <p:sp>
          <p:nvSpPr>
            <p:cNvPr id="166" name=""/>
            <p:cNvSpPr/>
            <p:nvPr/>
          </p:nvSpPr>
          <p:spPr>
            <a:xfrm>
              <a:off x="6730920" y="4332240"/>
              <a:ext cx="1512720" cy="1513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414920" y="40053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0425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029440" y="54612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0425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589440" y="5459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0425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71640" y="474048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e0425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875280" y="4646520"/>
              <a:ext cx="1216080" cy="885960"/>
            </a:xfrm>
            <a:custGeom>
              <a:avLst/>
              <a:gdLst/>
              <a:ahLst/>
              <a:rect l="l" t="t" r="r" b="b"/>
              <a:pathLst>
                <a:path w="766" h="558">
                  <a:moveTo>
                    <a:pt x="0" y="558"/>
                  </a:moveTo>
                  <a:lnTo>
                    <a:pt x="766" y="557"/>
                  </a:lnTo>
                  <a:lnTo>
                    <a:pt x="766" y="0"/>
                  </a:lnTo>
                  <a:lnTo>
                    <a:pt x="0" y="558"/>
                  </a:ln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62680" y="4348080"/>
              <a:ext cx="1236600" cy="1209960"/>
            </a:xfrm>
            <a:custGeom>
              <a:avLst/>
              <a:gdLst/>
              <a:ahLst/>
              <a:rect l="l" t="t" r="r" b="b"/>
              <a:pathLst>
                <a:path w="779" h="784">
                  <a:moveTo>
                    <a:pt x="779" y="766"/>
                  </a:moveTo>
                  <a:lnTo>
                    <a:pt x="472" y="0"/>
                  </a:lnTo>
                  <a:lnTo>
                    <a:pt x="0" y="784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00720" y="43801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0425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689960" y="44625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0425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495920" y="5042160"/>
              <a:ext cx="73080" cy="7272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 flipH="1">
            <a:off x="1979640" y="1916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425"/>
                </a:solidFill>
                <a:latin typeface="Arial"/>
              </a:rPr>
              <a:t>120</a:t>
            </a:r>
            <a:r>
              <a:rPr b="1" lang="en-US" sz="3200" spc="-1" strike="noStrike" baseline="30000">
                <a:solidFill>
                  <a:srgbClr val="ee0425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0920" y="42840"/>
            <a:ext cx="223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随堂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3708360" y="2276640"/>
            <a:ext cx="48243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分析</a:t>
            </a:r>
            <a:r>
              <a:rPr b="1" lang="zh-CN" sz="37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：同一条弧所对的圆周角有很多，圆周角的位置灵活多变，可以把注意力放在圆周角所对的弧上</a:t>
            </a:r>
            <a:r>
              <a:rPr b="1" lang="zh-CN" sz="37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395280" y="981000"/>
            <a:ext cx="8209080" cy="10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图，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⊙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直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圆上的两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若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B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40°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求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C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度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3"/>
          <p:cNvGrpSpPr/>
          <p:nvPr/>
        </p:nvGrpSpPr>
        <p:grpSpPr>
          <a:xfrm>
            <a:off x="611280" y="2492280"/>
            <a:ext cx="3047400" cy="2336040"/>
            <a:chOff x="611280" y="2492280"/>
            <a:chExt cx="3047400" cy="2336040"/>
          </a:xfrm>
        </p:grpSpPr>
        <p:sp>
          <p:nvSpPr>
            <p:cNvPr id="181" name="Oval 4"/>
            <p:cNvSpPr/>
            <p:nvPr/>
          </p:nvSpPr>
          <p:spPr>
            <a:xfrm>
              <a:off x="949680" y="2774520"/>
              <a:ext cx="1918800" cy="191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6000" bIns="36000" anchor="ctr">
              <a:noAutofit/>
            </a:bodyPr>
            <a:p>
              <a:pPr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5"/>
            <p:cNvSpPr/>
            <p:nvPr/>
          </p:nvSpPr>
          <p:spPr>
            <a:xfrm>
              <a:off x="1852920" y="3733920"/>
              <a:ext cx="55800" cy="5580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2520" bIns="2520" anchor="ctr">
              <a:noAutofit/>
            </a:bodyPr>
            <a:p>
              <a:pPr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6"/>
            <p:cNvSpPr/>
            <p:nvPr/>
          </p:nvSpPr>
          <p:spPr>
            <a:xfrm>
              <a:off x="949680" y="3733920"/>
              <a:ext cx="191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7"/>
            <p:cNvSpPr/>
            <p:nvPr/>
          </p:nvSpPr>
          <p:spPr>
            <a:xfrm flipH="1" flipV="1">
              <a:off x="1570320" y="2830680"/>
              <a:ext cx="1297800" cy="90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8"/>
            <p:cNvSpPr/>
            <p:nvPr/>
          </p:nvSpPr>
          <p:spPr>
            <a:xfrm flipH="1">
              <a:off x="1288080" y="2830680"/>
              <a:ext cx="282240" cy="163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9"/>
            <p:cNvSpPr/>
            <p:nvPr/>
          </p:nvSpPr>
          <p:spPr>
            <a:xfrm flipV="1">
              <a:off x="1288080" y="3733560"/>
              <a:ext cx="1580400" cy="73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0"/>
            <p:cNvSpPr/>
            <p:nvPr/>
          </p:nvSpPr>
          <p:spPr>
            <a:xfrm>
              <a:off x="611280" y="3564720"/>
              <a:ext cx="6210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640" rIns="71640" tIns="36000" bIns="3600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1"/>
            <p:cNvSpPr/>
            <p:nvPr/>
          </p:nvSpPr>
          <p:spPr>
            <a:xfrm>
              <a:off x="2923560" y="3564720"/>
              <a:ext cx="73512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640" rIns="71640" tIns="36000" bIns="3600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2"/>
            <p:cNvSpPr/>
            <p:nvPr/>
          </p:nvSpPr>
          <p:spPr>
            <a:xfrm>
              <a:off x="1739880" y="3451320"/>
              <a:ext cx="62064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640" rIns="71640" tIns="36000" bIns="3600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3"/>
            <p:cNvSpPr/>
            <p:nvPr/>
          </p:nvSpPr>
          <p:spPr>
            <a:xfrm>
              <a:off x="1064160" y="4466520"/>
              <a:ext cx="56484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640" rIns="71640" tIns="36000" bIns="3600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4"/>
            <p:cNvSpPr/>
            <p:nvPr/>
          </p:nvSpPr>
          <p:spPr>
            <a:xfrm>
              <a:off x="1344240" y="2492280"/>
              <a:ext cx="6768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640" rIns="71640" tIns="36000" bIns="3600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 Box 15"/>
          <p:cNvSpPr/>
          <p:nvPr/>
        </p:nvSpPr>
        <p:spPr>
          <a:xfrm>
            <a:off x="2133720" y="3392640"/>
            <a:ext cx="11286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en-US" sz="1900" spc="-1" strike="noStrike">
                <a:solidFill>
                  <a:srgbClr val="ff3300"/>
                </a:solidFill>
                <a:latin typeface="Times New Roman"/>
              </a:rPr>
              <a:t>40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6"/>
          <p:cNvSpPr/>
          <p:nvPr/>
        </p:nvSpPr>
        <p:spPr>
          <a:xfrm flipH="1">
            <a:off x="949320" y="2827440"/>
            <a:ext cx="620640" cy="90324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836640"/>
            <a:ext cx="8534520" cy="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0920" y="42840"/>
            <a:ext cx="223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随堂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179280" y="1125360"/>
            <a:ext cx="8777520" cy="15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图，</a:t>
            </a:r>
            <a:r>
              <a:rPr b="1" i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为⊙</a:t>
            </a:r>
            <a:r>
              <a:rPr b="1" i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一条固定直径，自上半圆上一点</a:t>
            </a:r>
            <a:r>
              <a:rPr b="1" i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作弦</a:t>
            </a:r>
            <a:r>
              <a:rPr b="1" i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⊥</a:t>
            </a:r>
            <a:r>
              <a:rPr b="1" i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∠</a:t>
            </a:r>
            <a:r>
              <a:rPr b="1" i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OC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平分线交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于点</a:t>
            </a:r>
            <a:r>
              <a:rPr b="1" i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当点</a:t>
            </a:r>
            <a:r>
              <a:rPr b="1" i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半圆（不含</a:t>
            </a:r>
            <a:r>
              <a:rPr b="1" i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,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两点）上移动时，问：点</a:t>
            </a:r>
            <a:r>
              <a:rPr b="1" i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位置是否变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04920" y="3500280"/>
            <a:ext cx="2666520" cy="2533320"/>
            <a:chOff x="304920" y="3500280"/>
            <a:chExt cx="2666520" cy="2533320"/>
          </a:xfrm>
        </p:grpSpPr>
        <p:sp>
          <p:nvSpPr>
            <p:cNvPr id="198" name=""/>
            <p:cNvSpPr/>
            <p:nvPr/>
          </p:nvSpPr>
          <p:spPr>
            <a:xfrm>
              <a:off x="560160" y="3621600"/>
              <a:ext cx="2124360" cy="2066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60160" y="4636080"/>
              <a:ext cx="21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31760" y="3807720"/>
              <a:ext cx="666360" cy="838440"/>
            </a:xfrm>
            <a:custGeom>
              <a:avLst/>
              <a:gdLst/>
              <a:ahLst/>
              <a:rect l="l" t="t" r="r" b="b"/>
              <a:pathLst>
                <a:path w="585" h="735">
                  <a:moveTo>
                    <a:pt x="585" y="735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31760" y="3825360"/>
              <a:ext cx="615960" cy="1879560"/>
            </a:xfrm>
            <a:custGeom>
              <a:avLst/>
              <a:gdLst/>
              <a:ahLst/>
              <a:rect l="l" t="t" r="r" b="b"/>
              <a:pathLst>
                <a:path w="540" h="1650">
                  <a:moveTo>
                    <a:pt x="0" y="0"/>
                  </a:moveTo>
                  <a:lnTo>
                    <a:pt x="540" y="165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2" name=""/>
                <p:cNvSpPr txBox="1"/>
                <p:nvPr/>
              </p:nvSpPr>
              <p:spPr>
                <a:xfrm>
                  <a:off x="1500840" y="5760720"/>
                  <a:ext cx="257760" cy="27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304920" y="4542480"/>
                  <a:ext cx="235080" cy="24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2716200" y="4504680"/>
                  <a:ext cx="255240" cy="26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784080" y="5524200"/>
                  <a:ext cx="276840" cy="26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784080" y="3500280"/>
                  <a:ext cx="253800" cy="28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7" name=""/>
            <p:cNvSpPr/>
            <p:nvPr/>
          </p:nvSpPr>
          <p:spPr>
            <a:xfrm>
              <a:off x="1646280" y="4613400"/>
              <a:ext cx="54360" cy="5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1566720" y="4665240"/>
                  <a:ext cx="254880" cy="28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9" name=""/>
            <p:cNvSpPr/>
            <p:nvPr/>
          </p:nvSpPr>
          <p:spPr>
            <a:xfrm>
              <a:off x="1022760" y="3805200"/>
              <a:ext cx="0" cy="168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676520" y="4643280"/>
            <a:ext cx="1066320" cy="1088280"/>
            <a:chOff x="1676520" y="4643280"/>
            <a:chExt cx="1066320" cy="1088280"/>
          </a:xfrm>
        </p:grpSpPr>
        <p:sp>
          <p:nvSpPr>
            <p:cNvPr id="211" name="Line 16"/>
            <p:cNvSpPr/>
            <p:nvPr/>
          </p:nvSpPr>
          <p:spPr>
            <a:xfrm>
              <a:off x="1676520" y="4643280"/>
              <a:ext cx="639720" cy="79200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16240" y="5363280"/>
              <a:ext cx="42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059280" y="3213000"/>
            <a:ext cx="5706720" cy="2664000"/>
            <a:chOff x="3059280" y="3213000"/>
            <a:chExt cx="5706720" cy="2664000"/>
          </a:xfrm>
        </p:grpSpPr>
        <p:sp>
          <p:nvSpPr>
            <p:cNvPr id="214" name="Rectangle 2"/>
            <p:cNvSpPr/>
            <p:nvPr/>
          </p:nvSpPr>
          <p:spPr>
            <a:xfrm>
              <a:off x="3059280" y="3213000"/>
              <a:ext cx="5706720" cy="266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3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分析</a:t>
              </a:r>
              <a:r>
                <a:rPr b="1" lang="zh-CN" sz="3300" spc="-1" strike="noStrike">
                  <a:solidFill>
                    <a:srgbClr val="003399"/>
                  </a:solidFill>
                  <a:latin typeface="Times New Roman"/>
                  <a:ea typeface="楷体_GB2312"/>
                </a:rPr>
                <a:t> 延长</a:t>
              </a:r>
              <a:r>
                <a:rPr b="1" i="1" lang="zh-CN" sz="3300" spc="-1" strike="noStrike">
                  <a:solidFill>
                    <a:srgbClr val="003399"/>
                  </a:solidFill>
                  <a:latin typeface="Times New Roman"/>
                  <a:ea typeface="楷体_GB2312"/>
                </a:rPr>
                <a:t>CO</a:t>
              </a:r>
              <a:r>
                <a:rPr b="1" lang="zh-CN" sz="3300" spc="-1" strike="noStrike">
                  <a:solidFill>
                    <a:srgbClr val="003399"/>
                  </a:solidFill>
                  <a:latin typeface="Times New Roman"/>
                  <a:ea typeface="楷体_GB2312"/>
                </a:rPr>
                <a:t>与</a:t>
              </a:r>
              <a:r>
                <a:rPr b="1" lang="zh-CN" sz="3300" spc="-1" strike="noStrike">
                  <a:solidFill>
                    <a:srgbClr val="003399"/>
                  </a:solidFill>
                  <a:latin typeface="Times New Roman"/>
                </a:rPr>
                <a:t>⊙</a:t>
              </a:r>
              <a:r>
                <a:rPr b="1" i="1" lang="zh-CN" sz="3300" spc="-1" strike="noStrike">
                  <a:solidFill>
                    <a:srgbClr val="003399"/>
                  </a:solidFill>
                  <a:latin typeface="Times New Roman"/>
                </a:rPr>
                <a:t>O</a:t>
              </a:r>
              <a:r>
                <a:rPr b="1" lang="zh-CN" sz="3300" spc="-1" strike="noStrike">
                  <a:solidFill>
                    <a:srgbClr val="003399"/>
                  </a:solidFill>
                  <a:latin typeface="Times New Roman"/>
                  <a:ea typeface="楷体_GB2312"/>
                </a:rPr>
                <a:t>交于点</a:t>
              </a:r>
              <a:r>
                <a:rPr b="1" i="1" lang="zh-CN" sz="3300" spc="-1" strike="noStrike">
                  <a:solidFill>
                    <a:srgbClr val="003399"/>
                  </a:solidFill>
                  <a:latin typeface="Times New Roman"/>
                  <a:ea typeface="楷体_GB2312"/>
                </a:rPr>
                <a:t>E</a:t>
              </a:r>
              <a:r>
                <a:rPr b="1" lang="zh-CN" sz="3300" spc="-1" strike="noStrike">
                  <a:solidFill>
                    <a:srgbClr val="003399"/>
                  </a:solidFill>
                  <a:latin typeface="Times New Roman"/>
                  <a:ea typeface="楷体_GB2312"/>
                </a:rPr>
                <a:t>，易证</a:t>
              </a:r>
              <a:r>
                <a:rPr b="1" i="1" lang="zh-CN" sz="3300" spc="-1" strike="noStrike">
                  <a:solidFill>
                    <a:srgbClr val="003399"/>
                  </a:solidFill>
                  <a:latin typeface="Times New Roman"/>
                  <a:ea typeface="楷体_GB2312"/>
                </a:rPr>
                <a:t>CA</a:t>
              </a:r>
              <a:r>
                <a:rPr b="1" lang="zh-CN" sz="3300" spc="-1" strike="noStrike">
                  <a:solidFill>
                    <a:srgbClr val="003399"/>
                  </a:solidFill>
                  <a:latin typeface="Times New Roman"/>
                  <a:ea typeface="楷体_GB2312"/>
                </a:rPr>
                <a:t>=</a:t>
              </a:r>
              <a:r>
                <a:rPr b="1" i="1" lang="zh-CN" sz="3300" spc="-1" strike="noStrike">
                  <a:solidFill>
                    <a:srgbClr val="003399"/>
                  </a:solidFill>
                  <a:latin typeface="Times New Roman"/>
                  <a:ea typeface="楷体_GB2312"/>
                </a:rPr>
                <a:t>DA</a:t>
              </a:r>
              <a:r>
                <a:rPr b="1" lang="zh-CN" sz="3300" spc="-1" strike="noStrike">
                  <a:solidFill>
                    <a:srgbClr val="003399"/>
                  </a:solidFill>
                  <a:latin typeface="Times New Roman"/>
                  <a:ea typeface="楷体_GB2312"/>
                </a:rPr>
                <a:t>，又</a:t>
              </a:r>
              <a:r>
                <a:rPr b="1" i="1" lang="zh-CN" sz="3300" spc="-1" strike="noStrike">
                  <a:solidFill>
                    <a:srgbClr val="003399"/>
                  </a:solidFill>
                  <a:latin typeface="Times New Roman"/>
                  <a:ea typeface="楷体_GB2312"/>
                </a:rPr>
                <a:t>CA</a:t>
              </a:r>
              <a:r>
                <a:rPr b="1" lang="zh-CN" sz="3300" spc="-1" strike="noStrike">
                  <a:solidFill>
                    <a:srgbClr val="003399"/>
                  </a:solidFill>
                  <a:latin typeface="Times New Roman"/>
                  <a:ea typeface="楷体_GB2312"/>
                </a:rPr>
                <a:t>=</a:t>
              </a:r>
              <a:r>
                <a:rPr b="1" i="1" lang="zh-CN" sz="3300" spc="-1" strike="noStrike">
                  <a:solidFill>
                    <a:srgbClr val="003399"/>
                  </a:solidFill>
                  <a:latin typeface="Times New Roman"/>
                  <a:ea typeface="楷体_GB2312"/>
                </a:rPr>
                <a:t>BE</a:t>
              </a:r>
              <a:r>
                <a:rPr b="1" lang="zh-CN" sz="3300" spc="-1" strike="noStrike">
                  <a:solidFill>
                    <a:srgbClr val="003399"/>
                  </a:solidFill>
                  <a:latin typeface="Times New Roman"/>
                  <a:ea typeface="楷体_GB2312"/>
                </a:rPr>
                <a:t>，则</a:t>
              </a:r>
              <a:r>
                <a:rPr b="1" i="1" lang="zh-CN" sz="3300" spc="-1" strike="noStrike">
                  <a:solidFill>
                    <a:srgbClr val="003399"/>
                  </a:solidFill>
                  <a:latin typeface="Times New Roman"/>
                  <a:ea typeface="楷体_GB2312"/>
                </a:rPr>
                <a:t>DA</a:t>
              </a:r>
              <a:r>
                <a:rPr b="1" lang="zh-CN" sz="3300" spc="-1" strike="noStrike">
                  <a:solidFill>
                    <a:srgbClr val="003399"/>
                  </a:solidFill>
                  <a:latin typeface="Times New Roman"/>
                  <a:ea typeface="楷体_GB2312"/>
                </a:rPr>
                <a:t>=</a:t>
              </a:r>
              <a:r>
                <a:rPr b="1" i="1" lang="zh-CN" sz="3300" spc="-1" strike="noStrike">
                  <a:solidFill>
                    <a:srgbClr val="003399"/>
                  </a:solidFill>
                  <a:latin typeface="Times New Roman"/>
                  <a:ea typeface="楷体_GB2312"/>
                </a:rPr>
                <a:t>BE</a:t>
              </a:r>
              <a:r>
                <a:rPr b="1" lang="zh-CN" sz="3300" spc="-1" strike="noStrike">
                  <a:solidFill>
                    <a:srgbClr val="003399"/>
                  </a:solidFill>
                  <a:latin typeface="Times New Roman"/>
                  <a:ea typeface="楷体_GB2312"/>
                </a:rPr>
                <a:t>，由</a:t>
              </a:r>
              <a:r>
                <a:rPr b="1" lang="zh-CN" sz="3300" spc="-1" strike="noStrike">
                  <a:solidFill>
                    <a:srgbClr val="003399"/>
                  </a:solidFill>
                  <a:latin typeface="Times New Roman"/>
                </a:rPr>
                <a:t>∠</a:t>
              </a:r>
              <a:r>
                <a:rPr b="1" i="1" lang="zh-CN" sz="3300" spc="-1" strike="noStrike">
                  <a:solidFill>
                    <a:srgbClr val="003399"/>
                  </a:solidFill>
                  <a:latin typeface="Times New Roman"/>
                </a:rPr>
                <a:t>OCD</a:t>
              </a:r>
              <a:r>
                <a:rPr b="1" lang="zh-CN" sz="3300" spc="-1" strike="noStrike">
                  <a:solidFill>
                    <a:srgbClr val="003399"/>
                  </a:solidFill>
                  <a:latin typeface="Times New Roman"/>
                  <a:ea typeface="楷体_GB2312"/>
                </a:rPr>
                <a:t>的平分线得</a:t>
              </a:r>
              <a:r>
                <a:rPr b="1" i="1" lang="zh-CN" sz="3300" spc="-1" strike="noStrike">
                  <a:solidFill>
                    <a:srgbClr val="003399"/>
                  </a:solidFill>
                  <a:latin typeface="Times New Roman"/>
                  <a:ea typeface="楷体_GB2312"/>
                </a:rPr>
                <a:t>DP</a:t>
              </a:r>
              <a:r>
                <a:rPr b="1" lang="zh-CN" sz="3300" spc="-1" strike="noStrike">
                  <a:solidFill>
                    <a:srgbClr val="003399"/>
                  </a:solidFill>
                  <a:latin typeface="Times New Roman"/>
                  <a:ea typeface="楷体_GB2312"/>
                </a:rPr>
                <a:t>=</a:t>
              </a:r>
              <a:r>
                <a:rPr b="1" i="1" lang="zh-CN" sz="3300" spc="-1" strike="noStrike">
                  <a:solidFill>
                    <a:srgbClr val="003399"/>
                  </a:solidFill>
                  <a:latin typeface="Times New Roman"/>
                  <a:ea typeface="楷体_GB2312"/>
                </a:rPr>
                <a:t>PE</a:t>
              </a:r>
              <a:r>
                <a:rPr b="1" lang="zh-CN" sz="3300" spc="-1" strike="noStrike">
                  <a:solidFill>
                    <a:srgbClr val="003399"/>
                  </a:solidFill>
                  <a:latin typeface="Times New Roman"/>
                  <a:ea typeface="楷体_GB2312"/>
                </a:rPr>
                <a:t>，则</a:t>
              </a:r>
              <a:r>
                <a:rPr b="1" i="1" lang="zh-CN" sz="3300" spc="-1" strike="noStrike">
                  <a:solidFill>
                    <a:srgbClr val="003399"/>
                  </a:solidFill>
                  <a:latin typeface="Times New Roman"/>
                  <a:ea typeface="楷体_GB2312"/>
                </a:rPr>
                <a:t>AP</a:t>
              </a:r>
              <a:r>
                <a:rPr b="1" lang="zh-CN" sz="3300" spc="-1" strike="noStrike">
                  <a:solidFill>
                    <a:srgbClr val="003399"/>
                  </a:solidFill>
                  <a:latin typeface="Times New Roman"/>
                  <a:ea typeface="楷体_GB2312"/>
                </a:rPr>
                <a:t>=</a:t>
              </a:r>
              <a:r>
                <a:rPr b="1" i="1" lang="zh-CN" sz="3300" spc="-1" strike="noStrike">
                  <a:solidFill>
                    <a:srgbClr val="003399"/>
                  </a:solidFill>
                  <a:latin typeface="Times New Roman"/>
                  <a:ea typeface="楷体_GB2312"/>
                </a:rPr>
                <a:t>BP</a:t>
              </a:r>
              <a:r>
                <a:rPr b="1" lang="zh-CN" sz="3300" spc="-1" strike="noStrike">
                  <a:solidFill>
                    <a:srgbClr val="003399"/>
                  </a:solidFill>
                  <a:latin typeface="Times New Roman"/>
                  <a:ea typeface="楷体_GB2312"/>
                </a:rPr>
                <a:t>，所以点</a:t>
              </a:r>
              <a:r>
                <a:rPr b="1" i="1" lang="zh-CN" sz="3300" spc="-1" strike="noStrike">
                  <a:solidFill>
                    <a:srgbClr val="003399"/>
                  </a:solidFill>
                  <a:latin typeface="Times New Roman"/>
                  <a:ea typeface="楷体_GB2312"/>
                </a:rPr>
                <a:t>P</a:t>
              </a:r>
              <a:r>
                <a:rPr b="1" lang="zh-CN" sz="3300" spc="-1" strike="noStrike">
                  <a:solidFill>
                    <a:srgbClr val="003399"/>
                  </a:solidFill>
                  <a:latin typeface="Times New Roman"/>
                  <a:ea typeface="楷体_GB2312"/>
                </a:rPr>
                <a:t>为半圆的中点</a:t>
              </a:r>
              <a:r>
                <a:rPr b="1" lang="zh-CN" sz="3300" spc="-1" strike="noStrike">
                  <a:solidFill>
                    <a:srgbClr val="003399"/>
                  </a:solidFill>
                  <a:latin typeface="Times New Roman"/>
                  <a:ea typeface="楷体_GB2312"/>
                </a:rPr>
                <a:t>.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02440" y="3548160"/>
              <a:ext cx="140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99"/>
                  </a:solidFill>
                  <a:latin typeface="Arial"/>
                </a:rPr>
                <a:t> ⌒     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32000" y="4073400"/>
              <a:ext cx="140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99"/>
                  </a:solidFill>
                  <a:latin typeface="Arial"/>
                </a:rPr>
                <a:t> ⌒     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57840" y="4556160"/>
              <a:ext cx="140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99"/>
                  </a:solidFill>
                  <a:latin typeface="Arial"/>
                </a:rPr>
                <a:t> ⌒     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559320" y="4551480"/>
              <a:ext cx="140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99"/>
                  </a:solidFill>
                  <a:latin typeface="Arial"/>
                </a:rPr>
                <a:t> ⌒      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89240" y="3556080"/>
              <a:ext cx="140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99"/>
                  </a:solidFill>
                  <a:latin typeface="Arial"/>
                </a:rPr>
                <a:t> ⌒    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0920" y="42840"/>
            <a:ext cx="223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例题讲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" y="836640"/>
            <a:ext cx="8534520" cy="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0:18:45Z</dcterms:created>
  <dc:creator>USER</dc:creator>
  <dc:description/>
  <dc:language>en-US</dc:language>
  <cp:lastModifiedBy>User</cp:lastModifiedBy>
  <dcterms:modified xsi:type="dcterms:W3CDTF">2013-11-25T07:25:48Z</dcterms:modified>
  <cp:revision>159</cp:revision>
  <dc:subject/>
  <dc:title>回  忆</dc:title>
</cp:coreProperties>
</file>