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C6B-4000-42CC-8319-ECCBE186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A13-BD1B-43E3-902C-C3C35EAC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D11-9ED8-44FD-B7A4-0CFEE3CE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2BF-795B-457D-9BCB-AED92C9F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8E1-1B5C-4061-8248-0670EACC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0AB-0043-4A31-A052-98FB003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FD1-3649-46B3-8432-41F2218D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079-5E91-419B-A303-290EA17B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949-5AF3-4C13-B0C7-39CC3F7D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2F6-4E3F-455D-B31E-CD58AF4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471-5CA9-4C4D-AF4D-E2C1CEEA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87C-EA04-41CC-A63D-4C13904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6C5-DDD0-49DF-9511-E0B7995D9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523880"/>
            <a:ext cx="6705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弧、弦、圆心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990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317680"/>
            <a:ext cx="7602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按下面的步骤做一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在两张透明纸上，作两个半径相等的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和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，沿圆周分别将两圆剪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在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和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上分别作相等的圆心角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和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如下图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，圆心固定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注意：在画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与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时，要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相对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的方向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相对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的方向一致，否则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重合时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不能重合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其中的一个圆旋转一个角度．使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合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182844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上面的做一做，你能发现哪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量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互相交流一下，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你的理由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课件：探究三量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990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64176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心角、弧、弦之间相等关系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同圆或等圆中，相等的圆心角所对的弧相等，所对的弦也相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81080" y="10666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66280" y="2328840"/>
            <a:ext cx="670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根据对上述定理的理解，你能证明下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命题是正确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）在同圆或等圆中，如果两条弧相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那么它们所对的圆心角相等，所对的弦相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　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在同圆或等圆中，如果两条弦相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那么它们所对的圆心角相等，所对的优（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弧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1460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14704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在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　　　　，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114800" y="1992240"/>
          <a:ext cx="18288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992240"/>
                    <a:ext cx="1828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124080" y="3124080"/>
            <a:ext cx="3343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67616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直径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弦，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度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648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8177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理“在同圆或等圆中，相等的圆心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对的弧相等，所对的弦也相等”中，可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条件“在同圆或等圆中”去掉？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2794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733920" cy="29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30440" y="1752480"/>
            <a:ext cx="448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能去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例：如图，虽然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但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弧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弧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2160" y="1905480"/>
            <a:ext cx="4674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节你遇到了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解决问题的过程中你采取了什么方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58480" y="4875840"/>
            <a:ext cx="693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业：课本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页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习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，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yx</cp:lastModifiedBy>
  <dcterms:modified xsi:type="dcterms:W3CDTF">2007-04-27T06:37:2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