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BE5F-5525-403A-88CB-C4269FE79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080D-75F6-481F-BDA1-9C864F90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25AD-6F53-4711-9E01-B5E76A974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F81A-8A43-4739-BBB5-3599453A1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933B-BCA1-48E0-9D8F-B0ACF1B7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F1B4-BB0F-47BC-9449-B867E86F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D54E-3C69-43AA-A79F-A374CFBB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E216-CB23-469D-980E-D8FA3880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0F80-7F6E-48AD-8A41-51210341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7C01-4A34-4D4D-9D01-84D6B25D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AE25-9A5D-47FE-89C5-86EC7C6B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7A4E-3022-4E0A-89B0-0F4EB581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967E-EABE-410B-B14F-1F11A90FAD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520" y="1523880"/>
            <a:ext cx="67053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4.1.1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38080" y="2557800"/>
            <a:ext cx="7620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圆：在一个平面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条线段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绕它的一  个端点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旋转一周，另一个端点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形成的图形叫做圆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圆心：固定的端点叫做圆心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半径：线段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叫做这个圆的半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圆的表示方法：以点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圆心的圆，记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⊙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读作“圆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14600" y="11430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66680" y="198108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归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圆上各点到定点（圆心）的距离都等于定长（半径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到定点的距离等于定长的点都在同一个圆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圆的第二定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有到定点的距离等于定长的点组成的图形叫做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11430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02080" y="1676160"/>
            <a:ext cx="338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讨论圆中相关元素的定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图，你能说出弦、直径、弧、半圆的定义吗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9144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514600" y="3121200"/>
            <a:ext cx="403848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14600" y="9144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95280" y="2344680"/>
            <a:ext cx="7239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讨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车轮为什么做成圆形？（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课件：车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果做成正方形会有什么结果？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（课件：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形车轮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32200" y="3168360"/>
            <a:ext cx="200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何在草场上画一个半径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说出你的理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112716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219320" y="2118240"/>
            <a:ext cx="6457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树木的年轮，可以很清楚地看出树生长的年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一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树龄的红杉树的树干直径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3 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这棵红杉树的半径平均每年增加多少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9144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200400" y="3733920"/>
            <a:ext cx="24354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14600" y="9144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75720" y="1980000"/>
            <a:ext cx="604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归纳小结、布置作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小结：圆的两种定义以及相关概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作业：请做一个正方形的车轮，体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车轮滚动的过程中车身的情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90920" y="11430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1980360"/>
            <a:ext cx="760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观察下列图形，从中找出共同特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8120" y="2590920"/>
            <a:ext cx="34290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90920" y="11430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1980360"/>
            <a:ext cx="760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观察下列图形，从中找出共同特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590920" y="2743200"/>
            <a:ext cx="388620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90920" y="11430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1980360"/>
            <a:ext cx="760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观察下列图形，从中找出共同特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819520" y="2666880"/>
            <a:ext cx="350496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90920" y="11430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1980360"/>
            <a:ext cx="760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观察下列图形，从中找出共同特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514600" y="2895480"/>
            <a:ext cx="4067280" cy="32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90920" y="11430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1980360"/>
            <a:ext cx="760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观察下列图形，从中找出共同特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895480" y="2666880"/>
            <a:ext cx="329580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90920" y="11430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1980360"/>
            <a:ext cx="760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观察下列图形，从中找出共同特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666880" y="2666880"/>
            <a:ext cx="36576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90920" y="11430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589840"/>
            <a:ext cx="760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归纳：图中都有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14600" y="11430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1904040"/>
            <a:ext cx="760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观察下列画圆的过程，你能由此说出圆的形成过程吗？（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课件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画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209680" y="3581280"/>
            <a:ext cx="42483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pyx</cp:lastModifiedBy>
  <dcterms:modified xsi:type="dcterms:W3CDTF">2007-04-27T07:25:58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