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6.jpeg" ContentType="image/jpeg"/>
  <Override PartName="/ppt/media/image24.wmf" ContentType="image/x-wmf"/>
  <Override PartName="/ppt/media/image5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9.jpeg" ContentType="image/jpeg"/>
  <Override PartName="/ppt/media/image11.png" ContentType="image/png"/>
  <Override PartName="/ppt/media/image31.wmf" ContentType="image/x-wmf"/>
  <Override PartName="/ppt/media/image6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4.wmf" ContentType="image/x-wmf"/>
  <Override PartName="/ppt/media/image16.png" ContentType="image/png"/>
  <Override PartName="/ppt/media/image15.png" ContentType="image/png"/>
  <Override PartName="/ppt/media/image18.jpeg" ContentType="image/jpeg"/>
  <Override PartName="/ppt/media/image20.png" ContentType="image/png"/>
  <Override PartName="/ppt/media/image28.jpeg" ContentType="image/jpeg"/>
  <Override PartName="/ppt/media/image21.png" ContentType="image/png"/>
  <Override PartName="/ppt/media/image22.png" ContentType="image/png"/>
  <Override PartName="/ppt/media/image30.gif" ContentType="image/gif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729720"/>
            <a:ext cx="901224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0" y="3875040"/>
            <a:ext cx="901224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729720"/>
            <a:ext cx="439776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8080" y="729720"/>
            <a:ext cx="439776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3875040"/>
            <a:ext cx="439776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8080" y="3875040"/>
            <a:ext cx="439776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729720"/>
            <a:ext cx="290160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47040" y="729720"/>
            <a:ext cx="290160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080" y="729720"/>
            <a:ext cx="290160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0" y="3875040"/>
            <a:ext cx="290160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47040" y="3875040"/>
            <a:ext cx="290160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4080" y="3875040"/>
            <a:ext cx="290160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729720"/>
            <a:ext cx="9012240" cy="602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29720"/>
            <a:ext cx="9012240" cy="60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29720"/>
            <a:ext cx="4397760" cy="60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18080" y="729720"/>
            <a:ext cx="4397760" cy="60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29720"/>
            <a:ext cx="439776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18080" y="729720"/>
            <a:ext cx="4397760" cy="60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875040"/>
            <a:ext cx="439776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0" y="729720"/>
            <a:ext cx="9012240" cy="602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729720"/>
            <a:ext cx="4397760" cy="60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8080" y="729720"/>
            <a:ext cx="439776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18080" y="3875040"/>
            <a:ext cx="439776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729720"/>
            <a:ext cx="439776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8080" y="729720"/>
            <a:ext cx="439776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875040"/>
            <a:ext cx="901224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729720"/>
            <a:ext cx="901224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875040"/>
            <a:ext cx="901224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729720"/>
            <a:ext cx="439776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18080" y="729720"/>
            <a:ext cx="439776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875040"/>
            <a:ext cx="439776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18080" y="3875040"/>
            <a:ext cx="439776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29720"/>
            <a:ext cx="290160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7040" y="729720"/>
            <a:ext cx="290160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080" y="729720"/>
            <a:ext cx="290160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875040"/>
            <a:ext cx="290160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47040" y="3875040"/>
            <a:ext cx="290160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080" y="3875040"/>
            <a:ext cx="290160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29720"/>
            <a:ext cx="9012240" cy="60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729720"/>
            <a:ext cx="4397760" cy="60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8080" y="729720"/>
            <a:ext cx="4397760" cy="60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729720"/>
            <a:ext cx="439776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8080" y="729720"/>
            <a:ext cx="4397760" cy="60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0" y="3875040"/>
            <a:ext cx="439776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729720"/>
            <a:ext cx="4397760" cy="60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8080" y="729720"/>
            <a:ext cx="439776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8080" y="3875040"/>
            <a:ext cx="439776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729720"/>
            <a:ext cx="439776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8080" y="729720"/>
            <a:ext cx="439776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3875040"/>
            <a:ext cx="901224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6320"/>
            <a:ext cx="91440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12476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B884-D1EE-4764-B51A-BB3F29BA288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0" y="729720"/>
            <a:ext cx="9012240" cy="602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MS UI Gothic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  <a:p>
            <a:pPr lvl="1" marL="343080" indent="-343080">
              <a:spcAft>
                <a:spcPts val="176"/>
              </a:spcAft>
              <a:buClr>
                <a:srgbClr val="9900cc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MS UI Gothic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  <a:p>
            <a:pPr lvl="2" marL="343080" indent="-343080">
              <a:spcAft>
                <a:spcPts val="176"/>
              </a:spcAft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MS UI Gothic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  <a:p>
            <a:pPr lvl="3" marL="343080" indent="-343080">
              <a:spcAft>
                <a:spcPts val="176"/>
              </a:spcAft>
              <a:buClr>
                <a:srgbClr val="000066"/>
              </a:buClr>
              <a:buFont typeface="MS UI Gothic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MS UI Gothic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  <a:p>
            <a:pPr lvl="4" marL="343080" indent="-343080">
              <a:spcAft>
                <a:spcPts val="176"/>
              </a:spcAft>
              <a:buClr>
                <a:srgbClr val="000066"/>
              </a:buClr>
              <a:buFont typeface="MS UI Goth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MS UI Gothic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  <a:p>
            <a:pPr lvl="5" marL="343080" indent="-343080">
              <a:spcAft>
                <a:spcPts val="176"/>
              </a:spcAft>
              <a:buClr>
                <a:srgbClr val="000066"/>
              </a:buClr>
              <a:buFont typeface="MS UI Goth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MS UI Gothic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  <a:p>
            <a:pPr lvl="6" marL="343080" indent="-343080">
              <a:spcAft>
                <a:spcPts val="176"/>
              </a:spcAft>
              <a:buClr>
                <a:srgbClr val="000066"/>
              </a:buClr>
              <a:buFont typeface="MS UI Goth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MS UI Gothic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MS UI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31680" y="0"/>
            <a:ext cx="74520" cy="689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编辑此外添加标题文本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762120"/>
            <a:ext cx="91440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image" Target="../media/image7.png"/><Relationship Id="rId11" Type="http://schemas.openxmlformats.org/officeDocument/2006/relationships/image" Target="../media/image11.png"/><Relationship Id="rId12" Type="http://schemas.openxmlformats.org/officeDocument/2006/relationships/image" Target="../media/image7.png"/><Relationship Id="rId13" Type="http://schemas.openxmlformats.org/officeDocument/2006/relationships/image" Target="../media/image11.png"/><Relationship Id="rId14" Type="http://schemas.openxmlformats.org/officeDocument/2006/relationships/image" Target="../media/image7.png"/><Relationship Id="rId15" Type="http://schemas.openxmlformats.org/officeDocument/2006/relationships/image" Target="../media/image11.png"/><Relationship Id="rId16" Type="http://schemas.openxmlformats.org/officeDocument/2006/relationships/image" Target="../media/image7.png"/><Relationship Id="rId17" Type="http://schemas.openxmlformats.org/officeDocument/2006/relationships/image" Target="../media/image11.png"/><Relationship Id="rId18" Type="http://schemas.openxmlformats.org/officeDocument/2006/relationships/image" Target="../media/image7.png"/><Relationship Id="rId19" Type="http://schemas.openxmlformats.org/officeDocument/2006/relationships/image" Target="../media/image11.png"/><Relationship Id="rId20" Type="http://schemas.openxmlformats.org/officeDocument/2006/relationships/image" Target="../media/image7.png"/><Relationship Id="rId21" Type="http://schemas.openxmlformats.org/officeDocument/2006/relationships/image" Target="../media/image11.png"/><Relationship Id="rId22" Type="http://schemas.openxmlformats.org/officeDocument/2006/relationships/image" Target="../media/image7.png"/><Relationship Id="rId2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png"/><Relationship Id="rId10" Type="http://schemas.openxmlformats.org/officeDocument/2006/relationships/image" Target="../media/image24.wmf"/><Relationship Id="rId11" Type="http://schemas.openxmlformats.org/officeDocument/2006/relationships/image" Target="../media/image25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58920" y="2349360"/>
            <a:ext cx="70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0808"/>
                </a:solidFill>
                <a:latin typeface="黑体"/>
                <a:ea typeface="黑体"/>
              </a:rPr>
              <a:t>23.3 </a:t>
            </a:r>
            <a:r>
              <a:rPr b="0" lang="zh-CN" sz="4400" spc="-1" strike="noStrike">
                <a:solidFill>
                  <a:srgbClr val="080808"/>
                </a:solidFill>
                <a:latin typeface="黑体"/>
                <a:ea typeface="黑体"/>
              </a:rPr>
              <a:t>课题学习  图案设计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042920" y="1736640"/>
            <a:ext cx="71992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80808"/>
                </a:solidFill>
                <a:latin typeface="宋体"/>
              </a:rPr>
              <a:t>例</a:t>
            </a:r>
            <a:r>
              <a:rPr b="1" lang="zh-CN" sz="3200" spc="-1" strike="noStrike">
                <a:solidFill>
                  <a:srgbClr val="080808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80808"/>
                </a:solidFill>
                <a:latin typeface="宋体"/>
              </a:rPr>
              <a:t>某单位搞绿化，要在一块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圆形空地</a:t>
            </a:r>
            <a:r>
              <a:rPr b="1" lang="zh-CN" sz="3200" spc="-1" strike="noStrike">
                <a:solidFill>
                  <a:srgbClr val="080808"/>
                </a:solidFill>
                <a:latin typeface="宋体"/>
              </a:rPr>
              <a:t>上种植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四种颜色</a:t>
            </a:r>
            <a:r>
              <a:rPr b="1" lang="zh-CN" sz="3200" spc="-1" strike="noStrike">
                <a:solidFill>
                  <a:srgbClr val="080808"/>
                </a:solidFill>
                <a:latin typeface="宋体"/>
              </a:rPr>
              <a:t>的花，为了便于管理和美观，相同颜色的花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集中种植</a:t>
            </a:r>
            <a:r>
              <a:rPr b="1" lang="zh-CN" sz="3200" spc="-1" strike="noStrike">
                <a:solidFill>
                  <a:srgbClr val="080808"/>
                </a:solidFill>
                <a:latin typeface="宋体"/>
              </a:rPr>
              <a:t>，且每种颜色的花所占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面积相同</a:t>
            </a:r>
            <a:r>
              <a:rPr b="1" lang="zh-CN" sz="3200" spc="-1" strike="noStrike">
                <a:solidFill>
                  <a:srgbClr val="080808"/>
                </a:solidFill>
                <a:latin typeface="宋体"/>
              </a:rPr>
              <a:t>，现征集设计方案，你能帮忙设计吗？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783600" y="47628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应     用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436760" y="3105000"/>
            <a:ext cx="72388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80808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图案设计的关键是什么？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5200" y="981000"/>
            <a:ext cx="13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80808"/>
                </a:solidFill>
                <a:latin typeface="黑体"/>
                <a:ea typeface="黑体"/>
              </a:rPr>
              <a:t>小   结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4041720"/>
            <a:ext cx="72392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选取简单的基本图形，通过不同的变换组合出丰富的图案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401840" y="2133720"/>
            <a:ext cx="72388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80808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谈谈你的收获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1258920" y="1015920"/>
            <a:ext cx="75182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下面花边中的图案以正方形为基础，由圆弧、圆构成</a:t>
            </a:r>
            <a:r>
              <a:rPr b="1" lang="zh-CN" sz="3200" spc="-1" strike="noStrike">
                <a:solidFill>
                  <a:srgbClr val="080808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仿照例图，请你为班级的板报设计一条花边，要求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只要画出组成花边的一个图案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以所给的正方形为基础，用圆弧、圆或线段画出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图案应有美感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2735280" y="5408640"/>
            <a:ext cx="554508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7" name=""/>
          <p:cNvGraphicFramePr/>
          <p:nvPr/>
        </p:nvGraphicFramePr>
        <p:xfrm>
          <a:off x="1403280" y="5337000"/>
          <a:ext cx="1079640" cy="93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5337000"/>
                    <a:ext cx="1079640" cy="9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>
            <a:off x="3838320" y="476280"/>
            <a:ext cx="108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作    业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9640" y="4616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你知道平移、旋转、轴对称变换的基本特征吗？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59280" y="40464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黑体"/>
                <a:ea typeface="黑体"/>
              </a:rPr>
              <a:t>观   察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6360" y="5408640"/>
            <a:ext cx="78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想一想这三种图形变换有什么共性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24000" y="11606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你知道下面的图案是怎样得到的吗？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224000" y="1808280"/>
            <a:ext cx="4267080" cy="283824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5940360" y="2313000"/>
            <a:ext cx="2842920" cy="1420560"/>
            <a:chOff x="5940360" y="2313000"/>
            <a:chExt cx="2842920" cy="1420560"/>
          </a:xfrm>
        </p:grpSpPr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6551280" y="2313000"/>
              <a:ext cx="118764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940360" y="321300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80808"/>
                  </a:solidFill>
                  <a:latin typeface="Times New Roman"/>
                </a:rPr>
                <a:t>经过旋转、轴对称、平移变换</a:t>
              </a:r>
              <a:r>
                <a:rPr b="1" lang="zh-CN" sz="2800" spc="-1" strike="noStrike">
                  <a:solidFill>
                    <a:srgbClr val="080808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1854000" y="2532240"/>
            <a:ext cx="5040720" cy="3245400"/>
            <a:chOff x="1854000" y="2532240"/>
            <a:chExt cx="5040720" cy="3245400"/>
          </a:xfrm>
        </p:grpSpPr>
        <p:grpSp>
          <p:nvGrpSpPr>
            <p:cNvPr id="92" name=""/>
            <p:cNvGrpSpPr/>
            <p:nvPr/>
          </p:nvGrpSpPr>
          <p:grpSpPr>
            <a:xfrm>
              <a:off x="1854000" y="2532240"/>
              <a:ext cx="1579320" cy="1553400"/>
              <a:chOff x="1854000" y="2532240"/>
              <a:chExt cx="1579320" cy="155340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1854000" y="2532240"/>
                <a:ext cx="1341000" cy="1553400"/>
                <a:chOff x="1854000" y="2532240"/>
                <a:chExt cx="1341000" cy="1553400"/>
              </a:xfrm>
            </p:grpSpPr>
            <p:sp>
              <p:nvSpPr>
                <p:cNvPr id="94" name=""/>
                <p:cNvSpPr/>
                <p:nvPr/>
              </p:nvSpPr>
              <p:spPr>
                <a:xfrm rot="3600000">
                  <a:off x="2459520" y="2527200"/>
                  <a:ext cx="413640" cy="735840"/>
                </a:xfrm>
                <a:custGeom>
                  <a:avLst/>
                  <a:gdLst/>
                  <a:ahLst/>
                  <a:rect l="l" t="t" r="r" b="b"/>
                  <a:pathLst>
                    <a:path w="816" h="1452">
                      <a:moveTo>
                        <a:pt x="816" y="0"/>
                      </a:moveTo>
                      <a:lnTo>
                        <a:pt x="408" y="0"/>
                      </a:lnTo>
                      <a:lnTo>
                        <a:pt x="0" y="726"/>
                      </a:lnTo>
                      <a:lnTo>
                        <a:pt x="408" y="1452"/>
                      </a:lnTo>
                      <a:lnTo>
                        <a:pt x="816" y="1452"/>
                      </a:lnTo>
                      <a:lnTo>
                        <a:pt x="408" y="726"/>
                      </a:lnTo>
                      <a:lnTo>
                        <a:pt x="816" y="0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091600" y="2710440"/>
                  <a:ext cx="413640" cy="735840"/>
                </a:xfrm>
                <a:custGeom>
                  <a:avLst/>
                  <a:gdLst/>
                  <a:ahLst/>
                  <a:rect l="l" t="t" r="r" b="b"/>
                  <a:pathLst>
                    <a:path w="816" h="1452">
                      <a:moveTo>
                        <a:pt x="816" y="0"/>
                      </a:moveTo>
                      <a:lnTo>
                        <a:pt x="408" y="0"/>
                      </a:lnTo>
                      <a:lnTo>
                        <a:pt x="0" y="726"/>
                      </a:lnTo>
                      <a:lnTo>
                        <a:pt x="408" y="1452"/>
                      </a:lnTo>
                      <a:lnTo>
                        <a:pt x="816" y="1452"/>
                      </a:lnTo>
                      <a:lnTo>
                        <a:pt x="408" y="726"/>
                      </a:lnTo>
                      <a:lnTo>
                        <a:pt x="816" y="0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rot="10800000">
                  <a:off x="2781360" y="3170520"/>
                  <a:ext cx="413640" cy="735840"/>
                </a:xfrm>
                <a:custGeom>
                  <a:avLst/>
                  <a:gdLst/>
                  <a:ahLst/>
                  <a:rect l="l" t="t" r="r" b="b"/>
                  <a:pathLst>
                    <a:path w="816" h="1452">
                      <a:moveTo>
                        <a:pt x="816" y="0"/>
                      </a:moveTo>
                      <a:lnTo>
                        <a:pt x="408" y="0"/>
                      </a:lnTo>
                      <a:lnTo>
                        <a:pt x="0" y="726"/>
                      </a:lnTo>
                      <a:lnTo>
                        <a:pt x="408" y="1452"/>
                      </a:lnTo>
                      <a:lnTo>
                        <a:pt x="816" y="1452"/>
                      </a:lnTo>
                      <a:lnTo>
                        <a:pt x="408" y="726"/>
                      </a:lnTo>
                      <a:lnTo>
                        <a:pt x="816" y="0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rot="14400000">
                  <a:off x="2413800" y="3354480"/>
                  <a:ext cx="413640" cy="735840"/>
                </a:xfrm>
                <a:custGeom>
                  <a:avLst/>
                  <a:gdLst/>
                  <a:ahLst/>
                  <a:rect l="l" t="t" r="r" b="b"/>
                  <a:pathLst>
                    <a:path w="816" h="1452">
                      <a:moveTo>
                        <a:pt x="816" y="0"/>
                      </a:moveTo>
                      <a:lnTo>
                        <a:pt x="408" y="0"/>
                      </a:lnTo>
                      <a:lnTo>
                        <a:pt x="0" y="726"/>
                      </a:lnTo>
                      <a:lnTo>
                        <a:pt x="408" y="1452"/>
                      </a:lnTo>
                      <a:lnTo>
                        <a:pt x="816" y="1452"/>
                      </a:lnTo>
                      <a:lnTo>
                        <a:pt x="408" y="726"/>
                      </a:lnTo>
                      <a:lnTo>
                        <a:pt x="816" y="0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rot="18000000">
                  <a:off x="2068920" y="3123720"/>
                  <a:ext cx="413640" cy="735840"/>
                </a:xfrm>
                <a:custGeom>
                  <a:avLst/>
                  <a:gdLst/>
                  <a:ahLst/>
                  <a:rect l="l" t="t" r="r" b="b"/>
                  <a:pathLst>
                    <a:path w="816" h="1452">
                      <a:moveTo>
                        <a:pt x="816" y="0"/>
                      </a:moveTo>
                      <a:lnTo>
                        <a:pt x="408" y="0"/>
                      </a:lnTo>
                      <a:lnTo>
                        <a:pt x="0" y="726"/>
                      </a:lnTo>
                      <a:lnTo>
                        <a:pt x="408" y="1452"/>
                      </a:lnTo>
                      <a:lnTo>
                        <a:pt x="816" y="1452"/>
                      </a:lnTo>
                      <a:lnTo>
                        <a:pt x="408" y="726"/>
                      </a:lnTo>
                      <a:lnTo>
                        <a:pt x="816" y="0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"/>
              <p:cNvSpPr/>
              <p:nvPr/>
            </p:nvSpPr>
            <p:spPr>
              <a:xfrm rot="7200000">
                <a:off x="2804400" y="2757240"/>
                <a:ext cx="413640" cy="735840"/>
              </a:xfrm>
              <a:custGeom>
                <a:avLst/>
                <a:gdLst/>
                <a:ahLst/>
                <a:rect l="l" t="t" r="r" b="b"/>
                <a:pathLst>
                  <a:path w="816" h="1452">
                    <a:moveTo>
                      <a:pt x="816" y="0"/>
                    </a:moveTo>
                    <a:lnTo>
                      <a:pt x="408" y="0"/>
                    </a:lnTo>
                    <a:lnTo>
                      <a:pt x="0" y="726"/>
                    </a:lnTo>
                    <a:lnTo>
                      <a:pt x="408" y="1452"/>
                    </a:lnTo>
                    <a:lnTo>
                      <a:pt x="816" y="1452"/>
                    </a:lnTo>
                    <a:lnTo>
                      <a:pt x="408" y="726"/>
                    </a:lnTo>
                    <a:lnTo>
                      <a:pt x="816" y="0"/>
                    </a:lnTo>
                    <a:close/>
                  </a:path>
                </a:pathLst>
              </a:custGeom>
              <a:solidFill>
                <a:srgbClr val="66ff66"/>
              </a:soli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561480" y="2913120"/>
              <a:ext cx="1779840" cy="824760"/>
              <a:chOff x="3561480" y="2913120"/>
              <a:chExt cx="1779840" cy="82476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3561480" y="2914200"/>
                <a:ext cx="593280" cy="823680"/>
                <a:chOff x="3561480" y="2914200"/>
                <a:chExt cx="593280" cy="82368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561840" y="2914200"/>
                  <a:ext cx="592920" cy="411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6666ff"/>
                </a:solidFill>
                <a:ln w="19080">
                  <a:solidFill>
                    <a:srgbClr val="e9f7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rot="10800000">
                  <a:off x="3561480" y="3326040"/>
                  <a:ext cx="592920" cy="411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6666ff"/>
                </a:solidFill>
                <a:ln w="19080">
                  <a:solidFill>
                    <a:srgbClr val="e9f7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4155120" y="2913120"/>
                <a:ext cx="593280" cy="823680"/>
                <a:chOff x="4155120" y="2913120"/>
                <a:chExt cx="593280" cy="8236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155480" y="2913120"/>
                  <a:ext cx="592920" cy="411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6666ff"/>
                </a:solidFill>
                <a:ln w="19080">
                  <a:solidFill>
                    <a:srgbClr val="e9f7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rot="10800000">
                  <a:off x="4155120" y="3324960"/>
                  <a:ext cx="592920" cy="411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6666ff"/>
                </a:solidFill>
                <a:ln w="19080">
                  <a:solidFill>
                    <a:srgbClr val="e9f7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4748040" y="2913120"/>
                <a:ext cx="593280" cy="823680"/>
                <a:chOff x="4748040" y="2913120"/>
                <a:chExt cx="593280" cy="8236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4748400" y="2913120"/>
                  <a:ext cx="592920" cy="411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6666ff"/>
                </a:solidFill>
                <a:ln w="19080">
                  <a:solidFill>
                    <a:srgbClr val="e9f7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rot="10800000">
                  <a:off x="4748040" y="3324960"/>
                  <a:ext cx="592920" cy="411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6666ff"/>
                </a:solidFill>
                <a:ln w="19080">
                  <a:solidFill>
                    <a:srgbClr val="e9f7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" name=""/>
            <p:cNvGrpSpPr/>
            <p:nvPr/>
          </p:nvGrpSpPr>
          <p:grpSpPr>
            <a:xfrm>
              <a:off x="5586840" y="2565360"/>
              <a:ext cx="1288440" cy="1288800"/>
              <a:chOff x="5586840" y="2565360"/>
              <a:chExt cx="1288440" cy="1288800"/>
            </a:xfrm>
          </p:grpSpPr>
          <p:sp>
            <p:nvSpPr>
              <p:cNvPr id="111" name=""/>
              <p:cNvSpPr/>
              <p:nvPr/>
            </p:nvSpPr>
            <p:spPr>
              <a:xfrm>
                <a:off x="5586840" y="2565360"/>
                <a:ext cx="1288440" cy="128880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5631120" y="2618280"/>
                <a:ext cx="1176120" cy="1154880"/>
                <a:chOff x="5631120" y="2618280"/>
                <a:chExt cx="1176120" cy="1154880"/>
              </a:xfrm>
            </p:grpSpPr>
            <p:sp>
              <p:nvSpPr>
                <p:cNvPr id="113" name=""/>
                <p:cNvSpPr/>
                <p:nvPr/>
              </p:nvSpPr>
              <p:spPr>
                <a:xfrm rot="1800000">
                  <a:off x="6229440" y="2648160"/>
                  <a:ext cx="275400" cy="578880"/>
                </a:xfrm>
                <a:custGeom>
                  <a:avLst/>
                  <a:gdLst/>
                  <a:ahLst/>
                  <a:rect l="l" t="t" r="r" b="b"/>
                  <a:pathLst>
                    <a:path w="907" h="1905">
                      <a:moveTo>
                        <a:pt x="907" y="952"/>
                      </a:moveTo>
                      <a:lnTo>
                        <a:pt x="454" y="0"/>
                      </a:lnTo>
                      <a:lnTo>
                        <a:pt x="0" y="952"/>
                      </a:lnTo>
                      <a:lnTo>
                        <a:pt x="454" y="1905"/>
                      </a:lnTo>
                      <a:lnTo>
                        <a:pt x="907" y="952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19800000">
                  <a:off x="5933160" y="2648160"/>
                  <a:ext cx="275400" cy="578880"/>
                </a:xfrm>
                <a:custGeom>
                  <a:avLst/>
                  <a:gdLst/>
                  <a:ahLst/>
                  <a:rect l="l" t="t" r="r" b="b"/>
                  <a:pathLst>
                    <a:path w="907" h="1905">
                      <a:moveTo>
                        <a:pt x="907" y="952"/>
                      </a:moveTo>
                      <a:lnTo>
                        <a:pt x="454" y="0"/>
                      </a:lnTo>
                      <a:lnTo>
                        <a:pt x="0" y="952"/>
                      </a:lnTo>
                      <a:lnTo>
                        <a:pt x="454" y="1905"/>
                      </a:lnTo>
                      <a:lnTo>
                        <a:pt x="907" y="952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rot="5400000">
                  <a:off x="6380280" y="2910240"/>
                  <a:ext cx="275760" cy="577800"/>
                </a:xfrm>
                <a:custGeom>
                  <a:avLst/>
                  <a:gdLst/>
                  <a:ahLst/>
                  <a:rect l="l" t="t" r="r" b="b"/>
                  <a:pathLst>
                    <a:path w="907" h="1905">
                      <a:moveTo>
                        <a:pt x="907" y="952"/>
                      </a:moveTo>
                      <a:lnTo>
                        <a:pt x="454" y="0"/>
                      </a:lnTo>
                      <a:lnTo>
                        <a:pt x="0" y="952"/>
                      </a:lnTo>
                      <a:lnTo>
                        <a:pt x="454" y="1905"/>
                      </a:lnTo>
                      <a:lnTo>
                        <a:pt x="907" y="952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rot="9000000">
                  <a:off x="6229080" y="3164040"/>
                  <a:ext cx="275400" cy="578520"/>
                </a:xfrm>
                <a:custGeom>
                  <a:avLst/>
                  <a:gdLst/>
                  <a:ahLst/>
                  <a:rect l="l" t="t" r="r" b="b"/>
                  <a:pathLst>
                    <a:path w="907" h="1905">
                      <a:moveTo>
                        <a:pt x="907" y="952"/>
                      </a:moveTo>
                      <a:lnTo>
                        <a:pt x="454" y="0"/>
                      </a:lnTo>
                      <a:lnTo>
                        <a:pt x="0" y="952"/>
                      </a:lnTo>
                      <a:lnTo>
                        <a:pt x="454" y="1905"/>
                      </a:lnTo>
                      <a:lnTo>
                        <a:pt x="907" y="952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rot="12600000">
                  <a:off x="5932800" y="3164040"/>
                  <a:ext cx="275400" cy="578520"/>
                </a:xfrm>
                <a:custGeom>
                  <a:avLst/>
                  <a:gdLst/>
                  <a:ahLst/>
                  <a:rect l="l" t="t" r="r" b="b"/>
                  <a:pathLst>
                    <a:path w="907" h="1905">
                      <a:moveTo>
                        <a:pt x="907" y="952"/>
                      </a:moveTo>
                      <a:lnTo>
                        <a:pt x="454" y="0"/>
                      </a:lnTo>
                      <a:lnTo>
                        <a:pt x="0" y="952"/>
                      </a:lnTo>
                      <a:lnTo>
                        <a:pt x="454" y="1905"/>
                      </a:lnTo>
                      <a:lnTo>
                        <a:pt x="907" y="952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rot="16200000">
                  <a:off x="5781960" y="2910240"/>
                  <a:ext cx="275760" cy="577800"/>
                </a:xfrm>
                <a:custGeom>
                  <a:avLst/>
                  <a:gdLst/>
                  <a:ahLst/>
                  <a:rect l="l" t="t" r="r" b="b"/>
                  <a:pathLst>
                    <a:path w="907" h="1905">
                      <a:moveTo>
                        <a:pt x="907" y="952"/>
                      </a:moveTo>
                      <a:lnTo>
                        <a:pt x="454" y="0"/>
                      </a:lnTo>
                      <a:lnTo>
                        <a:pt x="0" y="952"/>
                      </a:lnTo>
                      <a:lnTo>
                        <a:pt x="454" y="1905"/>
                      </a:lnTo>
                      <a:lnTo>
                        <a:pt x="907" y="952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" name=""/>
            <p:cNvGrpSpPr/>
            <p:nvPr/>
          </p:nvGrpSpPr>
          <p:grpSpPr>
            <a:xfrm>
              <a:off x="2241720" y="4406040"/>
              <a:ext cx="645840" cy="1347840"/>
              <a:chOff x="2241720" y="4406040"/>
              <a:chExt cx="645840" cy="1347840"/>
            </a:xfrm>
          </p:grpSpPr>
          <p:sp>
            <p:nvSpPr>
              <p:cNvPr id="120" name=""/>
              <p:cNvSpPr/>
              <p:nvPr/>
            </p:nvSpPr>
            <p:spPr>
              <a:xfrm>
                <a:off x="2241720" y="4406040"/>
                <a:ext cx="565560" cy="754920"/>
              </a:xfrm>
              <a:custGeom>
                <a:avLst/>
                <a:gdLst/>
                <a:ahLst/>
                <a:rect l="l" t="t" r="r" b="b"/>
                <a:pathLst>
                  <a:path w="952" h="1270">
                    <a:moveTo>
                      <a:pt x="499" y="1270"/>
                    </a:moveTo>
                    <a:lnTo>
                      <a:pt x="0" y="1134"/>
                    </a:lnTo>
                    <a:lnTo>
                      <a:pt x="952" y="0"/>
                    </a:lnTo>
                    <a:lnTo>
                      <a:pt x="499" y="12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7f0000"/>
                  </a:gs>
                </a:gsLst>
                <a:lin ang="5400000"/>
              </a:gra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0800000">
                <a:off x="2322000" y="4998960"/>
                <a:ext cx="565560" cy="754920"/>
              </a:xfrm>
              <a:custGeom>
                <a:avLst/>
                <a:gdLst/>
                <a:ahLst/>
                <a:rect l="l" t="t" r="r" b="b"/>
                <a:pathLst>
                  <a:path w="952" h="1270">
                    <a:moveTo>
                      <a:pt x="499" y="1270"/>
                    </a:moveTo>
                    <a:lnTo>
                      <a:pt x="0" y="1134"/>
                    </a:lnTo>
                    <a:lnTo>
                      <a:pt x="952" y="0"/>
                    </a:lnTo>
                    <a:lnTo>
                      <a:pt x="499" y="12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7f0000"/>
                  </a:gs>
                </a:gsLst>
                <a:lin ang="16200000"/>
              </a:gra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3504960" y="4345200"/>
              <a:ext cx="1530360" cy="1326600"/>
              <a:chOff x="3504960" y="4345200"/>
              <a:chExt cx="1530360" cy="132660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3766320" y="4345200"/>
                <a:ext cx="483120" cy="420480"/>
                <a:chOff x="3766320" y="4345200"/>
                <a:chExt cx="483120" cy="4204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766320" y="4345200"/>
                  <a:ext cx="483120" cy="420480"/>
                </a:xfrm>
                <a:custGeom>
                  <a:avLst/>
                  <a:gdLst/>
                  <a:ahLst/>
                  <a:rect l="l" t="t" r="r" b="b"/>
                  <a:pathLst>
                    <a:path w="2086" h="1815">
                      <a:moveTo>
                        <a:pt x="499" y="1815"/>
                      </a:moveTo>
                      <a:lnTo>
                        <a:pt x="1542" y="1815"/>
                      </a:lnTo>
                      <a:lnTo>
                        <a:pt x="2086" y="907"/>
                      </a:lnTo>
                      <a:lnTo>
                        <a:pt x="1587" y="0"/>
                      </a:lnTo>
                      <a:lnTo>
                        <a:pt x="499" y="0"/>
                      </a:lnTo>
                      <a:lnTo>
                        <a:pt x="0" y="907"/>
                      </a:lnTo>
                      <a:lnTo>
                        <a:pt x="499" y="1815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826440" y="4394160"/>
                  <a:ext cx="362160" cy="315360"/>
                </a:xfrm>
                <a:custGeom>
                  <a:avLst/>
                  <a:gdLst/>
                  <a:ahLst/>
                  <a:rect l="l" t="t" r="r" b="b"/>
                  <a:pathLst>
                    <a:path w="2086" h="1815">
                      <a:moveTo>
                        <a:pt x="499" y="1815"/>
                      </a:moveTo>
                      <a:lnTo>
                        <a:pt x="1542" y="1815"/>
                      </a:lnTo>
                      <a:lnTo>
                        <a:pt x="2086" y="907"/>
                      </a:lnTo>
                      <a:lnTo>
                        <a:pt x="1587" y="0"/>
                      </a:lnTo>
                      <a:lnTo>
                        <a:pt x="499" y="0"/>
                      </a:lnTo>
                      <a:lnTo>
                        <a:pt x="0" y="907"/>
                      </a:lnTo>
                      <a:lnTo>
                        <a:pt x="499" y="181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381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290840" y="4345200"/>
                <a:ext cx="483120" cy="420480"/>
                <a:chOff x="4290840" y="4345200"/>
                <a:chExt cx="483120" cy="4204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290840" y="4345200"/>
                  <a:ext cx="483120" cy="420480"/>
                </a:xfrm>
                <a:custGeom>
                  <a:avLst/>
                  <a:gdLst/>
                  <a:ahLst/>
                  <a:rect l="l" t="t" r="r" b="b"/>
                  <a:pathLst>
                    <a:path w="2086" h="1815">
                      <a:moveTo>
                        <a:pt x="499" y="1815"/>
                      </a:moveTo>
                      <a:lnTo>
                        <a:pt x="1542" y="1815"/>
                      </a:lnTo>
                      <a:lnTo>
                        <a:pt x="2086" y="907"/>
                      </a:lnTo>
                      <a:lnTo>
                        <a:pt x="1587" y="0"/>
                      </a:lnTo>
                      <a:lnTo>
                        <a:pt x="499" y="0"/>
                      </a:lnTo>
                      <a:lnTo>
                        <a:pt x="0" y="907"/>
                      </a:lnTo>
                      <a:lnTo>
                        <a:pt x="499" y="1815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350960" y="4394160"/>
                  <a:ext cx="362160" cy="315360"/>
                </a:xfrm>
                <a:custGeom>
                  <a:avLst/>
                  <a:gdLst/>
                  <a:ahLst/>
                  <a:rect l="l" t="t" r="r" b="b"/>
                  <a:pathLst>
                    <a:path w="2086" h="1815">
                      <a:moveTo>
                        <a:pt x="499" y="1815"/>
                      </a:moveTo>
                      <a:lnTo>
                        <a:pt x="1542" y="1815"/>
                      </a:lnTo>
                      <a:lnTo>
                        <a:pt x="2086" y="907"/>
                      </a:lnTo>
                      <a:lnTo>
                        <a:pt x="1587" y="0"/>
                      </a:lnTo>
                      <a:lnTo>
                        <a:pt x="499" y="0"/>
                      </a:lnTo>
                      <a:lnTo>
                        <a:pt x="0" y="907"/>
                      </a:lnTo>
                      <a:lnTo>
                        <a:pt x="499" y="181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381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504960" y="4790880"/>
                <a:ext cx="483120" cy="420480"/>
                <a:chOff x="3504960" y="4790880"/>
                <a:chExt cx="483120" cy="4204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504960" y="4790880"/>
                  <a:ext cx="483120" cy="420480"/>
                </a:xfrm>
                <a:custGeom>
                  <a:avLst/>
                  <a:gdLst/>
                  <a:ahLst/>
                  <a:rect l="l" t="t" r="r" b="b"/>
                  <a:pathLst>
                    <a:path w="2086" h="1815">
                      <a:moveTo>
                        <a:pt x="499" y="1815"/>
                      </a:moveTo>
                      <a:lnTo>
                        <a:pt x="1542" y="1815"/>
                      </a:lnTo>
                      <a:lnTo>
                        <a:pt x="2086" y="907"/>
                      </a:lnTo>
                      <a:lnTo>
                        <a:pt x="1587" y="0"/>
                      </a:lnTo>
                      <a:lnTo>
                        <a:pt x="499" y="0"/>
                      </a:lnTo>
                      <a:lnTo>
                        <a:pt x="0" y="907"/>
                      </a:lnTo>
                      <a:lnTo>
                        <a:pt x="499" y="1815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565080" y="4839840"/>
                  <a:ext cx="362160" cy="315360"/>
                </a:xfrm>
                <a:custGeom>
                  <a:avLst/>
                  <a:gdLst/>
                  <a:ahLst/>
                  <a:rect l="l" t="t" r="r" b="b"/>
                  <a:pathLst>
                    <a:path w="2086" h="1815">
                      <a:moveTo>
                        <a:pt x="499" y="1815"/>
                      </a:moveTo>
                      <a:lnTo>
                        <a:pt x="1542" y="1815"/>
                      </a:lnTo>
                      <a:lnTo>
                        <a:pt x="2086" y="907"/>
                      </a:lnTo>
                      <a:lnTo>
                        <a:pt x="1587" y="0"/>
                      </a:lnTo>
                      <a:lnTo>
                        <a:pt x="499" y="0"/>
                      </a:lnTo>
                      <a:lnTo>
                        <a:pt x="0" y="907"/>
                      </a:lnTo>
                      <a:lnTo>
                        <a:pt x="499" y="181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381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3766320" y="5251320"/>
                <a:ext cx="483120" cy="420480"/>
                <a:chOff x="3766320" y="5251320"/>
                <a:chExt cx="483120" cy="4204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3766320" y="5251320"/>
                  <a:ext cx="483120" cy="420480"/>
                </a:xfrm>
                <a:custGeom>
                  <a:avLst/>
                  <a:gdLst/>
                  <a:ahLst/>
                  <a:rect l="l" t="t" r="r" b="b"/>
                  <a:pathLst>
                    <a:path w="2086" h="1815">
                      <a:moveTo>
                        <a:pt x="499" y="1815"/>
                      </a:moveTo>
                      <a:lnTo>
                        <a:pt x="1542" y="1815"/>
                      </a:lnTo>
                      <a:lnTo>
                        <a:pt x="2086" y="907"/>
                      </a:lnTo>
                      <a:lnTo>
                        <a:pt x="1587" y="0"/>
                      </a:lnTo>
                      <a:lnTo>
                        <a:pt x="499" y="0"/>
                      </a:lnTo>
                      <a:lnTo>
                        <a:pt x="0" y="907"/>
                      </a:lnTo>
                      <a:lnTo>
                        <a:pt x="499" y="1815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826440" y="5300280"/>
                  <a:ext cx="362160" cy="315360"/>
                </a:xfrm>
                <a:custGeom>
                  <a:avLst/>
                  <a:gdLst/>
                  <a:ahLst/>
                  <a:rect l="l" t="t" r="r" b="b"/>
                  <a:pathLst>
                    <a:path w="2086" h="1815">
                      <a:moveTo>
                        <a:pt x="499" y="1815"/>
                      </a:moveTo>
                      <a:lnTo>
                        <a:pt x="1542" y="1815"/>
                      </a:lnTo>
                      <a:lnTo>
                        <a:pt x="2086" y="907"/>
                      </a:lnTo>
                      <a:lnTo>
                        <a:pt x="1587" y="0"/>
                      </a:lnTo>
                      <a:lnTo>
                        <a:pt x="499" y="0"/>
                      </a:lnTo>
                      <a:lnTo>
                        <a:pt x="0" y="907"/>
                      </a:lnTo>
                      <a:lnTo>
                        <a:pt x="499" y="181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381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290840" y="5251320"/>
                <a:ext cx="483120" cy="420480"/>
                <a:chOff x="4290840" y="5251320"/>
                <a:chExt cx="483120" cy="4204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90840" y="5251320"/>
                  <a:ext cx="483120" cy="420480"/>
                </a:xfrm>
                <a:custGeom>
                  <a:avLst/>
                  <a:gdLst/>
                  <a:ahLst/>
                  <a:rect l="l" t="t" r="r" b="b"/>
                  <a:pathLst>
                    <a:path w="2086" h="1815">
                      <a:moveTo>
                        <a:pt x="499" y="1815"/>
                      </a:moveTo>
                      <a:lnTo>
                        <a:pt x="1542" y="1815"/>
                      </a:lnTo>
                      <a:lnTo>
                        <a:pt x="2086" y="907"/>
                      </a:lnTo>
                      <a:lnTo>
                        <a:pt x="1587" y="0"/>
                      </a:lnTo>
                      <a:lnTo>
                        <a:pt x="499" y="0"/>
                      </a:lnTo>
                      <a:lnTo>
                        <a:pt x="0" y="907"/>
                      </a:lnTo>
                      <a:lnTo>
                        <a:pt x="499" y="1815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350960" y="5300280"/>
                  <a:ext cx="362160" cy="315360"/>
                </a:xfrm>
                <a:custGeom>
                  <a:avLst/>
                  <a:gdLst/>
                  <a:ahLst/>
                  <a:rect l="l" t="t" r="r" b="b"/>
                  <a:pathLst>
                    <a:path w="2086" h="1815">
                      <a:moveTo>
                        <a:pt x="499" y="1815"/>
                      </a:moveTo>
                      <a:lnTo>
                        <a:pt x="1542" y="1815"/>
                      </a:lnTo>
                      <a:lnTo>
                        <a:pt x="2086" y="907"/>
                      </a:lnTo>
                      <a:lnTo>
                        <a:pt x="1587" y="0"/>
                      </a:lnTo>
                      <a:lnTo>
                        <a:pt x="499" y="0"/>
                      </a:lnTo>
                      <a:lnTo>
                        <a:pt x="0" y="907"/>
                      </a:lnTo>
                      <a:lnTo>
                        <a:pt x="499" y="181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381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552200" y="4790880"/>
                <a:ext cx="483120" cy="420480"/>
                <a:chOff x="4552200" y="4790880"/>
                <a:chExt cx="483120" cy="4204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552200" y="4790880"/>
                  <a:ext cx="483120" cy="420480"/>
                </a:xfrm>
                <a:custGeom>
                  <a:avLst/>
                  <a:gdLst/>
                  <a:ahLst/>
                  <a:rect l="l" t="t" r="r" b="b"/>
                  <a:pathLst>
                    <a:path w="2086" h="1815">
                      <a:moveTo>
                        <a:pt x="499" y="1815"/>
                      </a:moveTo>
                      <a:lnTo>
                        <a:pt x="1542" y="1815"/>
                      </a:lnTo>
                      <a:lnTo>
                        <a:pt x="2086" y="907"/>
                      </a:lnTo>
                      <a:lnTo>
                        <a:pt x="1587" y="0"/>
                      </a:lnTo>
                      <a:lnTo>
                        <a:pt x="499" y="0"/>
                      </a:lnTo>
                      <a:lnTo>
                        <a:pt x="0" y="907"/>
                      </a:lnTo>
                      <a:lnTo>
                        <a:pt x="499" y="1815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612320" y="4839840"/>
                  <a:ext cx="362160" cy="315360"/>
                </a:xfrm>
                <a:custGeom>
                  <a:avLst/>
                  <a:gdLst/>
                  <a:ahLst/>
                  <a:rect l="l" t="t" r="r" b="b"/>
                  <a:pathLst>
                    <a:path w="2086" h="1815">
                      <a:moveTo>
                        <a:pt x="499" y="1815"/>
                      </a:moveTo>
                      <a:lnTo>
                        <a:pt x="1542" y="1815"/>
                      </a:lnTo>
                      <a:lnTo>
                        <a:pt x="2086" y="907"/>
                      </a:lnTo>
                      <a:lnTo>
                        <a:pt x="1587" y="0"/>
                      </a:lnTo>
                      <a:lnTo>
                        <a:pt x="499" y="0"/>
                      </a:lnTo>
                      <a:lnTo>
                        <a:pt x="0" y="907"/>
                      </a:lnTo>
                      <a:lnTo>
                        <a:pt x="499" y="181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381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3961440" y="4647600"/>
                <a:ext cx="610560" cy="684360"/>
              </a:xfrm>
              <a:custGeom>
                <a:avLst/>
                <a:gdLst/>
                <a:ahLst/>
                <a:rect l="l" t="t" r="r" b="b"/>
                <a:pathLst>
                  <a:path w="1860" h="2086">
                    <a:moveTo>
                      <a:pt x="953" y="0"/>
                    </a:moveTo>
                    <a:lnTo>
                      <a:pt x="635" y="544"/>
                    </a:lnTo>
                    <a:lnTo>
                      <a:pt x="0" y="544"/>
                    </a:lnTo>
                    <a:lnTo>
                      <a:pt x="318" y="1088"/>
                    </a:lnTo>
                    <a:lnTo>
                      <a:pt x="46" y="1587"/>
                    </a:lnTo>
                    <a:lnTo>
                      <a:pt x="681" y="1587"/>
                    </a:lnTo>
                    <a:lnTo>
                      <a:pt x="953" y="2086"/>
                    </a:lnTo>
                    <a:lnTo>
                      <a:pt x="1225" y="1587"/>
                    </a:lnTo>
                    <a:lnTo>
                      <a:pt x="1860" y="1587"/>
                    </a:lnTo>
                    <a:lnTo>
                      <a:pt x="1543" y="1043"/>
                    </a:lnTo>
                    <a:lnTo>
                      <a:pt x="1860" y="544"/>
                    </a:lnTo>
                    <a:lnTo>
                      <a:pt x="1225" y="544"/>
                    </a:lnTo>
                    <a:lnTo>
                      <a:pt x="1316" y="544"/>
                    </a:lnTo>
                    <a:lnTo>
                      <a:pt x="1724" y="544"/>
                    </a:lnTo>
                    <a:lnTo>
                      <a:pt x="1270" y="544"/>
                    </a:lnTo>
                    <a:lnTo>
                      <a:pt x="953" y="0"/>
                    </a:lnTo>
                    <a:close/>
                  </a:path>
                </a:pathLst>
              </a:custGeom>
              <a:solidFill>
                <a:srgbClr val="00ffff"/>
              </a:solidFill>
              <a:ln w="381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5331600" y="4222080"/>
              <a:ext cx="1563120" cy="1555560"/>
              <a:chOff x="5331600" y="4222080"/>
              <a:chExt cx="1563120" cy="155556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5331600" y="4222080"/>
                <a:ext cx="1563120" cy="1555560"/>
                <a:chOff x="5331600" y="4222080"/>
                <a:chExt cx="1563120" cy="1555560"/>
              </a:xfrm>
            </p:grpSpPr>
            <p:sp>
              <p:nvSpPr>
                <p:cNvPr id="144" name=""/>
                <p:cNvSpPr/>
                <p:nvPr/>
              </p:nvSpPr>
              <p:spPr>
                <a:xfrm rot="1920000">
                  <a:off x="6137280" y="4276440"/>
                  <a:ext cx="329040" cy="718920"/>
                </a:xfrm>
                <a:custGeom>
                  <a:avLst/>
                  <a:gdLst/>
                  <a:ahLst/>
                  <a:rect l="l" t="t" r="r" b="b"/>
                  <a:pathLst>
                    <a:path w="817" h="1784">
                      <a:moveTo>
                        <a:pt x="416" y="7"/>
                      </a:moveTo>
                      <a:cubicBezTo>
                        <a:pt x="386" y="14"/>
                        <a:pt x="363" y="159"/>
                        <a:pt x="325" y="234"/>
                      </a:cubicBezTo>
                      <a:cubicBezTo>
                        <a:pt x="287" y="309"/>
                        <a:pt x="227" y="393"/>
                        <a:pt x="189" y="461"/>
                      </a:cubicBezTo>
                      <a:cubicBezTo>
                        <a:pt x="151" y="529"/>
                        <a:pt x="128" y="559"/>
                        <a:pt x="98" y="642"/>
                      </a:cubicBezTo>
                      <a:cubicBezTo>
                        <a:pt x="68" y="725"/>
                        <a:pt x="14" y="869"/>
                        <a:pt x="7" y="960"/>
                      </a:cubicBezTo>
                      <a:cubicBezTo>
                        <a:pt x="0" y="1051"/>
                        <a:pt x="15" y="1112"/>
                        <a:pt x="53" y="1187"/>
                      </a:cubicBezTo>
                      <a:cubicBezTo>
                        <a:pt x="91" y="1262"/>
                        <a:pt x="189" y="1323"/>
                        <a:pt x="234" y="1414"/>
                      </a:cubicBezTo>
                      <a:cubicBezTo>
                        <a:pt x="279" y="1505"/>
                        <a:pt x="280" y="1678"/>
                        <a:pt x="325" y="1731"/>
                      </a:cubicBezTo>
                      <a:cubicBezTo>
                        <a:pt x="370" y="1784"/>
                        <a:pt x="468" y="1769"/>
                        <a:pt x="506" y="1731"/>
                      </a:cubicBezTo>
                      <a:cubicBezTo>
                        <a:pt x="544" y="1693"/>
                        <a:pt x="529" y="1572"/>
                        <a:pt x="552" y="1504"/>
                      </a:cubicBezTo>
                      <a:cubicBezTo>
                        <a:pt x="575" y="1436"/>
                        <a:pt x="604" y="1376"/>
                        <a:pt x="642" y="1323"/>
                      </a:cubicBezTo>
                      <a:cubicBezTo>
                        <a:pt x="680" y="1270"/>
                        <a:pt x="756" y="1263"/>
                        <a:pt x="779" y="1187"/>
                      </a:cubicBezTo>
                      <a:cubicBezTo>
                        <a:pt x="802" y="1111"/>
                        <a:pt x="817" y="1028"/>
                        <a:pt x="779" y="869"/>
                      </a:cubicBezTo>
                      <a:cubicBezTo>
                        <a:pt x="741" y="710"/>
                        <a:pt x="575" y="302"/>
                        <a:pt x="552" y="234"/>
                      </a:cubicBezTo>
                      <a:cubicBezTo>
                        <a:pt x="529" y="166"/>
                        <a:pt x="650" y="468"/>
                        <a:pt x="642" y="461"/>
                      </a:cubicBezTo>
                      <a:cubicBezTo>
                        <a:pt x="634" y="454"/>
                        <a:pt x="536" y="265"/>
                        <a:pt x="506" y="189"/>
                      </a:cubicBezTo>
                      <a:cubicBezTo>
                        <a:pt x="476" y="113"/>
                        <a:pt x="446" y="0"/>
                        <a:pt x="416" y="7"/>
                      </a:cubicBezTo>
                      <a:close/>
                    </a:path>
                  </a:pathLst>
                </a:custGeom>
                <a:solidFill>
                  <a:srgbClr val="008080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3900000">
                  <a:off x="6308280" y="4447440"/>
                  <a:ext cx="329040" cy="719280"/>
                </a:xfrm>
                <a:custGeom>
                  <a:avLst/>
                  <a:gdLst/>
                  <a:ahLst/>
                  <a:rect l="l" t="t" r="r" b="b"/>
                  <a:pathLst>
                    <a:path w="817" h="1784">
                      <a:moveTo>
                        <a:pt x="416" y="7"/>
                      </a:moveTo>
                      <a:cubicBezTo>
                        <a:pt x="386" y="14"/>
                        <a:pt x="363" y="159"/>
                        <a:pt x="325" y="234"/>
                      </a:cubicBezTo>
                      <a:cubicBezTo>
                        <a:pt x="287" y="309"/>
                        <a:pt x="227" y="393"/>
                        <a:pt x="189" y="461"/>
                      </a:cubicBezTo>
                      <a:cubicBezTo>
                        <a:pt x="151" y="529"/>
                        <a:pt x="128" y="559"/>
                        <a:pt x="98" y="642"/>
                      </a:cubicBezTo>
                      <a:cubicBezTo>
                        <a:pt x="68" y="725"/>
                        <a:pt x="14" y="869"/>
                        <a:pt x="7" y="960"/>
                      </a:cubicBezTo>
                      <a:cubicBezTo>
                        <a:pt x="0" y="1051"/>
                        <a:pt x="15" y="1112"/>
                        <a:pt x="53" y="1187"/>
                      </a:cubicBezTo>
                      <a:cubicBezTo>
                        <a:pt x="91" y="1262"/>
                        <a:pt x="189" y="1323"/>
                        <a:pt x="234" y="1414"/>
                      </a:cubicBezTo>
                      <a:cubicBezTo>
                        <a:pt x="279" y="1505"/>
                        <a:pt x="280" y="1678"/>
                        <a:pt x="325" y="1731"/>
                      </a:cubicBezTo>
                      <a:cubicBezTo>
                        <a:pt x="370" y="1784"/>
                        <a:pt x="468" y="1769"/>
                        <a:pt x="506" y="1731"/>
                      </a:cubicBezTo>
                      <a:cubicBezTo>
                        <a:pt x="544" y="1693"/>
                        <a:pt x="529" y="1572"/>
                        <a:pt x="552" y="1504"/>
                      </a:cubicBezTo>
                      <a:cubicBezTo>
                        <a:pt x="575" y="1436"/>
                        <a:pt x="604" y="1376"/>
                        <a:pt x="642" y="1323"/>
                      </a:cubicBezTo>
                      <a:cubicBezTo>
                        <a:pt x="680" y="1270"/>
                        <a:pt x="756" y="1263"/>
                        <a:pt x="779" y="1187"/>
                      </a:cubicBezTo>
                      <a:cubicBezTo>
                        <a:pt x="802" y="1111"/>
                        <a:pt x="817" y="1028"/>
                        <a:pt x="779" y="869"/>
                      </a:cubicBezTo>
                      <a:cubicBezTo>
                        <a:pt x="741" y="710"/>
                        <a:pt x="575" y="302"/>
                        <a:pt x="552" y="234"/>
                      </a:cubicBezTo>
                      <a:cubicBezTo>
                        <a:pt x="529" y="166"/>
                        <a:pt x="650" y="468"/>
                        <a:pt x="642" y="461"/>
                      </a:cubicBezTo>
                      <a:cubicBezTo>
                        <a:pt x="634" y="454"/>
                        <a:pt x="536" y="265"/>
                        <a:pt x="506" y="189"/>
                      </a:cubicBezTo>
                      <a:cubicBezTo>
                        <a:pt x="476" y="113"/>
                        <a:pt x="446" y="0"/>
                        <a:pt x="416" y="7"/>
                      </a:cubicBezTo>
                      <a:close/>
                    </a:path>
                  </a:pathLst>
                </a:custGeom>
                <a:solidFill>
                  <a:srgbClr val="008080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5880000">
                  <a:off x="6351120" y="4666320"/>
                  <a:ext cx="329040" cy="719280"/>
                </a:xfrm>
                <a:custGeom>
                  <a:avLst/>
                  <a:gdLst/>
                  <a:ahLst/>
                  <a:rect l="l" t="t" r="r" b="b"/>
                  <a:pathLst>
                    <a:path w="817" h="1784">
                      <a:moveTo>
                        <a:pt x="416" y="7"/>
                      </a:moveTo>
                      <a:cubicBezTo>
                        <a:pt x="386" y="14"/>
                        <a:pt x="363" y="159"/>
                        <a:pt x="325" y="234"/>
                      </a:cubicBezTo>
                      <a:cubicBezTo>
                        <a:pt x="287" y="309"/>
                        <a:pt x="227" y="393"/>
                        <a:pt x="189" y="461"/>
                      </a:cubicBezTo>
                      <a:cubicBezTo>
                        <a:pt x="151" y="529"/>
                        <a:pt x="128" y="559"/>
                        <a:pt x="98" y="642"/>
                      </a:cubicBezTo>
                      <a:cubicBezTo>
                        <a:pt x="68" y="725"/>
                        <a:pt x="14" y="869"/>
                        <a:pt x="7" y="960"/>
                      </a:cubicBezTo>
                      <a:cubicBezTo>
                        <a:pt x="0" y="1051"/>
                        <a:pt x="15" y="1112"/>
                        <a:pt x="53" y="1187"/>
                      </a:cubicBezTo>
                      <a:cubicBezTo>
                        <a:pt x="91" y="1262"/>
                        <a:pt x="189" y="1323"/>
                        <a:pt x="234" y="1414"/>
                      </a:cubicBezTo>
                      <a:cubicBezTo>
                        <a:pt x="279" y="1505"/>
                        <a:pt x="280" y="1678"/>
                        <a:pt x="325" y="1731"/>
                      </a:cubicBezTo>
                      <a:cubicBezTo>
                        <a:pt x="370" y="1784"/>
                        <a:pt x="468" y="1769"/>
                        <a:pt x="506" y="1731"/>
                      </a:cubicBezTo>
                      <a:cubicBezTo>
                        <a:pt x="544" y="1693"/>
                        <a:pt x="529" y="1572"/>
                        <a:pt x="552" y="1504"/>
                      </a:cubicBezTo>
                      <a:cubicBezTo>
                        <a:pt x="575" y="1436"/>
                        <a:pt x="604" y="1376"/>
                        <a:pt x="642" y="1323"/>
                      </a:cubicBezTo>
                      <a:cubicBezTo>
                        <a:pt x="680" y="1270"/>
                        <a:pt x="756" y="1263"/>
                        <a:pt x="779" y="1187"/>
                      </a:cubicBezTo>
                      <a:cubicBezTo>
                        <a:pt x="802" y="1111"/>
                        <a:pt x="817" y="1028"/>
                        <a:pt x="779" y="869"/>
                      </a:cubicBezTo>
                      <a:cubicBezTo>
                        <a:pt x="741" y="710"/>
                        <a:pt x="575" y="302"/>
                        <a:pt x="552" y="234"/>
                      </a:cubicBezTo>
                      <a:cubicBezTo>
                        <a:pt x="529" y="166"/>
                        <a:pt x="650" y="468"/>
                        <a:pt x="642" y="461"/>
                      </a:cubicBezTo>
                      <a:cubicBezTo>
                        <a:pt x="634" y="454"/>
                        <a:pt x="536" y="265"/>
                        <a:pt x="506" y="189"/>
                      </a:cubicBezTo>
                      <a:cubicBezTo>
                        <a:pt x="476" y="113"/>
                        <a:pt x="446" y="0"/>
                        <a:pt x="416" y="7"/>
                      </a:cubicBezTo>
                      <a:close/>
                    </a:path>
                  </a:pathLst>
                </a:custGeom>
                <a:solidFill>
                  <a:srgbClr val="008080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800000">
                  <a:off x="6271560" y="4885560"/>
                  <a:ext cx="329040" cy="719280"/>
                </a:xfrm>
                <a:custGeom>
                  <a:avLst/>
                  <a:gdLst/>
                  <a:ahLst/>
                  <a:rect l="l" t="t" r="r" b="b"/>
                  <a:pathLst>
                    <a:path w="817" h="1784">
                      <a:moveTo>
                        <a:pt x="416" y="7"/>
                      </a:moveTo>
                      <a:cubicBezTo>
                        <a:pt x="386" y="14"/>
                        <a:pt x="363" y="159"/>
                        <a:pt x="325" y="234"/>
                      </a:cubicBezTo>
                      <a:cubicBezTo>
                        <a:pt x="287" y="309"/>
                        <a:pt x="227" y="393"/>
                        <a:pt x="189" y="461"/>
                      </a:cubicBezTo>
                      <a:cubicBezTo>
                        <a:pt x="151" y="529"/>
                        <a:pt x="128" y="559"/>
                        <a:pt x="98" y="642"/>
                      </a:cubicBezTo>
                      <a:cubicBezTo>
                        <a:pt x="68" y="725"/>
                        <a:pt x="14" y="869"/>
                        <a:pt x="7" y="960"/>
                      </a:cubicBezTo>
                      <a:cubicBezTo>
                        <a:pt x="0" y="1051"/>
                        <a:pt x="15" y="1112"/>
                        <a:pt x="53" y="1187"/>
                      </a:cubicBezTo>
                      <a:cubicBezTo>
                        <a:pt x="91" y="1262"/>
                        <a:pt x="189" y="1323"/>
                        <a:pt x="234" y="1414"/>
                      </a:cubicBezTo>
                      <a:cubicBezTo>
                        <a:pt x="279" y="1505"/>
                        <a:pt x="280" y="1678"/>
                        <a:pt x="325" y="1731"/>
                      </a:cubicBezTo>
                      <a:cubicBezTo>
                        <a:pt x="370" y="1784"/>
                        <a:pt x="468" y="1769"/>
                        <a:pt x="506" y="1731"/>
                      </a:cubicBezTo>
                      <a:cubicBezTo>
                        <a:pt x="544" y="1693"/>
                        <a:pt x="529" y="1572"/>
                        <a:pt x="552" y="1504"/>
                      </a:cubicBezTo>
                      <a:cubicBezTo>
                        <a:pt x="575" y="1436"/>
                        <a:pt x="604" y="1376"/>
                        <a:pt x="642" y="1323"/>
                      </a:cubicBezTo>
                      <a:cubicBezTo>
                        <a:pt x="680" y="1270"/>
                        <a:pt x="756" y="1263"/>
                        <a:pt x="779" y="1187"/>
                      </a:cubicBezTo>
                      <a:cubicBezTo>
                        <a:pt x="802" y="1111"/>
                        <a:pt x="817" y="1028"/>
                        <a:pt x="779" y="869"/>
                      </a:cubicBezTo>
                      <a:cubicBezTo>
                        <a:pt x="741" y="710"/>
                        <a:pt x="575" y="302"/>
                        <a:pt x="552" y="234"/>
                      </a:cubicBezTo>
                      <a:cubicBezTo>
                        <a:pt x="529" y="166"/>
                        <a:pt x="650" y="468"/>
                        <a:pt x="642" y="461"/>
                      </a:cubicBezTo>
                      <a:cubicBezTo>
                        <a:pt x="634" y="454"/>
                        <a:pt x="536" y="265"/>
                        <a:pt x="506" y="189"/>
                      </a:cubicBezTo>
                      <a:cubicBezTo>
                        <a:pt x="476" y="113"/>
                        <a:pt x="446" y="0"/>
                        <a:pt x="416" y="7"/>
                      </a:cubicBezTo>
                      <a:close/>
                    </a:path>
                  </a:pathLst>
                </a:custGeom>
                <a:solidFill>
                  <a:srgbClr val="008080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rot="9780000">
                  <a:off x="6064200" y="5025960"/>
                  <a:ext cx="329400" cy="718920"/>
                </a:xfrm>
                <a:custGeom>
                  <a:avLst/>
                  <a:gdLst/>
                  <a:ahLst/>
                  <a:rect l="l" t="t" r="r" b="b"/>
                  <a:pathLst>
                    <a:path w="817" h="1784">
                      <a:moveTo>
                        <a:pt x="416" y="7"/>
                      </a:moveTo>
                      <a:cubicBezTo>
                        <a:pt x="386" y="14"/>
                        <a:pt x="363" y="159"/>
                        <a:pt x="325" y="234"/>
                      </a:cubicBezTo>
                      <a:cubicBezTo>
                        <a:pt x="287" y="309"/>
                        <a:pt x="227" y="393"/>
                        <a:pt x="189" y="461"/>
                      </a:cubicBezTo>
                      <a:cubicBezTo>
                        <a:pt x="151" y="529"/>
                        <a:pt x="128" y="559"/>
                        <a:pt x="98" y="642"/>
                      </a:cubicBezTo>
                      <a:cubicBezTo>
                        <a:pt x="68" y="725"/>
                        <a:pt x="14" y="869"/>
                        <a:pt x="7" y="960"/>
                      </a:cubicBezTo>
                      <a:cubicBezTo>
                        <a:pt x="0" y="1051"/>
                        <a:pt x="15" y="1112"/>
                        <a:pt x="53" y="1187"/>
                      </a:cubicBezTo>
                      <a:cubicBezTo>
                        <a:pt x="91" y="1262"/>
                        <a:pt x="189" y="1323"/>
                        <a:pt x="234" y="1414"/>
                      </a:cubicBezTo>
                      <a:cubicBezTo>
                        <a:pt x="279" y="1505"/>
                        <a:pt x="280" y="1678"/>
                        <a:pt x="325" y="1731"/>
                      </a:cubicBezTo>
                      <a:cubicBezTo>
                        <a:pt x="370" y="1784"/>
                        <a:pt x="468" y="1769"/>
                        <a:pt x="506" y="1731"/>
                      </a:cubicBezTo>
                      <a:cubicBezTo>
                        <a:pt x="544" y="1693"/>
                        <a:pt x="529" y="1572"/>
                        <a:pt x="552" y="1504"/>
                      </a:cubicBezTo>
                      <a:cubicBezTo>
                        <a:pt x="575" y="1436"/>
                        <a:pt x="604" y="1376"/>
                        <a:pt x="642" y="1323"/>
                      </a:cubicBezTo>
                      <a:cubicBezTo>
                        <a:pt x="680" y="1270"/>
                        <a:pt x="756" y="1263"/>
                        <a:pt x="779" y="1187"/>
                      </a:cubicBezTo>
                      <a:cubicBezTo>
                        <a:pt x="802" y="1111"/>
                        <a:pt x="817" y="1028"/>
                        <a:pt x="779" y="869"/>
                      </a:cubicBezTo>
                      <a:cubicBezTo>
                        <a:pt x="741" y="710"/>
                        <a:pt x="575" y="302"/>
                        <a:pt x="552" y="234"/>
                      </a:cubicBezTo>
                      <a:cubicBezTo>
                        <a:pt x="529" y="166"/>
                        <a:pt x="650" y="468"/>
                        <a:pt x="642" y="461"/>
                      </a:cubicBezTo>
                      <a:cubicBezTo>
                        <a:pt x="634" y="454"/>
                        <a:pt x="536" y="265"/>
                        <a:pt x="506" y="189"/>
                      </a:cubicBezTo>
                      <a:cubicBezTo>
                        <a:pt x="476" y="113"/>
                        <a:pt x="446" y="0"/>
                        <a:pt x="416" y="7"/>
                      </a:cubicBezTo>
                      <a:close/>
                    </a:path>
                  </a:pathLst>
                </a:custGeom>
                <a:solidFill>
                  <a:srgbClr val="008080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936400" y="4222080"/>
                  <a:ext cx="329400" cy="718920"/>
                </a:xfrm>
                <a:custGeom>
                  <a:avLst/>
                  <a:gdLst/>
                  <a:ahLst/>
                  <a:rect l="l" t="t" r="r" b="b"/>
                  <a:pathLst>
                    <a:path w="817" h="1784">
                      <a:moveTo>
                        <a:pt x="416" y="7"/>
                      </a:moveTo>
                      <a:cubicBezTo>
                        <a:pt x="386" y="14"/>
                        <a:pt x="363" y="159"/>
                        <a:pt x="325" y="234"/>
                      </a:cubicBezTo>
                      <a:cubicBezTo>
                        <a:pt x="287" y="309"/>
                        <a:pt x="227" y="393"/>
                        <a:pt x="189" y="461"/>
                      </a:cubicBezTo>
                      <a:cubicBezTo>
                        <a:pt x="151" y="529"/>
                        <a:pt x="128" y="559"/>
                        <a:pt x="98" y="642"/>
                      </a:cubicBezTo>
                      <a:cubicBezTo>
                        <a:pt x="68" y="725"/>
                        <a:pt x="14" y="869"/>
                        <a:pt x="7" y="960"/>
                      </a:cubicBezTo>
                      <a:cubicBezTo>
                        <a:pt x="0" y="1051"/>
                        <a:pt x="15" y="1112"/>
                        <a:pt x="53" y="1187"/>
                      </a:cubicBezTo>
                      <a:cubicBezTo>
                        <a:pt x="91" y="1262"/>
                        <a:pt x="189" y="1323"/>
                        <a:pt x="234" y="1414"/>
                      </a:cubicBezTo>
                      <a:cubicBezTo>
                        <a:pt x="279" y="1505"/>
                        <a:pt x="280" y="1678"/>
                        <a:pt x="325" y="1731"/>
                      </a:cubicBezTo>
                      <a:cubicBezTo>
                        <a:pt x="370" y="1784"/>
                        <a:pt x="468" y="1769"/>
                        <a:pt x="506" y="1731"/>
                      </a:cubicBezTo>
                      <a:cubicBezTo>
                        <a:pt x="544" y="1693"/>
                        <a:pt x="529" y="1572"/>
                        <a:pt x="552" y="1504"/>
                      </a:cubicBezTo>
                      <a:cubicBezTo>
                        <a:pt x="575" y="1436"/>
                        <a:pt x="604" y="1376"/>
                        <a:pt x="642" y="1323"/>
                      </a:cubicBezTo>
                      <a:cubicBezTo>
                        <a:pt x="680" y="1270"/>
                        <a:pt x="756" y="1263"/>
                        <a:pt x="779" y="1187"/>
                      </a:cubicBezTo>
                      <a:cubicBezTo>
                        <a:pt x="802" y="1111"/>
                        <a:pt x="817" y="1028"/>
                        <a:pt x="779" y="869"/>
                      </a:cubicBezTo>
                      <a:cubicBezTo>
                        <a:pt x="741" y="710"/>
                        <a:pt x="575" y="302"/>
                        <a:pt x="552" y="234"/>
                      </a:cubicBezTo>
                      <a:cubicBezTo>
                        <a:pt x="529" y="166"/>
                        <a:pt x="650" y="468"/>
                        <a:pt x="642" y="461"/>
                      </a:cubicBezTo>
                      <a:cubicBezTo>
                        <a:pt x="634" y="454"/>
                        <a:pt x="536" y="265"/>
                        <a:pt x="506" y="189"/>
                      </a:cubicBezTo>
                      <a:cubicBezTo>
                        <a:pt x="476" y="113"/>
                        <a:pt x="446" y="0"/>
                        <a:pt x="416" y="7"/>
                      </a:cubicBezTo>
                      <a:close/>
                    </a:path>
                  </a:pathLst>
                </a:custGeom>
                <a:solidFill>
                  <a:srgbClr val="008080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 rot="19680000">
                  <a:off x="5753520" y="4270680"/>
                  <a:ext cx="326160" cy="718920"/>
                </a:xfrm>
                <a:custGeom>
                  <a:avLst/>
                  <a:gdLst/>
                  <a:ahLst/>
                  <a:rect l="l" t="t" r="r" b="b"/>
                  <a:pathLst>
                    <a:path w="817" h="1784">
                      <a:moveTo>
                        <a:pt x="416" y="7"/>
                      </a:moveTo>
                      <a:cubicBezTo>
                        <a:pt x="386" y="14"/>
                        <a:pt x="363" y="159"/>
                        <a:pt x="325" y="234"/>
                      </a:cubicBezTo>
                      <a:cubicBezTo>
                        <a:pt x="287" y="309"/>
                        <a:pt x="227" y="393"/>
                        <a:pt x="189" y="461"/>
                      </a:cubicBezTo>
                      <a:cubicBezTo>
                        <a:pt x="151" y="529"/>
                        <a:pt x="128" y="559"/>
                        <a:pt x="98" y="642"/>
                      </a:cubicBezTo>
                      <a:cubicBezTo>
                        <a:pt x="68" y="725"/>
                        <a:pt x="14" y="869"/>
                        <a:pt x="7" y="960"/>
                      </a:cubicBezTo>
                      <a:cubicBezTo>
                        <a:pt x="0" y="1051"/>
                        <a:pt x="15" y="1112"/>
                        <a:pt x="53" y="1187"/>
                      </a:cubicBezTo>
                      <a:cubicBezTo>
                        <a:pt x="91" y="1262"/>
                        <a:pt x="189" y="1323"/>
                        <a:pt x="234" y="1414"/>
                      </a:cubicBezTo>
                      <a:cubicBezTo>
                        <a:pt x="279" y="1505"/>
                        <a:pt x="280" y="1678"/>
                        <a:pt x="325" y="1731"/>
                      </a:cubicBezTo>
                      <a:cubicBezTo>
                        <a:pt x="370" y="1784"/>
                        <a:pt x="468" y="1769"/>
                        <a:pt x="506" y="1731"/>
                      </a:cubicBezTo>
                      <a:cubicBezTo>
                        <a:pt x="544" y="1693"/>
                        <a:pt x="529" y="1572"/>
                        <a:pt x="552" y="1504"/>
                      </a:cubicBezTo>
                      <a:cubicBezTo>
                        <a:pt x="575" y="1436"/>
                        <a:pt x="604" y="1376"/>
                        <a:pt x="642" y="1323"/>
                      </a:cubicBezTo>
                      <a:cubicBezTo>
                        <a:pt x="680" y="1270"/>
                        <a:pt x="756" y="1263"/>
                        <a:pt x="779" y="1187"/>
                      </a:cubicBezTo>
                      <a:cubicBezTo>
                        <a:pt x="802" y="1111"/>
                        <a:pt x="817" y="1028"/>
                        <a:pt x="779" y="869"/>
                      </a:cubicBezTo>
                      <a:cubicBezTo>
                        <a:pt x="741" y="710"/>
                        <a:pt x="575" y="302"/>
                        <a:pt x="552" y="234"/>
                      </a:cubicBezTo>
                      <a:cubicBezTo>
                        <a:pt x="529" y="166"/>
                        <a:pt x="650" y="468"/>
                        <a:pt x="642" y="461"/>
                      </a:cubicBezTo>
                      <a:cubicBezTo>
                        <a:pt x="634" y="454"/>
                        <a:pt x="536" y="265"/>
                        <a:pt x="506" y="189"/>
                      </a:cubicBezTo>
                      <a:cubicBezTo>
                        <a:pt x="476" y="113"/>
                        <a:pt x="446" y="0"/>
                        <a:pt x="416" y="7"/>
                      </a:cubicBezTo>
                      <a:close/>
                    </a:path>
                  </a:pathLst>
                </a:custGeom>
                <a:solidFill>
                  <a:srgbClr val="008080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7700000">
                  <a:off x="5597640" y="4431600"/>
                  <a:ext cx="329040" cy="713520"/>
                </a:xfrm>
                <a:custGeom>
                  <a:avLst/>
                  <a:gdLst/>
                  <a:ahLst/>
                  <a:rect l="l" t="t" r="r" b="b"/>
                  <a:pathLst>
                    <a:path w="817" h="1784">
                      <a:moveTo>
                        <a:pt x="416" y="7"/>
                      </a:moveTo>
                      <a:cubicBezTo>
                        <a:pt x="386" y="14"/>
                        <a:pt x="363" y="159"/>
                        <a:pt x="325" y="234"/>
                      </a:cubicBezTo>
                      <a:cubicBezTo>
                        <a:pt x="287" y="309"/>
                        <a:pt x="227" y="393"/>
                        <a:pt x="189" y="461"/>
                      </a:cubicBezTo>
                      <a:cubicBezTo>
                        <a:pt x="151" y="529"/>
                        <a:pt x="128" y="559"/>
                        <a:pt x="98" y="642"/>
                      </a:cubicBezTo>
                      <a:cubicBezTo>
                        <a:pt x="68" y="725"/>
                        <a:pt x="14" y="869"/>
                        <a:pt x="7" y="960"/>
                      </a:cubicBezTo>
                      <a:cubicBezTo>
                        <a:pt x="0" y="1051"/>
                        <a:pt x="15" y="1112"/>
                        <a:pt x="53" y="1187"/>
                      </a:cubicBezTo>
                      <a:cubicBezTo>
                        <a:pt x="91" y="1262"/>
                        <a:pt x="189" y="1323"/>
                        <a:pt x="234" y="1414"/>
                      </a:cubicBezTo>
                      <a:cubicBezTo>
                        <a:pt x="279" y="1505"/>
                        <a:pt x="280" y="1678"/>
                        <a:pt x="325" y="1731"/>
                      </a:cubicBezTo>
                      <a:cubicBezTo>
                        <a:pt x="370" y="1784"/>
                        <a:pt x="468" y="1769"/>
                        <a:pt x="506" y="1731"/>
                      </a:cubicBezTo>
                      <a:cubicBezTo>
                        <a:pt x="544" y="1693"/>
                        <a:pt x="529" y="1572"/>
                        <a:pt x="552" y="1504"/>
                      </a:cubicBezTo>
                      <a:cubicBezTo>
                        <a:pt x="575" y="1436"/>
                        <a:pt x="604" y="1376"/>
                        <a:pt x="642" y="1323"/>
                      </a:cubicBezTo>
                      <a:cubicBezTo>
                        <a:pt x="680" y="1270"/>
                        <a:pt x="756" y="1263"/>
                        <a:pt x="779" y="1187"/>
                      </a:cubicBezTo>
                      <a:cubicBezTo>
                        <a:pt x="802" y="1111"/>
                        <a:pt x="817" y="1028"/>
                        <a:pt x="779" y="869"/>
                      </a:cubicBezTo>
                      <a:cubicBezTo>
                        <a:pt x="741" y="710"/>
                        <a:pt x="575" y="302"/>
                        <a:pt x="552" y="234"/>
                      </a:cubicBezTo>
                      <a:cubicBezTo>
                        <a:pt x="529" y="166"/>
                        <a:pt x="650" y="468"/>
                        <a:pt x="642" y="461"/>
                      </a:cubicBezTo>
                      <a:cubicBezTo>
                        <a:pt x="634" y="454"/>
                        <a:pt x="536" y="265"/>
                        <a:pt x="506" y="189"/>
                      </a:cubicBezTo>
                      <a:cubicBezTo>
                        <a:pt x="476" y="113"/>
                        <a:pt x="446" y="0"/>
                        <a:pt x="416" y="7"/>
                      </a:cubicBezTo>
                      <a:close/>
                    </a:path>
                  </a:pathLst>
                </a:custGeom>
                <a:solidFill>
                  <a:srgbClr val="008080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5720000">
                  <a:off x="5543280" y="4669200"/>
                  <a:ext cx="329040" cy="713520"/>
                </a:xfrm>
                <a:custGeom>
                  <a:avLst/>
                  <a:gdLst/>
                  <a:ahLst/>
                  <a:rect l="l" t="t" r="r" b="b"/>
                  <a:pathLst>
                    <a:path w="817" h="1784">
                      <a:moveTo>
                        <a:pt x="416" y="7"/>
                      </a:moveTo>
                      <a:cubicBezTo>
                        <a:pt x="386" y="14"/>
                        <a:pt x="363" y="159"/>
                        <a:pt x="325" y="234"/>
                      </a:cubicBezTo>
                      <a:cubicBezTo>
                        <a:pt x="287" y="309"/>
                        <a:pt x="227" y="393"/>
                        <a:pt x="189" y="461"/>
                      </a:cubicBezTo>
                      <a:cubicBezTo>
                        <a:pt x="151" y="529"/>
                        <a:pt x="128" y="559"/>
                        <a:pt x="98" y="642"/>
                      </a:cubicBezTo>
                      <a:cubicBezTo>
                        <a:pt x="68" y="725"/>
                        <a:pt x="14" y="869"/>
                        <a:pt x="7" y="960"/>
                      </a:cubicBezTo>
                      <a:cubicBezTo>
                        <a:pt x="0" y="1051"/>
                        <a:pt x="15" y="1112"/>
                        <a:pt x="53" y="1187"/>
                      </a:cubicBezTo>
                      <a:cubicBezTo>
                        <a:pt x="91" y="1262"/>
                        <a:pt x="189" y="1323"/>
                        <a:pt x="234" y="1414"/>
                      </a:cubicBezTo>
                      <a:cubicBezTo>
                        <a:pt x="279" y="1505"/>
                        <a:pt x="280" y="1678"/>
                        <a:pt x="325" y="1731"/>
                      </a:cubicBezTo>
                      <a:cubicBezTo>
                        <a:pt x="370" y="1784"/>
                        <a:pt x="468" y="1769"/>
                        <a:pt x="506" y="1731"/>
                      </a:cubicBezTo>
                      <a:cubicBezTo>
                        <a:pt x="544" y="1693"/>
                        <a:pt x="529" y="1572"/>
                        <a:pt x="552" y="1504"/>
                      </a:cubicBezTo>
                      <a:cubicBezTo>
                        <a:pt x="575" y="1436"/>
                        <a:pt x="604" y="1376"/>
                        <a:pt x="642" y="1323"/>
                      </a:cubicBezTo>
                      <a:cubicBezTo>
                        <a:pt x="680" y="1270"/>
                        <a:pt x="756" y="1263"/>
                        <a:pt x="779" y="1187"/>
                      </a:cubicBezTo>
                      <a:cubicBezTo>
                        <a:pt x="802" y="1111"/>
                        <a:pt x="817" y="1028"/>
                        <a:pt x="779" y="869"/>
                      </a:cubicBezTo>
                      <a:cubicBezTo>
                        <a:pt x="741" y="710"/>
                        <a:pt x="575" y="302"/>
                        <a:pt x="552" y="234"/>
                      </a:cubicBezTo>
                      <a:cubicBezTo>
                        <a:pt x="529" y="166"/>
                        <a:pt x="650" y="468"/>
                        <a:pt x="642" y="461"/>
                      </a:cubicBezTo>
                      <a:cubicBezTo>
                        <a:pt x="634" y="454"/>
                        <a:pt x="536" y="265"/>
                        <a:pt x="506" y="189"/>
                      </a:cubicBezTo>
                      <a:cubicBezTo>
                        <a:pt x="476" y="113"/>
                        <a:pt x="446" y="0"/>
                        <a:pt x="416" y="7"/>
                      </a:cubicBezTo>
                      <a:close/>
                    </a:path>
                  </a:pathLst>
                </a:custGeom>
                <a:solidFill>
                  <a:srgbClr val="008080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 rot="13800000">
                  <a:off x="5616000" y="4870440"/>
                  <a:ext cx="329040" cy="713520"/>
                </a:xfrm>
                <a:custGeom>
                  <a:avLst/>
                  <a:gdLst/>
                  <a:ahLst/>
                  <a:rect l="l" t="t" r="r" b="b"/>
                  <a:pathLst>
                    <a:path w="817" h="1784">
                      <a:moveTo>
                        <a:pt x="416" y="7"/>
                      </a:moveTo>
                      <a:cubicBezTo>
                        <a:pt x="386" y="14"/>
                        <a:pt x="363" y="159"/>
                        <a:pt x="325" y="234"/>
                      </a:cubicBezTo>
                      <a:cubicBezTo>
                        <a:pt x="287" y="309"/>
                        <a:pt x="227" y="393"/>
                        <a:pt x="189" y="461"/>
                      </a:cubicBezTo>
                      <a:cubicBezTo>
                        <a:pt x="151" y="529"/>
                        <a:pt x="128" y="559"/>
                        <a:pt x="98" y="642"/>
                      </a:cubicBezTo>
                      <a:cubicBezTo>
                        <a:pt x="68" y="725"/>
                        <a:pt x="14" y="869"/>
                        <a:pt x="7" y="960"/>
                      </a:cubicBezTo>
                      <a:cubicBezTo>
                        <a:pt x="0" y="1051"/>
                        <a:pt x="15" y="1112"/>
                        <a:pt x="53" y="1187"/>
                      </a:cubicBezTo>
                      <a:cubicBezTo>
                        <a:pt x="91" y="1262"/>
                        <a:pt x="189" y="1323"/>
                        <a:pt x="234" y="1414"/>
                      </a:cubicBezTo>
                      <a:cubicBezTo>
                        <a:pt x="279" y="1505"/>
                        <a:pt x="280" y="1678"/>
                        <a:pt x="325" y="1731"/>
                      </a:cubicBezTo>
                      <a:cubicBezTo>
                        <a:pt x="370" y="1784"/>
                        <a:pt x="468" y="1769"/>
                        <a:pt x="506" y="1731"/>
                      </a:cubicBezTo>
                      <a:cubicBezTo>
                        <a:pt x="544" y="1693"/>
                        <a:pt x="529" y="1572"/>
                        <a:pt x="552" y="1504"/>
                      </a:cubicBezTo>
                      <a:cubicBezTo>
                        <a:pt x="575" y="1436"/>
                        <a:pt x="604" y="1376"/>
                        <a:pt x="642" y="1323"/>
                      </a:cubicBezTo>
                      <a:cubicBezTo>
                        <a:pt x="680" y="1270"/>
                        <a:pt x="756" y="1263"/>
                        <a:pt x="779" y="1187"/>
                      </a:cubicBezTo>
                      <a:cubicBezTo>
                        <a:pt x="802" y="1111"/>
                        <a:pt x="817" y="1028"/>
                        <a:pt x="779" y="869"/>
                      </a:cubicBezTo>
                      <a:cubicBezTo>
                        <a:pt x="741" y="710"/>
                        <a:pt x="575" y="302"/>
                        <a:pt x="552" y="234"/>
                      </a:cubicBezTo>
                      <a:cubicBezTo>
                        <a:pt x="529" y="166"/>
                        <a:pt x="650" y="468"/>
                        <a:pt x="642" y="461"/>
                      </a:cubicBezTo>
                      <a:cubicBezTo>
                        <a:pt x="634" y="454"/>
                        <a:pt x="536" y="265"/>
                        <a:pt x="506" y="189"/>
                      </a:cubicBezTo>
                      <a:cubicBezTo>
                        <a:pt x="476" y="113"/>
                        <a:pt x="446" y="0"/>
                        <a:pt x="416" y="7"/>
                      </a:cubicBezTo>
                      <a:close/>
                    </a:path>
                  </a:pathLst>
                </a:custGeom>
                <a:solidFill>
                  <a:srgbClr val="008080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 rot="11820000">
                  <a:off x="5809680" y="5025960"/>
                  <a:ext cx="326520" cy="718920"/>
                </a:xfrm>
                <a:custGeom>
                  <a:avLst/>
                  <a:gdLst/>
                  <a:ahLst/>
                  <a:rect l="l" t="t" r="r" b="b"/>
                  <a:pathLst>
                    <a:path w="817" h="1784">
                      <a:moveTo>
                        <a:pt x="416" y="7"/>
                      </a:moveTo>
                      <a:cubicBezTo>
                        <a:pt x="386" y="14"/>
                        <a:pt x="363" y="159"/>
                        <a:pt x="325" y="234"/>
                      </a:cubicBezTo>
                      <a:cubicBezTo>
                        <a:pt x="287" y="309"/>
                        <a:pt x="227" y="393"/>
                        <a:pt x="189" y="461"/>
                      </a:cubicBezTo>
                      <a:cubicBezTo>
                        <a:pt x="151" y="529"/>
                        <a:pt x="128" y="559"/>
                        <a:pt x="98" y="642"/>
                      </a:cubicBezTo>
                      <a:cubicBezTo>
                        <a:pt x="68" y="725"/>
                        <a:pt x="14" y="869"/>
                        <a:pt x="7" y="960"/>
                      </a:cubicBezTo>
                      <a:cubicBezTo>
                        <a:pt x="0" y="1051"/>
                        <a:pt x="15" y="1112"/>
                        <a:pt x="53" y="1187"/>
                      </a:cubicBezTo>
                      <a:cubicBezTo>
                        <a:pt x="91" y="1262"/>
                        <a:pt x="189" y="1323"/>
                        <a:pt x="234" y="1414"/>
                      </a:cubicBezTo>
                      <a:cubicBezTo>
                        <a:pt x="279" y="1505"/>
                        <a:pt x="280" y="1678"/>
                        <a:pt x="325" y="1731"/>
                      </a:cubicBezTo>
                      <a:cubicBezTo>
                        <a:pt x="370" y="1784"/>
                        <a:pt x="468" y="1769"/>
                        <a:pt x="506" y="1731"/>
                      </a:cubicBezTo>
                      <a:cubicBezTo>
                        <a:pt x="544" y="1693"/>
                        <a:pt x="529" y="1572"/>
                        <a:pt x="552" y="1504"/>
                      </a:cubicBezTo>
                      <a:cubicBezTo>
                        <a:pt x="575" y="1436"/>
                        <a:pt x="604" y="1376"/>
                        <a:pt x="642" y="1323"/>
                      </a:cubicBezTo>
                      <a:cubicBezTo>
                        <a:pt x="680" y="1270"/>
                        <a:pt x="756" y="1263"/>
                        <a:pt x="779" y="1187"/>
                      </a:cubicBezTo>
                      <a:cubicBezTo>
                        <a:pt x="802" y="1111"/>
                        <a:pt x="817" y="1028"/>
                        <a:pt x="779" y="869"/>
                      </a:cubicBezTo>
                      <a:cubicBezTo>
                        <a:pt x="741" y="710"/>
                        <a:pt x="575" y="302"/>
                        <a:pt x="552" y="234"/>
                      </a:cubicBezTo>
                      <a:cubicBezTo>
                        <a:pt x="529" y="166"/>
                        <a:pt x="650" y="468"/>
                        <a:pt x="642" y="461"/>
                      </a:cubicBezTo>
                      <a:cubicBezTo>
                        <a:pt x="634" y="454"/>
                        <a:pt x="536" y="265"/>
                        <a:pt x="506" y="189"/>
                      </a:cubicBezTo>
                      <a:cubicBezTo>
                        <a:pt x="476" y="113"/>
                        <a:pt x="446" y="0"/>
                        <a:pt x="416" y="7"/>
                      </a:cubicBezTo>
                      <a:close/>
                    </a:path>
                  </a:pathLst>
                </a:custGeom>
                <a:solidFill>
                  <a:srgbClr val="008080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5529240" y="4429080"/>
                <a:ext cx="1154880" cy="1112760"/>
                <a:chOff x="5529240" y="4429080"/>
                <a:chExt cx="1154880" cy="11127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6015240" y="4429080"/>
                  <a:ext cx="182880" cy="511560"/>
                </a:xfrm>
                <a:custGeom>
                  <a:avLst/>
                  <a:gdLst/>
                  <a:ahLst/>
                  <a:rect l="l" t="t" r="r" b="b"/>
                  <a:pathLst>
                    <a:path w="454" h="1270">
                      <a:moveTo>
                        <a:pt x="318" y="1270"/>
                      </a:moveTo>
                      <a:lnTo>
                        <a:pt x="227" y="1270"/>
                      </a:lnTo>
                      <a:lnTo>
                        <a:pt x="182" y="1043"/>
                      </a:lnTo>
                      <a:lnTo>
                        <a:pt x="46" y="635"/>
                      </a:lnTo>
                      <a:lnTo>
                        <a:pt x="0" y="91"/>
                      </a:lnTo>
                      <a:lnTo>
                        <a:pt x="136" y="317"/>
                      </a:lnTo>
                      <a:lnTo>
                        <a:pt x="136" y="45"/>
                      </a:lnTo>
                      <a:lnTo>
                        <a:pt x="182" y="317"/>
                      </a:lnTo>
                      <a:lnTo>
                        <a:pt x="227" y="0"/>
                      </a:lnTo>
                      <a:lnTo>
                        <a:pt x="318" y="317"/>
                      </a:lnTo>
                      <a:lnTo>
                        <a:pt x="318" y="91"/>
                      </a:lnTo>
                      <a:lnTo>
                        <a:pt x="409" y="363"/>
                      </a:lnTo>
                      <a:lnTo>
                        <a:pt x="454" y="45"/>
                      </a:lnTo>
                      <a:lnTo>
                        <a:pt x="454" y="499"/>
                      </a:lnTo>
                      <a:lnTo>
                        <a:pt x="454" y="771"/>
                      </a:lnTo>
                      <a:lnTo>
                        <a:pt x="363" y="1134"/>
                      </a:lnTo>
                      <a:lnTo>
                        <a:pt x="318" y="127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00"/>
                    </a:gs>
                    <a:gs pos="100000">
                      <a:srgbClr val="e9f7ff"/>
                    </a:gs>
                  </a:gsLst>
                  <a:lin ang="10800000"/>
                </a:gradFill>
                <a:ln w="93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rot="1920000">
                  <a:off x="6179760" y="4446720"/>
                  <a:ext cx="182880" cy="511920"/>
                </a:xfrm>
                <a:custGeom>
                  <a:avLst/>
                  <a:gdLst/>
                  <a:ahLst/>
                  <a:rect l="l" t="t" r="r" b="b"/>
                  <a:pathLst>
                    <a:path w="454" h="1270">
                      <a:moveTo>
                        <a:pt x="318" y="1270"/>
                      </a:moveTo>
                      <a:lnTo>
                        <a:pt x="227" y="1270"/>
                      </a:lnTo>
                      <a:lnTo>
                        <a:pt x="182" y="1043"/>
                      </a:lnTo>
                      <a:lnTo>
                        <a:pt x="46" y="635"/>
                      </a:lnTo>
                      <a:lnTo>
                        <a:pt x="0" y="91"/>
                      </a:lnTo>
                      <a:lnTo>
                        <a:pt x="136" y="317"/>
                      </a:lnTo>
                      <a:lnTo>
                        <a:pt x="136" y="45"/>
                      </a:lnTo>
                      <a:lnTo>
                        <a:pt x="182" y="317"/>
                      </a:lnTo>
                      <a:lnTo>
                        <a:pt x="227" y="0"/>
                      </a:lnTo>
                      <a:lnTo>
                        <a:pt x="318" y="317"/>
                      </a:lnTo>
                      <a:lnTo>
                        <a:pt x="318" y="91"/>
                      </a:lnTo>
                      <a:lnTo>
                        <a:pt x="409" y="363"/>
                      </a:lnTo>
                      <a:lnTo>
                        <a:pt x="454" y="45"/>
                      </a:lnTo>
                      <a:lnTo>
                        <a:pt x="454" y="499"/>
                      </a:lnTo>
                      <a:lnTo>
                        <a:pt x="454" y="771"/>
                      </a:lnTo>
                      <a:lnTo>
                        <a:pt x="363" y="1134"/>
                      </a:lnTo>
                      <a:lnTo>
                        <a:pt x="318" y="127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00"/>
                    </a:gs>
                    <a:gs pos="100000">
                      <a:srgbClr val="e9f7ff"/>
                    </a:gs>
                  </a:gsLst>
                  <a:lin ang="10800000"/>
                </a:gradFill>
                <a:ln w="93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rot="3900000">
                  <a:off x="6289560" y="4574880"/>
                  <a:ext cx="182880" cy="511920"/>
                </a:xfrm>
                <a:custGeom>
                  <a:avLst/>
                  <a:gdLst/>
                  <a:ahLst/>
                  <a:rect l="l" t="t" r="r" b="b"/>
                  <a:pathLst>
                    <a:path w="454" h="1270">
                      <a:moveTo>
                        <a:pt x="318" y="1270"/>
                      </a:moveTo>
                      <a:lnTo>
                        <a:pt x="227" y="1270"/>
                      </a:lnTo>
                      <a:lnTo>
                        <a:pt x="182" y="1043"/>
                      </a:lnTo>
                      <a:lnTo>
                        <a:pt x="46" y="635"/>
                      </a:lnTo>
                      <a:lnTo>
                        <a:pt x="0" y="91"/>
                      </a:lnTo>
                      <a:lnTo>
                        <a:pt x="136" y="317"/>
                      </a:lnTo>
                      <a:lnTo>
                        <a:pt x="136" y="45"/>
                      </a:lnTo>
                      <a:lnTo>
                        <a:pt x="182" y="317"/>
                      </a:lnTo>
                      <a:lnTo>
                        <a:pt x="227" y="0"/>
                      </a:lnTo>
                      <a:lnTo>
                        <a:pt x="318" y="317"/>
                      </a:lnTo>
                      <a:lnTo>
                        <a:pt x="318" y="91"/>
                      </a:lnTo>
                      <a:lnTo>
                        <a:pt x="409" y="363"/>
                      </a:lnTo>
                      <a:lnTo>
                        <a:pt x="454" y="45"/>
                      </a:lnTo>
                      <a:lnTo>
                        <a:pt x="454" y="499"/>
                      </a:lnTo>
                      <a:lnTo>
                        <a:pt x="454" y="771"/>
                      </a:lnTo>
                      <a:lnTo>
                        <a:pt x="363" y="1134"/>
                      </a:lnTo>
                      <a:lnTo>
                        <a:pt x="318" y="127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00"/>
                    </a:gs>
                    <a:gs pos="100000">
                      <a:srgbClr val="e9f7ff"/>
                    </a:gs>
                  </a:gsLst>
                  <a:lin ang="10800000"/>
                </a:gradFill>
                <a:ln w="93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rot="5880000">
                  <a:off x="6326280" y="4757400"/>
                  <a:ext cx="182880" cy="511920"/>
                </a:xfrm>
                <a:custGeom>
                  <a:avLst/>
                  <a:gdLst/>
                  <a:ahLst/>
                  <a:rect l="l" t="t" r="r" b="b"/>
                  <a:pathLst>
                    <a:path w="454" h="1270">
                      <a:moveTo>
                        <a:pt x="318" y="1270"/>
                      </a:moveTo>
                      <a:lnTo>
                        <a:pt x="227" y="1270"/>
                      </a:lnTo>
                      <a:lnTo>
                        <a:pt x="182" y="1043"/>
                      </a:lnTo>
                      <a:lnTo>
                        <a:pt x="46" y="635"/>
                      </a:lnTo>
                      <a:lnTo>
                        <a:pt x="0" y="91"/>
                      </a:lnTo>
                      <a:lnTo>
                        <a:pt x="136" y="317"/>
                      </a:lnTo>
                      <a:lnTo>
                        <a:pt x="136" y="45"/>
                      </a:lnTo>
                      <a:lnTo>
                        <a:pt x="182" y="317"/>
                      </a:lnTo>
                      <a:lnTo>
                        <a:pt x="227" y="0"/>
                      </a:lnTo>
                      <a:lnTo>
                        <a:pt x="318" y="317"/>
                      </a:lnTo>
                      <a:lnTo>
                        <a:pt x="318" y="91"/>
                      </a:lnTo>
                      <a:lnTo>
                        <a:pt x="409" y="363"/>
                      </a:lnTo>
                      <a:lnTo>
                        <a:pt x="454" y="45"/>
                      </a:lnTo>
                      <a:lnTo>
                        <a:pt x="454" y="499"/>
                      </a:lnTo>
                      <a:lnTo>
                        <a:pt x="454" y="771"/>
                      </a:lnTo>
                      <a:lnTo>
                        <a:pt x="363" y="1134"/>
                      </a:lnTo>
                      <a:lnTo>
                        <a:pt x="318" y="127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00"/>
                    </a:gs>
                    <a:gs pos="100000">
                      <a:srgbClr val="e9f7ff"/>
                    </a:gs>
                  </a:gsLst>
                  <a:lin ang="10800000"/>
                </a:gradFill>
                <a:ln w="93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rot="7800000">
                  <a:off x="6271560" y="4903560"/>
                  <a:ext cx="182880" cy="511920"/>
                </a:xfrm>
                <a:custGeom>
                  <a:avLst/>
                  <a:gdLst/>
                  <a:ahLst/>
                  <a:rect l="l" t="t" r="r" b="b"/>
                  <a:pathLst>
                    <a:path w="454" h="1270">
                      <a:moveTo>
                        <a:pt x="318" y="1270"/>
                      </a:moveTo>
                      <a:lnTo>
                        <a:pt x="227" y="1270"/>
                      </a:lnTo>
                      <a:lnTo>
                        <a:pt x="182" y="1043"/>
                      </a:lnTo>
                      <a:lnTo>
                        <a:pt x="46" y="635"/>
                      </a:lnTo>
                      <a:lnTo>
                        <a:pt x="0" y="91"/>
                      </a:lnTo>
                      <a:lnTo>
                        <a:pt x="136" y="317"/>
                      </a:lnTo>
                      <a:lnTo>
                        <a:pt x="136" y="45"/>
                      </a:lnTo>
                      <a:lnTo>
                        <a:pt x="182" y="317"/>
                      </a:lnTo>
                      <a:lnTo>
                        <a:pt x="227" y="0"/>
                      </a:lnTo>
                      <a:lnTo>
                        <a:pt x="318" y="317"/>
                      </a:lnTo>
                      <a:lnTo>
                        <a:pt x="318" y="91"/>
                      </a:lnTo>
                      <a:lnTo>
                        <a:pt x="409" y="363"/>
                      </a:lnTo>
                      <a:lnTo>
                        <a:pt x="454" y="45"/>
                      </a:lnTo>
                      <a:lnTo>
                        <a:pt x="454" y="499"/>
                      </a:lnTo>
                      <a:lnTo>
                        <a:pt x="454" y="771"/>
                      </a:lnTo>
                      <a:lnTo>
                        <a:pt x="363" y="1134"/>
                      </a:lnTo>
                      <a:lnTo>
                        <a:pt x="318" y="127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00"/>
                    </a:gs>
                    <a:gs pos="100000">
                      <a:srgbClr val="e9f7ff"/>
                    </a:gs>
                  </a:gsLst>
                  <a:lin ang="10800000"/>
                </a:gradFill>
                <a:ln w="93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rot="9780000">
                  <a:off x="6143400" y="5013720"/>
                  <a:ext cx="182880" cy="511920"/>
                </a:xfrm>
                <a:custGeom>
                  <a:avLst/>
                  <a:gdLst/>
                  <a:ahLst/>
                  <a:rect l="l" t="t" r="r" b="b"/>
                  <a:pathLst>
                    <a:path w="454" h="1270">
                      <a:moveTo>
                        <a:pt x="318" y="1270"/>
                      </a:moveTo>
                      <a:lnTo>
                        <a:pt x="227" y="1270"/>
                      </a:lnTo>
                      <a:lnTo>
                        <a:pt x="182" y="1043"/>
                      </a:lnTo>
                      <a:lnTo>
                        <a:pt x="46" y="635"/>
                      </a:lnTo>
                      <a:lnTo>
                        <a:pt x="0" y="91"/>
                      </a:lnTo>
                      <a:lnTo>
                        <a:pt x="136" y="317"/>
                      </a:lnTo>
                      <a:lnTo>
                        <a:pt x="136" y="45"/>
                      </a:lnTo>
                      <a:lnTo>
                        <a:pt x="182" y="317"/>
                      </a:lnTo>
                      <a:lnTo>
                        <a:pt x="227" y="0"/>
                      </a:lnTo>
                      <a:lnTo>
                        <a:pt x="318" y="317"/>
                      </a:lnTo>
                      <a:lnTo>
                        <a:pt x="318" y="91"/>
                      </a:lnTo>
                      <a:lnTo>
                        <a:pt x="409" y="363"/>
                      </a:lnTo>
                      <a:lnTo>
                        <a:pt x="454" y="45"/>
                      </a:lnTo>
                      <a:lnTo>
                        <a:pt x="454" y="499"/>
                      </a:lnTo>
                      <a:lnTo>
                        <a:pt x="454" y="771"/>
                      </a:lnTo>
                      <a:lnTo>
                        <a:pt x="363" y="1134"/>
                      </a:lnTo>
                      <a:lnTo>
                        <a:pt x="318" y="127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00"/>
                    </a:gs>
                    <a:gs pos="100000">
                      <a:srgbClr val="e9f7ff"/>
                    </a:gs>
                  </a:gsLst>
                  <a:lin ang="10800000"/>
                </a:gradFill>
                <a:ln w="93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 rot="19680000">
                  <a:off x="5881320" y="4446720"/>
                  <a:ext cx="188640" cy="511920"/>
                </a:xfrm>
                <a:custGeom>
                  <a:avLst/>
                  <a:gdLst/>
                  <a:ahLst/>
                  <a:rect l="l" t="t" r="r" b="b"/>
                  <a:pathLst>
                    <a:path w="454" h="1270">
                      <a:moveTo>
                        <a:pt x="318" y="1270"/>
                      </a:moveTo>
                      <a:lnTo>
                        <a:pt x="227" y="1270"/>
                      </a:lnTo>
                      <a:lnTo>
                        <a:pt x="182" y="1043"/>
                      </a:lnTo>
                      <a:lnTo>
                        <a:pt x="46" y="635"/>
                      </a:lnTo>
                      <a:lnTo>
                        <a:pt x="0" y="91"/>
                      </a:lnTo>
                      <a:lnTo>
                        <a:pt x="136" y="317"/>
                      </a:lnTo>
                      <a:lnTo>
                        <a:pt x="136" y="45"/>
                      </a:lnTo>
                      <a:lnTo>
                        <a:pt x="182" y="317"/>
                      </a:lnTo>
                      <a:lnTo>
                        <a:pt x="227" y="0"/>
                      </a:lnTo>
                      <a:lnTo>
                        <a:pt x="318" y="317"/>
                      </a:lnTo>
                      <a:lnTo>
                        <a:pt x="318" y="91"/>
                      </a:lnTo>
                      <a:lnTo>
                        <a:pt x="409" y="363"/>
                      </a:lnTo>
                      <a:lnTo>
                        <a:pt x="454" y="45"/>
                      </a:lnTo>
                      <a:lnTo>
                        <a:pt x="454" y="499"/>
                      </a:lnTo>
                      <a:lnTo>
                        <a:pt x="454" y="771"/>
                      </a:lnTo>
                      <a:lnTo>
                        <a:pt x="363" y="1134"/>
                      </a:lnTo>
                      <a:lnTo>
                        <a:pt x="318" y="127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9f7ff"/>
                    </a:gs>
                    <a:gs pos="100000">
                      <a:srgbClr val="cccc00"/>
                    </a:gs>
                  </a:gsLst>
                  <a:lin ang="10800000"/>
                </a:gradFill>
                <a:ln w="93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 rot="17700000">
                  <a:off x="5748120" y="4567320"/>
                  <a:ext cx="182880" cy="528120"/>
                </a:xfrm>
                <a:custGeom>
                  <a:avLst/>
                  <a:gdLst/>
                  <a:ahLst/>
                  <a:rect l="l" t="t" r="r" b="b"/>
                  <a:pathLst>
                    <a:path w="454" h="1270">
                      <a:moveTo>
                        <a:pt x="318" y="1270"/>
                      </a:moveTo>
                      <a:lnTo>
                        <a:pt x="227" y="1270"/>
                      </a:lnTo>
                      <a:lnTo>
                        <a:pt x="182" y="1043"/>
                      </a:lnTo>
                      <a:lnTo>
                        <a:pt x="46" y="635"/>
                      </a:lnTo>
                      <a:lnTo>
                        <a:pt x="0" y="91"/>
                      </a:lnTo>
                      <a:lnTo>
                        <a:pt x="136" y="317"/>
                      </a:lnTo>
                      <a:lnTo>
                        <a:pt x="136" y="45"/>
                      </a:lnTo>
                      <a:lnTo>
                        <a:pt x="182" y="317"/>
                      </a:lnTo>
                      <a:lnTo>
                        <a:pt x="227" y="0"/>
                      </a:lnTo>
                      <a:lnTo>
                        <a:pt x="318" y="317"/>
                      </a:lnTo>
                      <a:lnTo>
                        <a:pt x="318" y="91"/>
                      </a:lnTo>
                      <a:lnTo>
                        <a:pt x="409" y="363"/>
                      </a:lnTo>
                      <a:lnTo>
                        <a:pt x="454" y="45"/>
                      </a:lnTo>
                      <a:lnTo>
                        <a:pt x="454" y="499"/>
                      </a:lnTo>
                      <a:lnTo>
                        <a:pt x="454" y="771"/>
                      </a:lnTo>
                      <a:lnTo>
                        <a:pt x="363" y="1134"/>
                      </a:lnTo>
                      <a:lnTo>
                        <a:pt x="318" y="127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9f7ff"/>
                    </a:gs>
                    <a:gs pos="100000">
                      <a:srgbClr val="cccc00"/>
                    </a:gs>
                  </a:gsLst>
                  <a:lin ang="10800000"/>
                </a:gradFill>
                <a:ln w="93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 rot="15720000">
                  <a:off x="5711400" y="4749480"/>
                  <a:ext cx="182880" cy="527760"/>
                </a:xfrm>
                <a:custGeom>
                  <a:avLst/>
                  <a:gdLst/>
                  <a:ahLst/>
                  <a:rect l="l" t="t" r="r" b="b"/>
                  <a:pathLst>
                    <a:path w="454" h="1270">
                      <a:moveTo>
                        <a:pt x="318" y="1270"/>
                      </a:moveTo>
                      <a:lnTo>
                        <a:pt x="227" y="1270"/>
                      </a:lnTo>
                      <a:lnTo>
                        <a:pt x="182" y="1043"/>
                      </a:lnTo>
                      <a:lnTo>
                        <a:pt x="46" y="635"/>
                      </a:lnTo>
                      <a:lnTo>
                        <a:pt x="0" y="91"/>
                      </a:lnTo>
                      <a:lnTo>
                        <a:pt x="136" y="317"/>
                      </a:lnTo>
                      <a:lnTo>
                        <a:pt x="136" y="45"/>
                      </a:lnTo>
                      <a:lnTo>
                        <a:pt x="182" y="317"/>
                      </a:lnTo>
                      <a:lnTo>
                        <a:pt x="227" y="0"/>
                      </a:lnTo>
                      <a:lnTo>
                        <a:pt x="318" y="317"/>
                      </a:lnTo>
                      <a:lnTo>
                        <a:pt x="318" y="91"/>
                      </a:lnTo>
                      <a:lnTo>
                        <a:pt x="409" y="363"/>
                      </a:lnTo>
                      <a:lnTo>
                        <a:pt x="454" y="45"/>
                      </a:lnTo>
                      <a:lnTo>
                        <a:pt x="454" y="499"/>
                      </a:lnTo>
                      <a:lnTo>
                        <a:pt x="454" y="771"/>
                      </a:lnTo>
                      <a:lnTo>
                        <a:pt x="363" y="1134"/>
                      </a:lnTo>
                      <a:lnTo>
                        <a:pt x="318" y="127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9f7ff"/>
                    </a:gs>
                    <a:gs pos="100000">
                      <a:srgbClr val="cccc00"/>
                    </a:gs>
                  </a:gsLst>
                  <a:lin ang="10800000"/>
                </a:gradFill>
                <a:ln w="93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 rot="13800000">
                  <a:off x="5768640" y="4914000"/>
                  <a:ext cx="182880" cy="527760"/>
                </a:xfrm>
                <a:custGeom>
                  <a:avLst/>
                  <a:gdLst/>
                  <a:ahLst/>
                  <a:rect l="l" t="t" r="r" b="b"/>
                  <a:pathLst>
                    <a:path w="454" h="1270">
                      <a:moveTo>
                        <a:pt x="318" y="1270"/>
                      </a:moveTo>
                      <a:lnTo>
                        <a:pt x="227" y="1270"/>
                      </a:lnTo>
                      <a:lnTo>
                        <a:pt x="182" y="1043"/>
                      </a:lnTo>
                      <a:lnTo>
                        <a:pt x="46" y="635"/>
                      </a:lnTo>
                      <a:lnTo>
                        <a:pt x="0" y="91"/>
                      </a:lnTo>
                      <a:lnTo>
                        <a:pt x="136" y="317"/>
                      </a:lnTo>
                      <a:lnTo>
                        <a:pt x="136" y="45"/>
                      </a:lnTo>
                      <a:lnTo>
                        <a:pt x="182" y="317"/>
                      </a:lnTo>
                      <a:lnTo>
                        <a:pt x="227" y="0"/>
                      </a:lnTo>
                      <a:lnTo>
                        <a:pt x="318" y="317"/>
                      </a:lnTo>
                      <a:lnTo>
                        <a:pt x="318" y="91"/>
                      </a:lnTo>
                      <a:lnTo>
                        <a:pt x="409" y="363"/>
                      </a:lnTo>
                      <a:lnTo>
                        <a:pt x="454" y="45"/>
                      </a:lnTo>
                      <a:lnTo>
                        <a:pt x="454" y="499"/>
                      </a:lnTo>
                      <a:lnTo>
                        <a:pt x="454" y="771"/>
                      </a:lnTo>
                      <a:lnTo>
                        <a:pt x="363" y="1134"/>
                      </a:lnTo>
                      <a:lnTo>
                        <a:pt x="318" y="127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9f7ff"/>
                    </a:gs>
                    <a:gs pos="100000">
                      <a:srgbClr val="cccc00"/>
                    </a:gs>
                  </a:gsLst>
                  <a:lin ang="10800000"/>
                </a:gradFill>
                <a:ln w="93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 rot="11820000">
                  <a:off x="5904720" y="5013360"/>
                  <a:ext cx="188640" cy="511920"/>
                </a:xfrm>
                <a:custGeom>
                  <a:avLst/>
                  <a:gdLst/>
                  <a:ahLst/>
                  <a:rect l="l" t="t" r="r" b="b"/>
                  <a:pathLst>
                    <a:path w="454" h="1270">
                      <a:moveTo>
                        <a:pt x="318" y="1270"/>
                      </a:moveTo>
                      <a:lnTo>
                        <a:pt x="227" y="1270"/>
                      </a:lnTo>
                      <a:lnTo>
                        <a:pt x="182" y="1043"/>
                      </a:lnTo>
                      <a:lnTo>
                        <a:pt x="46" y="635"/>
                      </a:lnTo>
                      <a:lnTo>
                        <a:pt x="0" y="91"/>
                      </a:lnTo>
                      <a:lnTo>
                        <a:pt x="136" y="317"/>
                      </a:lnTo>
                      <a:lnTo>
                        <a:pt x="136" y="45"/>
                      </a:lnTo>
                      <a:lnTo>
                        <a:pt x="182" y="317"/>
                      </a:lnTo>
                      <a:lnTo>
                        <a:pt x="227" y="0"/>
                      </a:lnTo>
                      <a:lnTo>
                        <a:pt x="318" y="317"/>
                      </a:lnTo>
                      <a:lnTo>
                        <a:pt x="318" y="91"/>
                      </a:lnTo>
                      <a:lnTo>
                        <a:pt x="409" y="363"/>
                      </a:lnTo>
                      <a:lnTo>
                        <a:pt x="454" y="45"/>
                      </a:lnTo>
                      <a:lnTo>
                        <a:pt x="454" y="499"/>
                      </a:lnTo>
                      <a:lnTo>
                        <a:pt x="454" y="771"/>
                      </a:lnTo>
                      <a:lnTo>
                        <a:pt x="363" y="1134"/>
                      </a:lnTo>
                      <a:lnTo>
                        <a:pt x="318" y="127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9f7ff"/>
                    </a:gs>
                    <a:gs pos="100000">
                      <a:srgbClr val="cccc00"/>
                    </a:gs>
                  </a:gsLst>
                  <a:lin ang="10800000"/>
                </a:gradFill>
                <a:ln w="936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7" name=""/>
          <p:cNvSpPr/>
          <p:nvPr/>
        </p:nvSpPr>
        <p:spPr>
          <a:xfrm>
            <a:off x="1403280" y="1197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</a:rPr>
              <a:t>你能用平移、旋转或轴对称变换分析下图中各个图案的形成过程吗？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1207440" y="2566440"/>
            <a:ext cx="1545480" cy="1520280"/>
            <a:chOff x="1207440" y="2566440"/>
            <a:chExt cx="1545480" cy="1520280"/>
          </a:xfrm>
        </p:grpSpPr>
        <p:grpSp>
          <p:nvGrpSpPr>
            <p:cNvPr id="169" name=""/>
            <p:cNvGrpSpPr/>
            <p:nvPr/>
          </p:nvGrpSpPr>
          <p:grpSpPr>
            <a:xfrm>
              <a:off x="1207440" y="2566440"/>
              <a:ext cx="1312920" cy="1520280"/>
              <a:chOff x="1207440" y="2566440"/>
              <a:chExt cx="1312920" cy="1520280"/>
            </a:xfrm>
          </p:grpSpPr>
          <p:sp>
            <p:nvSpPr>
              <p:cNvPr id="170" name=""/>
              <p:cNvSpPr/>
              <p:nvPr/>
            </p:nvSpPr>
            <p:spPr>
              <a:xfrm rot="3600000">
                <a:off x="1800000" y="2561400"/>
                <a:ext cx="404640" cy="720360"/>
              </a:xfrm>
              <a:custGeom>
                <a:avLst/>
                <a:gdLst/>
                <a:ahLst/>
                <a:rect l="l" t="t" r="r" b="b"/>
                <a:pathLst>
                  <a:path w="816" h="1452">
                    <a:moveTo>
                      <a:pt x="816" y="0"/>
                    </a:moveTo>
                    <a:lnTo>
                      <a:pt x="408" y="0"/>
                    </a:lnTo>
                    <a:lnTo>
                      <a:pt x="0" y="726"/>
                    </a:lnTo>
                    <a:lnTo>
                      <a:pt x="408" y="1452"/>
                    </a:lnTo>
                    <a:lnTo>
                      <a:pt x="816" y="1452"/>
                    </a:lnTo>
                    <a:lnTo>
                      <a:pt x="408" y="726"/>
                    </a:lnTo>
                    <a:lnTo>
                      <a:pt x="816" y="0"/>
                    </a:lnTo>
                    <a:close/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440360" y="2741040"/>
                <a:ext cx="404640" cy="720000"/>
              </a:xfrm>
              <a:custGeom>
                <a:avLst/>
                <a:gdLst/>
                <a:ahLst/>
                <a:rect l="l" t="t" r="r" b="b"/>
                <a:pathLst>
                  <a:path w="816" h="1452">
                    <a:moveTo>
                      <a:pt x="816" y="0"/>
                    </a:moveTo>
                    <a:lnTo>
                      <a:pt x="408" y="0"/>
                    </a:lnTo>
                    <a:lnTo>
                      <a:pt x="0" y="726"/>
                    </a:lnTo>
                    <a:lnTo>
                      <a:pt x="408" y="1452"/>
                    </a:lnTo>
                    <a:lnTo>
                      <a:pt x="816" y="1452"/>
                    </a:lnTo>
                    <a:lnTo>
                      <a:pt x="408" y="726"/>
                    </a:lnTo>
                    <a:lnTo>
                      <a:pt x="816" y="0"/>
                    </a:lnTo>
                    <a:close/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0800000">
                <a:off x="2115720" y="3190680"/>
                <a:ext cx="404640" cy="720000"/>
              </a:xfrm>
              <a:custGeom>
                <a:avLst/>
                <a:gdLst/>
                <a:ahLst/>
                <a:rect l="l" t="t" r="r" b="b"/>
                <a:pathLst>
                  <a:path w="816" h="1452">
                    <a:moveTo>
                      <a:pt x="816" y="0"/>
                    </a:moveTo>
                    <a:lnTo>
                      <a:pt x="408" y="0"/>
                    </a:lnTo>
                    <a:lnTo>
                      <a:pt x="0" y="726"/>
                    </a:lnTo>
                    <a:lnTo>
                      <a:pt x="408" y="1452"/>
                    </a:lnTo>
                    <a:lnTo>
                      <a:pt x="816" y="1452"/>
                    </a:lnTo>
                    <a:lnTo>
                      <a:pt x="408" y="726"/>
                    </a:lnTo>
                    <a:lnTo>
                      <a:pt x="816" y="0"/>
                    </a:lnTo>
                    <a:close/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4400000">
                <a:off x="1755720" y="3371040"/>
                <a:ext cx="404640" cy="720360"/>
              </a:xfrm>
              <a:custGeom>
                <a:avLst/>
                <a:gdLst/>
                <a:ahLst/>
                <a:rect l="l" t="t" r="r" b="b"/>
                <a:pathLst>
                  <a:path w="816" h="1452">
                    <a:moveTo>
                      <a:pt x="816" y="0"/>
                    </a:moveTo>
                    <a:lnTo>
                      <a:pt x="408" y="0"/>
                    </a:lnTo>
                    <a:lnTo>
                      <a:pt x="0" y="726"/>
                    </a:lnTo>
                    <a:lnTo>
                      <a:pt x="408" y="1452"/>
                    </a:lnTo>
                    <a:lnTo>
                      <a:pt x="816" y="1452"/>
                    </a:lnTo>
                    <a:lnTo>
                      <a:pt x="408" y="726"/>
                    </a:lnTo>
                    <a:lnTo>
                      <a:pt x="816" y="0"/>
                    </a:lnTo>
                    <a:close/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8000000">
                <a:off x="1418040" y="3145680"/>
                <a:ext cx="404640" cy="720360"/>
              </a:xfrm>
              <a:custGeom>
                <a:avLst/>
                <a:gdLst/>
                <a:ahLst/>
                <a:rect l="l" t="t" r="r" b="b"/>
                <a:pathLst>
                  <a:path w="816" h="1452">
                    <a:moveTo>
                      <a:pt x="816" y="0"/>
                    </a:moveTo>
                    <a:lnTo>
                      <a:pt x="408" y="0"/>
                    </a:lnTo>
                    <a:lnTo>
                      <a:pt x="0" y="726"/>
                    </a:lnTo>
                    <a:lnTo>
                      <a:pt x="408" y="1452"/>
                    </a:lnTo>
                    <a:lnTo>
                      <a:pt x="816" y="1452"/>
                    </a:lnTo>
                    <a:lnTo>
                      <a:pt x="408" y="726"/>
                    </a:lnTo>
                    <a:lnTo>
                      <a:pt x="816" y="0"/>
                    </a:lnTo>
                    <a:close/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rot="7200000">
              <a:off x="2137320" y="2786040"/>
              <a:ext cx="404640" cy="720360"/>
            </a:xfrm>
            <a:custGeom>
              <a:avLst/>
              <a:gdLst/>
              <a:ahLst/>
              <a:rect l="l" t="t" r="r" b="b"/>
              <a:pathLst>
                <a:path w="816" h="1452">
                  <a:moveTo>
                    <a:pt x="816" y="0"/>
                  </a:moveTo>
                  <a:lnTo>
                    <a:pt x="408" y="0"/>
                  </a:lnTo>
                  <a:lnTo>
                    <a:pt x="0" y="726"/>
                  </a:lnTo>
                  <a:lnTo>
                    <a:pt x="408" y="1452"/>
                  </a:lnTo>
                  <a:lnTo>
                    <a:pt x="816" y="1452"/>
                  </a:lnTo>
                  <a:lnTo>
                    <a:pt x="408" y="726"/>
                  </a:lnTo>
                  <a:lnTo>
                    <a:pt x="816" y="0"/>
                  </a:ln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971640" y="4797360"/>
            <a:ext cx="1728720" cy="801720"/>
            <a:chOff x="971640" y="4797360"/>
            <a:chExt cx="1728720" cy="801720"/>
          </a:xfrm>
        </p:grpSpPr>
        <p:grpSp>
          <p:nvGrpSpPr>
            <p:cNvPr id="177" name=""/>
            <p:cNvGrpSpPr/>
            <p:nvPr/>
          </p:nvGrpSpPr>
          <p:grpSpPr>
            <a:xfrm>
              <a:off x="971640" y="4798440"/>
              <a:ext cx="576000" cy="800640"/>
              <a:chOff x="971640" y="4798440"/>
              <a:chExt cx="576000" cy="800640"/>
            </a:xfrm>
          </p:grpSpPr>
          <p:sp>
            <p:nvSpPr>
              <p:cNvPr id="178" name=""/>
              <p:cNvSpPr/>
              <p:nvPr/>
            </p:nvSpPr>
            <p:spPr>
              <a:xfrm>
                <a:off x="971640" y="4798440"/>
                <a:ext cx="576000" cy="400320"/>
              </a:xfrm>
              <a:prstGeom prst="triangle">
                <a:avLst>
                  <a:gd name="adj" fmla="val 50000"/>
                </a:avLst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0800000">
                <a:off x="971640" y="5198760"/>
                <a:ext cx="576000" cy="400320"/>
              </a:xfrm>
              <a:prstGeom prst="triangle">
                <a:avLst>
                  <a:gd name="adj" fmla="val 50000"/>
                </a:avLst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548000" y="4797360"/>
              <a:ext cx="576000" cy="800640"/>
              <a:chOff x="1548000" y="4797360"/>
              <a:chExt cx="576000" cy="800640"/>
            </a:xfrm>
          </p:grpSpPr>
          <p:sp>
            <p:nvSpPr>
              <p:cNvPr id="181" name=""/>
              <p:cNvSpPr/>
              <p:nvPr/>
            </p:nvSpPr>
            <p:spPr>
              <a:xfrm>
                <a:off x="1548000" y="4797360"/>
                <a:ext cx="576000" cy="400320"/>
              </a:xfrm>
              <a:prstGeom prst="triangle">
                <a:avLst>
                  <a:gd name="adj" fmla="val 50000"/>
                </a:avLst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0800000">
                <a:off x="1548000" y="5197680"/>
                <a:ext cx="576000" cy="400320"/>
              </a:xfrm>
              <a:prstGeom prst="triangle">
                <a:avLst>
                  <a:gd name="adj" fmla="val 50000"/>
                </a:avLst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24360" y="4797360"/>
              <a:ext cx="576000" cy="800640"/>
              <a:chOff x="2124360" y="4797360"/>
              <a:chExt cx="576000" cy="800640"/>
            </a:xfrm>
          </p:grpSpPr>
          <p:sp>
            <p:nvSpPr>
              <p:cNvPr id="184" name=""/>
              <p:cNvSpPr/>
              <p:nvPr/>
            </p:nvSpPr>
            <p:spPr>
              <a:xfrm>
                <a:off x="2124360" y="4797360"/>
                <a:ext cx="576000" cy="400320"/>
              </a:xfrm>
              <a:prstGeom prst="triangle">
                <a:avLst>
                  <a:gd name="adj" fmla="val 50000"/>
                </a:avLst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0800000">
                <a:off x="2124360" y="5197680"/>
                <a:ext cx="576000" cy="400320"/>
              </a:xfrm>
              <a:prstGeom prst="triangle">
                <a:avLst>
                  <a:gd name="adj" fmla="val 50000"/>
                </a:avLst>
              </a:prstGeom>
              <a:solidFill>
                <a:srgbClr val="66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" name=""/>
          <p:cNvSpPr/>
          <p:nvPr/>
        </p:nvSpPr>
        <p:spPr>
          <a:xfrm>
            <a:off x="3419640" y="155736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基本图案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832360" y="1628640"/>
            <a:ext cx="27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图案的形成过程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51640" y="1557360"/>
            <a:ext cx="0" cy="453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2276640"/>
            <a:ext cx="784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4292640"/>
            <a:ext cx="7993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3640" y="1628640"/>
            <a:ext cx="0" cy="453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3600000">
            <a:off x="3968640" y="2735280"/>
            <a:ext cx="485640" cy="863280"/>
          </a:xfrm>
          <a:custGeom>
            <a:avLst/>
            <a:gdLst/>
            <a:ahLst/>
            <a:rect l="l" t="t" r="r" b="b"/>
            <a:pathLst>
              <a:path w="816" h="1452">
                <a:moveTo>
                  <a:pt x="816" y="0"/>
                </a:moveTo>
                <a:lnTo>
                  <a:pt x="408" y="0"/>
                </a:lnTo>
                <a:lnTo>
                  <a:pt x="0" y="726"/>
                </a:lnTo>
                <a:lnTo>
                  <a:pt x="408" y="1452"/>
                </a:lnTo>
                <a:lnTo>
                  <a:pt x="816" y="1452"/>
                </a:lnTo>
                <a:lnTo>
                  <a:pt x="408" y="726"/>
                </a:lnTo>
                <a:lnTo>
                  <a:pt x="816" y="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3600000">
            <a:off x="6948360" y="2303640"/>
            <a:ext cx="486000" cy="863280"/>
          </a:xfrm>
          <a:custGeom>
            <a:avLst/>
            <a:gdLst/>
            <a:ahLst/>
            <a:rect l="l" t="t" r="r" b="b"/>
            <a:pathLst>
              <a:path w="816" h="1452">
                <a:moveTo>
                  <a:pt x="816" y="0"/>
                </a:moveTo>
                <a:lnTo>
                  <a:pt x="408" y="0"/>
                </a:lnTo>
                <a:lnTo>
                  <a:pt x="0" y="726"/>
                </a:lnTo>
                <a:lnTo>
                  <a:pt x="408" y="1452"/>
                </a:lnTo>
                <a:lnTo>
                  <a:pt x="816" y="1452"/>
                </a:lnTo>
                <a:lnTo>
                  <a:pt x="408" y="726"/>
                </a:lnTo>
                <a:lnTo>
                  <a:pt x="816" y="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16720" y="2517840"/>
            <a:ext cx="485640" cy="865080"/>
          </a:xfrm>
          <a:custGeom>
            <a:avLst/>
            <a:gdLst/>
            <a:ahLst/>
            <a:rect l="l" t="t" r="r" b="b"/>
            <a:pathLst>
              <a:path w="816" h="1452">
                <a:moveTo>
                  <a:pt x="816" y="0"/>
                </a:moveTo>
                <a:lnTo>
                  <a:pt x="408" y="0"/>
                </a:lnTo>
                <a:lnTo>
                  <a:pt x="0" y="726"/>
                </a:lnTo>
                <a:lnTo>
                  <a:pt x="408" y="1452"/>
                </a:lnTo>
                <a:lnTo>
                  <a:pt x="816" y="1452"/>
                </a:lnTo>
                <a:lnTo>
                  <a:pt x="408" y="726"/>
                </a:lnTo>
                <a:lnTo>
                  <a:pt x="816" y="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7326000" y="3057120"/>
            <a:ext cx="485640" cy="865080"/>
          </a:xfrm>
          <a:custGeom>
            <a:avLst/>
            <a:gdLst/>
            <a:ahLst/>
            <a:rect l="l" t="t" r="r" b="b"/>
            <a:pathLst>
              <a:path w="816" h="1452">
                <a:moveTo>
                  <a:pt x="816" y="0"/>
                </a:moveTo>
                <a:lnTo>
                  <a:pt x="408" y="0"/>
                </a:lnTo>
                <a:lnTo>
                  <a:pt x="0" y="726"/>
                </a:lnTo>
                <a:lnTo>
                  <a:pt x="408" y="1452"/>
                </a:lnTo>
                <a:lnTo>
                  <a:pt x="816" y="1452"/>
                </a:lnTo>
                <a:lnTo>
                  <a:pt x="408" y="726"/>
                </a:lnTo>
                <a:lnTo>
                  <a:pt x="816" y="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4400000">
            <a:off x="6894720" y="3274200"/>
            <a:ext cx="485640" cy="863640"/>
          </a:xfrm>
          <a:custGeom>
            <a:avLst/>
            <a:gdLst/>
            <a:ahLst/>
            <a:rect l="l" t="t" r="r" b="b"/>
            <a:pathLst>
              <a:path w="816" h="1452">
                <a:moveTo>
                  <a:pt x="816" y="0"/>
                </a:moveTo>
                <a:lnTo>
                  <a:pt x="408" y="0"/>
                </a:lnTo>
                <a:lnTo>
                  <a:pt x="0" y="726"/>
                </a:lnTo>
                <a:lnTo>
                  <a:pt x="408" y="1452"/>
                </a:lnTo>
                <a:lnTo>
                  <a:pt x="816" y="1452"/>
                </a:lnTo>
                <a:lnTo>
                  <a:pt x="408" y="726"/>
                </a:lnTo>
                <a:lnTo>
                  <a:pt x="816" y="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8000000">
            <a:off x="6490440" y="3003480"/>
            <a:ext cx="484200" cy="863640"/>
          </a:xfrm>
          <a:custGeom>
            <a:avLst/>
            <a:gdLst/>
            <a:ahLst/>
            <a:rect l="l" t="t" r="r" b="b"/>
            <a:pathLst>
              <a:path w="816" h="1452">
                <a:moveTo>
                  <a:pt x="816" y="0"/>
                </a:moveTo>
                <a:lnTo>
                  <a:pt x="408" y="0"/>
                </a:lnTo>
                <a:lnTo>
                  <a:pt x="0" y="726"/>
                </a:lnTo>
                <a:lnTo>
                  <a:pt x="408" y="1452"/>
                </a:lnTo>
                <a:lnTo>
                  <a:pt x="816" y="1452"/>
                </a:lnTo>
                <a:lnTo>
                  <a:pt x="408" y="726"/>
                </a:lnTo>
                <a:lnTo>
                  <a:pt x="816" y="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7200000">
            <a:off x="7352640" y="2572920"/>
            <a:ext cx="485640" cy="863640"/>
          </a:xfrm>
          <a:custGeom>
            <a:avLst/>
            <a:gdLst/>
            <a:ahLst/>
            <a:rect l="l" t="t" r="r" b="b"/>
            <a:pathLst>
              <a:path w="816" h="1452">
                <a:moveTo>
                  <a:pt x="816" y="0"/>
                </a:moveTo>
                <a:lnTo>
                  <a:pt x="408" y="0"/>
                </a:lnTo>
                <a:lnTo>
                  <a:pt x="0" y="726"/>
                </a:lnTo>
                <a:lnTo>
                  <a:pt x="408" y="1452"/>
                </a:lnTo>
                <a:lnTo>
                  <a:pt x="816" y="1452"/>
                </a:lnTo>
                <a:lnTo>
                  <a:pt x="408" y="726"/>
                </a:lnTo>
                <a:lnTo>
                  <a:pt x="816" y="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08000" y="3284640"/>
            <a:ext cx="79560" cy="79200"/>
          </a:xfrm>
          <a:prstGeom prst="ellipse">
            <a:avLst/>
          </a:prstGeom>
          <a:solidFill>
            <a:srgbClr val="ff00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091280" y="3157560"/>
            <a:ext cx="79560" cy="792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995280" y="4797360"/>
            <a:ext cx="568800" cy="792000"/>
            <a:chOff x="3995280" y="4797360"/>
            <a:chExt cx="568800" cy="792000"/>
          </a:xfrm>
        </p:grpSpPr>
        <p:sp>
          <p:nvSpPr>
            <p:cNvPr id="202" name=""/>
            <p:cNvSpPr/>
            <p:nvPr/>
          </p:nvSpPr>
          <p:spPr>
            <a:xfrm>
              <a:off x="3995640" y="4797360"/>
              <a:ext cx="568440" cy="396000"/>
            </a:xfrm>
            <a:prstGeom prst="triangle">
              <a:avLst>
                <a:gd name="adj" fmla="val 50000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0800000">
              <a:off x="3995280" y="5193360"/>
              <a:ext cx="568440" cy="396000"/>
            </a:xfrm>
            <a:prstGeom prst="triangle">
              <a:avLst>
                <a:gd name="adj" fmla="val 50000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588000" y="4870440"/>
            <a:ext cx="519120" cy="720360"/>
            <a:chOff x="6588000" y="4870440"/>
            <a:chExt cx="519120" cy="720360"/>
          </a:xfrm>
        </p:grpSpPr>
        <p:sp>
          <p:nvSpPr>
            <p:cNvPr id="205" name=""/>
            <p:cNvSpPr/>
            <p:nvPr/>
          </p:nvSpPr>
          <p:spPr>
            <a:xfrm>
              <a:off x="6588000" y="4870440"/>
              <a:ext cx="519120" cy="360360"/>
            </a:xfrm>
            <a:prstGeom prst="triangle">
              <a:avLst>
                <a:gd name="adj" fmla="val 50000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0800000">
              <a:off x="6588000" y="5230440"/>
              <a:ext cx="519120" cy="360360"/>
            </a:xfrm>
            <a:prstGeom prst="triangle">
              <a:avLst>
                <a:gd name="adj" fmla="val 50000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7093080" y="4869000"/>
            <a:ext cx="519120" cy="720360"/>
            <a:chOff x="7093080" y="4869000"/>
            <a:chExt cx="519120" cy="720360"/>
          </a:xfrm>
        </p:grpSpPr>
        <p:sp>
          <p:nvSpPr>
            <p:cNvPr id="208" name=""/>
            <p:cNvSpPr/>
            <p:nvPr/>
          </p:nvSpPr>
          <p:spPr>
            <a:xfrm>
              <a:off x="7093080" y="4869000"/>
              <a:ext cx="519120" cy="360360"/>
            </a:xfrm>
            <a:prstGeom prst="triangle">
              <a:avLst>
                <a:gd name="adj" fmla="val 50000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0800000">
              <a:off x="7093080" y="5229000"/>
              <a:ext cx="519120" cy="360360"/>
            </a:xfrm>
            <a:prstGeom prst="triangle">
              <a:avLst>
                <a:gd name="adj" fmla="val 50000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7596360" y="4869000"/>
            <a:ext cx="519120" cy="720360"/>
            <a:chOff x="7596360" y="4869000"/>
            <a:chExt cx="519120" cy="720360"/>
          </a:xfrm>
        </p:grpSpPr>
        <p:sp>
          <p:nvSpPr>
            <p:cNvPr id="211" name=""/>
            <p:cNvSpPr/>
            <p:nvPr/>
          </p:nvSpPr>
          <p:spPr>
            <a:xfrm>
              <a:off x="7596360" y="4869000"/>
              <a:ext cx="519120" cy="360360"/>
            </a:xfrm>
            <a:prstGeom prst="triangle">
              <a:avLst>
                <a:gd name="adj" fmla="val 50000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0800000">
              <a:off x="7596360" y="5229000"/>
              <a:ext cx="519120" cy="360360"/>
            </a:xfrm>
            <a:prstGeom prst="triangle">
              <a:avLst>
                <a:gd name="adj" fmla="val 50000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4859280" y="6853320"/>
            <a:ext cx="2449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6858000"/>
            <a:ext cx="4859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58920" y="836640"/>
            <a:ext cx="62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分析图案的形成过程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6165720"/>
            <a:ext cx="806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5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1392120" y="1182600"/>
            <a:ext cx="1308240" cy="1309680"/>
            <a:chOff x="1392120" y="1182600"/>
            <a:chExt cx="1308240" cy="1309680"/>
          </a:xfrm>
        </p:grpSpPr>
        <p:sp>
          <p:nvSpPr>
            <p:cNvPr id="218" name=""/>
            <p:cNvSpPr/>
            <p:nvPr/>
          </p:nvSpPr>
          <p:spPr>
            <a:xfrm>
              <a:off x="1392120" y="1182600"/>
              <a:ext cx="1308240" cy="13096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1436760" y="1236240"/>
              <a:ext cx="1194840" cy="1173600"/>
              <a:chOff x="1436760" y="1236240"/>
              <a:chExt cx="1194840" cy="1173600"/>
            </a:xfrm>
          </p:grpSpPr>
          <p:sp>
            <p:nvSpPr>
              <p:cNvPr id="220" name=""/>
              <p:cNvSpPr/>
              <p:nvPr/>
            </p:nvSpPr>
            <p:spPr>
              <a:xfrm rot="1800000">
                <a:off x="2044440" y="1266480"/>
                <a:ext cx="279360" cy="588240"/>
              </a:xfrm>
              <a:custGeom>
                <a:avLst/>
                <a:gdLst/>
                <a:ahLst/>
                <a:rect l="l" t="t" r="r" b="b"/>
                <a:pathLst>
                  <a:path w="907" h="1905">
                    <a:moveTo>
                      <a:pt x="907" y="952"/>
                    </a:moveTo>
                    <a:lnTo>
                      <a:pt x="454" y="0"/>
                    </a:lnTo>
                    <a:lnTo>
                      <a:pt x="0" y="952"/>
                    </a:lnTo>
                    <a:lnTo>
                      <a:pt x="454" y="1905"/>
                    </a:lnTo>
                    <a:lnTo>
                      <a:pt x="907" y="952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9800000">
                <a:off x="1743480" y="1266480"/>
                <a:ext cx="279360" cy="588240"/>
              </a:xfrm>
              <a:custGeom>
                <a:avLst/>
                <a:gdLst/>
                <a:ahLst/>
                <a:rect l="l" t="t" r="r" b="b"/>
                <a:pathLst>
                  <a:path w="907" h="1905">
                    <a:moveTo>
                      <a:pt x="907" y="952"/>
                    </a:moveTo>
                    <a:lnTo>
                      <a:pt x="454" y="0"/>
                    </a:lnTo>
                    <a:lnTo>
                      <a:pt x="0" y="952"/>
                    </a:lnTo>
                    <a:lnTo>
                      <a:pt x="454" y="1905"/>
                    </a:lnTo>
                    <a:lnTo>
                      <a:pt x="907" y="952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400000">
                <a:off x="2198160" y="1533240"/>
                <a:ext cx="280080" cy="586800"/>
              </a:xfrm>
              <a:custGeom>
                <a:avLst/>
                <a:gdLst/>
                <a:ahLst/>
                <a:rect l="l" t="t" r="r" b="b"/>
                <a:pathLst>
                  <a:path w="907" h="1905">
                    <a:moveTo>
                      <a:pt x="907" y="952"/>
                    </a:moveTo>
                    <a:lnTo>
                      <a:pt x="454" y="0"/>
                    </a:lnTo>
                    <a:lnTo>
                      <a:pt x="0" y="952"/>
                    </a:lnTo>
                    <a:lnTo>
                      <a:pt x="454" y="1905"/>
                    </a:lnTo>
                    <a:lnTo>
                      <a:pt x="907" y="952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9000000">
                <a:off x="2044440" y="1791360"/>
                <a:ext cx="279360" cy="587880"/>
              </a:xfrm>
              <a:custGeom>
                <a:avLst/>
                <a:gdLst/>
                <a:ahLst/>
                <a:rect l="l" t="t" r="r" b="b"/>
                <a:pathLst>
                  <a:path w="907" h="1905">
                    <a:moveTo>
                      <a:pt x="907" y="952"/>
                    </a:moveTo>
                    <a:lnTo>
                      <a:pt x="454" y="0"/>
                    </a:lnTo>
                    <a:lnTo>
                      <a:pt x="0" y="952"/>
                    </a:lnTo>
                    <a:lnTo>
                      <a:pt x="454" y="1905"/>
                    </a:lnTo>
                    <a:lnTo>
                      <a:pt x="907" y="952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2600000">
                <a:off x="1743840" y="1791360"/>
                <a:ext cx="279360" cy="587880"/>
              </a:xfrm>
              <a:custGeom>
                <a:avLst/>
                <a:gdLst/>
                <a:ahLst/>
                <a:rect l="l" t="t" r="r" b="b"/>
                <a:pathLst>
                  <a:path w="907" h="1905">
                    <a:moveTo>
                      <a:pt x="907" y="952"/>
                    </a:moveTo>
                    <a:lnTo>
                      <a:pt x="454" y="0"/>
                    </a:lnTo>
                    <a:lnTo>
                      <a:pt x="0" y="952"/>
                    </a:lnTo>
                    <a:lnTo>
                      <a:pt x="454" y="1905"/>
                    </a:lnTo>
                    <a:lnTo>
                      <a:pt x="907" y="952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6200000">
                <a:off x="1590120" y="1533240"/>
                <a:ext cx="280080" cy="586800"/>
              </a:xfrm>
              <a:custGeom>
                <a:avLst/>
                <a:gdLst/>
                <a:ahLst/>
                <a:rect l="l" t="t" r="r" b="b"/>
                <a:pathLst>
                  <a:path w="907" h="1905">
                    <a:moveTo>
                      <a:pt x="907" y="952"/>
                    </a:moveTo>
                    <a:lnTo>
                      <a:pt x="454" y="0"/>
                    </a:lnTo>
                    <a:lnTo>
                      <a:pt x="0" y="952"/>
                    </a:lnTo>
                    <a:lnTo>
                      <a:pt x="454" y="1905"/>
                    </a:lnTo>
                    <a:lnTo>
                      <a:pt x="907" y="952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3370320" y="1112760"/>
            <a:ext cx="626760" cy="1307880"/>
            <a:chOff x="3370320" y="1112760"/>
            <a:chExt cx="626760" cy="1307880"/>
          </a:xfrm>
        </p:grpSpPr>
        <p:sp>
          <p:nvSpPr>
            <p:cNvPr id="227" name=""/>
            <p:cNvSpPr/>
            <p:nvPr/>
          </p:nvSpPr>
          <p:spPr>
            <a:xfrm>
              <a:off x="3370320" y="1112760"/>
              <a:ext cx="548640" cy="732600"/>
            </a:xfrm>
            <a:custGeom>
              <a:avLst/>
              <a:gdLst/>
              <a:ahLst/>
              <a:rect l="l" t="t" r="r" b="b"/>
              <a:pathLst>
                <a:path w="952" h="1270">
                  <a:moveTo>
                    <a:pt x="499" y="1270"/>
                  </a:moveTo>
                  <a:lnTo>
                    <a:pt x="0" y="1134"/>
                  </a:lnTo>
                  <a:lnTo>
                    <a:pt x="952" y="0"/>
                  </a:lnTo>
                  <a:lnTo>
                    <a:pt x="499" y="127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f0000"/>
                </a:gs>
              </a:gsLst>
              <a:lin ang="5400000"/>
            </a:gra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0800000">
              <a:off x="3448440" y="1688040"/>
              <a:ext cx="548640" cy="732600"/>
            </a:xfrm>
            <a:custGeom>
              <a:avLst/>
              <a:gdLst/>
              <a:ahLst/>
              <a:rect l="l" t="t" r="r" b="b"/>
              <a:pathLst>
                <a:path w="952" h="1270">
                  <a:moveTo>
                    <a:pt x="499" y="1270"/>
                  </a:moveTo>
                  <a:lnTo>
                    <a:pt x="0" y="1134"/>
                  </a:lnTo>
                  <a:lnTo>
                    <a:pt x="952" y="0"/>
                  </a:lnTo>
                  <a:lnTo>
                    <a:pt x="499" y="127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f0000"/>
                </a:gs>
              </a:gsLst>
              <a:lin ang="16200000"/>
            </a:gra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932360" y="1197000"/>
            <a:ext cx="1425600" cy="1235160"/>
            <a:chOff x="4932360" y="1197000"/>
            <a:chExt cx="1425600" cy="1235160"/>
          </a:xfrm>
        </p:grpSpPr>
        <p:grpSp>
          <p:nvGrpSpPr>
            <p:cNvPr id="230" name=""/>
            <p:cNvGrpSpPr/>
            <p:nvPr/>
          </p:nvGrpSpPr>
          <p:grpSpPr>
            <a:xfrm>
              <a:off x="5175720" y="1197000"/>
              <a:ext cx="450000" cy="391320"/>
              <a:chOff x="5175720" y="1197000"/>
              <a:chExt cx="450000" cy="391320"/>
            </a:xfrm>
          </p:grpSpPr>
          <p:sp>
            <p:nvSpPr>
              <p:cNvPr id="231" name=""/>
              <p:cNvSpPr/>
              <p:nvPr/>
            </p:nvSpPr>
            <p:spPr>
              <a:xfrm>
                <a:off x="5175720" y="1197000"/>
                <a:ext cx="450000" cy="391320"/>
              </a:xfrm>
              <a:custGeom>
                <a:avLst/>
                <a:gdLst/>
                <a:ahLst/>
                <a:rect l="l" t="t" r="r" b="b"/>
                <a:pathLst>
                  <a:path w="2086" h="1815">
                    <a:moveTo>
                      <a:pt x="499" y="1815"/>
                    </a:moveTo>
                    <a:lnTo>
                      <a:pt x="1542" y="1815"/>
                    </a:lnTo>
                    <a:lnTo>
                      <a:pt x="2086" y="907"/>
                    </a:lnTo>
                    <a:lnTo>
                      <a:pt x="1587" y="0"/>
                    </a:lnTo>
                    <a:lnTo>
                      <a:pt x="499" y="0"/>
                    </a:lnTo>
                    <a:lnTo>
                      <a:pt x="0" y="907"/>
                    </a:lnTo>
                    <a:lnTo>
                      <a:pt x="499" y="1815"/>
                    </a:lnTo>
                    <a:close/>
                  </a:path>
                </a:pathLst>
              </a:custGeom>
              <a:solidFill>
                <a:srgbClr val="00ffff"/>
              </a:solidFill>
              <a:ln w="28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231880" y="1242720"/>
                <a:ext cx="337320" cy="293400"/>
              </a:xfrm>
              <a:custGeom>
                <a:avLst/>
                <a:gdLst/>
                <a:ahLst/>
                <a:rect l="l" t="t" r="r" b="b"/>
                <a:pathLst>
                  <a:path w="2086" h="1815">
                    <a:moveTo>
                      <a:pt x="499" y="1815"/>
                    </a:moveTo>
                    <a:lnTo>
                      <a:pt x="1542" y="1815"/>
                    </a:lnTo>
                    <a:lnTo>
                      <a:pt x="2086" y="907"/>
                    </a:lnTo>
                    <a:lnTo>
                      <a:pt x="1587" y="0"/>
                    </a:lnTo>
                    <a:lnTo>
                      <a:pt x="499" y="0"/>
                    </a:lnTo>
                    <a:lnTo>
                      <a:pt x="0" y="907"/>
                    </a:lnTo>
                    <a:lnTo>
                      <a:pt x="499" y="1815"/>
                    </a:lnTo>
                    <a:close/>
                  </a:path>
                </a:pathLst>
              </a:custGeom>
              <a:solidFill>
                <a:srgbClr val="00ffff"/>
              </a:solidFill>
              <a:ln w="28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5664240" y="1197000"/>
              <a:ext cx="450000" cy="391320"/>
              <a:chOff x="5664240" y="1197000"/>
              <a:chExt cx="450000" cy="391320"/>
            </a:xfrm>
          </p:grpSpPr>
          <p:sp>
            <p:nvSpPr>
              <p:cNvPr id="234" name=""/>
              <p:cNvSpPr/>
              <p:nvPr/>
            </p:nvSpPr>
            <p:spPr>
              <a:xfrm>
                <a:off x="5664240" y="1197000"/>
                <a:ext cx="450000" cy="391320"/>
              </a:xfrm>
              <a:custGeom>
                <a:avLst/>
                <a:gdLst/>
                <a:ahLst/>
                <a:rect l="l" t="t" r="r" b="b"/>
                <a:pathLst>
                  <a:path w="2086" h="1815">
                    <a:moveTo>
                      <a:pt x="499" y="1815"/>
                    </a:moveTo>
                    <a:lnTo>
                      <a:pt x="1542" y="1815"/>
                    </a:lnTo>
                    <a:lnTo>
                      <a:pt x="2086" y="907"/>
                    </a:lnTo>
                    <a:lnTo>
                      <a:pt x="1587" y="0"/>
                    </a:lnTo>
                    <a:lnTo>
                      <a:pt x="499" y="0"/>
                    </a:lnTo>
                    <a:lnTo>
                      <a:pt x="0" y="907"/>
                    </a:lnTo>
                    <a:lnTo>
                      <a:pt x="499" y="1815"/>
                    </a:lnTo>
                    <a:close/>
                  </a:path>
                </a:pathLst>
              </a:custGeom>
              <a:solidFill>
                <a:srgbClr val="00ffff"/>
              </a:solidFill>
              <a:ln w="28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720400" y="1242720"/>
                <a:ext cx="337320" cy="293400"/>
              </a:xfrm>
              <a:custGeom>
                <a:avLst/>
                <a:gdLst/>
                <a:ahLst/>
                <a:rect l="l" t="t" r="r" b="b"/>
                <a:pathLst>
                  <a:path w="2086" h="1815">
                    <a:moveTo>
                      <a:pt x="499" y="1815"/>
                    </a:moveTo>
                    <a:lnTo>
                      <a:pt x="1542" y="1815"/>
                    </a:lnTo>
                    <a:lnTo>
                      <a:pt x="2086" y="907"/>
                    </a:lnTo>
                    <a:lnTo>
                      <a:pt x="1587" y="0"/>
                    </a:lnTo>
                    <a:lnTo>
                      <a:pt x="499" y="0"/>
                    </a:lnTo>
                    <a:lnTo>
                      <a:pt x="0" y="907"/>
                    </a:lnTo>
                    <a:lnTo>
                      <a:pt x="499" y="1815"/>
                    </a:lnTo>
                    <a:close/>
                  </a:path>
                </a:pathLst>
              </a:custGeom>
              <a:solidFill>
                <a:srgbClr val="00ffff"/>
              </a:solidFill>
              <a:ln w="28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4932360" y="1612080"/>
              <a:ext cx="450000" cy="391320"/>
              <a:chOff x="4932360" y="1612080"/>
              <a:chExt cx="450000" cy="391320"/>
            </a:xfrm>
          </p:grpSpPr>
          <p:sp>
            <p:nvSpPr>
              <p:cNvPr id="237" name=""/>
              <p:cNvSpPr/>
              <p:nvPr/>
            </p:nvSpPr>
            <p:spPr>
              <a:xfrm>
                <a:off x="4932360" y="1612080"/>
                <a:ext cx="450000" cy="391320"/>
              </a:xfrm>
              <a:custGeom>
                <a:avLst/>
                <a:gdLst/>
                <a:ahLst/>
                <a:rect l="l" t="t" r="r" b="b"/>
                <a:pathLst>
                  <a:path w="2086" h="1815">
                    <a:moveTo>
                      <a:pt x="499" y="1815"/>
                    </a:moveTo>
                    <a:lnTo>
                      <a:pt x="1542" y="1815"/>
                    </a:lnTo>
                    <a:lnTo>
                      <a:pt x="2086" y="907"/>
                    </a:lnTo>
                    <a:lnTo>
                      <a:pt x="1587" y="0"/>
                    </a:lnTo>
                    <a:lnTo>
                      <a:pt x="499" y="0"/>
                    </a:lnTo>
                    <a:lnTo>
                      <a:pt x="0" y="907"/>
                    </a:lnTo>
                    <a:lnTo>
                      <a:pt x="499" y="1815"/>
                    </a:lnTo>
                    <a:close/>
                  </a:path>
                </a:pathLst>
              </a:custGeom>
              <a:solidFill>
                <a:srgbClr val="00ffff"/>
              </a:solidFill>
              <a:ln w="28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988520" y="1657800"/>
                <a:ext cx="337320" cy="293400"/>
              </a:xfrm>
              <a:custGeom>
                <a:avLst/>
                <a:gdLst/>
                <a:ahLst/>
                <a:rect l="l" t="t" r="r" b="b"/>
                <a:pathLst>
                  <a:path w="2086" h="1815">
                    <a:moveTo>
                      <a:pt x="499" y="1815"/>
                    </a:moveTo>
                    <a:lnTo>
                      <a:pt x="1542" y="1815"/>
                    </a:lnTo>
                    <a:lnTo>
                      <a:pt x="2086" y="907"/>
                    </a:lnTo>
                    <a:lnTo>
                      <a:pt x="1587" y="0"/>
                    </a:lnTo>
                    <a:lnTo>
                      <a:pt x="499" y="0"/>
                    </a:lnTo>
                    <a:lnTo>
                      <a:pt x="0" y="907"/>
                    </a:lnTo>
                    <a:lnTo>
                      <a:pt x="499" y="1815"/>
                    </a:lnTo>
                    <a:close/>
                  </a:path>
                </a:pathLst>
              </a:custGeom>
              <a:solidFill>
                <a:srgbClr val="00ffff"/>
              </a:solidFill>
              <a:ln w="28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5175720" y="2040840"/>
              <a:ext cx="450000" cy="391320"/>
              <a:chOff x="5175720" y="2040840"/>
              <a:chExt cx="450000" cy="391320"/>
            </a:xfrm>
          </p:grpSpPr>
          <p:sp>
            <p:nvSpPr>
              <p:cNvPr id="240" name=""/>
              <p:cNvSpPr/>
              <p:nvPr/>
            </p:nvSpPr>
            <p:spPr>
              <a:xfrm>
                <a:off x="5175720" y="2040840"/>
                <a:ext cx="450000" cy="391320"/>
              </a:xfrm>
              <a:custGeom>
                <a:avLst/>
                <a:gdLst/>
                <a:ahLst/>
                <a:rect l="l" t="t" r="r" b="b"/>
                <a:pathLst>
                  <a:path w="2086" h="1815">
                    <a:moveTo>
                      <a:pt x="499" y="1815"/>
                    </a:moveTo>
                    <a:lnTo>
                      <a:pt x="1542" y="1815"/>
                    </a:lnTo>
                    <a:lnTo>
                      <a:pt x="2086" y="907"/>
                    </a:lnTo>
                    <a:lnTo>
                      <a:pt x="1587" y="0"/>
                    </a:lnTo>
                    <a:lnTo>
                      <a:pt x="499" y="0"/>
                    </a:lnTo>
                    <a:lnTo>
                      <a:pt x="0" y="907"/>
                    </a:lnTo>
                    <a:lnTo>
                      <a:pt x="499" y="1815"/>
                    </a:lnTo>
                    <a:close/>
                  </a:path>
                </a:pathLst>
              </a:custGeom>
              <a:solidFill>
                <a:srgbClr val="00ffff"/>
              </a:solidFill>
              <a:ln w="28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231880" y="2086560"/>
                <a:ext cx="337320" cy="293400"/>
              </a:xfrm>
              <a:custGeom>
                <a:avLst/>
                <a:gdLst/>
                <a:ahLst/>
                <a:rect l="l" t="t" r="r" b="b"/>
                <a:pathLst>
                  <a:path w="2086" h="1815">
                    <a:moveTo>
                      <a:pt x="499" y="1815"/>
                    </a:moveTo>
                    <a:lnTo>
                      <a:pt x="1542" y="1815"/>
                    </a:lnTo>
                    <a:lnTo>
                      <a:pt x="2086" y="907"/>
                    </a:lnTo>
                    <a:lnTo>
                      <a:pt x="1587" y="0"/>
                    </a:lnTo>
                    <a:lnTo>
                      <a:pt x="499" y="0"/>
                    </a:lnTo>
                    <a:lnTo>
                      <a:pt x="0" y="907"/>
                    </a:lnTo>
                    <a:lnTo>
                      <a:pt x="499" y="1815"/>
                    </a:lnTo>
                    <a:close/>
                  </a:path>
                </a:pathLst>
              </a:custGeom>
              <a:solidFill>
                <a:srgbClr val="00ffff"/>
              </a:solidFill>
              <a:ln w="28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5664240" y="2040840"/>
              <a:ext cx="450000" cy="391320"/>
              <a:chOff x="5664240" y="2040840"/>
              <a:chExt cx="450000" cy="391320"/>
            </a:xfrm>
          </p:grpSpPr>
          <p:sp>
            <p:nvSpPr>
              <p:cNvPr id="243" name=""/>
              <p:cNvSpPr/>
              <p:nvPr/>
            </p:nvSpPr>
            <p:spPr>
              <a:xfrm>
                <a:off x="5664240" y="2040840"/>
                <a:ext cx="450000" cy="391320"/>
              </a:xfrm>
              <a:custGeom>
                <a:avLst/>
                <a:gdLst/>
                <a:ahLst/>
                <a:rect l="l" t="t" r="r" b="b"/>
                <a:pathLst>
                  <a:path w="2086" h="1815">
                    <a:moveTo>
                      <a:pt x="499" y="1815"/>
                    </a:moveTo>
                    <a:lnTo>
                      <a:pt x="1542" y="1815"/>
                    </a:lnTo>
                    <a:lnTo>
                      <a:pt x="2086" y="907"/>
                    </a:lnTo>
                    <a:lnTo>
                      <a:pt x="1587" y="0"/>
                    </a:lnTo>
                    <a:lnTo>
                      <a:pt x="499" y="0"/>
                    </a:lnTo>
                    <a:lnTo>
                      <a:pt x="0" y="907"/>
                    </a:lnTo>
                    <a:lnTo>
                      <a:pt x="499" y="1815"/>
                    </a:lnTo>
                    <a:close/>
                  </a:path>
                </a:pathLst>
              </a:custGeom>
              <a:solidFill>
                <a:srgbClr val="00ffff"/>
              </a:solidFill>
              <a:ln w="28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20400" y="2086560"/>
                <a:ext cx="337320" cy="293400"/>
              </a:xfrm>
              <a:custGeom>
                <a:avLst/>
                <a:gdLst/>
                <a:ahLst/>
                <a:rect l="l" t="t" r="r" b="b"/>
                <a:pathLst>
                  <a:path w="2086" h="1815">
                    <a:moveTo>
                      <a:pt x="499" y="1815"/>
                    </a:moveTo>
                    <a:lnTo>
                      <a:pt x="1542" y="1815"/>
                    </a:lnTo>
                    <a:lnTo>
                      <a:pt x="2086" y="907"/>
                    </a:lnTo>
                    <a:lnTo>
                      <a:pt x="1587" y="0"/>
                    </a:lnTo>
                    <a:lnTo>
                      <a:pt x="499" y="0"/>
                    </a:lnTo>
                    <a:lnTo>
                      <a:pt x="0" y="907"/>
                    </a:lnTo>
                    <a:lnTo>
                      <a:pt x="499" y="1815"/>
                    </a:lnTo>
                    <a:close/>
                  </a:path>
                </a:pathLst>
              </a:custGeom>
              <a:solidFill>
                <a:srgbClr val="00ffff"/>
              </a:solidFill>
              <a:ln w="28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5907960" y="1612080"/>
              <a:ext cx="450000" cy="391320"/>
              <a:chOff x="5907960" y="1612080"/>
              <a:chExt cx="450000" cy="391320"/>
            </a:xfrm>
          </p:grpSpPr>
          <p:sp>
            <p:nvSpPr>
              <p:cNvPr id="246" name=""/>
              <p:cNvSpPr/>
              <p:nvPr/>
            </p:nvSpPr>
            <p:spPr>
              <a:xfrm>
                <a:off x="5907960" y="1612080"/>
                <a:ext cx="450000" cy="391320"/>
              </a:xfrm>
              <a:custGeom>
                <a:avLst/>
                <a:gdLst/>
                <a:ahLst/>
                <a:rect l="l" t="t" r="r" b="b"/>
                <a:pathLst>
                  <a:path w="2086" h="1815">
                    <a:moveTo>
                      <a:pt x="499" y="1815"/>
                    </a:moveTo>
                    <a:lnTo>
                      <a:pt x="1542" y="1815"/>
                    </a:lnTo>
                    <a:lnTo>
                      <a:pt x="2086" y="907"/>
                    </a:lnTo>
                    <a:lnTo>
                      <a:pt x="1587" y="0"/>
                    </a:lnTo>
                    <a:lnTo>
                      <a:pt x="499" y="0"/>
                    </a:lnTo>
                    <a:lnTo>
                      <a:pt x="0" y="907"/>
                    </a:lnTo>
                    <a:lnTo>
                      <a:pt x="499" y="1815"/>
                    </a:lnTo>
                    <a:close/>
                  </a:path>
                </a:pathLst>
              </a:custGeom>
              <a:solidFill>
                <a:srgbClr val="00ffff"/>
              </a:solidFill>
              <a:ln w="28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964120" y="1657800"/>
                <a:ext cx="337320" cy="293400"/>
              </a:xfrm>
              <a:custGeom>
                <a:avLst/>
                <a:gdLst/>
                <a:ahLst/>
                <a:rect l="l" t="t" r="r" b="b"/>
                <a:pathLst>
                  <a:path w="2086" h="1815">
                    <a:moveTo>
                      <a:pt x="499" y="1815"/>
                    </a:moveTo>
                    <a:lnTo>
                      <a:pt x="1542" y="1815"/>
                    </a:lnTo>
                    <a:lnTo>
                      <a:pt x="2086" y="907"/>
                    </a:lnTo>
                    <a:lnTo>
                      <a:pt x="1587" y="0"/>
                    </a:lnTo>
                    <a:lnTo>
                      <a:pt x="499" y="0"/>
                    </a:lnTo>
                    <a:lnTo>
                      <a:pt x="0" y="907"/>
                    </a:lnTo>
                    <a:lnTo>
                      <a:pt x="499" y="1815"/>
                    </a:lnTo>
                    <a:close/>
                  </a:path>
                </a:pathLst>
              </a:custGeom>
              <a:solidFill>
                <a:srgbClr val="00ffff"/>
              </a:solidFill>
              <a:ln w="28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5357520" y="1478520"/>
              <a:ext cx="568800" cy="637200"/>
            </a:xfrm>
            <a:custGeom>
              <a:avLst/>
              <a:gdLst/>
              <a:ahLst/>
              <a:rect l="l" t="t" r="r" b="b"/>
              <a:pathLst>
                <a:path w="1860" h="2086">
                  <a:moveTo>
                    <a:pt x="953" y="0"/>
                  </a:moveTo>
                  <a:lnTo>
                    <a:pt x="635" y="544"/>
                  </a:lnTo>
                  <a:lnTo>
                    <a:pt x="0" y="544"/>
                  </a:lnTo>
                  <a:lnTo>
                    <a:pt x="318" y="1088"/>
                  </a:lnTo>
                  <a:lnTo>
                    <a:pt x="46" y="1587"/>
                  </a:lnTo>
                  <a:lnTo>
                    <a:pt x="681" y="1587"/>
                  </a:lnTo>
                  <a:lnTo>
                    <a:pt x="953" y="2086"/>
                  </a:lnTo>
                  <a:lnTo>
                    <a:pt x="1225" y="1587"/>
                  </a:lnTo>
                  <a:lnTo>
                    <a:pt x="1860" y="1587"/>
                  </a:lnTo>
                  <a:lnTo>
                    <a:pt x="1543" y="1043"/>
                  </a:lnTo>
                  <a:lnTo>
                    <a:pt x="1860" y="544"/>
                  </a:lnTo>
                  <a:lnTo>
                    <a:pt x="1225" y="544"/>
                  </a:lnTo>
                  <a:lnTo>
                    <a:pt x="1316" y="544"/>
                  </a:lnTo>
                  <a:lnTo>
                    <a:pt x="1724" y="544"/>
                  </a:lnTo>
                  <a:lnTo>
                    <a:pt x="1270" y="544"/>
                  </a:lnTo>
                  <a:lnTo>
                    <a:pt x="953" y="0"/>
                  </a:lnTo>
                  <a:close/>
                </a:path>
              </a:pathLst>
            </a:custGeom>
            <a:solidFill>
              <a:srgbClr val="00ff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930360" y="979560"/>
            <a:ext cx="1401480" cy="1394280"/>
            <a:chOff x="6930360" y="979560"/>
            <a:chExt cx="1401480" cy="1394280"/>
          </a:xfrm>
        </p:grpSpPr>
        <p:grpSp>
          <p:nvGrpSpPr>
            <p:cNvPr id="250" name=""/>
            <p:cNvGrpSpPr/>
            <p:nvPr/>
          </p:nvGrpSpPr>
          <p:grpSpPr>
            <a:xfrm>
              <a:off x="6930360" y="979560"/>
              <a:ext cx="1401480" cy="1394280"/>
              <a:chOff x="6930360" y="979560"/>
              <a:chExt cx="1401480" cy="1394280"/>
            </a:xfrm>
          </p:grpSpPr>
          <p:sp>
            <p:nvSpPr>
              <p:cNvPr id="251" name=""/>
              <p:cNvSpPr/>
              <p:nvPr/>
            </p:nvSpPr>
            <p:spPr>
              <a:xfrm rot="1920000">
                <a:off x="7653600" y="1028520"/>
                <a:ext cx="295200" cy="644400"/>
              </a:xfrm>
              <a:custGeom>
                <a:avLst/>
                <a:gdLst/>
                <a:ahLst/>
                <a:rect l="l" t="t" r="r" b="b"/>
                <a:pathLst>
                  <a:path w="817" h="1784">
                    <a:moveTo>
                      <a:pt x="416" y="7"/>
                    </a:moveTo>
                    <a:cubicBezTo>
                      <a:pt x="386" y="14"/>
                      <a:pt x="363" y="159"/>
                      <a:pt x="325" y="234"/>
                    </a:cubicBezTo>
                    <a:cubicBezTo>
                      <a:pt x="287" y="309"/>
                      <a:pt x="227" y="393"/>
                      <a:pt x="189" y="461"/>
                    </a:cubicBezTo>
                    <a:cubicBezTo>
                      <a:pt x="151" y="529"/>
                      <a:pt x="128" y="559"/>
                      <a:pt x="98" y="642"/>
                    </a:cubicBezTo>
                    <a:cubicBezTo>
                      <a:pt x="68" y="725"/>
                      <a:pt x="14" y="869"/>
                      <a:pt x="7" y="960"/>
                    </a:cubicBezTo>
                    <a:cubicBezTo>
                      <a:pt x="0" y="1051"/>
                      <a:pt x="15" y="1112"/>
                      <a:pt x="53" y="1187"/>
                    </a:cubicBezTo>
                    <a:cubicBezTo>
                      <a:pt x="91" y="1262"/>
                      <a:pt x="189" y="1323"/>
                      <a:pt x="234" y="1414"/>
                    </a:cubicBezTo>
                    <a:cubicBezTo>
                      <a:pt x="279" y="1505"/>
                      <a:pt x="280" y="1678"/>
                      <a:pt x="325" y="1731"/>
                    </a:cubicBezTo>
                    <a:cubicBezTo>
                      <a:pt x="370" y="1784"/>
                      <a:pt x="468" y="1769"/>
                      <a:pt x="506" y="1731"/>
                    </a:cubicBezTo>
                    <a:cubicBezTo>
                      <a:pt x="544" y="1693"/>
                      <a:pt x="529" y="1572"/>
                      <a:pt x="552" y="1504"/>
                    </a:cubicBezTo>
                    <a:cubicBezTo>
                      <a:pt x="575" y="1436"/>
                      <a:pt x="604" y="1376"/>
                      <a:pt x="642" y="1323"/>
                    </a:cubicBezTo>
                    <a:cubicBezTo>
                      <a:pt x="680" y="1270"/>
                      <a:pt x="756" y="1263"/>
                      <a:pt x="779" y="1187"/>
                    </a:cubicBezTo>
                    <a:cubicBezTo>
                      <a:pt x="802" y="1111"/>
                      <a:pt x="817" y="1028"/>
                      <a:pt x="779" y="869"/>
                    </a:cubicBezTo>
                    <a:cubicBezTo>
                      <a:pt x="741" y="710"/>
                      <a:pt x="575" y="302"/>
                      <a:pt x="552" y="234"/>
                    </a:cubicBezTo>
                    <a:cubicBezTo>
                      <a:pt x="529" y="166"/>
                      <a:pt x="650" y="468"/>
                      <a:pt x="642" y="461"/>
                    </a:cubicBezTo>
                    <a:cubicBezTo>
                      <a:pt x="634" y="454"/>
                      <a:pt x="536" y="265"/>
                      <a:pt x="506" y="189"/>
                    </a:cubicBezTo>
                    <a:cubicBezTo>
                      <a:pt x="476" y="113"/>
                      <a:pt x="446" y="0"/>
                      <a:pt x="416" y="7"/>
                    </a:cubicBez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3900000">
                <a:off x="7806240" y="1181520"/>
                <a:ext cx="294840" cy="644760"/>
              </a:xfrm>
              <a:custGeom>
                <a:avLst/>
                <a:gdLst/>
                <a:ahLst/>
                <a:rect l="l" t="t" r="r" b="b"/>
                <a:pathLst>
                  <a:path w="817" h="1784">
                    <a:moveTo>
                      <a:pt x="416" y="7"/>
                    </a:moveTo>
                    <a:cubicBezTo>
                      <a:pt x="386" y="14"/>
                      <a:pt x="363" y="159"/>
                      <a:pt x="325" y="234"/>
                    </a:cubicBezTo>
                    <a:cubicBezTo>
                      <a:pt x="287" y="309"/>
                      <a:pt x="227" y="393"/>
                      <a:pt x="189" y="461"/>
                    </a:cubicBezTo>
                    <a:cubicBezTo>
                      <a:pt x="151" y="529"/>
                      <a:pt x="128" y="559"/>
                      <a:pt x="98" y="642"/>
                    </a:cubicBezTo>
                    <a:cubicBezTo>
                      <a:pt x="68" y="725"/>
                      <a:pt x="14" y="869"/>
                      <a:pt x="7" y="960"/>
                    </a:cubicBezTo>
                    <a:cubicBezTo>
                      <a:pt x="0" y="1051"/>
                      <a:pt x="15" y="1112"/>
                      <a:pt x="53" y="1187"/>
                    </a:cubicBezTo>
                    <a:cubicBezTo>
                      <a:pt x="91" y="1262"/>
                      <a:pt x="189" y="1323"/>
                      <a:pt x="234" y="1414"/>
                    </a:cubicBezTo>
                    <a:cubicBezTo>
                      <a:pt x="279" y="1505"/>
                      <a:pt x="280" y="1678"/>
                      <a:pt x="325" y="1731"/>
                    </a:cubicBezTo>
                    <a:cubicBezTo>
                      <a:pt x="370" y="1784"/>
                      <a:pt x="468" y="1769"/>
                      <a:pt x="506" y="1731"/>
                    </a:cubicBezTo>
                    <a:cubicBezTo>
                      <a:pt x="544" y="1693"/>
                      <a:pt x="529" y="1572"/>
                      <a:pt x="552" y="1504"/>
                    </a:cubicBezTo>
                    <a:cubicBezTo>
                      <a:pt x="575" y="1436"/>
                      <a:pt x="604" y="1376"/>
                      <a:pt x="642" y="1323"/>
                    </a:cubicBezTo>
                    <a:cubicBezTo>
                      <a:pt x="680" y="1270"/>
                      <a:pt x="756" y="1263"/>
                      <a:pt x="779" y="1187"/>
                    </a:cubicBezTo>
                    <a:cubicBezTo>
                      <a:pt x="802" y="1111"/>
                      <a:pt x="817" y="1028"/>
                      <a:pt x="779" y="869"/>
                    </a:cubicBezTo>
                    <a:cubicBezTo>
                      <a:pt x="741" y="710"/>
                      <a:pt x="575" y="302"/>
                      <a:pt x="552" y="234"/>
                    </a:cubicBezTo>
                    <a:cubicBezTo>
                      <a:pt x="529" y="166"/>
                      <a:pt x="650" y="468"/>
                      <a:pt x="642" y="461"/>
                    </a:cubicBezTo>
                    <a:cubicBezTo>
                      <a:pt x="634" y="454"/>
                      <a:pt x="536" y="265"/>
                      <a:pt x="506" y="189"/>
                    </a:cubicBezTo>
                    <a:cubicBezTo>
                      <a:pt x="476" y="113"/>
                      <a:pt x="446" y="0"/>
                      <a:pt x="416" y="7"/>
                    </a:cubicBez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5880000">
                <a:off x="7844400" y="1378080"/>
                <a:ext cx="294840" cy="644760"/>
              </a:xfrm>
              <a:custGeom>
                <a:avLst/>
                <a:gdLst/>
                <a:ahLst/>
                <a:rect l="l" t="t" r="r" b="b"/>
                <a:pathLst>
                  <a:path w="817" h="1784">
                    <a:moveTo>
                      <a:pt x="416" y="7"/>
                    </a:moveTo>
                    <a:cubicBezTo>
                      <a:pt x="386" y="14"/>
                      <a:pt x="363" y="159"/>
                      <a:pt x="325" y="234"/>
                    </a:cubicBezTo>
                    <a:cubicBezTo>
                      <a:pt x="287" y="309"/>
                      <a:pt x="227" y="393"/>
                      <a:pt x="189" y="461"/>
                    </a:cubicBezTo>
                    <a:cubicBezTo>
                      <a:pt x="151" y="529"/>
                      <a:pt x="128" y="559"/>
                      <a:pt x="98" y="642"/>
                    </a:cubicBezTo>
                    <a:cubicBezTo>
                      <a:pt x="68" y="725"/>
                      <a:pt x="14" y="869"/>
                      <a:pt x="7" y="960"/>
                    </a:cubicBezTo>
                    <a:cubicBezTo>
                      <a:pt x="0" y="1051"/>
                      <a:pt x="15" y="1112"/>
                      <a:pt x="53" y="1187"/>
                    </a:cubicBezTo>
                    <a:cubicBezTo>
                      <a:pt x="91" y="1262"/>
                      <a:pt x="189" y="1323"/>
                      <a:pt x="234" y="1414"/>
                    </a:cubicBezTo>
                    <a:cubicBezTo>
                      <a:pt x="279" y="1505"/>
                      <a:pt x="280" y="1678"/>
                      <a:pt x="325" y="1731"/>
                    </a:cubicBezTo>
                    <a:cubicBezTo>
                      <a:pt x="370" y="1784"/>
                      <a:pt x="468" y="1769"/>
                      <a:pt x="506" y="1731"/>
                    </a:cubicBezTo>
                    <a:cubicBezTo>
                      <a:pt x="544" y="1693"/>
                      <a:pt x="529" y="1572"/>
                      <a:pt x="552" y="1504"/>
                    </a:cubicBezTo>
                    <a:cubicBezTo>
                      <a:pt x="575" y="1436"/>
                      <a:pt x="604" y="1376"/>
                      <a:pt x="642" y="1323"/>
                    </a:cubicBezTo>
                    <a:cubicBezTo>
                      <a:pt x="680" y="1270"/>
                      <a:pt x="756" y="1263"/>
                      <a:pt x="779" y="1187"/>
                    </a:cubicBezTo>
                    <a:cubicBezTo>
                      <a:pt x="802" y="1111"/>
                      <a:pt x="817" y="1028"/>
                      <a:pt x="779" y="869"/>
                    </a:cubicBezTo>
                    <a:cubicBezTo>
                      <a:pt x="741" y="710"/>
                      <a:pt x="575" y="302"/>
                      <a:pt x="552" y="234"/>
                    </a:cubicBezTo>
                    <a:cubicBezTo>
                      <a:pt x="529" y="166"/>
                      <a:pt x="650" y="468"/>
                      <a:pt x="642" y="461"/>
                    </a:cubicBezTo>
                    <a:cubicBezTo>
                      <a:pt x="634" y="454"/>
                      <a:pt x="536" y="265"/>
                      <a:pt x="506" y="189"/>
                    </a:cubicBezTo>
                    <a:cubicBezTo>
                      <a:pt x="476" y="113"/>
                      <a:pt x="446" y="0"/>
                      <a:pt x="416" y="7"/>
                    </a:cubicBez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7800000">
                <a:off x="7773840" y="1574280"/>
                <a:ext cx="294840" cy="644760"/>
              </a:xfrm>
              <a:custGeom>
                <a:avLst/>
                <a:gdLst/>
                <a:ahLst/>
                <a:rect l="l" t="t" r="r" b="b"/>
                <a:pathLst>
                  <a:path w="817" h="1784">
                    <a:moveTo>
                      <a:pt x="416" y="7"/>
                    </a:moveTo>
                    <a:cubicBezTo>
                      <a:pt x="386" y="14"/>
                      <a:pt x="363" y="159"/>
                      <a:pt x="325" y="234"/>
                    </a:cubicBezTo>
                    <a:cubicBezTo>
                      <a:pt x="287" y="309"/>
                      <a:pt x="227" y="393"/>
                      <a:pt x="189" y="461"/>
                    </a:cubicBezTo>
                    <a:cubicBezTo>
                      <a:pt x="151" y="529"/>
                      <a:pt x="128" y="559"/>
                      <a:pt x="98" y="642"/>
                    </a:cubicBezTo>
                    <a:cubicBezTo>
                      <a:pt x="68" y="725"/>
                      <a:pt x="14" y="869"/>
                      <a:pt x="7" y="960"/>
                    </a:cubicBezTo>
                    <a:cubicBezTo>
                      <a:pt x="0" y="1051"/>
                      <a:pt x="15" y="1112"/>
                      <a:pt x="53" y="1187"/>
                    </a:cubicBezTo>
                    <a:cubicBezTo>
                      <a:pt x="91" y="1262"/>
                      <a:pt x="189" y="1323"/>
                      <a:pt x="234" y="1414"/>
                    </a:cubicBezTo>
                    <a:cubicBezTo>
                      <a:pt x="279" y="1505"/>
                      <a:pt x="280" y="1678"/>
                      <a:pt x="325" y="1731"/>
                    </a:cubicBezTo>
                    <a:cubicBezTo>
                      <a:pt x="370" y="1784"/>
                      <a:pt x="468" y="1769"/>
                      <a:pt x="506" y="1731"/>
                    </a:cubicBezTo>
                    <a:cubicBezTo>
                      <a:pt x="544" y="1693"/>
                      <a:pt x="529" y="1572"/>
                      <a:pt x="552" y="1504"/>
                    </a:cubicBezTo>
                    <a:cubicBezTo>
                      <a:pt x="575" y="1436"/>
                      <a:pt x="604" y="1376"/>
                      <a:pt x="642" y="1323"/>
                    </a:cubicBezTo>
                    <a:cubicBezTo>
                      <a:pt x="680" y="1270"/>
                      <a:pt x="756" y="1263"/>
                      <a:pt x="779" y="1187"/>
                    </a:cubicBezTo>
                    <a:cubicBezTo>
                      <a:pt x="802" y="1111"/>
                      <a:pt x="817" y="1028"/>
                      <a:pt x="779" y="869"/>
                    </a:cubicBezTo>
                    <a:cubicBezTo>
                      <a:pt x="741" y="710"/>
                      <a:pt x="575" y="302"/>
                      <a:pt x="552" y="234"/>
                    </a:cubicBezTo>
                    <a:cubicBezTo>
                      <a:pt x="529" y="166"/>
                      <a:pt x="650" y="468"/>
                      <a:pt x="642" y="461"/>
                    </a:cubicBezTo>
                    <a:cubicBezTo>
                      <a:pt x="634" y="454"/>
                      <a:pt x="536" y="265"/>
                      <a:pt x="506" y="189"/>
                    </a:cubicBezTo>
                    <a:cubicBezTo>
                      <a:pt x="476" y="113"/>
                      <a:pt x="446" y="0"/>
                      <a:pt x="416" y="7"/>
                    </a:cubicBez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9780000">
                <a:off x="7588080" y="1699920"/>
                <a:ext cx="295200" cy="644400"/>
              </a:xfrm>
              <a:custGeom>
                <a:avLst/>
                <a:gdLst/>
                <a:ahLst/>
                <a:rect l="l" t="t" r="r" b="b"/>
                <a:pathLst>
                  <a:path w="817" h="1784">
                    <a:moveTo>
                      <a:pt x="416" y="7"/>
                    </a:moveTo>
                    <a:cubicBezTo>
                      <a:pt x="386" y="14"/>
                      <a:pt x="363" y="159"/>
                      <a:pt x="325" y="234"/>
                    </a:cubicBezTo>
                    <a:cubicBezTo>
                      <a:pt x="287" y="309"/>
                      <a:pt x="227" y="393"/>
                      <a:pt x="189" y="461"/>
                    </a:cubicBezTo>
                    <a:cubicBezTo>
                      <a:pt x="151" y="529"/>
                      <a:pt x="128" y="559"/>
                      <a:pt x="98" y="642"/>
                    </a:cubicBezTo>
                    <a:cubicBezTo>
                      <a:pt x="68" y="725"/>
                      <a:pt x="14" y="869"/>
                      <a:pt x="7" y="960"/>
                    </a:cubicBezTo>
                    <a:cubicBezTo>
                      <a:pt x="0" y="1051"/>
                      <a:pt x="15" y="1112"/>
                      <a:pt x="53" y="1187"/>
                    </a:cubicBezTo>
                    <a:cubicBezTo>
                      <a:pt x="91" y="1262"/>
                      <a:pt x="189" y="1323"/>
                      <a:pt x="234" y="1414"/>
                    </a:cubicBezTo>
                    <a:cubicBezTo>
                      <a:pt x="279" y="1505"/>
                      <a:pt x="280" y="1678"/>
                      <a:pt x="325" y="1731"/>
                    </a:cubicBezTo>
                    <a:cubicBezTo>
                      <a:pt x="370" y="1784"/>
                      <a:pt x="468" y="1769"/>
                      <a:pt x="506" y="1731"/>
                    </a:cubicBezTo>
                    <a:cubicBezTo>
                      <a:pt x="544" y="1693"/>
                      <a:pt x="529" y="1572"/>
                      <a:pt x="552" y="1504"/>
                    </a:cubicBezTo>
                    <a:cubicBezTo>
                      <a:pt x="575" y="1436"/>
                      <a:pt x="604" y="1376"/>
                      <a:pt x="642" y="1323"/>
                    </a:cubicBezTo>
                    <a:cubicBezTo>
                      <a:pt x="680" y="1270"/>
                      <a:pt x="756" y="1263"/>
                      <a:pt x="779" y="1187"/>
                    </a:cubicBezTo>
                    <a:cubicBezTo>
                      <a:pt x="802" y="1111"/>
                      <a:pt x="817" y="1028"/>
                      <a:pt x="779" y="869"/>
                    </a:cubicBezTo>
                    <a:cubicBezTo>
                      <a:pt x="741" y="710"/>
                      <a:pt x="575" y="302"/>
                      <a:pt x="552" y="234"/>
                    </a:cubicBezTo>
                    <a:cubicBezTo>
                      <a:pt x="529" y="166"/>
                      <a:pt x="650" y="468"/>
                      <a:pt x="642" y="461"/>
                    </a:cubicBezTo>
                    <a:cubicBezTo>
                      <a:pt x="634" y="454"/>
                      <a:pt x="536" y="265"/>
                      <a:pt x="506" y="189"/>
                    </a:cubicBezTo>
                    <a:cubicBezTo>
                      <a:pt x="476" y="113"/>
                      <a:pt x="446" y="0"/>
                      <a:pt x="416" y="7"/>
                    </a:cubicBez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473240" y="979560"/>
                <a:ext cx="295200" cy="644400"/>
              </a:xfrm>
              <a:custGeom>
                <a:avLst/>
                <a:gdLst/>
                <a:ahLst/>
                <a:rect l="l" t="t" r="r" b="b"/>
                <a:pathLst>
                  <a:path w="817" h="1784">
                    <a:moveTo>
                      <a:pt x="416" y="7"/>
                    </a:moveTo>
                    <a:cubicBezTo>
                      <a:pt x="386" y="14"/>
                      <a:pt x="363" y="159"/>
                      <a:pt x="325" y="234"/>
                    </a:cubicBezTo>
                    <a:cubicBezTo>
                      <a:pt x="287" y="309"/>
                      <a:pt x="227" y="393"/>
                      <a:pt x="189" y="461"/>
                    </a:cubicBezTo>
                    <a:cubicBezTo>
                      <a:pt x="151" y="529"/>
                      <a:pt x="128" y="559"/>
                      <a:pt x="98" y="642"/>
                    </a:cubicBezTo>
                    <a:cubicBezTo>
                      <a:pt x="68" y="725"/>
                      <a:pt x="14" y="869"/>
                      <a:pt x="7" y="960"/>
                    </a:cubicBezTo>
                    <a:cubicBezTo>
                      <a:pt x="0" y="1051"/>
                      <a:pt x="15" y="1112"/>
                      <a:pt x="53" y="1187"/>
                    </a:cubicBezTo>
                    <a:cubicBezTo>
                      <a:pt x="91" y="1262"/>
                      <a:pt x="189" y="1323"/>
                      <a:pt x="234" y="1414"/>
                    </a:cubicBezTo>
                    <a:cubicBezTo>
                      <a:pt x="279" y="1505"/>
                      <a:pt x="280" y="1678"/>
                      <a:pt x="325" y="1731"/>
                    </a:cubicBezTo>
                    <a:cubicBezTo>
                      <a:pt x="370" y="1784"/>
                      <a:pt x="468" y="1769"/>
                      <a:pt x="506" y="1731"/>
                    </a:cubicBezTo>
                    <a:cubicBezTo>
                      <a:pt x="544" y="1693"/>
                      <a:pt x="529" y="1572"/>
                      <a:pt x="552" y="1504"/>
                    </a:cubicBezTo>
                    <a:cubicBezTo>
                      <a:pt x="575" y="1436"/>
                      <a:pt x="604" y="1376"/>
                      <a:pt x="642" y="1323"/>
                    </a:cubicBezTo>
                    <a:cubicBezTo>
                      <a:pt x="680" y="1270"/>
                      <a:pt x="756" y="1263"/>
                      <a:pt x="779" y="1187"/>
                    </a:cubicBezTo>
                    <a:cubicBezTo>
                      <a:pt x="802" y="1111"/>
                      <a:pt x="817" y="1028"/>
                      <a:pt x="779" y="869"/>
                    </a:cubicBezTo>
                    <a:cubicBezTo>
                      <a:pt x="741" y="710"/>
                      <a:pt x="575" y="302"/>
                      <a:pt x="552" y="234"/>
                    </a:cubicBezTo>
                    <a:cubicBezTo>
                      <a:pt x="529" y="166"/>
                      <a:pt x="650" y="468"/>
                      <a:pt x="642" y="461"/>
                    </a:cubicBezTo>
                    <a:cubicBezTo>
                      <a:pt x="634" y="454"/>
                      <a:pt x="536" y="265"/>
                      <a:pt x="506" y="189"/>
                    </a:cubicBezTo>
                    <a:cubicBezTo>
                      <a:pt x="476" y="113"/>
                      <a:pt x="446" y="0"/>
                      <a:pt x="416" y="7"/>
                    </a:cubicBez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19680000">
                <a:off x="7309080" y="1023120"/>
                <a:ext cx="292680" cy="644400"/>
              </a:xfrm>
              <a:custGeom>
                <a:avLst/>
                <a:gdLst/>
                <a:ahLst/>
                <a:rect l="l" t="t" r="r" b="b"/>
                <a:pathLst>
                  <a:path w="817" h="1784">
                    <a:moveTo>
                      <a:pt x="416" y="7"/>
                    </a:moveTo>
                    <a:cubicBezTo>
                      <a:pt x="386" y="14"/>
                      <a:pt x="363" y="159"/>
                      <a:pt x="325" y="234"/>
                    </a:cubicBezTo>
                    <a:cubicBezTo>
                      <a:pt x="287" y="309"/>
                      <a:pt x="227" y="393"/>
                      <a:pt x="189" y="461"/>
                    </a:cubicBezTo>
                    <a:cubicBezTo>
                      <a:pt x="151" y="529"/>
                      <a:pt x="128" y="559"/>
                      <a:pt x="98" y="642"/>
                    </a:cubicBezTo>
                    <a:cubicBezTo>
                      <a:pt x="68" y="725"/>
                      <a:pt x="14" y="869"/>
                      <a:pt x="7" y="960"/>
                    </a:cubicBezTo>
                    <a:cubicBezTo>
                      <a:pt x="0" y="1051"/>
                      <a:pt x="15" y="1112"/>
                      <a:pt x="53" y="1187"/>
                    </a:cubicBezTo>
                    <a:cubicBezTo>
                      <a:pt x="91" y="1262"/>
                      <a:pt x="189" y="1323"/>
                      <a:pt x="234" y="1414"/>
                    </a:cubicBezTo>
                    <a:cubicBezTo>
                      <a:pt x="279" y="1505"/>
                      <a:pt x="280" y="1678"/>
                      <a:pt x="325" y="1731"/>
                    </a:cubicBezTo>
                    <a:cubicBezTo>
                      <a:pt x="370" y="1784"/>
                      <a:pt x="468" y="1769"/>
                      <a:pt x="506" y="1731"/>
                    </a:cubicBezTo>
                    <a:cubicBezTo>
                      <a:pt x="544" y="1693"/>
                      <a:pt x="529" y="1572"/>
                      <a:pt x="552" y="1504"/>
                    </a:cubicBezTo>
                    <a:cubicBezTo>
                      <a:pt x="575" y="1436"/>
                      <a:pt x="604" y="1376"/>
                      <a:pt x="642" y="1323"/>
                    </a:cubicBezTo>
                    <a:cubicBezTo>
                      <a:pt x="680" y="1270"/>
                      <a:pt x="756" y="1263"/>
                      <a:pt x="779" y="1187"/>
                    </a:cubicBezTo>
                    <a:cubicBezTo>
                      <a:pt x="802" y="1111"/>
                      <a:pt x="817" y="1028"/>
                      <a:pt x="779" y="869"/>
                    </a:cubicBezTo>
                    <a:cubicBezTo>
                      <a:pt x="741" y="710"/>
                      <a:pt x="575" y="302"/>
                      <a:pt x="552" y="234"/>
                    </a:cubicBezTo>
                    <a:cubicBezTo>
                      <a:pt x="529" y="166"/>
                      <a:pt x="650" y="468"/>
                      <a:pt x="642" y="461"/>
                    </a:cubicBezTo>
                    <a:cubicBezTo>
                      <a:pt x="634" y="454"/>
                      <a:pt x="536" y="265"/>
                      <a:pt x="506" y="189"/>
                    </a:cubicBezTo>
                    <a:cubicBezTo>
                      <a:pt x="476" y="113"/>
                      <a:pt x="446" y="0"/>
                      <a:pt x="416" y="7"/>
                    </a:cubicBez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17700000">
                <a:off x="7168680" y="1167480"/>
                <a:ext cx="294840" cy="639720"/>
              </a:xfrm>
              <a:custGeom>
                <a:avLst/>
                <a:gdLst/>
                <a:ahLst/>
                <a:rect l="l" t="t" r="r" b="b"/>
                <a:pathLst>
                  <a:path w="817" h="1784">
                    <a:moveTo>
                      <a:pt x="416" y="7"/>
                    </a:moveTo>
                    <a:cubicBezTo>
                      <a:pt x="386" y="14"/>
                      <a:pt x="363" y="159"/>
                      <a:pt x="325" y="234"/>
                    </a:cubicBezTo>
                    <a:cubicBezTo>
                      <a:pt x="287" y="309"/>
                      <a:pt x="227" y="393"/>
                      <a:pt x="189" y="461"/>
                    </a:cubicBezTo>
                    <a:cubicBezTo>
                      <a:pt x="151" y="529"/>
                      <a:pt x="128" y="559"/>
                      <a:pt x="98" y="642"/>
                    </a:cubicBezTo>
                    <a:cubicBezTo>
                      <a:pt x="68" y="725"/>
                      <a:pt x="14" y="869"/>
                      <a:pt x="7" y="960"/>
                    </a:cubicBezTo>
                    <a:cubicBezTo>
                      <a:pt x="0" y="1051"/>
                      <a:pt x="15" y="1112"/>
                      <a:pt x="53" y="1187"/>
                    </a:cubicBezTo>
                    <a:cubicBezTo>
                      <a:pt x="91" y="1262"/>
                      <a:pt x="189" y="1323"/>
                      <a:pt x="234" y="1414"/>
                    </a:cubicBezTo>
                    <a:cubicBezTo>
                      <a:pt x="279" y="1505"/>
                      <a:pt x="280" y="1678"/>
                      <a:pt x="325" y="1731"/>
                    </a:cubicBezTo>
                    <a:cubicBezTo>
                      <a:pt x="370" y="1784"/>
                      <a:pt x="468" y="1769"/>
                      <a:pt x="506" y="1731"/>
                    </a:cubicBezTo>
                    <a:cubicBezTo>
                      <a:pt x="544" y="1693"/>
                      <a:pt x="529" y="1572"/>
                      <a:pt x="552" y="1504"/>
                    </a:cubicBezTo>
                    <a:cubicBezTo>
                      <a:pt x="575" y="1436"/>
                      <a:pt x="604" y="1376"/>
                      <a:pt x="642" y="1323"/>
                    </a:cubicBezTo>
                    <a:cubicBezTo>
                      <a:pt x="680" y="1270"/>
                      <a:pt x="756" y="1263"/>
                      <a:pt x="779" y="1187"/>
                    </a:cubicBezTo>
                    <a:cubicBezTo>
                      <a:pt x="802" y="1111"/>
                      <a:pt x="817" y="1028"/>
                      <a:pt x="779" y="869"/>
                    </a:cubicBezTo>
                    <a:cubicBezTo>
                      <a:pt x="741" y="710"/>
                      <a:pt x="575" y="302"/>
                      <a:pt x="552" y="234"/>
                    </a:cubicBezTo>
                    <a:cubicBezTo>
                      <a:pt x="529" y="166"/>
                      <a:pt x="650" y="468"/>
                      <a:pt x="642" y="461"/>
                    </a:cubicBezTo>
                    <a:cubicBezTo>
                      <a:pt x="634" y="454"/>
                      <a:pt x="536" y="265"/>
                      <a:pt x="506" y="189"/>
                    </a:cubicBezTo>
                    <a:cubicBezTo>
                      <a:pt x="476" y="113"/>
                      <a:pt x="446" y="0"/>
                      <a:pt x="416" y="7"/>
                    </a:cubicBez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rot="15720000">
                <a:off x="7120080" y="1380600"/>
                <a:ext cx="294840" cy="639720"/>
              </a:xfrm>
              <a:custGeom>
                <a:avLst/>
                <a:gdLst/>
                <a:ahLst/>
                <a:rect l="l" t="t" r="r" b="b"/>
                <a:pathLst>
                  <a:path w="817" h="1784">
                    <a:moveTo>
                      <a:pt x="416" y="7"/>
                    </a:moveTo>
                    <a:cubicBezTo>
                      <a:pt x="386" y="14"/>
                      <a:pt x="363" y="159"/>
                      <a:pt x="325" y="234"/>
                    </a:cubicBezTo>
                    <a:cubicBezTo>
                      <a:pt x="287" y="309"/>
                      <a:pt x="227" y="393"/>
                      <a:pt x="189" y="461"/>
                    </a:cubicBezTo>
                    <a:cubicBezTo>
                      <a:pt x="151" y="529"/>
                      <a:pt x="128" y="559"/>
                      <a:pt x="98" y="642"/>
                    </a:cubicBezTo>
                    <a:cubicBezTo>
                      <a:pt x="68" y="725"/>
                      <a:pt x="14" y="869"/>
                      <a:pt x="7" y="960"/>
                    </a:cubicBezTo>
                    <a:cubicBezTo>
                      <a:pt x="0" y="1051"/>
                      <a:pt x="15" y="1112"/>
                      <a:pt x="53" y="1187"/>
                    </a:cubicBezTo>
                    <a:cubicBezTo>
                      <a:pt x="91" y="1262"/>
                      <a:pt x="189" y="1323"/>
                      <a:pt x="234" y="1414"/>
                    </a:cubicBezTo>
                    <a:cubicBezTo>
                      <a:pt x="279" y="1505"/>
                      <a:pt x="280" y="1678"/>
                      <a:pt x="325" y="1731"/>
                    </a:cubicBezTo>
                    <a:cubicBezTo>
                      <a:pt x="370" y="1784"/>
                      <a:pt x="468" y="1769"/>
                      <a:pt x="506" y="1731"/>
                    </a:cubicBezTo>
                    <a:cubicBezTo>
                      <a:pt x="544" y="1693"/>
                      <a:pt x="529" y="1572"/>
                      <a:pt x="552" y="1504"/>
                    </a:cubicBezTo>
                    <a:cubicBezTo>
                      <a:pt x="575" y="1436"/>
                      <a:pt x="604" y="1376"/>
                      <a:pt x="642" y="1323"/>
                    </a:cubicBezTo>
                    <a:cubicBezTo>
                      <a:pt x="680" y="1270"/>
                      <a:pt x="756" y="1263"/>
                      <a:pt x="779" y="1187"/>
                    </a:cubicBezTo>
                    <a:cubicBezTo>
                      <a:pt x="802" y="1111"/>
                      <a:pt x="817" y="1028"/>
                      <a:pt x="779" y="869"/>
                    </a:cubicBezTo>
                    <a:cubicBezTo>
                      <a:pt x="741" y="710"/>
                      <a:pt x="575" y="302"/>
                      <a:pt x="552" y="234"/>
                    </a:cubicBezTo>
                    <a:cubicBezTo>
                      <a:pt x="529" y="166"/>
                      <a:pt x="650" y="468"/>
                      <a:pt x="642" y="461"/>
                    </a:cubicBezTo>
                    <a:cubicBezTo>
                      <a:pt x="634" y="454"/>
                      <a:pt x="536" y="265"/>
                      <a:pt x="506" y="189"/>
                    </a:cubicBezTo>
                    <a:cubicBezTo>
                      <a:pt x="476" y="113"/>
                      <a:pt x="446" y="0"/>
                      <a:pt x="416" y="7"/>
                    </a:cubicBez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 rot="13800000">
                <a:off x="7185600" y="1560600"/>
                <a:ext cx="294480" cy="639720"/>
              </a:xfrm>
              <a:custGeom>
                <a:avLst/>
                <a:gdLst/>
                <a:ahLst/>
                <a:rect l="l" t="t" r="r" b="b"/>
                <a:pathLst>
                  <a:path w="817" h="1784">
                    <a:moveTo>
                      <a:pt x="416" y="7"/>
                    </a:moveTo>
                    <a:cubicBezTo>
                      <a:pt x="386" y="14"/>
                      <a:pt x="363" y="159"/>
                      <a:pt x="325" y="234"/>
                    </a:cubicBezTo>
                    <a:cubicBezTo>
                      <a:pt x="287" y="309"/>
                      <a:pt x="227" y="393"/>
                      <a:pt x="189" y="461"/>
                    </a:cubicBezTo>
                    <a:cubicBezTo>
                      <a:pt x="151" y="529"/>
                      <a:pt x="128" y="559"/>
                      <a:pt x="98" y="642"/>
                    </a:cubicBezTo>
                    <a:cubicBezTo>
                      <a:pt x="68" y="725"/>
                      <a:pt x="14" y="869"/>
                      <a:pt x="7" y="960"/>
                    </a:cubicBezTo>
                    <a:cubicBezTo>
                      <a:pt x="0" y="1051"/>
                      <a:pt x="15" y="1112"/>
                      <a:pt x="53" y="1187"/>
                    </a:cubicBezTo>
                    <a:cubicBezTo>
                      <a:pt x="91" y="1262"/>
                      <a:pt x="189" y="1323"/>
                      <a:pt x="234" y="1414"/>
                    </a:cubicBezTo>
                    <a:cubicBezTo>
                      <a:pt x="279" y="1505"/>
                      <a:pt x="280" y="1678"/>
                      <a:pt x="325" y="1731"/>
                    </a:cubicBezTo>
                    <a:cubicBezTo>
                      <a:pt x="370" y="1784"/>
                      <a:pt x="468" y="1769"/>
                      <a:pt x="506" y="1731"/>
                    </a:cubicBezTo>
                    <a:cubicBezTo>
                      <a:pt x="544" y="1693"/>
                      <a:pt x="529" y="1572"/>
                      <a:pt x="552" y="1504"/>
                    </a:cubicBezTo>
                    <a:cubicBezTo>
                      <a:pt x="575" y="1436"/>
                      <a:pt x="604" y="1376"/>
                      <a:pt x="642" y="1323"/>
                    </a:cubicBezTo>
                    <a:cubicBezTo>
                      <a:pt x="680" y="1270"/>
                      <a:pt x="756" y="1263"/>
                      <a:pt x="779" y="1187"/>
                    </a:cubicBezTo>
                    <a:cubicBezTo>
                      <a:pt x="802" y="1111"/>
                      <a:pt x="817" y="1028"/>
                      <a:pt x="779" y="869"/>
                    </a:cubicBezTo>
                    <a:cubicBezTo>
                      <a:pt x="741" y="710"/>
                      <a:pt x="575" y="302"/>
                      <a:pt x="552" y="234"/>
                    </a:cubicBezTo>
                    <a:cubicBezTo>
                      <a:pt x="529" y="166"/>
                      <a:pt x="650" y="468"/>
                      <a:pt x="642" y="461"/>
                    </a:cubicBezTo>
                    <a:cubicBezTo>
                      <a:pt x="634" y="454"/>
                      <a:pt x="536" y="265"/>
                      <a:pt x="506" y="189"/>
                    </a:cubicBezTo>
                    <a:cubicBezTo>
                      <a:pt x="476" y="113"/>
                      <a:pt x="446" y="0"/>
                      <a:pt x="416" y="7"/>
                    </a:cubicBez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rot="11820000">
                <a:off x="7359480" y="1700280"/>
                <a:ext cx="292680" cy="644400"/>
              </a:xfrm>
              <a:custGeom>
                <a:avLst/>
                <a:gdLst/>
                <a:ahLst/>
                <a:rect l="l" t="t" r="r" b="b"/>
                <a:pathLst>
                  <a:path w="817" h="1784">
                    <a:moveTo>
                      <a:pt x="416" y="7"/>
                    </a:moveTo>
                    <a:cubicBezTo>
                      <a:pt x="386" y="14"/>
                      <a:pt x="363" y="159"/>
                      <a:pt x="325" y="234"/>
                    </a:cubicBezTo>
                    <a:cubicBezTo>
                      <a:pt x="287" y="309"/>
                      <a:pt x="227" y="393"/>
                      <a:pt x="189" y="461"/>
                    </a:cubicBezTo>
                    <a:cubicBezTo>
                      <a:pt x="151" y="529"/>
                      <a:pt x="128" y="559"/>
                      <a:pt x="98" y="642"/>
                    </a:cubicBezTo>
                    <a:cubicBezTo>
                      <a:pt x="68" y="725"/>
                      <a:pt x="14" y="869"/>
                      <a:pt x="7" y="960"/>
                    </a:cubicBezTo>
                    <a:cubicBezTo>
                      <a:pt x="0" y="1051"/>
                      <a:pt x="15" y="1112"/>
                      <a:pt x="53" y="1187"/>
                    </a:cubicBezTo>
                    <a:cubicBezTo>
                      <a:pt x="91" y="1262"/>
                      <a:pt x="189" y="1323"/>
                      <a:pt x="234" y="1414"/>
                    </a:cubicBezTo>
                    <a:cubicBezTo>
                      <a:pt x="279" y="1505"/>
                      <a:pt x="280" y="1678"/>
                      <a:pt x="325" y="1731"/>
                    </a:cubicBezTo>
                    <a:cubicBezTo>
                      <a:pt x="370" y="1784"/>
                      <a:pt x="468" y="1769"/>
                      <a:pt x="506" y="1731"/>
                    </a:cubicBezTo>
                    <a:cubicBezTo>
                      <a:pt x="544" y="1693"/>
                      <a:pt x="529" y="1572"/>
                      <a:pt x="552" y="1504"/>
                    </a:cubicBezTo>
                    <a:cubicBezTo>
                      <a:pt x="575" y="1436"/>
                      <a:pt x="604" y="1376"/>
                      <a:pt x="642" y="1323"/>
                    </a:cubicBezTo>
                    <a:cubicBezTo>
                      <a:pt x="680" y="1270"/>
                      <a:pt x="756" y="1263"/>
                      <a:pt x="779" y="1187"/>
                    </a:cubicBezTo>
                    <a:cubicBezTo>
                      <a:pt x="802" y="1111"/>
                      <a:pt x="817" y="1028"/>
                      <a:pt x="779" y="869"/>
                    </a:cubicBezTo>
                    <a:cubicBezTo>
                      <a:pt x="741" y="710"/>
                      <a:pt x="575" y="302"/>
                      <a:pt x="552" y="234"/>
                    </a:cubicBezTo>
                    <a:cubicBezTo>
                      <a:pt x="529" y="166"/>
                      <a:pt x="650" y="468"/>
                      <a:pt x="642" y="461"/>
                    </a:cubicBezTo>
                    <a:cubicBezTo>
                      <a:pt x="634" y="454"/>
                      <a:pt x="536" y="265"/>
                      <a:pt x="506" y="189"/>
                    </a:cubicBezTo>
                    <a:cubicBezTo>
                      <a:pt x="476" y="113"/>
                      <a:pt x="446" y="0"/>
                      <a:pt x="416" y="7"/>
                    </a:cubicBez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7108200" y="1164960"/>
              <a:ext cx="1035000" cy="997200"/>
              <a:chOff x="7108200" y="1164960"/>
              <a:chExt cx="1035000" cy="997200"/>
            </a:xfrm>
          </p:grpSpPr>
          <p:sp>
            <p:nvSpPr>
              <p:cNvPr id="263" name=""/>
              <p:cNvSpPr/>
              <p:nvPr/>
            </p:nvSpPr>
            <p:spPr>
              <a:xfrm>
                <a:off x="7544160" y="1164960"/>
                <a:ext cx="164160" cy="458640"/>
              </a:xfrm>
              <a:custGeom>
                <a:avLst/>
                <a:gdLst/>
                <a:ahLst/>
                <a:rect l="l" t="t" r="r" b="b"/>
                <a:pathLst>
                  <a:path w="454" h="1270">
                    <a:moveTo>
                      <a:pt x="318" y="1270"/>
                    </a:moveTo>
                    <a:lnTo>
                      <a:pt x="227" y="1270"/>
                    </a:lnTo>
                    <a:lnTo>
                      <a:pt x="182" y="1043"/>
                    </a:lnTo>
                    <a:lnTo>
                      <a:pt x="46" y="635"/>
                    </a:lnTo>
                    <a:lnTo>
                      <a:pt x="0" y="91"/>
                    </a:lnTo>
                    <a:lnTo>
                      <a:pt x="136" y="317"/>
                    </a:lnTo>
                    <a:lnTo>
                      <a:pt x="136" y="45"/>
                    </a:lnTo>
                    <a:lnTo>
                      <a:pt x="182" y="317"/>
                    </a:lnTo>
                    <a:lnTo>
                      <a:pt x="227" y="0"/>
                    </a:lnTo>
                    <a:lnTo>
                      <a:pt x="318" y="317"/>
                    </a:lnTo>
                    <a:lnTo>
                      <a:pt x="318" y="91"/>
                    </a:lnTo>
                    <a:lnTo>
                      <a:pt x="409" y="363"/>
                    </a:lnTo>
                    <a:lnTo>
                      <a:pt x="454" y="45"/>
                    </a:lnTo>
                    <a:lnTo>
                      <a:pt x="454" y="499"/>
                    </a:lnTo>
                    <a:lnTo>
                      <a:pt x="454" y="771"/>
                    </a:lnTo>
                    <a:lnTo>
                      <a:pt x="363" y="1134"/>
                    </a:lnTo>
                    <a:lnTo>
                      <a:pt x="318" y="12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e9f7ff"/>
                  </a:gs>
                </a:gsLst>
                <a:lin ang="10800000"/>
              </a:gra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20000">
                <a:off x="7691760" y="1181160"/>
                <a:ext cx="164160" cy="458640"/>
              </a:xfrm>
              <a:custGeom>
                <a:avLst/>
                <a:gdLst/>
                <a:ahLst/>
                <a:rect l="l" t="t" r="r" b="b"/>
                <a:pathLst>
                  <a:path w="454" h="1270">
                    <a:moveTo>
                      <a:pt x="318" y="1270"/>
                    </a:moveTo>
                    <a:lnTo>
                      <a:pt x="227" y="1270"/>
                    </a:lnTo>
                    <a:lnTo>
                      <a:pt x="182" y="1043"/>
                    </a:lnTo>
                    <a:lnTo>
                      <a:pt x="46" y="635"/>
                    </a:lnTo>
                    <a:lnTo>
                      <a:pt x="0" y="91"/>
                    </a:lnTo>
                    <a:lnTo>
                      <a:pt x="136" y="317"/>
                    </a:lnTo>
                    <a:lnTo>
                      <a:pt x="136" y="45"/>
                    </a:lnTo>
                    <a:lnTo>
                      <a:pt x="182" y="317"/>
                    </a:lnTo>
                    <a:lnTo>
                      <a:pt x="227" y="0"/>
                    </a:lnTo>
                    <a:lnTo>
                      <a:pt x="318" y="317"/>
                    </a:lnTo>
                    <a:lnTo>
                      <a:pt x="318" y="91"/>
                    </a:lnTo>
                    <a:lnTo>
                      <a:pt x="409" y="363"/>
                    </a:lnTo>
                    <a:lnTo>
                      <a:pt x="454" y="45"/>
                    </a:lnTo>
                    <a:lnTo>
                      <a:pt x="454" y="499"/>
                    </a:lnTo>
                    <a:lnTo>
                      <a:pt x="454" y="771"/>
                    </a:lnTo>
                    <a:lnTo>
                      <a:pt x="363" y="1134"/>
                    </a:lnTo>
                    <a:lnTo>
                      <a:pt x="318" y="12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e9f7ff"/>
                  </a:gs>
                </a:gsLst>
                <a:lin ang="10800000"/>
              </a:gra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3900000">
                <a:off x="7789680" y="1295640"/>
                <a:ext cx="163800" cy="459000"/>
              </a:xfrm>
              <a:custGeom>
                <a:avLst/>
                <a:gdLst/>
                <a:ahLst/>
                <a:rect l="l" t="t" r="r" b="b"/>
                <a:pathLst>
                  <a:path w="454" h="1270">
                    <a:moveTo>
                      <a:pt x="318" y="1270"/>
                    </a:moveTo>
                    <a:lnTo>
                      <a:pt x="227" y="1270"/>
                    </a:lnTo>
                    <a:lnTo>
                      <a:pt x="182" y="1043"/>
                    </a:lnTo>
                    <a:lnTo>
                      <a:pt x="46" y="635"/>
                    </a:lnTo>
                    <a:lnTo>
                      <a:pt x="0" y="91"/>
                    </a:lnTo>
                    <a:lnTo>
                      <a:pt x="136" y="317"/>
                    </a:lnTo>
                    <a:lnTo>
                      <a:pt x="136" y="45"/>
                    </a:lnTo>
                    <a:lnTo>
                      <a:pt x="182" y="317"/>
                    </a:lnTo>
                    <a:lnTo>
                      <a:pt x="227" y="0"/>
                    </a:lnTo>
                    <a:lnTo>
                      <a:pt x="318" y="317"/>
                    </a:lnTo>
                    <a:lnTo>
                      <a:pt x="318" y="91"/>
                    </a:lnTo>
                    <a:lnTo>
                      <a:pt x="409" y="363"/>
                    </a:lnTo>
                    <a:lnTo>
                      <a:pt x="454" y="45"/>
                    </a:lnTo>
                    <a:lnTo>
                      <a:pt x="454" y="499"/>
                    </a:lnTo>
                    <a:lnTo>
                      <a:pt x="454" y="771"/>
                    </a:lnTo>
                    <a:lnTo>
                      <a:pt x="363" y="1134"/>
                    </a:lnTo>
                    <a:lnTo>
                      <a:pt x="318" y="12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e9f7ff"/>
                  </a:gs>
                </a:gsLst>
                <a:lin ang="10800000"/>
              </a:gra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5880000">
                <a:off x="7822440" y="1459440"/>
                <a:ext cx="163800" cy="459000"/>
              </a:xfrm>
              <a:custGeom>
                <a:avLst/>
                <a:gdLst/>
                <a:ahLst/>
                <a:rect l="l" t="t" r="r" b="b"/>
                <a:pathLst>
                  <a:path w="454" h="1270">
                    <a:moveTo>
                      <a:pt x="318" y="1270"/>
                    </a:moveTo>
                    <a:lnTo>
                      <a:pt x="227" y="1270"/>
                    </a:lnTo>
                    <a:lnTo>
                      <a:pt x="182" y="1043"/>
                    </a:lnTo>
                    <a:lnTo>
                      <a:pt x="46" y="635"/>
                    </a:lnTo>
                    <a:lnTo>
                      <a:pt x="0" y="91"/>
                    </a:lnTo>
                    <a:lnTo>
                      <a:pt x="136" y="317"/>
                    </a:lnTo>
                    <a:lnTo>
                      <a:pt x="136" y="45"/>
                    </a:lnTo>
                    <a:lnTo>
                      <a:pt x="182" y="317"/>
                    </a:lnTo>
                    <a:lnTo>
                      <a:pt x="227" y="0"/>
                    </a:lnTo>
                    <a:lnTo>
                      <a:pt x="318" y="317"/>
                    </a:lnTo>
                    <a:lnTo>
                      <a:pt x="318" y="91"/>
                    </a:lnTo>
                    <a:lnTo>
                      <a:pt x="409" y="363"/>
                    </a:lnTo>
                    <a:lnTo>
                      <a:pt x="454" y="45"/>
                    </a:lnTo>
                    <a:lnTo>
                      <a:pt x="454" y="499"/>
                    </a:lnTo>
                    <a:lnTo>
                      <a:pt x="454" y="771"/>
                    </a:lnTo>
                    <a:lnTo>
                      <a:pt x="363" y="1134"/>
                    </a:lnTo>
                    <a:lnTo>
                      <a:pt x="318" y="12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e9f7ff"/>
                  </a:gs>
                </a:gsLst>
                <a:lin ang="10800000"/>
              </a:gra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7800000">
                <a:off x="7773480" y="1590120"/>
                <a:ext cx="163800" cy="459000"/>
              </a:xfrm>
              <a:custGeom>
                <a:avLst/>
                <a:gdLst/>
                <a:ahLst/>
                <a:rect l="l" t="t" r="r" b="b"/>
                <a:pathLst>
                  <a:path w="454" h="1270">
                    <a:moveTo>
                      <a:pt x="318" y="1270"/>
                    </a:moveTo>
                    <a:lnTo>
                      <a:pt x="227" y="1270"/>
                    </a:lnTo>
                    <a:lnTo>
                      <a:pt x="182" y="1043"/>
                    </a:lnTo>
                    <a:lnTo>
                      <a:pt x="46" y="635"/>
                    </a:lnTo>
                    <a:lnTo>
                      <a:pt x="0" y="91"/>
                    </a:lnTo>
                    <a:lnTo>
                      <a:pt x="136" y="317"/>
                    </a:lnTo>
                    <a:lnTo>
                      <a:pt x="136" y="45"/>
                    </a:lnTo>
                    <a:lnTo>
                      <a:pt x="182" y="317"/>
                    </a:lnTo>
                    <a:lnTo>
                      <a:pt x="227" y="0"/>
                    </a:lnTo>
                    <a:lnTo>
                      <a:pt x="318" y="317"/>
                    </a:lnTo>
                    <a:lnTo>
                      <a:pt x="318" y="91"/>
                    </a:lnTo>
                    <a:lnTo>
                      <a:pt x="409" y="363"/>
                    </a:lnTo>
                    <a:lnTo>
                      <a:pt x="454" y="45"/>
                    </a:lnTo>
                    <a:lnTo>
                      <a:pt x="454" y="499"/>
                    </a:lnTo>
                    <a:lnTo>
                      <a:pt x="454" y="771"/>
                    </a:lnTo>
                    <a:lnTo>
                      <a:pt x="363" y="1134"/>
                    </a:lnTo>
                    <a:lnTo>
                      <a:pt x="318" y="12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e9f7ff"/>
                  </a:gs>
                </a:gsLst>
                <a:lin ang="10800000"/>
              </a:gra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9780000">
                <a:off x="7658640" y="1689120"/>
                <a:ext cx="164160" cy="458640"/>
              </a:xfrm>
              <a:custGeom>
                <a:avLst/>
                <a:gdLst/>
                <a:ahLst/>
                <a:rect l="l" t="t" r="r" b="b"/>
                <a:pathLst>
                  <a:path w="454" h="1270">
                    <a:moveTo>
                      <a:pt x="318" y="1270"/>
                    </a:moveTo>
                    <a:lnTo>
                      <a:pt x="227" y="1270"/>
                    </a:lnTo>
                    <a:lnTo>
                      <a:pt x="182" y="1043"/>
                    </a:lnTo>
                    <a:lnTo>
                      <a:pt x="46" y="635"/>
                    </a:lnTo>
                    <a:lnTo>
                      <a:pt x="0" y="91"/>
                    </a:lnTo>
                    <a:lnTo>
                      <a:pt x="136" y="317"/>
                    </a:lnTo>
                    <a:lnTo>
                      <a:pt x="136" y="45"/>
                    </a:lnTo>
                    <a:lnTo>
                      <a:pt x="182" y="317"/>
                    </a:lnTo>
                    <a:lnTo>
                      <a:pt x="227" y="0"/>
                    </a:lnTo>
                    <a:lnTo>
                      <a:pt x="318" y="317"/>
                    </a:lnTo>
                    <a:lnTo>
                      <a:pt x="318" y="91"/>
                    </a:lnTo>
                    <a:lnTo>
                      <a:pt x="409" y="363"/>
                    </a:lnTo>
                    <a:lnTo>
                      <a:pt x="454" y="45"/>
                    </a:lnTo>
                    <a:lnTo>
                      <a:pt x="454" y="499"/>
                    </a:lnTo>
                    <a:lnTo>
                      <a:pt x="454" y="771"/>
                    </a:lnTo>
                    <a:lnTo>
                      <a:pt x="363" y="1134"/>
                    </a:lnTo>
                    <a:lnTo>
                      <a:pt x="318" y="12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e9f7ff"/>
                  </a:gs>
                </a:gsLst>
                <a:lin ang="10800000"/>
              </a:gra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19680000">
                <a:off x="7423560" y="1180800"/>
                <a:ext cx="169200" cy="458640"/>
              </a:xfrm>
              <a:custGeom>
                <a:avLst/>
                <a:gdLst/>
                <a:ahLst/>
                <a:rect l="l" t="t" r="r" b="b"/>
                <a:pathLst>
                  <a:path w="454" h="1270">
                    <a:moveTo>
                      <a:pt x="318" y="1270"/>
                    </a:moveTo>
                    <a:lnTo>
                      <a:pt x="227" y="1270"/>
                    </a:lnTo>
                    <a:lnTo>
                      <a:pt x="182" y="1043"/>
                    </a:lnTo>
                    <a:lnTo>
                      <a:pt x="46" y="635"/>
                    </a:lnTo>
                    <a:lnTo>
                      <a:pt x="0" y="91"/>
                    </a:lnTo>
                    <a:lnTo>
                      <a:pt x="136" y="317"/>
                    </a:lnTo>
                    <a:lnTo>
                      <a:pt x="136" y="45"/>
                    </a:lnTo>
                    <a:lnTo>
                      <a:pt x="182" y="317"/>
                    </a:lnTo>
                    <a:lnTo>
                      <a:pt x="227" y="0"/>
                    </a:lnTo>
                    <a:lnTo>
                      <a:pt x="318" y="317"/>
                    </a:lnTo>
                    <a:lnTo>
                      <a:pt x="318" y="91"/>
                    </a:lnTo>
                    <a:lnTo>
                      <a:pt x="409" y="363"/>
                    </a:lnTo>
                    <a:lnTo>
                      <a:pt x="454" y="45"/>
                    </a:lnTo>
                    <a:lnTo>
                      <a:pt x="454" y="499"/>
                    </a:lnTo>
                    <a:lnTo>
                      <a:pt x="454" y="771"/>
                    </a:lnTo>
                    <a:lnTo>
                      <a:pt x="363" y="1134"/>
                    </a:lnTo>
                    <a:lnTo>
                      <a:pt x="318" y="12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f7ff"/>
                  </a:gs>
                  <a:gs pos="100000">
                    <a:srgbClr val="cccc00"/>
                  </a:gs>
                </a:gsLst>
                <a:lin ang="10800000"/>
              </a:gra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rot="17700000">
                <a:off x="7305120" y="1288440"/>
                <a:ext cx="163800" cy="473400"/>
              </a:xfrm>
              <a:custGeom>
                <a:avLst/>
                <a:gdLst/>
                <a:ahLst/>
                <a:rect l="l" t="t" r="r" b="b"/>
                <a:pathLst>
                  <a:path w="454" h="1270">
                    <a:moveTo>
                      <a:pt x="318" y="1270"/>
                    </a:moveTo>
                    <a:lnTo>
                      <a:pt x="227" y="1270"/>
                    </a:lnTo>
                    <a:lnTo>
                      <a:pt x="182" y="1043"/>
                    </a:lnTo>
                    <a:lnTo>
                      <a:pt x="46" y="635"/>
                    </a:lnTo>
                    <a:lnTo>
                      <a:pt x="0" y="91"/>
                    </a:lnTo>
                    <a:lnTo>
                      <a:pt x="136" y="317"/>
                    </a:lnTo>
                    <a:lnTo>
                      <a:pt x="136" y="45"/>
                    </a:lnTo>
                    <a:lnTo>
                      <a:pt x="182" y="317"/>
                    </a:lnTo>
                    <a:lnTo>
                      <a:pt x="227" y="0"/>
                    </a:lnTo>
                    <a:lnTo>
                      <a:pt x="318" y="317"/>
                    </a:lnTo>
                    <a:lnTo>
                      <a:pt x="318" y="91"/>
                    </a:lnTo>
                    <a:lnTo>
                      <a:pt x="409" y="363"/>
                    </a:lnTo>
                    <a:lnTo>
                      <a:pt x="454" y="45"/>
                    </a:lnTo>
                    <a:lnTo>
                      <a:pt x="454" y="499"/>
                    </a:lnTo>
                    <a:lnTo>
                      <a:pt x="454" y="771"/>
                    </a:lnTo>
                    <a:lnTo>
                      <a:pt x="363" y="1134"/>
                    </a:lnTo>
                    <a:lnTo>
                      <a:pt x="318" y="12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f7ff"/>
                  </a:gs>
                  <a:gs pos="100000">
                    <a:srgbClr val="cccc00"/>
                  </a:gs>
                </a:gsLst>
                <a:lin ang="10800000"/>
              </a:gra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 rot="15720000">
                <a:off x="7272000" y="1452240"/>
                <a:ext cx="163800" cy="473760"/>
              </a:xfrm>
              <a:custGeom>
                <a:avLst/>
                <a:gdLst/>
                <a:ahLst/>
                <a:rect l="l" t="t" r="r" b="b"/>
                <a:pathLst>
                  <a:path w="454" h="1270">
                    <a:moveTo>
                      <a:pt x="318" y="1270"/>
                    </a:moveTo>
                    <a:lnTo>
                      <a:pt x="227" y="1270"/>
                    </a:lnTo>
                    <a:lnTo>
                      <a:pt x="182" y="1043"/>
                    </a:lnTo>
                    <a:lnTo>
                      <a:pt x="46" y="635"/>
                    </a:lnTo>
                    <a:lnTo>
                      <a:pt x="0" y="91"/>
                    </a:lnTo>
                    <a:lnTo>
                      <a:pt x="136" y="317"/>
                    </a:lnTo>
                    <a:lnTo>
                      <a:pt x="136" y="45"/>
                    </a:lnTo>
                    <a:lnTo>
                      <a:pt x="182" y="317"/>
                    </a:lnTo>
                    <a:lnTo>
                      <a:pt x="227" y="0"/>
                    </a:lnTo>
                    <a:lnTo>
                      <a:pt x="318" y="317"/>
                    </a:lnTo>
                    <a:lnTo>
                      <a:pt x="318" y="91"/>
                    </a:lnTo>
                    <a:lnTo>
                      <a:pt x="409" y="363"/>
                    </a:lnTo>
                    <a:lnTo>
                      <a:pt x="454" y="45"/>
                    </a:lnTo>
                    <a:lnTo>
                      <a:pt x="454" y="499"/>
                    </a:lnTo>
                    <a:lnTo>
                      <a:pt x="454" y="771"/>
                    </a:lnTo>
                    <a:lnTo>
                      <a:pt x="363" y="1134"/>
                    </a:lnTo>
                    <a:lnTo>
                      <a:pt x="318" y="12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f7ff"/>
                  </a:gs>
                  <a:gs pos="100000">
                    <a:srgbClr val="cccc00"/>
                  </a:gs>
                </a:gsLst>
                <a:lin ang="10800000"/>
              </a:gra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rot="13800000">
                <a:off x="7322760" y="1599120"/>
                <a:ext cx="163800" cy="473760"/>
              </a:xfrm>
              <a:custGeom>
                <a:avLst/>
                <a:gdLst/>
                <a:ahLst/>
                <a:rect l="l" t="t" r="r" b="b"/>
                <a:pathLst>
                  <a:path w="454" h="1270">
                    <a:moveTo>
                      <a:pt x="318" y="1270"/>
                    </a:moveTo>
                    <a:lnTo>
                      <a:pt x="227" y="1270"/>
                    </a:lnTo>
                    <a:lnTo>
                      <a:pt x="182" y="1043"/>
                    </a:lnTo>
                    <a:lnTo>
                      <a:pt x="46" y="635"/>
                    </a:lnTo>
                    <a:lnTo>
                      <a:pt x="0" y="91"/>
                    </a:lnTo>
                    <a:lnTo>
                      <a:pt x="136" y="317"/>
                    </a:lnTo>
                    <a:lnTo>
                      <a:pt x="136" y="45"/>
                    </a:lnTo>
                    <a:lnTo>
                      <a:pt x="182" y="317"/>
                    </a:lnTo>
                    <a:lnTo>
                      <a:pt x="227" y="0"/>
                    </a:lnTo>
                    <a:lnTo>
                      <a:pt x="318" y="317"/>
                    </a:lnTo>
                    <a:lnTo>
                      <a:pt x="318" y="91"/>
                    </a:lnTo>
                    <a:lnTo>
                      <a:pt x="409" y="363"/>
                    </a:lnTo>
                    <a:lnTo>
                      <a:pt x="454" y="45"/>
                    </a:lnTo>
                    <a:lnTo>
                      <a:pt x="454" y="499"/>
                    </a:lnTo>
                    <a:lnTo>
                      <a:pt x="454" y="771"/>
                    </a:lnTo>
                    <a:lnTo>
                      <a:pt x="363" y="1134"/>
                    </a:lnTo>
                    <a:lnTo>
                      <a:pt x="318" y="12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f7ff"/>
                  </a:gs>
                  <a:gs pos="100000">
                    <a:srgbClr val="cccc00"/>
                  </a:gs>
                </a:gsLst>
                <a:lin ang="10800000"/>
              </a:gra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 rot="11820000">
                <a:off x="7445880" y="1688760"/>
                <a:ext cx="168840" cy="458640"/>
              </a:xfrm>
              <a:custGeom>
                <a:avLst/>
                <a:gdLst/>
                <a:ahLst/>
                <a:rect l="l" t="t" r="r" b="b"/>
                <a:pathLst>
                  <a:path w="454" h="1270">
                    <a:moveTo>
                      <a:pt x="318" y="1270"/>
                    </a:moveTo>
                    <a:lnTo>
                      <a:pt x="227" y="1270"/>
                    </a:lnTo>
                    <a:lnTo>
                      <a:pt x="182" y="1043"/>
                    </a:lnTo>
                    <a:lnTo>
                      <a:pt x="46" y="635"/>
                    </a:lnTo>
                    <a:lnTo>
                      <a:pt x="0" y="91"/>
                    </a:lnTo>
                    <a:lnTo>
                      <a:pt x="136" y="317"/>
                    </a:lnTo>
                    <a:lnTo>
                      <a:pt x="136" y="45"/>
                    </a:lnTo>
                    <a:lnTo>
                      <a:pt x="182" y="317"/>
                    </a:lnTo>
                    <a:lnTo>
                      <a:pt x="227" y="0"/>
                    </a:lnTo>
                    <a:lnTo>
                      <a:pt x="318" y="317"/>
                    </a:lnTo>
                    <a:lnTo>
                      <a:pt x="318" y="91"/>
                    </a:lnTo>
                    <a:lnTo>
                      <a:pt x="409" y="363"/>
                    </a:lnTo>
                    <a:lnTo>
                      <a:pt x="454" y="45"/>
                    </a:lnTo>
                    <a:lnTo>
                      <a:pt x="454" y="499"/>
                    </a:lnTo>
                    <a:lnTo>
                      <a:pt x="454" y="771"/>
                    </a:lnTo>
                    <a:lnTo>
                      <a:pt x="363" y="1134"/>
                    </a:lnTo>
                    <a:lnTo>
                      <a:pt x="318" y="12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f7ff"/>
                  </a:gs>
                  <a:gs pos="100000">
                    <a:srgbClr val="cccc00"/>
                  </a:gs>
                </a:gsLst>
                <a:lin ang="10800000"/>
              </a:gradFill>
              <a:ln w="936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4" name=""/>
          <p:cNvSpPr/>
          <p:nvPr/>
        </p:nvSpPr>
        <p:spPr>
          <a:xfrm>
            <a:off x="324000" y="2781360"/>
            <a:ext cx="86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  <a:ea typeface="MS UI Gothic"/>
              </a:rPr>
              <a:t>基本图案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4468680"/>
            <a:ext cx="9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  <a:ea typeface="MS UI Gothic"/>
              </a:rPr>
              <a:t>图案的形成过程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907920"/>
            <a:ext cx="0" cy="5473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4000" y="2637000"/>
            <a:ext cx="83516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59280" y="981000"/>
            <a:ext cx="0" cy="5400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79640" y="1773360"/>
            <a:ext cx="69840" cy="6984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4076640"/>
            <a:ext cx="8424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32720" y="981000"/>
            <a:ext cx="0" cy="5327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87280" y="981000"/>
            <a:ext cx="0" cy="5400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348200" y="2797200"/>
            <a:ext cx="1116360" cy="1102320"/>
            <a:chOff x="1348200" y="2797200"/>
            <a:chExt cx="1116360" cy="1102320"/>
          </a:xfrm>
        </p:grpSpPr>
        <p:sp>
          <p:nvSpPr>
            <p:cNvPr id="284" name=""/>
            <p:cNvSpPr/>
            <p:nvPr/>
          </p:nvSpPr>
          <p:spPr>
            <a:xfrm rot="3600000">
              <a:off x="1535040" y="2903400"/>
              <a:ext cx="742320" cy="860400"/>
            </a:xfrm>
            <a:custGeom>
              <a:avLst/>
              <a:gdLst/>
              <a:ahLst/>
              <a:rect l="l" t="t" r="r" b="b"/>
              <a:pathLst>
                <a:path w="151" h="174">
                  <a:moveTo>
                    <a:pt x="150" y="0"/>
                  </a:moveTo>
                  <a:cubicBezTo>
                    <a:pt x="88" y="0"/>
                    <a:pt x="31" y="33"/>
                    <a:pt x="0" y="87"/>
                  </a:cubicBezTo>
                  <a:lnTo>
                    <a:pt x="151" y="174"/>
                  </a:lnTo>
                  <a:lnTo>
                    <a:pt x="150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00000">
              <a:off x="1754640" y="3105000"/>
              <a:ext cx="358920" cy="754920"/>
            </a:xfrm>
            <a:custGeom>
              <a:avLst/>
              <a:gdLst/>
              <a:ahLst/>
              <a:rect l="l" t="t" r="r" b="b"/>
              <a:pathLst>
                <a:path w="907" h="1905">
                  <a:moveTo>
                    <a:pt x="907" y="952"/>
                  </a:moveTo>
                  <a:lnTo>
                    <a:pt x="454" y="0"/>
                  </a:lnTo>
                  <a:lnTo>
                    <a:pt x="0" y="952"/>
                  </a:lnTo>
                  <a:lnTo>
                    <a:pt x="454" y="1905"/>
                  </a:lnTo>
                  <a:lnTo>
                    <a:pt x="907" y="952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779480" y="4198680"/>
            <a:ext cx="1117080" cy="1103040"/>
            <a:chOff x="1779480" y="4198680"/>
            <a:chExt cx="1117080" cy="1103040"/>
          </a:xfrm>
        </p:grpSpPr>
        <p:sp>
          <p:nvSpPr>
            <p:cNvPr id="287" name=""/>
            <p:cNvSpPr/>
            <p:nvPr/>
          </p:nvSpPr>
          <p:spPr>
            <a:xfrm rot="3600000">
              <a:off x="1966320" y="4304880"/>
              <a:ext cx="742680" cy="860760"/>
            </a:xfrm>
            <a:custGeom>
              <a:avLst/>
              <a:gdLst/>
              <a:ahLst/>
              <a:rect l="l" t="t" r="r" b="b"/>
              <a:pathLst>
                <a:path w="151" h="174">
                  <a:moveTo>
                    <a:pt x="150" y="0"/>
                  </a:moveTo>
                  <a:cubicBezTo>
                    <a:pt x="88" y="0"/>
                    <a:pt x="31" y="33"/>
                    <a:pt x="0" y="87"/>
                  </a:cubicBezTo>
                  <a:lnTo>
                    <a:pt x="151" y="174"/>
                  </a:lnTo>
                  <a:lnTo>
                    <a:pt x="150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800000">
              <a:off x="2186280" y="4506840"/>
              <a:ext cx="359280" cy="755280"/>
            </a:xfrm>
            <a:custGeom>
              <a:avLst/>
              <a:gdLst/>
              <a:ahLst/>
              <a:rect l="l" t="t" r="r" b="b"/>
              <a:pathLst>
                <a:path w="907" h="1905">
                  <a:moveTo>
                    <a:pt x="907" y="952"/>
                  </a:moveTo>
                  <a:lnTo>
                    <a:pt x="454" y="0"/>
                  </a:lnTo>
                  <a:lnTo>
                    <a:pt x="0" y="952"/>
                  </a:lnTo>
                  <a:lnTo>
                    <a:pt x="454" y="1905"/>
                  </a:lnTo>
                  <a:lnTo>
                    <a:pt x="907" y="952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119320" y="4584600"/>
            <a:ext cx="1115280" cy="1071000"/>
            <a:chOff x="2119320" y="4584600"/>
            <a:chExt cx="1115280" cy="1071000"/>
          </a:xfrm>
        </p:grpSpPr>
        <p:sp>
          <p:nvSpPr>
            <p:cNvPr id="290" name=""/>
            <p:cNvSpPr/>
            <p:nvPr/>
          </p:nvSpPr>
          <p:spPr>
            <a:xfrm rot="7178400">
              <a:off x="2305440" y="4689720"/>
              <a:ext cx="742680" cy="860400"/>
            </a:xfrm>
            <a:custGeom>
              <a:avLst/>
              <a:gdLst/>
              <a:ahLst/>
              <a:rect l="l" t="t" r="r" b="b"/>
              <a:pathLst>
                <a:path w="151" h="174">
                  <a:moveTo>
                    <a:pt x="150" y="0"/>
                  </a:moveTo>
                  <a:cubicBezTo>
                    <a:pt x="88" y="0"/>
                    <a:pt x="31" y="33"/>
                    <a:pt x="0" y="87"/>
                  </a:cubicBezTo>
                  <a:lnTo>
                    <a:pt x="151" y="174"/>
                  </a:lnTo>
                  <a:lnTo>
                    <a:pt x="150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5378400">
              <a:off x="2382480" y="4842000"/>
              <a:ext cx="358920" cy="755280"/>
            </a:xfrm>
            <a:custGeom>
              <a:avLst/>
              <a:gdLst/>
              <a:ahLst/>
              <a:rect l="l" t="t" r="r" b="b"/>
              <a:pathLst>
                <a:path w="907" h="1905">
                  <a:moveTo>
                    <a:pt x="907" y="952"/>
                  </a:moveTo>
                  <a:lnTo>
                    <a:pt x="454" y="0"/>
                  </a:lnTo>
                  <a:lnTo>
                    <a:pt x="0" y="952"/>
                  </a:lnTo>
                  <a:lnTo>
                    <a:pt x="454" y="1905"/>
                  </a:lnTo>
                  <a:lnTo>
                    <a:pt x="907" y="952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012040" y="5194080"/>
            <a:ext cx="858960" cy="897840"/>
            <a:chOff x="2012040" y="5194080"/>
            <a:chExt cx="858960" cy="897840"/>
          </a:xfrm>
        </p:grpSpPr>
        <p:sp>
          <p:nvSpPr>
            <p:cNvPr id="293" name=""/>
            <p:cNvSpPr/>
            <p:nvPr/>
          </p:nvSpPr>
          <p:spPr>
            <a:xfrm rot="10800000">
              <a:off x="2128320" y="5231520"/>
              <a:ext cx="742680" cy="860400"/>
            </a:xfrm>
            <a:custGeom>
              <a:avLst/>
              <a:gdLst/>
              <a:ahLst/>
              <a:rect l="l" t="t" r="r" b="b"/>
              <a:pathLst>
                <a:path w="151" h="174">
                  <a:moveTo>
                    <a:pt x="150" y="0"/>
                  </a:moveTo>
                  <a:cubicBezTo>
                    <a:pt x="88" y="0"/>
                    <a:pt x="31" y="33"/>
                    <a:pt x="0" y="87"/>
                  </a:cubicBezTo>
                  <a:lnTo>
                    <a:pt x="151" y="174"/>
                  </a:lnTo>
                  <a:lnTo>
                    <a:pt x="150" y="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9000000">
              <a:off x="2176560" y="5232960"/>
              <a:ext cx="358920" cy="755280"/>
            </a:xfrm>
            <a:custGeom>
              <a:avLst/>
              <a:gdLst/>
              <a:ahLst/>
              <a:rect l="l" t="t" r="r" b="b"/>
              <a:pathLst>
                <a:path w="907" h="1905">
                  <a:moveTo>
                    <a:pt x="907" y="952"/>
                  </a:moveTo>
                  <a:lnTo>
                    <a:pt x="454" y="0"/>
                  </a:lnTo>
                  <a:lnTo>
                    <a:pt x="0" y="952"/>
                  </a:lnTo>
                  <a:lnTo>
                    <a:pt x="454" y="1905"/>
                  </a:lnTo>
                  <a:lnTo>
                    <a:pt x="907" y="952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419840" y="5190120"/>
            <a:ext cx="1116720" cy="1103040"/>
            <a:chOff x="1419840" y="5190120"/>
            <a:chExt cx="1116720" cy="1103040"/>
          </a:xfrm>
        </p:grpSpPr>
        <p:sp>
          <p:nvSpPr>
            <p:cNvPr id="296" name=""/>
            <p:cNvSpPr/>
            <p:nvPr/>
          </p:nvSpPr>
          <p:spPr>
            <a:xfrm rot="14400000">
              <a:off x="1606680" y="5325840"/>
              <a:ext cx="742680" cy="860760"/>
            </a:xfrm>
            <a:custGeom>
              <a:avLst/>
              <a:gdLst/>
              <a:ahLst/>
              <a:rect l="l" t="t" r="r" b="b"/>
              <a:pathLst>
                <a:path w="151" h="174">
                  <a:moveTo>
                    <a:pt x="150" y="0"/>
                  </a:moveTo>
                  <a:cubicBezTo>
                    <a:pt x="88" y="0"/>
                    <a:pt x="31" y="33"/>
                    <a:pt x="0" y="87"/>
                  </a:cubicBezTo>
                  <a:lnTo>
                    <a:pt x="151" y="174"/>
                  </a:lnTo>
                  <a:lnTo>
                    <a:pt x="150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2600000">
              <a:off x="1770120" y="5229360"/>
              <a:ext cx="359280" cy="755280"/>
            </a:xfrm>
            <a:custGeom>
              <a:avLst/>
              <a:gdLst/>
              <a:ahLst/>
              <a:rect l="l" t="t" r="r" b="b"/>
              <a:pathLst>
                <a:path w="907" h="1905">
                  <a:moveTo>
                    <a:pt x="907" y="952"/>
                  </a:moveTo>
                  <a:lnTo>
                    <a:pt x="454" y="0"/>
                  </a:lnTo>
                  <a:lnTo>
                    <a:pt x="0" y="952"/>
                  </a:lnTo>
                  <a:lnTo>
                    <a:pt x="454" y="1905"/>
                  </a:lnTo>
                  <a:lnTo>
                    <a:pt x="907" y="952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049040" y="4806000"/>
            <a:ext cx="1116360" cy="1073520"/>
            <a:chOff x="1049040" y="4806000"/>
            <a:chExt cx="1116360" cy="1073520"/>
          </a:xfrm>
        </p:grpSpPr>
        <p:sp>
          <p:nvSpPr>
            <p:cNvPr id="299" name=""/>
            <p:cNvSpPr/>
            <p:nvPr/>
          </p:nvSpPr>
          <p:spPr>
            <a:xfrm rot="18000000">
              <a:off x="1235880" y="4912560"/>
              <a:ext cx="742680" cy="860400"/>
            </a:xfrm>
            <a:custGeom>
              <a:avLst/>
              <a:gdLst/>
              <a:ahLst/>
              <a:rect l="l" t="t" r="r" b="b"/>
              <a:pathLst>
                <a:path w="151" h="174">
                  <a:moveTo>
                    <a:pt x="150" y="0"/>
                  </a:moveTo>
                  <a:cubicBezTo>
                    <a:pt x="88" y="0"/>
                    <a:pt x="31" y="33"/>
                    <a:pt x="0" y="87"/>
                  </a:cubicBezTo>
                  <a:lnTo>
                    <a:pt x="151" y="174"/>
                  </a:lnTo>
                  <a:lnTo>
                    <a:pt x="150" y="0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6200000">
              <a:off x="1543320" y="4866120"/>
              <a:ext cx="358920" cy="755280"/>
            </a:xfrm>
            <a:custGeom>
              <a:avLst/>
              <a:gdLst/>
              <a:ahLst/>
              <a:rect l="l" t="t" r="r" b="b"/>
              <a:pathLst>
                <a:path w="907" h="1905">
                  <a:moveTo>
                    <a:pt x="907" y="952"/>
                  </a:moveTo>
                  <a:lnTo>
                    <a:pt x="454" y="0"/>
                  </a:lnTo>
                  <a:lnTo>
                    <a:pt x="0" y="952"/>
                  </a:lnTo>
                  <a:lnTo>
                    <a:pt x="454" y="1905"/>
                  </a:lnTo>
                  <a:lnTo>
                    <a:pt x="907" y="952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413720" y="4402800"/>
            <a:ext cx="858960" cy="897840"/>
            <a:chOff x="1413720" y="4402800"/>
            <a:chExt cx="858960" cy="897840"/>
          </a:xfrm>
        </p:grpSpPr>
        <p:sp>
          <p:nvSpPr>
            <p:cNvPr id="302" name=""/>
            <p:cNvSpPr/>
            <p:nvPr/>
          </p:nvSpPr>
          <p:spPr>
            <a:xfrm>
              <a:off x="1413720" y="4402800"/>
              <a:ext cx="742680" cy="860400"/>
            </a:xfrm>
            <a:custGeom>
              <a:avLst/>
              <a:gdLst/>
              <a:ahLst/>
              <a:rect l="l" t="t" r="r" b="b"/>
              <a:pathLst>
                <a:path w="151" h="174">
                  <a:moveTo>
                    <a:pt x="150" y="0"/>
                  </a:moveTo>
                  <a:cubicBezTo>
                    <a:pt x="88" y="0"/>
                    <a:pt x="31" y="33"/>
                    <a:pt x="0" y="87"/>
                  </a:cubicBezTo>
                  <a:lnTo>
                    <a:pt x="151" y="174"/>
                  </a:lnTo>
                  <a:lnTo>
                    <a:pt x="150" y="0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9800000">
              <a:off x="1748880" y="4506120"/>
              <a:ext cx="358920" cy="755280"/>
            </a:xfrm>
            <a:custGeom>
              <a:avLst/>
              <a:gdLst/>
              <a:ahLst/>
              <a:rect l="l" t="t" r="r" b="b"/>
              <a:pathLst>
                <a:path w="907" h="1905">
                  <a:moveTo>
                    <a:pt x="907" y="952"/>
                  </a:moveTo>
                  <a:lnTo>
                    <a:pt x="454" y="0"/>
                  </a:lnTo>
                  <a:lnTo>
                    <a:pt x="0" y="952"/>
                  </a:lnTo>
                  <a:lnTo>
                    <a:pt x="454" y="1905"/>
                  </a:lnTo>
                  <a:lnTo>
                    <a:pt x="907" y="952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3333600" y="2924280"/>
            <a:ext cx="663840" cy="885600"/>
          </a:xfrm>
          <a:custGeom>
            <a:avLst/>
            <a:gdLst/>
            <a:ahLst/>
            <a:rect l="l" t="t" r="r" b="b"/>
            <a:pathLst>
              <a:path w="952" h="1270">
                <a:moveTo>
                  <a:pt x="499" y="1270"/>
                </a:moveTo>
                <a:lnTo>
                  <a:pt x="0" y="1134"/>
                </a:lnTo>
                <a:lnTo>
                  <a:pt x="952" y="0"/>
                </a:lnTo>
                <a:lnTo>
                  <a:pt x="499" y="127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f0000"/>
              </a:gs>
            </a:gsLst>
            <a:lin ang="5400000"/>
          </a:gra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32000" y="4437000"/>
            <a:ext cx="663840" cy="885960"/>
          </a:xfrm>
          <a:custGeom>
            <a:avLst/>
            <a:gdLst/>
            <a:ahLst/>
            <a:rect l="l" t="t" r="r" b="b"/>
            <a:pathLst>
              <a:path w="952" h="1270">
                <a:moveTo>
                  <a:pt x="499" y="1270"/>
                </a:moveTo>
                <a:lnTo>
                  <a:pt x="0" y="1134"/>
                </a:lnTo>
                <a:lnTo>
                  <a:pt x="952" y="0"/>
                </a:lnTo>
                <a:lnTo>
                  <a:pt x="499" y="127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f0000"/>
              </a:gs>
            </a:gsLst>
            <a:lin ang="5400000"/>
          </a:gra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637080" y="1773360"/>
            <a:ext cx="69840" cy="6984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900000">
            <a:off x="3189240" y="4437000"/>
            <a:ext cx="663480" cy="885960"/>
          </a:xfrm>
          <a:custGeom>
            <a:avLst/>
            <a:gdLst/>
            <a:ahLst/>
            <a:rect l="l" t="t" r="r" b="b"/>
            <a:pathLst>
              <a:path w="952" h="1270">
                <a:moveTo>
                  <a:pt x="499" y="1270"/>
                </a:moveTo>
                <a:lnTo>
                  <a:pt x="0" y="1134"/>
                </a:lnTo>
                <a:lnTo>
                  <a:pt x="952" y="0"/>
                </a:lnTo>
                <a:lnTo>
                  <a:pt x="499" y="127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f0000"/>
              </a:gs>
            </a:gsLst>
            <a:lin ang="4500000"/>
          </a:gra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800000">
            <a:off x="3276360" y="4436640"/>
            <a:ext cx="663480" cy="885960"/>
          </a:xfrm>
          <a:custGeom>
            <a:avLst/>
            <a:gdLst/>
            <a:ahLst/>
            <a:rect l="l" t="t" r="r" b="b"/>
            <a:pathLst>
              <a:path w="952" h="1270">
                <a:moveTo>
                  <a:pt x="499" y="1270"/>
                </a:moveTo>
                <a:lnTo>
                  <a:pt x="0" y="1134"/>
                </a:lnTo>
                <a:lnTo>
                  <a:pt x="952" y="0"/>
                </a:lnTo>
                <a:lnTo>
                  <a:pt x="499" y="127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f0000"/>
              </a:gs>
            </a:gsLst>
            <a:lin ang="3600000"/>
          </a:gra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2700000">
            <a:off x="3364920" y="4470120"/>
            <a:ext cx="663840" cy="885960"/>
          </a:xfrm>
          <a:custGeom>
            <a:avLst/>
            <a:gdLst/>
            <a:ahLst/>
            <a:rect l="l" t="t" r="r" b="b"/>
            <a:pathLst>
              <a:path w="952" h="1270">
                <a:moveTo>
                  <a:pt x="499" y="1270"/>
                </a:moveTo>
                <a:lnTo>
                  <a:pt x="0" y="1134"/>
                </a:lnTo>
                <a:lnTo>
                  <a:pt x="952" y="0"/>
                </a:lnTo>
                <a:lnTo>
                  <a:pt x="499" y="127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f0000"/>
              </a:gs>
            </a:gsLst>
            <a:lin ang="2700000"/>
          </a:gra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3600000">
            <a:off x="3438720" y="4527360"/>
            <a:ext cx="663480" cy="885600"/>
          </a:xfrm>
          <a:custGeom>
            <a:avLst/>
            <a:gdLst/>
            <a:ahLst/>
            <a:rect l="l" t="t" r="r" b="b"/>
            <a:pathLst>
              <a:path w="952" h="1270">
                <a:moveTo>
                  <a:pt x="499" y="1270"/>
                </a:moveTo>
                <a:lnTo>
                  <a:pt x="0" y="1134"/>
                </a:lnTo>
                <a:lnTo>
                  <a:pt x="952" y="0"/>
                </a:lnTo>
                <a:lnTo>
                  <a:pt x="499" y="127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f0000"/>
              </a:gs>
            </a:gsLst>
            <a:lin ang="1800000"/>
          </a:gra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4500000">
            <a:off x="3531960" y="4599000"/>
            <a:ext cx="663480" cy="885960"/>
          </a:xfrm>
          <a:custGeom>
            <a:avLst/>
            <a:gdLst/>
            <a:ahLst/>
            <a:rect l="l" t="t" r="r" b="b"/>
            <a:pathLst>
              <a:path w="952" h="1270">
                <a:moveTo>
                  <a:pt x="499" y="1270"/>
                </a:moveTo>
                <a:lnTo>
                  <a:pt x="0" y="1134"/>
                </a:lnTo>
                <a:lnTo>
                  <a:pt x="952" y="0"/>
                </a:lnTo>
                <a:lnTo>
                  <a:pt x="499" y="127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f0000"/>
              </a:gs>
            </a:gsLst>
            <a:lin ang="900000"/>
          </a:gra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5400000">
            <a:off x="3581280" y="4686120"/>
            <a:ext cx="663480" cy="885600"/>
          </a:xfrm>
          <a:custGeom>
            <a:avLst/>
            <a:gdLst/>
            <a:ahLst/>
            <a:rect l="l" t="t" r="r" b="b"/>
            <a:pathLst>
              <a:path w="952" h="1270">
                <a:moveTo>
                  <a:pt x="499" y="1270"/>
                </a:moveTo>
                <a:lnTo>
                  <a:pt x="0" y="1134"/>
                </a:lnTo>
                <a:lnTo>
                  <a:pt x="952" y="0"/>
                </a:lnTo>
                <a:lnTo>
                  <a:pt x="499" y="127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f0000"/>
              </a:gs>
            </a:gsLst>
            <a:lin ang="0"/>
          </a:gra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6300000">
            <a:off x="3602880" y="4757760"/>
            <a:ext cx="663480" cy="885960"/>
          </a:xfrm>
          <a:custGeom>
            <a:avLst/>
            <a:gdLst/>
            <a:ahLst/>
            <a:rect l="l" t="t" r="r" b="b"/>
            <a:pathLst>
              <a:path w="952" h="1270">
                <a:moveTo>
                  <a:pt x="499" y="1270"/>
                </a:moveTo>
                <a:lnTo>
                  <a:pt x="0" y="1134"/>
                </a:lnTo>
                <a:lnTo>
                  <a:pt x="952" y="0"/>
                </a:lnTo>
                <a:lnTo>
                  <a:pt x="499" y="127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f0000"/>
              </a:gs>
            </a:gsLst>
            <a:lin ang="20700000"/>
          </a:gra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7200000">
            <a:off x="3581280" y="4902120"/>
            <a:ext cx="663480" cy="885600"/>
          </a:xfrm>
          <a:custGeom>
            <a:avLst/>
            <a:gdLst/>
            <a:ahLst/>
            <a:rect l="l" t="t" r="r" b="b"/>
            <a:pathLst>
              <a:path w="952" h="1270">
                <a:moveTo>
                  <a:pt x="499" y="1270"/>
                </a:moveTo>
                <a:lnTo>
                  <a:pt x="0" y="1134"/>
                </a:lnTo>
                <a:lnTo>
                  <a:pt x="952" y="0"/>
                </a:lnTo>
                <a:lnTo>
                  <a:pt x="499" y="127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f0000"/>
              </a:gs>
            </a:gsLst>
            <a:lin ang="19800000"/>
          </a:gra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8100000">
            <a:off x="3492000" y="4990680"/>
            <a:ext cx="663840" cy="885960"/>
          </a:xfrm>
          <a:custGeom>
            <a:avLst/>
            <a:gdLst/>
            <a:ahLst/>
            <a:rect l="l" t="t" r="r" b="b"/>
            <a:pathLst>
              <a:path w="952" h="1270">
                <a:moveTo>
                  <a:pt x="499" y="1270"/>
                </a:moveTo>
                <a:lnTo>
                  <a:pt x="0" y="1134"/>
                </a:lnTo>
                <a:lnTo>
                  <a:pt x="952" y="0"/>
                </a:lnTo>
                <a:lnTo>
                  <a:pt x="499" y="127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f0000"/>
              </a:gs>
            </a:gsLst>
            <a:lin ang="18900000"/>
          </a:gra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9000000">
            <a:off x="3420720" y="5063760"/>
            <a:ext cx="663480" cy="885960"/>
          </a:xfrm>
          <a:custGeom>
            <a:avLst/>
            <a:gdLst/>
            <a:ahLst/>
            <a:rect l="l" t="t" r="r" b="b"/>
            <a:pathLst>
              <a:path w="952" h="1270">
                <a:moveTo>
                  <a:pt x="499" y="1270"/>
                </a:moveTo>
                <a:lnTo>
                  <a:pt x="0" y="1134"/>
                </a:lnTo>
                <a:lnTo>
                  <a:pt x="952" y="0"/>
                </a:lnTo>
                <a:lnTo>
                  <a:pt x="499" y="127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f0000"/>
              </a:gs>
            </a:gsLst>
            <a:lin ang="18000000"/>
          </a:gra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9900000">
            <a:off x="3333240" y="5083920"/>
            <a:ext cx="663840" cy="885960"/>
          </a:xfrm>
          <a:custGeom>
            <a:avLst/>
            <a:gdLst/>
            <a:ahLst/>
            <a:rect l="l" t="t" r="r" b="b"/>
            <a:pathLst>
              <a:path w="952" h="1270">
                <a:moveTo>
                  <a:pt x="499" y="1270"/>
                </a:moveTo>
                <a:lnTo>
                  <a:pt x="0" y="1134"/>
                </a:lnTo>
                <a:lnTo>
                  <a:pt x="952" y="0"/>
                </a:lnTo>
                <a:lnTo>
                  <a:pt x="499" y="127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f0000"/>
              </a:gs>
            </a:gsLst>
            <a:lin ang="17100000"/>
          </a:gra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92360" y="5149800"/>
            <a:ext cx="79560" cy="7956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3132000" y="4438800"/>
            <a:ext cx="758520" cy="1582560"/>
            <a:chOff x="3132000" y="4438800"/>
            <a:chExt cx="758520" cy="1582560"/>
          </a:xfrm>
        </p:grpSpPr>
        <p:sp>
          <p:nvSpPr>
            <p:cNvPr id="320" name=""/>
            <p:cNvSpPr/>
            <p:nvPr/>
          </p:nvSpPr>
          <p:spPr>
            <a:xfrm>
              <a:off x="3132000" y="4438800"/>
              <a:ext cx="663840" cy="886320"/>
            </a:xfrm>
            <a:custGeom>
              <a:avLst/>
              <a:gdLst/>
              <a:ahLst/>
              <a:rect l="l" t="t" r="r" b="b"/>
              <a:pathLst>
                <a:path w="952" h="1270">
                  <a:moveTo>
                    <a:pt x="499" y="1270"/>
                  </a:moveTo>
                  <a:lnTo>
                    <a:pt x="0" y="1134"/>
                  </a:lnTo>
                  <a:lnTo>
                    <a:pt x="952" y="0"/>
                  </a:lnTo>
                  <a:lnTo>
                    <a:pt x="499" y="127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f0000"/>
                </a:gs>
              </a:gsLst>
              <a:lin ang="5400000"/>
            </a:gra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0800000">
              <a:off x="3226680" y="5135040"/>
              <a:ext cx="663840" cy="886320"/>
            </a:xfrm>
            <a:custGeom>
              <a:avLst/>
              <a:gdLst/>
              <a:ahLst/>
              <a:rect l="l" t="t" r="r" b="b"/>
              <a:pathLst>
                <a:path w="952" h="1270">
                  <a:moveTo>
                    <a:pt x="499" y="1270"/>
                  </a:moveTo>
                  <a:lnTo>
                    <a:pt x="0" y="1134"/>
                  </a:lnTo>
                  <a:lnTo>
                    <a:pt x="952" y="0"/>
                  </a:lnTo>
                  <a:lnTo>
                    <a:pt x="499" y="127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f0000"/>
                </a:gs>
              </a:gsLst>
              <a:lin ang="16200000"/>
            </a:gra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37080" y="2997360"/>
            <a:ext cx="627120" cy="791640"/>
            <a:chOff x="5437080" y="2997360"/>
            <a:chExt cx="627120" cy="791640"/>
          </a:xfrm>
        </p:grpSpPr>
        <p:grpSp>
          <p:nvGrpSpPr>
            <p:cNvPr id="323" name=""/>
            <p:cNvGrpSpPr/>
            <p:nvPr/>
          </p:nvGrpSpPr>
          <p:grpSpPr>
            <a:xfrm>
              <a:off x="5460840" y="2997360"/>
              <a:ext cx="603360" cy="504720"/>
              <a:chOff x="5460840" y="2997360"/>
              <a:chExt cx="603360" cy="504720"/>
            </a:xfrm>
          </p:grpSpPr>
          <p:sp>
            <p:nvSpPr>
              <p:cNvPr id="324" name=""/>
              <p:cNvSpPr/>
              <p:nvPr/>
            </p:nvSpPr>
            <p:spPr>
              <a:xfrm>
                <a:off x="5460840" y="2997360"/>
                <a:ext cx="603360" cy="504720"/>
              </a:xfrm>
              <a:prstGeom prst="hexagon">
                <a:avLst>
                  <a:gd name="adj" fmla="val 29886"/>
                  <a:gd name="vf" fmla="val 115470"/>
                </a:avLst>
              </a:prstGeom>
              <a:solidFill>
                <a:srgbClr val="00ff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36080" y="3050640"/>
                <a:ext cx="453240" cy="379080"/>
              </a:xfrm>
              <a:prstGeom prst="hexagon">
                <a:avLst>
                  <a:gd name="adj" fmla="val 29891"/>
                  <a:gd name="vf" fmla="val 115470"/>
                </a:avLst>
              </a:prstGeom>
              <a:solidFill>
                <a:srgbClr val="00ff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5437080" y="3350520"/>
              <a:ext cx="396000" cy="438480"/>
            </a:xfrm>
            <a:custGeom>
              <a:avLst/>
              <a:gdLst/>
              <a:ahLst/>
              <a:rect l="l" t="t" r="r" b="b"/>
              <a:pathLst>
                <a:path w="817" h="907">
                  <a:moveTo>
                    <a:pt x="0" y="907"/>
                  </a:moveTo>
                  <a:lnTo>
                    <a:pt x="0" y="0"/>
                  </a:lnTo>
                  <a:lnTo>
                    <a:pt x="273" y="453"/>
                  </a:lnTo>
                  <a:lnTo>
                    <a:pt x="817" y="453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00ff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673600" y="4498920"/>
            <a:ext cx="627120" cy="792360"/>
            <a:chOff x="5673600" y="4498920"/>
            <a:chExt cx="627120" cy="792360"/>
          </a:xfrm>
        </p:grpSpPr>
        <p:grpSp>
          <p:nvGrpSpPr>
            <p:cNvPr id="328" name=""/>
            <p:cNvGrpSpPr/>
            <p:nvPr/>
          </p:nvGrpSpPr>
          <p:grpSpPr>
            <a:xfrm>
              <a:off x="5697360" y="4498920"/>
              <a:ext cx="603360" cy="504720"/>
              <a:chOff x="5697360" y="4498920"/>
              <a:chExt cx="603360" cy="504720"/>
            </a:xfrm>
          </p:grpSpPr>
          <p:sp>
            <p:nvSpPr>
              <p:cNvPr id="329" name=""/>
              <p:cNvSpPr/>
              <p:nvPr/>
            </p:nvSpPr>
            <p:spPr>
              <a:xfrm>
                <a:off x="5697360" y="4498920"/>
                <a:ext cx="603360" cy="504720"/>
              </a:xfrm>
              <a:prstGeom prst="hexagon">
                <a:avLst>
                  <a:gd name="adj" fmla="val 29886"/>
                  <a:gd name="vf" fmla="val 115470"/>
                </a:avLst>
              </a:prstGeom>
              <a:solidFill>
                <a:srgbClr val="00ff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772600" y="4552200"/>
                <a:ext cx="453240" cy="379080"/>
              </a:xfrm>
              <a:prstGeom prst="hexagon">
                <a:avLst>
                  <a:gd name="adj" fmla="val 29891"/>
                  <a:gd name="vf" fmla="val 115470"/>
                </a:avLst>
              </a:prstGeom>
              <a:solidFill>
                <a:srgbClr val="00ff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5673600" y="4852440"/>
              <a:ext cx="396000" cy="438840"/>
            </a:xfrm>
            <a:custGeom>
              <a:avLst/>
              <a:gdLst/>
              <a:ahLst/>
              <a:rect l="l" t="t" r="r" b="b"/>
              <a:pathLst>
                <a:path w="817" h="907">
                  <a:moveTo>
                    <a:pt x="0" y="907"/>
                  </a:moveTo>
                  <a:lnTo>
                    <a:pt x="0" y="0"/>
                  </a:lnTo>
                  <a:lnTo>
                    <a:pt x="273" y="453"/>
                  </a:lnTo>
                  <a:lnTo>
                    <a:pt x="817" y="453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00ff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674320" y="4909680"/>
            <a:ext cx="999720" cy="774720"/>
            <a:chOff x="5674320" y="4909680"/>
            <a:chExt cx="999720" cy="774720"/>
          </a:xfrm>
        </p:grpSpPr>
        <p:grpSp>
          <p:nvGrpSpPr>
            <p:cNvPr id="333" name=""/>
            <p:cNvGrpSpPr/>
            <p:nvPr/>
          </p:nvGrpSpPr>
          <p:grpSpPr>
            <a:xfrm>
              <a:off x="5935320" y="4909680"/>
              <a:ext cx="738720" cy="774720"/>
              <a:chOff x="5935320" y="4909680"/>
              <a:chExt cx="738720" cy="774720"/>
            </a:xfrm>
          </p:grpSpPr>
          <p:sp>
            <p:nvSpPr>
              <p:cNvPr id="334" name=""/>
              <p:cNvSpPr/>
              <p:nvPr/>
            </p:nvSpPr>
            <p:spPr>
              <a:xfrm rot="3600000">
                <a:off x="6002640" y="5044680"/>
                <a:ext cx="603360" cy="504720"/>
              </a:xfrm>
              <a:prstGeom prst="hexagon">
                <a:avLst>
                  <a:gd name="adj" fmla="val 29886"/>
                  <a:gd name="vf" fmla="val 115470"/>
                </a:avLst>
              </a:prstGeom>
              <a:solidFill>
                <a:srgbClr val="00ff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3600000">
                <a:off x="6086160" y="5102640"/>
                <a:ext cx="453240" cy="379080"/>
              </a:xfrm>
              <a:prstGeom prst="hexagon">
                <a:avLst>
                  <a:gd name="adj" fmla="val 29891"/>
                  <a:gd name="vf" fmla="val 115470"/>
                </a:avLst>
              </a:prstGeom>
              <a:solidFill>
                <a:srgbClr val="00ff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 rot="3600000">
              <a:off x="5765400" y="5127480"/>
              <a:ext cx="396000" cy="438840"/>
            </a:xfrm>
            <a:custGeom>
              <a:avLst/>
              <a:gdLst/>
              <a:ahLst/>
              <a:rect l="l" t="t" r="r" b="b"/>
              <a:pathLst>
                <a:path w="817" h="907">
                  <a:moveTo>
                    <a:pt x="0" y="907"/>
                  </a:moveTo>
                  <a:lnTo>
                    <a:pt x="0" y="0"/>
                  </a:lnTo>
                  <a:lnTo>
                    <a:pt x="273" y="453"/>
                  </a:lnTo>
                  <a:lnTo>
                    <a:pt x="817" y="453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00ff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86040" y="5289120"/>
            <a:ext cx="871560" cy="938880"/>
            <a:chOff x="5486040" y="5289120"/>
            <a:chExt cx="871560" cy="938880"/>
          </a:xfrm>
        </p:grpSpPr>
        <p:grpSp>
          <p:nvGrpSpPr>
            <p:cNvPr id="338" name=""/>
            <p:cNvGrpSpPr/>
            <p:nvPr/>
          </p:nvGrpSpPr>
          <p:grpSpPr>
            <a:xfrm>
              <a:off x="5618880" y="5453280"/>
              <a:ext cx="738720" cy="774720"/>
              <a:chOff x="5618880" y="5453280"/>
              <a:chExt cx="738720" cy="774720"/>
            </a:xfrm>
          </p:grpSpPr>
          <p:sp>
            <p:nvSpPr>
              <p:cNvPr id="339" name=""/>
              <p:cNvSpPr/>
              <p:nvPr/>
            </p:nvSpPr>
            <p:spPr>
              <a:xfrm rot="7200000">
                <a:off x="5686200" y="5588280"/>
                <a:ext cx="603360" cy="504720"/>
              </a:xfrm>
              <a:prstGeom prst="hexagon">
                <a:avLst>
                  <a:gd name="adj" fmla="val 29886"/>
                  <a:gd name="vf" fmla="val 115470"/>
                </a:avLst>
              </a:prstGeom>
              <a:solidFill>
                <a:srgbClr val="00ff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7200000">
                <a:off x="5769360" y="5655960"/>
                <a:ext cx="453240" cy="379080"/>
              </a:xfrm>
              <a:prstGeom prst="hexagon">
                <a:avLst>
                  <a:gd name="adj" fmla="val 29891"/>
                  <a:gd name="vf" fmla="val 115470"/>
                </a:avLst>
              </a:prstGeom>
              <a:solidFill>
                <a:srgbClr val="00ff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 rot="7200000">
              <a:off x="5576760" y="5350680"/>
              <a:ext cx="396000" cy="438480"/>
            </a:xfrm>
            <a:custGeom>
              <a:avLst/>
              <a:gdLst/>
              <a:ahLst/>
              <a:rect l="l" t="t" r="r" b="b"/>
              <a:pathLst>
                <a:path w="817" h="907">
                  <a:moveTo>
                    <a:pt x="0" y="907"/>
                  </a:moveTo>
                  <a:lnTo>
                    <a:pt x="0" y="0"/>
                  </a:lnTo>
                  <a:lnTo>
                    <a:pt x="273" y="453"/>
                  </a:lnTo>
                  <a:lnTo>
                    <a:pt x="817" y="453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00ff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046480" y="5300280"/>
            <a:ext cx="626760" cy="792360"/>
            <a:chOff x="5046480" y="5300280"/>
            <a:chExt cx="626760" cy="792360"/>
          </a:xfrm>
        </p:grpSpPr>
        <p:grpSp>
          <p:nvGrpSpPr>
            <p:cNvPr id="343" name=""/>
            <p:cNvGrpSpPr/>
            <p:nvPr/>
          </p:nvGrpSpPr>
          <p:grpSpPr>
            <a:xfrm>
              <a:off x="5046480" y="5587920"/>
              <a:ext cx="603000" cy="504720"/>
              <a:chOff x="5046480" y="5587920"/>
              <a:chExt cx="603000" cy="504720"/>
            </a:xfrm>
          </p:grpSpPr>
          <p:sp>
            <p:nvSpPr>
              <p:cNvPr id="344" name=""/>
              <p:cNvSpPr/>
              <p:nvPr/>
            </p:nvSpPr>
            <p:spPr>
              <a:xfrm rot="10800000">
                <a:off x="5046480" y="5587920"/>
                <a:ext cx="603000" cy="504720"/>
              </a:xfrm>
              <a:prstGeom prst="hexagon">
                <a:avLst>
                  <a:gd name="adj" fmla="val 29868"/>
                  <a:gd name="vf" fmla="val 115470"/>
                </a:avLst>
              </a:prstGeom>
              <a:solidFill>
                <a:srgbClr val="00ff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0800000">
                <a:off x="5121360" y="5660280"/>
                <a:ext cx="452880" cy="379080"/>
              </a:xfrm>
              <a:prstGeom prst="hexagon">
                <a:avLst>
                  <a:gd name="adj" fmla="val 29867"/>
                  <a:gd name="vf" fmla="val 115470"/>
                </a:avLst>
              </a:prstGeom>
              <a:solidFill>
                <a:srgbClr val="00ff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 rot="10800000">
              <a:off x="5277600" y="5300280"/>
              <a:ext cx="395640" cy="438840"/>
            </a:xfrm>
            <a:custGeom>
              <a:avLst/>
              <a:gdLst/>
              <a:ahLst/>
              <a:rect l="l" t="t" r="r" b="b"/>
              <a:pathLst>
                <a:path w="817" h="907">
                  <a:moveTo>
                    <a:pt x="0" y="907"/>
                  </a:moveTo>
                  <a:lnTo>
                    <a:pt x="0" y="0"/>
                  </a:lnTo>
                  <a:lnTo>
                    <a:pt x="273" y="453"/>
                  </a:lnTo>
                  <a:lnTo>
                    <a:pt x="817" y="453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00ff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684320" y="4877280"/>
            <a:ext cx="999000" cy="774720"/>
            <a:chOff x="4684320" y="4877280"/>
            <a:chExt cx="999000" cy="774720"/>
          </a:xfrm>
        </p:grpSpPr>
        <p:grpSp>
          <p:nvGrpSpPr>
            <p:cNvPr id="348" name=""/>
            <p:cNvGrpSpPr/>
            <p:nvPr/>
          </p:nvGrpSpPr>
          <p:grpSpPr>
            <a:xfrm>
              <a:off x="4684320" y="4877280"/>
              <a:ext cx="738720" cy="774720"/>
              <a:chOff x="4684320" y="4877280"/>
              <a:chExt cx="738720" cy="774720"/>
            </a:xfrm>
          </p:grpSpPr>
          <p:sp>
            <p:nvSpPr>
              <p:cNvPr id="349" name=""/>
              <p:cNvSpPr/>
              <p:nvPr/>
            </p:nvSpPr>
            <p:spPr>
              <a:xfrm rot="14400000">
                <a:off x="4752000" y="5011920"/>
                <a:ext cx="603360" cy="504720"/>
              </a:xfrm>
              <a:prstGeom prst="hexagon">
                <a:avLst>
                  <a:gd name="adj" fmla="val 29886"/>
                  <a:gd name="vf" fmla="val 115470"/>
                </a:avLst>
              </a:prstGeom>
              <a:solidFill>
                <a:srgbClr val="00ff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4400000">
                <a:off x="4818600" y="5079600"/>
                <a:ext cx="453240" cy="379080"/>
              </a:xfrm>
              <a:prstGeom prst="hexagon">
                <a:avLst>
                  <a:gd name="adj" fmla="val 29891"/>
                  <a:gd name="vf" fmla="val 115470"/>
                </a:avLst>
              </a:prstGeom>
              <a:solidFill>
                <a:srgbClr val="00ff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 rot="14400000">
              <a:off x="5196240" y="4995720"/>
              <a:ext cx="396000" cy="438480"/>
            </a:xfrm>
            <a:custGeom>
              <a:avLst/>
              <a:gdLst/>
              <a:ahLst/>
              <a:rect l="l" t="t" r="r" b="b"/>
              <a:pathLst>
                <a:path w="817" h="907">
                  <a:moveTo>
                    <a:pt x="0" y="907"/>
                  </a:moveTo>
                  <a:lnTo>
                    <a:pt x="0" y="0"/>
                  </a:lnTo>
                  <a:lnTo>
                    <a:pt x="273" y="453"/>
                  </a:lnTo>
                  <a:lnTo>
                    <a:pt x="817" y="453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00ff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984920" y="4355640"/>
            <a:ext cx="872280" cy="939240"/>
            <a:chOff x="4984920" y="4355640"/>
            <a:chExt cx="872280" cy="939240"/>
          </a:xfrm>
        </p:grpSpPr>
        <p:grpSp>
          <p:nvGrpSpPr>
            <p:cNvPr id="353" name=""/>
            <p:cNvGrpSpPr/>
            <p:nvPr/>
          </p:nvGrpSpPr>
          <p:grpSpPr>
            <a:xfrm>
              <a:off x="4984920" y="4355640"/>
              <a:ext cx="738720" cy="774720"/>
              <a:chOff x="4984920" y="4355640"/>
              <a:chExt cx="738720" cy="774720"/>
            </a:xfrm>
          </p:grpSpPr>
          <p:sp>
            <p:nvSpPr>
              <p:cNvPr id="354" name=""/>
              <p:cNvSpPr/>
              <p:nvPr/>
            </p:nvSpPr>
            <p:spPr>
              <a:xfrm rot="18000000">
                <a:off x="5052600" y="4490280"/>
                <a:ext cx="603360" cy="504720"/>
              </a:xfrm>
              <a:prstGeom prst="hexagon">
                <a:avLst>
                  <a:gd name="adj" fmla="val 29886"/>
                  <a:gd name="vf" fmla="val 115470"/>
                </a:avLst>
              </a:prstGeom>
              <a:solidFill>
                <a:srgbClr val="00ff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8000000">
                <a:off x="5119560" y="4548240"/>
                <a:ext cx="453240" cy="379080"/>
              </a:xfrm>
              <a:prstGeom prst="hexagon">
                <a:avLst>
                  <a:gd name="adj" fmla="val 29891"/>
                  <a:gd name="vf" fmla="val 115470"/>
                </a:avLst>
              </a:prstGeom>
              <a:solidFill>
                <a:srgbClr val="00ff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 rot="18000000">
              <a:off x="5369760" y="4793760"/>
              <a:ext cx="396000" cy="438840"/>
            </a:xfrm>
            <a:custGeom>
              <a:avLst/>
              <a:gdLst/>
              <a:ahLst/>
              <a:rect l="l" t="t" r="r" b="b"/>
              <a:pathLst>
                <a:path w="817" h="907">
                  <a:moveTo>
                    <a:pt x="0" y="907"/>
                  </a:moveTo>
                  <a:lnTo>
                    <a:pt x="0" y="0"/>
                  </a:lnTo>
                  <a:lnTo>
                    <a:pt x="273" y="453"/>
                  </a:lnTo>
                  <a:lnTo>
                    <a:pt x="817" y="453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00ff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7607160" y="3068640"/>
            <a:ext cx="347760" cy="755640"/>
            <a:chOff x="7607160" y="3068640"/>
            <a:chExt cx="347760" cy="755640"/>
          </a:xfrm>
        </p:grpSpPr>
        <p:sp>
          <p:nvSpPr>
            <p:cNvPr id="358" name=""/>
            <p:cNvSpPr/>
            <p:nvPr/>
          </p:nvSpPr>
          <p:spPr>
            <a:xfrm>
              <a:off x="7607160" y="3068640"/>
              <a:ext cx="347760" cy="755640"/>
            </a:xfrm>
            <a:custGeom>
              <a:avLst/>
              <a:gdLst/>
              <a:ahLst/>
              <a:rect l="l" t="t" r="r" b="b"/>
              <a:pathLst>
                <a:path w="817" h="1784">
                  <a:moveTo>
                    <a:pt x="416" y="7"/>
                  </a:moveTo>
                  <a:cubicBezTo>
                    <a:pt x="386" y="14"/>
                    <a:pt x="363" y="159"/>
                    <a:pt x="325" y="234"/>
                  </a:cubicBezTo>
                  <a:cubicBezTo>
                    <a:pt x="287" y="309"/>
                    <a:pt x="227" y="393"/>
                    <a:pt x="189" y="461"/>
                  </a:cubicBezTo>
                  <a:cubicBezTo>
                    <a:pt x="151" y="529"/>
                    <a:pt x="128" y="559"/>
                    <a:pt x="98" y="642"/>
                  </a:cubicBezTo>
                  <a:cubicBezTo>
                    <a:pt x="68" y="725"/>
                    <a:pt x="14" y="869"/>
                    <a:pt x="7" y="960"/>
                  </a:cubicBezTo>
                  <a:cubicBezTo>
                    <a:pt x="0" y="1051"/>
                    <a:pt x="15" y="1112"/>
                    <a:pt x="53" y="1187"/>
                  </a:cubicBezTo>
                  <a:cubicBezTo>
                    <a:pt x="91" y="1262"/>
                    <a:pt x="189" y="1323"/>
                    <a:pt x="234" y="1414"/>
                  </a:cubicBezTo>
                  <a:cubicBezTo>
                    <a:pt x="279" y="1505"/>
                    <a:pt x="280" y="1678"/>
                    <a:pt x="325" y="1731"/>
                  </a:cubicBezTo>
                  <a:cubicBezTo>
                    <a:pt x="370" y="1784"/>
                    <a:pt x="468" y="1769"/>
                    <a:pt x="506" y="1731"/>
                  </a:cubicBezTo>
                  <a:cubicBezTo>
                    <a:pt x="544" y="1693"/>
                    <a:pt x="529" y="1572"/>
                    <a:pt x="552" y="1504"/>
                  </a:cubicBezTo>
                  <a:cubicBezTo>
                    <a:pt x="575" y="1436"/>
                    <a:pt x="604" y="1376"/>
                    <a:pt x="642" y="1323"/>
                  </a:cubicBezTo>
                  <a:cubicBezTo>
                    <a:pt x="680" y="1270"/>
                    <a:pt x="756" y="1263"/>
                    <a:pt x="779" y="1187"/>
                  </a:cubicBezTo>
                  <a:cubicBezTo>
                    <a:pt x="802" y="1111"/>
                    <a:pt x="817" y="1028"/>
                    <a:pt x="779" y="869"/>
                  </a:cubicBezTo>
                  <a:cubicBezTo>
                    <a:pt x="741" y="710"/>
                    <a:pt x="575" y="302"/>
                    <a:pt x="552" y="234"/>
                  </a:cubicBezTo>
                  <a:cubicBezTo>
                    <a:pt x="529" y="166"/>
                    <a:pt x="650" y="468"/>
                    <a:pt x="642" y="461"/>
                  </a:cubicBezTo>
                  <a:cubicBezTo>
                    <a:pt x="634" y="454"/>
                    <a:pt x="536" y="265"/>
                    <a:pt x="506" y="189"/>
                  </a:cubicBezTo>
                  <a:cubicBezTo>
                    <a:pt x="476" y="113"/>
                    <a:pt x="446" y="0"/>
                    <a:pt x="416" y="7"/>
                  </a:cubicBez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90680" y="3286080"/>
              <a:ext cx="192960" cy="537840"/>
            </a:xfrm>
            <a:custGeom>
              <a:avLst/>
              <a:gdLst/>
              <a:ahLst/>
              <a:rect l="l" t="t" r="r" b="b"/>
              <a:pathLst>
                <a:path w="454" h="1270">
                  <a:moveTo>
                    <a:pt x="318" y="1270"/>
                  </a:moveTo>
                  <a:lnTo>
                    <a:pt x="227" y="1270"/>
                  </a:lnTo>
                  <a:lnTo>
                    <a:pt x="182" y="1043"/>
                  </a:lnTo>
                  <a:lnTo>
                    <a:pt x="46" y="635"/>
                  </a:lnTo>
                  <a:lnTo>
                    <a:pt x="0" y="91"/>
                  </a:lnTo>
                  <a:lnTo>
                    <a:pt x="136" y="317"/>
                  </a:lnTo>
                  <a:lnTo>
                    <a:pt x="136" y="45"/>
                  </a:lnTo>
                  <a:lnTo>
                    <a:pt x="182" y="317"/>
                  </a:lnTo>
                  <a:lnTo>
                    <a:pt x="227" y="0"/>
                  </a:lnTo>
                  <a:lnTo>
                    <a:pt x="318" y="317"/>
                  </a:lnTo>
                  <a:lnTo>
                    <a:pt x="318" y="91"/>
                  </a:lnTo>
                  <a:lnTo>
                    <a:pt x="409" y="363"/>
                  </a:lnTo>
                  <a:lnTo>
                    <a:pt x="454" y="45"/>
                  </a:lnTo>
                  <a:lnTo>
                    <a:pt x="454" y="499"/>
                  </a:lnTo>
                  <a:lnTo>
                    <a:pt x="454" y="771"/>
                  </a:lnTo>
                  <a:lnTo>
                    <a:pt x="363" y="1134"/>
                  </a:lnTo>
                  <a:lnTo>
                    <a:pt x="318" y="127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e9f7ff"/>
                </a:gs>
              </a:gsLst>
              <a:lin ang="10800000"/>
            </a:gra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7596360" y="4443480"/>
            <a:ext cx="347400" cy="755640"/>
            <a:chOff x="7596360" y="4443480"/>
            <a:chExt cx="347400" cy="755640"/>
          </a:xfrm>
        </p:grpSpPr>
        <p:sp>
          <p:nvSpPr>
            <p:cNvPr id="361" name=""/>
            <p:cNvSpPr/>
            <p:nvPr/>
          </p:nvSpPr>
          <p:spPr>
            <a:xfrm>
              <a:off x="7596360" y="4443480"/>
              <a:ext cx="347400" cy="755640"/>
            </a:xfrm>
            <a:custGeom>
              <a:avLst/>
              <a:gdLst/>
              <a:ahLst/>
              <a:rect l="l" t="t" r="r" b="b"/>
              <a:pathLst>
                <a:path w="817" h="1784">
                  <a:moveTo>
                    <a:pt x="416" y="7"/>
                  </a:moveTo>
                  <a:cubicBezTo>
                    <a:pt x="386" y="14"/>
                    <a:pt x="363" y="159"/>
                    <a:pt x="325" y="234"/>
                  </a:cubicBezTo>
                  <a:cubicBezTo>
                    <a:pt x="287" y="309"/>
                    <a:pt x="227" y="393"/>
                    <a:pt x="189" y="461"/>
                  </a:cubicBezTo>
                  <a:cubicBezTo>
                    <a:pt x="151" y="529"/>
                    <a:pt x="128" y="559"/>
                    <a:pt x="98" y="642"/>
                  </a:cubicBezTo>
                  <a:cubicBezTo>
                    <a:pt x="68" y="725"/>
                    <a:pt x="14" y="869"/>
                    <a:pt x="7" y="960"/>
                  </a:cubicBezTo>
                  <a:cubicBezTo>
                    <a:pt x="0" y="1051"/>
                    <a:pt x="15" y="1112"/>
                    <a:pt x="53" y="1187"/>
                  </a:cubicBezTo>
                  <a:cubicBezTo>
                    <a:pt x="91" y="1262"/>
                    <a:pt x="189" y="1323"/>
                    <a:pt x="234" y="1414"/>
                  </a:cubicBezTo>
                  <a:cubicBezTo>
                    <a:pt x="279" y="1505"/>
                    <a:pt x="280" y="1678"/>
                    <a:pt x="325" y="1731"/>
                  </a:cubicBezTo>
                  <a:cubicBezTo>
                    <a:pt x="370" y="1784"/>
                    <a:pt x="468" y="1769"/>
                    <a:pt x="506" y="1731"/>
                  </a:cubicBezTo>
                  <a:cubicBezTo>
                    <a:pt x="544" y="1693"/>
                    <a:pt x="529" y="1572"/>
                    <a:pt x="552" y="1504"/>
                  </a:cubicBezTo>
                  <a:cubicBezTo>
                    <a:pt x="575" y="1436"/>
                    <a:pt x="604" y="1376"/>
                    <a:pt x="642" y="1323"/>
                  </a:cubicBezTo>
                  <a:cubicBezTo>
                    <a:pt x="680" y="1270"/>
                    <a:pt x="756" y="1263"/>
                    <a:pt x="779" y="1187"/>
                  </a:cubicBezTo>
                  <a:cubicBezTo>
                    <a:pt x="802" y="1111"/>
                    <a:pt x="817" y="1028"/>
                    <a:pt x="779" y="869"/>
                  </a:cubicBezTo>
                  <a:cubicBezTo>
                    <a:pt x="741" y="710"/>
                    <a:pt x="575" y="302"/>
                    <a:pt x="552" y="234"/>
                  </a:cubicBezTo>
                  <a:cubicBezTo>
                    <a:pt x="529" y="166"/>
                    <a:pt x="650" y="468"/>
                    <a:pt x="642" y="461"/>
                  </a:cubicBezTo>
                  <a:cubicBezTo>
                    <a:pt x="634" y="454"/>
                    <a:pt x="536" y="265"/>
                    <a:pt x="506" y="189"/>
                  </a:cubicBezTo>
                  <a:cubicBezTo>
                    <a:pt x="476" y="113"/>
                    <a:pt x="446" y="0"/>
                    <a:pt x="416" y="7"/>
                  </a:cubicBez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79880" y="4660920"/>
              <a:ext cx="192600" cy="537840"/>
            </a:xfrm>
            <a:custGeom>
              <a:avLst/>
              <a:gdLst/>
              <a:ahLst/>
              <a:rect l="l" t="t" r="r" b="b"/>
              <a:pathLst>
                <a:path w="454" h="1270">
                  <a:moveTo>
                    <a:pt x="318" y="1270"/>
                  </a:moveTo>
                  <a:lnTo>
                    <a:pt x="227" y="1270"/>
                  </a:lnTo>
                  <a:lnTo>
                    <a:pt x="182" y="1043"/>
                  </a:lnTo>
                  <a:lnTo>
                    <a:pt x="46" y="635"/>
                  </a:lnTo>
                  <a:lnTo>
                    <a:pt x="0" y="91"/>
                  </a:lnTo>
                  <a:lnTo>
                    <a:pt x="136" y="317"/>
                  </a:lnTo>
                  <a:lnTo>
                    <a:pt x="136" y="45"/>
                  </a:lnTo>
                  <a:lnTo>
                    <a:pt x="182" y="317"/>
                  </a:lnTo>
                  <a:lnTo>
                    <a:pt x="227" y="0"/>
                  </a:lnTo>
                  <a:lnTo>
                    <a:pt x="318" y="317"/>
                  </a:lnTo>
                  <a:lnTo>
                    <a:pt x="318" y="91"/>
                  </a:lnTo>
                  <a:lnTo>
                    <a:pt x="409" y="363"/>
                  </a:lnTo>
                  <a:lnTo>
                    <a:pt x="454" y="45"/>
                  </a:lnTo>
                  <a:lnTo>
                    <a:pt x="454" y="499"/>
                  </a:lnTo>
                  <a:lnTo>
                    <a:pt x="454" y="771"/>
                  </a:lnTo>
                  <a:lnTo>
                    <a:pt x="363" y="1134"/>
                  </a:lnTo>
                  <a:lnTo>
                    <a:pt x="318" y="127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e9f7ff"/>
                </a:gs>
              </a:gsLst>
              <a:lin ang="10800000"/>
            </a:gra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7690680" y="4501080"/>
            <a:ext cx="694800" cy="824760"/>
            <a:chOff x="7690680" y="4501080"/>
            <a:chExt cx="694800" cy="824760"/>
          </a:xfrm>
        </p:grpSpPr>
        <p:sp>
          <p:nvSpPr>
            <p:cNvPr id="364" name=""/>
            <p:cNvSpPr/>
            <p:nvPr/>
          </p:nvSpPr>
          <p:spPr>
            <a:xfrm rot="1920000">
              <a:off x="7864200" y="4535640"/>
              <a:ext cx="347400" cy="755640"/>
            </a:xfrm>
            <a:custGeom>
              <a:avLst/>
              <a:gdLst/>
              <a:ahLst/>
              <a:rect l="l" t="t" r="r" b="b"/>
              <a:pathLst>
                <a:path w="817" h="1784">
                  <a:moveTo>
                    <a:pt x="416" y="7"/>
                  </a:moveTo>
                  <a:cubicBezTo>
                    <a:pt x="386" y="14"/>
                    <a:pt x="363" y="159"/>
                    <a:pt x="325" y="234"/>
                  </a:cubicBezTo>
                  <a:cubicBezTo>
                    <a:pt x="287" y="309"/>
                    <a:pt x="227" y="393"/>
                    <a:pt x="189" y="461"/>
                  </a:cubicBezTo>
                  <a:cubicBezTo>
                    <a:pt x="151" y="529"/>
                    <a:pt x="128" y="559"/>
                    <a:pt x="98" y="642"/>
                  </a:cubicBezTo>
                  <a:cubicBezTo>
                    <a:pt x="68" y="725"/>
                    <a:pt x="14" y="869"/>
                    <a:pt x="7" y="960"/>
                  </a:cubicBezTo>
                  <a:cubicBezTo>
                    <a:pt x="0" y="1051"/>
                    <a:pt x="15" y="1112"/>
                    <a:pt x="53" y="1187"/>
                  </a:cubicBezTo>
                  <a:cubicBezTo>
                    <a:pt x="91" y="1262"/>
                    <a:pt x="189" y="1323"/>
                    <a:pt x="234" y="1414"/>
                  </a:cubicBezTo>
                  <a:cubicBezTo>
                    <a:pt x="279" y="1505"/>
                    <a:pt x="280" y="1678"/>
                    <a:pt x="325" y="1731"/>
                  </a:cubicBezTo>
                  <a:cubicBezTo>
                    <a:pt x="370" y="1784"/>
                    <a:pt x="468" y="1769"/>
                    <a:pt x="506" y="1731"/>
                  </a:cubicBezTo>
                  <a:cubicBezTo>
                    <a:pt x="544" y="1693"/>
                    <a:pt x="529" y="1572"/>
                    <a:pt x="552" y="1504"/>
                  </a:cubicBezTo>
                  <a:cubicBezTo>
                    <a:pt x="575" y="1436"/>
                    <a:pt x="604" y="1376"/>
                    <a:pt x="642" y="1323"/>
                  </a:cubicBezTo>
                  <a:cubicBezTo>
                    <a:pt x="680" y="1270"/>
                    <a:pt x="756" y="1263"/>
                    <a:pt x="779" y="1187"/>
                  </a:cubicBezTo>
                  <a:cubicBezTo>
                    <a:pt x="802" y="1111"/>
                    <a:pt x="817" y="1028"/>
                    <a:pt x="779" y="869"/>
                  </a:cubicBezTo>
                  <a:cubicBezTo>
                    <a:pt x="741" y="710"/>
                    <a:pt x="575" y="302"/>
                    <a:pt x="552" y="234"/>
                  </a:cubicBezTo>
                  <a:cubicBezTo>
                    <a:pt x="529" y="166"/>
                    <a:pt x="650" y="468"/>
                    <a:pt x="642" y="461"/>
                  </a:cubicBezTo>
                  <a:cubicBezTo>
                    <a:pt x="634" y="454"/>
                    <a:pt x="536" y="265"/>
                    <a:pt x="506" y="189"/>
                  </a:cubicBezTo>
                  <a:cubicBezTo>
                    <a:pt x="476" y="113"/>
                    <a:pt x="446" y="0"/>
                    <a:pt x="416" y="7"/>
                  </a:cubicBez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920000">
              <a:off x="7889400" y="4739760"/>
              <a:ext cx="192600" cy="537840"/>
            </a:xfrm>
            <a:custGeom>
              <a:avLst/>
              <a:gdLst/>
              <a:ahLst/>
              <a:rect l="l" t="t" r="r" b="b"/>
              <a:pathLst>
                <a:path w="454" h="1270">
                  <a:moveTo>
                    <a:pt x="318" y="1270"/>
                  </a:moveTo>
                  <a:lnTo>
                    <a:pt x="227" y="1270"/>
                  </a:lnTo>
                  <a:lnTo>
                    <a:pt x="182" y="1043"/>
                  </a:lnTo>
                  <a:lnTo>
                    <a:pt x="46" y="635"/>
                  </a:lnTo>
                  <a:lnTo>
                    <a:pt x="0" y="91"/>
                  </a:lnTo>
                  <a:lnTo>
                    <a:pt x="136" y="317"/>
                  </a:lnTo>
                  <a:lnTo>
                    <a:pt x="136" y="45"/>
                  </a:lnTo>
                  <a:lnTo>
                    <a:pt x="182" y="317"/>
                  </a:lnTo>
                  <a:lnTo>
                    <a:pt x="227" y="0"/>
                  </a:lnTo>
                  <a:lnTo>
                    <a:pt x="318" y="317"/>
                  </a:lnTo>
                  <a:lnTo>
                    <a:pt x="318" y="91"/>
                  </a:lnTo>
                  <a:lnTo>
                    <a:pt x="409" y="363"/>
                  </a:lnTo>
                  <a:lnTo>
                    <a:pt x="454" y="45"/>
                  </a:lnTo>
                  <a:lnTo>
                    <a:pt x="454" y="499"/>
                  </a:lnTo>
                  <a:lnTo>
                    <a:pt x="454" y="771"/>
                  </a:lnTo>
                  <a:lnTo>
                    <a:pt x="363" y="1134"/>
                  </a:lnTo>
                  <a:lnTo>
                    <a:pt x="318" y="127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e9f7ff"/>
                </a:gs>
              </a:gsLst>
              <a:lin ang="10800000"/>
            </a:gra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756200" y="4838400"/>
            <a:ext cx="831600" cy="643680"/>
            <a:chOff x="7756200" y="4838400"/>
            <a:chExt cx="831600" cy="643680"/>
          </a:xfrm>
        </p:grpSpPr>
        <p:sp>
          <p:nvSpPr>
            <p:cNvPr id="367" name=""/>
            <p:cNvSpPr/>
            <p:nvPr/>
          </p:nvSpPr>
          <p:spPr>
            <a:xfrm rot="3840000">
              <a:off x="7998120" y="4782240"/>
              <a:ext cx="347760" cy="755640"/>
            </a:xfrm>
            <a:custGeom>
              <a:avLst/>
              <a:gdLst/>
              <a:ahLst/>
              <a:rect l="l" t="t" r="r" b="b"/>
              <a:pathLst>
                <a:path w="817" h="1784">
                  <a:moveTo>
                    <a:pt x="416" y="7"/>
                  </a:moveTo>
                  <a:cubicBezTo>
                    <a:pt x="386" y="14"/>
                    <a:pt x="363" y="159"/>
                    <a:pt x="325" y="234"/>
                  </a:cubicBezTo>
                  <a:cubicBezTo>
                    <a:pt x="287" y="309"/>
                    <a:pt x="227" y="393"/>
                    <a:pt x="189" y="461"/>
                  </a:cubicBezTo>
                  <a:cubicBezTo>
                    <a:pt x="151" y="529"/>
                    <a:pt x="128" y="559"/>
                    <a:pt x="98" y="642"/>
                  </a:cubicBezTo>
                  <a:cubicBezTo>
                    <a:pt x="68" y="725"/>
                    <a:pt x="14" y="869"/>
                    <a:pt x="7" y="960"/>
                  </a:cubicBezTo>
                  <a:cubicBezTo>
                    <a:pt x="0" y="1051"/>
                    <a:pt x="15" y="1112"/>
                    <a:pt x="53" y="1187"/>
                  </a:cubicBezTo>
                  <a:cubicBezTo>
                    <a:pt x="91" y="1262"/>
                    <a:pt x="189" y="1323"/>
                    <a:pt x="234" y="1414"/>
                  </a:cubicBezTo>
                  <a:cubicBezTo>
                    <a:pt x="279" y="1505"/>
                    <a:pt x="280" y="1678"/>
                    <a:pt x="325" y="1731"/>
                  </a:cubicBezTo>
                  <a:cubicBezTo>
                    <a:pt x="370" y="1784"/>
                    <a:pt x="468" y="1769"/>
                    <a:pt x="506" y="1731"/>
                  </a:cubicBezTo>
                  <a:cubicBezTo>
                    <a:pt x="544" y="1693"/>
                    <a:pt x="529" y="1572"/>
                    <a:pt x="552" y="1504"/>
                  </a:cubicBezTo>
                  <a:cubicBezTo>
                    <a:pt x="575" y="1436"/>
                    <a:pt x="604" y="1376"/>
                    <a:pt x="642" y="1323"/>
                  </a:cubicBezTo>
                  <a:cubicBezTo>
                    <a:pt x="680" y="1270"/>
                    <a:pt x="756" y="1263"/>
                    <a:pt x="779" y="1187"/>
                  </a:cubicBezTo>
                  <a:cubicBezTo>
                    <a:pt x="802" y="1111"/>
                    <a:pt x="817" y="1028"/>
                    <a:pt x="779" y="869"/>
                  </a:cubicBezTo>
                  <a:cubicBezTo>
                    <a:pt x="741" y="710"/>
                    <a:pt x="575" y="302"/>
                    <a:pt x="552" y="234"/>
                  </a:cubicBezTo>
                  <a:cubicBezTo>
                    <a:pt x="529" y="166"/>
                    <a:pt x="650" y="468"/>
                    <a:pt x="642" y="461"/>
                  </a:cubicBezTo>
                  <a:cubicBezTo>
                    <a:pt x="634" y="454"/>
                    <a:pt x="536" y="265"/>
                    <a:pt x="506" y="189"/>
                  </a:cubicBezTo>
                  <a:cubicBezTo>
                    <a:pt x="476" y="113"/>
                    <a:pt x="446" y="0"/>
                    <a:pt x="416" y="7"/>
                  </a:cubicBez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3840000">
              <a:off x="7980840" y="4944240"/>
              <a:ext cx="192960" cy="537840"/>
            </a:xfrm>
            <a:custGeom>
              <a:avLst/>
              <a:gdLst/>
              <a:ahLst/>
              <a:rect l="l" t="t" r="r" b="b"/>
              <a:pathLst>
                <a:path w="454" h="1270">
                  <a:moveTo>
                    <a:pt x="318" y="1270"/>
                  </a:moveTo>
                  <a:lnTo>
                    <a:pt x="227" y="1270"/>
                  </a:lnTo>
                  <a:lnTo>
                    <a:pt x="182" y="1043"/>
                  </a:lnTo>
                  <a:lnTo>
                    <a:pt x="46" y="635"/>
                  </a:lnTo>
                  <a:lnTo>
                    <a:pt x="0" y="91"/>
                  </a:lnTo>
                  <a:lnTo>
                    <a:pt x="136" y="317"/>
                  </a:lnTo>
                  <a:lnTo>
                    <a:pt x="136" y="45"/>
                  </a:lnTo>
                  <a:lnTo>
                    <a:pt x="182" y="317"/>
                  </a:lnTo>
                  <a:lnTo>
                    <a:pt x="227" y="0"/>
                  </a:lnTo>
                  <a:lnTo>
                    <a:pt x="318" y="317"/>
                  </a:lnTo>
                  <a:lnTo>
                    <a:pt x="318" y="91"/>
                  </a:lnTo>
                  <a:lnTo>
                    <a:pt x="409" y="363"/>
                  </a:lnTo>
                  <a:lnTo>
                    <a:pt x="454" y="45"/>
                  </a:lnTo>
                  <a:lnTo>
                    <a:pt x="454" y="499"/>
                  </a:lnTo>
                  <a:lnTo>
                    <a:pt x="454" y="771"/>
                  </a:lnTo>
                  <a:lnTo>
                    <a:pt x="363" y="1134"/>
                  </a:lnTo>
                  <a:lnTo>
                    <a:pt x="318" y="127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e9f7ff"/>
                </a:gs>
              </a:gsLst>
              <a:lin ang="10800000"/>
            </a:gra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7770960" y="5145840"/>
            <a:ext cx="802440" cy="752040"/>
            <a:chOff x="7770960" y="5145840"/>
            <a:chExt cx="802440" cy="752040"/>
          </a:xfrm>
        </p:grpSpPr>
        <p:sp>
          <p:nvSpPr>
            <p:cNvPr id="370" name=""/>
            <p:cNvSpPr/>
            <p:nvPr/>
          </p:nvSpPr>
          <p:spPr>
            <a:xfrm rot="7800000">
              <a:off x="7998120" y="5143680"/>
              <a:ext cx="347760" cy="755640"/>
            </a:xfrm>
            <a:custGeom>
              <a:avLst/>
              <a:gdLst/>
              <a:ahLst/>
              <a:rect l="l" t="t" r="r" b="b"/>
              <a:pathLst>
                <a:path w="817" h="1784">
                  <a:moveTo>
                    <a:pt x="416" y="7"/>
                  </a:moveTo>
                  <a:cubicBezTo>
                    <a:pt x="386" y="14"/>
                    <a:pt x="363" y="159"/>
                    <a:pt x="325" y="234"/>
                  </a:cubicBezTo>
                  <a:cubicBezTo>
                    <a:pt x="287" y="309"/>
                    <a:pt x="227" y="393"/>
                    <a:pt x="189" y="461"/>
                  </a:cubicBezTo>
                  <a:cubicBezTo>
                    <a:pt x="151" y="529"/>
                    <a:pt x="128" y="559"/>
                    <a:pt x="98" y="642"/>
                  </a:cubicBezTo>
                  <a:cubicBezTo>
                    <a:pt x="68" y="725"/>
                    <a:pt x="14" y="869"/>
                    <a:pt x="7" y="960"/>
                  </a:cubicBezTo>
                  <a:cubicBezTo>
                    <a:pt x="0" y="1051"/>
                    <a:pt x="15" y="1112"/>
                    <a:pt x="53" y="1187"/>
                  </a:cubicBezTo>
                  <a:cubicBezTo>
                    <a:pt x="91" y="1262"/>
                    <a:pt x="189" y="1323"/>
                    <a:pt x="234" y="1414"/>
                  </a:cubicBezTo>
                  <a:cubicBezTo>
                    <a:pt x="279" y="1505"/>
                    <a:pt x="280" y="1678"/>
                    <a:pt x="325" y="1731"/>
                  </a:cubicBezTo>
                  <a:cubicBezTo>
                    <a:pt x="370" y="1784"/>
                    <a:pt x="468" y="1769"/>
                    <a:pt x="506" y="1731"/>
                  </a:cubicBezTo>
                  <a:cubicBezTo>
                    <a:pt x="544" y="1693"/>
                    <a:pt x="529" y="1572"/>
                    <a:pt x="552" y="1504"/>
                  </a:cubicBezTo>
                  <a:cubicBezTo>
                    <a:pt x="575" y="1436"/>
                    <a:pt x="604" y="1376"/>
                    <a:pt x="642" y="1323"/>
                  </a:cubicBezTo>
                  <a:cubicBezTo>
                    <a:pt x="680" y="1270"/>
                    <a:pt x="756" y="1263"/>
                    <a:pt x="779" y="1187"/>
                  </a:cubicBezTo>
                  <a:cubicBezTo>
                    <a:pt x="802" y="1111"/>
                    <a:pt x="817" y="1028"/>
                    <a:pt x="779" y="869"/>
                  </a:cubicBezTo>
                  <a:cubicBezTo>
                    <a:pt x="741" y="710"/>
                    <a:pt x="575" y="302"/>
                    <a:pt x="552" y="234"/>
                  </a:cubicBezTo>
                  <a:cubicBezTo>
                    <a:pt x="529" y="166"/>
                    <a:pt x="650" y="468"/>
                    <a:pt x="642" y="461"/>
                  </a:cubicBezTo>
                  <a:cubicBezTo>
                    <a:pt x="634" y="454"/>
                    <a:pt x="536" y="265"/>
                    <a:pt x="506" y="189"/>
                  </a:cubicBezTo>
                  <a:cubicBezTo>
                    <a:pt x="476" y="113"/>
                    <a:pt x="446" y="0"/>
                    <a:pt x="416" y="7"/>
                  </a:cubicBez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7800000">
              <a:off x="7988400" y="5187960"/>
              <a:ext cx="192960" cy="537840"/>
            </a:xfrm>
            <a:custGeom>
              <a:avLst/>
              <a:gdLst/>
              <a:ahLst/>
              <a:rect l="l" t="t" r="r" b="b"/>
              <a:pathLst>
                <a:path w="454" h="1270">
                  <a:moveTo>
                    <a:pt x="318" y="1270"/>
                  </a:moveTo>
                  <a:lnTo>
                    <a:pt x="227" y="1270"/>
                  </a:lnTo>
                  <a:lnTo>
                    <a:pt x="182" y="1043"/>
                  </a:lnTo>
                  <a:lnTo>
                    <a:pt x="46" y="635"/>
                  </a:lnTo>
                  <a:lnTo>
                    <a:pt x="0" y="91"/>
                  </a:lnTo>
                  <a:lnTo>
                    <a:pt x="136" y="317"/>
                  </a:lnTo>
                  <a:lnTo>
                    <a:pt x="136" y="45"/>
                  </a:lnTo>
                  <a:lnTo>
                    <a:pt x="182" y="317"/>
                  </a:lnTo>
                  <a:lnTo>
                    <a:pt x="227" y="0"/>
                  </a:lnTo>
                  <a:lnTo>
                    <a:pt x="318" y="317"/>
                  </a:lnTo>
                  <a:lnTo>
                    <a:pt x="318" y="91"/>
                  </a:lnTo>
                  <a:lnTo>
                    <a:pt x="409" y="363"/>
                  </a:lnTo>
                  <a:lnTo>
                    <a:pt x="454" y="45"/>
                  </a:lnTo>
                  <a:lnTo>
                    <a:pt x="454" y="499"/>
                  </a:lnTo>
                  <a:lnTo>
                    <a:pt x="454" y="771"/>
                  </a:lnTo>
                  <a:lnTo>
                    <a:pt x="363" y="1134"/>
                  </a:lnTo>
                  <a:lnTo>
                    <a:pt x="318" y="127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e9f7ff"/>
                </a:gs>
              </a:gsLst>
              <a:lin ang="10800000"/>
            </a:gra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7709400" y="5266080"/>
            <a:ext cx="553320" cy="824040"/>
            <a:chOff x="7709400" y="5266080"/>
            <a:chExt cx="553320" cy="824040"/>
          </a:xfrm>
        </p:grpSpPr>
        <p:sp>
          <p:nvSpPr>
            <p:cNvPr id="373" name=""/>
            <p:cNvSpPr/>
            <p:nvPr/>
          </p:nvSpPr>
          <p:spPr>
            <a:xfrm rot="9780000">
              <a:off x="7812000" y="5300280"/>
              <a:ext cx="347760" cy="755640"/>
            </a:xfrm>
            <a:custGeom>
              <a:avLst/>
              <a:gdLst/>
              <a:ahLst/>
              <a:rect l="l" t="t" r="r" b="b"/>
              <a:pathLst>
                <a:path w="817" h="1784">
                  <a:moveTo>
                    <a:pt x="416" y="7"/>
                  </a:moveTo>
                  <a:cubicBezTo>
                    <a:pt x="386" y="14"/>
                    <a:pt x="363" y="159"/>
                    <a:pt x="325" y="234"/>
                  </a:cubicBezTo>
                  <a:cubicBezTo>
                    <a:pt x="287" y="309"/>
                    <a:pt x="227" y="393"/>
                    <a:pt x="189" y="461"/>
                  </a:cubicBezTo>
                  <a:cubicBezTo>
                    <a:pt x="151" y="529"/>
                    <a:pt x="128" y="559"/>
                    <a:pt x="98" y="642"/>
                  </a:cubicBezTo>
                  <a:cubicBezTo>
                    <a:pt x="68" y="725"/>
                    <a:pt x="14" y="869"/>
                    <a:pt x="7" y="960"/>
                  </a:cubicBezTo>
                  <a:cubicBezTo>
                    <a:pt x="0" y="1051"/>
                    <a:pt x="15" y="1112"/>
                    <a:pt x="53" y="1187"/>
                  </a:cubicBezTo>
                  <a:cubicBezTo>
                    <a:pt x="91" y="1262"/>
                    <a:pt x="189" y="1323"/>
                    <a:pt x="234" y="1414"/>
                  </a:cubicBezTo>
                  <a:cubicBezTo>
                    <a:pt x="279" y="1505"/>
                    <a:pt x="280" y="1678"/>
                    <a:pt x="325" y="1731"/>
                  </a:cubicBezTo>
                  <a:cubicBezTo>
                    <a:pt x="370" y="1784"/>
                    <a:pt x="468" y="1769"/>
                    <a:pt x="506" y="1731"/>
                  </a:cubicBezTo>
                  <a:cubicBezTo>
                    <a:pt x="544" y="1693"/>
                    <a:pt x="529" y="1572"/>
                    <a:pt x="552" y="1504"/>
                  </a:cubicBezTo>
                  <a:cubicBezTo>
                    <a:pt x="575" y="1436"/>
                    <a:pt x="604" y="1376"/>
                    <a:pt x="642" y="1323"/>
                  </a:cubicBezTo>
                  <a:cubicBezTo>
                    <a:pt x="680" y="1270"/>
                    <a:pt x="756" y="1263"/>
                    <a:pt x="779" y="1187"/>
                  </a:cubicBezTo>
                  <a:cubicBezTo>
                    <a:pt x="802" y="1111"/>
                    <a:pt x="817" y="1028"/>
                    <a:pt x="779" y="869"/>
                  </a:cubicBezTo>
                  <a:cubicBezTo>
                    <a:pt x="741" y="710"/>
                    <a:pt x="575" y="302"/>
                    <a:pt x="552" y="234"/>
                  </a:cubicBezTo>
                  <a:cubicBezTo>
                    <a:pt x="529" y="166"/>
                    <a:pt x="650" y="468"/>
                    <a:pt x="642" y="461"/>
                  </a:cubicBezTo>
                  <a:cubicBezTo>
                    <a:pt x="634" y="454"/>
                    <a:pt x="536" y="265"/>
                    <a:pt x="506" y="189"/>
                  </a:cubicBezTo>
                  <a:cubicBezTo>
                    <a:pt x="476" y="113"/>
                    <a:pt x="446" y="0"/>
                    <a:pt x="416" y="7"/>
                  </a:cubicBez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9780000">
              <a:off x="7851600" y="5306760"/>
              <a:ext cx="192960" cy="537840"/>
            </a:xfrm>
            <a:custGeom>
              <a:avLst/>
              <a:gdLst/>
              <a:ahLst/>
              <a:rect l="l" t="t" r="r" b="b"/>
              <a:pathLst>
                <a:path w="454" h="1270">
                  <a:moveTo>
                    <a:pt x="318" y="1270"/>
                  </a:moveTo>
                  <a:lnTo>
                    <a:pt x="227" y="1270"/>
                  </a:lnTo>
                  <a:lnTo>
                    <a:pt x="182" y="1043"/>
                  </a:lnTo>
                  <a:lnTo>
                    <a:pt x="46" y="635"/>
                  </a:lnTo>
                  <a:lnTo>
                    <a:pt x="0" y="91"/>
                  </a:lnTo>
                  <a:lnTo>
                    <a:pt x="136" y="317"/>
                  </a:lnTo>
                  <a:lnTo>
                    <a:pt x="136" y="45"/>
                  </a:lnTo>
                  <a:lnTo>
                    <a:pt x="182" y="317"/>
                  </a:lnTo>
                  <a:lnTo>
                    <a:pt x="227" y="0"/>
                  </a:lnTo>
                  <a:lnTo>
                    <a:pt x="318" y="317"/>
                  </a:lnTo>
                  <a:lnTo>
                    <a:pt x="318" y="91"/>
                  </a:lnTo>
                  <a:lnTo>
                    <a:pt x="409" y="363"/>
                  </a:lnTo>
                  <a:lnTo>
                    <a:pt x="454" y="45"/>
                  </a:lnTo>
                  <a:lnTo>
                    <a:pt x="454" y="499"/>
                  </a:lnTo>
                  <a:lnTo>
                    <a:pt x="454" y="771"/>
                  </a:lnTo>
                  <a:lnTo>
                    <a:pt x="363" y="1134"/>
                  </a:lnTo>
                  <a:lnTo>
                    <a:pt x="318" y="127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e9f7ff"/>
                </a:gs>
              </a:gsLst>
              <a:lin ang="10800000"/>
            </a:gra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7427160" y="5303520"/>
            <a:ext cx="542880" cy="822600"/>
            <a:chOff x="7427160" y="5303520"/>
            <a:chExt cx="542880" cy="822600"/>
          </a:xfrm>
        </p:grpSpPr>
        <p:sp>
          <p:nvSpPr>
            <p:cNvPr id="376" name=""/>
            <p:cNvSpPr/>
            <p:nvPr/>
          </p:nvSpPr>
          <p:spPr>
            <a:xfrm rot="11760000">
              <a:off x="7524720" y="5336640"/>
              <a:ext cx="347760" cy="756000"/>
            </a:xfrm>
            <a:custGeom>
              <a:avLst/>
              <a:gdLst/>
              <a:ahLst/>
              <a:rect l="l" t="t" r="r" b="b"/>
              <a:pathLst>
                <a:path w="817" h="1784">
                  <a:moveTo>
                    <a:pt x="416" y="7"/>
                  </a:moveTo>
                  <a:cubicBezTo>
                    <a:pt x="386" y="14"/>
                    <a:pt x="363" y="159"/>
                    <a:pt x="325" y="234"/>
                  </a:cubicBezTo>
                  <a:cubicBezTo>
                    <a:pt x="287" y="309"/>
                    <a:pt x="227" y="393"/>
                    <a:pt x="189" y="461"/>
                  </a:cubicBezTo>
                  <a:cubicBezTo>
                    <a:pt x="151" y="529"/>
                    <a:pt x="128" y="559"/>
                    <a:pt x="98" y="642"/>
                  </a:cubicBezTo>
                  <a:cubicBezTo>
                    <a:pt x="68" y="725"/>
                    <a:pt x="14" y="869"/>
                    <a:pt x="7" y="960"/>
                  </a:cubicBezTo>
                  <a:cubicBezTo>
                    <a:pt x="0" y="1051"/>
                    <a:pt x="15" y="1112"/>
                    <a:pt x="53" y="1187"/>
                  </a:cubicBezTo>
                  <a:cubicBezTo>
                    <a:pt x="91" y="1262"/>
                    <a:pt x="189" y="1323"/>
                    <a:pt x="234" y="1414"/>
                  </a:cubicBezTo>
                  <a:cubicBezTo>
                    <a:pt x="279" y="1505"/>
                    <a:pt x="280" y="1678"/>
                    <a:pt x="325" y="1731"/>
                  </a:cubicBezTo>
                  <a:cubicBezTo>
                    <a:pt x="370" y="1784"/>
                    <a:pt x="468" y="1769"/>
                    <a:pt x="506" y="1731"/>
                  </a:cubicBezTo>
                  <a:cubicBezTo>
                    <a:pt x="544" y="1693"/>
                    <a:pt x="529" y="1572"/>
                    <a:pt x="552" y="1504"/>
                  </a:cubicBezTo>
                  <a:cubicBezTo>
                    <a:pt x="575" y="1436"/>
                    <a:pt x="604" y="1376"/>
                    <a:pt x="642" y="1323"/>
                  </a:cubicBezTo>
                  <a:cubicBezTo>
                    <a:pt x="680" y="1270"/>
                    <a:pt x="756" y="1263"/>
                    <a:pt x="779" y="1187"/>
                  </a:cubicBezTo>
                  <a:cubicBezTo>
                    <a:pt x="802" y="1111"/>
                    <a:pt x="817" y="1028"/>
                    <a:pt x="779" y="869"/>
                  </a:cubicBezTo>
                  <a:cubicBezTo>
                    <a:pt x="741" y="710"/>
                    <a:pt x="575" y="302"/>
                    <a:pt x="552" y="234"/>
                  </a:cubicBezTo>
                  <a:cubicBezTo>
                    <a:pt x="529" y="166"/>
                    <a:pt x="650" y="468"/>
                    <a:pt x="642" y="461"/>
                  </a:cubicBezTo>
                  <a:cubicBezTo>
                    <a:pt x="634" y="454"/>
                    <a:pt x="536" y="265"/>
                    <a:pt x="506" y="189"/>
                  </a:cubicBezTo>
                  <a:cubicBezTo>
                    <a:pt x="476" y="113"/>
                    <a:pt x="446" y="0"/>
                    <a:pt x="416" y="7"/>
                  </a:cubicBez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1760000">
              <a:off x="7626240" y="5339520"/>
              <a:ext cx="192960" cy="538200"/>
            </a:xfrm>
            <a:custGeom>
              <a:avLst/>
              <a:gdLst/>
              <a:ahLst/>
              <a:rect l="l" t="t" r="r" b="b"/>
              <a:pathLst>
                <a:path w="454" h="1270">
                  <a:moveTo>
                    <a:pt x="318" y="1270"/>
                  </a:moveTo>
                  <a:lnTo>
                    <a:pt x="227" y="1270"/>
                  </a:lnTo>
                  <a:lnTo>
                    <a:pt x="182" y="1043"/>
                  </a:lnTo>
                  <a:lnTo>
                    <a:pt x="46" y="635"/>
                  </a:lnTo>
                  <a:lnTo>
                    <a:pt x="0" y="91"/>
                  </a:lnTo>
                  <a:lnTo>
                    <a:pt x="136" y="317"/>
                  </a:lnTo>
                  <a:lnTo>
                    <a:pt x="136" y="45"/>
                  </a:lnTo>
                  <a:lnTo>
                    <a:pt x="182" y="317"/>
                  </a:lnTo>
                  <a:lnTo>
                    <a:pt x="227" y="0"/>
                  </a:lnTo>
                  <a:lnTo>
                    <a:pt x="318" y="317"/>
                  </a:lnTo>
                  <a:lnTo>
                    <a:pt x="318" y="91"/>
                  </a:lnTo>
                  <a:lnTo>
                    <a:pt x="409" y="363"/>
                  </a:lnTo>
                  <a:lnTo>
                    <a:pt x="454" y="45"/>
                  </a:lnTo>
                  <a:lnTo>
                    <a:pt x="454" y="499"/>
                  </a:lnTo>
                  <a:lnTo>
                    <a:pt x="454" y="771"/>
                  </a:lnTo>
                  <a:lnTo>
                    <a:pt x="363" y="1134"/>
                  </a:lnTo>
                  <a:lnTo>
                    <a:pt x="318" y="127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e9f7ff"/>
                </a:gs>
              </a:gsLst>
              <a:lin ang="10800000"/>
            </a:gra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7094160" y="4602960"/>
            <a:ext cx="785160" cy="775080"/>
            <a:chOff x="7094160" y="4602960"/>
            <a:chExt cx="785160" cy="775080"/>
          </a:xfrm>
        </p:grpSpPr>
        <p:sp>
          <p:nvSpPr>
            <p:cNvPr id="379" name=""/>
            <p:cNvSpPr/>
            <p:nvPr/>
          </p:nvSpPr>
          <p:spPr>
            <a:xfrm rot="18840000">
              <a:off x="7312680" y="4612680"/>
              <a:ext cx="347760" cy="755640"/>
            </a:xfrm>
            <a:custGeom>
              <a:avLst/>
              <a:gdLst/>
              <a:ahLst/>
              <a:rect l="l" t="t" r="r" b="b"/>
              <a:pathLst>
                <a:path w="817" h="1784">
                  <a:moveTo>
                    <a:pt x="416" y="7"/>
                  </a:moveTo>
                  <a:cubicBezTo>
                    <a:pt x="386" y="14"/>
                    <a:pt x="363" y="159"/>
                    <a:pt x="325" y="234"/>
                  </a:cubicBezTo>
                  <a:cubicBezTo>
                    <a:pt x="287" y="309"/>
                    <a:pt x="227" y="393"/>
                    <a:pt x="189" y="461"/>
                  </a:cubicBezTo>
                  <a:cubicBezTo>
                    <a:pt x="151" y="529"/>
                    <a:pt x="128" y="559"/>
                    <a:pt x="98" y="642"/>
                  </a:cubicBezTo>
                  <a:cubicBezTo>
                    <a:pt x="68" y="725"/>
                    <a:pt x="14" y="869"/>
                    <a:pt x="7" y="960"/>
                  </a:cubicBezTo>
                  <a:cubicBezTo>
                    <a:pt x="0" y="1051"/>
                    <a:pt x="15" y="1112"/>
                    <a:pt x="53" y="1187"/>
                  </a:cubicBezTo>
                  <a:cubicBezTo>
                    <a:pt x="91" y="1262"/>
                    <a:pt x="189" y="1323"/>
                    <a:pt x="234" y="1414"/>
                  </a:cubicBezTo>
                  <a:cubicBezTo>
                    <a:pt x="279" y="1505"/>
                    <a:pt x="280" y="1678"/>
                    <a:pt x="325" y="1731"/>
                  </a:cubicBezTo>
                  <a:cubicBezTo>
                    <a:pt x="370" y="1784"/>
                    <a:pt x="468" y="1769"/>
                    <a:pt x="506" y="1731"/>
                  </a:cubicBezTo>
                  <a:cubicBezTo>
                    <a:pt x="544" y="1693"/>
                    <a:pt x="529" y="1572"/>
                    <a:pt x="552" y="1504"/>
                  </a:cubicBezTo>
                  <a:cubicBezTo>
                    <a:pt x="575" y="1436"/>
                    <a:pt x="604" y="1376"/>
                    <a:pt x="642" y="1323"/>
                  </a:cubicBezTo>
                  <a:cubicBezTo>
                    <a:pt x="680" y="1270"/>
                    <a:pt x="756" y="1263"/>
                    <a:pt x="779" y="1187"/>
                  </a:cubicBezTo>
                  <a:cubicBezTo>
                    <a:pt x="802" y="1111"/>
                    <a:pt x="817" y="1028"/>
                    <a:pt x="779" y="869"/>
                  </a:cubicBezTo>
                  <a:cubicBezTo>
                    <a:pt x="741" y="710"/>
                    <a:pt x="575" y="302"/>
                    <a:pt x="552" y="234"/>
                  </a:cubicBezTo>
                  <a:cubicBezTo>
                    <a:pt x="529" y="166"/>
                    <a:pt x="650" y="468"/>
                    <a:pt x="642" y="461"/>
                  </a:cubicBezTo>
                  <a:cubicBezTo>
                    <a:pt x="634" y="454"/>
                    <a:pt x="536" y="265"/>
                    <a:pt x="506" y="189"/>
                  </a:cubicBezTo>
                  <a:cubicBezTo>
                    <a:pt x="476" y="113"/>
                    <a:pt x="446" y="0"/>
                    <a:pt x="416" y="7"/>
                  </a:cubicBez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8840000">
              <a:off x="7472520" y="4792320"/>
              <a:ext cx="192960" cy="537840"/>
            </a:xfrm>
            <a:custGeom>
              <a:avLst/>
              <a:gdLst/>
              <a:ahLst/>
              <a:rect l="l" t="t" r="r" b="b"/>
              <a:pathLst>
                <a:path w="454" h="1270">
                  <a:moveTo>
                    <a:pt x="318" y="1270"/>
                  </a:moveTo>
                  <a:lnTo>
                    <a:pt x="227" y="1270"/>
                  </a:lnTo>
                  <a:lnTo>
                    <a:pt x="182" y="1043"/>
                  </a:lnTo>
                  <a:lnTo>
                    <a:pt x="46" y="635"/>
                  </a:lnTo>
                  <a:lnTo>
                    <a:pt x="0" y="91"/>
                  </a:lnTo>
                  <a:lnTo>
                    <a:pt x="136" y="317"/>
                  </a:lnTo>
                  <a:lnTo>
                    <a:pt x="136" y="45"/>
                  </a:lnTo>
                  <a:lnTo>
                    <a:pt x="182" y="317"/>
                  </a:lnTo>
                  <a:lnTo>
                    <a:pt x="227" y="0"/>
                  </a:lnTo>
                  <a:lnTo>
                    <a:pt x="318" y="317"/>
                  </a:lnTo>
                  <a:lnTo>
                    <a:pt x="318" y="91"/>
                  </a:lnTo>
                  <a:lnTo>
                    <a:pt x="409" y="363"/>
                  </a:lnTo>
                  <a:lnTo>
                    <a:pt x="454" y="45"/>
                  </a:lnTo>
                  <a:lnTo>
                    <a:pt x="454" y="499"/>
                  </a:lnTo>
                  <a:lnTo>
                    <a:pt x="454" y="771"/>
                  </a:lnTo>
                  <a:lnTo>
                    <a:pt x="363" y="1134"/>
                  </a:lnTo>
                  <a:lnTo>
                    <a:pt x="318" y="127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e9f7ff"/>
                </a:gs>
              </a:gsLst>
              <a:lin ang="10800000"/>
            </a:gra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7069680" y="5162040"/>
            <a:ext cx="798480" cy="758160"/>
            <a:chOff x="7069680" y="5162040"/>
            <a:chExt cx="798480" cy="758160"/>
          </a:xfrm>
        </p:grpSpPr>
        <p:sp>
          <p:nvSpPr>
            <p:cNvPr id="382" name=""/>
            <p:cNvSpPr/>
            <p:nvPr/>
          </p:nvSpPr>
          <p:spPr>
            <a:xfrm rot="13740000">
              <a:off x="7295040" y="5163120"/>
              <a:ext cx="347760" cy="755640"/>
            </a:xfrm>
            <a:custGeom>
              <a:avLst/>
              <a:gdLst/>
              <a:ahLst/>
              <a:rect l="l" t="t" r="r" b="b"/>
              <a:pathLst>
                <a:path w="817" h="1784">
                  <a:moveTo>
                    <a:pt x="416" y="7"/>
                  </a:moveTo>
                  <a:cubicBezTo>
                    <a:pt x="386" y="14"/>
                    <a:pt x="363" y="159"/>
                    <a:pt x="325" y="234"/>
                  </a:cubicBezTo>
                  <a:cubicBezTo>
                    <a:pt x="287" y="309"/>
                    <a:pt x="227" y="393"/>
                    <a:pt x="189" y="461"/>
                  </a:cubicBezTo>
                  <a:cubicBezTo>
                    <a:pt x="151" y="529"/>
                    <a:pt x="128" y="559"/>
                    <a:pt x="98" y="642"/>
                  </a:cubicBezTo>
                  <a:cubicBezTo>
                    <a:pt x="68" y="725"/>
                    <a:pt x="14" y="869"/>
                    <a:pt x="7" y="960"/>
                  </a:cubicBezTo>
                  <a:cubicBezTo>
                    <a:pt x="0" y="1051"/>
                    <a:pt x="15" y="1112"/>
                    <a:pt x="53" y="1187"/>
                  </a:cubicBezTo>
                  <a:cubicBezTo>
                    <a:pt x="91" y="1262"/>
                    <a:pt x="189" y="1323"/>
                    <a:pt x="234" y="1414"/>
                  </a:cubicBezTo>
                  <a:cubicBezTo>
                    <a:pt x="279" y="1505"/>
                    <a:pt x="280" y="1678"/>
                    <a:pt x="325" y="1731"/>
                  </a:cubicBezTo>
                  <a:cubicBezTo>
                    <a:pt x="370" y="1784"/>
                    <a:pt x="468" y="1769"/>
                    <a:pt x="506" y="1731"/>
                  </a:cubicBezTo>
                  <a:cubicBezTo>
                    <a:pt x="544" y="1693"/>
                    <a:pt x="529" y="1572"/>
                    <a:pt x="552" y="1504"/>
                  </a:cubicBezTo>
                  <a:cubicBezTo>
                    <a:pt x="575" y="1436"/>
                    <a:pt x="604" y="1376"/>
                    <a:pt x="642" y="1323"/>
                  </a:cubicBezTo>
                  <a:cubicBezTo>
                    <a:pt x="680" y="1270"/>
                    <a:pt x="756" y="1263"/>
                    <a:pt x="779" y="1187"/>
                  </a:cubicBezTo>
                  <a:cubicBezTo>
                    <a:pt x="802" y="1111"/>
                    <a:pt x="817" y="1028"/>
                    <a:pt x="779" y="869"/>
                  </a:cubicBezTo>
                  <a:cubicBezTo>
                    <a:pt x="741" y="710"/>
                    <a:pt x="575" y="302"/>
                    <a:pt x="552" y="234"/>
                  </a:cubicBezTo>
                  <a:cubicBezTo>
                    <a:pt x="529" y="166"/>
                    <a:pt x="650" y="468"/>
                    <a:pt x="642" y="461"/>
                  </a:cubicBezTo>
                  <a:cubicBezTo>
                    <a:pt x="634" y="454"/>
                    <a:pt x="536" y="265"/>
                    <a:pt x="506" y="189"/>
                  </a:cubicBezTo>
                  <a:cubicBezTo>
                    <a:pt x="476" y="113"/>
                    <a:pt x="446" y="0"/>
                    <a:pt x="416" y="7"/>
                  </a:cubicBez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13740000">
              <a:off x="7450200" y="5195880"/>
              <a:ext cx="192960" cy="537840"/>
            </a:xfrm>
            <a:custGeom>
              <a:avLst/>
              <a:gdLst/>
              <a:ahLst/>
              <a:rect l="l" t="t" r="r" b="b"/>
              <a:pathLst>
                <a:path w="454" h="1270">
                  <a:moveTo>
                    <a:pt x="318" y="1270"/>
                  </a:moveTo>
                  <a:lnTo>
                    <a:pt x="227" y="1270"/>
                  </a:lnTo>
                  <a:lnTo>
                    <a:pt x="182" y="1043"/>
                  </a:lnTo>
                  <a:lnTo>
                    <a:pt x="46" y="635"/>
                  </a:lnTo>
                  <a:lnTo>
                    <a:pt x="0" y="91"/>
                  </a:lnTo>
                  <a:lnTo>
                    <a:pt x="136" y="317"/>
                  </a:lnTo>
                  <a:lnTo>
                    <a:pt x="136" y="45"/>
                  </a:lnTo>
                  <a:lnTo>
                    <a:pt x="182" y="317"/>
                  </a:lnTo>
                  <a:lnTo>
                    <a:pt x="227" y="0"/>
                  </a:lnTo>
                  <a:lnTo>
                    <a:pt x="318" y="317"/>
                  </a:lnTo>
                  <a:lnTo>
                    <a:pt x="318" y="91"/>
                  </a:lnTo>
                  <a:lnTo>
                    <a:pt x="409" y="363"/>
                  </a:lnTo>
                  <a:lnTo>
                    <a:pt x="454" y="45"/>
                  </a:lnTo>
                  <a:lnTo>
                    <a:pt x="454" y="499"/>
                  </a:lnTo>
                  <a:lnTo>
                    <a:pt x="454" y="771"/>
                  </a:lnTo>
                  <a:lnTo>
                    <a:pt x="363" y="1134"/>
                  </a:lnTo>
                  <a:lnTo>
                    <a:pt x="318" y="127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e9f7ff"/>
                </a:gs>
              </a:gsLst>
              <a:lin ang="10800000"/>
            </a:gra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6947280" y="4880880"/>
            <a:ext cx="831600" cy="624960"/>
            <a:chOff x="6947280" y="4880880"/>
            <a:chExt cx="831600" cy="624960"/>
          </a:xfrm>
        </p:grpSpPr>
        <p:sp>
          <p:nvSpPr>
            <p:cNvPr id="385" name=""/>
            <p:cNvSpPr/>
            <p:nvPr/>
          </p:nvSpPr>
          <p:spPr>
            <a:xfrm rot="17640000">
              <a:off x="7189200" y="4815360"/>
              <a:ext cx="347400" cy="755640"/>
            </a:xfrm>
            <a:custGeom>
              <a:avLst/>
              <a:gdLst/>
              <a:ahLst/>
              <a:rect l="l" t="t" r="r" b="b"/>
              <a:pathLst>
                <a:path w="817" h="1784">
                  <a:moveTo>
                    <a:pt x="416" y="7"/>
                  </a:moveTo>
                  <a:cubicBezTo>
                    <a:pt x="386" y="14"/>
                    <a:pt x="363" y="159"/>
                    <a:pt x="325" y="234"/>
                  </a:cubicBezTo>
                  <a:cubicBezTo>
                    <a:pt x="287" y="309"/>
                    <a:pt x="227" y="393"/>
                    <a:pt x="189" y="461"/>
                  </a:cubicBezTo>
                  <a:cubicBezTo>
                    <a:pt x="151" y="529"/>
                    <a:pt x="128" y="559"/>
                    <a:pt x="98" y="642"/>
                  </a:cubicBezTo>
                  <a:cubicBezTo>
                    <a:pt x="68" y="725"/>
                    <a:pt x="14" y="869"/>
                    <a:pt x="7" y="960"/>
                  </a:cubicBezTo>
                  <a:cubicBezTo>
                    <a:pt x="0" y="1051"/>
                    <a:pt x="15" y="1112"/>
                    <a:pt x="53" y="1187"/>
                  </a:cubicBezTo>
                  <a:cubicBezTo>
                    <a:pt x="91" y="1262"/>
                    <a:pt x="189" y="1323"/>
                    <a:pt x="234" y="1414"/>
                  </a:cubicBezTo>
                  <a:cubicBezTo>
                    <a:pt x="279" y="1505"/>
                    <a:pt x="280" y="1678"/>
                    <a:pt x="325" y="1731"/>
                  </a:cubicBezTo>
                  <a:cubicBezTo>
                    <a:pt x="370" y="1784"/>
                    <a:pt x="468" y="1769"/>
                    <a:pt x="506" y="1731"/>
                  </a:cubicBezTo>
                  <a:cubicBezTo>
                    <a:pt x="544" y="1693"/>
                    <a:pt x="529" y="1572"/>
                    <a:pt x="552" y="1504"/>
                  </a:cubicBezTo>
                  <a:cubicBezTo>
                    <a:pt x="575" y="1436"/>
                    <a:pt x="604" y="1376"/>
                    <a:pt x="642" y="1323"/>
                  </a:cubicBezTo>
                  <a:cubicBezTo>
                    <a:pt x="680" y="1270"/>
                    <a:pt x="756" y="1263"/>
                    <a:pt x="779" y="1187"/>
                  </a:cubicBezTo>
                  <a:cubicBezTo>
                    <a:pt x="802" y="1111"/>
                    <a:pt x="817" y="1028"/>
                    <a:pt x="779" y="869"/>
                  </a:cubicBezTo>
                  <a:cubicBezTo>
                    <a:pt x="741" y="710"/>
                    <a:pt x="575" y="302"/>
                    <a:pt x="552" y="234"/>
                  </a:cubicBezTo>
                  <a:cubicBezTo>
                    <a:pt x="529" y="166"/>
                    <a:pt x="650" y="468"/>
                    <a:pt x="642" y="461"/>
                  </a:cubicBezTo>
                  <a:cubicBezTo>
                    <a:pt x="634" y="454"/>
                    <a:pt x="536" y="265"/>
                    <a:pt x="506" y="189"/>
                  </a:cubicBezTo>
                  <a:cubicBezTo>
                    <a:pt x="476" y="113"/>
                    <a:pt x="446" y="0"/>
                    <a:pt x="416" y="7"/>
                  </a:cubicBez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7640000">
              <a:off x="7368120" y="4962600"/>
              <a:ext cx="192600" cy="537840"/>
            </a:xfrm>
            <a:custGeom>
              <a:avLst/>
              <a:gdLst/>
              <a:ahLst/>
              <a:rect l="l" t="t" r="r" b="b"/>
              <a:pathLst>
                <a:path w="454" h="1270">
                  <a:moveTo>
                    <a:pt x="318" y="1270"/>
                  </a:moveTo>
                  <a:lnTo>
                    <a:pt x="227" y="1270"/>
                  </a:lnTo>
                  <a:lnTo>
                    <a:pt x="182" y="1043"/>
                  </a:lnTo>
                  <a:lnTo>
                    <a:pt x="46" y="635"/>
                  </a:lnTo>
                  <a:lnTo>
                    <a:pt x="0" y="91"/>
                  </a:lnTo>
                  <a:lnTo>
                    <a:pt x="136" y="317"/>
                  </a:lnTo>
                  <a:lnTo>
                    <a:pt x="136" y="45"/>
                  </a:lnTo>
                  <a:lnTo>
                    <a:pt x="182" y="317"/>
                  </a:lnTo>
                  <a:lnTo>
                    <a:pt x="227" y="0"/>
                  </a:lnTo>
                  <a:lnTo>
                    <a:pt x="318" y="317"/>
                  </a:lnTo>
                  <a:lnTo>
                    <a:pt x="318" y="91"/>
                  </a:lnTo>
                  <a:lnTo>
                    <a:pt x="409" y="363"/>
                  </a:lnTo>
                  <a:lnTo>
                    <a:pt x="454" y="45"/>
                  </a:lnTo>
                  <a:lnTo>
                    <a:pt x="454" y="499"/>
                  </a:lnTo>
                  <a:lnTo>
                    <a:pt x="454" y="771"/>
                  </a:lnTo>
                  <a:lnTo>
                    <a:pt x="363" y="1134"/>
                  </a:lnTo>
                  <a:lnTo>
                    <a:pt x="318" y="127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e9f7ff"/>
                </a:gs>
              </a:gsLst>
              <a:lin ang="10800000"/>
            </a:gra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79640" y="404640"/>
            <a:ext cx="57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分析图案的形成过程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9f7ff"/>
                                </p:to>
                              </p:animCl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99"/>
                                </p:to>
                              </p:animCl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cc"/>
                                </p:to>
                              </p:animCl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cc"/>
                                </p:to>
                              </p:animCl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cc"/>
                                </p:to>
                              </p:animCl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cc"/>
                                </p:to>
                              </p:animCl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cc"/>
                                </p:to>
                              </p:animCl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cc"/>
                                </p:to>
                              </p:animCl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cc"/>
                                </p:to>
                              </p:animCl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cc"/>
                                </p:to>
                              </p:animCl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"/>
                            </p:stCondLst>
                            <p:childTnLst>
                              <p:par>
                                <p:cTn id="2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11280" y="2529000"/>
            <a:ext cx="1873080" cy="12240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2700360" y="2492280"/>
            <a:ext cx="1297080" cy="13683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4608360" y="2492280"/>
            <a:ext cx="1297080" cy="13683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5"/>
          <a:stretch/>
        </p:blipFill>
        <p:spPr>
          <a:xfrm>
            <a:off x="684360" y="4076640"/>
            <a:ext cx="1569960" cy="16560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6"/>
          <a:stretch/>
        </p:blipFill>
        <p:spPr>
          <a:xfrm>
            <a:off x="6588000" y="2637000"/>
            <a:ext cx="1297080" cy="1368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3311640" y="441360"/>
            <a:ext cx="25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图片赏析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76360" y="1089000"/>
            <a:ext cx="70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黑体"/>
              </a:rPr>
              <a:t>生活中我们会看到很多由一些几何图形组成的优美图案，让我们来欣赏一下吧！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7"/>
          <a:srcRect l="13893" t="0" r="13834" b="0"/>
          <a:stretch/>
        </p:blipFill>
        <p:spPr>
          <a:xfrm>
            <a:off x="4572000" y="4257720"/>
            <a:ext cx="1584360" cy="15066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8"/>
          <a:stretch/>
        </p:blipFill>
        <p:spPr>
          <a:xfrm>
            <a:off x="6480000" y="4473720"/>
            <a:ext cx="1366920" cy="12459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9"/>
          <a:stretch/>
        </p:blipFill>
        <p:spPr>
          <a:xfrm>
            <a:off x="2735280" y="4329000"/>
            <a:ext cx="1260360" cy="12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"/>
          <p:cNvGraphicFramePr/>
          <p:nvPr/>
        </p:nvGraphicFramePr>
        <p:xfrm>
          <a:off x="1187280" y="1484280"/>
          <a:ext cx="2009880" cy="192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1484280"/>
                    <a:ext cx="200988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1042920" y="3789360"/>
          <a:ext cx="2124000" cy="1971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2920" y="3789360"/>
                    <a:ext cx="21240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3456000" y="3860640"/>
          <a:ext cx="2124000" cy="202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56000" y="3860640"/>
                    <a:ext cx="212400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3527280" y="1484280"/>
          <a:ext cx="2295720" cy="2041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27280" y="1484280"/>
                    <a:ext cx="229572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3311640" y="441360"/>
            <a:ext cx="25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图片赏析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0"/>
          <a:stretch/>
        </p:blipFill>
        <p:spPr>
          <a:xfrm>
            <a:off x="5977080" y="3968640"/>
            <a:ext cx="1944720" cy="19177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11"/>
          <a:stretch/>
        </p:blipFill>
        <p:spPr>
          <a:xfrm>
            <a:off x="6192720" y="1521000"/>
            <a:ext cx="1737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1187280" y="1376280"/>
            <a:ext cx="2845080" cy="19274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967280" y="1268280"/>
            <a:ext cx="2916360" cy="20559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1150920" y="4041720"/>
            <a:ext cx="2952720" cy="20606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4932360" y="4113360"/>
            <a:ext cx="3171960" cy="20444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3311640" y="441360"/>
            <a:ext cx="25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图片赏析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2808360" y="1341360"/>
            <a:ext cx="5472000" cy="1366920"/>
          </a:xfrm>
          <a:prstGeom prst="cloudCallout">
            <a:avLst>
              <a:gd name="adj1" fmla="val -53856"/>
              <a:gd name="adj2" fmla="val 22356"/>
            </a:avLst>
          </a:prstGeom>
          <a:solidFill>
            <a:srgbClr val="ffff2f">
              <a:alpha val="43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华文新魏"/>
              </a:rPr>
              <a:t>进行图案设计的步骤是什么？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1257480" cy="12956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3311640" y="441360"/>
            <a:ext cx="25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实践活动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24000" y="353700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  <a:ea typeface="黑体"/>
              </a:rPr>
              <a:t>请各组同学选择自己喜欢的图形，用所学的图形变换组合设计一些漂亮的图案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  <a:ea typeface="黑体"/>
              </a:rPr>
              <a:t>.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10:47:29Z</dcterms:created>
  <dc:creator>ryh</dc:creator>
  <dc:description/>
  <dc:language>en-US</dc:language>
  <cp:lastModifiedBy>pepyx</cp:lastModifiedBy>
  <dcterms:modified xsi:type="dcterms:W3CDTF">2007-04-25T07:32:55Z</dcterms:modified>
  <cp:revision>3676</cp:revision>
  <dc:subject/>
  <dc:title>图案设计</dc:title>
</cp:coreProperties>
</file>