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gif" ContentType="image/gif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F8C-DB0B-410C-8BC5-8F6AAF33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664-62ED-4D47-8F60-7B61DC0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12-1C68-4377-9F35-D8C337C8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3F2-5627-4DBA-AB36-4847E8E3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B68-7CC9-4CBB-8467-D56768C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100-55AB-41DE-9016-52D7EE55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B34-40DB-427F-9B7E-C5ADDB81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216-09B7-420D-A375-3DCD760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877-AC5C-4597-90BB-613FFD8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FB8-9AB5-46E1-9CFE-123BD29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61E-9B33-4661-A008-2338356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D14-7BC8-41AE-9899-C9C6C08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0DC9-DE55-4594-8852-6F4CD4C54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8.png"/><Relationship Id="rId5" Type="http://schemas.openxmlformats.org/officeDocument/2006/relationships/image" Target="../media/image6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2421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3.2.2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心对称图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55640" y="1160640"/>
            <a:ext cx="7488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下列命题中真命题的个数是（ 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中心对称的两个图形一定不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中心对称的两个图形是全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全等的图形一定关于中心对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0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2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42160" y="108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2840" y="41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3753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要求画一个图形，所画图形中同时要有一个正方形和一个圆，并且这个图形既是轴对称图形又是中心对称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19280" y="5265720"/>
            <a:ext cx="853920" cy="853920"/>
            <a:chOff x="1619280" y="5265720"/>
            <a:chExt cx="853920" cy="853920"/>
          </a:xfrm>
        </p:grpSpPr>
        <p:sp>
          <p:nvSpPr>
            <p:cNvPr id="225" name=""/>
            <p:cNvSpPr/>
            <p:nvPr/>
          </p:nvSpPr>
          <p:spPr>
            <a:xfrm>
              <a:off x="1619280" y="5265720"/>
              <a:ext cx="853920" cy="853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2040" y="5532480"/>
              <a:ext cx="426960" cy="38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130560" y="5265720"/>
            <a:ext cx="826920" cy="827280"/>
            <a:chOff x="3130560" y="5265720"/>
            <a:chExt cx="826920" cy="827280"/>
          </a:xfrm>
        </p:grpSpPr>
        <p:sp>
          <p:nvSpPr>
            <p:cNvPr id="228" name=""/>
            <p:cNvSpPr/>
            <p:nvPr/>
          </p:nvSpPr>
          <p:spPr>
            <a:xfrm>
              <a:off x="3130560" y="5265720"/>
              <a:ext cx="826920" cy="82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3240" y="5398560"/>
              <a:ext cx="606960" cy="56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51280" y="5265720"/>
            <a:ext cx="854280" cy="853920"/>
            <a:chOff x="4751280" y="5265720"/>
            <a:chExt cx="854280" cy="853920"/>
          </a:xfrm>
        </p:grpSpPr>
        <p:sp>
          <p:nvSpPr>
            <p:cNvPr id="231" name=""/>
            <p:cNvSpPr/>
            <p:nvPr/>
          </p:nvSpPr>
          <p:spPr>
            <a:xfrm>
              <a:off x="4751280" y="5265720"/>
              <a:ext cx="854280" cy="853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51280" y="5265720"/>
              <a:ext cx="0" cy="853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51280" y="6119640"/>
              <a:ext cx="8542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51280" y="5265720"/>
              <a:ext cx="8542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560" y="5265720"/>
              <a:ext cx="0" cy="853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99280" y="5302080"/>
            <a:ext cx="865080" cy="854280"/>
            <a:chOff x="6299280" y="5302080"/>
            <a:chExt cx="865080" cy="854280"/>
          </a:xfrm>
        </p:grpSpPr>
        <p:sp>
          <p:nvSpPr>
            <p:cNvPr id="237" name=""/>
            <p:cNvSpPr/>
            <p:nvPr/>
          </p:nvSpPr>
          <p:spPr>
            <a:xfrm>
              <a:off x="6299280" y="5302080"/>
              <a:ext cx="0" cy="8542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09360" y="6156360"/>
              <a:ext cx="85464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09360" y="5302080"/>
              <a:ext cx="85464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4360" y="5302080"/>
              <a:ext cx="0" cy="8542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27080" y="5419440"/>
              <a:ext cx="581400" cy="5814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68360" y="1158840"/>
            <a:ext cx="72374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在平行四边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两条直线，分别交各边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对称点分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11760" y="3438360"/>
            <a:ext cx="4726800" cy="2441160"/>
            <a:chOff x="2111760" y="3438360"/>
            <a:chExt cx="4726800" cy="2441160"/>
          </a:xfrm>
        </p:grpSpPr>
        <p:grpSp>
          <p:nvGrpSpPr>
            <p:cNvPr id="244" name=""/>
            <p:cNvGrpSpPr/>
            <p:nvPr/>
          </p:nvGrpSpPr>
          <p:grpSpPr>
            <a:xfrm>
              <a:off x="2328840" y="3847680"/>
              <a:ext cx="4135320" cy="1600560"/>
              <a:chOff x="2328840" y="3847680"/>
              <a:chExt cx="4135320" cy="16005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349000" y="3848040"/>
                <a:ext cx="4115160" cy="1600200"/>
                <a:chOff x="2349000" y="3848040"/>
                <a:chExt cx="4115160" cy="1600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035160" y="384804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49360" y="544824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5778000" y="3848040"/>
                  <a:ext cx="68580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2349000" y="3848040"/>
                  <a:ext cx="68580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 flipV="1">
                <a:off x="2328840" y="3847680"/>
                <a:ext cx="4114800" cy="1600200"/>
              </a:xfrm>
              <a:prstGeom prst="line">
                <a:avLst/>
              </a:prstGeom>
              <a:ln w="28440">
                <a:solidFill>
                  <a:srgbClr val="cd5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35160" y="3848040"/>
                <a:ext cx="2743200" cy="1600200"/>
              </a:xfrm>
              <a:prstGeom prst="line">
                <a:avLst/>
              </a:prstGeom>
              <a:ln w="28440">
                <a:solidFill>
                  <a:srgbClr val="cd5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2200" y="3848040"/>
                <a:ext cx="609480" cy="1600200"/>
              </a:xfrm>
              <a:prstGeom prst="line">
                <a:avLst/>
              </a:prstGeom>
              <a:ln w="38160">
                <a:solidFill>
                  <a:srgbClr val="5858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06560" y="4381560"/>
                <a:ext cx="3200400" cy="5335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746800" y="347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6680" y="40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64240" y="343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11760" y="538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69360" y="5267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49520" y="4734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50040" y="5419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55160" y="351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2320" y="4173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344720" y="2637000"/>
            <a:ext cx="418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53080" y="2673360"/>
            <a:ext cx="383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6520" y="2637000"/>
            <a:ext cx="383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6800" y="2637000"/>
            <a:ext cx="383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02840" y="41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41440" y="17017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是一幅中心对称图形，请你找出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的对应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应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？你是怎么找的？现在你能很快找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应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640" y="53024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从上面的操作过程，你能发现中心对称图形上的一对对应点与对称中心的关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02840" y="41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527280" y="2816280"/>
            <a:ext cx="2119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63640" y="14788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在一次游戏当中，小明将下面第一排的四张扑克牌中的一张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得到第二排，小明看完后，很快知道小明转动了哪一张扑克，你知道为什么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02840" y="41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12902" t="19069" r="48303" b="60584"/>
          <a:stretch/>
        </p:blipFill>
        <p:spPr>
          <a:xfrm>
            <a:off x="2087640" y="2816280"/>
            <a:ext cx="4788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16000" y="155736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今天的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哪些收获？还存在哪些疑问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72000" y="44136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      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6000" y="40417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轴对称图形与中心对称图形的区别与联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800360" y="566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等边三角形不是中心对称图形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159228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ff000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159228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411280" y="1614600"/>
            <a:ext cx="4105440" cy="3577680"/>
            <a:chOff x="2411280" y="1614600"/>
            <a:chExt cx="4105440" cy="3577680"/>
          </a:xfrm>
        </p:grpSpPr>
        <p:sp>
          <p:nvSpPr>
            <p:cNvPr id="282" name=""/>
            <p:cNvSpPr/>
            <p:nvPr/>
          </p:nvSpPr>
          <p:spPr>
            <a:xfrm>
              <a:off x="4140360" y="36082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463640" y="1614600"/>
              <a:ext cx="34920" cy="35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411280" y="3558960"/>
              <a:ext cx="3160800" cy="16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348000" y="3537000"/>
              <a:ext cx="316872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704000" y="1700280"/>
            <a:ext cx="540000" cy="252360"/>
          </a:xfrm>
          <a:custGeom>
            <a:avLst/>
            <a:gdLst>
              <a:gd name="textAreaLeft" fmla="*/ 16200 w 540000"/>
              <a:gd name="textAreaRight" fmla="*/ 523800 w 54000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46185" h="21600">
                <a:moveTo>
                  <a:pt x="0" y="0"/>
                </a:moveTo>
                <a:lnTo>
                  <a:pt x="46185" y="0"/>
                </a:lnTo>
                <a:lnTo>
                  <a:pt x="46185" y="21600"/>
                </a:lnTo>
                <a:lnTo>
                  <a:pt x="0" y="21600"/>
                </a:lnTo>
                <a:close/>
              </a:path>
              <a:path fill="lightenLess" w="46185" h="21600">
                <a:moveTo>
                  <a:pt x="0" y="0"/>
                </a:moveTo>
                <a:lnTo>
                  <a:pt x="46185" y="0"/>
                </a:lnTo>
                <a:lnTo>
                  <a:pt x="44785" y="1400"/>
                </a:lnTo>
                <a:lnTo>
                  <a:pt x="1400" y="1400"/>
                </a:lnTo>
                <a:close/>
              </a:path>
              <a:path fill="darken" w="46185" h="21600">
                <a:moveTo>
                  <a:pt x="46185" y="0"/>
                </a:moveTo>
                <a:lnTo>
                  <a:pt x="46185" y="21600"/>
                </a:lnTo>
                <a:lnTo>
                  <a:pt x="44785" y="20200"/>
                </a:lnTo>
                <a:lnTo>
                  <a:pt x="44785" y="1400"/>
                </a:lnTo>
                <a:close/>
              </a:path>
              <a:path fill="darkenLess" w="46185" h="21600">
                <a:moveTo>
                  <a:pt x="4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5" y="20200"/>
                </a:lnTo>
                <a:close/>
              </a:path>
              <a:path fill="lighten" w="4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5" h="21600">
                <a:moveTo>
                  <a:pt x="16086" y="10800"/>
                </a:moveTo>
                <a:lnTo>
                  <a:pt x="30099" y="3794"/>
                </a:lnTo>
                <a:lnTo>
                  <a:pt x="3009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12720" y="2827440"/>
            <a:ext cx="1943280" cy="0"/>
          </a:xfrm>
          <a:prstGeom prst="line">
            <a:avLst/>
          </a:prstGeom>
          <a:ln w="414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6360" y="2060640"/>
            <a:ext cx="1404720" cy="14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940360" y="2529000"/>
            <a:ext cx="576360" cy="459720"/>
            <a:chOff x="5940360" y="2529000"/>
            <a:chExt cx="576360" cy="459720"/>
          </a:xfrm>
        </p:grpSpPr>
        <p:sp>
          <p:nvSpPr>
            <p:cNvPr id="45" name=""/>
            <p:cNvSpPr/>
            <p:nvPr/>
          </p:nvSpPr>
          <p:spPr>
            <a:xfrm>
              <a:off x="5940360" y="2529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941800" y="274500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148360" y="3573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558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正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30200" y="4152960"/>
            <a:ext cx="2017800" cy="1147680"/>
            <a:chOff x="1330200" y="4152960"/>
            <a:chExt cx="2017800" cy="1147680"/>
          </a:xfrm>
        </p:grpSpPr>
        <p:sp>
          <p:nvSpPr>
            <p:cNvPr id="50" name="">
              <a:hlinkClick r:id="rId2" action="ppaction://hlinksldjump"/>
            </p:cNvPr>
            <p:cNvSpPr/>
            <p:nvPr/>
          </p:nvSpPr>
          <p:spPr>
            <a:xfrm>
              <a:off x="1330200" y="4152960"/>
              <a:ext cx="2017800" cy="1147680"/>
            </a:xfrm>
            <a:prstGeom prst="flowChartInputOutpu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330200" y="4152960"/>
              <a:ext cx="2017800" cy="1147680"/>
              <a:chOff x="1330200" y="4152960"/>
              <a:chExt cx="2017800" cy="114768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1330200" y="4152960"/>
                <a:ext cx="2017800" cy="11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47440" y="4152960"/>
                <a:ext cx="1183320" cy="11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1295280" y="34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0400" y="5472000"/>
            <a:ext cx="17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平行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12720" y="2827440"/>
            <a:ext cx="1943280" cy="0"/>
          </a:xfrm>
          <a:prstGeom prst="line">
            <a:avLst/>
          </a:prstGeom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2360" y="2467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6000" y="2467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下面的图形绕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你有什么发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32000" y="4152960"/>
            <a:ext cx="2017440" cy="1147680"/>
            <a:chOff x="1332000" y="4152960"/>
            <a:chExt cx="2017440" cy="1147680"/>
          </a:xfrm>
        </p:grpSpPr>
        <p:sp>
          <p:nvSpPr>
            <p:cNvPr id="62" name=""/>
            <p:cNvSpPr/>
            <p:nvPr/>
          </p:nvSpPr>
          <p:spPr>
            <a:xfrm>
              <a:off x="1332000" y="4152960"/>
              <a:ext cx="2017440" cy="1147680"/>
            </a:xfrm>
            <a:prstGeom prst="flowChartInputOutput">
              <a:avLst/>
            </a:prstGeom>
            <a:solidFill>
              <a:srgbClr val="00ff00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332000" y="4152960"/>
              <a:ext cx="2017440" cy="1147680"/>
              <a:chOff x="1332000" y="4152960"/>
              <a:chExt cx="2017440" cy="114768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1332000" y="4152960"/>
                <a:ext cx="2017440" cy="11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48880" y="4152960"/>
                <a:ext cx="1182960" cy="11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2050920" y="4724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6360" y="2060640"/>
            <a:ext cx="1404720" cy="1404720"/>
          </a:xfrm>
          <a:prstGeom prst="ellipse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48000" y="2395440"/>
            <a:ext cx="682560" cy="459720"/>
            <a:chOff x="2448000" y="2395440"/>
            <a:chExt cx="682560" cy="459720"/>
          </a:xfrm>
        </p:grpSpPr>
        <p:sp>
          <p:nvSpPr>
            <p:cNvPr id="69" name=""/>
            <p:cNvSpPr/>
            <p:nvPr/>
          </p:nvSpPr>
          <p:spPr>
            <a:xfrm>
              <a:off x="2481120" y="23954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48000" y="2792160"/>
              <a:ext cx="34920" cy="34920"/>
            </a:xfrm>
            <a:prstGeom prst="flowChartConnector">
              <a:avLst/>
            </a:prstGeom>
            <a:solidFill>
              <a:srgbClr val="ff0000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977080" y="1844640"/>
            <a:ext cx="0" cy="180036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4184640"/>
            <a:ext cx="1189080" cy="11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1280" y="4184640"/>
            <a:ext cx="1188720" cy="1189080"/>
          </a:xfrm>
          <a:prstGeom prst="rect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292720" y="4184280"/>
            <a:ext cx="1187280" cy="1189440"/>
            <a:chOff x="5292720" y="4184280"/>
            <a:chExt cx="1187280" cy="1189440"/>
          </a:xfrm>
        </p:grpSpPr>
        <p:sp>
          <p:nvSpPr>
            <p:cNvPr id="75" name=""/>
            <p:cNvSpPr/>
            <p:nvPr/>
          </p:nvSpPr>
          <p:spPr>
            <a:xfrm>
              <a:off x="5292720" y="4184640"/>
              <a:ext cx="115092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292720" y="4184280"/>
              <a:ext cx="118728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5640" y="458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4221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把一个图形绕着某一个点旋转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如果旋转后的图形能够与原来的图形重合，那么这个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中心对称图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这个点就是它的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对称中心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71640" y="1701720"/>
            <a:ext cx="3670560" cy="1889280"/>
            <a:chOff x="2771640" y="1701720"/>
            <a:chExt cx="3670560" cy="1889280"/>
          </a:xfrm>
        </p:grpSpPr>
        <p:sp>
          <p:nvSpPr>
            <p:cNvPr id="80" name=""/>
            <p:cNvSpPr/>
            <p:nvPr/>
          </p:nvSpPr>
          <p:spPr>
            <a:xfrm>
              <a:off x="2771640" y="1701720"/>
              <a:ext cx="3670560" cy="1889280"/>
            </a:xfrm>
            <a:prstGeom prst="flowChartInputOutpu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771640" y="1701720"/>
              <a:ext cx="3670560" cy="1889280"/>
              <a:chOff x="2771640" y="1701720"/>
              <a:chExt cx="3670560" cy="188928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771640" y="1701720"/>
                <a:ext cx="3670560" cy="18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30520" y="1701720"/>
                <a:ext cx="2152440" cy="18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771640" y="1701720"/>
            <a:ext cx="3672000" cy="1890720"/>
            <a:chOff x="2771640" y="1701720"/>
            <a:chExt cx="3672000" cy="1890720"/>
          </a:xfrm>
        </p:grpSpPr>
        <p:sp>
          <p:nvSpPr>
            <p:cNvPr id="85" name=""/>
            <p:cNvSpPr/>
            <p:nvPr/>
          </p:nvSpPr>
          <p:spPr>
            <a:xfrm>
              <a:off x="2771640" y="1701720"/>
              <a:ext cx="3672000" cy="1890720"/>
            </a:xfrm>
            <a:prstGeom prst="flowChartInputOutput">
              <a:avLst/>
            </a:prstGeom>
            <a:solidFill>
              <a:srgbClr val="00ff00">
                <a:alpha val="29000"/>
              </a:srgbClr>
            </a:solidFill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771640" y="1701720"/>
              <a:ext cx="3672000" cy="1890720"/>
              <a:chOff x="2771640" y="1701720"/>
              <a:chExt cx="3672000" cy="189072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2771640" y="1701720"/>
                <a:ext cx="3672000" cy="189072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30880" y="1701720"/>
                <a:ext cx="2153160" cy="189072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340000" y="1197000"/>
            <a:ext cx="4608360" cy="2957760"/>
            <a:chOff x="2340000" y="1197000"/>
            <a:chExt cx="4608360" cy="2957760"/>
          </a:xfrm>
        </p:grpSpPr>
        <p:sp>
          <p:nvSpPr>
            <p:cNvPr id="90" name=""/>
            <p:cNvSpPr/>
            <p:nvPr/>
          </p:nvSpPr>
          <p:spPr>
            <a:xfrm>
              <a:off x="2987640" y="1197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40000" y="35020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08720" y="35733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1270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84720" y="26384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9236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概    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19280" y="14842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心对称与中心对称图形是两个既有联系又有区别的概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88936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区别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中心对称指两个全等图形的相互位置关系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中心对称图形指一个图形本身成中心对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005360"/>
            <a:ext cx="7862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联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果将中心对称图形的两个图形看成一个整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则它们是中心对称图形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4920" y="4941720"/>
            <a:ext cx="785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果将中心对称图形对称的部分看成两个图形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则它们成中心对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   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08000" y="116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问题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平时见过的几何图形中，有哪些是中心对称图形？并指出对称中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5820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探  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2925720"/>
            <a:ext cx="147636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602080"/>
            <a:ext cx="1549440" cy="8632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96000" y="2276640"/>
            <a:ext cx="1366560" cy="136656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3640" y="3968640"/>
            <a:ext cx="1224000" cy="1224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4437000"/>
            <a:ext cx="1619280" cy="719280"/>
          </a:xfrm>
          <a:prstGeom prst="parallelogram">
            <a:avLst>
              <a:gd name="adj" fmla="val 56281"/>
            </a:avLst>
          </a:prstGeom>
          <a:noFill/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 rot="16200000">
            <a:off x="4829040" y="3675240"/>
            <a:ext cx="1547640" cy="1989360"/>
          </a:xfrm>
          <a:prstGeom prst="diamond">
            <a:avLst/>
          </a:pr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0360" y="2349360"/>
            <a:ext cx="1476720" cy="1276560"/>
          </a:xfrm>
          <a:prstGeom prst="hexagon">
            <a:avLst>
              <a:gd name="adj" fmla="val 28920"/>
              <a:gd name="vf" fmla="val 115470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56360" y="4113360"/>
            <a:ext cx="1297080" cy="1296720"/>
          </a:xfrm>
          <a:prstGeom prst="octagon">
            <a:avLst>
              <a:gd name="adj" fmla="val 2928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6720" y="576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怎样的正多边形是中心对称图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079640" y="1089000"/>
          <a:ext cx="7611840" cy="5465880"/>
        </p:xfrm>
        <a:graphic>
          <a:graphicData uri="http://schemas.openxmlformats.org/drawingml/2006/table">
            <a:tbl>
              <a:tblPr/>
              <a:tblGrid>
                <a:gridCol w="1519200"/>
                <a:gridCol w="1714320"/>
                <a:gridCol w="1462320"/>
                <a:gridCol w="1563480"/>
                <a:gridCol w="13525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             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形          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轴对称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中心对称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轴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中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腰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边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平行四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角线交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矩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角线交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菱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角线交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角线交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5952960" y="479736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77080" y="4292640"/>
            <a:ext cx="1214280" cy="360360"/>
          </a:xfrm>
          <a:prstGeom prst="parallelogram">
            <a:avLst>
              <a:gd name="adj" fmla="val 84241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7680" y="5300640"/>
            <a:ext cx="863640" cy="57636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86400" y="6018120"/>
            <a:ext cx="43200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79280" y="2637000"/>
            <a:ext cx="864000" cy="431640"/>
            <a:chOff x="2879280" y="2637000"/>
            <a:chExt cx="864000" cy="431640"/>
          </a:xfrm>
        </p:grpSpPr>
        <p:sp>
          <p:nvSpPr>
            <p:cNvPr id="119" name=""/>
            <p:cNvSpPr/>
            <p:nvPr/>
          </p:nvSpPr>
          <p:spPr>
            <a:xfrm flipH="1">
              <a:off x="2879280" y="2637000"/>
              <a:ext cx="86364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9640" y="2852640"/>
              <a:ext cx="863640" cy="216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612880" y="2852640"/>
            <a:ext cx="1346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2313000"/>
            <a:ext cx="1081080" cy="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9440" y="3645000"/>
            <a:ext cx="57600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105000"/>
            <a:ext cx="287640" cy="50508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4920" y="3033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73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844720" y="3789000"/>
            <a:ext cx="79236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916360" y="3789000"/>
            <a:ext cx="79200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4292640"/>
            <a:ext cx="1214280" cy="360360"/>
          </a:xfrm>
          <a:prstGeom prst="parallelogram">
            <a:avLst>
              <a:gd name="adj" fmla="val 84241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36720" y="483408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4360" y="5367240"/>
            <a:ext cx="684000" cy="45720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46920" y="2312640"/>
            <a:ext cx="1081080" cy="1116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68720" y="2602080"/>
            <a:ext cx="864000" cy="431640"/>
            <a:chOff x="5868720" y="2602080"/>
            <a:chExt cx="864000" cy="431640"/>
          </a:xfrm>
        </p:grpSpPr>
        <p:sp>
          <p:nvSpPr>
            <p:cNvPr id="134" name=""/>
            <p:cNvSpPr/>
            <p:nvPr/>
          </p:nvSpPr>
          <p:spPr>
            <a:xfrm flipH="1">
              <a:off x="5868720" y="2602080"/>
              <a:ext cx="863640" cy="215640"/>
            </a:xfrm>
            <a:prstGeom prst="line">
              <a:avLst/>
            </a:prstGeom>
            <a:ln w="442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9080" y="2817720"/>
              <a:ext cx="863640" cy="216000"/>
            </a:xfrm>
            <a:prstGeom prst="line">
              <a:avLst/>
            </a:prstGeom>
            <a:ln w="414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300720" y="3103560"/>
            <a:ext cx="28728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3645000"/>
            <a:ext cx="57636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236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0040" y="5589720"/>
            <a:ext cx="108432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53200"/>
            <a:ext cx="7920" cy="48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6920" y="5986440"/>
            <a:ext cx="43200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2920" y="5913360"/>
            <a:ext cx="1800" cy="612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95280" y="5913360"/>
            <a:ext cx="576360" cy="576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5640" y="5913360"/>
            <a:ext cx="576360" cy="576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4360" y="6202440"/>
            <a:ext cx="7189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07000" y="556416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10320" y="495288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83320" y="622296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39280" y="4816440"/>
            <a:ext cx="1315080" cy="34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0520" y="4843080"/>
            <a:ext cx="1225080" cy="29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3000" y="5607000"/>
            <a:ext cx="815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21400" y="5284800"/>
            <a:ext cx="9720" cy="587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43280" y="6010200"/>
            <a:ext cx="328680" cy="405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5480" y="6010200"/>
            <a:ext cx="424080" cy="44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64360" y="4329000"/>
            <a:ext cx="684000" cy="324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11640" y="4329000"/>
            <a:ext cx="1143000" cy="27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4880" y="0"/>
            <a:ext cx="642960" cy="628560"/>
          </a:xfrm>
          <a:custGeom>
            <a:avLst/>
            <a:gdLst>
              <a:gd name="textAreaLeft" fmla="*/ 40680 w 642960"/>
              <a:gd name="textAreaRight" fmla="*/ 602280 w 6429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2095" h="21600">
                <a:moveTo>
                  <a:pt x="0" y="0"/>
                </a:moveTo>
                <a:lnTo>
                  <a:pt x="22095" y="0"/>
                </a:lnTo>
                <a:lnTo>
                  <a:pt x="22095" y="21600"/>
                </a:lnTo>
                <a:lnTo>
                  <a:pt x="0" y="21600"/>
                </a:lnTo>
                <a:close/>
              </a:path>
              <a:path fill="lightenLess" w="22095" h="21600">
                <a:moveTo>
                  <a:pt x="0" y="0"/>
                </a:moveTo>
                <a:lnTo>
                  <a:pt x="22095" y="0"/>
                </a:lnTo>
                <a:lnTo>
                  <a:pt x="20695" y="1400"/>
                </a:lnTo>
                <a:lnTo>
                  <a:pt x="1400" y="1400"/>
                </a:lnTo>
                <a:close/>
              </a:path>
              <a:path fill="darken" w="22095" h="21600">
                <a:moveTo>
                  <a:pt x="22095" y="0"/>
                </a:moveTo>
                <a:lnTo>
                  <a:pt x="22095" y="21600"/>
                </a:lnTo>
                <a:lnTo>
                  <a:pt x="20695" y="20200"/>
                </a:lnTo>
                <a:lnTo>
                  <a:pt x="20695" y="1400"/>
                </a:lnTo>
                <a:close/>
              </a:path>
              <a:path fill="darkenLess" w="22095" h="21600">
                <a:moveTo>
                  <a:pt x="22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5" y="20200"/>
                </a:lnTo>
                <a:close/>
              </a:path>
              <a:path fill="lighten" w="22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09700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716360" y="4365720"/>
            <a:ext cx="495360" cy="304560"/>
            <a:chOff x="4716360" y="4365720"/>
            <a:chExt cx="495360" cy="304560"/>
          </a:xfrm>
        </p:grpSpPr>
        <p:sp>
          <p:nvSpPr>
            <p:cNvPr id="161" name=""/>
            <p:cNvSpPr/>
            <p:nvPr/>
          </p:nvSpPr>
          <p:spPr>
            <a:xfrm>
              <a:off x="4754520" y="4403520"/>
              <a:ext cx="457200" cy="228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716360" y="4365720"/>
              <a:ext cx="41904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667640" y="2708280"/>
            <a:ext cx="495360" cy="304920"/>
            <a:chOff x="7667640" y="2708280"/>
            <a:chExt cx="495360" cy="304920"/>
          </a:xfrm>
        </p:grpSpPr>
        <p:sp>
          <p:nvSpPr>
            <p:cNvPr id="164" name=""/>
            <p:cNvSpPr/>
            <p:nvPr/>
          </p:nvSpPr>
          <p:spPr>
            <a:xfrm>
              <a:off x="7705800" y="2746440"/>
              <a:ext cx="45720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67640" y="2708280"/>
              <a:ext cx="41904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667640" y="3249720"/>
            <a:ext cx="495360" cy="304560"/>
            <a:chOff x="7667640" y="3249720"/>
            <a:chExt cx="495360" cy="304560"/>
          </a:xfrm>
        </p:grpSpPr>
        <p:sp>
          <p:nvSpPr>
            <p:cNvPr id="167" name=""/>
            <p:cNvSpPr/>
            <p:nvPr/>
          </p:nvSpPr>
          <p:spPr>
            <a:xfrm>
              <a:off x="7705800" y="3287520"/>
              <a:ext cx="457200" cy="228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667640" y="3249720"/>
              <a:ext cx="41904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775640" y="3789360"/>
            <a:ext cx="495360" cy="304920"/>
            <a:chOff x="7775640" y="3789360"/>
            <a:chExt cx="495360" cy="304920"/>
          </a:xfrm>
        </p:grpSpPr>
        <p:sp>
          <p:nvSpPr>
            <p:cNvPr id="170" name=""/>
            <p:cNvSpPr/>
            <p:nvPr/>
          </p:nvSpPr>
          <p:spPr>
            <a:xfrm>
              <a:off x="7813800" y="3827520"/>
              <a:ext cx="45720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775640" y="3789360"/>
              <a:ext cx="41904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539040" y="22716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1400" y="49309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12040" y="44006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4160" y="55213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0480" y="61801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40040" y="476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对称图形与中心对称图形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82428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43" h="21600">
                <a:moveTo>
                  <a:pt x="14415" y="3794"/>
                </a:moveTo>
                <a:lnTo>
                  <a:pt x="28428" y="10800"/>
                </a:lnTo>
                <a:lnTo>
                  <a:pt x="14415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2313000"/>
            <a:ext cx="147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76360" y="2025720"/>
            <a:ext cx="1548000" cy="9619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5724360" y="5626080"/>
            <a:ext cx="2232000" cy="320400"/>
            <a:chOff x="5724360" y="5626080"/>
            <a:chExt cx="2232000" cy="320400"/>
          </a:xfrm>
        </p:grpSpPr>
        <p:sp>
          <p:nvSpPr>
            <p:cNvPr id="182" name=""/>
            <p:cNvSpPr/>
            <p:nvPr/>
          </p:nvSpPr>
          <p:spPr>
            <a:xfrm>
              <a:off x="5724360" y="5730480"/>
              <a:ext cx="2155320" cy="21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5320" y="5730480"/>
              <a:ext cx="1551960" cy="21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26640" y="5626080"/>
              <a:ext cx="7297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84720" y="1989000"/>
            <a:ext cx="1332000" cy="1332360"/>
            <a:chOff x="6084720" y="1989000"/>
            <a:chExt cx="1332000" cy="1332360"/>
          </a:xfrm>
        </p:grpSpPr>
        <p:sp>
          <p:nvSpPr>
            <p:cNvPr id="186" name=""/>
            <p:cNvSpPr/>
            <p:nvPr/>
          </p:nvSpPr>
          <p:spPr>
            <a:xfrm>
              <a:off x="6084720" y="2013480"/>
              <a:ext cx="1332000" cy="1282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6" idx="0"/>
              <a:endCxn id="186" idx="4"/>
            </p:cNvCxnSpPr>
            <p:nvPr/>
          </p:nvCxnSpPr>
          <p:spPr>
            <a:xfrm>
              <a:off x="6750000" y="1989000"/>
              <a:ext cx="1080" cy="1332720"/>
            </a:xfrm>
            <a:prstGeom prst="straightConnector1">
              <a:avLst/>
            </a:prstGeom>
            <a:ln w="76320">
              <a:solidFill>
                <a:srgbClr val="cc0066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6364080" y="2526480"/>
              <a:ext cx="739800" cy="345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584360" y="3538440"/>
            <a:ext cx="1440000" cy="1128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71640" y="1109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生活中你还见过哪些中心对称图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rcRect l="0" t="4673" r="52335" b="19578"/>
          <a:stretch/>
        </p:blipFill>
        <p:spPr>
          <a:xfrm>
            <a:off x="3672000" y="3138480"/>
            <a:ext cx="1726920" cy="1839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887640" y="501336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6551640" y="397044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11640" y="2025720"/>
            <a:ext cx="838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方正姚体"/>
              </a:rPr>
              <a:t>H</a:t>
            </a:r>
            <a:endParaRPr b="1" lang="en-US" sz="6600" spc="1" strike="noStrike">
              <a:ln w="93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方正姚体"/>
              <a:ea typeface="方正姚体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441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rcRect l="22252" t="-2017" r="22198" b="34426"/>
          <a:stretch/>
        </p:blipFill>
        <p:spPr>
          <a:xfrm>
            <a:off x="1440000" y="4689360"/>
            <a:ext cx="18367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5076720" y="1413000"/>
          <a:ext cx="3564000" cy="4665600"/>
        </p:xfrm>
        <a:graphic>
          <a:graphicData uri="http://schemas.openxmlformats.org/drawingml/2006/table">
            <a:tbl>
              <a:tblPr/>
              <a:tblGrid>
                <a:gridCol w="509760"/>
                <a:gridCol w="498240"/>
                <a:gridCol w="2556000"/>
              </a:tblGrid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心对称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对称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既是中心对称图形又是轴对称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34920" y="1844640"/>
            <a:ext cx="1298520" cy="8064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419640" y="5028120"/>
            <a:ext cx="1404720" cy="201240"/>
            <a:chOff x="3419640" y="5028120"/>
            <a:chExt cx="1404720" cy="201240"/>
          </a:xfrm>
        </p:grpSpPr>
        <p:sp>
          <p:nvSpPr>
            <p:cNvPr id="200" name=""/>
            <p:cNvSpPr/>
            <p:nvPr/>
          </p:nvSpPr>
          <p:spPr>
            <a:xfrm flipV="1">
              <a:off x="3419640" y="5027760"/>
              <a:ext cx="1356480" cy="135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09000" y="5027760"/>
              <a:ext cx="976680" cy="135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365000" y="5027760"/>
              <a:ext cx="459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672000" y="1881360"/>
            <a:ext cx="971280" cy="971640"/>
            <a:chOff x="3672000" y="1881360"/>
            <a:chExt cx="971280" cy="971640"/>
          </a:xfrm>
        </p:grpSpPr>
        <p:sp>
          <p:nvSpPr>
            <p:cNvPr id="204" name=""/>
            <p:cNvSpPr/>
            <p:nvPr/>
          </p:nvSpPr>
          <p:spPr>
            <a:xfrm>
              <a:off x="3672000" y="1899360"/>
              <a:ext cx="971280" cy="93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4"/>
            </p:cNvCxnSpPr>
            <p:nvPr/>
          </p:nvCxnSpPr>
          <p:spPr>
            <a:xfrm>
              <a:off x="4157280" y="1881360"/>
              <a:ext cx="1080" cy="972000"/>
            </a:xfrm>
            <a:prstGeom prst="straightConnector1">
              <a:avLst/>
            </a:prstGeom>
            <a:ln w="76320">
              <a:solidFill>
                <a:srgbClr val="cc0066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3875760" y="2273040"/>
              <a:ext cx="539640" cy="251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47640" y="3213000"/>
            <a:ext cx="1208160" cy="9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0" t="19578" r="52335" b="4673"/>
          <a:stretch/>
        </p:blipFill>
        <p:spPr>
          <a:xfrm>
            <a:off x="1835280" y="3033720"/>
            <a:ext cx="1447560" cy="1542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2050920" y="4506840"/>
            <a:ext cx="1117800" cy="111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924360" y="3537000"/>
            <a:ext cx="70308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1773360"/>
            <a:ext cx="703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方正姚体"/>
              </a:rPr>
              <a:t>H</a:t>
            </a:r>
            <a:endParaRPr b="1" lang="en-US" sz="6600" spc="1" strike="noStrike">
              <a:ln w="93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方正姚体"/>
              <a:ea typeface="方正姚体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41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rcRect l="22252" t="-2017" r="22198" b="34426"/>
          <a:stretch/>
        </p:blipFill>
        <p:spPr>
          <a:xfrm>
            <a:off x="755640" y="4437000"/>
            <a:ext cx="1189080" cy="10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78040" y="1557360"/>
            <a:ext cx="77976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图形中既是轴对称图形又是中心对称图形的是（   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      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边三角形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段  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17800" y="220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02840" y="41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376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34920" y="3940200"/>
            <a:ext cx="7382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多边形中，是中心对称图形而不是轴对称图形的是（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四边形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矩形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菱形    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2720" y="44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09:40:41Z</dcterms:created>
  <dc:creator>ryh</dc:creator>
  <dc:description/>
  <dc:language>en-US</dc:language>
  <cp:lastModifiedBy>pepyx</cp:lastModifiedBy>
  <dcterms:modified xsi:type="dcterms:W3CDTF">2007-04-25T07:49:44Z</dcterms:modified>
  <cp:revision>47</cp:revision>
  <dc:subject/>
  <dc:title>幻灯片 1</dc:title>
</cp:coreProperties>
</file>