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C6E-85A6-4523-9636-C386DF73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A1F-881B-4B2B-AC2B-0F06D2FE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03B-79F3-4E8A-8275-4EFED726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771-8133-4CD6-A5D3-E42F53CC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297-1320-488D-92CB-E551B668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A37-7B4D-4508-A072-F4CA6CC2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0AC-A3DA-4E8A-8F8C-CD5DB9E3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24A-1E7A-4511-9E01-B0B7259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09A-9A9F-48D6-A29D-974DFCFA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AEF-34FD-42D6-B677-262B444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D76-0D88-4270-A3B2-CB7ADAD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C52-F6EB-4408-9592-31BA2AF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DD79-B18D-401A-8802-1A42B659E6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844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3.2.1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中心对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06840" y="3925080"/>
            <a:ext cx="2079360" cy="1800000"/>
            <a:chOff x="3606840" y="3925080"/>
            <a:chExt cx="2079360" cy="1800000"/>
          </a:xfrm>
        </p:grpSpPr>
        <p:sp>
          <p:nvSpPr>
            <p:cNvPr id="129" name=""/>
            <p:cNvSpPr/>
            <p:nvPr/>
          </p:nvSpPr>
          <p:spPr>
            <a:xfrm>
              <a:off x="3606840" y="3925440"/>
              <a:ext cx="207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646880" y="3925080"/>
              <a:ext cx="1039320" cy="1799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6840" y="3925440"/>
              <a:ext cx="1039320" cy="1799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3605040" y="3938400"/>
            <a:ext cx="2062440" cy="119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3680" y="4045320"/>
            <a:ext cx="1891800" cy="10832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4280" y="3353040"/>
            <a:ext cx="7200" cy="2385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83080" y="5734080"/>
            <a:ext cx="67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5520" y="3684600"/>
            <a:ext cx="61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90400" y="3735360"/>
            <a:ext cx="352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51960" y="3006720"/>
            <a:ext cx="2574720" cy="2402280"/>
            <a:chOff x="3351960" y="3006720"/>
            <a:chExt cx="2574720" cy="2402280"/>
          </a:xfrm>
        </p:grpSpPr>
        <p:sp>
          <p:nvSpPr>
            <p:cNvPr id="139" name=""/>
            <p:cNvSpPr/>
            <p:nvPr/>
          </p:nvSpPr>
          <p:spPr>
            <a:xfrm>
              <a:off x="4419000" y="41497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351960" y="3006720"/>
              <a:ext cx="2574720" cy="2402280"/>
              <a:chOff x="3351960" y="3006720"/>
              <a:chExt cx="2574720" cy="24022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51960" y="3006720"/>
                <a:ext cx="2574720" cy="2402280"/>
                <a:chOff x="3351960" y="3006720"/>
                <a:chExt cx="2574720" cy="240228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3351960" y="3006720"/>
                  <a:ext cx="2574720" cy="2402280"/>
                  <a:chOff x="3351960" y="3006720"/>
                  <a:chExt cx="2574720" cy="24022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4572720" y="3006720"/>
                    <a:ext cx="21240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863640"/>
                        <a:tab algn="l" pos="1727280"/>
                        <a:tab algn="l" pos="2590920"/>
                        <a:tab algn="l" pos="3454560"/>
                        <a:tab algn="l" pos="4317840"/>
                        <a:tab algn="l" pos="5181480"/>
                        <a:tab algn="l" pos="6045120"/>
                        <a:tab algn="l" pos="6908760"/>
                        <a:tab algn="l" pos="7772400"/>
                        <a:tab algn="l" pos="8636040"/>
                        <a:tab algn="l" pos="9499680"/>
                        <a:tab algn="l" pos="10363320"/>
                      </a:tabLst>
                    </a:pPr>
                    <a:r>
                      <a:rPr b="1" i="1" lang="en-US" sz="2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351960" y="5027760"/>
                    <a:ext cx="21240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863640"/>
                        <a:tab algn="l" pos="1727280"/>
                        <a:tab algn="l" pos="2590920"/>
                        <a:tab algn="l" pos="3454560"/>
                        <a:tab algn="l" pos="4317840"/>
                        <a:tab algn="l" pos="5181480"/>
                        <a:tab algn="l" pos="6045120"/>
                        <a:tab algn="l" pos="6908760"/>
                        <a:tab algn="l" pos="7772400"/>
                        <a:tab algn="l" pos="8636040"/>
                        <a:tab algn="l" pos="9499680"/>
                        <a:tab algn="l" pos="10363320"/>
                      </a:tabLst>
                    </a:pPr>
                    <a:r>
                      <a:rPr b="1" i="1" lang="en-US" sz="2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714280" y="5027760"/>
                    <a:ext cx="21240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863640"/>
                        <a:tab algn="l" pos="1727280"/>
                        <a:tab algn="l" pos="2590920"/>
                        <a:tab algn="l" pos="3454560"/>
                        <a:tab algn="l" pos="4317840"/>
                        <a:tab algn="l" pos="5181480"/>
                        <a:tab algn="l" pos="6045120"/>
                        <a:tab algn="l" pos="6908760"/>
                        <a:tab algn="l" pos="7772400"/>
                        <a:tab algn="l" pos="8636040"/>
                        <a:tab algn="l" pos="9499680"/>
                        <a:tab algn="l" pos="10363320"/>
                      </a:tabLst>
                    </a:pPr>
                    <a:r>
                      <a:rPr b="1" i="1" lang="en-US" sz="2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3602160" y="3354120"/>
                  <a:ext cx="2079000" cy="1799280"/>
                  <a:chOff x="3602160" y="3354120"/>
                  <a:chExt cx="2079000" cy="1799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602160" y="5153040"/>
                    <a:ext cx="2077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42200" y="3354120"/>
                    <a:ext cx="1038960" cy="1799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3602160" y="3354120"/>
                    <a:ext cx="1038960" cy="1799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0" name=""/>
              <p:cNvSpPr/>
              <p:nvPr/>
            </p:nvSpPr>
            <p:spPr>
              <a:xfrm>
                <a:off x="4610160" y="446724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449360" y="1432080"/>
            <a:ext cx="742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已知等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画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中心对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599080"/>
            <a:ext cx="135000" cy="1350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16720" y="3860640"/>
            <a:ext cx="134640" cy="1350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46360" y="3860640"/>
            <a:ext cx="135000" cy="1350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练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flipV="1">
            <a:off x="5173560" y="3792600"/>
            <a:ext cx="2590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342120" y="2827440"/>
            <a:ext cx="279360" cy="2768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2178800">
            <a:off x="5947920" y="3106080"/>
            <a:ext cx="167652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336" y="0"/>
                </a:moveTo>
                <a:lnTo>
                  <a:pt x="0" y="768"/>
                </a:lnTo>
                <a:lnTo>
                  <a:pt x="1056" y="960"/>
                </a:lnTo>
                <a:lnTo>
                  <a:pt x="912" y="384"/>
                </a:lnTo>
                <a:lnTo>
                  <a:pt x="336" y="0"/>
                </a:lnTo>
                <a:close/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89800" y="3462480"/>
            <a:ext cx="2432880" cy="2669400"/>
            <a:chOff x="4789800" y="3462480"/>
            <a:chExt cx="2432880" cy="2669400"/>
          </a:xfrm>
        </p:grpSpPr>
        <p:grpSp>
          <p:nvGrpSpPr>
            <p:cNvPr id="160" name=""/>
            <p:cNvGrpSpPr/>
            <p:nvPr/>
          </p:nvGrpSpPr>
          <p:grpSpPr>
            <a:xfrm>
              <a:off x="4789800" y="3462480"/>
              <a:ext cx="2432880" cy="2669400"/>
              <a:chOff x="4789800" y="3462480"/>
              <a:chExt cx="2432880" cy="2669400"/>
            </a:xfrm>
          </p:grpSpPr>
          <p:sp>
            <p:nvSpPr>
              <p:cNvPr id="161" name=""/>
              <p:cNvSpPr/>
              <p:nvPr/>
            </p:nvSpPr>
            <p:spPr>
              <a:xfrm rot="1338600">
                <a:off x="5313600" y="3843360"/>
                <a:ext cx="1676160" cy="1523520"/>
              </a:xfrm>
              <a:custGeom>
                <a:avLst/>
                <a:gdLst/>
                <a:ahLst/>
                <a:rect l="l" t="t" r="r" b="b"/>
                <a:pathLst>
                  <a:path w="1056" h="960">
                    <a:moveTo>
                      <a:pt x="336" y="0"/>
                    </a:moveTo>
                    <a:lnTo>
                      <a:pt x="0" y="768"/>
                    </a:lnTo>
                    <a:lnTo>
                      <a:pt x="1056" y="960"/>
                    </a:lnTo>
                    <a:lnTo>
                      <a:pt x="912" y="384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58760" y="5672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89800" y="4605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72600" y="3462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39280" y="4529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153840" y="422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78760" y="3578040"/>
              <a:ext cx="380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81000" y="1117440"/>
            <a:ext cx="816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一个与已知四边形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中心对称的图形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顶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对称中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的中点为对称中心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92520" y="47556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 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17840" y="2928960"/>
            <a:ext cx="2075760" cy="2669400"/>
            <a:chOff x="2517840" y="2928960"/>
            <a:chExt cx="2075760" cy="2669400"/>
          </a:xfrm>
        </p:grpSpPr>
        <p:sp>
          <p:nvSpPr>
            <p:cNvPr id="171" name=""/>
            <p:cNvSpPr/>
            <p:nvPr/>
          </p:nvSpPr>
          <p:spPr>
            <a:xfrm>
              <a:off x="3931200" y="513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7840" y="369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4160" y="2928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0200" y="40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rot="1338600">
            <a:off x="2759040" y="3375000"/>
            <a:ext cx="167652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336" y="0"/>
                </a:moveTo>
                <a:lnTo>
                  <a:pt x="0" y="768"/>
                </a:lnTo>
                <a:lnTo>
                  <a:pt x="1056" y="960"/>
                </a:lnTo>
                <a:lnTo>
                  <a:pt x="912" y="384"/>
                </a:lnTo>
                <a:lnTo>
                  <a:pt x="33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71720" y="3309840"/>
            <a:ext cx="1569960" cy="1844640"/>
          </a:xfrm>
          <a:custGeom>
            <a:avLst/>
            <a:gdLst/>
            <a:ahLst/>
            <a:rect l="l" t="t" r="r" b="b"/>
            <a:pathLst>
              <a:path w="989" h="1162">
                <a:moveTo>
                  <a:pt x="386" y="1162"/>
                </a:moveTo>
                <a:lnTo>
                  <a:pt x="989" y="581"/>
                </a:lnTo>
                <a:lnTo>
                  <a:pt x="87" y="0"/>
                </a:lnTo>
                <a:lnTo>
                  <a:pt x="0" y="588"/>
                </a:lnTo>
                <a:lnTo>
                  <a:pt x="386" y="1162"/>
                </a:lnTo>
                <a:close/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5480" y="4224240"/>
            <a:ext cx="3162240" cy="47880"/>
          </a:xfrm>
          <a:custGeom>
            <a:avLst/>
            <a:gdLst/>
            <a:ahLst/>
            <a:rect l="l" t="t" r="r" b="b"/>
            <a:pathLst>
              <a:path w="1992" h="48">
                <a:moveTo>
                  <a:pt x="0" y="0"/>
                </a:moveTo>
                <a:lnTo>
                  <a:pt x="1992" y="48"/>
                </a:ln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08320" y="52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688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8520" y="407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693800" y="3309840"/>
            <a:ext cx="1905120" cy="1828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261800" y="3335400"/>
            <a:ext cx="2819160" cy="1828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53320" y="353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56800" y="2395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83880" y="1486080"/>
            <a:ext cx="766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已知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心对称，求出它们的对称中心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75640" y="2637000"/>
            <a:ext cx="5860800" cy="2868840"/>
            <a:chOff x="1475640" y="2637000"/>
            <a:chExt cx="5860800" cy="2868840"/>
          </a:xfrm>
        </p:grpSpPr>
        <p:grpSp>
          <p:nvGrpSpPr>
            <p:cNvPr id="187" name=""/>
            <p:cNvGrpSpPr/>
            <p:nvPr/>
          </p:nvGrpSpPr>
          <p:grpSpPr>
            <a:xfrm>
              <a:off x="1704960" y="3179880"/>
              <a:ext cx="1848960" cy="1541160"/>
              <a:chOff x="1704960" y="3179880"/>
              <a:chExt cx="1848960" cy="154116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1704960" y="3181680"/>
                <a:ext cx="949320" cy="15390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58960" y="3179880"/>
                <a:ext cx="894960" cy="100296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704960" y="4185000"/>
                <a:ext cx="1843200" cy="536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019480" y="3565800"/>
              <a:ext cx="1848960" cy="1540800"/>
              <a:chOff x="5019480" y="3565800"/>
              <a:chExt cx="1848960" cy="154080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5919120" y="3565800"/>
                <a:ext cx="949320" cy="15386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5019480" y="4104000"/>
                <a:ext cx="894960" cy="1002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025240" y="3565800"/>
                <a:ext cx="1843200" cy="535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475640" y="461808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9000" y="40086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2680" y="26370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20360" y="3117960"/>
              <a:ext cx="316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61520" y="3575160"/>
              <a:ext cx="316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52600" y="5018040"/>
              <a:ext cx="33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692520" y="47556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 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52360" y="1414440"/>
            <a:ext cx="7740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法一：根据观察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是对应点，连结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B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用刻度尺找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B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中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为所求（如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657600" y="4422240"/>
            <a:ext cx="1295280" cy="2955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4508640"/>
            <a:ext cx="69840" cy="712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547640" y="3141720"/>
            <a:ext cx="5982480" cy="2694240"/>
            <a:chOff x="1547640" y="3141720"/>
            <a:chExt cx="5982480" cy="2694240"/>
          </a:xfrm>
        </p:grpSpPr>
        <p:grpSp>
          <p:nvGrpSpPr>
            <p:cNvPr id="206" name=""/>
            <p:cNvGrpSpPr/>
            <p:nvPr/>
          </p:nvGrpSpPr>
          <p:grpSpPr>
            <a:xfrm>
              <a:off x="1778040" y="3684600"/>
              <a:ext cx="1898280" cy="1582200"/>
              <a:chOff x="1778040" y="3684600"/>
              <a:chExt cx="1898280" cy="1582200"/>
            </a:xfrm>
          </p:grpSpPr>
          <p:sp>
            <p:nvSpPr>
              <p:cNvPr id="207" name=""/>
              <p:cNvSpPr/>
              <p:nvPr/>
            </p:nvSpPr>
            <p:spPr>
              <a:xfrm flipV="1">
                <a:off x="1778040" y="3686760"/>
                <a:ext cx="974520" cy="1580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7600" y="3684600"/>
                <a:ext cx="918720" cy="1029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1778040" y="4716720"/>
                <a:ext cx="1892520" cy="5500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026320" y="3850200"/>
              <a:ext cx="1898280" cy="1582200"/>
              <a:chOff x="5026320" y="3850200"/>
              <a:chExt cx="1898280" cy="158220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5950080" y="3850200"/>
                <a:ext cx="974520" cy="158004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5026320" y="4402800"/>
                <a:ext cx="918720" cy="10296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5032080" y="3850200"/>
                <a:ext cx="1892520" cy="55008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547640" y="51228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0160" y="46656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39800" y="314172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60400" y="3443400"/>
              <a:ext cx="36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79320" y="3824280"/>
              <a:ext cx="36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B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3360" y="5348160"/>
              <a:ext cx="471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C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160520" y="39085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92520" y="47556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 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25800" y="378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06560" y="1341360"/>
            <a:ext cx="7632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解法二：根据观察，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及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应分别是两组对应点，连结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，它们相交于点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，则点</a:t>
            </a:r>
            <a:r>
              <a:rPr b="1" i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即为所求（如图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786120" y="4379760"/>
            <a:ext cx="704880" cy="1605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3519360"/>
            <a:ext cx="2525760" cy="18828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0360" y="4437000"/>
            <a:ext cx="69840" cy="71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618920" y="2997360"/>
            <a:ext cx="5403240" cy="2775240"/>
            <a:chOff x="1618920" y="2997360"/>
            <a:chExt cx="5403240" cy="2775240"/>
          </a:xfrm>
        </p:grpSpPr>
        <p:grpSp>
          <p:nvGrpSpPr>
            <p:cNvPr id="228" name=""/>
            <p:cNvGrpSpPr/>
            <p:nvPr/>
          </p:nvGrpSpPr>
          <p:grpSpPr>
            <a:xfrm>
              <a:off x="1925640" y="3540240"/>
              <a:ext cx="1898280" cy="1584360"/>
              <a:chOff x="1925640" y="3540240"/>
              <a:chExt cx="1898280" cy="158436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1925640" y="3542760"/>
                <a:ext cx="974520" cy="15818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05200" y="3540240"/>
                <a:ext cx="918720" cy="1030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1925640" y="4573440"/>
                <a:ext cx="1892520" cy="5508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521600" y="3862080"/>
              <a:ext cx="1898280" cy="1584360"/>
              <a:chOff x="4521600" y="3862080"/>
              <a:chExt cx="1898280" cy="158436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5445360" y="3862080"/>
                <a:ext cx="974520" cy="158184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4521600" y="4415760"/>
                <a:ext cx="918720" cy="103068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527360" y="3862440"/>
                <a:ext cx="1892520" cy="5508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618920" y="49798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77760" y="45212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87040" y="29973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52440" y="3532320"/>
              <a:ext cx="36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5040" y="3835440"/>
              <a:ext cx="36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B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09440" y="5284800"/>
              <a:ext cx="36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692520" y="47556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 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79640" y="2276640"/>
            <a:ext cx="40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人每次用一张卡片盖住相邻的两个空格，谁找不出相邻的两个空格放卡片就算谁输，你用什么办法战胜对手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292720" y="2481120"/>
            <a:ext cx="2760840" cy="2760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313240" y="5497560"/>
            <a:ext cx="963720" cy="563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692520" y="44064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拓   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3800" y="1117440"/>
            <a:ext cx="71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是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棋盘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人各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2480" y="1697040"/>
            <a:ext cx="49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干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×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卡片轮流在棋盘上盖卡片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76720" y="13759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    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27440" y="2525760"/>
            <a:ext cx="41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谈谈你的收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90480" y="1136520"/>
            <a:ext cx="43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其中一个图案绕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有什么发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   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1916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段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把  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有什么发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08000" y="3341520"/>
            <a:ext cx="2556000" cy="2643480"/>
            <a:chOff x="1008000" y="3341520"/>
            <a:chExt cx="2556000" cy="26434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0" t="0" r="0" b="60454"/>
            <a:stretch/>
          </p:blipFill>
          <p:spPr>
            <a:xfrm>
              <a:off x="1187280" y="3341520"/>
              <a:ext cx="237672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rcRect l="0" t="58070" r="30392" b="-10884"/>
            <a:stretch/>
          </p:blipFill>
          <p:spPr>
            <a:xfrm>
              <a:off x="1008000" y="4761000"/>
              <a:ext cx="1654200" cy="122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2340000" y="4411800"/>
              <a:ext cx="899640" cy="459720"/>
              <a:chOff x="2340000" y="4411800"/>
              <a:chExt cx="899640" cy="459720"/>
            </a:xfrm>
          </p:grpSpPr>
          <p:sp>
            <p:nvSpPr>
              <p:cNvPr id="49" name=""/>
              <p:cNvSpPr/>
              <p:nvPr/>
            </p:nvSpPr>
            <p:spPr>
              <a:xfrm>
                <a:off x="2340000" y="4586400"/>
                <a:ext cx="72720" cy="72720"/>
              </a:xfrm>
              <a:prstGeom prst="flowChartConnector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447640" y="441180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187280" y="3321000"/>
            <a:ext cx="2376360" cy="2289240"/>
            <a:chOff x="1187280" y="3321000"/>
            <a:chExt cx="2376360" cy="2289240"/>
          </a:xfrm>
        </p:grpSpPr>
        <p:pic>
          <p:nvPicPr>
            <p:cNvPr id="52" name="" descr=""/>
            <p:cNvPicPr/>
            <p:nvPr/>
          </p:nvPicPr>
          <p:blipFill>
            <a:blip r:embed="rId4"/>
            <a:srcRect l="0" t="0" r="0" b="57648"/>
            <a:stretch/>
          </p:blipFill>
          <p:spPr>
            <a:xfrm>
              <a:off x="1187280" y="3321000"/>
              <a:ext cx="2376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87280" y="4316400"/>
              <a:ext cx="237636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859280" y="4002120"/>
            <a:ext cx="3457440" cy="1623960"/>
            <a:chOff x="4859280" y="4002120"/>
            <a:chExt cx="3457440" cy="1623960"/>
          </a:xfrm>
        </p:grpSpPr>
        <p:pic>
          <p:nvPicPr>
            <p:cNvPr id="55" name="" descr=""/>
            <p:cNvPicPr/>
            <p:nvPr/>
          </p:nvPicPr>
          <p:blipFill>
            <a:blip r:embed="rId5"/>
            <a:srcRect l="48970" t="0" r="0" b="20690"/>
            <a:stretch/>
          </p:blipFill>
          <p:spPr>
            <a:xfrm>
              <a:off x="6589440" y="400212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rcRect l="7515" t="0" r="49994" b="20690"/>
            <a:stretch/>
          </p:blipFill>
          <p:spPr>
            <a:xfrm>
              <a:off x="5149800" y="4005000"/>
              <a:ext cx="147456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164000" y="518616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59280" y="5113080"/>
              <a:ext cx="75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38640" y="525780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941720" y="3933720"/>
            <a:ext cx="3375000" cy="1727280"/>
            <a:chOff x="4941720" y="3933720"/>
            <a:chExt cx="3375000" cy="1727280"/>
          </a:xfrm>
        </p:grpSpPr>
        <p:pic>
          <p:nvPicPr>
            <p:cNvPr id="61" name="" descr=""/>
            <p:cNvPicPr/>
            <p:nvPr/>
          </p:nvPicPr>
          <p:blipFill>
            <a:blip r:embed="rId7"/>
            <a:srcRect l="48958" t="0" r="0" b="20690"/>
            <a:stretch/>
          </p:blipFill>
          <p:spPr>
            <a:xfrm>
              <a:off x="6589440" y="400356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941720" y="3933720"/>
              <a:ext cx="1727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635120" y="569448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569448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413000"/>
            <a:ext cx="773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一个图形绕着某一个点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如果它能够和另一个图形重合，那么就说这两个图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于这个点对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心对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点就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称中心，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</a:rPr>
              <a:t>这两个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800" spc="-1" strike="noStrike">
                <a:solidFill>
                  <a:srgbClr val="c507c0"/>
                </a:solidFill>
                <a:latin typeface="Times New Roman"/>
              </a:rPr>
              <a:t>对应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于中心的对称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归纳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71640" y="4398840"/>
            <a:ext cx="3456000" cy="1549440"/>
            <a:chOff x="971640" y="4398840"/>
            <a:chExt cx="3456000" cy="154944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48970" t="0" r="0" b="20690"/>
            <a:stretch/>
          </p:blipFill>
          <p:spPr>
            <a:xfrm>
              <a:off x="2700360" y="440028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rcRect l="7515" t="0" r="49994" b="20690"/>
            <a:stretch/>
          </p:blipFill>
          <p:spPr>
            <a:xfrm>
              <a:off x="1262160" y="4398840"/>
              <a:ext cx="147456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276720" y="558000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71640" y="550692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788000" y="4359240"/>
            <a:ext cx="3633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，对称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0" t="0" r="38439" b="59425"/>
          <a:stretch/>
        </p:blipFill>
        <p:spPr>
          <a:xfrm>
            <a:off x="5759280" y="2195640"/>
            <a:ext cx="2160720" cy="109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44560" y="150480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三角板，画关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的两个三角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371680"/>
            <a:ext cx="40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Times New Roman"/>
              </a:rPr>
              <a:t>第一步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画出△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294000"/>
            <a:ext cx="450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第二步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以三角板的一个顶点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中心，把三角板旋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画出△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759200"/>
            <a:ext cx="48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Arial"/>
              </a:rPr>
              <a:t>第三步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移开三角板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探   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41704" r="-2596" b="-6517"/>
          <a:stretch/>
        </p:blipFill>
        <p:spPr>
          <a:xfrm>
            <a:off x="5364000" y="3373560"/>
            <a:ext cx="2845080" cy="138564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5184720" y="4362480"/>
            <a:ext cx="2844720" cy="1770120"/>
            <a:chOff x="5184720" y="4362480"/>
            <a:chExt cx="2844720" cy="177012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5184720" y="4362480"/>
              <a:ext cx="284472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796000" y="5445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99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ff3399"/>
                  </a:solidFill>
                  <a:latin typeface="Times New Roman"/>
                </a:rPr>
                <a:t>3</a:t>
              </a:r>
              <a:r>
                <a:rPr b="1" lang="zh-CN" sz="1800" spc="-1" strike="noStrike">
                  <a:solidFill>
                    <a:srgbClr val="ff3399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753000"/>
            <a:ext cx="774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这样画出的△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与△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关于点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对称．分别连接对称点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AA′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BB′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CC′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点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线段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上吗？如果在，在什么位置？△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与△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A′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B ′C ′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什么关系？你能从中得到什么结论？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探   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48000" y="1046160"/>
            <a:ext cx="4500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01640" y="4689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中心对称的两个图形，对称点所连线段都经过对称中心，而且被对称中心平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640" y="3822840"/>
            <a:ext cx="78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关于中心对称的两个图形是全等形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归纳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85880" y="1046160"/>
            <a:ext cx="34578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79640" y="1521000"/>
            <a:ext cx="8497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对称与轴对称有什么区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又有什么联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90560" y="2390760"/>
          <a:ext cx="7848720" cy="36306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轴对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中心对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有一条对称轴——直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有一个对称中心——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图形沿对称轴对折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翻折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180°)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后重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图形绕对称中心旋转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180°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后重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折叠后与另一图形重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旋转后与另一图形重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对称点的连线被对称轴垂直平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对称点连线经过对称中心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且被对称中心平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20880" y="3114720"/>
            <a:ext cx="3179880" cy="0"/>
          </a:xfrm>
          <a:prstGeom prst="line">
            <a:avLst/>
          </a:prstGeom>
          <a:ln cap="rnd" w="507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307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57760" y="307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91080" y="30765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4040" y="2543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6600" y="2543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57760" y="26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1046160"/>
            <a:ext cx="8497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如图，选择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对称中心，画出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对称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38520" y="2218680"/>
            <a:ext cx="2057040" cy="190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23" y="3683"/>
                </a:moveTo>
                <a:arcTo wR="10800" hR="10800" stAng="-2473451" swAng="4072432"/>
                <a:lnTo>
                  <a:pt x="10800" y="10800"/>
                </a:lnTo>
                <a:close/>
              </a:path>
              <a:path fill="none" w="21600" h="21600">
                <a:moveTo>
                  <a:pt x="18923" y="3683"/>
                </a:moveTo>
                <a:arcTo wR="10800" hR="10800" stAng="-2473451" swAng="4072432"/>
              </a:path>
            </a:pathLst>
          </a:cu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84200" y="4681440"/>
            <a:ext cx="43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点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为所求的点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052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应    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73536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画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延长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得到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对称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56116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点绕对称中心旋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80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得到的是一个平角，这表示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4560" y="3195720"/>
            <a:ext cx="1439640" cy="1280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046160"/>
            <a:ext cx="79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图，选择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对称中心，画出与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的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71640" y="4091040"/>
            <a:ext cx="1116000" cy="2221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258920" y="4025880"/>
            <a:ext cx="2495520" cy="28728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3341520"/>
            <a:ext cx="1474920" cy="19069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1280" y="42274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19440" y="5038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86240" y="362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09960" y="4025880"/>
            <a:ext cx="6364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059280" y="4025880"/>
            <a:ext cx="5508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950920" y="4289400"/>
            <a:ext cx="144360" cy="78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10080" y="4964040"/>
            <a:ext cx="55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为所求的三角形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052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应    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560" y="502452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0360" y="4016520"/>
            <a:ext cx="46080" cy="4572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3880" y="428940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71120" y="291132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延长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0520" y="38829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点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8080" y="4459320"/>
            <a:ext cx="47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顺次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35080" y="2822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097360"/>
            <a:ext cx="81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分析：确定一个三角形需要几个点？作一个三角形关于某点成中心对称的三角形，需要作几个点的对称点呢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756400"/>
            <a:ext cx="83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是如何理解“对称点所连线段都经过对称中心，而且被对称中心所平分”的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1:23:39Z</dcterms:created>
  <dc:creator>ryh</dc:creator>
  <dc:description/>
  <dc:language>en-US</dc:language>
  <cp:lastModifiedBy>pepyx</cp:lastModifiedBy>
  <dcterms:modified xsi:type="dcterms:W3CDTF">2007-04-25T06:31:53Z</dcterms:modified>
  <cp:revision>280</cp:revision>
  <dc:subject/>
  <dc:title>PowerPoint 演示文稿</dc:title>
</cp:coreProperties>
</file>