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4.jpeg" ContentType="image/jpeg"/>
  <Override PartName="/ppt/media/image5.gif" ContentType="image/gif"/>
  <Override PartName="/ppt/media/image14.jpeg" ContentType="image/jpeg"/>
  <Override PartName="/ppt/media/image10.jpeg" ContentType="image/jpeg"/>
  <Override PartName="/ppt/media/image2.gif" ContentType="image/gif"/>
  <Override PartName="/ppt/media/image26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8.gif" ContentType="image/gif"/>
  <Override PartName="/ppt/media/image19.wmf" ContentType="image/x-wmf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11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gif" ContentType="image/gif"/>
  <Override PartName="/ppt/media/image12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7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ED76-A634-4891-93CF-C938EAE2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22C6-1A94-4A5F-AC64-4C74F0C1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146-186B-477E-BDD3-4A6C1769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180-0678-4ABE-B029-DF87D2AA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E416-AA3C-47E4-9B73-53DA9403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3A5-8071-4DBD-8D24-E30967DC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D90C-EF00-4335-820A-1201F07B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0CFC-78D4-4F2A-9413-88F36A22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C0F5-7B28-42AB-84B6-7BDED7D8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9D0-D084-4625-81B0-83739ED0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E51B-10A4-4E60-9D6E-CE3F7825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304-E9E1-4E5A-B895-B81A390C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AD5C-B870-4B86-A0BC-3DC64F2B77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8.gif"/><Relationship Id="rId3" Type="http://schemas.openxmlformats.org/officeDocument/2006/relationships/image" Target="../media/image7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5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47640" y="2276640"/>
            <a:ext cx="68407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23.1</a:t>
            </a:r>
            <a:r>
              <a:rPr b="0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图形的旋转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588000" y="3429000"/>
            <a:ext cx="2265480" cy="2265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11280" y="765000"/>
            <a:ext cx="2359080" cy="1416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85128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467480" y="380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708360" y="3860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1116000" y="3789360"/>
            <a:ext cx="1285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95280" y="333360"/>
            <a:ext cx="2305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合作探究</a:t>
            </a:r>
            <a:endParaRPr b="0" lang="en-US" sz="2400" spc="1" strike="noStrike">
              <a:ln w="1908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9700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在硬纸板上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挖一个三角形洞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挖一个小洞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为旋转中心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硬纸板下面放一张白纸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先在纸上描出这个挖掉的三角形图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(⊿ABC)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然后围绕旋转中心转动硬纸板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描出这个挖掉的三角形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(⊿A′B′C′)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移开硬纸板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19572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连结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OA﹑OB﹑OC﹑OA′﹑OB′﹑OC′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讨论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:⑴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线段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OA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与线段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OA′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间有什么关系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     ⑵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∠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AOA′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与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BOB′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有什么关系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     ⑶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⊿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ABC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与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⊿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A′B′C′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形状和大小有  什么关系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716360" y="333360"/>
            <a:ext cx="381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大家一起来  学习真愉快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37155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◆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旋转前、后的图形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772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◆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应点到旋转中心的距离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564280"/>
            <a:ext cx="98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◆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应点与旋转中心所连线段的夹角等于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36464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◆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图形的旋转是由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和旋转的（                ）    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决定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48680" y="162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相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263700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旋转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371628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19640" y="4437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旋转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93080" y="450864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角度﹑方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4000" y="333360"/>
            <a:ext cx="576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说一说 旋转的基本性质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623736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125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如图，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E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是正方形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ABCD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中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CD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边上任意一点，以点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为中心，把△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ADE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顺时针旋转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90°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，画出旋转后的图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924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分析：关键是确定△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ADE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三个顶点的对应点，即它们旋转后的图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0"/>
            <a:ext cx="540036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利用旋转来解决数学问题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4869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想一想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有几种做法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340320" y="3645000"/>
            <a:ext cx="280368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5280" y="1593720"/>
            <a:ext cx="8352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下列现象中属于旋转的有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(  )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地下水位逐年下降；②滑雪运动员在雪地上滑行；③方向盘的转动；④水龙头开关的转动；⑤钟摆的运动；⑥荡秋千运动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A.2     B.3     C.4    D.5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11280" y="260280"/>
            <a:ext cx="59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练一练  你会学得更好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00720" y="2997360"/>
            <a:ext cx="3382920" cy="280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10242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香港特别行政区区旗中央的紫荆花图案由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相同的花瓣组成，它是由其中一瓣经过几次旋转得到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04640"/>
            <a:ext cx="89312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：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等边三角形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一点，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过 旋转后到达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C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位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旋转中心是哪一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旋转了多少度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如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中点，那么经过上述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转后，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转到了什么位置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513480" y="3573360"/>
            <a:ext cx="2630520" cy="2392200"/>
            <a:chOff x="6513480" y="3573360"/>
            <a:chExt cx="2630520" cy="2392200"/>
          </a:xfrm>
        </p:grpSpPr>
        <p:grpSp>
          <p:nvGrpSpPr>
            <p:cNvPr id="107" name=""/>
            <p:cNvGrpSpPr/>
            <p:nvPr/>
          </p:nvGrpSpPr>
          <p:grpSpPr>
            <a:xfrm>
              <a:off x="6802200" y="3928320"/>
              <a:ext cx="2016000" cy="1568520"/>
              <a:chOff x="6802200" y="3928320"/>
              <a:chExt cx="2016000" cy="1568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02200" y="3932280"/>
                <a:ext cx="1800360" cy="1557360"/>
              </a:xfrm>
              <a:prstGeom prst="triangle">
                <a:avLst>
                  <a:gd name="adj" fmla="val 50000"/>
                </a:avLst>
              </a:prstGeom>
              <a:noFill/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7347960" y="3960720"/>
                <a:ext cx="360360" cy="1513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708320" y="3928320"/>
                <a:ext cx="1100880" cy="109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8617320" y="5018760"/>
                <a:ext cx="200880" cy="47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8712000" y="479736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146720" y="541656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29480" y="544500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3480" y="53737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21480" y="35733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16680" y="44179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27640" y="44020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404"/>
                  </a:solidFill>
                  <a:latin typeface="Arial"/>
                </a:rPr>
                <a:t>．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0920" y="4653000"/>
            <a:ext cx="68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旋转中心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5243400"/>
            <a:ext cx="68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旋转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6200" y="5772240"/>
            <a:ext cx="68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转到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中点位置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960"/>
                            </p:stCondLst>
                            <p:childTnLst>
                              <p:par>
                                <p:cTn id="1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353880" y="234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348000" y="2637000"/>
            <a:ext cx="4248000" cy="4392000"/>
            <a:chOff x="3348000" y="2637000"/>
            <a:chExt cx="4248000" cy="439200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3348000" y="2637000"/>
              <a:ext cx="4248000" cy="38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779720" y="6179040"/>
              <a:ext cx="230724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第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题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0" y="82368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，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等边三角形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一点，若将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经过旋转后到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置，则旋转中心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旋转角等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度，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角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12682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916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1916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等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92360" y="2492280"/>
            <a:ext cx="599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路下来，我们结识了很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新知识，你能谈谈自己的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获吗？说一说，让大家一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来分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8760" y="5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771640" y="1268280"/>
            <a:ext cx="359748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硕果累累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3" name=""/>
          <p:cNvSpPr/>
          <p:nvPr/>
        </p:nvSpPr>
        <p:spPr>
          <a:xfrm>
            <a:off x="325584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19280" y="2133000"/>
            <a:ext cx="842472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课本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p66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页第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题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请设计一个绕一点旋转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60</a:t>
            </a:r>
            <a:r>
              <a:rPr b="1" lang="zh-CN" sz="44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0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后能与自身重合的图形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9640" y="260280"/>
            <a:ext cx="2232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作业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2160720" cy="2159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2843280" cy="2233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116000" y="4221000"/>
            <a:ext cx="2041560" cy="2303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076720" y="4365720"/>
            <a:ext cx="2341800" cy="2087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1640" y="333360"/>
            <a:ext cx="37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感受</a:t>
            </a:r>
            <a:r>
              <a:rPr b="0" lang="zh-CN" sz="6000" spc="-1" strike="noStrike">
                <a:solidFill>
                  <a:srgbClr val="ff0066"/>
                </a:solidFill>
                <a:latin typeface="隶书"/>
                <a:ea typeface="隶书"/>
              </a:rPr>
              <a:t>旋转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http://photo.eastday.com/epublish/gb/paper215/48/class021500001/image/img846884_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1438200" cy="1095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348000" y="1700280"/>
            <a:ext cx="1438200" cy="1095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716360" y="1700280"/>
            <a:ext cx="1438200" cy="1095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084720" y="1700280"/>
            <a:ext cx="1438560" cy="1095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7451640" y="1700280"/>
            <a:ext cx="1438200" cy="1095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468360" y="3068640"/>
            <a:ext cx="863640" cy="865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1332000" y="3068640"/>
            <a:ext cx="718920" cy="865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2050920" y="3068640"/>
            <a:ext cx="863640" cy="865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2916360" y="3141720"/>
            <a:ext cx="718920" cy="792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3708360" y="2924280"/>
            <a:ext cx="5435640" cy="1009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755640" y="1700280"/>
            <a:ext cx="714240" cy="115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1403280" y="1700280"/>
            <a:ext cx="638280" cy="1152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03280" y="1557360"/>
            <a:ext cx="0" cy="15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3"/>
          <a:srcRect l="0" t="0" r="0" b="309"/>
          <a:stretch/>
        </p:blipFill>
        <p:spPr>
          <a:xfrm>
            <a:off x="539640" y="4221000"/>
            <a:ext cx="831708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908000" y="177336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对比平移、轴对称两种图形变换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旋转变换与它们有哪些共性和区别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58920" y="836640"/>
            <a:ext cx="288144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余味无穷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p:transition spd="med">
    <p:checker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67640" y="1052640"/>
            <a:ext cx="1225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宋体"/>
              </a:rPr>
              <a:t>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宋体"/>
              </a:rPr>
              <a:t>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260280"/>
            <a:ext cx="4953240" cy="916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华文行楷"/>
                <a:ea typeface="华文行楷"/>
              </a:rPr>
              <a:t>目标引领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2133720"/>
            <a:ext cx="8352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通过观察具体实例认识旋转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理解旋转的基本涵义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探索旋转的基本性质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 ⒊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利用旋转的性质解决数学问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2521080" cy="2663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3169440"/>
            <a:ext cx="1297080" cy="70344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5f8fd"/>
                </a:solidFill>
                <a:latin typeface="华文新魏"/>
                <a:ea typeface="华文新魏"/>
              </a:rPr>
              <a:t>问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229000"/>
            <a:ext cx="9144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风车车轮的每个叶片在风的吹动下转动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新的位置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78520" y="4076640"/>
            <a:ext cx="5824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钟表的指针在不停地旋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点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针转动了多少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4360" y="6093000"/>
            <a:ext cx="31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这些现象有哪些共同特点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932360" y="1197000"/>
            <a:ext cx="3024360" cy="2519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216720"/>
            <a:ext cx="2376720" cy="70344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5f8fd"/>
                </a:solidFill>
                <a:latin typeface="华文新魏"/>
                <a:ea typeface="华文新魏"/>
              </a:rPr>
              <a:t>观察思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共同特点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把时针、风车风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成一个图形，那么这些图形都可以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转动一定的角度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像这样，把一个图形绕着某一点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转动一个角度的图形变换叫做     ，点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叫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转动的角叫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图形上的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经过旋转变为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P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那么这两个点叫做这个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1773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某一固定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80000" y="2997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旋转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95640" y="3500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旋转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26400" y="4292640"/>
            <a:ext cx="15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旋转的对应点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157720"/>
            <a:ext cx="76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图形的旋转不改变图形的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状、大小，只改变图形的位置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8900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归纳新知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16360" y="306864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旋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300720" y="4508640"/>
            <a:ext cx="2521080" cy="2663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983280" y="549360"/>
            <a:ext cx="21607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976120" y="1700280"/>
            <a:ext cx="256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举出一些现实生活中旋转的实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指出旋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心和旋转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43080" y="3645000"/>
            <a:ext cx="6638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钟的时针在不停地旋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从上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到上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钟旋转的旋转角是多少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从上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到上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07664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5280" y="404640"/>
            <a:ext cx="2736720" cy="10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请你试一试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692280"/>
            <a:ext cx="770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杠杆绕支点转动撬起重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杠杆的旋转中心在哪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旋转角是哪个角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845964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4T06:49:38Z</dcterms:created>
  <dc:creator/>
  <dc:description/>
  <dc:language>en-US</dc:language>
  <cp:lastModifiedBy>微软用户</cp:lastModifiedBy>
  <dcterms:modified xsi:type="dcterms:W3CDTF">2011-09-22T03:03:12Z</dcterms:modified>
  <cp:revision>4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0d000000000001024120</vt:lpwstr>
  </property>
</Properties>
</file>