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4D54-CA27-4C14-A986-95C98B7A8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D819-8A05-4579-A510-C9866B2AE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60E0-2C4D-4180-A549-3DF53C162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4BAE-446B-4FC1-A373-228C3AF11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2FDE-DA25-4B94-A01A-BEE9D484D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4D72-137E-47AE-A5EB-448E72822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D1BD-F15B-415A-9F77-094B2A405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48D5-4EA0-4DF7-AF05-622949D4A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B228-1FD5-4644-99B3-75BD3541C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B3D3-E4BD-4F36-87B3-2EB12278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E310-AD2B-4B18-9D43-BD94EC8E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F060-3877-43B9-9D69-84CFDC39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1B88C-BBEA-4A1B-A932-C35D6A065AE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2209680"/>
            <a:ext cx="76960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22.3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实际问题与一元二次方程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590920" y="114300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活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2223720"/>
            <a:ext cx="760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问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通过上节课的学习，大家学到了哪些知识和方法？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133720" y="99072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活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3045960"/>
            <a:ext cx="760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要设计一本书的封面，封面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7cm 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宽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1c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正中央是一个与整个封面长宽比例相同的矩形，如果要使四周的彩色边衬所占面积是封面面积的四分之一，上下边衬等宽，左右边衬等宽，应如何设计四周边衬的宽度（精确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0.1c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课件：设计封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781680" y="4343400"/>
            <a:ext cx="16606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1753200"/>
            <a:ext cx="8077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问题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本题中有哪些数量关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如何理解“正中央是一个与整个封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长宽比例相同的矩形”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如何利用已知的数量关系选取未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并列出方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解方程并得出结论，对比几种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各有什么特点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2360" y="1066680"/>
            <a:ext cx="119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活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1600" y="1540080"/>
            <a:ext cx="7162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图，某中学为方便师生活动，准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长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0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0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矩形草坪上修筑两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两纵四条小路，横纵路的宽度之比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∶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若使余下的草坪面积是原来草坪面积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四分之三，则路宽应为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课件：设计图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14600" y="91440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活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733920" y="4572000"/>
          <a:ext cx="2361960" cy="171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33920" y="4572000"/>
                    <a:ext cx="2361960" cy="17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514600" y="91440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活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1676880"/>
            <a:ext cx="7162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问题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本题中有哪些数量关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由这些数量关系还能得到什么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结论？你想如何利用这些数量关系？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什么？如何列方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对比下列两个图形，它们有什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联系与区别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819520" y="4876920"/>
            <a:ext cx="1238040" cy="16002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4800600" y="4890960"/>
            <a:ext cx="2133720" cy="15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750400" y="2285280"/>
            <a:ext cx="38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有什么方法使本题易于解决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108320" y="1066680"/>
            <a:ext cx="119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活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14600" y="380988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利用图形的变换－－平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14600" y="91440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活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447920" y="2362320"/>
            <a:ext cx="6781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问题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通过本课的学习，大家有什么新的收获和体会？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752480" y="1981080"/>
            <a:ext cx="6172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布置作业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教科书习题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2.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题；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教科书复习题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题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14600" y="91440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活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hd</cp:lastModifiedBy>
  <dcterms:modified xsi:type="dcterms:W3CDTF">2007-05-28T01:20:04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