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7.jpeg" ContentType="image/jpeg"/>
  <Override PartName="/ppt/media/image27.wmf" ContentType="image/x-wmf"/>
  <Override PartName="/ppt/media/image26.gif" ContentType="image/gif"/>
  <Override PartName="/ppt/media/image20.jpeg" ContentType="image/jpeg"/>
  <Override PartName="/ppt/media/image24.wmf" ContentType="image/x-wmf"/>
  <Override PartName="/ppt/media/image23.gif" ContentType="image/gif"/>
  <Override PartName="/ppt/media/image22.png" ContentType="image/png"/>
  <Override PartName="/ppt/media/image21.gif" ContentType="image/gif"/>
  <Override PartName="/ppt/media/image19.gif" ContentType="image/gif"/>
  <Override PartName="/ppt/media/image15.wmf" ContentType="image/x-wmf"/>
  <Override PartName="/ppt/media/image18.wmf" ContentType="image/x-wmf"/>
  <Override PartName="/ppt/media/image2.jpeg" ContentType="image/jpeg"/>
  <Override PartName="/ppt/media/image14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33.wmf" ContentType="image/x-wmf"/>
  <Override PartName="/ppt/media/image35.wmf" ContentType="image/x-wmf"/>
  <Override PartName="/ppt/media/image3.jpeg" ContentType="image/jpeg"/>
  <Override PartName="/ppt/media/image36.wmf" ContentType="image/x-wmf"/>
  <Override PartName="/ppt/media/image13.gif" ContentType="image/gif"/>
  <Override PartName="/ppt/media/image38.wmf" ContentType="image/x-wmf"/>
  <Override PartName="/ppt/media/image40.png" ContentType="image/png"/>
  <Override PartName="/ppt/media/image39.wmf" ContentType="image/x-wmf"/>
  <Override PartName="/ppt/media/image41.wmf" ContentType="image/x-wmf"/>
  <Override PartName="/ppt/media/image37.wmf" ContentType="image/x-wmf"/>
  <Override PartName="/ppt/media/image42.wmf" ContentType="image/x-wmf"/>
  <Override PartName="/ppt/media/image46.gif" ContentType="image/gif"/>
  <Override PartName="/ppt/media/image32.png" ContentType="image/png"/>
  <Override PartName="/ppt/media/image4.gif" ContentType="image/gif"/>
  <Override PartName="/ppt/media/image43.wmf" ContentType="image/x-wmf"/>
  <Override PartName="/ppt/media/image44.wmf" ContentType="image/x-wmf"/>
  <Override PartName="/ppt/media/image30.gif" ContentType="image/gif"/>
  <Override PartName="/ppt/media/image12.png" ContentType="image/png"/>
  <Override PartName="/ppt/media/image34.wmf" ContentType="image/x-wmf"/>
  <Override PartName="/ppt/media/image8.gif" ContentType="image/gif"/>
  <Override PartName="/ppt/media/image9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gif" ContentType="image/gif"/>
  <Override PartName="/ppt/media/image17.wmf" ContentType="image/x-wmf"/>
  <Override PartName="/ppt/media/image16.wmf" ContentType="image/x-wmf"/>
  <Override PartName="/ppt/media/image45.jpeg" ContentType="image/jpeg"/>
  <Override PartName="/ppt/media/image2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8E7-5CD3-4A74-8F34-6BA57311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BEE-D5EB-4B99-B3B9-4880D646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E46-74D5-4638-A9A4-7182CFCE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F94-BFD2-4818-90FF-994D5BBE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F17C-C5A2-471B-8A0C-89836268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4E4F-1961-4526-8FCD-DD634638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121A-1A12-43FC-A42A-1CBAE6C6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2E7E-7707-4DA4-9C08-2A77F33A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8E62-73B2-4BCC-8444-B7443EA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C477-D16C-405A-A8D8-329803BE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6F0-B5C1-4C8E-9360-047BBAC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A01-E4A7-46AE-B492-64A15C2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673A-E8DE-402D-9E41-52145B2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D04-7200-487A-8082-4016A9D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3C70-3AE1-40D8-B241-E8B717C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51B-F0B9-481A-B350-8ECA858A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CBC1-425E-4ABD-B2C2-58AFE3B6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C6BD-AE58-4741-B396-14F890A8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4498-4FB0-4FF3-B37A-7BF0126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0C11-A560-477B-A3CF-504329CE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49F3-4D69-45F0-B1FB-14EF6432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55BA-06E0-4091-81B5-C9D532F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590-6A9C-4CB6-AF76-B7CCA10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F508-A546-4AB9-B069-A1D3105F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DA4E-47C1-4327-9F32-34CD4D5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B26A-7F65-4489-98B8-B07D903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CA07-A1E4-4F24-A6C0-E832B49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253E-C0A3-4063-8305-98CB542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9673-0A1F-48C0-96E8-123D64E2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2230-147B-439C-8737-4B1CAB3F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BE7-6360-4BCF-A02C-9EA4454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AF2-5DB7-4A93-AA3E-5B886692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D38-6505-4AA8-934E-875C608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195-723E-47D1-B096-B4E56E9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456-0644-4593-96E2-B1ABC87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44E-F245-4892-ABA2-5855CE0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78A-3018-4AE0-8045-506D4161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CDF0-6AD4-42D2-B547-29068A12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8A0-F518-402F-931A-EA1B3A8C7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6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gif"/><Relationship Id="rId3" Type="http://schemas.openxmlformats.org/officeDocument/2006/relationships/image" Target="../media/image4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gif"/><Relationship Id="rId3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4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5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6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7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8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9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10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11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12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856;&#22411;&#20363;2.doc" TargetMode="External"/><Relationship Id="rId13" Type="http://schemas.openxmlformats.org/officeDocument/2006/relationships/image" Target="../media/image37.wmf"/><Relationship Id="rId14" Type="http://schemas.openxmlformats.org/officeDocument/2006/relationships/image" Target="../media/image5.gif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064;&#39064;&#31934;2.doc" TargetMode="External"/><Relationship Id="rId18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064;&#39064;&#31934;2.doc" TargetMode="External"/><Relationship Id="rId19" Type="http://schemas.openxmlformats.org/officeDocument/2006/relationships/hyperlink" Target="C:\Documents and Settings\&#21021;&#20013;&#37096;&#25945;&#23460;\Local Settings\Temporary Internet Files\Content.IE5\&#35797;&#39064;\&#20108;&#27425;&#19977;&#39033;&#24335;&#30340;&#22240;&#24335;&#20998;&#35299;&#20064;&#39064;&#31934;2.doc" TargetMode="External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gif"/><Relationship Id="rId3" Type="http://schemas.openxmlformats.org/officeDocument/2006/relationships/image" Target="../media/image19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40.png"/><Relationship Id="rId3" Type="http://schemas.openxmlformats.org/officeDocument/2006/relationships/image" Target="../media/image19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40.png"/><Relationship Id="rId3" Type="http://schemas.openxmlformats.org/officeDocument/2006/relationships/image" Target="../media/image19.gif"/><Relationship Id="rId4" Type="http://schemas.openxmlformats.org/officeDocument/2006/relationships/image" Target="../media/image21.gi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1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1.png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gif"/><Relationship Id="rId3" Type="http://schemas.openxmlformats.org/officeDocument/2006/relationships/image" Target="../media/image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章  一元二次方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2920" y="2133360"/>
            <a:ext cx="6985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华文楷体"/>
                <a:ea typeface="华文楷体"/>
              </a:rPr>
              <a:t>22.2.3 </a:t>
            </a:r>
            <a:r>
              <a:rPr b="0" lang="zh-CN" sz="6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因式分解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16000" y="1830240"/>
            <a:ext cx="65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 .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-4=0;            2.(x+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-25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2960" y="23922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(x+2)(x-2)=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5200" y="312912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+2=0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2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5040" y="3733920"/>
            <a:ext cx="309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-2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0" y="0"/>
            <a:ext cx="4800240" cy="1034640"/>
            <a:chOff x="0" y="0"/>
            <a:chExt cx="4800240" cy="1034640"/>
          </a:xfrm>
        </p:grpSpPr>
        <p:grpSp>
          <p:nvGrpSpPr>
            <p:cNvPr id="266" name=""/>
            <p:cNvGrpSpPr/>
            <p:nvPr/>
          </p:nvGrpSpPr>
          <p:grpSpPr>
            <a:xfrm>
              <a:off x="0" y="0"/>
              <a:ext cx="4800240" cy="1034640"/>
              <a:chOff x="0" y="0"/>
              <a:chExt cx="4800240" cy="103464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70920"/>
                <a:ext cx="4690080" cy="963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080" y="0"/>
                <a:ext cx="474516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3924360" y="2570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6320" y="257040"/>
              <a:ext cx="39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学习是件很愉快的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252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淘金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用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解因式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下列方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58360" y="23623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[(x+1)+5][(x+1)-5]=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52000" y="30988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+6=0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4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11840" y="3703680"/>
            <a:ext cx="309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-6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47242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种解法是不是解这两个方程的最好方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是否还有其它方法来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783560" y="152280"/>
            <a:ext cx="522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3262320" cy="65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231400" cy="65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286000"/>
                <a:ext cx="5668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304920" y="228600"/>
            <a:ext cx="2666880" cy="703440"/>
            <a:chOff x="304920" y="228600"/>
            <a:chExt cx="2666880" cy="703440"/>
          </a:xfrm>
        </p:grpSpPr>
        <p:sp>
          <p:nvSpPr>
            <p:cNvPr id="282" name=""/>
            <p:cNvSpPr/>
            <p:nvPr/>
          </p:nvSpPr>
          <p:spPr>
            <a:xfrm>
              <a:off x="838440" y="22860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动脑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331920" y="320760"/>
              <a:ext cx="582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04920" y="271440"/>
              <a:ext cx="2209680" cy="658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38120" y="38052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争先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下列方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817560" y="3657600"/>
            <a:ext cx="5202360" cy="65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805040" y="4449600"/>
                <a:ext cx="35319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01680" y="5135400"/>
                <a:ext cx="47372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447920" y="5551560"/>
                <a:ext cx="35337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7543800" y="380880"/>
            <a:ext cx="522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16000" y="18302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这个数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34640" y="4433760"/>
            <a:ext cx="31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=0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x-7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27720" y="24256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7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-7x=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75200" y="380988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(2x-7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228600"/>
            <a:ext cx="2793600" cy="990720"/>
            <a:chOff x="0" y="228600"/>
            <a:chExt cx="2793600" cy="990720"/>
          </a:xfrm>
        </p:grpSpPr>
        <p:grpSp>
          <p:nvGrpSpPr>
            <p:cNvPr id="298" name=""/>
            <p:cNvGrpSpPr/>
            <p:nvPr/>
          </p:nvGrpSpPr>
          <p:grpSpPr>
            <a:xfrm>
              <a:off x="812880" y="228600"/>
              <a:ext cx="1980720" cy="929880"/>
              <a:chOff x="812880" y="228600"/>
              <a:chExt cx="1980720" cy="929880"/>
            </a:xfrm>
          </p:grpSpPr>
          <p:sp>
            <p:nvSpPr>
              <p:cNvPr id="299" name=""/>
              <p:cNvSpPr/>
              <p:nvPr/>
            </p:nvSpPr>
            <p:spPr>
              <a:xfrm>
                <a:off x="812880" y="330480"/>
                <a:ext cx="193572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4840" y="228600"/>
                <a:ext cx="195876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457200"/>
              <a:ext cx="2252520" cy="762120"/>
              <a:chOff x="0" y="457200"/>
              <a:chExt cx="225252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804960" y="458640"/>
                <a:ext cx="1447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想一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57200"/>
                <a:ext cx="76212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4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2158920" y="50652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先胜为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数平方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等于这个数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这个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048120" y="4876920"/>
                <a:ext cx="30668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7543800" y="228600"/>
            <a:ext cx="522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我最棒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用分解因式法解下列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250040" y="6400800"/>
            <a:ext cx="598680" cy="336600"/>
          </a:xfrm>
          <a:custGeom>
            <a:avLst/>
            <a:gdLst>
              <a:gd name="textAreaLeft" fmla="*/ 20880 w 598680"/>
              <a:gd name="textAreaRight" fmla="*/ 577800 w 598680"/>
              <a:gd name="textAreaTop" fmla="*/ 20880 h 336600"/>
              <a:gd name="textAreaBottom" fmla="*/ 31572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50" y="1350"/>
                </a:lnTo>
                <a:lnTo>
                  <a:pt x="1350" y="135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50" y="20250"/>
                </a:lnTo>
                <a:lnTo>
                  <a:pt x="37050" y="135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050" y="2025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400" h="21600">
                <a:moveTo>
                  <a:pt x="22718" y="10800"/>
                </a:moveTo>
                <a:lnTo>
                  <a:pt x="12156" y="17844"/>
                </a:lnTo>
                <a:lnTo>
                  <a:pt x="12156" y="3756"/>
                </a:lnTo>
                <a:close/>
              </a:path>
              <a:path fill="darken" w="38400" h="21600">
                <a:moveTo>
                  <a:pt x="24573" y="3756"/>
                </a:moveTo>
                <a:lnTo>
                  <a:pt x="24573" y="17844"/>
                </a:lnTo>
                <a:lnTo>
                  <a:pt x="26244" y="17844"/>
                </a:lnTo>
                <a:lnTo>
                  <a:pt x="26244" y="375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828800" y="152280"/>
            <a:ext cx="522360" cy="609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286000" y="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105520" y="609480"/>
            <a:ext cx="263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考答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167440" y="5143680"/>
                <a:ext cx="2411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181480" y="5487840"/>
                <a:ext cx="2590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143680" y="1087560"/>
                <a:ext cx="2436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105520" y="1523880"/>
                <a:ext cx="2695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05520" y="1981080"/>
                <a:ext cx="2284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140440" y="2362320"/>
                <a:ext cx="2670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181480" y="2897280"/>
                <a:ext cx="2309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207040" y="3352680"/>
                <a:ext cx="2336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180040" y="3998880"/>
                <a:ext cx="2438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181480" y="4572000"/>
                <a:ext cx="2051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73160" y="3124080"/>
                <a:ext cx="3963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4600" y="3581280"/>
                <a:ext cx="32590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09480" y="990720"/>
                <a:ext cx="36813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52280" y="9907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                                  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52280" y="1523880"/>
            <a:ext cx="5257800" cy="581400"/>
            <a:chOff x="152280" y="1523880"/>
            <a:chExt cx="5257800" cy="581400"/>
          </a:xfrm>
        </p:grpSpPr>
        <p:sp>
          <p:nvSpPr>
            <p:cNvPr id="331" name=""/>
            <p:cNvSpPr/>
            <p:nvPr/>
          </p:nvSpPr>
          <p:spPr>
            <a:xfrm>
              <a:off x="152280" y="152388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.                       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609480" y="1523880"/>
                  <a:ext cx="38098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81080" y="2057400"/>
                <a:ext cx="4109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280" y="2590920"/>
            <a:ext cx="4038840" cy="1068840"/>
            <a:chOff x="152280" y="2590920"/>
            <a:chExt cx="4038840" cy="1068840"/>
          </a:xfrm>
        </p:grpSpPr>
        <p:sp>
          <p:nvSpPr>
            <p:cNvPr id="335" name=""/>
            <p:cNvSpPr/>
            <p:nvPr/>
          </p:nvSpPr>
          <p:spPr>
            <a:xfrm>
              <a:off x="152280" y="2590920"/>
              <a:ext cx="4038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.                                  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658440" y="2590920"/>
                  <a:ext cx="28270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看出了点什么</m:t>
                      </m:r>
                      <m:r>
                        <m:t xml:space="preserve">?</m:t>
                      </m:r>
                      <m:r>
                        <m:rPr>
                          <m:lit/>
                          <m:nor/>
                        </m:rPr>
                        <m:t xml:space="preserve">有没有规律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52280" y="4114800"/>
                <a:ext cx="384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?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52280" y="4626000"/>
                <a:ext cx="4267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方程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得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52280" y="5257800"/>
                <a:ext cx="3479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76320" y="5845320"/>
                <a:ext cx="3954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?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6320" y="1066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已经学过一些特殊的二次三项式的分解因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862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次三项式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ax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  <a:ea typeface="隶书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+bx+c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因式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85800" y="1495440"/>
                <a:ext cx="2843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而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46200" y="6095880"/>
                <a:ext cx="4066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方程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得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09480" y="2387520"/>
                <a:ext cx="2386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而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0" y="3338640"/>
                <a:ext cx="5054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方程</m:t>
                    </m:r>
                    <m:r>
                      <m:t xml:space="preserve">: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得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76320" y="-136800"/>
            <a:ext cx="4419000" cy="1095480"/>
            <a:chOff x="76320" y="-136800"/>
            <a:chExt cx="4419000" cy="109548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3200040" y="9360"/>
              <a:ext cx="129528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9" name=""/>
            <p:cNvGrpSpPr/>
            <p:nvPr/>
          </p:nvGrpSpPr>
          <p:grpSpPr>
            <a:xfrm>
              <a:off x="76320" y="-136800"/>
              <a:ext cx="3123720" cy="1095480"/>
              <a:chOff x="76320" y="-136800"/>
              <a:chExt cx="3123720" cy="1095480"/>
            </a:xfrm>
          </p:grpSpPr>
          <p:sp>
            <p:nvSpPr>
              <p:cNvPr id="350" name=""/>
              <p:cNvSpPr/>
              <p:nvPr/>
            </p:nvSpPr>
            <p:spPr>
              <a:xfrm>
                <a:off x="76320" y="0"/>
                <a:ext cx="3123720" cy="9586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2640" y="181080"/>
                <a:ext cx="838080" cy="63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228240" y="-136800"/>
                <a:ext cx="27428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开启        智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621240" y="1495440"/>
                <a:ext cx="38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方程</m:t>
                    </m:r>
                    <m:r>
                      <m:t xml:space="preserve">: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sSub>
                      <m:e>
                        <m:r>
                          <m:t xml:space="preserve">得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76320" y="19810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对于一般的二次三项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a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+bx+c(a≠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怎么把它分解因式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406680" y="2387520"/>
                <a:ext cx="2583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而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380880" y="2895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观察下列各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许你能发现些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283360" y="3324240"/>
            <a:ext cx="3784320" cy="4856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-3240" y="3933720"/>
            <a:ext cx="5214960" cy="486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5372280" y="3933720"/>
            <a:ext cx="3757320" cy="486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7"/>
          <a:stretch/>
        </p:blipFill>
        <p:spPr>
          <a:xfrm>
            <a:off x="0" y="4497480"/>
            <a:ext cx="5105520" cy="83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029200" y="4421160"/>
                <a:ext cx="4432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把下列各式分解因式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0240" y="5259240"/>
                <a:ext cx="5075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解</m:t>
                        </m:r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一元二次方程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两个根是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170320" y="5259240"/>
                <a:ext cx="4162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0880 w 598680"/>
              <a:gd name="textAreaRight" fmla="*/ 577800 w 598680"/>
              <a:gd name="textAreaTop" fmla="*/ 20880 h 336600"/>
              <a:gd name="textAreaBottom" fmla="*/ 31572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50" y="1350"/>
                </a:lnTo>
                <a:lnTo>
                  <a:pt x="1350" y="135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50" y="20250"/>
                </a:lnTo>
                <a:lnTo>
                  <a:pt x="37050" y="135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050" y="2025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400" h="21600">
                <a:moveTo>
                  <a:pt x="22718" y="10800"/>
                </a:moveTo>
                <a:lnTo>
                  <a:pt x="12156" y="17844"/>
                </a:lnTo>
                <a:lnTo>
                  <a:pt x="12156" y="3756"/>
                </a:lnTo>
                <a:close/>
              </a:path>
              <a:path fill="darken" w="38400" h="21600">
                <a:moveTo>
                  <a:pt x="24573" y="3756"/>
                </a:moveTo>
                <a:lnTo>
                  <a:pt x="24573" y="17844"/>
                </a:lnTo>
                <a:lnTo>
                  <a:pt x="26244" y="17844"/>
                </a:lnTo>
                <a:lnTo>
                  <a:pt x="26244" y="375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907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在实数范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分解二次三项式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ax</a:t>
            </a:r>
            <a:r>
              <a:rPr b="0" lang="zh-CN" sz="24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+bx+c(a≠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要用公式法求出相应的一元二次方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ax</a:t>
            </a:r>
            <a:r>
              <a:rPr b="0" lang="zh-CN" sz="24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+bx+c=0(a≠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两个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直接将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ax</a:t>
            </a:r>
            <a:r>
              <a:rPr b="0" lang="zh-CN" sz="24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+bx+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a(x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)(x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以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即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4"/>
              </a:rPr>
              <a:t>ax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ea typeface="隶书"/>
                <a:hlinkClick r:id="rId5"/>
              </a:rPr>
              <a:t>2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ea typeface="隶书"/>
                <a:hlinkClick r:id="rId6"/>
              </a:rPr>
              <a:t>+bx+c= a(x-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ea typeface="隶书"/>
                <a:hlinkClick r:id="rId7"/>
              </a:rPr>
              <a:t>x</a:t>
            </a:r>
            <a:r>
              <a:rPr b="0" lang="zh-CN" sz="2400" spc="-1" strike="noStrike" u="sng" baseline="-25000">
                <a:solidFill>
                  <a:srgbClr val="009999"/>
                </a:solidFill>
                <a:uFillTx/>
                <a:latin typeface="Times New Roman"/>
                <a:ea typeface="隶书"/>
                <a:hlinkClick r:id="rId8"/>
              </a:rPr>
              <a:t>1</a:t>
            </a:r>
            <a:r>
              <a:rPr b="0" lang="zh-CN" sz="2400" spc="-1" strike="noStrike" u="sng" baseline="-25000">
                <a:solidFill>
                  <a:srgbClr val="009999"/>
                </a:solidFill>
                <a:uFillTx/>
                <a:latin typeface="Times New Roman"/>
                <a:ea typeface="隶书"/>
                <a:hlinkClick r:id="rId9"/>
              </a:rPr>
              <a:t>)(x-</a:t>
            </a:r>
            <a:r>
              <a:rPr b="0" lang="zh-CN" sz="2400" spc="-1" strike="noStrike" u="sng" baseline="-25000">
                <a:solidFill>
                  <a:srgbClr val="009999"/>
                </a:solidFill>
                <a:uFillTx/>
                <a:latin typeface="Times New Roman"/>
                <a:ea typeface="隶书"/>
                <a:hlinkClick r:id="rId10"/>
              </a:rPr>
              <a:t>x</a:t>
            </a:r>
            <a:r>
              <a:rPr b="0" lang="zh-CN" sz="2400" spc="-1" strike="noStrike" u="sng" baseline="-25000">
                <a:solidFill>
                  <a:srgbClr val="009999"/>
                </a:solidFill>
                <a:uFillTx/>
                <a:latin typeface="Times New Roman"/>
                <a:ea typeface="隶书"/>
                <a:hlinkClick r:id="rId11"/>
              </a:rPr>
              <a:t>2</a:t>
            </a:r>
            <a:r>
              <a:rPr b="0" lang="zh-CN" sz="2400" spc="-1" strike="noStrike" u="sng" baseline="-25000">
                <a:solidFill>
                  <a:srgbClr val="009999"/>
                </a:solidFill>
                <a:uFillTx/>
                <a:latin typeface="Times New Roman"/>
                <a:ea typeface="隶书"/>
                <a:hlinkClick r:id="rId12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06440" y="3276720"/>
                <a:ext cx="3251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解</m:t>
                        </m:r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一元二次方程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两个根是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71440" y="4114800"/>
                <a:ext cx="422424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" descr=""/>
          <p:cNvPicPr/>
          <p:nvPr/>
        </p:nvPicPr>
        <p:blipFill>
          <a:blip r:embed="rId13"/>
          <a:stretch/>
        </p:blipFill>
        <p:spPr>
          <a:xfrm>
            <a:off x="457200" y="5867280"/>
            <a:ext cx="3483000" cy="5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570560" y="4152960"/>
                <a:ext cx="345744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62640" y="5715000"/>
                <a:ext cx="3973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76320" y="-136800"/>
            <a:ext cx="4419000" cy="1095480"/>
            <a:chOff x="76320" y="-136800"/>
            <a:chExt cx="4419000" cy="1095480"/>
          </a:xfrm>
        </p:grpSpPr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3200040" y="9360"/>
              <a:ext cx="129528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76320" y="-136800"/>
              <a:ext cx="3123720" cy="1095480"/>
              <a:chOff x="76320" y="-136800"/>
              <a:chExt cx="3123720" cy="10954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320" y="0"/>
                <a:ext cx="3123720" cy="9586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42640" y="181080"/>
                <a:ext cx="838080" cy="63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228240" y="-136800"/>
                <a:ext cx="27428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开启        智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80920" y="759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次三项式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7"/>
              </a:rPr>
              <a:t>ax</a:t>
            </a:r>
            <a:r>
              <a:rPr b="0" lang="en-US" sz="3600" spc="-1" strike="noStrike" u="sng" baseline="30000">
                <a:solidFill>
                  <a:srgbClr val="009999"/>
                </a:solidFill>
                <a:uFillTx/>
                <a:latin typeface="Arial"/>
                <a:ea typeface="隶书"/>
                <a:hlinkClick r:id="rId18"/>
              </a:rPr>
              <a:t>2</a:t>
            </a:r>
            <a:r>
              <a:rPr b="0" lang="en-US" sz="3600" spc="-1" strike="noStrike" u="sng" baseline="30000">
                <a:solidFill>
                  <a:srgbClr val="009999"/>
                </a:solidFill>
                <a:uFillTx/>
                <a:latin typeface="Arial"/>
                <a:ea typeface="隶书"/>
                <a:hlinkClick r:id="rId19"/>
              </a:rPr>
              <a:t>+bx+c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因式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0"/>
          <a:stretch/>
        </p:blipFill>
        <p:spPr>
          <a:xfrm>
            <a:off x="533520" y="3657600"/>
            <a:ext cx="164916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1"/>
          <a:stretch/>
        </p:blipFill>
        <p:spPr>
          <a:xfrm>
            <a:off x="2911320" y="3670200"/>
            <a:ext cx="2738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回味无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当一元二次方程的一边是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而另一边易于分解成两个一次因式的乘积时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们就可以用分解因式的方法求解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这种用分解因式解一元二次方程的方法称为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分解因式法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解因式法的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是方程左边易于分解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而右边等于零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关键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是熟练掌握因式分解的知识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理论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依旧是“如果两个因式的积等于零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那么至少有一个因式等于零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因式分解法解一元二次方程的步骤是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化方程为一般形式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将方程左边因式分解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根据“至少有一个因式为零”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得到两个一元一次方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两个一元一次方程的根就是原方程的根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因式分解的方法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突出了转化的思想方法——“降次”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鲜明地显示了“二次”转化为“一次”的过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80880" y="0"/>
            <a:ext cx="2819520" cy="1297440"/>
            <a:chOff x="380880" y="0"/>
            <a:chExt cx="2819520" cy="1297440"/>
          </a:xfrm>
        </p:grpSpPr>
        <p:grpSp>
          <p:nvGrpSpPr>
            <p:cNvPr id="385" name=""/>
            <p:cNvGrpSpPr/>
            <p:nvPr/>
          </p:nvGrpSpPr>
          <p:grpSpPr>
            <a:xfrm>
              <a:off x="380880" y="0"/>
              <a:ext cx="2666880" cy="929880"/>
              <a:chOff x="380880" y="0"/>
              <a:chExt cx="2666880" cy="929880"/>
            </a:xfrm>
          </p:grpSpPr>
          <p:sp>
            <p:nvSpPr>
              <p:cNvPr id="386" name=""/>
              <p:cNvSpPr/>
              <p:nvPr/>
            </p:nvSpPr>
            <p:spPr>
              <a:xfrm>
                <a:off x="3808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0760" y="0"/>
                <a:ext cx="26370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1447560" y="228600"/>
              <a:ext cx="628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5720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知识的升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2590560" y="87480"/>
              <a:ext cx="171468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"/>
            <p:cNvGrpSpPr/>
            <p:nvPr/>
          </p:nvGrpSpPr>
          <p:grpSpPr>
            <a:xfrm>
              <a:off x="1295280" y="0"/>
              <a:ext cx="1295280" cy="1523520"/>
              <a:chOff x="1295280" y="0"/>
              <a:chExt cx="1295280" cy="1523520"/>
            </a:xfrm>
          </p:grpSpPr>
          <p:sp>
            <p:nvSpPr>
              <p:cNvPr id="396" name=""/>
              <p:cNvSpPr/>
              <p:nvPr/>
            </p:nvSpPr>
            <p:spPr>
              <a:xfrm>
                <a:off x="1295280" y="0"/>
                <a:ext cx="126576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309320" y="57240"/>
                <a:ext cx="12812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447560" y="182520"/>
              <a:ext cx="10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62120" y="22176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习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7  1,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解下列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590560" y="87480"/>
              <a:ext cx="171468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"/>
            <p:cNvGrpSpPr/>
            <p:nvPr/>
          </p:nvGrpSpPr>
          <p:grpSpPr>
            <a:xfrm>
              <a:off x="1295280" y="0"/>
              <a:ext cx="1295280" cy="1523520"/>
              <a:chOff x="1295280" y="0"/>
              <a:chExt cx="1295280" cy="1523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295280" y="0"/>
                <a:ext cx="126576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09320" y="57240"/>
                <a:ext cx="12812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1447560" y="182520"/>
              <a:ext cx="10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5715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105520" y="990720"/>
            <a:ext cx="3066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考答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4827600" y="1371600"/>
            <a:ext cx="2411280" cy="836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4800600" y="1981080"/>
            <a:ext cx="2362320" cy="836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4800600" y="2744640"/>
            <a:ext cx="2438280" cy="8366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4800600" y="3429000"/>
            <a:ext cx="2079720" cy="45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00600" y="3960720"/>
                <a:ext cx="20779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800600" y="4344840"/>
                <a:ext cx="25178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800600" y="5180040"/>
                <a:ext cx="2233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861080" y="5735520"/>
                <a:ext cx="2692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81000" y="3863880"/>
                <a:ext cx="4149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7760" y="4438800"/>
                <a:ext cx="3808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1482840"/>
                <a:ext cx="3505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280" y="2108160"/>
                <a:ext cx="3353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52280" y="2736720"/>
                <a:ext cx="358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280" y="3324240"/>
                <a:ext cx="274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76320" y="5118120"/>
                <a:ext cx="358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320" y="5651640"/>
                <a:ext cx="32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d4fb57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配方法</a:t>
            </a:r>
            <a:r>
              <a:rPr b="0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公式法</a:t>
            </a:r>
            <a:r>
              <a:rPr b="0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是解一元二次方程重要方法</a:t>
            </a:r>
            <a:r>
              <a:rPr b="0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要作为一种基本技能来掌握</a:t>
            </a:r>
            <a:r>
              <a:rPr b="0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r>
              <a:rPr b="0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而某些方程可以用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分解因式法</a:t>
            </a:r>
            <a:r>
              <a:rPr b="0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简便快捷地求解</a:t>
            </a:r>
            <a:r>
              <a:rPr b="0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433" name="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58560" y="4284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522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95280" y="189000"/>
            <a:ext cx="3581280" cy="685800"/>
            <a:chOff x="395280" y="189000"/>
            <a:chExt cx="3581280" cy="685800"/>
          </a:xfrm>
        </p:grpSpPr>
        <p:grpSp>
          <p:nvGrpSpPr>
            <p:cNvPr id="127" name=""/>
            <p:cNvGrpSpPr/>
            <p:nvPr/>
          </p:nvGrpSpPr>
          <p:grpSpPr>
            <a:xfrm>
              <a:off x="395280" y="208080"/>
              <a:ext cx="2362320" cy="520560"/>
              <a:chOff x="395280" y="208080"/>
              <a:chExt cx="2362320" cy="52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395280" y="23652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回顾与复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77360" y="208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2757600" y="18900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95280" y="34128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 txBox="1"/>
          <p:nvPr/>
        </p:nvSpPr>
        <p:spPr>
          <a:xfrm>
            <a:off x="4500720" y="189000"/>
            <a:ext cx="228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温故而知新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3" name=""/>
          <p:cNvSpPr/>
          <p:nvPr/>
        </p:nvSpPr>
        <p:spPr>
          <a:xfrm>
            <a:off x="2935080" y="907920"/>
            <a:ext cx="33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我们已经学过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几种解一元二次方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的方法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2040" y="4292640"/>
            <a:ext cx="31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什么叫分解因式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8880" y="4941720"/>
            <a:ext cx="31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把一个多项式分解成几个</a:t>
            </a:r>
            <a:r>
              <a:rPr b="0" lang="zh-CN" sz="4000" spc="-1" strike="noStrike" u="sng">
                <a:solidFill>
                  <a:srgbClr val="cc0000"/>
                </a:solidFill>
                <a:uFillTx/>
                <a:latin typeface="Times New Roman"/>
              </a:rPr>
              <a:t>整式乘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形式叫做分解因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2133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直接开平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7640" y="279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配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0520" y="2133720"/>
            <a:ext cx="24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=a (a≥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65160" y="2727360"/>
            <a:ext cx="33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(x+m)</a:t>
            </a:r>
            <a:r>
              <a:rPr b="0" lang="en-US" sz="4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=n (n≥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6880" y="364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公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067280" y="3357720"/>
                <a:ext cx="4856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73600" y="116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7880" y="2112840"/>
            <a:ext cx="462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了解分解因式法解一元二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方程的概念</a:t>
            </a:r>
            <a:r>
              <a:rPr b="0" lang="en-US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并会用分解因式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解某些一元二次方程</a:t>
            </a:r>
            <a:r>
              <a:rPr b="0" lang="en-US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142920"/>
            <a:ext cx="4343400" cy="838080"/>
            <a:chOff x="324000" y="142920"/>
            <a:chExt cx="4343400" cy="838080"/>
          </a:xfrm>
        </p:grpSpPr>
        <p:grpSp>
          <p:nvGrpSpPr>
            <p:cNvPr id="145" name=""/>
            <p:cNvGrpSpPr/>
            <p:nvPr/>
          </p:nvGrpSpPr>
          <p:grpSpPr>
            <a:xfrm>
              <a:off x="324000" y="142920"/>
              <a:ext cx="3505320" cy="781200"/>
              <a:chOff x="324000" y="142920"/>
              <a:chExt cx="3505320" cy="7812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4000" y="34272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  </a:t>
                </a:r>
                <a:r>
                  <a:rPr b="1" lang="zh-CN" sz="3200" spc="-1" strike="noStrike">
                    <a:solidFill>
                      <a:srgbClr val="3333ff"/>
                    </a:solidFill>
                    <a:latin typeface="Times New Roman"/>
                    <a:ea typeface="隶书"/>
                  </a:rPr>
                  <a:t>风向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42080" y="14292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8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44784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3905280" y="255600"/>
              <a:ext cx="762120" cy="66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2384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5280" y="404640"/>
            <a:ext cx="2819520" cy="1297440"/>
            <a:chOff x="395280" y="404640"/>
            <a:chExt cx="2819520" cy="1297440"/>
          </a:xfrm>
        </p:grpSpPr>
        <p:grpSp>
          <p:nvGrpSpPr>
            <p:cNvPr id="152" name=""/>
            <p:cNvGrpSpPr/>
            <p:nvPr/>
          </p:nvGrpSpPr>
          <p:grpSpPr>
            <a:xfrm>
              <a:off x="395280" y="404640"/>
              <a:ext cx="2666880" cy="929880"/>
              <a:chOff x="395280" y="404640"/>
              <a:chExt cx="2666880" cy="929880"/>
            </a:xfrm>
          </p:grpSpPr>
          <p:sp>
            <p:nvSpPr>
              <p:cNvPr id="153" name=""/>
              <p:cNvSpPr/>
              <p:nvPr/>
            </p:nvSpPr>
            <p:spPr>
              <a:xfrm>
                <a:off x="395280" y="50652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5160" y="404640"/>
                <a:ext cx="26370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461960" y="633240"/>
              <a:ext cx="628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63324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自学       指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190600" y="1916280"/>
            <a:ext cx="469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认真思考下面大屏幕出示的问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列出一元二次方程并尽可能用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种方法求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57200" y="2057400"/>
            <a:ext cx="4114800" cy="4951080"/>
            <a:chOff x="457200" y="2057400"/>
            <a:chExt cx="4114800" cy="4951080"/>
          </a:xfrm>
        </p:grpSpPr>
        <p:grpSp>
          <p:nvGrpSpPr>
            <p:cNvPr id="159" name=""/>
            <p:cNvGrpSpPr/>
            <p:nvPr/>
          </p:nvGrpSpPr>
          <p:grpSpPr>
            <a:xfrm>
              <a:off x="457200" y="2057400"/>
              <a:ext cx="4114800" cy="4951080"/>
              <a:chOff x="457200" y="2057400"/>
              <a:chExt cx="4114800" cy="4951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920" y="2057400"/>
                <a:ext cx="4065120" cy="49510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7200" y="3333240"/>
                <a:ext cx="41148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1473120" y="3962520"/>
                  <a:ext cx="1719360" cy="91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077840" y="5041800"/>
                  <a:ext cx="26560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1144440" y="2716200"/>
                  <a:ext cx="2589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081080" y="3389400"/>
                  <a:ext cx="194940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rPr>
                          <m:lit/>
                          <m:nor/>
                        </m:rPr>
                        <m:t xml:space="preserve">这个数是</m:t>
                      </m:r>
                      <m:r>
                        <m:t xml:space="preserve">0</m:t>
                      </m:r>
                      <m:r>
                        <m:t xml:space="preserve">或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4952880" y="1981080"/>
            <a:ext cx="4114800" cy="4951080"/>
            <a:chOff x="4952880" y="1981080"/>
            <a:chExt cx="4114800" cy="4951080"/>
          </a:xfrm>
        </p:grpSpPr>
        <p:grpSp>
          <p:nvGrpSpPr>
            <p:cNvPr id="167" name=""/>
            <p:cNvGrpSpPr/>
            <p:nvPr/>
          </p:nvGrpSpPr>
          <p:grpSpPr>
            <a:xfrm>
              <a:off x="4952880" y="1981080"/>
              <a:ext cx="4114800" cy="4951080"/>
              <a:chOff x="4952880" y="1981080"/>
              <a:chExt cx="4114800" cy="4951080"/>
            </a:xfrm>
          </p:grpSpPr>
          <p:sp>
            <p:nvSpPr>
              <p:cNvPr id="168" name=""/>
              <p:cNvSpPr/>
              <p:nvPr/>
            </p:nvSpPr>
            <p:spPr>
              <a:xfrm>
                <a:off x="4953600" y="1981080"/>
                <a:ext cx="4065120" cy="49510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952880" y="3256920"/>
                <a:ext cx="41148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315120" y="4422600"/>
                  <a:ext cx="102528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小亮是这样解的</m:t>
                      </m:r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803920" y="4965480"/>
                  <a:ext cx="1968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解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由方程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得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640120" y="2639880"/>
                  <a:ext cx="2589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537160" y="3371760"/>
                  <a:ext cx="25398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或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14800" y="2286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能解决这个问题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0666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数的平方与这个数的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有可能相等吗？如果相等，这个数是几？你是怎样求出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4495680" cy="1323720"/>
            <a:chOff x="0" y="0"/>
            <a:chExt cx="4495680" cy="132372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4419720" cy="1323720"/>
              <a:chOff x="0" y="0"/>
              <a:chExt cx="4419720" cy="132372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0"/>
                <a:ext cx="4318200" cy="1323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680" y="10080"/>
                <a:ext cx="437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3124080" y="2286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1295280" y="4572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52280" y="349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心动     不如行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391520" y="2057400"/>
                <a:ext cx="1052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小亮是这样想的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1981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颖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明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亮都设这个数为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x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题意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小颖做得对吗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小明做得对吗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14800" y="2286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能解决这个问题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0666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个数的平方与这个数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倍有可能相等吗？如果相等，这个数是几？你是怎样求出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4495680" cy="1323720"/>
            <a:chOff x="0" y="0"/>
            <a:chExt cx="4495680" cy="1323720"/>
          </a:xfrm>
        </p:grpSpPr>
        <p:grpSp>
          <p:nvGrpSpPr>
            <p:cNvPr id="190" name=""/>
            <p:cNvGrpSpPr/>
            <p:nvPr/>
          </p:nvGrpSpPr>
          <p:grpSpPr>
            <a:xfrm>
              <a:off x="0" y="0"/>
              <a:ext cx="4419720" cy="1323720"/>
              <a:chOff x="0" y="0"/>
              <a:chExt cx="4419720" cy="13237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0"/>
                <a:ext cx="4318200" cy="1323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680" y="10080"/>
                <a:ext cx="437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3124080" y="2286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1295280" y="4572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52280" y="349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心动     不如行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391520" y="2057400"/>
                <a:ext cx="1052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小亮是这样想的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1981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亮都设这个数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根据题意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76920" y="1981080"/>
            <a:ext cx="4114800" cy="4951080"/>
            <a:chOff x="4876920" y="1981080"/>
            <a:chExt cx="4114800" cy="4951080"/>
          </a:xfrm>
        </p:grpSpPr>
        <p:grpSp>
          <p:nvGrpSpPr>
            <p:cNvPr id="199" name=""/>
            <p:cNvGrpSpPr/>
            <p:nvPr/>
          </p:nvGrpSpPr>
          <p:grpSpPr>
            <a:xfrm>
              <a:off x="4876920" y="1981080"/>
              <a:ext cx="4114800" cy="4951080"/>
              <a:chOff x="4876920" y="1981080"/>
              <a:chExt cx="4114800" cy="4951080"/>
            </a:xfrm>
          </p:grpSpPr>
          <p:sp>
            <p:nvSpPr>
              <p:cNvPr id="200" name=""/>
              <p:cNvSpPr/>
              <p:nvPr/>
            </p:nvSpPr>
            <p:spPr>
              <a:xfrm>
                <a:off x="4877640" y="1981080"/>
                <a:ext cx="4065120" cy="49510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76920" y="3256920"/>
                <a:ext cx="41148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078600" y="4038480"/>
                  <a:ext cx="177012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∵</m:t>
                          </m:r>
                          <m:r>
                            <m:t xml:space="preserve">0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5726160" y="5333760"/>
                  <a:ext cx="26560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64160" y="2639880"/>
                  <a:ext cx="2589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那么</m:t>
                          </m:r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或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或a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408640" y="3124080"/>
                  <a:ext cx="32022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反过来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如果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6096240" y="3581280"/>
              <a:ext cx="17348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5897520" y="4494240"/>
              <a:ext cx="243684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5943600" y="4876560"/>
              <a:ext cx="1949400" cy="4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5791320" y="586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小亮做得对吗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57200" y="2057400"/>
            <a:ext cx="4343400" cy="4951080"/>
            <a:chOff x="457200" y="2057400"/>
            <a:chExt cx="4343400" cy="4951080"/>
          </a:xfrm>
        </p:grpSpPr>
        <p:grpSp>
          <p:nvGrpSpPr>
            <p:cNvPr id="211" name=""/>
            <p:cNvGrpSpPr/>
            <p:nvPr/>
          </p:nvGrpSpPr>
          <p:grpSpPr>
            <a:xfrm>
              <a:off x="457200" y="2057400"/>
              <a:ext cx="4114800" cy="4951080"/>
              <a:chOff x="457200" y="2057400"/>
              <a:chExt cx="4114800" cy="4951080"/>
            </a:xfrm>
          </p:grpSpPr>
          <p:sp>
            <p:nvSpPr>
              <p:cNvPr id="212" name=""/>
              <p:cNvSpPr/>
              <p:nvPr/>
            </p:nvSpPr>
            <p:spPr>
              <a:xfrm>
                <a:off x="457920" y="2057400"/>
                <a:ext cx="4065120" cy="49510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7200" y="3333240"/>
                <a:ext cx="41148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4" name="" descr=""/>
            <p:cNvPicPr/>
            <p:nvPr/>
          </p:nvPicPr>
          <p:blipFill>
            <a:blip r:embed="rId9"/>
            <a:stretch/>
          </p:blipFill>
          <p:spPr>
            <a:xfrm>
              <a:off x="496800" y="5410080"/>
              <a:ext cx="4303800" cy="917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144440" y="2716200"/>
                  <a:ext cx="24368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解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957240" y="3098880"/>
                  <a:ext cx="32608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或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60440" y="4416480"/>
                  <a:ext cx="260208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049400" y="3960720"/>
                  <a:ext cx="314172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14800" y="2286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分解因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21932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一元二次方程的一边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0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另一边易于分解成两个一次因式的乘积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就可以用分解因式的方法求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种用分解因式解一元二次方程的方法称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解因式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0" y="0"/>
            <a:ext cx="4495680" cy="1323720"/>
            <a:chOff x="0" y="0"/>
            <a:chExt cx="4495680" cy="1323720"/>
          </a:xfrm>
        </p:grpSpPr>
        <p:grpSp>
          <p:nvGrpSpPr>
            <p:cNvPr id="223" name=""/>
            <p:cNvGrpSpPr/>
            <p:nvPr/>
          </p:nvGrpSpPr>
          <p:grpSpPr>
            <a:xfrm>
              <a:off x="0" y="0"/>
              <a:ext cx="4419720" cy="1323720"/>
              <a:chOff x="0" y="0"/>
              <a:chExt cx="4419720" cy="132372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0"/>
                <a:ext cx="4318200" cy="1323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680" y="10080"/>
                <a:ext cx="437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3124080" y="2286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1295280" y="4572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52280" y="349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我思      我进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57200" y="3505320"/>
            <a:ext cx="8534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老师提示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分解因式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程左边易于分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右边等于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关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熟练掌握因式分解的知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理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依旧是“如果两个因式的积等于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那么至少有一个因式等于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395280" y="404640"/>
            <a:ext cx="2819520" cy="1297440"/>
            <a:chOff x="395280" y="404640"/>
            <a:chExt cx="2819520" cy="1297440"/>
          </a:xfrm>
        </p:grpSpPr>
        <p:grpSp>
          <p:nvGrpSpPr>
            <p:cNvPr id="231" name=""/>
            <p:cNvGrpSpPr/>
            <p:nvPr/>
          </p:nvGrpSpPr>
          <p:grpSpPr>
            <a:xfrm>
              <a:off x="395280" y="404640"/>
              <a:ext cx="2666880" cy="929880"/>
              <a:chOff x="395280" y="404640"/>
              <a:chExt cx="2666880" cy="929880"/>
            </a:xfrm>
          </p:grpSpPr>
          <p:sp>
            <p:nvSpPr>
              <p:cNvPr id="232" name=""/>
              <p:cNvSpPr/>
              <p:nvPr/>
            </p:nvSpPr>
            <p:spPr>
              <a:xfrm>
                <a:off x="395280" y="50652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5160" y="404640"/>
                <a:ext cx="26370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1461960" y="633240"/>
              <a:ext cx="628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71600" y="63324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自学       指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5280" y="1627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自学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39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两个例题，注意方程各自  的特点，自学后比一比谁能灵活运用分解因法解相关方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思考“归纳”中提出的问题，灵活运用合适方法解一元二次方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14800" y="2286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分解因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21932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分解因式法解方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(1)5x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4x;(2)x-2=x(x-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0880 w 598680"/>
              <a:gd name="textAreaRight" fmla="*/ 577800 w 598680"/>
              <a:gd name="textAreaTop" fmla="*/ 20880 h 336600"/>
              <a:gd name="textAreaBottom" fmla="*/ 31572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50" y="1350"/>
                </a:lnTo>
                <a:lnTo>
                  <a:pt x="1350" y="135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50" y="20250"/>
                </a:lnTo>
                <a:lnTo>
                  <a:pt x="37050" y="135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050" y="2025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400" h="21600">
                <a:moveTo>
                  <a:pt x="22718" y="10800"/>
                </a:moveTo>
                <a:lnTo>
                  <a:pt x="12156" y="17844"/>
                </a:lnTo>
                <a:lnTo>
                  <a:pt x="12156" y="3756"/>
                </a:lnTo>
                <a:close/>
              </a:path>
              <a:path fill="darken" w="38400" h="21600">
                <a:moveTo>
                  <a:pt x="24573" y="3756"/>
                </a:moveTo>
                <a:lnTo>
                  <a:pt x="24573" y="17844"/>
                </a:lnTo>
                <a:lnTo>
                  <a:pt x="26244" y="17844"/>
                </a:lnTo>
                <a:lnTo>
                  <a:pt x="26244" y="375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0" y="1893960"/>
                <a:ext cx="30909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3040" y="2819520"/>
                <a:ext cx="2616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429000" y="1981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解因式法解一元二次方程的步骤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971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方程左边因式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342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“至少有一个因式为零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化为两个一元一次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2670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解两个一元一次方程，它们的根就是原方程的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5146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方程为一般形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82800" y="2362320"/>
                <a:ext cx="1695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53920" y="3200400"/>
                <a:ext cx="2027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-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0" y="0"/>
            <a:ext cx="4343400" cy="838080"/>
            <a:chOff x="0" y="0"/>
            <a:chExt cx="4343400" cy="838080"/>
          </a:xfrm>
        </p:grpSpPr>
        <p:grpSp>
          <p:nvGrpSpPr>
            <p:cNvPr id="252" name=""/>
            <p:cNvGrpSpPr/>
            <p:nvPr/>
          </p:nvGrpSpPr>
          <p:grpSpPr>
            <a:xfrm>
              <a:off x="0" y="0"/>
              <a:ext cx="3504960" cy="781200"/>
              <a:chOff x="0" y="0"/>
              <a:chExt cx="3504960" cy="7812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99800"/>
                <a:ext cx="3504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例题欣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06120" y="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5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0" y="30492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3581280" y="112680"/>
              <a:ext cx="762120" cy="6652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4113360"/>
                <a:ext cx="35082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或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-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08040" y="5027760"/>
                <a:ext cx="3430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66880" y="4570560"/>
                <a:ext cx="2079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x-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81000" y="5560920"/>
                <a:ext cx="1925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或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优思数学www.yousee123.com收集整理</dc:creator>
  <dc:description>优思数学www.yousee123.com收集整理</dc:description>
  <dc:language>en-US</dc:language>
  <cp:lastModifiedBy>USER</cp:lastModifiedBy>
  <dcterms:modified xsi:type="dcterms:W3CDTF">2014-03-09T09:57:04Z</dcterms:modified>
  <cp:revision>325</cp:revision>
  <dc:subject/>
  <dc:title>第22章  一元二次方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