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jpeg" ContentType="image/jpeg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3DBA-BC11-48B2-B49E-D5B9B41A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C215-E480-440C-8251-28CE9264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BD4-FE15-4BD3-BDE1-1548CA68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1BF9-8B1B-43C3-846D-16439341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768D-3050-4538-9657-D5DAC1EE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12E8-13DB-4415-BE84-E986F76D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D086-AFD7-43AD-9A8D-1F81C6ED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582C-1F43-42ED-8BBF-D426BEF0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035-0BA4-437B-9437-A75D02BB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0308-3BDB-4805-A61C-FD102BC3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E6A1-5805-48B8-86A8-44509EB1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BFFB-F880-47B9-9547-5317276E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FD86-AD2A-4CC1-93B9-5406292992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447920"/>
            <a:ext cx="7467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一元二次方程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43000" y="199476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下列哪些数是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486400" y="1806480"/>
          <a:ext cx="2971800" cy="70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1806480"/>
                    <a:ext cx="297180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689040" y="2590560"/>
            <a:ext cx="776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根？从中你能体会根的作用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9907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02360" y="3733200"/>
            <a:ext cx="78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若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方程                                   的一个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343400" y="3581280"/>
          <a:ext cx="2971800" cy="60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3581280"/>
                    <a:ext cx="29718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85800" y="44031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，你能求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539388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根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的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可以使等号成立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9880" y="9907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144684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2514600"/>
          <a:ext cx="2057400" cy="59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2514600"/>
                    <a:ext cx="205740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209680" y="3048120"/>
          <a:ext cx="1828800" cy="52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3048120"/>
                    <a:ext cx="18288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105520" y="3962520"/>
          <a:ext cx="2743200" cy="501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05520" y="3962520"/>
                    <a:ext cx="27432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019160" y="2207880"/>
            <a:ext cx="81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能根据所学过的知识解出下列方程的解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88840" y="3961800"/>
            <a:ext cx="7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有人解这样一个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4533480"/>
            <a:ext cx="8610480" cy="14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：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5=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或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=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所以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你的看法如何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9880" y="9907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2514240"/>
            <a:ext cx="533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节课你学到了什么知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中得到什么启发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3080" y="182808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小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213372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题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于下列问题，你能设出未知数，列出相应的方程吗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11430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9880" y="9907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54880" y="2133720"/>
            <a:ext cx="703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，有一块矩形铁皮，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它的四个角分别切去一个正方形，然后将四周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部分折起，就能制作一个无盖方盒．如果要制作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无盖方盒的底面积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600 cm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那么铁皮各角应切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多大的正方形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课件：制作盒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65480" y="169056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4572000"/>
            <a:ext cx="38102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9880" y="9907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5840" y="2209680"/>
            <a:ext cx="667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要组织一次排球邀请赛，参赛的每两个队之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都要比赛一场．根据场地和时间等条件，赛程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安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天，每天安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场比赛，比赛组织者应该邀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多少个队参赛？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课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探索比赛场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89160" y="167652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95480" y="4038480"/>
            <a:ext cx="32767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9880" y="9907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1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观察下列方程，你能通过观察得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它们的共同特点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52480" y="2666880"/>
          <a:ext cx="5410440" cy="359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2666880"/>
                    <a:ext cx="5410440" cy="35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9880" y="9907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81040" y="1752120"/>
            <a:ext cx="55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观察下列方程，你能通过观察得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它们的共同特点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8160" y="3200040"/>
            <a:ext cx="418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等号两边都是整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整式的最高次数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9880" y="7621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14475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观察下列方程，你能通过观察得到它们的共同特点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04360" y="2298960"/>
            <a:ext cx="5008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归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方程的等号两边都是整式，只含有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未知数，且未知数的最高次数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方程叫作一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次方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一般地，任何一个关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一元二次方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经过整理，都能化成如下形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828800" y="4781520"/>
          <a:ext cx="5181480" cy="85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4781520"/>
                    <a:ext cx="51814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810160" y="571464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</a:t>
            </a:r>
            <a:r>
              <a:rPr b="1" lang="zh-CN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这种形式叫作一元二次方程的一般形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其中</a:t>
            </a:r>
            <a:r>
              <a:rPr b="1" i="1" lang="zh-CN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x</a:t>
            </a:r>
            <a:r>
              <a:rPr b="1" lang="zh-CN" sz="18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zh-CN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是二次项，</a:t>
            </a:r>
            <a:r>
              <a:rPr b="1" i="1" lang="zh-CN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zh-CN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是二次项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数；</a:t>
            </a:r>
            <a:r>
              <a:rPr b="1" i="1" lang="zh-CN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zh-CN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x</a:t>
            </a:r>
            <a:r>
              <a:rPr b="1" lang="zh-CN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是一次项，</a:t>
            </a:r>
            <a:r>
              <a:rPr b="1" i="1" lang="zh-CN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lang="zh-CN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是一次项系数；</a:t>
            </a:r>
            <a:r>
              <a:rPr b="1" i="1" lang="zh-CN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1" lang="zh-CN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是常数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209680" y="3048120"/>
          <a:ext cx="4114800" cy="69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3048120"/>
                    <a:ext cx="41148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9880" y="9907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17208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将下列方程化为一元二次方程的一般形式，并指出各项系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809880" y="4343400"/>
          <a:ext cx="3353040" cy="646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4343400"/>
                    <a:ext cx="335304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622240" y="4419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般形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50446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次项系数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一次项系数是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常数项是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9880" y="9907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1600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猜测下列方程的根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209680" y="2590920"/>
          <a:ext cx="4191120" cy="91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2590920"/>
                    <a:ext cx="4191120" cy="91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4219200" y="4060800"/>
            <a:ext cx="132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方程的根：使一元二次方程等号两边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的未知数的取值叫作一元二次方程的解（又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做根）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hd</cp:lastModifiedBy>
  <dcterms:modified xsi:type="dcterms:W3CDTF">2007-05-28T00:55:26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