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973-3280-4069-BBD0-2B8A4AB9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39E-8C28-467A-98B3-2490A9BF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BA6-4C68-4FAC-A462-0190AF93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3B0-E9C2-4C3E-BA95-0C7397A9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34B-4837-48F0-8C40-F59BE8EB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AC6-2838-4636-B8C2-FA458B8B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EC7-F520-404D-AD41-6D3F0FD6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FED-214C-4452-955C-CDE00580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233-2858-4C6B-89FE-278CF6B8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FEA-01E0-4DFB-90D9-7CA1F9BC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4CB-1579-4FAA-BEAC-B67CE08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345-AB75-4157-84FD-95B3AA18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9609-7D4A-4C55-BD85-801497008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905120"/>
            <a:ext cx="6705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二次根式的加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要焊接一个如图所示的钢架，大约需要多少米钢材（精确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0.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0" y="2971800"/>
            <a:ext cx="4191120" cy="2440800"/>
            <a:chOff x="2286000" y="2971800"/>
            <a:chExt cx="4191120" cy="2440800"/>
          </a:xfrm>
        </p:grpSpPr>
        <p:sp>
          <p:nvSpPr>
            <p:cNvPr id="109" name=""/>
            <p:cNvSpPr/>
            <p:nvPr/>
          </p:nvSpPr>
          <p:spPr>
            <a:xfrm>
              <a:off x="5105520" y="3504960"/>
              <a:ext cx="914400" cy="13716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743200" y="487656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743200" y="3504960"/>
              <a:ext cx="2362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05520" y="4419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528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4876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4876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4876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43200" y="5029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81280" y="4800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38680" y="5029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4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105520" y="5029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4038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350496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21337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节课你学到了什么知识？你有什么认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2666880"/>
            <a:ext cx="7619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教科书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1.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295280"/>
            <a:ext cx="82296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现有一块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5 d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d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木板，能否采用如图的方式，在这块木板上截出两个分别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d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8 d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正方形木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3352680"/>
            <a:ext cx="4114800" cy="3360600"/>
            <a:chOff x="4114800" y="3352680"/>
            <a:chExt cx="4114800" cy="3360600"/>
          </a:xfrm>
        </p:grpSpPr>
        <p:sp>
          <p:nvSpPr>
            <p:cNvPr id="44" name=""/>
            <p:cNvSpPr/>
            <p:nvPr/>
          </p:nvSpPr>
          <p:spPr>
            <a:xfrm>
              <a:off x="4800600" y="3885840"/>
              <a:ext cx="342900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77120" y="4419360"/>
              <a:ext cx="1752480" cy="1752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57800" y="4952880"/>
              <a:ext cx="1219320" cy="12189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800600" y="342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229600" y="342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86600" y="3581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19920" y="3352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.5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800240" y="3581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4343400" y="3885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343400" y="6171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0" y="5105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72000" y="3885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14800" y="4647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6793200" y="4254120"/>
                  <a:ext cx="119196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5426280" y="4757400"/>
                  <a:ext cx="95256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8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859720" y="6198840"/>
                  <a:ext cx="189864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8</m:t>
                              </m:r>
                            </m:e>
                          </m:rad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rad>
                        </m:e>
                      </m:d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0" name=""/>
          <p:cNvGraphicFramePr/>
          <p:nvPr/>
        </p:nvGraphicFramePr>
        <p:xfrm>
          <a:off x="914400" y="5334120"/>
          <a:ext cx="2125800" cy="5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334120"/>
                    <a:ext cx="21258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4648320"/>
          <a:ext cx="3657600" cy="47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4648320"/>
                    <a:ext cx="36576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1600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思考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95280" y="2590920"/>
            <a:ext cx="5673600" cy="583560"/>
            <a:chOff x="1295280" y="2590920"/>
            <a:chExt cx="5673600" cy="583560"/>
          </a:xfrm>
        </p:grpSpPr>
        <p:graphicFrame>
          <p:nvGraphicFramePr>
            <p:cNvPr id="66" name=""/>
            <p:cNvGraphicFramePr/>
            <p:nvPr/>
          </p:nvGraphicFramePr>
          <p:xfrm>
            <a:off x="2247840" y="2604600"/>
            <a:ext cx="4721040" cy="569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47840" y="2604600"/>
                      <a:ext cx="472104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1295280" y="25909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429000"/>
            <a:ext cx="6172200" cy="592200"/>
            <a:chOff x="1295280" y="3429000"/>
            <a:chExt cx="6172200" cy="592200"/>
          </a:xfrm>
        </p:grpSpPr>
        <p:sp>
          <p:nvSpPr>
            <p:cNvPr id="70" name=""/>
            <p:cNvSpPr/>
            <p:nvPr/>
          </p:nvSpPr>
          <p:spPr>
            <a:xfrm>
              <a:off x="1295280" y="34398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0" y="3429000"/>
              <a:ext cx="51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请把它们化为最简二次根式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" name=""/>
          <p:cNvGraphicFramePr/>
          <p:nvPr/>
        </p:nvGraphicFramePr>
        <p:xfrm>
          <a:off x="2351160" y="4038480"/>
          <a:ext cx="3897360" cy="60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51160" y="4038480"/>
                    <a:ext cx="389736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1295280" y="4876920"/>
            <a:ext cx="4792680" cy="581400"/>
            <a:chOff x="1295280" y="4876920"/>
            <a:chExt cx="4792680" cy="581400"/>
          </a:xfrm>
        </p:grpSpPr>
        <p:sp>
          <p:nvSpPr>
            <p:cNvPr id="75" name=""/>
            <p:cNvSpPr/>
            <p:nvPr/>
          </p:nvSpPr>
          <p:spPr>
            <a:xfrm>
              <a:off x="1295280" y="48769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49360" y="48769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请你回答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4190760" y="4884840"/>
            <a:ext cx="1897200" cy="525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90760" y="4884840"/>
                      <a:ext cx="1897200" cy="52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82800" y="2819520"/>
                <a:ext cx="13795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882800" y="3360600"/>
                <a:ext cx="1979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82800" y="3936960"/>
                <a:ext cx="1763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882800" y="4513320"/>
                <a:ext cx="971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18080" y="33606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（化成最简二次根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90800" y="40086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（分配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46200" y="5087880"/>
                <a:ext cx="30258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&lt;</m:t>
                        </m:r>
                        <m:r>
                          <m:t xml:space="preserve">5</m:t>
                        </m:r>
                      </m:e>
                      <m:e>
                        <m:sSub>
                          <m:e/>
                          <m:sub/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&lt;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464920" y="6080040"/>
            <a:ext cx="55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这块木板上可以截出两个分别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 dm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8 dm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正方形木板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有一块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5 d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d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木板，能否采用如图的方式，在这块木板上截出两个分别是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 dm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 dm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正方形木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2057400"/>
            <a:ext cx="75182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二次根式的加减的一般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次根式加减时，可以先将二次根式化成最简二次根式，再将被开方数相同的二次根式进行合并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17524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371600" y="2635200"/>
          <a:ext cx="3124080" cy="23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635200"/>
                    <a:ext cx="31240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9880" y="12193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2590920"/>
          <a:ext cx="201780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201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62120" y="5181480"/>
          <a:ext cx="3672000" cy="114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2120" y="5181480"/>
                    <a:ext cx="367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5238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5736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列计算正确的是（    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267080" y="5257800"/>
          <a:ext cx="2667240" cy="124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257800"/>
                    <a:ext cx="26672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7524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2590920"/>
          <a:ext cx="504036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590920"/>
                    <a:ext cx="504036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981080" y="2133720"/>
          <a:ext cx="5867640" cy="40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33720"/>
                    <a:ext cx="586764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809880" y="1325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yx</cp:lastModifiedBy>
  <dcterms:modified xsi:type="dcterms:W3CDTF">2007-06-27T01:29:0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