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252B-46DF-4844-8A8B-C851C016B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5D3B-B1B3-4ABF-9E7E-C28E1C18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0792-0171-4911-B4EA-B263B5B39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C0C8-0120-4C68-B43A-EC203807F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A59D-900A-4287-8F8E-428B1749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7385-8C11-4E78-9A7C-DC4D21A1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AF79-823B-4FC5-9207-651AA119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4B96-7242-40C3-B10F-4FF50309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B3B8-E5FF-469E-B9D0-E51BFA1D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1730-E383-4F78-A56E-BEBECD30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58B1-5DBA-4892-97B2-B425360C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C17B-B911-4173-8272-32C4A54F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CEEB-F2D9-4B14-95CB-287B506649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90512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二次根式的乘除（第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课时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531800" y="1828800"/>
                <a:ext cx="180684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解法</m:t>
                        </m:r>
                        <m:r>
                          <m:t xml:space="preserve">1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389400" y="2286000"/>
                <a:ext cx="100800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×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r>
                              <m:t xml:space="preserve">5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468680" y="2286000"/>
                <a:ext cx="23767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rad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530360" y="3222720"/>
                <a:ext cx="251928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法</m:t>
                    </m:r>
                    <m:r>
                      <m:t xml:space="preserve">2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960720" y="3295800"/>
                <a:ext cx="79236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rad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938160" y="4343400"/>
                <a:ext cx="381636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f>
                      <m:num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950760" y="5562720"/>
                <a:ext cx="410400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</m:e>
                        </m:rad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e>
                        </m:rad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1143000" y="17524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936720" y="2503440"/>
                <a:ext cx="3808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3520" y="2133720"/>
            <a:ext cx="8229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二次根式的运算中， 最后结果一般要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母中不含有二次根式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最后结果中的二次根式要求写成最简的二次根式的形式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33520" y="2133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把下列各式化简：                ；                   ；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048120" y="1901880"/>
                <a:ext cx="13348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（</m:t>
                    </m:r>
                    <m:r>
                      <m:t xml:space="preserve">1</m:t>
                    </m:r>
                    <m:r>
                      <m:t xml:space="preserve">）</m:t>
                    </m:r>
                    <m:f>
                      <m:num>
                        <m:r>
                          <m:t xml:space="preserve">－</m:t>
                        </m:r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983120" y="1952640"/>
                <a:ext cx="134136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（</m:t>
                    </m:r>
                    <m:r>
                      <m:t xml:space="preserve">2</m:t>
                    </m:r>
                    <m:r>
                      <m:t xml:space="preserve">）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a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  <m:r>
                              <m:t xml:space="preserve">＋</m:t>
                            </m:r>
                            <m:r>
                              <m:t xml:space="preserve">b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6954840" y="1901880"/>
                <a:ext cx="119844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（</m:t>
                    </m:r>
                    <m:r>
                      <m:t xml:space="preserve">3</m:t>
                    </m:r>
                    <m:r>
                      <m:t xml:space="preserve">）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093680" y="2874960"/>
                <a:ext cx="130032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（</m:t>
                    </m:r>
                    <m:r>
                      <m:t xml:space="preserve">1</m:t>
                    </m:r>
                    <m:r>
                      <m:t xml:space="preserve">）</m:t>
                    </m:r>
                    <m:f>
                      <m:num>
                        <m:r>
                          <m:t xml:space="preserve">－</m:t>
                        </m:r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103400" y="3917880"/>
                <a:ext cx="15811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（</m:t>
                    </m:r>
                    <m:r>
                      <m:t xml:space="preserve">2</m:t>
                    </m:r>
                    <m:r>
                      <m:t xml:space="preserve">）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a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  <m:r>
                              <m:t xml:space="preserve">＋</m:t>
                            </m:r>
                            <m:r>
                              <m:t xml:space="preserve">b</m:t>
                            </m:r>
                          </m:e>
                        </m:rad>
                      </m:den>
                    </m:f>
                    <m:r>
                      <m:t xml:space="preserve">＝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065240" y="4836960"/>
                <a:ext cx="149688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（</m:t>
                    </m:r>
                    <m:r>
                      <m:t xml:space="preserve">3</m:t>
                    </m:r>
                    <m:r>
                      <m:t xml:space="preserve">）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e>
                        </m:rad>
                      </m:den>
                    </m:f>
                    <m:r>
                      <m:t xml:space="preserve">＝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515520" y="3112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5943600"/>
            <a:ext cx="8458200" cy="4597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_GB2312"/>
              </a:rPr>
              <a:t>注意：要进行根式化简，关键是要搞清楚分式的分子和分母都乘什么，有时还要先对分母进行化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535120" y="2873520"/>
                <a:ext cx="180684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＝</m:t>
                    </m:r>
                    <m:f>
                      <m:num>
                        <m:r>
                          <m:t xml:space="preserve">－</m:t>
                        </m:r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419720" y="2862360"/>
                <a:ext cx="147780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＝</m:t>
                    </m:r>
                    <m:f>
                      <m:num>
                        <m:r>
                          <m:t xml:space="preserve">－</m:t>
                        </m:r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；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828880" y="3879720"/>
                <a:ext cx="182736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  <m:r>
                              <m:t xml:space="preserve">＋</m:t>
                            </m:r>
                            <m:r>
                              <m:t xml:space="preserve">b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  <m:r>
                              <m:t xml:space="preserve">＋</m:t>
                            </m:r>
                            <m:r>
                              <m:t xml:space="preserve">b</m:t>
                            </m:r>
                          </m:e>
                        </m:rad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  <m:r>
                              <m:t xml:space="preserve">＋</m:t>
                            </m:r>
                            <m:r>
                              <m:t xml:space="preserve">b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754520" y="3828960"/>
                <a:ext cx="15778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＝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  <m:r>
                              <m:t xml:space="preserve">＋</m:t>
                            </m:r>
                            <m:r>
                              <m:t xml:space="preserve">b</m:t>
                            </m:r>
                          </m:e>
                        </m:rad>
                      </m:num>
                      <m:den>
                        <m:r>
                          <m:t xml:space="preserve">a</m:t>
                        </m:r>
                        <m:r>
                          <m:t xml:space="preserve">＋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676600" y="4889520"/>
                <a:ext cx="112536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898800" y="4908600"/>
                <a:ext cx="170676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＝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num>
                      <m:den>
                        <m:r>
                          <m:t xml:space="preserve">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664240" y="4897440"/>
                <a:ext cx="9810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＝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708600" y="4951440"/>
                <a:ext cx="162900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＝</m:t>
                    </m:r>
                    <m:f>
                      <m:num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＝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3581280" y="12193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练     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55600" y="1981080"/>
            <a:ext cx="806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利用商的算术平方根的性质化简二次根式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75000" y="1066680"/>
            <a:ext cx="409248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课堂小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581280" y="3429000"/>
                <a:ext cx="297180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rad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，</m:t>
                    </m:r>
                    <m:r>
                      <m:t xml:space="preserve">b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304920" y="5257800"/>
            <a:ext cx="8610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在进行分母有理化之前，可以先把能化简的二次根式化简，再考虑如何化去分母中的根号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2743200"/>
            <a:ext cx="712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二次根式的除法有两种常用方法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3505320"/>
            <a:ext cx="6858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）利用公式：                  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4267080"/>
            <a:ext cx="925200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）把除法先写成分式的形式，再化简为最简二次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根式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58880" y="1866960"/>
            <a:ext cx="71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在括号中填写适当的数或式子使等式成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3960" y="3927600"/>
            <a:ext cx="75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化简下列二次根式，使得分母中不含有根号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090440" y="4432320"/>
                <a:ext cx="128304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（</m:t>
                    </m:r>
                    <m:r>
                      <m:t xml:space="preserve">1</m:t>
                    </m:r>
                    <m:r>
                      <m:t xml:space="preserve">）</m:t>
                    </m:r>
                    <m:f>
                      <m:num>
                        <m:r>
                          <m:t xml:space="preserve">－</m:t>
                        </m:r>
                        <m:r>
                          <m:t xml:space="preserve">8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982960" y="4432320"/>
                <a:ext cx="11700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（</m:t>
                    </m:r>
                    <m:r>
                      <m:t xml:space="preserve">2</m:t>
                    </m:r>
                    <m:r>
                      <m:t xml:space="preserve">）</m:t>
                    </m:r>
                    <m:f>
                      <m:num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879800" y="4390920"/>
                <a:ext cx="11941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（</m:t>
                    </m:r>
                    <m:r>
                      <m:t xml:space="preserve">3</m:t>
                    </m:r>
                    <m:r>
                      <m:t xml:space="preserve">）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a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a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654960" y="4406760"/>
                <a:ext cx="12445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（</m:t>
                    </m:r>
                    <m:r>
                      <m:t xml:space="preserve">4</m:t>
                    </m:r>
                    <m:r>
                      <m:t xml:space="preserve">）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804960" y="55198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181160" y="6127920"/>
                <a:ext cx="203688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（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）－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e>
                    </m:rad>
                    <m:r>
                      <m:t xml:space="preserve">÷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600440" y="5880240"/>
                <a:ext cx="31435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9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</m:den>
                        </m:f>
                      </m:e>
                    </m:rad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（－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  <m:r>
                      <m:t xml:space="preserve">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867280" y="2971800"/>
                <a:ext cx="227988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（</m:t>
                    </m:r>
                    <m:r>
                      <m:t xml:space="preserve">4</m:t>
                    </m:r>
                    <m:r>
                      <m:t xml:space="preserve">）</m:t>
                    </m:r>
                    <m:f>
                      <m:num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/>
                                <m:e/>
                              </m:mr>
                            </m:m>
                          </m:e>
                        </m:d>
                      </m:den>
                    </m:f>
                    <m:r>
                      <m:t xml:space="preserve">＝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35" name=""/>
          <p:cNvGrpSpPr/>
          <p:nvPr/>
        </p:nvGrpSpPr>
        <p:grpSpPr>
          <a:xfrm>
            <a:off x="1023840" y="3151080"/>
            <a:ext cx="5028840" cy="563400"/>
            <a:chOff x="1023840" y="3151080"/>
            <a:chExt cx="5028840" cy="563400"/>
          </a:xfrm>
        </p:grpSpPr>
        <mc:AlternateContent>
          <mc:Choice xmlns:a14="http://schemas.microsoft.com/office/drawing/2010/main" Requires="a14">
            <p:sp>
              <p:nvSpPr>
                <p:cNvPr id="136" name=""/>
                <p:cNvSpPr txBox="1"/>
                <p:nvPr/>
              </p:nvSpPr>
              <p:spPr>
                <a:xfrm>
                  <a:off x="1023840" y="3151080"/>
                  <a:ext cx="1827360" cy="51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（</m:t>
                      </m:r>
                      <m:r>
                        <m:t xml:space="preserve">3</m:t>
                      </m:r>
                      <m:r>
                        <m:t xml:space="preserve">）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a</m:t>
                          </m:r>
                          <m:r>
                            <m:t xml:space="preserve">－</m:t>
                          </m:r>
                          <m:r>
                            <m:t xml:space="preserve">1</m:t>
                          </m:r>
                        </m:e>
                      </m:rad>
                      <m:r>
                        <m:t xml:space="preserve">⋅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7" name=""/>
            <p:cNvSpPr/>
            <p:nvPr/>
          </p:nvSpPr>
          <p:spPr>
            <a:xfrm>
              <a:off x="2700360" y="3193920"/>
              <a:ext cx="335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         ）＝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948200" y="2367000"/>
                <a:ext cx="134640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（</m:t>
                    </m:r>
                    <m:r>
                      <m:t xml:space="preserve">2</m:t>
                    </m:r>
                    <m:r>
                      <m:t xml:space="preserve">）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6129360" y="241128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）＝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990720" y="2378160"/>
            <a:ext cx="3971160" cy="560160"/>
            <a:chOff x="990720" y="2378160"/>
            <a:chExt cx="3971160" cy="560160"/>
          </a:xfrm>
        </p:grpSpPr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990720" y="2378160"/>
                  <a:ext cx="1184040" cy="56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（</m:t>
                      </m:r>
                      <m:r>
                        <m:t xml:space="preserve">1</m:t>
                      </m:r>
                      <m:r>
                        <m:t xml:space="preserve">）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8</m:t>
                          </m:r>
                        </m:e>
                      </m:rad>
                      <m:r>
                        <m:t xml:space="preserve">×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2" name=""/>
            <p:cNvSpPr/>
            <p:nvPr/>
          </p:nvSpPr>
          <p:spPr>
            <a:xfrm>
              <a:off x="2240640" y="2400120"/>
              <a:ext cx="272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Verdana"/>
                </a:rPr>
                <a:t>（    ）＝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3" name=""/>
          <p:cNvGraphicFramePr/>
          <p:nvPr/>
        </p:nvGraphicFramePr>
        <p:xfrm>
          <a:off x="2514600" y="2390760"/>
          <a:ext cx="576360" cy="51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2390760"/>
                    <a:ext cx="57636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3124080" y="3200400"/>
          <a:ext cx="881280" cy="479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4080" y="3200400"/>
                    <a:ext cx="88128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553080" y="2417760"/>
          <a:ext cx="478080" cy="477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553080" y="2417760"/>
                    <a:ext cx="47808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553080" y="3505320"/>
          <a:ext cx="478080" cy="477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553080" y="3505320"/>
                    <a:ext cx="47808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3124080" y="114300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堂知识反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14400" y="1676520"/>
            <a:ext cx="8001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如图，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Rt△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中，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=9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∠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30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°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2cm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求斜边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长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516760" y="3583080"/>
            <a:ext cx="2904480" cy="1632240"/>
            <a:chOff x="2516760" y="3583080"/>
            <a:chExt cx="2904480" cy="1632240"/>
          </a:xfrm>
        </p:grpSpPr>
        <p:sp>
          <p:nvSpPr>
            <p:cNvPr id="154" name=""/>
            <p:cNvSpPr/>
            <p:nvPr/>
          </p:nvSpPr>
          <p:spPr>
            <a:xfrm flipH="1">
              <a:off x="2959200" y="3924000"/>
              <a:ext cx="2134080" cy="1085760"/>
            </a:xfrm>
            <a:prstGeom prst="rtTriangl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16760" y="46947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04360" y="35830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04360" y="46947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276720" y="18288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作     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28195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科书习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1.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600200" y="16002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复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25146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次根式的乘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676520" y="3400560"/>
          <a:ext cx="4879800" cy="72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3400560"/>
                    <a:ext cx="487980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1650960" y="4375080"/>
          <a:ext cx="4902120" cy="695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50960" y="4375080"/>
                    <a:ext cx="490212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533520" y="56386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思考：二次根式的除法有没有类似的法则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702880" y="1676520"/>
            <a:ext cx="48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计算下列各式，观察计算结果，能发现什么规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208160" y="2286000"/>
                <a:ext cx="374328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/>
                          <m:sub/>
                        </m:sSub>
                        <m:sSub>
                          <m:e/>
                          <m:sub/>
                        </m:sSub>
                      </m:e>
                    </m:d>
                    <m:r>
                      <m:t xml:space="preserve">,</m:t>
                    </m:r>
                    <m:sSub>
                      <m:e/>
                      <m:sub/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/>
                          <m:sub/>
                        </m:sSub>
                        <m:sSub>
                          <m:e/>
                          <m:sub/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476440" y="2362320"/>
                <a:ext cx="28728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343400" y="2362320"/>
                <a:ext cx="28728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168560" y="3505320"/>
                <a:ext cx="390024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/>
                          <m:sub/>
                        </m:sSub>
                        <m:sSub>
                          <m:e/>
                          <m:sub/>
                        </m:sSub>
                      </m:e>
                    </m:d>
                    <m:r>
                      <m:t xml:space="preserve">,</m:t>
                    </m:r>
                    <m:sSub>
                      <m:e/>
                      <m:sub/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/>
                          <m:sub/>
                        </m:sSub>
                        <m:sSub>
                          <m:e/>
                          <m:sub/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552760" y="3505320"/>
                <a:ext cx="30780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470480" y="3505320"/>
                <a:ext cx="2793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5994360" y="2362320"/>
                <a:ext cx="14731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019920" y="3505320"/>
                <a:ext cx="14475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1143000" y="457200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你发现的规律填空，并用计算器进行验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273320" y="5195880"/>
                <a:ext cx="19270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bar>
                      <m:barPr>
                        <m:pos m:val="bot"/>
                      </m:barPr>
                      <m:e>
                        <m:m>
                          <m:mr>
                            <m:e/>
                            <m:e/>
                          </m:mr>
                        </m:m>
                      </m:e>
                    </m:ba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5181480" y="5181480"/>
                <a:ext cx="214812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  <m:bar>
                      <m:barPr>
                        <m:pos m:val="bot"/>
                      </m:barPr>
                      <m:e>
                        <m:m>
                          <m:mr>
                            <m:e/>
                            <m:e/>
                          </m:mr>
                        </m:m>
                      </m:e>
                    </m:ba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2209680" y="53341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222960" y="53020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33920" y="106668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探究活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600200" y="2482920"/>
                <a:ext cx="221940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191120" y="2787480"/>
                <a:ext cx="23763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2971800" y="14158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二次根式的除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90720" y="1828800"/>
            <a:ext cx="29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例１  计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066680" y="2536920"/>
                <a:ext cx="426240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sSup>
                      <m:e/>
                      <m:sup/>
                    </m:sSup>
                    <m:sSup>
                      <m:e/>
                      <m:sup/>
                    </m:sSup>
                    <m:sSup>
                      <m:e/>
                      <m:sup/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rad>
                    <m:r>
                      <m:t xml:space="preserve">÷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871560" y="3672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914400" y="4191120"/>
                <a:ext cx="286560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3962520" y="4413240"/>
                <a:ext cx="23367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914400" y="5465880"/>
                <a:ext cx="473076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rad>
                    <m:r>
                      <m:t xml:space="preserve">÷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÷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5791320" y="5649840"/>
                <a:ext cx="18936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758960" y="2612880"/>
                <a:ext cx="380376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752480" y="4419720"/>
                <a:ext cx="21528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rad>
                    <m:r>
                      <m:t xml:space="preserve">÷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4572000" y="4378320"/>
                <a:ext cx="26290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  <m:r>
                      <m:t xml:space="preserve">÷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3505320" y="1523880"/>
            <a:ext cx="24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练　　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447920" y="1808280"/>
                <a:ext cx="3095640" cy="13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457200" y="353376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商的算术平方根等于被除式的算术平方根除以除式的算术平方根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648320" y="2133720"/>
                <a:ext cx="3095640" cy="85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90720" y="1828800"/>
            <a:ext cx="29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例２　化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066680" y="2543040"/>
                <a:ext cx="334332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rad>
                    <m:sSup>
                      <m:e/>
                      <m:sup/>
                    </m:sSup>
                    <m:sSup>
                      <m:e/>
                      <m:sup/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9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600200" y="4191120"/>
                <a:ext cx="296532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685800" y="38098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600200" y="5410080"/>
                <a:ext cx="334152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9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rad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x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43000" y="190512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计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1557360"/>
            <a:ext cx="84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219320" y="2819520"/>
                <a:ext cx="417672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  <m:sSup>
                      <m:e/>
                      <m:sup/>
                    </m:sSup>
                    <m:sSup>
                      <m:e/>
                      <m:sup/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f>
                      <m:num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</m:rad>
                      </m:den>
                    </m:f>
                    <m:sSup>
                      <m:e/>
                      <m:sup/>
                    </m:sSup>
                    <m:sSup>
                      <m:e/>
                      <m:sup/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990720" y="426708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能用哪些方法去掉分母中的根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韩米娜</dc:creator>
  <dc:description/>
  <dc:language>en-US</dc:language>
  <cp:lastModifiedBy>lhd</cp:lastModifiedBy>
  <dcterms:modified xsi:type="dcterms:W3CDTF">2007-06-25T06:37:03Z</dcterms:modified>
  <cp:revision>9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