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B722-318C-44C2-A7BC-3438B21F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7C5E-1524-49B3-921C-C09E0F5D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41E3-C089-4C74-9192-12ACD979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0892-0AB5-4330-8C0E-86249BAF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91E8-0BC4-432F-A47B-0DB9542D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B5E3-6FDC-40FD-9761-C9F79405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7783-4CA8-4F37-85EA-7CBF1BDE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A12F-6E6F-4A87-8D80-321ED7FA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AA21-0AE6-4671-80EE-AACA1464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3E3F-213A-4CD8-909F-AC0DD1FD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5C6E-F884-478F-9D8F-23B8C4A9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1CEC-CD98-4FC2-85AB-4B0CEA98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D8BA-61C6-4E67-9AF2-D1C9D9597F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1905120"/>
            <a:ext cx="67053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二  次  根  式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第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课时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62120" y="20574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计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3276720"/>
            <a:ext cx="6934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743200" y="3124080"/>
          <a:ext cx="1219320" cy="73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3124080"/>
                    <a:ext cx="121932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793960" y="4402080"/>
          <a:ext cx="1017720" cy="654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93960" y="4402080"/>
                    <a:ext cx="101772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429000" y="1600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57200" y="2514600"/>
            <a:ext cx="7391520" cy="3886200"/>
            <a:chOff x="457200" y="2514600"/>
            <a:chExt cx="7391520" cy="3886200"/>
          </a:xfrm>
        </p:grpSpPr>
        <p:sp>
          <p:nvSpPr>
            <p:cNvPr id="97" name=""/>
            <p:cNvSpPr/>
            <p:nvPr/>
          </p:nvSpPr>
          <p:spPr>
            <a:xfrm>
              <a:off x="457200" y="2514600"/>
              <a:ext cx="7391520" cy="37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１）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填空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２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）思考：当</a:t>
              </a:r>
              <a:r>
                <a:rPr b="0" i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zh-CN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≥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时，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=  </a:t>
              </a:r>
              <a:r>
                <a:rPr b="0" lang="zh-CN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３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）         和        相等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" name=""/>
            <p:cNvGraphicFramePr/>
            <p:nvPr/>
          </p:nvGraphicFramePr>
          <p:xfrm>
            <a:off x="1371600" y="3081240"/>
            <a:ext cx="3352680" cy="1490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71600" y="3081240"/>
                      <a:ext cx="3352680" cy="149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4038480" y="4648320"/>
            <a:ext cx="571680" cy="476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038480" y="4648320"/>
                      <a:ext cx="57168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" name=""/>
            <p:cNvGraphicFramePr/>
            <p:nvPr/>
          </p:nvGraphicFramePr>
          <p:xfrm>
            <a:off x="1523880" y="5638680"/>
            <a:ext cx="652680" cy="762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523880" y="5638680"/>
                      <a:ext cx="65268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2560680" y="5688000"/>
            <a:ext cx="588960" cy="6364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560680" y="5688000"/>
                      <a:ext cx="588960" cy="63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71600" y="23623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结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981080" y="3276720"/>
          <a:ext cx="1981440" cy="92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3276720"/>
                    <a:ext cx="1981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3809880" y="351144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zh-CN" sz="36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1905120"/>
            <a:ext cx="3581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化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86000" y="3352680"/>
          <a:ext cx="717480" cy="56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3352680"/>
                    <a:ext cx="7174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286000" y="4648320"/>
          <a:ext cx="1143000" cy="761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0" y="4648320"/>
                    <a:ext cx="1143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600200" y="1981080"/>
          <a:ext cx="5410080" cy="343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981080"/>
                    <a:ext cx="5410080" cy="34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化简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447920" y="2743200"/>
          <a:ext cx="3124080" cy="31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743200"/>
                    <a:ext cx="3124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032000" y="1676520"/>
            <a:ext cx="132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    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986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节课你学到了什么知识？你有什么认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657600" y="17524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作     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32004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科书习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1.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76720" y="18288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温故而知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8288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温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7432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什么叫做一个数的平方根？如何表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40384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⑵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什么是一个数的算术平方根？如何表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1828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知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848720" y="3352680"/>
            <a:ext cx="609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148E-006 L -0.2 0.15309 E">
                                      <p:cBhvr>
                                        <p:cTn id="11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148E-006 L 0.19583 0.15309 E">
                                      <p:cBhvr>
                                        <p:cTn id="30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3392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思    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8288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带有根号的式子填空，看看写出的结果有什么特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2819520"/>
            <a:ext cx="8382240" cy="26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要做一个两条直角边的长分别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 c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 c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三角尺，斜边的长应为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面积为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正方形的边长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要修建一个面积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28 m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圆形喷水池，它的半径为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 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1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一个物体从高处自由落下，落到地面所用的时间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单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与开始落下时的高度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单位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满足关系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果用含有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式子表示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819520" y="4724280"/>
          <a:ext cx="30456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4724280"/>
                    <a:ext cx="304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9880" y="1447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2800440"/>
            <a:ext cx="80773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所填的结果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平方根的性质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如果把上面所填式子叫做二次根式，那么你能用数学符号表示二次根式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03320" y="2133720"/>
          <a:ext cx="8064360" cy="104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3320" y="2133720"/>
                    <a:ext cx="806436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990720" y="3276720"/>
            <a:ext cx="612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叫被开方数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   ”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称为二次根号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819520" y="2209680"/>
                <a:ext cx="136836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59" name=""/>
          <p:cNvGraphicFramePr/>
          <p:nvPr/>
        </p:nvGraphicFramePr>
        <p:xfrm>
          <a:off x="1447920" y="4038480"/>
          <a:ext cx="604800" cy="560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4038480"/>
                    <a:ext cx="60480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24382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怎样的实数时，         在实数范围内有意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095880" y="2514600"/>
          <a:ext cx="984240" cy="50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2514600"/>
                    <a:ext cx="98424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533520" y="3962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怎样的实数时，    在实数范围内有意义？    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27200" y="4527720"/>
          <a:ext cx="523800" cy="438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27200" y="4527720"/>
                    <a:ext cx="523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5943600" y="4059360"/>
          <a:ext cx="522360" cy="436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943600" y="4059360"/>
                    <a:ext cx="52236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643040" y="3581280"/>
                <a:ext cx="4917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sSub>
                      <m:e/>
                      <m:sub/>
                    </m:sSub>
                    <m:sSub>
                      <m:e/>
                      <m:sub/>
                    </m:sSub>
                    <m:sSub>
                      <m:e/>
                      <m:sub/>
                    </m:sSub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380880" y="1784520"/>
            <a:ext cx="824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i="1" lang="zh-CN" sz="3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取何值时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二次根式有意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643040" y="2585880"/>
                <a:ext cx="5473800" cy="107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sSub>
                      <m:e/>
                      <m:sub/>
                    </m:sSub>
                    <m:sSub>
                      <m:e/>
                      <m:sub/>
                    </m:sSub>
                    <m:sSub>
                      <m:e/>
                      <m:sub/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72" name=""/>
          <p:cNvGraphicFramePr/>
          <p:nvPr/>
        </p:nvGraphicFramePr>
        <p:xfrm>
          <a:off x="1752480" y="5070600"/>
          <a:ext cx="195588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5070600"/>
                    <a:ext cx="19558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113440" y="4800600"/>
                <a:ext cx="143964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 txBox="1"/>
          <p:nvPr/>
        </p:nvSpPr>
        <p:spPr>
          <a:xfrm rot="5400000">
            <a:off x="-1028880" y="384804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6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快速口答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429000" y="1600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266688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比较     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大小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362320" y="2743200"/>
          <a:ext cx="463320" cy="43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743200"/>
                    <a:ext cx="46332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" name=""/>
          <p:cNvGrpSpPr/>
          <p:nvPr/>
        </p:nvGrpSpPr>
        <p:grpSpPr>
          <a:xfrm>
            <a:off x="1219320" y="4191120"/>
            <a:ext cx="8001000" cy="647640"/>
            <a:chOff x="1219320" y="4191120"/>
            <a:chExt cx="8001000" cy="647640"/>
          </a:xfrm>
        </p:grpSpPr>
        <p:sp>
          <p:nvSpPr>
            <p:cNvPr id="81" name=""/>
            <p:cNvSpPr/>
            <p:nvPr/>
          </p:nvSpPr>
          <p:spPr>
            <a:xfrm>
              <a:off x="1219320" y="4191120"/>
              <a:ext cx="8001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结论：　　　　是一个非负数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2" name=""/>
            <p:cNvGraphicFramePr/>
            <p:nvPr/>
          </p:nvGraphicFramePr>
          <p:xfrm>
            <a:off x="2438640" y="4216320"/>
            <a:ext cx="1600200" cy="62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438640" y="4216320"/>
                      <a:ext cx="16002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429000" y="12193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0574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根据算术平方根的意义填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066680" y="2666880"/>
          <a:ext cx="1951200" cy="279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666880"/>
                    <a:ext cx="1951200" cy="27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762120" y="580536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般地，你能得到什么结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韩米娜</dc:creator>
  <dc:description/>
  <dc:language>en-US</dc:language>
  <cp:lastModifiedBy>pepyx</cp:lastModifiedBy>
  <dcterms:modified xsi:type="dcterms:W3CDTF">2007-06-28T02:00:41Z</dcterms:modified>
  <cp:revision>5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