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8.wmf" ContentType="image/x-wmf"/>
  <Override PartName="/ppt/media/image13.png" ContentType="image/png"/>
  <Override PartName="/ppt/media/chimes.wav" ContentType="audio/x-wav"/>
  <Override PartName="/ppt/media/image7.wmf" ContentType="image/x-wmf"/>
  <Override PartName="/ppt/media/image12.png" ContentType="image/png"/>
  <Override PartName="/ppt/media/image11.png" ContentType="image/png"/>
  <Override PartName="/ppt/media/image6.wmf" ContentType="image/x-wmf"/>
  <Override PartName="/ppt/media/image9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3.jpeg"/><Relationship Id="rId17" Type="http://schemas.openxmlformats.org/officeDocument/2006/relationships/image" Target="../media/image4.jpe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<Relationship Id="rId24" Type="http://schemas.openxmlformats.org/officeDocument/2006/relationships/slideLayout" Target="../slideLayouts/slideLayout2.xml"/><Relationship Id="rId25" Type="http://schemas.openxmlformats.org/officeDocument/2006/relationships/slideLayout" Target="../slideLayouts/slideLayout3.xml"/><Relationship Id="rId26" Type="http://schemas.openxmlformats.org/officeDocument/2006/relationships/slideLayout" Target="../slideLayouts/slideLayout4.xml"/><Relationship Id="rId27" Type="http://schemas.openxmlformats.org/officeDocument/2006/relationships/slideLayout" Target="../slideLayouts/slideLayout5.xml"/><Relationship Id="rId28" Type="http://schemas.openxmlformats.org/officeDocument/2006/relationships/slideLayout" Target="../slideLayouts/slideLayout6.xml"/><Relationship Id="rId29" Type="http://schemas.openxmlformats.org/officeDocument/2006/relationships/slideLayout" Target="../slideLayouts/slideLayout7.xml"/><Relationship Id="rId30" Type="http://schemas.openxmlformats.org/officeDocument/2006/relationships/slideLayout" Target="../slideLayouts/slideLayout8.xml"/><Relationship Id="rId31" Type="http://schemas.openxmlformats.org/officeDocument/2006/relationships/slideLayout" Target="../slideLayouts/slideLayout9.xml"/><Relationship Id="rId32" Type="http://schemas.openxmlformats.org/officeDocument/2006/relationships/slideLayout" Target="../slideLayouts/slideLayout10.xml"/><Relationship Id="rId33" Type="http://schemas.openxmlformats.org/officeDocument/2006/relationships/slideLayout" Target="../slideLayouts/slideLayout11.xml"/><Relationship Id="rId3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4400" y="42840"/>
            <a:ext cx="241128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华师大九年级数学上册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9640" y="1628640"/>
            <a:ext cx="8353440" cy="37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rnd" w="9360">
                  <a:solidFill>
                    <a:srgbClr val="c0c0c0"/>
                  </a:solidFill>
                  <a:custDash>
                    <a:ds d="100000" sp="1000"/>
                  </a:custDash>
                  <a:miter/>
                </a:ln>
                <a:noFill/>
                <a:latin typeface="汉仪篆书繁"/>
              </a:rPr>
              <a:t>曹边嘉福实验学校</a:t>
            </a:r>
            <a:endParaRPr b="1" lang="en-US" sz="1800" spc="1" strike="noStrike"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  <a:noFill/>
              <a:latin typeface="汉仪篆书繁"/>
              <a:ea typeface="汉仪篆书繁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796000" y="6453360"/>
            <a:ext cx="237636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汉仪篆书繁"/>
              </a:rPr>
              <a:t>冰刀工作室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汉仪篆书繁"/>
              <a:ea typeface="汉仪篆书繁"/>
            </a:endParaRPr>
          </a:p>
        </p:txBody>
      </p:sp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7740720" y="0"/>
            <a:ext cx="609480" cy="4604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6227640" y="0"/>
            <a:ext cx="609840" cy="4604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6"/>
          <a:stretch/>
        </p:blipFill>
        <p:spPr>
          <a:xfrm>
            <a:off x="4788000" y="0"/>
            <a:ext cx="609480" cy="460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7"/>
          <a:stretch/>
        </p:blipFill>
        <p:spPr>
          <a:xfrm>
            <a:off x="3348000" y="0"/>
            <a:ext cx="609480" cy="460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8"/>
          <a:stretch/>
        </p:blipFill>
        <p:spPr>
          <a:xfrm>
            <a:off x="0" y="6397560"/>
            <a:ext cx="609480" cy="4604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9"/>
          <a:stretch/>
        </p:blipFill>
        <p:spPr>
          <a:xfrm>
            <a:off x="755640" y="6397560"/>
            <a:ext cx="609480" cy="46044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10"/>
          <a:stretch/>
        </p:blipFill>
        <p:spPr>
          <a:xfrm>
            <a:off x="1476360" y="6397560"/>
            <a:ext cx="609480" cy="4604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11"/>
          <a:stretch/>
        </p:blipFill>
        <p:spPr>
          <a:xfrm>
            <a:off x="2195640" y="6397560"/>
            <a:ext cx="609480" cy="46044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12"/>
          <a:stretch/>
        </p:blipFill>
        <p:spPr>
          <a:xfrm>
            <a:off x="2916360" y="6397560"/>
            <a:ext cx="609480" cy="46044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13"/>
          <a:stretch/>
        </p:blipFill>
        <p:spPr>
          <a:xfrm>
            <a:off x="3635280" y="6397560"/>
            <a:ext cx="609840" cy="46044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14"/>
          <a:stretch/>
        </p:blipFill>
        <p:spPr>
          <a:xfrm>
            <a:off x="4356000" y="6397560"/>
            <a:ext cx="609840" cy="46044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15"/>
          <a:stretch/>
        </p:blipFill>
        <p:spPr>
          <a:xfrm>
            <a:off x="5032440" y="6397560"/>
            <a:ext cx="609480" cy="46044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6"/>
          <a:stretch/>
        </p:blipFill>
        <p:spPr>
          <a:xfrm>
            <a:off x="8496360" y="6372360"/>
            <a:ext cx="647640" cy="48564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17"/>
          <a:stretch/>
        </p:blipFill>
        <p:spPr>
          <a:xfrm>
            <a:off x="9144000" y="0"/>
            <a:ext cx="649440" cy="487440"/>
          </a:xfrm>
          <a:prstGeom prst="rect">
            <a:avLst/>
          </a:prstGeom>
          <a:ln w="0">
            <a:noFill/>
          </a:ln>
        </p:spPr>
      </p:pic>
      <p:sp>
        <p:nvSpPr>
          <p:cNvPr id="17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6480" y="519120"/>
            <a:ext cx="9144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-6480" y="6381720"/>
            <a:ext cx="9144000" cy="0"/>
          </a:xfrm>
          <a:prstGeom prst="line">
            <a:avLst/>
          </a:prstGeom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-19080" y="6337440"/>
            <a:ext cx="9144000" cy="0"/>
          </a:xfrm>
          <a:prstGeom prst="line">
            <a:avLst/>
          </a:prstGeom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" descr=""/>
          <p:cNvPicPr/>
          <p:nvPr/>
        </p:nvPicPr>
        <p:blipFill>
          <a:blip r:embed="rId18"/>
          <a:stretch/>
        </p:blipFill>
        <p:spPr>
          <a:xfrm>
            <a:off x="2627280" y="0"/>
            <a:ext cx="609480" cy="460440"/>
          </a:xfrm>
          <a:prstGeom prst="rect">
            <a:avLst/>
          </a:prstGeom>
          <a:ln w="0">
            <a:noFill/>
          </a:ln>
        </p:spPr>
      </p:pic>
      <p:pic>
        <p:nvPicPr>
          <p:cNvPr id="22" name="" descr=""/>
          <p:cNvPicPr/>
          <p:nvPr/>
        </p:nvPicPr>
        <p:blipFill>
          <a:blip r:embed="rId19"/>
          <a:stretch/>
        </p:blipFill>
        <p:spPr>
          <a:xfrm>
            <a:off x="4067280" y="0"/>
            <a:ext cx="609480" cy="460440"/>
          </a:xfrm>
          <a:prstGeom prst="rect">
            <a:avLst/>
          </a:prstGeom>
          <a:ln w="0">
            <a:noFill/>
          </a:ln>
        </p:spPr>
      </p:pic>
      <p:pic>
        <p:nvPicPr>
          <p:cNvPr id="23" name="" descr=""/>
          <p:cNvPicPr/>
          <p:nvPr/>
        </p:nvPicPr>
        <p:blipFill>
          <a:blip r:embed="rId20"/>
          <a:stretch/>
        </p:blipFill>
        <p:spPr>
          <a:xfrm>
            <a:off x="5508720" y="0"/>
            <a:ext cx="609480" cy="460440"/>
          </a:xfrm>
          <a:prstGeom prst="rect">
            <a:avLst/>
          </a:prstGeom>
          <a:ln w="0">
            <a:noFill/>
          </a:ln>
        </p:spPr>
      </p:pic>
      <p:pic>
        <p:nvPicPr>
          <p:cNvPr id="24" name="" descr=""/>
          <p:cNvPicPr/>
          <p:nvPr/>
        </p:nvPicPr>
        <p:blipFill>
          <a:blip r:embed="rId21"/>
          <a:stretch/>
        </p:blipFill>
        <p:spPr>
          <a:xfrm>
            <a:off x="6948360" y="0"/>
            <a:ext cx="609840" cy="460440"/>
          </a:xfrm>
          <a:prstGeom prst="rect">
            <a:avLst/>
          </a:prstGeom>
          <a:ln w="0">
            <a:noFill/>
          </a:ln>
        </p:spPr>
      </p:pic>
      <p:pic>
        <p:nvPicPr>
          <p:cNvPr id="25" name="" descr=""/>
          <p:cNvPicPr/>
          <p:nvPr/>
        </p:nvPicPr>
        <p:blipFill>
          <a:blip r:embed="rId22"/>
          <a:stretch/>
        </p:blipFill>
        <p:spPr>
          <a:xfrm>
            <a:off x="8534520" y="0"/>
            <a:ext cx="609480" cy="46044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3"/>
    <p:sldLayoutId id="2147483650" r:id="rId24"/>
    <p:sldLayoutId id="2147483651" r:id="rId25"/>
    <p:sldLayoutId id="2147483652" r:id="rId26"/>
    <p:sldLayoutId id="2147483653" r:id="rId27"/>
    <p:sldLayoutId id="2147483654" r:id="rId28"/>
    <p:sldLayoutId id="2147483655" r:id="rId29"/>
    <p:sldLayoutId id="2147483656" r:id="rId30"/>
    <p:sldLayoutId id="2147483657" r:id="rId31"/>
    <p:sldLayoutId id="2147483658" r:id="rId32"/>
    <p:sldLayoutId id="2147483659" r:id="rId33"/>
    <p:sldLayoutId id="2147483660" r:id="rId3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55640" y="1628640"/>
            <a:ext cx="7559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锐角三角函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24000" y="1700280"/>
            <a:ext cx="5472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隶书"/>
                <a:ea typeface="隶书"/>
              </a:rPr>
              <a:t>例： 计算</a:t>
            </a:r>
            <a:r>
              <a:rPr b="0" lang="zh-CN" sz="4800" spc="-1" strike="noStrike">
                <a:solidFill>
                  <a:srgbClr val="003366"/>
                </a:solidFill>
                <a:latin typeface="隶书"/>
                <a:ea typeface="隶书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si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+co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5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in</a:t>
            </a:r>
            <a:r>
              <a:rPr b="1" lang="zh-CN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+cos</a:t>
            </a:r>
            <a:r>
              <a:rPr b="1" lang="zh-CN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-ta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5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88000" y="1557360"/>
            <a:ext cx="2133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老师提示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in</a:t>
            </a:r>
            <a:r>
              <a:rPr b="0" lang="zh-CN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sin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os</a:t>
            </a:r>
            <a:r>
              <a:rPr b="0" lang="zh-CN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cos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其余类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00000" y="189000"/>
            <a:ext cx="590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三角函数值的计算问题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解：（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原式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132000" y="3357720"/>
                <a:ext cx="2232000" cy="89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468360" y="4581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原式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411280" y="4149720"/>
                <a:ext cx="2406960" cy="24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3</m:t>
                                        </m:r>
                                      </m:e>
                                    </m:rad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547640" y="189000"/>
                <a:ext cx="5967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∂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−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∂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∂</m:t>
                    </m:r>
                    <m:r>
                      <m:rPr>
                        <m:lit/>
                        <m:nor/>
                      </m:rPr>
                      <m:t xml:space="preserve">为锐</m:t>
                    </m:r>
                    <m:r>
                      <m:t xml:space="preserve">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755640" y="333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1197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解：原式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124000" y="1125360"/>
                <a:ext cx="3600360" cy="16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∂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∂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∂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∂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913680" y="2852640"/>
            <a:ext cx="49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已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anA·tan20°=1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3789360"/>
            <a:ext cx="554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解：因为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tanA·tan20</a:t>
            </a:r>
            <a:r>
              <a:rPr b="1" lang="zh-CN" sz="2800" spc="-1" strike="noStrike" baseline="30000">
                <a:solidFill>
                  <a:srgbClr val="333399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所以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A=90</a:t>
            </a:r>
            <a:r>
              <a:rPr b="1" lang="zh-CN" sz="2800" spc="-1" strike="noStrike" baseline="30000">
                <a:solidFill>
                  <a:srgbClr val="333399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0</a:t>
            </a:r>
            <a:r>
              <a:rPr b="1" lang="zh-CN" sz="2800" spc="-1" strike="noStrike" baseline="30000">
                <a:solidFill>
                  <a:srgbClr val="333399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=70</a:t>
            </a:r>
            <a:r>
              <a:rPr b="1" lang="zh-CN" sz="2800" spc="-1" strike="noStrike" baseline="30000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已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求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度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763640" y="476280"/>
                <a:ext cx="60483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979640" y="2133720"/>
                <a:ext cx="5616720" cy="33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，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即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,sin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∴∠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11280" y="2349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9640" y="7650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已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cos 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=0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8720" y="1052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184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763640" y="1844640"/>
                <a:ext cx="3702240" cy="38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∴∠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79280" y="189000"/>
            <a:ext cx="8713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如图，在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D⊥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中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=3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                        。 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an∠BC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050920" y="549360"/>
                <a:ext cx="251964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CD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7094520" y="3141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89440" y="1916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94160" y="1557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534880" y="3068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26520" y="3068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51640" y="2276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84720" y="3141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1773360"/>
            <a:ext cx="43308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651640" y="1773360"/>
            <a:ext cx="288108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084720" y="2205000"/>
            <a:ext cx="57492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51640" y="1773360"/>
            <a:ext cx="15843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236000" y="2637000"/>
            <a:ext cx="288720" cy="5047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1557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过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E⊥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84360" y="2133720"/>
                <a:ext cx="6913440" cy="41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CD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,</m:t>
                        </m:r>
                        <m:r>
                          <m:t xml:space="preserve">又</m:t>
                        </m:r>
                        <m:r>
                          <m:t xml:space="preserve">∵</m:t>
                        </m:r>
                        <m:r>
                          <m:t xml:space="preserve">M是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的中点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</m:e>
                      <m:e>
                        <m:r>
                          <m:t xml:space="preserve">又</m:t>
                        </m:r>
                        <m:r>
                          <m:t xml:space="preserve">∵</m:t>
                        </m:r>
                        <m:r>
                          <m:t xml:space="preserve">∠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ta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∴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  <m:r>
                          <m:t xml:space="preserve">,</m:t>
                        </m:r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C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348000" y="4653000"/>
            <a:ext cx="302112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小览天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7600" cy="1708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619280" y="1557360"/>
                <a:ext cx="50277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619280" y="2708280"/>
                <a:ext cx="521820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971640" y="765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请在三分钟内完成以下两小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211800" y="5373720"/>
            <a:ext cx="293220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挑战极限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940360" y="5157720"/>
            <a:ext cx="311040" cy="12747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39640" y="981000"/>
            <a:ext cx="7993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如图</a:t>
            </a:r>
            <a:r>
              <a:rPr b="0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一个小孩荡秋千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秋千链子的长度为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m,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当秋千向两边摆动时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摆角恰好为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且两边摆动的角度相同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求它摆至最高位置时与其摆至最低位置时的高度之差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结果精确到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0. 1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rcRect l="69823" t="63949" r="17738" b="14199"/>
          <a:stretch/>
        </p:blipFill>
        <p:spPr>
          <a:xfrm>
            <a:off x="6372360" y="2924280"/>
            <a:ext cx="2361960" cy="23619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851280" y="4941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老师提示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将实际问题数学化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58920" y="3886200"/>
            <a:ext cx="1821960" cy="2288520"/>
            <a:chOff x="1258920" y="3886200"/>
            <a:chExt cx="1821960" cy="2288520"/>
          </a:xfrm>
        </p:grpSpPr>
        <p:sp>
          <p:nvSpPr>
            <p:cNvPr id="265" name=""/>
            <p:cNvSpPr/>
            <p:nvPr/>
          </p:nvSpPr>
          <p:spPr>
            <a:xfrm>
              <a:off x="2097000" y="5715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970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6840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589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542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33320" y="5621040"/>
              <a:ext cx="920880" cy="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1646280" y="4267080"/>
              <a:ext cx="4507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97000" y="4267080"/>
              <a:ext cx="4636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1716120" y="4267080"/>
              <a:ext cx="685800" cy="1752480"/>
              <a:chOff x="1716120" y="4267080"/>
              <a:chExt cx="685800" cy="1752480"/>
            </a:xfrm>
          </p:grpSpPr>
          <p:sp>
            <p:nvSpPr>
              <p:cNvPr id="274" name=""/>
              <p:cNvSpPr/>
              <p:nvPr/>
            </p:nvSpPr>
            <p:spPr>
              <a:xfrm>
                <a:off x="1716120" y="525780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944720" y="556236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097360" y="42670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2097000" y="42670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 rot="2979600">
              <a:off x="1572120" y="4515480"/>
              <a:ext cx="1202400" cy="13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229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2298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611280" y="2924280"/>
                <a:ext cx="1647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 flipH="1">
            <a:off x="2916000" y="4221000"/>
            <a:ext cx="30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5651640" y="189000"/>
            <a:ext cx="2842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登峰造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98280" y="4508640"/>
            <a:ext cx="441360" cy="1800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8532720" y="189000"/>
            <a:ext cx="432000" cy="11444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79280" y="260280"/>
            <a:ext cx="53294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如图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Rt△ABC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∠C=90°,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∠A,∠B ,∠C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对边分别是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a,b,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求证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sin</a:t>
            </a:r>
            <a:r>
              <a:rPr b="0" lang="zh-CN" sz="32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+cos</a:t>
            </a:r>
            <a:r>
              <a:rPr b="0" lang="zh-CN" sz="32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219640" y="1197000"/>
            <a:ext cx="3124080" cy="2288520"/>
            <a:chOff x="5219640" y="1197000"/>
            <a:chExt cx="3124080" cy="2288520"/>
          </a:xfrm>
        </p:grpSpPr>
        <p:sp>
          <p:nvSpPr>
            <p:cNvPr id="286" name=""/>
            <p:cNvSpPr/>
            <p:nvPr/>
          </p:nvSpPr>
          <p:spPr>
            <a:xfrm>
              <a:off x="6667200" y="3025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5219640" y="1197000"/>
              <a:ext cx="3124080" cy="2288520"/>
              <a:chOff x="5219640" y="1197000"/>
              <a:chExt cx="3124080" cy="2288520"/>
            </a:xfrm>
          </p:grpSpPr>
          <p:sp>
            <p:nvSpPr>
              <p:cNvPr id="288" name=""/>
              <p:cNvSpPr/>
              <p:nvPr/>
            </p:nvSpPr>
            <p:spPr>
              <a:xfrm flipH="1">
                <a:off x="5447520" y="1577880"/>
                <a:ext cx="2438280" cy="152388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600880" y="2873160"/>
                <a:ext cx="4564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219640" y="3025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505640" y="1197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657920" y="3025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62840" y="23400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505640" y="2720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514920" y="1806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042920" y="2565360"/>
                <a:ext cx="4465800" cy="402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证明</m:t>
                        </m:r>
                        <m:r>
                          <m:t xml:space="preserve">：</m:t>
                        </m:r>
                        <m:r>
                          <m:t xml:space="preserve">在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中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,sin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611280" y="836640"/>
            <a:ext cx="7848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谈谈你这节课有什么收获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3141720"/>
            <a:ext cx="7991280" cy="720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0</a:t>
            </a:r>
            <a:r>
              <a:rPr b="1" lang="zh-CN" sz="40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,45</a:t>
            </a:r>
            <a:r>
              <a:rPr b="1" lang="zh-CN" sz="40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,60</a:t>
            </a:r>
            <a:r>
              <a:rPr b="1" lang="zh-CN" sz="40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角的三角函数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4437000"/>
            <a:ext cx="7777080" cy="720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三角函数值的计算与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635280" y="69228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锐角三角函数定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028000" y="692280"/>
            <a:ext cx="522360" cy="609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5734080"/>
            <a:ext cx="95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锐角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的正弦、余弦、和正切统称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∠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锐角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三角函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800" y="3999600"/>
            <a:ext cx="143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n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812960" y="3772080"/>
            <a:ext cx="2016000" cy="1050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404600" y="392328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cos 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851440" y="3619440"/>
            <a:ext cx="2016360" cy="1123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66840" y="4990320"/>
            <a:ext cx="147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an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736640" y="4762440"/>
            <a:ext cx="1873440" cy="1042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rcRect l="7594" t="2257" r="7594" b="10746"/>
          <a:stretch/>
        </p:blipFill>
        <p:spPr>
          <a:xfrm>
            <a:off x="4211640" y="1125360"/>
            <a:ext cx="4824360" cy="2521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684360" y="549360"/>
            <a:ext cx="295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活动筋骨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179280" y="549360"/>
            <a:ext cx="312840" cy="1276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6000" y="2060640"/>
            <a:ext cx="3851280" cy="155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脑中有“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图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，心中有“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0920" y="2060640"/>
            <a:ext cx="62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t△AB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，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=9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B=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C=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inB=_____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sB=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300720" y="1197000"/>
            <a:ext cx="2447640" cy="2247840"/>
            <a:chOff x="6300720" y="1197000"/>
            <a:chExt cx="2447640" cy="2247840"/>
          </a:xfrm>
        </p:grpSpPr>
        <p:sp>
          <p:nvSpPr>
            <p:cNvPr id="80" name=""/>
            <p:cNvSpPr/>
            <p:nvPr/>
          </p:nvSpPr>
          <p:spPr>
            <a:xfrm>
              <a:off x="6661080" y="1628640"/>
              <a:ext cx="1728720" cy="1225800"/>
            </a:xfrm>
            <a:prstGeom prst="rtTriangle">
              <a:avLst/>
            </a:prstGeom>
            <a:noFill/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300720" y="119700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72360" y="292428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00720" y="292428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80000" y="191628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37080" y="27813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50920" y="386064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t△AB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，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=9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B=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C=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a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084720" y="3500280"/>
            <a:ext cx="2447640" cy="2247840"/>
            <a:chOff x="6084720" y="3500280"/>
            <a:chExt cx="2447640" cy="2247840"/>
          </a:xfrm>
        </p:grpSpPr>
        <p:sp>
          <p:nvSpPr>
            <p:cNvPr id="88" name=""/>
            <p:cNvSpPr/>
            <p:nvPr/>
          </p:nvSpPr>
          <p:spPr>
            <a:xfrm>
              <a:off x="6445080" y="3931920"/>
              <a:ext cx="1728720" cy="1225800"/>
            </a:xfrm>
            <a:prstGeom prst="rtTriangle">
              <a:avLst/>
            </a:prstGeom>
            <a:noFill/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84720" y="350028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56360" y="522756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84720" y="522756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64000" y="42195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21080" y="508464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 txBox="1"/>
          <p:nvPr/>
        </p:nvSpPr>
        <p:spPr>
          <a:xfrm>
            <a:off x="1476360" y="692280"/>
            <a:ext cx="36003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知识检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003640" y="1916280"/>
                <a:ext cx="648000" cy="12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796000" y="4292640"/>
                <a:ext cx="6192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6300720" y="2133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042920" y="5300640"/>
                <a:ext cx="2160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619280" y="2708280"/>
                <a:ext cx="5889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60240" y="765000"/>
            <a:ext cx="62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76720" y="692280"/>
            <a:ext cx="280512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披荆斩棘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771640" y="549360"/>
            <a:ext cx="293760" cy="1203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1700280"/>
            <a:ext cx="774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如图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观察一副三角板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它们其中有几个锐角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分别是多少度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8760" y="3124080"/>
            <a:ext cx="631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(1)sin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于多少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347800" y="3227400"/>
            <a:ext cx="2750040" cy="2364480"/>
            <a:chOff x="5347800" y="3227400"/>
            <a:chExt cx="2750040" cy="2364480"/>
          </a:xfrm>
        </p:grpSpPr>
        <p:sp>
          <p:nvSpPr>
            <p:cNvPr id="106" name=""/>
            <p:cNvSpPr/>
            <p:nvPr/>
          </p:nvSpPr>
          <p:spPr>
            <a:xfrm rot="16200000">
              <a:off x="6297480" y="3713040"/>
              <a:ext cx="2286000" cy="131436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710480" y="5132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347440" y="4217760"/>
              <a:ext cx="1295640" cy="1295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261840" y="51321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591320" y="3897360"/>
            <a:ext cx="6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3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05520" y="5192640"/>
            <a:ext cx="6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6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0280" y="4522680"/>
            <a:ext cx="6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45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57960" y="5192640"/>
            <a:ext cx="6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45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6160" y="3809880"/>
            <a:ext cx="631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(2)cos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于多少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6160" y="4492800"/>
            <a:ext cx="60102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(3)tan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于多少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474920" y="1989000"/>
            <a:ext cx="3095640" cy="1612440"/>
            <a:chOff x="1474920" y="1989000"/>
            <a:chExt cx="3095640" cy="1612440"/>
          </a:xfrm>
        </p:grpSpPr>
        <p:grpSp>
          <p:nvGrpSpPr>
            <p:cNvPr id="117" name=""/>
            <p:cNvGrpSpPr/>
            <p:nvPr/>
          </p:nvGrpSpPr>
          <p:grpSpPr>
            <a:xfrm>
              <a:off x="1474920" y="1989000"/>
              <a:ext cx="3095640" cy="1612440"/>
              <a:chOff x="1474920" y="1989000"/>
              <a:chExt cx="3095640" cy="1612440"/>
            </a:xfrm>
          </p:grpSpPr>
          <p:sp>
            <p:nvSpPr>
              <p:cNvPr id="118" name=""/>
              <p:cNvSpPr/>
              <p:nvPr/>
            </p:nvSpPr>
            <p:spPr>
              <a:xfrm flipV="1" rot="10800000">
                <a:off x="1761840" y="2348280"/>
                <a:ext cx="1873080" cy="863640"/>
              </a:xfrm>
              <a:prstGeom prst="rtTriangl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74920" y="314172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562200" y="198900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62200" y="3070080"/>
                <a:ext cx="100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2081160" y="3065400"/>
              <a:ext cx="49320" cy="154080"/>
            </a:xfrm>
            <a:custGeom>
              <a:avLst/>
              <a:gdLst/>
              <a:ahLst/>
              <a:rect l="l" t="t" r="r" b="b"/>
              <a:pathLst>
                <a:path w="31" h="97">
                  <a:moveTo>
                    <a:pt x="0" y="0"/>
                  </a:moveTo>
                  <a:cubicBezTo>
                    <a:pt x="26" y="37"/>
                    <a:pt x="31" y="56"/>
                    <a:pt x="9" y="9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22560" y="285408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3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924360" y="2494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21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484360" y="3286080"/>
                <a:ext cx="723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003640" y="2276640"/>
            <a:ext cx="1676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30°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30°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n30°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443640" y="1989000"/>
                <a:ext cx="3826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9" name=""/>
          <p:cNvGrpSpPr/>
          <p:nvPr/>
        </p:nvGrpSpPr>
        <p:grpSpPr>
          <a:xfrm>
            <a:off x="6443640" y="3139920"/>
            <a:ext cx="762120" cy="916920"/>
            <a:chOff x="6443640" y="3139920"/>
            <a:chExt cx="762120" cy="916920"/>
          </a:xfrm>
        </p:grpSpPr>
        <p:sp>
          <p:nvSpPr>
            <p:cNvPr id="130" name=""/>
            <p:cNvSpPr/>
            <p:nvPr/>
          </p:nvSpPr>
          <p:spPr>
            <a:xfrm>
              <a:off x="6443640" y="3597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72240" y="3597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6519960" y="3139920"/>
                  <a:ext cx="57168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" name=""/>
          <p:cNvGrpSpPr/>
          <p:nvPr/>
        </p:nvGrpSpPr>
        <p:grpSpPr>
          <a:xfrm>
            <a:off x="6443640" y="4148280"/>
            <a:ext cx="762120" cy="992880"/>
            <a:chOff x="6443640" y="4148280"/>
            <a:chExt cx="762120" cy="992880"/>
          </a:xfrm>
        </p:grpSpPr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6519960" y="4148280"/>
                  <a:ext cx="609480" cy="60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"/>
            <p:cNvSpPr/>
            <p:nvPr/>
          </p:nvSpPr>
          <p:spPr>
            <a:xfrm>
              <a:off x="6443640" y="46814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48560" y="4681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55640" y="11970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30</a:t>
            </a:r>
            <a:r>
              <a:rPr b="1" lang="zh-CN" sz="44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0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角的各类三角函数值的探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3860640"/>
            <a:ext cx="35290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在直角三角形中，如果一个锐角等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zh-CN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那么它所对的直角边等于斜边的一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 rot="5400000">
            <a:off x="-853560" y="2589840"/>
            <a:ext cx="3446640" cy="94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新魏"/>
              </a:rPr>
              <a:t>勇往直前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18960" y="4581360"/>
            <a:ext cx="436680" cy="1781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87280" y="2276640"/>
            <a:ext cx="5105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sin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45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sin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于多少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288612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cos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45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cos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于多少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349560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6)tan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45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tan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于多少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421956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940000" y="2349360"/>
            <a:ext cx="2896200" cy="2364480"/>
            <a:chOff x="5940000" y="2349360"/>
            <a:chExt cx="2896200" cy="2364480"/>
          </a:xfrm>
        </p:grpSpPr>
        <p:grpSp>
          <p:nvGrpSpPr>
            <p:cNvPr id="146" name=""/>
            <p:cNvGrpSpPr/>
            <p:nvPr/>
          </p:nvGrpSpPr>
          <p:grpSpPr>
            <a:xfrm>
              <a:off x="5940000" y="2349360"/>
              <a:ext cx="2750040" cy="2364480"/>
              <a:chOff x="5940000" y="2349360"/>
              <a:chExt cx="2750040" cy="2364480"/>
            </a:xfrm>
          </p:grpSpPr>
          <p:sp>
            <p:nvSpPr>
              <p:cNvPr id="147" name=""/>
              <p:cNvSpPr/>
              <p:nvPr/>
            </p:nvSpPr>
            <p:spPr>
              <a:xfrm rot="16200000">
                <a:off x="6889680" y="2835000"/>
                <a:ext cx="2286000" cy="131436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8302680" y="425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5939640" y="3339720"/>
                <a:ext cx="1295640" cy="129564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6854040" y="42541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8183520" y="3019320"/>
              <a:ext cx="6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30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97720" y="4314600"/>
              <a:ext cx="6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60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2480" y="3644640"/>
              <a:ext cx="6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45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50160" y="4314600"/>
              <a:ext cx="6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45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258920" y="765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黑体"/>
              </a:rPr>
              <a:t>请同桌之间展开讨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164360" y="558972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14400" y="2133720"/>
            <a:ext cx="2376360" cy="1971000"/>
            <a:chOff x="914400" y="2133720"/>
            <a:chExt cx="2376360" cy="1971000"/>
          </a:xfrm>
        </p:grpSpPr>
        <p:grpSp>
          <p:nvGrpSpPr>
            <p:cNvPr id="158" name=""/>
            <p:cNvGrpSpPr/>
            <p:nvPr/>
          </p:nvGrpSpPr>
          <p:grpSpPr>
            <a:xfrm>
              <a:off x="914400" y="2133720"/>
              <a:ext cx="2376360" cy="1971000"/>
              <a:chOff x="914400" y="2133720"/>
              <a:chExt cx="2376360" cy="1971000"/>
            </a:xfrm>
          </p:grpSpPr>
          <p:sp>
            <p:nvSpPr>
              <p:cNvPr id="159" name=""/>
              <p:cNvSpPr/>
              <p:nvPr/>
            </p:nvSpPr>
            <p:spPr>
              <a:xfrm flipV="1" rot="10732800">
                <a:off x="1201320" y="2420640"/>
                <a:ext cx="1440000" cy="1296720"/>
              </a:xfrm>
              <a:prstGeom prst="rtTriangl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14400" y="3645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70040" y="213372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70040" y="357372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1425600" y="3540240"/>
              <a:ext cx="71280" cy="168480"/>
            </a:xfrm>
            <a:custGeom>
              <a:avLst/>
              <a:gdLst/>
              <a:ahLst/>
              <a:rect l="l" t="t" r="r" b="b"/>
              <a:pathLst>
                <a:path w="45" h="106">
                  <a:moveTo>
                    <a:pt x="0" y="0"/>
                  </a:moveTo>
                  <a:cubicBezTo>
                    <a:pt x="41" y="61"/>
                    <a:pt x="29" y="33"/>
                    <a:pt x="45" y="80"/>
                  </a:cubicBezTo>
                  <a:cubicBezTo>
                    <a:pt x="42" y="89"/>
                    <a:pt x="36" y="106"/>
                    <a:pt x="36" y="10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17680" y="33577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45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743200" y="28954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39625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08360" y="1700280"/>
            <a:ext cx="3429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45 °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45°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n45°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181480" y="1523880"/>
            <a:ext cx="1295640" cy="1219320"/>
            <a:chOff x="5181480" y="1523880"/>
            <a:chExt cx="1295640" cy="1219320"/>
          </a:xfrm>
        </p:grpSpPr>
        <p:sp>
          <p:nvSpPr>
            <p:cNvPr id="169" name=""/>
            <p:cNvSpPr/>
            <p:nvPr/>
          </p:nvSpPr>
          <p:spPr>
            <a:xfrm>
              <a:off x="5181480" y="2286000"/>
              <a:ext cx="990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5715000" y="1523880"/>
                  <a:ext cx="68580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5715000" y="2057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43600" y="2057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859280" y="2708280"/>
            <a:ext cx="1294920" cy="1219320"/>
            <a:chOff x="4859280" y="2708280"/>
            <a:chExt cx="1294920" cy="1219320"/>
          </a:xfrm>
        </p:grpSpPr>
        <p:sp>
          <p:nvSpPr>
            <p:cNvPr id="174" name=""/>
            <p:cNvSpPr/>
            <p:nvPr/>
          </p:nvSpPr>
          <p:spPr>
            <a:xfrm>
              <a:off x="4859280" y="3470400"/>
              <a:ext cx="99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5392440" y="2708280"/>
                  <a:ext cx="685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"/>
            <p:cNvSpPr/>
            <p:nvPr/>
          </p:nvSpPr>
          <p:spPr>
            <a:xfrm>
              <a:off x="5392440" y="3241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21040" y="3241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651640" y="42926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187280" y="2492280"/>
                <a:ext cx="8366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684360" y="76500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45</a:t>
            </a:r>
            <a:r>
              <a:rPr b="1" lang="zh-CN" sz="44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0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角的各类三角函数值的探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990720" y="1752480"/>
            <a:ext cx="1650960" cy="2288520"/>
            <a:chOff x="990720" y="1752480"/>
            <a:chExt cx="1650960" cy="2288520"/>
          </a:xfrm>
        </p:grpSpPr>
        <p:sp>
          <p:nvSpPr>
            <p:cNvPr id="182" name=""/>
            <p:cNvSpPr/>
            <p:nvPr/>
          </p:nvSpPr>
          <p:spPr>
            <a:xfrm rot="16200000">
              <a:off x="874800" y="2477520"/>
              <a:ext cx="1778040" cy="93636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90720" y="3581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33720" y="35812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10040" y="17524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47920" y="3581280"/>
              <a:ext cx="98280" cy="210960"/>
            </a:xfrm>
            <a:custGeom>
              <a:avLst/>
              <a:gdLst/>
              <a:ahLst/>
              <a:rect l="l" t="t" r="r" b="b"/>
              <a:pathLst>
                <a:path w="62" h="133">
                  <a:moveTo>
                    <a:pt x="0" y="0"/>
                  </a:moveTo>
                  <a:cubicBezTo>
                    <a:pt x="23" y="15"/>
                    <a:pt x="33" y="17"/>
                    <a:pt x="45" y="44"/>
                  </a:cubicBezTo>
                  <a:cubicBezTo>
                    <a:pt x="53" y="61"/>
                    <a:pt x="62" y="97"/>
                    <a:pt x="62" y="97"/>
                  </a:cubicBezTo>
                  <a:cubicBezTo>
                    <a:pt x="53" y="128"/>
                    <a:pt x="61" y="117"/>
                    <a:pt x="45" y="13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7920" y="335268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6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676520" y="39625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259092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600200"/>
            <a:ext cx="1905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60°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60°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n60°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362320" y="2666880"/>
                <a:ext cx="685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92" name=""/>
          <p:cNvGrpSpPr/>
          <p:nvPr/>
        </p:nvGrpSpPr>
        <p:grpSpPr>
          <a:xfrm>
            <a:off x="5257800" y="1447920"/>
            <a:ext cx="685800" cy="916920"/>
            <a:chOff x="5257800" y="1447920"/>
            <a:chExt cx="685800" cy="916920"/>
          </a:xfrm>
        </p:grpSpPr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5257800" y="1447920"/>
                  <a:ext cx="6476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94" name=""/>
            <p:cNvSpPr/>
            <p:nvPr/>
          </p:nvSpPr>
          <p:spPr>
            <a:xfrm>
              <a:off x="5334120" y="19051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86400" y="1905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486400" y="2743200"/>
                <a:ext cx="4874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334120" y="411480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84360" y="76500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60</a:t>
            </a:r>
            <a:r>
              <a:rPr b="1" lang="zh-CN" sz="44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0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角的各类三角函数值的探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1278000" y="2421000"/>
          <a:ext cx="5441760" cy="3008160"/>
        </p:xfrm>
        <a:graphic>
          <a:graphicData uri="http://schemas.openxmlformats.org/drawingml/2006/table">
            <a:tbl>
              <a:tblPr/>
              <a:tblGrid>
                <a:gridCol w="1782360"/>
                <a:gridCol w="1219320"/>
                <a:gridCol w="1218960"/>
                <a:gridCol w="122112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三角函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锐角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正弦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余弦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正切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424320" y="3259080"/>
                <a:ext cx="2682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608360" y="3192480"/>
                <a:ext cx="4478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904000" y="3192480"/>
                <a:ext cx="4474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335400" y="3933720"/>
                <a:ext cx="4698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649760" y="3954600"/>
                <a:ext cx="4698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073920" y="4216320"/>
                <a:ext cx="156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344760" y="4640400"/>
                <a:ext cx="4478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743360" y="4711680"/>
                <a:ext cx="2682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34240" y="4856040"/>
                <a:ext cx="40320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 txBox="1"/>
          <p:nvPr/>
        </p:nvSpPr>
        <p:spPr>
          <a:xfrm>
            <a:off x="2268360" y="907920"/>
            <a:ext cx="4392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三角函数值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2T10:04:08Z</dcterms:created>
  <dc:creator>微软用户</dc:creator>
  <dc:description/>
  <dc:language>en-US</dc:language>
  <cp:lastModifiedBy>User</cp:lastModifiedBy>
  <dcterms:modified xsi:type="dcterms:W3CDTF">2013-12-16T01:27:10Z</dcterms:modified>
  <cp:revision>54</cp:revision>
  <dc:subject/>
  <dc:title>幻灯片 1</dc:title>
</cp:coreProperties>
</file>