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8.gif" ContentType="image/gif"/>
  <Override PartName="/ppt/media/image17.gif" ContentType="image/gif"/>
  <Override PartName="/ppt/media/image16.jpeg" ContentType="image/jpeg"/>
  <Override PartName="/ppt/media/chimes.wav" ContentType="audio/x-wav"/>
  <Override PartName="/ppt/media/image14.gif" ContentType="image/gif"/>
  <Override PartName="/ppt/media/type.wav" ContentType="audio/x-wav"/>
  <Override PartName="/ppt/media/image1.jpeg" ContentType="image/jpeg"/>
  <Override PartName="/ppt/media/image5.jpeg" ContentType="image/jpeg"/>
  <Override PartName="/ppt/media/image9.wmf" ContentType="image/x-wmf"/>
  <Override PartName="/ppt/media/image15.png" ContentType="image/png"/>
  <Override PartName="/ppt/media/image3.jpeg" ContentType="image/jpeg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73CA-5D0B-4239-979E-E6628347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915-78E0-4D3A-98E0-4382D4FA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8B3-3FDF-43D3-8D2F-5AC95BE5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419-7FBE-4F4B-A3E7-D17C3F5F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E01-8811-4EAA-90C7-200713CB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6641-A9F1-4868-AA13-B1DFD6C6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AA4-3CA4-4CFB-BAF7-5D8EA918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D02-B977-479E-814C-25A560B1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884-873F-4090-883E-037E196A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468-ACE9-4905-BC9C-140D185E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7A9-8223-4F56-8634-C63EAB93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A35-9C12-4B5A-AC4B-48FFFC10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8DD5-C9DF-49E2-9BF3-C194A49C7A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96720" y="-243000"/>
            <a:ext cx="9753480" cy="7296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0360" y="476280"/>
            <a:ext cx="3203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意大利比萨尔塔在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135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年落成时就已倾斜，其塔顶离中心偏离垂直中心线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2.1m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1972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年比萨地区发生地震，这座高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54.5m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的斜塔在大幅度摇摆后仍巍然屹立，但塔顶中心点偏离垂直中心线增至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5.2m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，而且还以每年增加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1cm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的速度继续倾斜，随时都有倒塌的危险。为此，意大利当局从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199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年起对斜塔进行维修纠偏，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年竣工，使塔顶中心点偏离垂直中心线的距离比纠偏前减少了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43.8cm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476360" y="170028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54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梯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越陡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倾斜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＿＿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012000" y="3573360"/>
            <a:ext cx="2916000" cy="2736720"/>
            <a:chOff x="6012000" y="3573360"/>
            <a:chExt cx="2916000" cy="2736720"/>
          </a:xfrm>
        </p:grpSpPr>
        <p:sp>
          <p:nvSpPr>
            <p:cNvPr id="351" name=""/>
            <p:cNvSpPr/>
            <p:nvPr/>
          </p:nvSpPr>
          <p:spPr>
            <a:xfrm>
              <a:off x="6012000" y="5518080"/>
              <a:ext cx="2916000" cy="790560"/>
            </a:xfrm>
            <a:prstGeom prst="parallelogram">
              <a:avLst>
                <a:gd name="adj" fmla="val 9221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12000" y="3573360"/>
              <a:ext cx="719280" cy="216216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164360" y="4221000"/>
              <a:ext cx="1022400" cy="17305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12320" y="4138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85320" y="4233960"/>
              <a:ext cx="522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85320" y="5484960"/>
              <a:ext cx="522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85320" y="5580000"/>
              <a:ext cx="522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85320" y="5675400"/>
              <a:ext cx="522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85320" y="5772240"/>
              <a:ext cx="522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85320" y="5869080"/>
              <a:ext cx="5220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948000" y="4222800"/>
              <a:ext cx="1079640" cy="15127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64360" y="5446800"/>
              <a:ext cx="216000" cy="144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8720" y="5302080"/>
              <a:ext cx="142920" cy="730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80360" y="5086440"/>
              <a:ext cx="216000" cy="144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24720" y="4870440"/>
              <a:ext cx="216000" cy="144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67640" y="4654440"/>
              <a:ext cx="216000" cy="1447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12000" y="4438800"/>
              <a:ext cx="142920" cy="727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27640" y="60944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72360" y="5878440"/>
              <a:ext cx="21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88000" y="56624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372360" y="5517720"/>
              <a:ext cx="7207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804000" y="5517720"/>
              <a:ext cx="7207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236000" y="5517720"/>
              <a:ext cx="7207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667640" y="5517720"/>
              <a:ext cx="7207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39640" y="162864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倾斜角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越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铅直高度与梯子的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＿＿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9640" y="2637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倾斜角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越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平宽度与梯子的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＿＿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3352680"/>
            <a:ext cx="6705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倾斜角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越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铅直高度与水平宽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＿＿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244000" y="4221000"/>
            <a:ext cx="0" cy="1513080"/>
          </a:xfrm>
          <a:prstGeom prst="line">
            <a:avLst/>
          </a:prstGeom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80360" y="5734080"/>
            <a:ext cx="863640" cy="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73080" y="4681080"/>
            <a:ext cx="3022920" cy="186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36" y="8021"/>
                </a:moveTo>
                <a:arcTo wR="10800" hR="10800" stAng="-894679" swAng="1156775"/>
                <a:lnTo>
                  <a:pt x="10800" y="10800"/>
                </a:lnTo>
                <a:close/>
              </a:path>
              <a:path fill="none" w="21600" h="21600">
                <a:moveTo>
                  <a:pt x="21236" y="8021"/>
                </a:moveTo>
                <a:arcTo wR="10800" hR="10800" stAng="-894679" swAng="1156775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175960" y="4437000"/>
            <a:ext cx="48528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66"/>
                </a:solidFill>
                <a:latin typeface="Arial"/>
              </a:rPr>
              <a:t>铅直高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236000" y="5734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水平宽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00720" y="4968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越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77080" y="150480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越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77080" y="25131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越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434340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越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 rot="16200000">
            <a:off x="251280" y="4148640"/>
            <a:ext cx="1368720" cy="7923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734920" y="1314360"/>
            <a:ext cx="36360" cy="3915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03280" y="1341360"/>
            <a:ext cx="2232000" cy="3888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" y="5229360"/>
            <a:ext cx="23050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08360" y="112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35280" y="134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735280" y="155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735280" y="1773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35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35280" y="2205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35280" y="2421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35280" y="2637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35280" y="28544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35280" y="30700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735280" y="32860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35280" y="35020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735280" y="37180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735280" y="393372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3528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5280" y="4365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735280" y="458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35280" y="4797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735280" y="5013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65932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251640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37132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22696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08296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94004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79568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65060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36332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50768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21932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07496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92988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78696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4260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9860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920" y="4770360"/>
            <a:ext cx="431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56000" y="765000"/>
            <a:ext cx="107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82920" y="5057640"/>
            <a:ext cx="151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0200" y="376236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527364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6920" y="3257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95280" y="333360"/>
            <a:ext cx="2160720" cy="720720"/>
          </a:xfrm>
          <a:prstGeom prst="wedgeEllipseCallout">
            <a:avLst>
              <a:gd name="adj1" fmla="val -45222"/>
              <a:gd name="adj2" fmla="val 7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4360" y="404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4756320"/>
            <a:ext cx="431280" cy="862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73097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73097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4360" y="5013360"/>
            <a:ext cx="216000" cy="2160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87280" y="5013360"/>
            <a:ext cx="144720" cy="2160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03640" y="549360"/>
            <a:ext cx="5940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直角三角形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AB</a:t>
            </a:r>
            <a:r>
              <a:rPr b="1" lang="zh-CN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直角三角        形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有什么关系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32000" y="1989000"/>
            <a:ext cx="56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 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,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,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      有什么关系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48000" y="3789360"/>
            <a:ext cx="554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如果梯子的倾斜角不变，只改变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在梯子上的位置呢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3780000" y="1844640"/>
          <a:ext cx="601560" cy="8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844640"/>
                    <a:ext cx="6015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4859280" y="1916280"/>
          <a:ext cx="746280" cy="82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916280"/>
                    <a:ext cx="74628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5940360" y="1916280"/>
          <a:ext cx="61272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1916280"/>
                    <a:ext cx="612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7020000" y="1916280"/>
          <a:ext cx="66672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1916280"/>
                    <a:ext cx="666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7885080" y="1916280"/>
          <a:ext cx="612720" cy="82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85080" y="1916280"/>
                    <a:ext cx="612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3635280" y="2637000"/>
          <a:ext cx="779400" cy="86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5280" y="2637000"/>
                    <a:ext cx="77940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971640" y="4653000"/>
          <a:ext cx="36036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4653000"/>
                    <a:ext cx="3603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 rot="16200000">
            <a:off x="143280" y="3824640"/>
            <a:ext cx="1800360" cy="1008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700000" y="1314360"/>
            <a:ext cx="36360" cy="3915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539640" y="1341360"/>
            <a:ext cx="2232000" cy="3888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31640" y="5229360"/>
            <a:ext cx="23050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73440" y="112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00360" y="134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00360" y="155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00360" y="1773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00360" y="2205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00360" y="2421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00360" y="2637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700360" y="28544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00360" y="30700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700360" y="32860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00360" y="35020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37180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00360" y="393372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70036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00360" y="4365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700360" y="458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700360" y="4797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700360" y="5013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62440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48148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33640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219240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04804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90512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76076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61568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32840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47276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118440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04004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89496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75204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0768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6368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4770360"/>
            <a:ext cx="431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19280" y="76500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448000" y="5057640"/>
            <a:ext cx="151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547640" y="3429000"/>
            <a:ext cx="0" cy="180036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71640" y="5300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42920" y="2924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549360"/>
            <a:ext cx="2160360" cy="720720"/>
          </a:xfrm>
          <a:prstGeom prst="wedgeEllipseCallout">
            <a:avLst>
              <a:gd name="adj1" fmla="val -31851"/>
              <a:gd name="adj2" fmla="val 7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54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11280" y="4756320"/>
            <a:ext cx="431280" cy="862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73097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73097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84360" y="5013360"/>
            <a:ext cx="216000" cy="2160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403280" y="5013360"/>
            <a:ext cx="144360" cy="2160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03640" y="549360"/>
            <a:ext cx="5940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直角三角形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AB</a:t>
            </a:r>
            <a:r>
              <a:rPr b="1" lang="zh-CN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直角三角        形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有什么关系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48000" y="1989000"/>
            <a:ext cx="56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,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     有什么关系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348000" y="3789360"/>
            <a:ext cx="554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如果梯子的倾斜角不变，只改变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在梯子上的位置呢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3995640" y="1844640"/>
          <a:ext cx="601920" cy="8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844640"/>
                    <a:ext cx="60192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003640" y="1844640"/>
          <a:ext cx="746280" cy="8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844640"/>
                    <a:ext cx="74628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5940360" y="1773360"/>
          <a:ext cx="61272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1773360"/>
                    <a:ext cx="612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7020000" y="1773360"/>
          <a:ext cx="66672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1773360"/>
                    <a:ext cx="666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3780000" y="2565360"/>
          <a:ext cx="77940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0000" y="2565360"/>
                    <a:ext cx="7794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1042920" y="4724280"/>
          <a:ext cx="360360" cy="33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2920" y="4724280"/>
                    <a:ext cx="3603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7956720" y="1773360"/>
          <a:ext cx="612720" cy="825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56720" y="1773360"/>
                    <a:ext cx="612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 rot="16200000">
            <a:off x="-720" y="3393000"/>
            <a:ext cx="2376720" cy="129564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700000" y="1314360"/>
            <a:ext cx="36360" cy="3915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68360" y="1413000"/>
            <a:ext cx="2232000" cy="3887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1640" y="5229360"/>
            <a:ext cx="23050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73440" y="112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00360" y="134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00360" y="155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700360" y="1773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70036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700360" y="2205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00360" y="2421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0360" y="2637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700360" y="28544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700360" y="30700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00360" y="32860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700360" y="35020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00360" y="37180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700360" y="393372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70036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700360" y="4365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00360" y="458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700360" y="4797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00360" y="5013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262440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48148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33640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219240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04804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0512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76076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161568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32840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147276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18440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04004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89496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5204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0768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6368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4724280"/>
            <a:ext cx="431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519280" y="76500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448000" y="5057640"/>
            <a:ext cx="151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35280" y="2852640"/>
            <a:ext cx="0" cy="2376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332000" y="5300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332000" y="2421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95280" y="333360"/>
            <a:ext cx="2160720" cy="720720"/>
          </a:xfrm>
          <a:prstGeom prst="wedgeEllipseCallout">
            <a:avLst>
              <a:gd name="adj1" fmla="val -45222"/>
              <a:gd name="adj2" fmla="val 7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4360" y="404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756320"/>
            <a:ext cx="431280" cy="862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73097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73097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84360" y="5013360"/>
            <a:ext cx="216000" cy="2160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692360" y="5013360"/>
            <a:ext cx="144360" cy="2160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203640" y="549360"/>
            <a:ext cx="5940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直角三角形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AB</a:t>
            </a:r>
            <a:r>
              <a:rPr b="1" lang="zh-CN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直角三角        形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有什么关系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03640" y="2205000"/>
            <a:ext cx="561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)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,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,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     有什么关系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348000" y="3789360"/>
            <a:ext cx="554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如果梯子的倾斜角不变，只改变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在梯子上的位置呢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3708360" y="1989000"/>
          <a:ext cx="601560" cy="8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89000"/>
                    <a:ext cx="6015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4788000" y="1989000"/>
          <a:ext cx="745920" cy="8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989000"/>
                    <a:ext cx="74592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5580000" y="1989000"/>
          <a:ext cx="61272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1989000"/>
                    <a:ext cx="612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6659640" y="1989000"/>
          <a:ext cx="66672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1989000"/>
                    <a:ext cx="666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3635280" y="2781360"/>
          <a:ext cx="77940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5280" y="2781360"/>
                    <a:ext cx="7794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1042920" y="4724280"/>
          <a:ext cx="360360" cy="33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2920" y="4724280"/>
                    <a:ext cx="3603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7812000" y="2060640"/>
          <a:ext cx="612720" cy="825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12000" y="2060640"/>
                    <a:ext cx="612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 rot="16200000">
            <a:off x="-107640" y="3068280"/>
            <a:ext cx="2737080" cy="15843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700000" y="1314360"/>
            <a:ext cx="36360" cy="3915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468360" y="1341360"/>
            <a:ext cx="2232000" cy="3888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31640" y="5229360"/>
            <a:ext cx="23050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773440" y="112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700360" y="134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700360" y="155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700360" y="1773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0036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700360" y="2205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700360" y="2421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700360" y="2637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28544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00360" y="30700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700360" y="32860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700360" y="35020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700360" y="37180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700360" y="393372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70036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700360" y="4365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700360" y="458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700360" y="4797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700360" y="5013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62440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48148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33640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19240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204804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190512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76076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61568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132840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147276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18440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104004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89496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204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60768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6368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4770360"/>
            <a:ext cx="431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519280" y="76500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48000" y="5057640"/>
            <a:ext cx="151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050920" y="2421000"/>
            <a:ext cx="0" cy="280836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76360" y="5300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619280" y="1844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333360"/>
            <a:ext cx="2160720" cy="720720"/>
          </a:xfrm>
          <a:prstGeom prst="wedgeEllipseCallout">
            <a:avLst>
              <a:gd name="adj1" fmla="val -45222"/>
              <a:gd name="adj2" fmla="val 7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84360" y="404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1280" y="4756320"/>
            <a:ext cx="431280" cy="862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73097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73097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484360" y="5013360"/>
            <a:ext cx="216000" cy="2160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79640" y="5013360"/>
            <a:ext cx="144360" cy="2160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03640" y="549360"/>
            <a:ext cx="5940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直角三角形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AB</a:t>
            </a:r>
            <a:r>
              <a:rPr b="1" lang="zh-CN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直角三角        形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有什么关系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203640" y="2133720"/>
            <a:ext cx="561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,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,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     有什么关系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348000" y="3789360"/>
            <a:ext cx="554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如果梯子的倾斜角不变，只改变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在梯子上的位置呢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3851280" y="1989000"/>
          <a:ext cx="601560" cy="8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6015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4932360" y="1989000"/>
          <a:ext cx="746280" cy="8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989000"/>
                    <a:ext cx="74628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5867280" y="1989000"/>
          <a:ext cx="61272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1989000"/>
                    <a:ext cx="612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6877080" y="1989000"/>
          <a:ext cx="66672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77080" y="1989000"/>
                    <a:ext cx="666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3635280" y="2781360"/>
          <a:ext cx="77940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5280" y="2781360"/>
                    <a:ext cx="7794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1042920" y="4724280"/>
          <a:ext cx="360360" cy="33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2920" y="4724280"/>
                    <a:ext cx="3603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7812000" y="1989000"/>
          <a:ext cx="612720" cy="825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12000" y="1989000"/>
                    <a:ext cx="612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 rot="16200000">
            <a:off x="-215640" y="2673000"/>
            <a:ext cx="3240360" cy="187164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2700000" y="1314360"/>
            <a:ext cx="36360" cy="3915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68360" y="1341360"/>
            <a:ext cx="2232000" cy="3888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31640" y="5229360"/>
            <a:ext cx="23050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773440" y="112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700360" y="134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700360" y="155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700360" y="1773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70036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700360" y="2205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700360" y="2421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00360" y="2637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700360" y="28544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700360" y="30700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700360" y="32860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700360" y="35020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700360" y="37180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00360" y="393372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70036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700360" y="4365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700360" y="458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700360" y="4797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00360" y="5013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62440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248148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233640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219240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204804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190512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176076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61568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32840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47276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118440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04004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89496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75204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607680" y="5231880"/>
            <a:ext cx="8100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463680" y="5231880"/>
            <a:ext cx="8064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4770360"/>
            <a:ext cx="431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519280" y="76500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48000" y="5057640"/>
            <a:ext cx="151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2268000" y="1916280"/>
            <a:ext cx="71640" cy="33130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692360" y="5229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35280" y="1341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95280" y="333360"/>
            <a:ext cx="2160720" cy="720720"/>
          </a:xfrm>
          <a:prstGeom prst="wedgeEllipseCallout">
            <a:avLst>
              <a:gd name="adj1" fmla="val -45222"/>
              <a:gd name="adj2" fmla="val 7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404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4756320"/>
            <a:ext cx="431280" cy="862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73097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73097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484360" y="5013360"/>
            <a:ext cx="216000" cy="2160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95640" y="5013360"/>
            <a:ext cx="144360" cy="2160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>
            <a:hlinkClick r:id="rId1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03640" y="549360"/>
            <a:ext cx="5940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直角三角形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AB</a:t>
            </a:r>
            <a:r>
              <a:rPr b="1" lang="zh-CN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直角三角        形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有什么关系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203640" y="2205000"/>
            <a:ext cx="561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,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和      有什么关系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203640" y="3860640"/>
            <a:ext cx="554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如果梯子的倾斜角不变，只改变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在梯子上的位置呢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3851280" y="1989000"/>
          <a:ext cx="601560" cy="82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1989000"/>
                    <a:ext cx="6015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"/>
          <p:cNvGraphicFramePr/>
          <p:nvPr/>
        </p:nvGraphicFramePr>
        <p:xfrm>
          <a:off x="4932360" y="1989000"/>
          <a:ext cx="746280" cy="82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1989000"/>
                    <a:ext cx="74628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"/>
          <p:cNvGraphicFramePr/>
          <p:nvPr/>
        </p:nvGraphicFramePr>
        <p:xfrm>
          <a:off x="5867280" y="1989000"/>
          <a:ext cx="612720" cy="825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67280" y="1989000"/>
                    <a:ext cx="612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"/>
          <p:cNvGraphicFramePr/>
          <p:nvPr/>
        </p:nvGraphicFramePr>
        <p:xfrm>
          <a:off x="6877080" y="1989000"/>
          <a:ext cx="666720" cy="825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77080" y="1989000"/>
                    <a:ext cx="666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635280" y="2781360"/>
          <a:ext cx="77940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35280" y="2781360"/>
                    <a:ext cx="7794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1042920" y="4724280"/>
          <a:ext cx="360360" cy="330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42920" y="4724280"/>
                    <a:ext cx="3603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7885080" y="1989000"/>
          <a:ext cx="612720" cy="825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885080" y="1989000"/>
                    <a:ext cx="612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50920" y="26028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结论：由相似三角形的性质得，只要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不变，那么都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619280" y="1052640"/>
          <a:ext cx="601560" cy="8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052640"/>
                    <a:ext cx="60156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2484360" y="1052640"/>
          <a:ext cx="746280" cy="82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052640"/>
                    <a:ext cx="74628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4067280" y="1052640"/>
          <a:ext cx="61272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1052640"/>
                    <a:ext cx="612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4932360" y="1052640"/>
          <a:ext cx="66672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1052640"/>
                    <a:ext cx="666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6443640" y="1052640"/>
          <a:ext cx="612720" cy="82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43640" y="1052640"/>
                    <a:ext cx="612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7308720" y="1052640"/>
          <a:ext cx="779760" cy="8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08720" y="1052640"/>
                    <a:ext cx="779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6" name=""/>
          <p:cNvSpPr/>
          <p:nvPr/>
        </p:nvSpPr>
        <p:spPr>
          <a:xfrm>
            <a:off x="2195640" y="1268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572000" y="119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948360" y="1268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10920" y="2133720"/>
            <a:ext cx="1873080" cy="2519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11280" y="4653000"/>
            <a:ext cx="1944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484360" y="2133720"/>
            <a:ext cx="71640" cy="2519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692360" y="3213000"/>
            <a:ext cx="0" cy="1440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" y="443700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258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35280" y="1844640"/>
            <a:ext cx="72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403280" y="4581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11280" y="4581360"/>
            <a:ext cx="93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348000" y="2276640"/>
            <a:ext cx="54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即在直角三角形中，当锐角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取一定度数时，不管三角形的大小如何，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的对边与斜边的比是一个固定值，叫做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的正弦，记作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sin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；邻边与斜边的比是一个固定值，叫做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的余弦，记作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cos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；对边与邻边的比是一个固定值，叫做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的正切，记作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tan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4114800" y="3886200"/>
            <a:ext cx="475128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2666880" y="762120"/>
            <a:ext cx="36720" cy="3914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457200" y="762120"/>
            <a:ext cx="2232000" cy="3887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4648320"/>
            <a:ext cx="23050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808360" y="112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735280" y="134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4343400"/>
            <a:ext cx="431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666880" y="5335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362320" y="4572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438280" y="441972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438280" y="441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46840" y="4191120"/>
            <a:ext cx="430560" cy="862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73097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73097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286000" y="28954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对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09480" y="4572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邻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095880" y="3962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019920" y="4572000"/>
            <a:ext cx="28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172200" y="44956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邻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34120" y="46483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34120" y="44956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140360" y="836640"/>
            <a:ext cx="475128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114800" y="2362320"/>
            <a:ext cx="475128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91120" y="4267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486400" y="31240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486400" y="3276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292720" y="162864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292720" y="1413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28954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324480" y="2666880"/>
            <a:ext cx="25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邻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372360" y="8128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对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095880" y="3200400"/>
            <a:ext cx="28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084720" y="1484280"/>
            <a:ext cx="28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010280" y="3200400"/>
            <a:ext cx="13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斜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114800" y="121932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948360" y="155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斜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9364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斜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09480" y="5257800"/>
            <a:ext cx="82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锐角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的正弦、余弦、和正切叫做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∠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锐角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三角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85800" y="57913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锐角的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三角函数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的值都是正实数，并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629400" y="5867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〈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in 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α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〈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143000" y="6278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〈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cos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α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〈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9480" y="457200"/>
            <a:ext cx="762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宋体"/>
                <a:hlinkClick r:id="rId1" action="ppaction://hlinksldjump"/>
              </a:rPr>
              <a:t>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712960" y="228600"/>
            <a:ext cx="46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角函数的定义，必须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直角三角形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2556000" y="2349360"/>
            <a:ext cx="0" cy="1440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0920" y="2349360"/>
            <a:ext cx="2303280" cy="1440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50920" y="3789360"/>
            <a:ext cx="23050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08360" y="112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735280" y="134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50920" y="3429000"/>
            <a:ext cx="431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56000" y="2133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124000" y="3645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268360" y="350028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68360" y="350028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24000" y="260280"/>
            <a:ext cx="835164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26028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t△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C=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=5,BC=3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, ∠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正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余弦和正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195640" y="6093000"/>
            <a:ext cx="21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68360" y="1268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以上计算结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发现了什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C=5,BC=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132000" y="2276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t△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3780000" y="2924280"/>
                <a:ext cx="4608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3059280" y="3645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4067280" y="3789360"/>
                <a:ext cx="139356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0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6300720" y="3789360"/>
                <a:ext cx="131616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2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395280" y="4365720"/>
                <a:ext cx="316692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0" y="33336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隶书"/>
                <a:ea typeface="隶书"/>
              </a:rPr>
              <a:t>例</a:t>
            </a:r>
            <a:r>
              <a:rPr b="1" lang="zh-CN" sz="2800" spc="-1" strike="noStrike">
                <a:solidFill>
                  <a:srgbClr val="cc33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如图</a:t>
            </a:r>
            <a:r>
              <a:rPr b="1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t△AB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∠B=9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AC=200,sinA=0.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求</a:t>
            </a:r>
            <a:r>
              <a:rPr b="1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:BC</a:t>
            </a:r>
            <a:r>
              <a:rPr b="1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的长</a:t>
            </a:r>
            <a:r>
              <a:rPr b="1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651640" y="981000"/>
            <a:ext cx="2971800" cy="2974320"/>
            <a:chOff x="5651640" y="981000"/>
            <a:chExt cx="2971800" cy="2974320"/>
          </a:xfrm>
        </p:grpSpPr>
        <p:sp>
          <p:nvSpPr>
            <p:cNvPr id="816" name=""/>
            <p:cNvSpPr/>
            <p:nvPr/>
          </p:nvSpPr>
          <p:spPr>
            <a:xfrm flipH="1">
              <a:off x="5956200" y="1438200"/>
              <a:ext cx="2362320" cy="21337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18320" y="1971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651640" y="3419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166240" y="981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166240" y="3495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937640" y="31910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324000" y="148428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187280" y="1557360"/>
                <a:ext cx="3889440" cy="29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541440" y="-387360"/>
            <a:ext cx="9753840" cy="7296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0"/>
            <a:ext cx="32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476280"/>
            <a:ext cx="3132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如果要你根据上述信息，用“塔身中心线与垂直中心线所成的角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Ө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Arial"/>
              </a:rPr>
              <a:t>（如图）“来描述比萨斜塔的倾斜程度，你能完成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Arial"/>
              </a:rPr>
              <a:t>从数学角度看，上述问题就是：已知直角三角形的某些边长，求其锐角的度数，对于直角三角形，我们知道三边之间的关系和两个锐角之间的关系，但我们不知道”边角之间的关系“，因此，这一问题的解答需要学习新的知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90792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9079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132000" y="907920"/>
            <a:ext cx="64800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4000" y="981000"/>
            <a:ext cx="729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塔身中心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88600" y="1197000"/>
            <a:ext cx="454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垂直中心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10040" y="2997360"/>
            <a:ext cx="166680" cy="98280"/>
          </a:xfrm>
          <a:custGeom>
            <a:avLst/>
            <a:gdLst/>
            <a:ahLst/>
            <a:rect l="l" t="t" r="r" b="b"/>
            <a:pathLst>
              <a:path w="105" h="62">
                <a:moveTo>
                  <a:pt x="9" y="32"/>
                </a:moveTo>
                <a:cubicBezTo>
                  <a:pt x="98" y="62"/>
                  <a:pt x="0" y="42"/>
                  <a:pt x="57" y="8"/>
                </a:cubicBezTo>
                <a:cubicBezTo>
                  <a:pt x="71" y="0"/>
                  <a:pt x="89" y="8"/>
                  <a:pt x="105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49228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539640" y="1484280"/>
            <a:ext cx="6477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如图</a:t>
            </a:r>
            <a:r>
              <a:rPr b="1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等腰△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AB=AC=5,BC=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求</a:t>
            </a:r>
            <a:r>
              <a:rPr b="1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: sinB,cosB,tan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55640" y="400536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24000" y="249228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解：过点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垂直于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324480" y="981000"/>
            <a:ext cx="2819160" cy="2135880"/>
            <a:chOff x="6324480" y="981000"/>
            <a:chExt cx="2819160" cy="2135880"/>
          </a:xfrm>
        </p:grpSpPr>
        <p:sp>
          <p:nvSpPr>
            <p:cNvPr id="829" name=""/>
            <p:cNvSpPr/>
            <p:nvPr/>
          </p:nvSpPr>
          <p:spPr>
            <a:xfrm>
              <a:off x="8153280" y="1742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857640" y="1742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38880" y="2657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67480" y="981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24480" y="2504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686440" y="2581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629040" y="27334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605280" y="1361880"/>
              <a:ext cx="10908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96080" y="1361880"/>
              <a:ext cx="1030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7308720" y="1341360"/>
            <a:ext cx="685800" cy="1755000"/>
            <a:chOff x="7308720" y="1341360"/>
            <a:chExt cx="685800" cy="1755000"/>
          </a:xfrm>
        </p:grpSpPr>
        <p:sp>
          <p:nvSpPr>
            <p:cNvPr id="839" name=""/>
            <p:cNvSpPr/>
            <p:nvPr/>
          </p:nvSpPr>
          <p:spPr>
            <a:xfrm>
              <a:off x="7308720" y="2332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537320" y="2636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689960" y="134136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"/>
          <p:cNvSpPr txBox="1"/>
          <p:nvPr/>
        </p:nvSpPr>
        <p:spPr>
          <a:xfrm>
            <a:off x="468360" y="260280"/>
            <a:ext cx="914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3" name=""/>
          <p:cNvSpPr/>
          <p:nvPr/>
        </p:nvSpPr>
        <p:spPr>
          <a:xfrm>
            <a:off x="539640" y="3141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=AC=5      ∴BD=1/2BC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55640" y="3716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203640" y="3645000"/>
                <a:ext cx="55450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7" name="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1042920" y="4653000"/>
                <a:ext cx="61214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tan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"/>
          <p:cNvGrpSpPr/>
          <p:nvPr/>
        </p:nvGrpSpPr>
        <p:grpSpPr>
          <a:xfrm>
            <a:off x="468360" y="549360"/>
            <a:ext cx="6551640" cy="877680"/>
            <a:chOff x="468360" y="549360"/>
            <a:chExt cx="6551640" cy="877680"/>
          </a:xfrm>
        </p:grpSpPr>
        <mc:AlternateContent>
          <mc:Choice xmlns:a14="http://schemas.microsoft.com/office/drawing/2010/main" Requires="a14">
            <p:sp>
              <p:nvSpPr>
                <p:cNvPr id="850" name=""/>
                <p:cNvSpPr txBox="1"/>
                <p:nvPr/>
              </p:nvSpPr>
              <p:spPr>
                <a:xfrm>
                  <a:off x="5573880" y="549360"/>
                  <a:ext cx="144612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1" name=""/>
            <p:cNvSpPr/>
            <p:nvPr/>
          </p:nvSpPr>
          <p:spPr>
            <a:xfrm>
              <a:off x="468360" y="701640"/>
              <a:ext cx="57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在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Rt△ABC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中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,∠C=90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隶书"/>
                  <a:ea typeface="隶书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,BC=20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755640" y="1341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求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周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7093080" y="1341360"/>
            <a:ext cx="1523880" cy="1844640"/>
            <a:chOff x="7093080" y="1341360"/>
            <a:chExt cx="1523880" cy="1844640"/>
          </a:xfrm>
        </p:grpSpPr>
        <p:sp>
          <p:nvSpPr>
            <p:cNvPr id="854" name=""/>
            <p:cNvSpPr/>
            <p:nvPr/>
          </p:nvSpPr>
          <p:spPr>
            <a:xfrm flipH="1" rot="5400000">
              <a:off x="7310880" y="1607760"/>
              <a:ext cx="1107360" cy="126648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577640" y="2726280"/>
              <a:ext cx="24228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188120" y="2334600"/>
              <a:ext cx="27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408520" y="2726280"/>
              <a:ext cx="20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93080" y="1341360"/>
              <a:ext cx="20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62920" y="2726280"/>
              <a:ext cx="20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468360" y="2133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1258920" y="1916280"/>
                <a:ext cx="6049800" cy="30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3" name=""/>
          <p:cNvSpPr/>
          <p:nvPr/>
        </p:nvSpPr>
        <p:spPr>
          <a:xfrm>
            <a:off x="755640" y="5373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此，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周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25+20+15=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0" y="914400"/>
            <a:ext cx="8839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Rt△ABC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锐角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对边和邻边同时扩大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sin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值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扩大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倍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缩小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变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能确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3809880"/>
            <a:ext cx="6324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已知∠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A,∠B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为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若∠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A=∠B,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则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sinA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sin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sinA=sinB,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则∠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∠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410080" y="1676520"/>
            <a:ext cx="2971800" cy="2364480"/>
            <a:chOff x="5410080" y="1676520"/>
            <a:chExt cx="2971800" cy="2364480"/>
          </a:xfrm>
        </p:grpSpPr>
        <p:sp>
          <p:nvSpPr>
            <p:cNvPr id="867" name=""/>
            <p:cNvSpPr/>
            <p:nvPr/>
          </p:nvSpPr>
          <p:spPr>
            <a:xfrm flipH="1">
              <a:off x="5638680" y="2092320"/>
              <a:ext cx="2527200" cy="1564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41008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883280" y="1676520"/>
              <a:ext cx="3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860960" y="3581280"/>
              <a:ext cx="52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785000" y="327636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 txBox="1"/>
          <p:nvPr/>
        </p:nvSpPr>
        <p:spPr>
          <a:xfrm>
            <a:off x="533520" y="0"/>
            <a:ext cx="914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73" name=""/>
          <p:cNvSpPr/>
          <p:nvPr/>
        </p:nvSpPr>
        <p:spPr>
          <a:xfrm>
            <a:off x="4140360" y="148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356000" y="4581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356000" y="5300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326880" y="1219320"/>
            <a:ext cx="5289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∠C=90°CD⊥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28600" y="419112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上图中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BD=6,CD=12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os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值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5562720" y="1752480"/>
            <a:ext cx="3124080" cy="2059920"/>
            <a:chOff x="5562720" y="1752480"/>
            <a:chExt cx="3124080" cy="2059920"/>
          </a:xfrm>
        </p:grpSpPr>
        <p:sp>
          <p:nvSpPr>
            <p:cNvPr id="879" name=""/>
            <p:cNvSpPr/>
            <p:nvPr/>
          </p:nvSpPr>
          <p:spPr>
            <a:xfrm rot="13715400">
              <a:off x="7506360" y="2169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04120" y="30481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6272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808760" y="34354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7830720" y="2133720"/>
              <a:ext cx="1800" cy="13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5867280" y="2130120"/>
              <a:ext cx="1979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867280" y="3429000"/>
              <a:ext cx="26179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848720" y="2133720"/>
              <a:ext cx="672840" cy="130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54380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22960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6201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165240" y="1773360"/>
            <a:ext cx="5486400" cy="1211040"/>
            <a:chOff x="165240" y="1773360"/>
            <a:chExt cx="5486400" cy="1211040"/>
          </a:xfrm>
        </p:grpSpPr>
        <mc:AlternateContent>
          <mc:Choice xmlns:a14="http://schemas.microsoft.com/office/drawing/2010/main" Requires="a14">
            <p:sp>
              <p:nvSpPr>
                <p:cNvPr id="891" name=""/>
                <p:cNvSpPr txBox="1"/>
                <p:nvPr/>
              </p:nvSpPr>
              <p:spPr>
                <a:xfrm>
                  <a:off x="165240" y="1787400"/>
                  <a:ext cx="5486400" cy="11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f>
                        <m:num/>
                        <m:den/>
                      </m:f>
                      <m:r>
                        <m:t xml:space="preserve">=</m:t>
                      </m:r>
                      <m:f>
                        <m:num/>
                        <m:den/>
                      </m:f>
                      <m:r>
                        <m:t xml:space="preserve">=</m:t>
                      </m:r>
                      <m:f>
                        <m:num/>
                        <m:den/>
                      </m:f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2" name=""/>
            <p:cNvSpPr/>
            <p:nvPr/>
          </p:nvSpPr>
          <p:spPr>
            <a:xfrm>
              <a:off x="2406600" y="1773360"/>
              <a:ext cx="273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    )    (    )    (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73480" y="2514600"/>
              <a:ext cx="279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    )    (    )    (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"/>
          <p:cNvSpPr txBox="1"/>
          <p:nvPr/>
        </p:nvSpPr>
        <p:spPr>
          <a:xfrm>
            <a:off x="685800" y="0"/>
            <a:ext cx="914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04920" y="1974960"/>
            <a:ext cx="46846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分别根据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求∠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三个三角函数值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27160" y="3638520"/>
            <a:ext cx="60069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Rt△AB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∠C=90°, (1)AC=3,AB=6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in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BC=3,sinA=  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求锐角三角函数时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勾股定理的运用是很重要的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5334120" y="1828800"/>
            <a:ext cx="3657600" cy="1831320"/>
            <a:chOff x="5334120" y="1828800"/>
            <a:chExt cx="3657600" cy="1831320"/>
          </a:xfrm>
        </p:grpSpPr>
        <p:sp>
          <p:nvSpPr>
            <p:cNvPr id="899" name=""/>
            <p:cNvSpPr/>
            <p:nvPr/>
          </p:nvSpPr>
          <p:spPr>
            <a:xfrm>
              <a:off x="6401160" y="2743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3412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62976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55344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82040" y="243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5562000" y="2209680"/>
              <a:ext cx="1219320" cy="9144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096240" y="2743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153640" y="2743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8696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38224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30592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534520" y="243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7315560" y="2209680"/>
              <a:ext cx="1218960" cy="9144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644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867640" y="3200400"/>
              <a:ext cx="6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544160" y="3200400"/>
              <a:ext cx="60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2666880" y="4437000"/>
                <a:ext cx="370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6" name=""/>
          <p:cNvSpPr txBox="1"/>
          <p:nvPr/>
        </p:nvSpPr>
        <p:spPr>
          <a:xfrm>
            <a:off x="685800" y="609480"/>
            <a:ext cx="914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5067000" cy="119052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8893080" cy="597528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1187280" y="2492280"/>
            <a:ext cx="62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99"/>
                </a:solidFill>
                <a:latin typeface="Arial"/>
              </a:rPr>
              <a:t>谈谈今天的收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539640" y="189000"/>
            <a:ext cx="23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畅所欲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4140360" y="4797360"/>
            <a:ext cx="475128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2734920" y="1314360"/>
            <a:ext cx="36360" cy="3915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503280" y="1341360"/>
            <a:ext cx="2232000" cy="3888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66560" y="5229360"/>
            <a:ext cx="23050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808360" y="112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735280" y="1341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4797360"/>
            <a:ext cx="431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554200" y="765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340000" y="5229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11280" y="494172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11280" y="4756320"/>
            <a:ext cx="431280" cy="862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73097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73097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627280" y="32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对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39640" y="5445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邻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084720" y="472428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012000" y="5445000"/>
            <a:ext cx="28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56360" y="537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邻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292720" y="551664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292720" y="530064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140360" y="836640"/>
            <a:ext cx="475128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140360" y="2997360"/>
            <a:ext cx="475128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211640" y="5084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508720" y="3573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508720" y="3789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292720" y="162864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292720" y="1413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284720" y="335772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555600" y="3117960"/>
            <a:ext cx="16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邻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555600" y="812880"/>
            <a:ext cx="16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对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084720" y="3645000"/>
            <a:ext cx="28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084720" y="1484280"/>
            <a:ext cx="28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185600" y="36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斜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141080" y="11970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113960" y="155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斜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900000" y="278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斜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457200"/>
            <a:ext cx="7621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  <a:hlinkClick r:id="rId1" action="ppaction://hlinksldjump"/>
              </a:rPr>
              <a:t>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190760" y="2282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回味无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  <a:hlinkClick r:id="rId1" action="ppaction://hlinksldjump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应该注意的几个问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52280" y="1981080"/>
            <a:ext cx="8610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sinA,cosA,tanA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在直角三角形中定义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 ∠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锐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数形结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构造直角三角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sinA,cosA,tanA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个完整的符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习惯省去“∠”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sinA,cosA,tanA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个比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比的顺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sinA,cosA,tanA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0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单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sinA,cosA,tanA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大小只与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大小有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与直角三角形的边长无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角相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其三角函数值相等；两锐角的三角函数值相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这两个锐角相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9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61" name=""/>
          <p:cNvGrpSpPr/>
          <p:nvPr/>
        </p:nvGrpSpPr>
        <p:grpSpPr>
          <a:xfrm>
            <a:off x="2340000" y="692280"/>
            <a:ext cx="4104720" cy="2809080"/>
            <a:chOff x="2340000" y="692280"/>
            <a:chExt cx="4104720" cy="2809080"/>
          </a:xfrm>
        </p:grpSpPr>
        <p:sp>
          <p:nvSpPr>
            <p:cNvPr id="962" name=""/>
            <p:cNvSpPr/>
            <p:nvPr/>
          </p:nvSpPr>
          <p:spPr>
            <a:xfrm>
              <a:off x="2340000" y="692280"/>
              <a:ext cx="4104720" cy="28090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ede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99ff99"/>
                  </a:solidFill>
                  <a:latin typeface="Times New Roman"/>
                  <a:ea typeface="华文行楷"/>
                </a:rPr>
                <a:t>  </a:t>
              </a:r>
              <a:r>
                <a:rPr b="1" lang="zh-CN" sz="6000" spc="-1" strike="noStrike">
                  <a:solidFill>
                    <a:srgbClr val="99ff99"/>
                  </a:solidFill>
                  <a:latin typeface="Times New Roman"/>
                  <a:ea typeface="华文行楷"/>
                </a:rPr>
                <a:t>作业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4985280" y="1387440"/>
              <a:ext cx="676440" cy="133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4" name=""/>
          <p:cNvSpPr/>
          <p:nvPr/>
        </p:nvSpPr>
        <p:spPr>
          <a:xfrm>
            <a:off x="2411280" y="3860640"/>
            <a:ext cx="431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行楷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华文行楷"/>
                <a:ea typeface="华文行楷"/>
              </a:rPr>
              <a:t>书本作业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华文行楷"/>
                <a:ea typeface="华文行楷"/>
              </a:rPr>
              <a:t>同步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3"/>
          <a:stretch/>
        </p:blipFill>
        <p:spPr>
          <a:xfrm>
            <a:off x="7596360" y="4941720"/>
            <a:ext cx="1547640" cy="1916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87280" y="2060640"/>
            <a:ext cx="6840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锐角三角函数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(1)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356000" y="5516640"/>
            <a:ext cx="5040360" cy="649080"/>
          </a:xfrm>
          <a:prstGeom prst="parallelogram">
            <a:avLst>
              <a:gd name="adj" fmla="val 1941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5589720"/>
            <a:ext cx="3311640" cy="503280"/>
          </a:xfrm>
          <a:prstGeom prst="parallelogram">
            <a:avLst>
              <a:gd name="adj" fmla="val 1645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7080" y="6165720"/>
            <a:ext cx="935280" cy="549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926240" y="7176600"/>
            <a:ext cx="82080" cy="13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57560" y="1557360"/>
            <a:ext cx="46080" cy="45640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6093000"/>
            <a:ext cx="266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89240" y="132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57560" y="1576440"/>
            <a:ext cx="633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57560" y="1828800"/>
            <a:ext cx="633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57560" y="2081160"/>
            <a:ext cx="633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57560" y="2333520"/>
            <a:ext cx="633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57560" y="2585880"/>
            <a:ext cx="633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838600"/>
            <a:ext cx="6336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57560" y="15764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3860640"/>
            <a:ext cx="0" cy="22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24360" y="1484280"/>
            <a:ext cx="0" cy="18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3429000"/>
            <a:ext cx="8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57560" y="3090960"/>
            <a:ext cx="6336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57560" y="3344760"/>
            <a:ext cx="633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57560" y="3597120"/>
            <a:ext cx="633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57560" y="3849840"/>
            <a:ext cx="6336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57560" y="4102200"/>
            <a:ext cx="6336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57560" y="4354560"/>
            <a:ext cx="633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57560" y="4606920"/>
            <a:ext cx="633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57560" y="4859280"/>
            <a:ext cx="633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57560" y="5111640"/>
            <a:ext cx="633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57560" y="5364000"/>
            <a:ext cx="633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57560" y="5616720"/>
            <a:ext cx="6336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57560" y="5869080"/>
            <a:ext cx="6336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183840" y="6122520"/>
            <a:ext cx="42480" cy="16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372840" y="6122520"/>
            <a:ext cx="41040" cy="16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120480" y="6122520"/>
            <a:ext cx="42480" cy="16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932920" y="6122520"/>
            <a:ext cx="41040" cy="16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744280" y="6122520"/>
            <a:ext cx="42480" cy="16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555280" y="6122520"/>
            <a:ext cx="42480" cy="16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493360" y="6122520"/>
            <a:ext cx="41040" cy="16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430000" y="6122520"/>
            <a:ext cx="42480" cy="16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758240" y="6094080"/>
            <a:ext cx="42480" cy="16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974240" y="6122520"/>
            <a:ext cx="42480" cy="16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189880" y="6094080"/>
            <a:ext cx="40680" cy="16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541880" y="6094080"/>
            <a:ext cx="42840" cy="16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57560" y="612144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57560" y="61214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6121440"/>
            <a:ext cx="0" cy="420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55720" y="6373800"/>
            <a:ext cx="50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634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640080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84360" y="638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1413000"/>
            <a:ext cx="792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5080" y="6237360"/>
            <a:ext cx="934920" cy="549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880520" y="6136200"/>
            <a:ext cx="7596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076360" y="6136200"/>
            <a:ext cx="7416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204520" y="6136200"/>
            <a:ext cx="7596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753440" y="6136200"/>
            <a:ext cx="7452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557360"/>
            <a:ext cx="14400" cy="45766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105160" y="2133720"/>
            <a:ext cx="2284200" cy="38862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6134040"/>
            <a:ext cx="4319280" cy="316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31200" y="1327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66040" y="1579680"/>
            <a:ext cx="12852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66040" y="1833480"/>
            <a:ext cx="12852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6040" y="2085840"/>
            <a:ext cx="1285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66040" y="2338560"/>
            <a:ext cx="12852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66040" y="2592360"/>
            <a:ext cx="12852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66040" y="2844720"/>
            <a:ext cx="1285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6040" y="157968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532720" y="3933720"/>
            <a:ext cx="0" cy="219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532720" y="1483920"/>
            <a:ext cx="0" cy="18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78920" y="35002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6040" y="3097080"/>
            <a:ext cx="1285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66040" y="3352680"/>
            <a:ext cx="1285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66040" y="3605040"/>
            <a:ext cx="1285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66040" y="3857760"/>
            <a:ext cx="12852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6040" y="4111560"/>
            <a:ext cx="1285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6040" y="4363920"/>
            <a:ext cx="1285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6040" y="4616280"/>
            <a:ext cx="1285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66040" y="4870440"/>
            <a:ext cx="1285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66040" y="5122800"/>
            <a:ext cx="1285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66040" y="5375160"/>
            <a:ext cx="1285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66040" y="5629320"/>
            <a:ext cx="1285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6040" y="5881680"/>
            <a:ext cx="1285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525800" y="6136200"/>
            <a:ext cx="7416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652880" y="6136200"/>
            <a:ext cx="7560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782840" y="6136200"/>
            <a:ext cx="7416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911000" y="6136200"/>
            <a:ext cx="7596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8041680" y="6136200"/>
            <a:ext cx="7416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395120" y="6136200"/>
            <a:ext cx="7596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268040" y="6136200"/>
            <a:ext cx="7452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38080" y="6136200"/>
            <a:ext cx="7596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09920" y="6136200"/>
            <a:ext cx="7416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880680" y="6136200"/>
            <a:ext cx="7452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752160" y="6136200"/>
            <a:ext cx="7452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624000" y="6136200"/>
            <a:ext cx="7416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493320" y="6136200"/>
            <a:ext cx="7452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236640" y="6136200"/>
            <a:ext cx="7416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366960" y="6136200"/>
            <a:ext cx="7416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08120" y="6136200"/>
            <a:ext cx="7416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977440" y="6136200"/>
            <a:ext cx="7596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849280" y="6136200"/>
            <a:ext cx="7416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720400" y="6136200"/>
            <a:ext cx="7596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592240" y="6136200"/>
            <a:ext cx="7416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461560" y="6136200"/>
            <a:ext cx="7596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334480" y="6136200"/>
            <a:ext cx="74520" cy="1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6040" y="61340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66040" y="6134040"/>
            <a:ext cx="0" cy="50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35640" y="6165720"/>
            <a:ext cx="0" cy="42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35720" y="6388200"/>
            <a:ext cx="103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435280" y="6381720"/>
            <a:ext cx="15145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51640" y="1484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61628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6237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413000"/>
            <a:ext cx="792360" cy="468000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720720" cy="541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>
            <a:off x="2050560" y="1557360"/>
            <a:ext cx="1008360" cy="43927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484000" y="1557360"/>
            <a:ext cx="863640" cy="45356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340000" y="55897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850920" y="55897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68360" y="5157720"/>
            <a:ext cx="358920" cy="716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1440" y="4797360"/>
            <a:ext cx="358920" cy="716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3080" y="4365720"/>
            <a:ext cx="358560" cy="712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3933720"/>
            <a:ext cx="358920" cy="716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29080" y="3502080"/>
            <a:ext cx="287280" cy="712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3070080"/>
            <a:ext cx="287280" cy="716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4720" y="2637000"/>
            <a:ext cx="287280" cy="712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2060640"/>
            <a:ext cx="287280" cy="712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24000" y="5589720"/>
            <a:ext cx="432000" cy="14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1447920"/>
            <a:ext cx="792000" cy="468000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7451640" y="1052640"/>
            <a:ext cx="720720" cy="54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292720" y="573408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44000" y="5734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148360" y="5516640"/>
            <a:ext cx="1079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866920" y="551664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588000" y="573408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8388000" y="551664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410080" y="2362320"/>
            <a:ext cx="2108160" cy="38862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5562720"/>
            <a:ext cx="381240" cy="1522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105520"/>
            <a:ext cx="432000" cy="2156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4724280"/>
            <a:ext cx="432000" cy="216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4419720"/>
            <a:ext cx="355680" cy="1396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4038480"/>
            <a:ext cx="360360" cy="1429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3657600"/>
            <a:ext cx="360360" cy="14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3276720"/>
            <a:ext cx="304560" cy="1522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2895480"/>
            <a:ext cx="287280" cy="1447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162920" y="2438280"/>
            <a:ext cx="287280" cy="1429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132000" y="5300640"/>
            <a:ext cx="6335640" cy="679320"/>
            <a:chOff x="3132000" y="5300640"/>
            <a:chExt cx="6335640" cy="679320"/>
          </a:xfrm>
        </p:grpSpPr>
        <p:sp>
          <p:nvSpPr>
            <p:cNvPr id="202" name=""/>
            <p:cNvSpPr/>
            <p:nvPr/>
          </p:nvSpPr>
          <p:spPr>
            <a:xfrm>
              <a:off x="3308400" y="5300640"/>
              <a:ext cx="6159240" cy="649080"/>
            </a:xfrm>
            <a:prstGeom prst="parallelogram">
              <a:avLst>
                <a:gd name="adj" fmla="val 2372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32000" y="5948280"/>
              <a:ext cx="5278680" cy="316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76440" y="5587920"/>
              <a:ext cx="439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090920" y="5300640"/>
              <a:ext cx="13208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539960" y="5300640"/>
              <a:ext cx="1583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946480" y="5300640"/>
              <a:ext cx="14079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7956720" y="1270080"/>
            <a:ext cx="792000" cy="468000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704760" y="3961800"/>
            <a:ext cx="4960440" cy="1954440"/>
            <a:chOff x="3704760" y="3961800"/>
            <a:chExt cx="4960440" cy="1954440"/>
          </a:xfrm>
        </p:grpSpPr>
        <p:sp>
          <p:nvSpPr>
            <p:cNvPr id="210" name=""/>
            <p:cNvSpPr/>
            <p:nvPr/>
          </p:nvSpPr>
          <p:spPr>
            <a:xfrm flipH="1">
              <a:off x="3744720" y="4176720"/>
              <a:ext cx="4605480" cy="12794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65200" y="3961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704760" y="4376160"/>
              <a:ext cx="4854240" cy="15400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02360" y="5290200"/>
              <a:ext cx="58680" cy="35460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06280" y="5180040"/>
              <a:ext cx="59760" cy="3531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61960" y="5119920"/>
              <a:ext cx="108000" cy="3027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66960" y="5008320"/>
              <a:ext cx="108360" cy="3027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70880" y="4897800"/>
              <a:ext cx="57600" cy="252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75880" y="4786200"/>
              <a:ext cx="57600" cy="2527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80880" y="4674600"/>
              <a:ext cx="57600" cy="2527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86240" y="4563360"/>
              <a:ext cx="57240" cy="25200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39400" y="4402080"/>
              <a:ext cx="107640" cy="3031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43320" y="4291920"/>
              <a:ext cx="158400" cy="25020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11280" y="90792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梯子在上升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过程中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倾斜角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铅直高度与梯子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平宽度与梯子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铅直高度与水平宽度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都发生了什么变化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2720" y="4437000"/>
            <a:ext cx="0" cy="1513080"/>
          </a:xfrm>
          <a:prstGeom prst="line">
            <a:avLst/>
          </a:prstGeom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5950080"/>
            <a:ext cx="4897440" cy="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08720" y="602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平宽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34080" y="4365720"/>
            <a:ext cx="10335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Arial"/>
              </a:rPr>
              <a:t>铅直高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720" y="5589720"/>
            <a:ext cx="43056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03640" y="5373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斜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956720" y="836640"/>
            <a:ext cx="7207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3132000" y="5300640"/>
            <a:ext cx="6335640" cy="679320"/>
            <a:chOff x="3132000" y="5300640"/>
            <a:chExt cx="6335640" cy="679320"/>
          </a:xfrm>
        </p:grpSpPr>
        <p:sp>
          <p:nvSpPr>
            <p:cNvPr id="232" name=""/>
            <p:cNvSpPr/>
            <p:nvPr/>
          </p:nvSpPr>
          <p:spPr>
            <a:xfrm>
              <a:off x="3308400" y="5300640"/>
              <a:ext cx="6159240" cy="649080"/>
            </a:xfrm>
            <a:prstGeom prst="parallelogram">
              <a:avLst>
                <a:gd name="adj" fmla="val 2372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32000" y="5948280"/>
              <a:ext cx="5278680" cy="316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76440" y="5587920"/>
              <a:ext cx="439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090920" y="5300640"/>
              <a:ext cx="13208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539960" y="5300640"/>
              <a:ext cx="1583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946480" y="5300640"/>
              <a:ext cx="14079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956720" y="1270080"/>
            <a:ext cx="792000" cy="468000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037400" y="3027240"/>
            <a:ext cx="4544640" cy="2865600"/>
            <a:chOff x="4037400" y="3027240"/>
            <a:chExt cx="4544640" cy="2865600"/>
          </a:xfrm>
        </p:grpSpPr>
        <p:sp>
          <p:nvSpPr>
            <p:cNvPr id="240" name=""/>
            <p:cNvSpPr/>
            <p:nvPr/>
          </p:nvSpPr>
          <p:spPr>
            <a:xfrm flipH="1">
              <a:off x="4037400" y="3298320"/>
              <a:ext cx="4276440" cy="21351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582040" y="3027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086000" y="3454200"/>
              <a:ext cx="4470840" cy="24386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52920" y="5164200"/>
              <a:ext cx="125640" cy="3369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28400" y="4978800"/>
              <a:ext cx="126360" cy="3355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6440" y="4852080"/>
              <a:ext cx="163800" cy="2764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42640" y="4665240"/>
              <a:ext cx="163800" cy="2764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7760" y="4479480"/>
              <a:ext cx="104760" cy="2368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94320" y="4292640"/>
              <a:ext cx="104400" cy="2368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70520" y="4105800"/>
              <a:ext cx="104760" cy="2368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46720" y="3918960"/>
              <a:ext cx="104400" cy="2368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2800" y="3693600"/>
              <a:ext cx="163800" cy="2768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38280" y="3508200"/>
              <a:ext cx="203400" cy="2149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rot="969600">
            <a:off x="4385160" y="5267880"/>
            <a:ext cx="1005120" cy="186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75" y="147"/>
                </a:moveTo>
                <a:arcTo wR="10800" hR="10800" stAng="-4832415" swAng="3410057"/>
                <a:lnTo>
                  <a:pt x="10800" y="10800"/>
                </a:lnTo>
                <a:close/>
              </a:path>
              <a:path fill="none" w="21600" h="21600">
                <a:moveTo>
                  <a:pt x="12575" y="147"/>
                </a:moveTo>
                <a:arcTo wR="10800" hR="10800" stAng="-4832415" swAng="3410057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532720" y="3500280"/>
            <a:ext cx="0" cy="2449800"/>
          </a:xfrm>
          <a:prstGeom prst="line">
            <a:avLst/>
          </a:prstGeom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067280" y="5950080"/>
            <a:ext cx="4465440" cy="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34080" y="4365720"/>
            <a:ext cx="10335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Arial"/>
              </a:rPr>
              <a:t>铅直高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08720" y="602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平宽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956720" y="836640"/>
            <a:ext cx="720720" cy="5414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11280" y="90792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梯子在上升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过程中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倾斜角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铅直高度与梯子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平宽度与梯子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铅直高度与水平宽度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都发生了什么变化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3132000" y="5300640"/>
            <a:ext cx="6335640" cy="679320"/>
            <a:chOff x="3132000" y="5300640"/>
            <a:chExt cx="6335640" cy="679320"/>
          </a:xfrm>
        </p:grpSpPr>
        <p:sp>
          <p:nvSpPr>
            <p:cNvPr id="261" name=""/>
            <p:cNvSpPr/>
            <p:nvPr/>
          </p:nvSpPr>
          <p:spPr>
            <a:xfrm>
              <a:off x="3308400" y="5300640"/>
              <a:ext cx="6159240" cy="649080"/>
            </a:xfrm>
            <a:prstGeom prst="parallelogram">
              <a:avLst>
                <a:gd name="adj" fmla="val 2372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32000" y="5948280"/>
              <a:ext cx="5278680" cy="316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76440" y="5587920"/>
              <a:ext cx="439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090920" y="5300640"/>
              <a:ext cx="13208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4539960" y="5300640"/>
              <a:ext cx="1583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946480" y="5300640"/>
              <a:ext cx="14079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956720" y="1270080"/>
            <a:ext cx="792000" cy="468000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145400" y="2636640"/>
            <a:ext cx="4304880" cy="3290760"/>
            <a:chOff x="4145400" y="2636640"/>
            <a:chExt cx="4304880" cy="3290760"/>
          </a:xfrm>
        </p:grpSpPr>
        <p:sp>
          <p:nvSpPr>
            <p:cNvPr id="269" name=""/>
            <p:cNvSpPr/>
            <p:nvPr/>
          </p:nvSpPr>
          <p:spPr>
            <a:xfrm flipH="1">
              <a:off x="4145400" y="2932920"/>
              <a:ext cx="4047480" cy="25423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33360" y="2636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238640" y="3063960"/>
              <a:ext cx="4211640" cy="28634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32120" y="5156640"/>
              <a:ext cx="158040" cy="3232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87800" y="4935600"/>
              <a:ext cx="158400" cy="3214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11440" y="4776480"/>
              <a:ext cx="190440" cy="25920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67840" y="4553640"/>
              <a:ext cx="190080" cy="2595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23160" y="4332240"/>
              <a:ext cx="127440" cy="2257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79560" y="4109760"/>
              <a:ext cx="127440" cy="225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35960" y="3886920"/>
              <a:ext cx="127080" cy="2257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92000" y="3664440"/>
              <a:ext cx="127080" cy="225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84680" y="3409200"/>
              <a:ext cx="189720" cy="2595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40000" y="3188160"/>
              <a:ext cx="223560" cy="1940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716360" y="4894560"/>
            <a:ext cx="1006200" cy="186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31" y="2198"/>
                </a:moveTo>
                <a:arcTo wR="10800" hR="10800" stAng="-3167522" swAng="3706345"/>
                <a:lnTo>
                  <a:pt x="10800" y="10800"/>
                </a:lnTo>
                <a:close/>
              </a:path>
              <a:path fill="none" w="21600" h="21600">
                <a:moveTo>
                  <a:pt x="17331" y="2198"/>
                </a:moveTo>
                <a:arcTo wR="10800" hR="10800" stAng="-3167522" swAng="3706345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88360" y="3068640"/>
            <a:ext cx="0" cy="2952720"/>
          </a:xfrm>
          <a:prstGeom prst="line">
            <a:avLst/>
          </a:prstGeom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84720" y="5950080"/>
            <a:ext cx="4103640" cy="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34080" y="4365720"/>
            <a:ext cx="10335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Arial"/>
              </a:rPr>
              <a:t>铅直高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08720" y="602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平宽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7956720" y="836640"/>
            <a:ext cx="720720" cy="541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11280" y="62064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梯子在上升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过程中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倾斜角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铅直高度与梯子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平宽度与梯子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铅直高度与水平宽度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都发生了什么变化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3132000" y="5300640"/>
            <a:ext cx="6335640" cy="679320"/>
            <a:chOff x="3132000" y="5300640"/>
            <a:chExt cx="6335640" cy="679320"/>
          </a:xfrm>
        </p:grpSpPr>
        <p:sp>
          <p:nvSpPr>
            <p:cNvPr id="290" name=""/>
            <p:cNvSpPr/>
            <p:nvPr/>
          </p:nvSpPr>
          <p:spPr>
            <a:xfrm>
              <a:off x="3308400" y="5300640"/>
              <a:ext cx="6159240" cy="649080"/>
            </a:xfrm>
            <a:prstGeom prst="parallelogram">
              <a:avLst>
                <a:gd name="adj" fmla="val 2372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32000" y="5948280"/>
              <a:ext cx="5278680" cy="316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76440" y="5587920"/>
              <a:ext cx="439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090920" y="5300640"/>
              <a:ext cx="13208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4539960" y="5300640"/>
              <a:ext cx="1583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946480" y="5300640"/>
              <a:ext cx="14079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956720" y="1270080"/>
            <a:ext cx="792000" cy="468000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677120" y="2002320"/>
            <a:ext cx="3818160" cy="3972240"/>
            <a:chOff x="4677120" y="2002320"/>
            <a:chExt cx="3818160" cy="3972240"/>
          </a:xfrm>
        </p:grpSpPr>
        <p:sp>
          <p:nvSpPr>
            <p:cNvPr id="298" name=""/>
            <p:cNvSpPr/>
            <p:nvPr/>
          </p:nvSpPr>
          <p:spPr>
            <a:xfrm flipH="1">
              <a:off x="4677120" y="2335680"/>
              <a:ext cx="3542040" cy="32097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03840" y="2002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847760" y="2420280"/>
              <a:ext cx="3647520" cy="35542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00840" y="5146920"/>
              <a:ext cx="212040" cy="2905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12240" y="4867200"/>
              <a:ext cx="212040" cy="2887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03480" y="4654080"/>
              <a:ext cx="232560" cy="2217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5600" y="4372560"/>
              <a:ext cx="232200" cy="2221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26640" y="4092480"/>
              <a:ext cx="164880" cy="19980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38760" y="3810960"/>
              <a:ext cx="164520" cy="19980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50520" y="3529440"/>
              <a:ext cx="164880" cy="2001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62640" y="3248280"/>
              <a:ext cx="164520" cy="19980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06000" y="2945880"/>
              <a:ext cx="232560" cy="2224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817400" y="2666160"/>
              <a:ext cx="253800" cy="1522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5292720" y="4988880"/>
            <a:ext cx="1006200" cy="186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266" y="285"/>
                </a:moveTo>
                <a:arcTo wR="10800" hR="10800" stAng="-4608032" swAng="4870128"/>
                <a:lnTo>
                  <a:pt x="10800" y="10800"/>
                </a:lnTo>
                <a:close/>
              </a:path>
              <a:path fill="none" w="21600" h="21600">
                <a:moveTo>
                  <a:pt x="13266" y="285"/>
                </a:moveTo>
                <a:arcTo wR="10800" hR="10800" stAng="-4608032" swAng="4870128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459640" y="2492280"/>
            <a:ext cx="0" cy="3529080"/>
          </a:xfrm>
          <a:prstGeom prst="line">
            <a:avLst/>
          </a:prstGeom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59280" y="5950080"/>
            <a:ext cx="3600360" cy="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34080" y="4365720"/>
            <a:ext cx="10335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Arial"/>
              </a:rPr>
              <a:t>铅直高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08720" y="602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平宽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7956720" y="836640"/>
            <a:ext cx="720720" cy="541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50920" y="62064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梯子在上升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过程中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倾斜角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铅直高度与梯子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平宽度与梯子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铅直高度与水平宽度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都发生了什么变化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3132000" y="5300640"/>
            <a:ext cx="6335640" cy="679320"/>
            <a:chOff x="3132000" y="5300640"/>
            <a:chExt cx="6335640" cy="679320"/>
          </a:xfrm>
        </p:grpSpPr>
        <p:sp>
          <p:nvSpPr>
            <p:cNvPr id="319" name=""/>
            <p:cNvSpPr/>
            <p:nvPr/>
          </p:nvSpPr>
          <p:spPr>
            <a:xfrm>
              <a:off x="3308400" y="5300640"/>
              <a:ext cx="6159240" cy="649080"/>
            </a:xfrm>
            <a:prstGeom prst="parallelogram">
              <a:avLst>
                <a:gd name="adj" fmla="val 2372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32000" y="5948280"/>
              <a:ext cx="5278680" cy="316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76440" y="5587920"/>
              <a:ext cx="439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090920" y="5300640"/>
              <a:ext cx="13208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539960" y="5300640"/>
              <a:ext cx="1583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946480" y="5300640"/>
              <a:ext cx="14079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7956720" y="1270080"/>
            <a:ext cx="792000" cy="468000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048640" y="1632600"/>
            <a:ext cx="3365280" cy="4411800"/>
            <a:chOff x="5048640" y="1632600"/>
            <a:chExt cx="3365280" cy="4411800"/>
          </a:xfrm>
        </p:grpSpPr>
        <p:sp>
          <p:nvSpPr>
            <p:cNvPr id="327" name=""/>
            <p:cNvSpPr/>
            <p:nvPr/>
          </p:nvSpPr>
          <p:spPr>
            <a:xfrm flipH="1">
              <a:off x="5048640" y="1987560"/>
              <a:ext cx="3080520" cy="3654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267760" y="1632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275080" y="2034360"/>
              <a:ext cx="3138840" cy="40100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15480" y="5190480"/>
              <a:ext cx="248760" cy="2595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86560" y="4871880"/>
              <a:ext cx="248760" cy="25740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6480" y="4621320"/>
              <a:ext cx="260280" cy="1886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17920" y="4300920"/>
              <a:ext cx="260280" cy="1886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89000" y="3981600"/>
              <a:ext cx="190080" cy="1756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60440" y="3660840"/>
              <a:ext cx="190080" cy="1756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31880" y="3340440"/>
              <a:ext cx="190080" cy="1756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03320" y="3019680"/>
              <a:ext cx="189720" cy="1756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04200" y="2687400"/>
              <a:ext cx="260280" cy="18900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775640" y="2368800"/>
              <a:ext cx="271800" cy="1162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653440" y="4941720"/>
            <a:ext cx="1005840" cy="187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66209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662096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88360" y="2133720"/>
            <a:ext cx="0" cy="3816360"/>
          </a:xfrm>
          <a:prstGeom prst="line">
            <a:avLst/>
          </a:prstGeom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64000" y="5950080"/>
            <a:ext cx="3024360" cy="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34080" y="4365720"/>
            <a:ext cx="10335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66"/>
                </a:solidFill>
                <a:latin typeface="Arial"/>
              </a:rPr>
              <a:t>铅直高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08720" y="602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平宽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7956720" y="836640"/>
            <a:ext cx="720720" cy="5414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24000" y="404640"/>
            <a:ext cx="69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梯子在上升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过程中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倾斜角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铅直高度与梯子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平宽度与梯子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铅直高度与水平宽度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都发生了什么变化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9:08:46Z</dcterms:created>
  <dc:creator/>
  <dc:description/>
  <dc:language>en-US</dc:language>
  <cp:lastModifiedBy>User</cp:lastModifiedBy>
  <dcterms:modified xsi:type="dcterms:W3CDTF">2013-12-16T01:24:56Z</dcterms:modified>
  <cp:revision>85</cp:revision>
  <dc:subject/>
  <dc:title>幻灯片 1</dc:title>
</cp:coreProperties>
</file>