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741F-9564-4D28-A7D1-3D1DD509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AD12-EDBC-49C7-9518-F22753CF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E139D-4399-4D9F-8B01-B0382121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9C6C8-D589-486A-B463-AFD26035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04FAF-2EB6-4C55-B951-9331554F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CFF08-F0EF-41A1-BEC6-3B1D719C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AE561-B761-4FAF-9D46-F2EEF04D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E4208-B720-4102-958D-8E60DBF2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22E24-460A-444A-B2BE-A9AE0FAD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ED4F9-ABB5-416D-BB46-E3EA4DD3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72FFF-10D6-459B-8E08-09DFAFE9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60AD0-4C22-4962-B049-B9D15040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7DD9-85FB-46FA-86F8-16F73250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3314A-3AB0-4CDC-B877-7621DB95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D9B61-F1BD-4FF6-ABEE-BF1186C0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DCD74-A750-4E3D-8673-DEBB69EC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D50E4-BA52-4487-A94A-4F87A74D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C8683-7D31-40B7-84F0-F0D9F88E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4B712-CA92-43DF-82F0-49BD4088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73066-7A3D-454E-8ACD-DEC73CD0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D0AF1-BD1C-4665-8261-3FA1B474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9E6D1-E557-4C24-A3CB-188A24B1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EC709-A36E-4620-AFDF-B8243B23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F03D-4FB5-46AC-A130-76521025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BB211-297E-4B8F-A56F-8F3BC1CC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A2D5F-2584-451F-B6C7-33C4AD9A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13118-605C-44BB-87C5-16F2260C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EA282-BFC8-484A-B82C-AFBA340A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7E80A-07BD-40AA-88F4-199ACFFD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43FC2-0304-4962-9408-87A2AA2D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FB6F1-FC32-432D-A74A-2B3C8587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645C4-1C81-47DB-B893-AEDF0AA3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8E18C-5F70-42D2-8AAB-D05B3F8D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6E879-0AEE-43A7-9EB7-BA895FF1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812A-9C7B-48AF-8A24-99F1694E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5CA38-389A-4183-B500-024FA150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F50AF-926C-4C84-BEDC-E7B7617D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34EE2-6642-4CE6-896E-0AFC7BE7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C6047-2773-4116-BE9B-B4A7B8F6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7A7DA-A628-47DD-832C-F4FFD093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0D432-BAD7-4CBF-8600-7EA5671A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54A08-E9EC-4C14-A90D-477BE5AB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58769-DB8B-48F7-AB87-84505684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22681-E32F-4E7F-B727-5DB432F7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447B7-DA78-4AA4-BA23-5CCE4F1D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43A8-AAA9-4ABD-8DE3-25678D06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82401-2A0D-4BBC-9237-6F5DFF6A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C82EE-26FB-4C76-A7B7-EA51D576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79E3E-D197-4293-8BA5-C066CD41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0D211-B66C-4C19-8642-C52BE831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A0CEF-FF46-4D18-8077-4FD36517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6E1F-54A9-49B3-BBC6-3910E4DE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BA03-3AA7-472C-A61E-578C5241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A8DC-B2E9-4757-88CC-7A32DC1F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F9F5-A33D-4C42-A8F2-A8F40AF6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94B9-9251-43EB-BE28-352E1EF6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CB60-6F5D-4223-BB3E-94E78BE1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50EF-D27E-44F4-80FF-CBF4D9F4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8C58-E701-4867-BA40-7DE2AAD2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5DBB-3207-414A-B3CF-A2C0F90F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7EFA-D4B5-4588-9814-F44C8975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90A9-DFD1-475B-8AE2-1244F229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CA9F7-36C1-4A9F-AB5D-31F394FC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80E94-522C-4523-9229-9F99E02C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74921-3D68-4F23-BA6C-552D6FB0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FFA21-6298-4CCD-B004-0D42C626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3565E-899B-4BC0-B6A4-9A91455E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F6F9-85F9-4F0C-9702-F862B05A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7346C-7F7F-47F2-9076-0E09DA37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734D0-65FB-4D35-A574-7A4883A5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CDD13-3001-4BBA-8129-288443EC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EAB36-FF07-4E83-AAD5-BF6AC4C5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24B45-BDC4-43FD-BED5-2F9CDAFA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E54DD-F859-4915-B180-DF9C7BAE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96DF0-2278-4B8F-AC47-C5F22280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F1037-480C-4E6E-9CE8-C6EEB3FB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B92A9-4A92-4BDE-9951-91A37268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2689C-A865-4125-B7A1-CBF4158A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DFEF-4EB9-4461-B2DC-35B8E575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30CE1-53A1-40C8-9FE6-E9368A3B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FE50B-1382-4976-AE84-B9F75EB2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0403D-D161-4B64-893D-E37FDBC5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0562B-C04F-4C66-B0C7-34C20EE9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021E5-4C41-48CA-96B9-36F5D52E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18642-3267-437B-BE14-F8E00254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C937C-0334-4A97-BCBE-CCEC4D1B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B7D41-69EA-42CD-B723-18445605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D1667-2F15-4370-8F67-CEA09446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FA30B-61EA-4EA2-A8EB-B6E07A74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B95C-B535-4F46-8763-DFD2291A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AB7B5-4047-4546-926D-B44F1844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2705C-1ACD-4AC9-969E-7C3A4E03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32CD6-FB8C-408D-A140-B7CD3CE2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AF5D2-EB32-4A25-B340-11342762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1237A-53A2-4233-B29B-7D1AD129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F5E7A-97CD-4397-98D7-E106BE86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98CA5-9BB7-4E98-877F-82F55D9F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817B5-50C0-4FC4-91C2-D555FC8B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2E657-AC82-45D5-9510-49DD767B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5F928-0E99-4245-B54F-42A6EBF4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089F-0EF0-43C5-BDFF-EED1A70F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B2938-2693-4109-9849-11717326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9BED4-04D6-4CE2-9AE4-2E59DD2C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3BAD0-9780-45C9-B3A3-F3F7433E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60CFA-6A0E-4272-8D2D-77313E18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9B00B-BEA1-4BF8-BEC9-7BD72CF6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129D8-11E5-447A-8829-85C0A49C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DF2FF-A3DF-4D3E-AF28-184571A0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AD31E-B343-494F-92A6-E0923AC1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B3F87-F7F3-4D97-A238-11527999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5BC46-AB69-4FCD-B5A4-AF9F55CF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CCEA-DBC8-4006-96C8-20FBD722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C5258-2AFC-4F46-8604-F6F86950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41F6A-E38D-4690-AB3D-0A34A76C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6ED95-A213-46BD-97CF-7EF1462B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EC4D1-2061-49B3-B258-BEBC11E7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B0CBF-3C20-4131-8185-AAD19AA3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066BE-4C13-4183-B934-324F5C3D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54BAF-6E4D-41A9-95A6-E8AF8B0C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91297-6CA5-4F71-8DBA-69A2F5CA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FC0E5-7D42-4D00-A8C3-424CA176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B32A5-29E9-47CB-B615-2033C7D0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7CC-DA76-4A9D-B3AF-F4EDC3A4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A91E0-A97F-40E8-BA02-78AA1F47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7E3F8-4CD9-41D7-958D-99ECBB72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DA373-F9E1-4372-89DD-5828FA12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E0019-F000-4D25-B274-A512CEB7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1EC0E-D935-49F5-A626-515BEAAB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3B99A-8112-4CC2-94BE-21DA3F04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DF9B1-0E39-41F8-8671-567064CD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2AEB0-8360-441B-8B79-A1401E19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BC3C6-EC96-40A3-9E4E-20E11433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1D2FD-ECC3-4B17-8FF4-61517729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78C7-A8E9-42A4-8FFA-C3158B04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E6041-BB9C-42F9-A69F-56E3E105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A59E0-8DE1-42FB-B741-8F2A768B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00664-E88D-4641-B287-3BFF75C2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E3CC9-1994-4B37-91A4-8B20A326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5D63B-76F7-4853-BFEA-11F24A2A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3EDF6-CB92-4B79-B4B8-1309959F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8FD9F-2582-41C7-BCBE-CA74D803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C893A-D26E-42EF-8F06-F5464105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1C616-740C-44C4-99B5-7461D332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52D6B-C203-410F-8BF5-0CC6F547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5E9A-2135-4138-B0AA-690CFE0983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9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25560">
            <a:solidFill>
              <a:srgbClr val="50742f"/>
            </a:solidFill>
            <a:miter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C4A5-39CB-4B06-B2D7-2CDBEEC1B554}" type="slidenum">
              <a:rPr b="0" lang="en-US" sz="1200" spc="-1" strike="noStrike">
                <a:solidFill>
                  <a:srgbClr val="ffffff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4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1795-8F2A-489D-939F-AD9FD8D335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8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60F5-4A2E-43D5-89D4-77C0680546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3"/>
          <a:stretch/>
        </p:blipFill>
        <p:spPr>
          <a:xfrm>
            <a:off x="-6480" y="5205240"/>
            <a:ext cx="1481400" cy="165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4CE6-80F6-4FE2-9CB1-11A3EB6FF5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84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6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36EC-3BC0-4373-98CA-006188F4BF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6" descr=""/>
          <p:cNvPicPr/>
          <p:nvPr/>
        </p:nvPicPr>
        <p:blipFill>
          <a:blip r:embed="rId3"/>
          <a:stretch/>
        </p:blipFill>
        <p:spPr>
          <a:xfrm>
            <a:off x="7473960" y="-6480"/>
            <a:ext cx="1676520" cy="2371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3446-F31C-4D66-B0BE-B927D99076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矩形 6"/>
          <p:cNvGrpSpPr/>
          <p:nvPr/>
        </p:nvGrpSpPr>
        <p:grpSpPr>
          <a:xfrm>
            <a:off x="-6480" y="-6480"/>
            <a:ext cx="665280" cy="6870960"/>
            <a:chOff x="-6480" y="-6480"/>
            <a:chExt cx="665280" cy="6870960"/>
          </a:xfrm>
        </p:grpSpPr>
        <p:pic>
          <p:nvPicPr>
            <p:cNvPr id="17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652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0" y="0"/>
              <a:ext cx="655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11FD-4E49-47C8-944B-EB5EF1203C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矩形 6"/>
          <p:cNvGrpSpPr/>
          <p:nvPr/>
        </p:nvGrpSpPr>
        <p:grpSpPr>
          <a:xfrm>
            <a:off x="-6480" y="-6480"/>
            <a:ext cx="652680" cy="6870960"/>
            <a:chOff x="-6480" y="-6480"/>
            <a:chExt cx="652680" cy="6870960"/>
          </a:xfrm>
        </p:grpSpPr>
        <p:pic>
          <p:nvPicPr>
            <p:cNvPr id="21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52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6415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B429-EC72-4C7E-BB7F-862FD50981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26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E382-50B2-422D-AD70-A37C55A21B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0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A82C-75C2-4158-85D8-48DCDE77BE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5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0" y="0"/>
              <a:ext cx="673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5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3FDA-1C35-4C1E-AD4F-0309876C5A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"/>
          <p:cNvSpPr/>
          <p:nvPr/>
        </p:nvSpPr>
        <p:spPr>
          <a:xfrm>
            <a:off x="395280" y="333360"/>
            <a:ext cx="73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新人教版九年级数学</a:t>
            </a:r>
            <a:r>
              <a:rPr b="1" lang="en-US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下册</a:t>
            </a:r>
            <a:r>
              <a:rPr b="1" lang="en-US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第二十八章</a:t>
            </a: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250920" y="220500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华文行楷"/>
                <a:ea typeface="华文行楷"/>
              </a:rPr>
              <a:t>§28.1 </a:t>
            </a:r>
            <a:r>
              <a:rPr b="1" lang="zh-CN" sz="5400" spc="-1" strike="noStrike">
                <a:solidFill>
                  <a:srgbClr val="663300"/>
                </a:solidFill>
                <a:latin typeface="华文行楷"/>
                <a:ea typeface="华文行楷"/>
              </a:rPr>
              <a:t>锐角三角函数（</a:t>
            </a:r>
            <a:r>
              <a:rPr b="1" lang="en-US" sz="5400" spc="-1" strike="noStrike">
                <a:solidFill>
                  <a:srgbClr val="663300"/>
                </a:solidFill>
                <a:latin typeface="华文行楷"/>
                <a:ea typeface="华文行楷"/>
              </a:rPr>
              <a:t>4</a:t>
            </a:r>
            <a:r>
              <a:rPr b="1" lang="zh-CN" sz="5400" spc="-1" strike="noStrike">
                <a:solidFill>
                  <a:srgbClr val="663300"/>
                </a:solidFill>
                <a:latin typeface="华文行楷"/>
                <a:ea typeface="华文行楷"/>
              </a:rPr>
              <a:t>）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奔跑.mp3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3236" fill="hold"/>
                                        <p:tgtEl>
                                          <p:spTgt spid="5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431640" y="126828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果锐角</a:t>
            </a:r>
            <a:r>
              <a:rPr b="1" i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是这些特殊角，怎样得到它的三角函数值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332000" y="3429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我们可以借助计算器求锐角的三角函数值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4" descr="20200561173201"/>
          <p:cNvPicPr/>
          <p:nvPr/>
        </p:nvPicPr>
        <p:blipFill>
          <a:blip r:embed="rId1"/>
          <a:stretch/>
        </p:blipFill>
        <p:spPr>
          <a:xfrm>
            <a:off x="6218280" y="4314960"/>
            <a:ext cx="29257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576360" y="76500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例如求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n18°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Group 3"/>
          <p:cNvGrpSpPr/>
          <p:nvPr/>
        </p:nvGrpSpPr>
        <p:grpSpPr>
          <a:xfrm>
            <a:off x="1870200" y="1447920"/>
            <a:ext cx="2054160" cy="398880"/>
            <a:chOff x="1870200" y="1447920"/>
            <a:chExt cx="2054160" cy="398880"/>
          </a:xfrm>
        </p:grpSpPr>
        <p:sp>
          <p:nvSpPr>
            <p:cNvPr id="538" name="Rectangle 4"/>
            <p:cNvSpPr/>
            <p:nvPr/>
          </p:nvSpPr>
          <p:spPr>
            <a:xfrm>
              <a:off x="1870200" y="1447920"/>
              <a:ext cx="185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第一步：按计算器                 键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Rectangle 5"/>
            <p:cNvSpPr/>
            <p:nvPr/>
          </p:nvSpPr>
          <p:spPr>
            <a:xfrm>
              <a:off x="3276720" y="1504800"/>
              <a:ext cx="647640" cy="289080"/>
            </a:xfrm>
            <a:prstGeom prst="rect">
              <a:avLst/>
            </a:prstGeom>
            <a:solidFill>
              <a:srgbClr val="50742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i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0" name="Picture 6" descr="pic_2205751231"/>
          <p:cNvPicPr/>
          <p:nvPr/>
        </p:nvPicPr>
        <p:blipFill>
          <a:blip r:embed="rId1"/>
          <a:stretch/>
        </p:blipFill>
        <p:spPr>
          <a:xfrm>
            <a:off x="6959520" y="1125360"/>
            <a:ext cx="1646280" cy="230364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7"/>
          <p:cNvSpPr/>
          <p:nvPr/>
        </p:nvSpPr>
        <p:spPr>
          <a:xfrm>
            <a:off x="1347840" y="2311560"/>
            <a:ext cx="20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第二步：输入角度值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1315800" y="3103560"/>
            <a:ext cx="344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屏幕显示结果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n18°=0.309 016 99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9"/>
          <p:cNvSpPr/>
          <p:nvPr/>
        </p:nvSpPr>
        <p:spPr>
          <a:xfrm>
            <a:off x="611280" y="393372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也有的计算器是先输入角度在按函数名称键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AutoShape 10"/>
          <p:cNvSpPr/>
          <p:nvPr/>
        </p:nvSpPr>
        <p:spPr>
          <a:xfrm>
            <a:off x="6156360" y="4581360"/>
            <a:ext cx="1584360" cy="720720"/>
          </a:xfrm>
          <a:prstGeom prst="wedgeRectCallout">
            <a:avLst>
              <a:gd name="adj1" fmla="val 42384"/>
              <a:gd name="adj2" fmla="val -246037"/>
            </a:avLst>
          </a:prstGeom>
          <a:gradFill rotWithShape="0">
            <a:gsLst>
              <a:gs pos="0">
                <a:srgbClr val="ff00ff"/>
              </a:gs>
              <a:gs pos="50000">
                <a:srgbClr val="000000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点此图打开计算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2"/>
          <p:cNvGrpSpPr/>
          <p:nvPr/>
        </p:nvGrpSpPr>
        <p:grpSpPr>
          <a:xfrm>
            <a:off x="1954440" y="1628640"/>
            <a:ext cx="2041200" cy="398880"/>
            <a:chOff x="1954440" y="1628640"/>
            <a:chExt cx="2041200" cy="398880"/>
          </a:xfrm>
        </p:grpSpPr>
        <p:sp>
          <p:nvSpPr>
            <p:cNvPr id="546" name="Rectangle 3"/>
            <p:cNvSpPr/>
            <p:nvPr/>
          </p:nvSpPr>
          <p:spPr>
            <a:xfrm>
              <a:off x="3348000" y="1700280"/>
              <a:ext cx="647640" cy="288720"/>
            </a:xfrm>
            <a:prstGeom prst="rect">
              <a:avLst/>
            </a:prstGeom>
            <a:solidFill>
              <a:srgbClr val="50742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ta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Rectangle 4"/>
            <p:cNvSpPr/>
            <p:nvPr/>
          </p:nvSpPr>
          <p:spPr>
            <a:xfrm>
              <a:off x="1954440" y="1628640"/>
              <a:ext cx="185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第一步：按计算器                 键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8" name="Text Box 5"/>
          <p:cNvSpPr/>
          <p:nvPr/>
        </p:nvSpPr>
        <p:spPr>
          <a:xfrm>
            <a:off x="790560" y="40464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求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an30°36'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6"/>
          <p:cNvGrpSpPr/>
          <p:nvPr/>
        </p:nvGrpSpPr>
        <p:grpSpPr>
          <a:xfrm>
            <a:off x="1510200" y="2311560"/>
            <a:ext cx="6189840" cy="398880"/>
            <a:chOff x="1510200" y="2311560"/>
            <a:chExt cx="6189840" cy="398880"/>
          </a:xfrm>
        </p:grpSpPr>
        <p:sp>
          <p:nvSpPr>
            <p:cNvPr id="550" name="Rectangle 7"/>
            <p:cNvSpPr/>
            <p:nvPr/>
          </p:nvSpPr>
          <p:spPr>
            <a:xfrm>
              <a:off x="1510200" y="2311560"/>
              <a:ext cx="618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第二步：输入角度值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，分值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36 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（可以使用        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 键）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Rectangle 8"/>
            <p:cNvSpPr/>
            <p:nvPr/>
          </p:nvSpPr>
          <p:spPr>
            <a:xfrm>
              <a:off x="6156360" y="2349360"/>
              <a:ext cx="936720" cy="287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°</a:t>
              </a:r>
              <a:r>
                <a:rPr b="1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＇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″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2" name="Rectangle 9"/>
          <p:cNvSpPr/>
          <p:nvPr/>
        </p:nvSpPr>
        <p:spPr>
          <a:xfrm>
            <a:off x="1470600" y="3032280"/>
            <a:ext cx="27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屏幕显示答案：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.591 398 3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324000" y="981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第一种方法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1"/>
          <p:cNvSpPr/>
          <p:nvPr/>
        </p:nvSpPr>
        <p:spPr>
          <a:xfrm>
            <a:off x="324000" y="3968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第二种方法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Group 12"/>
          <p:cNvGrpSpPr/>
          <p:nvPr/>
        </p:nvGrpSpPr>
        <p:grpSpPr>
          <a:xfrm>
            <a:off x="2025720" y="4400640"/>
            <a:ext cx="1969920" cy="398880"/>
            <a:chOff x="2025720" y="4400640"/>
            <a:chExt cx="1969920" cy="398880"/>
          </a:xfrm>
        </p:grpSpPr>
        <p:sp>
          <p:nvSpPr>
            <p:cNvPr id="556" name="Rectangle 13"/>
            <p:cNvSpPr/>
            <p:nvPr/>
          </p:nvSpPr>
          <p:spPr>
            <a:xfrm>
              <a:off x="3348000" y="4437000"/>
              <a:ext cx="647640" cy="289080"/>
            </a:xfrm>
            <a:prstGeom prst="rect">
              <a:avLst/>
            </a:prstGeom>
            <a:solidFill>
              <a:srgbClr val="50742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ta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Rectangle 14"/>
            <p:cNvSpPr/>
            <p:nvPr/>
          </p:nvSpPr>
          <p:spPr>
            <a:xfrm>
              <a:off x="2025720" y="4400640"/>
              <a:ext cx="185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第一步：按计算器                 键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8" name="Rectangle 15"/>
          <p:cNvSpPr/>
          <p:nvPr/>
        </p:nvSpPr>
        <p:spPr>
          <a:xfrm>
            <a:off x="1057320" y="5048280"/>
            <a:ext cx="62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第二步：输入角度值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0.6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因为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0°36'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0.6°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16"/>
          <p:cNvSpPr/>
          <p:nvPr/>
        </p:nvSpPr>
        <p:spPr>
          <a:xfrm>
            <a:off x="1541880" y="5769000"/>
            <a:ext cx="27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屏幕显示答案：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.591 398 3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17" descr="pic_2205751231"/>
          <p:cNvPicPr/>
          <p:nvPr/>
        </p:nvPicPr>
        <p:blipFill>
          <a:blip r:embed="rId1"/>
          <a:stretch/>
        </p:blipFill>
        <p:spPr>
          <a:xfrm>
            <a:off x="7308720" y="2924280"/>
            <a:ext cx="1646280" cy="2303280"/>
          </a:xfrm>
          <a:prstGeom prst="rect">
            <a:avLst/>
          </a:prstGeom>
          <a:ln w="0">
            <a:noFill/>
          </a:ln>
        </p:spPr>
      </p:pic>
      <p:sp>
        <p:nvSpPr>
          <p:cNvPr id="561" name="AutoShape 18"/>
          <p:cNvSpPr/>
          <p:nvPr/>
        </p:nvSpPr>
        <p:spPr>
          <a:xfrm>
            <a:off x="7308720" y="5516640"/>
            <a:ext cx="1584360" cy="720720"/>
          </a:xfrm>
          <a:prstGeom prst="wedgeRectCallout">
            <a:avLst>
              <a:gd name="adj1" fmla="val -3907"/>
              <a:gd name="adj2" fmla="val -138324"/>
            </a:avLst>
          </a:prstGeom>
          <a:gradFill rotWithShape="0">
            <a:gsLst>
              <a:gs pos="0">
                <a:srgbClr val="ff00ff"/>
              </a:gs>
              <a:gs pos="50000">
                <a:srgbClr val="000000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点此图打开计算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682560" y="226224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如果已知锐角三角函数值，也可以使用计算器求出相应的锐角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3" descr="1131204308"/>
          <p:cNvPicPr/>
          <p:nvPr/>
        </p:nvPicPr>
        <p:blipFill>
          <a:blip r:embed="rId1"/>
          <a:stretch/>
        </p:blipFill>
        <p:spPr>
          <a:xfrm>
            <a:off x="5580000" y="3933720"/>
            <a:ext cx="32180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324000" y="4762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例如，已知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=0.501 8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用计算器求锐角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可以按照下面方法操作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332000" y="342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还以以利用                                  键，进一步得到∠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0°07'08.97 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Group 4"/>
          <p:cNvGrpSpPr/>
          <p:nvPr/>
        </p:nvGrpSpPr>
        <p:grpSpPr>
          <a:xfrm>
            <a:off x="1857600" y="1447920"/>
            <a:ext cx="3038400" cy="398880"/>
            <a:chOff x="1857600" y="1447920"/>
            <a:chExt cx="3038400" cy="398880"/>
          </a:xfrm>
        </p:grpSpPr>
        <p:sp>
          <p:nvSpPr>
            <p:cNvPr id="567" name="Rectangle 5"/>
            <p:cNvSpPr/>
            <p:nvPr/>
          </p:nvSpPr>
          <p:spPr>
            <a:xfrm>
              <a:off x="1857600" y="1447920"/>
              <a:ext cx="264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第一步：按计算器                             键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Rectangle 6"/>
            <p:cNvSpPr/>
            <p:nvPr/>
          </p:nvSpPr>
          <p:spPr>
            <a:xfrm>
              <a:off x="3132000" y="1484280"/>
              <a:ext cx="1008360" cy="287280"/>
            </a:xfrm>
            <a:prstGeom prst="rect">
              <a:avLst/>
            </a:prstGeom>
            <a:solidFill>
              <a:srgbClr val="50742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2nd 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Rectangle 7"/>
            <p:cNvSpPr/>
            <p:nvPr/>
          </p:nvSpPr>
          <p:spPr>
            <a:xfrm>
              <a:off x="4248000" y="1484280"/>
              <a:ext cx="648000" cy="289080"/>
            </a:xfrm>
            <a:prstGeom prst="rect">
              <a:avLst/>
            </a:prstGeom>
            <a:solidFill>
              <a:srgbClr val="50742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i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Rectangle 8"/>
          <p:cNvSpPr/>
          <p:nvPr/>
        </p:nvSpPr>
        <p:spPr>
          <a:xfrm>
            <a:off x="900000" y="231156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第二步：然后输入函数值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. 501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9"/>
          <p:cNvSpPr/>
          <p:nvPr/>
        </p:nvSpPr>
        <p:spPr>
          <a:xfrm>
            <a:off x="900000" y="303228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屏幕显示答案：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0.119 158 67°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按实际需要进行精确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324000" y="105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第一种方法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Group 11"/>
          <p:cNvGrpSpPr/>
          <p:nvPr/>
        </p:nvGrpSpPr>
        <p:grpSpPr>
          <a:xfrm>
            <a:off x="324000" y="3968640"/>
            <a:ext cx="5184720" cy="938880"/>
            <a:chOff x="324000" y="3968640"/>
            <a:chExt cx="5184720" cy="938880"/>
          </a:xfrm>
        </p:grpSpPr>
        <p:sp>
          <p:nvSpPr>
            <p:cNvPr id="574" name="Rectangle 12"/>
            <p:cNvSpPr/>
            <p:nvPr/>
          </p:nvSpPr>
          <p:spPr>
            <a:xfrm>
              <a:off x="2001960" y="4508640"/>
              <a:ext cx="34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第一步：按计算器                                          键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Rectangle 13"/>
            <p:cNvSpPr/>
            <p:nvPr/>
          </p:nvSpPr>
          <p:spPr>
            <a:xfrm>
              <a:off x="4572000" y="4581360"/>
              <a:ext cx="936720" cy="287640"/>
            </a:xfrm>
            <a:prstGeom prst="rect">
              <a:avLst/>
            </a:prstGeom>
            <a:solidFill>
              <a:srgbClr val="50742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°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＇</a:t>
              </a:r>
              <a:r>
                <a:rPr b="1" lang="en-US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″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Rectangle 14"/>
            <p:cNvSpPr/>
            <p:nvPr/>
          </p:nvSpPr>
          <p:spPr>
            <a:xfrm>
              <a:off x="3348000" y="4581360"/>
              <a:ext cx="1008000" cy="287640"/>
            </a:xfrm>
            <a:prstGeom prst="rect">
              <a:avLst/>
            </a:prstGeom>
            <a:solidFill>
              <a:srgbClr val="50742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2nd 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Text Box 15"/>
            <p:cNvSpPr/>
            <p:nvPr/>
          </p:nvSpPr>
          <p:spPr>
            <a:xfrm>
              <a:off x="324000" y="396864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第二种方法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8" name="Rectangle 16"/>
          <p:cNvSpPr/>
          <p:nvPr/>
        </p:nvSpPr>
        <p:spPr>
          <a:xfrm>
            <a:off x="1042920" y="514044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第二步：输入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. 501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17"/>
          <p:cNvSpPr/>
          <p:nvPr/>
        </p:nvSpPr>
        <p:spPr>
          <a:xfrm>
            <a:off x="1095480" y="5805360"/>
            <a:ext cx="695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屏幕显示答案：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0°07'0897 "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这说明锐角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精确到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'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的结果为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0°7'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精确到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"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的结果为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0°7' 9 "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18"/>
          <p:cNvSpPr/>
          <p:nvPr/>
        </p:nvSpPr>
        <p:spPr>
          <a:xfrm>
            <a:off x="3822840" y="3487680"/>
            <a:ext cx="936360" cy="287280"/>
          </a:xfrm>
          <a:prstGeom prst="rect">
            <a:avLst/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°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＇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Times New Roman"/>
              </a:rPr>
              <a:t>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19"/>
          <p:cNvSpPr/>
          <p:nvPr/>
        </p:nvSpPr>
        <p:spPr>
          <a:xfrm>
            <a:off x="2771640" y="3486240"/>
            <a:ext cx="1008360" cy="287280"/>
          </a:xfrm>
          <a:prstGeom prst="rect">
            <a:avLst/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nd 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468360" y="907920"/>
            <a:ext cx="532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．用计算器求下列锐角三角函数值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n20°=      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s70°=         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Picture 3" descr="pic_2205751231"/>
          <p:cNvPicPr/>
          <p:nvPr/>
        </p:nvPicPr>
        <p:blipFill>
          <a:blip r:embed="rId1"/>
          <a:stretch/>
        </p:blipFill>
        <p:spPr>
          <a:xfrm>
            <a:off x="7308720" y="2924280"/>
            <a:ext cx="1646280" cy="2303280"/>
          </a:xfrm>
          <a:prstGeom prst="rect">
            <a:avLst/>
          </a:prstGeom>
          <a:ln w="0">
            <a:noFill/>
          </a:ln>
        </p:spPr>
      </p:pic>
      <p:sp>
        <p:nvSpPr>
          <p:cNvPr id="584" name="AutoShape 4"/>
          <p:cNvSpPr/>
          <p:nvPr/>
        </p:nvSpPr>
        <p:spPr>
          <a:xfrm>
            <a:off x="7308720" y="5516640"/>
            <a:ext cx="1584360" cy="720720"/>
          </a:xfrm>
          <a:prstGeom prst="wedgeRectCallout">
            <a:avLst>
              <a:gd name="adj1" fmla="val -3907"/>
              <a:gd name="adj2" fmla="val -138324"/>
            </a:avLst>
          </a:prstGeom>
          <a:gradFill rotWithShape="0">
            <a:gsLst>
              <a:gs pos="0">
                <a:srgbClr val="ff00ff"/>
              </a:gs>
              <a:gs pos="50000">
                <a:srgbClr val="000000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点此图打开计算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525960" y="3860640"/>
            <a:ext cx="49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an3°8 ' =   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an80°25'43″=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1273320" y="1989000"/>
            <a:ext cx="37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n35°=       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s55°=          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1230480" y="2781360"/>
            <a:ext cx="429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n15°32 ' =       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s74°28 ' =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8" name="Group 8"/>
          <p:cNvGrpSpPr/>
          <p:nvPr/>
        </p:nvGrpSpPr>
        <p:grpSpPr>
          <a:xfrm>
            <a:off x="6227640" y="404640"/>
            <a:ext cx="1944360" cy="2233440"/>
            <a:chOff x="6227640" y="404640"/>
            <a:chExt cx="1944360" cy="2233440"/>
          </a:xfrm>
        </p:grpSpPr>
        <p:grpSp>
          <p:nvGrpSpPr>
            <p:cNvPr id="589" name="Group 9"/>
            <p:cNvGrpSpPr/>
            <p:nvPr/>
          </p:nvGrpSpPr>
          <p:grpSpPr>
            <a:xfrm>
              <a:off x="6227640" y="404640"/>
              <a:ext cx="1944360" cy="2233440"/>
              <a:chOff x="6227640" y="404640"/>
              <a:chExt cx="1944360" cy="2233440"/>
            </a:xfrm>
          </p:grpSpPr>
          <p:sp>
            <p:nvSpPr>
              <p:cNvPr id="590" name="Rectangle 10"/>
              <p:cNvSpPr/>
              <p:nvPr/>
            </p:nvSpPr>
            <p:spPr>
              <a:xfrm>
                <a:off x="6227640" y="404640"/>
                <a:ext cx="1944360" cy="22334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464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Oval 11"/>
              <p:cNvSpPr/>
              <p:nvPr/>
            </p:nvSpPr>
            <p:spPr>
              <a:xfrm>
                <a:off x="7096680" y="549000"/>
                <a:ext cx="156240" cy="1447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fffff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2" name="Text Box 12"/>
            <p:cNvSpPr/>
            <p:nvPr/>
          </p:nvSpPr>
          <p:spPr>
            <a:xfrm>
              <a:off x="6342120" y="909360"/>
              <a:ext cx="1800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分析第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（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）题的结果，你能得出什么猜想，你能说明你的猜想吗？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Text Box 13"/>
          <p:cNvSpPr/>
          <p:nvPr/>
        </p:nvSpPr>
        <p:spPr>
          <a:xfrm>
            <a:off x="324000" y="4724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1f0ff"/>
                </a:solidFill>
                <a:latin typeface="Times New Roman"/>
              </a:rPr>
              <a:t>正弦值随着角度的增大（或减小）而增大（或减小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324000" y="530064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1f0ff"/>
                </a:solidFill>
                <a:latin typeface="Times New Roman"/>
              </a:rPr>
              <a:t>余弦值随着角度的增大（或减小）而减小（或增大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24000" y="587700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1f0ff"/>
                </a:solidFill>
                <a:latin typeface="Times New Roman"/>
              </a:rPr>
              <a:t>正切值随着角度的增大（或减小）而增大（或减小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16"/>
          <p:cNvSpPr/>
          <p:nvPr/>
        </p:nvSpPr>
        <p:spPr>
          <a:xfrm>
            <a:off x="684360" y="163440"/>
            <a:ext cx="2390760" cy="4597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000000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练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324000" y="62064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已知下列锐角三角函数值，用计算器求其相应的锐角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755640" y="1557360"/>
            <a:ext cx="6551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n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0.627 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n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.054 7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s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.625 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s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.165 9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an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.842 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an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.881 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pic_2205751231"/>
          <p:cNvPicPr/>
          <p:nvPr/>
        </p:nvPicPr>
        <p:blipFill>
          <a:blip r:embed="rId1"/>
          <a:stretch/>
        </p:blipFill>
        <p:spPr>
          <a:xfrm>
            <a:off x="7236000" y="2781360"/>
            <a:ext cx="1645920" cy="2303280"/>
          </a:xfrm>
          <a:prstGeom prst="rect">
            <a:avLst/>
          </a:prstGeom>
          <a:ln w="0">
            <a:noFill/>
          </a:ln>
        </p:spPr>
      </p:pic>
      <p:sp>
        <p:nvSpPr>
          <p:cNvPr id="600" name="AutoShape 5"/>
          <p:cNvSpPr/>
          <p:nvPr/>
        </p:nvSpPr>
        <p:spPr>
          <a:xfrm>
            <a:off x="7236000" y="5373720"/>
            <a:ext cx="1584000" cy="720720"/>
          </a:xfrm>
          <a:prstGeom prst="wedgeRectCallout">
            <a:avLst>
              <a:gd name="adj1" fmla="val -3907"/>
              <a:gd name="adj2" fmla="val -138324"/>
            </a:avLst>
          </a:prstGeom>
          <a:gradFill rotWithShape="0">
            <a:gsLst>
              <a:gs pos="0">
                <a:srgbClr val="ff00ff"/>
              </a:gs>
              <a:gs pos="50000">
                <a:srgbClr val="000000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点此图打开计算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4"/>
          <p:cNvSpPr/>
          <p:nvPr/>
        </p:nvSpPr>
        <p:spPr>
          <a:xfrm>
            <a:off x="1900080" y="1125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计算器可用来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1900080" y="198900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由锐角求三角函数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1908000" y="263700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由三角函数值求锐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684360" y="163440"/>
            <a:ext cx="2390760" cy="4597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000000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小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4T23:44:56Z</dcterms:created>
  <dc:creator/>
  <dc:description/>
  <dc:language>en-US</dc:language>
  <cp:lastModifiedBy>微软用户</cp:lastModifiedBy>
  <dcterms:modified xsi:type="dcterms:W3CDTF">2010-12-30T03:19:31Z</dcterms:modified>
  <cp:revision>1</cp:revision>
  <dc:subject/>
  <dc:title>幻灯片 1</dc:title>
</cp:coreProperties>
</file>