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7.jpeg" ContentType="image/jpeg"/>
  <Override PartName="/ppt/media/image20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42.wmf" ContentType="image/x-wmf"/>
  <Override PartName="/ppt/media/image17.wmf" ContentType="image/x-wmf"/>
  <Override PartName="/ppt/media/image34.wmf" ContentType="image/x-wmf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40.wmf" ContentType="image/x-wmf"/>
  <Override PartName="/ppt/media/image6.png" ContentType="image/png"/>
  <Override PartName="/ppt/media/image14.wmf" ContentType="image/x-wmf"/>
  <Override PartName="/ppt/media/image3.png" ContentType="image/png"/>
  <Override PartName="/ppt/media/image2.png" ContentType="image/png"/>
  <Override PartName="/ppt/media/image5.png" ContentType="image/png"/>
  <Override PartName="/ppt/media/image50.wmf" ContentType="image/x-wmf"/>
  <Override PartName="/ppt/media/image1.jpeg" ContentType="image/jpeg"/>
  <Override PartName="/ppt/media/image10.png" ContentType="image/png"/>
  <Override PartName="/ppt/media/image15.wmf" ContentType="image/x-wmf"/>
  <Override PartName="/ppt/media/image18.wmf" ContentType="image/x-wmf"/>
  <Override PartName="/ppt/media/image60.wmf" ContentType="image/x-wmf"/>
  <Override PartName="/ppt/media/image64.wmf" ContentType="image/x-wmf"/>
  <Override PartName="/ppt/media/image16.wmf" ContentType="image/x-wmf"/>
  <Override PartName="/ppt/media/image65.wmf" ContentType="image/x-wmf"/>
  <Override PartName="/ppt/media/image32.gif" ContentType="image/gif"/>
  <Override PartName="/ppt/media/image28.wmf" ContentType="image/x-wmf"/>
  <Override PartName="/ppt/media/image62.wmf" ContentType="image/x-wmf"/>
  <Override PartName="/ppt/media/image63.wmf" ContentType="image/x-wmf"/>
  <Override PartName="/ppt/media/image30.gif" ContentType="image/gif"/>
  <Override PartName="/ppt/media/image26.wmf" ContentType="image/x-wmf"/>
  <Override PartName="/ppt/media/image22.wmf" ContentType="image/x-wmf"/>
  <Override PartName="/ppt/media/image59.wmf" ContentType="image/x-wmf"/>
  <Override PartName="/ppt/media/image24.wmf" ContentType="image/x-wmf"/>
  <Override PartName="/ppt/media/image13.wmf" ContentType="image/x-wmf"/>
  <Override PartName="/ppt/media/image23.wmf" ContentType="image/x-wmf"/>
  <Override PartName="/ppt/media/image11.jpeg" ContentType="image/jpeg"/>
  <Override PartName="/ppt/media/image2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31.png" ContentType="image/png"/>
  <Override PartName="/ppt/media/image33.wmf" ContentType="image/x-wmf"/>
  <Override PartName="/ppt/media/image35.wmf" ContentType="image/x-wmf"/>
  <Override PartName="/ppt/media/image36.wmf" ContentType="image/x-wmf"/>
  <Override PartName="/ppt/media/image47.jpeg" ContentType="image/jpeg"/>
  <Override PartName="/ppt/media/image25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7.png" ContentType="image/png"/>
  <Override PartName="/ppt/media/image41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8.gif" ContentType="image/gif"/>
  <Override PartName="/ppt/media/image45.wmf" ContentType="image/x-wmf"/>
  <Override PartName="/ppt/media/image46.wmf" ContentType="image/x-wmf"/>
  <Override PartName="/ppt/media/image48.wmf" ContentType="image/x-wmf"/>
  <Override PartName="/ppt/media/image29.png" ContentType="image/png"/>
  <Override PartName="/ppt/media/image51.wmf" ContentType="image/x-wmf"/>
  <Override PartName="/ppt/media/image5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4BB-1125-4095-84C0-3ABADC88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5038-48FB-4321-83FF-729FDB3B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0DF05-2842-4371-8D98-DE919E9B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710EB-B4B7-4D4C-B594-C70E0AA1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D7B9E-27E0-40B5-B2F1-6BD6AD8D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08AC1-D43D-4C25-809A-F56E85A9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5A231-7D75-4C5E-8A06-DFFCCB22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09D4B-DF46-487F-9835-382CC288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B5622-02AC-4D7B-A6D4-5C30217C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AD52C-4033-497D-9938-CF9F7588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F38A1-8344-4D94-9922-A3C44C87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ABB24-35FB-4436-BA3A-51FAD7AA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50D-6AEA-4B4F-8A38-16D385E6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836F1-6753-4A64-AE53-EB1D3DC7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04B89-D8FD-4176-8683-79C65C6D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84C75-E6F9-43FA-A670-6EFC6410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03114-13BF-4A76-BF81-6421C8E3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87AC9-7731-488B-A730-ED0C6DFA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FD19F-A6F7-41DA-9172-18AC38A9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B6F61-CBAC-4F33-B8F1-0FE03251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E491A-5D64-4D49-A727-7C702BD0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16D99-7AC5-4D8E-8C97-630BABAB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F81D8-4DA0-418C-B742-79961498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1CC9-2459-4261-9E2E-3861338F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BB0DB-545C-4BF8-A7C5-8D8CD098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91B06-3ED6-4C07-9BCA-902E3519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ACEF8-FDB3-45C0-BE78-3B11562C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04E03-5165-4D1C-B3E1-A11D67CA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565DE-91CC-491D-A438-D5EC3D35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1BA48-8E0F-4152-B315-2E8F26D2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AFD27-DC5A-4988-9A25-11F688C9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6182A-2679-4C97-9292-C1B1E2C2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591C3-5530-4C58-8E0F-85E4C13B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A5DC0-3D2B-4E16-917D-1928CE9C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82FD-8B46-41C1-B5B1-09B811FE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BF81B-EFB8-4375-9F42-4131B759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D561C-24EF-4286-9433-AAC975B0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311E2-D0F9-4344-BE4C-F1861E91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71A98-D3D3-48CD-8797-DBB163A7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E77B3-2A2F-4E4B-B9A6-D4BF607B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48F25-5802-49BA-8BBD-1A4E108B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2D7A6-FA62-4894-9906-5E5A4F06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4DEC1-8D75-4345-8F5C-8D3C6AE9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4B72F-57F6-4AE1-BF1A-AE9B47AE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3AE5C-CD8A-4AA8-9826-FED4CF6D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6E45-4A4A-4B7E-806C-947D7DB1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EF250-78F9-4A5C-8242-D2991DF1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75B71-2EB2-4607-8864-91DF038F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DC11E-8E23-4155-AB38-4E52CC96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D33D3-0FF0-4B59-8BAB-D3126EC8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0439F-D015-4CA9-9B46-DE935E1E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71618-E89E-442B-9E74-C50905D7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0857E-1806-4F68-A251-53372019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1697B-99A3-4708-9149-624A958E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7AF92-6DCC-4CF5-99D0-6014DFE9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4AED8-8AE2-4771-8672-F2847C72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4CB3-A90C-4057-A927-8BF782D7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FF589-84A0-4657-A4A7-C369A138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8D2C4-1A85-44A4-813D-28090CC0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88C3C-24CA-490E-A432-97630E76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BB07C-6171-4D02-B04F-46833730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6F3AA-7B3B-4F6B-830A-34A9AEC2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18115-3360-4F02-A735-4BA30D0B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CF18B-7F1E-4902-8B5D-725C5359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8FA2-107F-46D6-AED0-09656365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EDB9-99CD-48DB-9F40-6771A92B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01E8-DCB9-4EE7-B0CC-D966588B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3033-B386-42F9-9AA7-143F85CE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5B5-93C2-480E-85FF-A508D8A2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496F-D33A-4774-BBA9-6ACF9266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7D9D-1372-46DE-9F0C-94373886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A3A4-F69D-4849-8F99-48323C4F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F19F-C38C-4A7D-956A-6663EA67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D08A-4D1F-4960-B9C4-11B42011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E7257-E9A4-4A93-9CCB-EC0616D2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96CFA-7B2D-4611-8F1D-990CE00A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7C73C-1AD2-4715-8CC2-25A5DE58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E09B8-E963-45D3-A0D9-5652972F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4754E-8F41-4807-B24F-2F6CA67B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4248-A9BE-4785-847E-808614D1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C447C-37FF-41FB-A417-A21EA94D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4C7B7-6414-44B7-B01B-D3DD4D6D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2FA32-5794-4368-9119-8CB6AB42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F38D6-BEEA-4666-BBD8-3C5B071E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B531F-8D82-4A75-85CC-1D603991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6FD6B-459C-4560-8C86-AC0658EB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8118A-02BA-4939-B4BA-B8BCBD29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27D11-BF89-4ADB-BA6C-1CBFBC52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B5E18-B2EA-4244-91DF-D7BE0F5B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441F3-994A-4504-A5FB-702F4805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FC5-17D9-4212-B166-96EC0890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60521-8238-44A4-85C0-0DC0D263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7C669-AA82-45AD-8004-8307BD06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B0A88-15D3-4D45-A601-89657F48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4A3EC-824C-4940-A7D8-BD8498F0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87991-4277-4022-832B-09E95016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BC0EE-49A7-4464-B93E-8EFAB4E6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0372E-F207-4DA1-A87D-E7058CD0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B2CE3-E439-49A0-BCBD-81F71CFE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4C47D-B220-4D49-8D8C-AAAC4A13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B9CA8-B755-42E5-A2C3-CBDE6AC7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8A1-B6DB-4ACC-88BD-840B1885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8360D-5E04-4F58-A67C-C0863BB9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2DD6D-D57F-46EB-9794-55B66D1C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24F69-43EA-4227-B5EE-BFC37AC8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41906-5921-4BED-8527-264055A5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80F12-0FE8-4D7C-92EB-EE32B7BE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F0A5A-D05A-4D4E-8572-897EF2E9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DE626-3C16-41A6-AA0E-BC48D958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91D85-C0E0-4169-86E8-DF192106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32E9E-FA46-4E9C-9172-F2B48473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4710C-A68D-4306-8963-705277A4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FD7-F6E3-405E-A912-A4002FB8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03424-481B-4E65-BD88-DCFD9F75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D4A57-6407-439F-901E-C7CFD953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43F48-A7A0-470B-AB32-87743E02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16E1E-7CFE-4480-B4B2-879EACE2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2A78B-7630-4AE8-AAF7-952418A0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5085F-17BF-4E49-A740-81D64200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32051-20EE-4602-8EFD-A108652B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FD831-336F-4BA2-8AB0-987A09A5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1E88F-0B70-43B5-9E0C-1A8E8C53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28A6E-B928-4E44-A34B-477AF065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2C4-2E42-4194-9D6D-BCFD7DF8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9200C-A71D-419C-896E-3416C6E1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C1AEA-FAE9-42D1-9BCD-D9370451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BB323-B921-441D-ACB5-303F25B3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22995-4468-4E27-A003-1F5CEAC2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CA9CD-B754-4642-86D2-161DB6A1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DF468-21BE-4D36-A99A-06314B6B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71DFD-9A68-4F46-963E-263A356C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973D6-C33E-4373-AEBE-1DBF6C99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958B5-6FC8-4E1F-896A-3FFB978A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43BF6-AFD8-4BBB-9163-72BA5626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FC5-C470-41D5-A458-6553E58D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691D6-F233-424D-BDED-73E249F0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5C574-C62D-4F29-B323-9F36F35C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AB8CB-C576-481F-A50E-E8EC0241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02C31-FAF7-49B6-AFDD-CE9A9B1A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7E1B1-6432-4FF2-89ED-01C481CE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13B60-08BE-4538-BC22-6C2B9E78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011DA-2231-4585-BEDD-23E06E95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75CD4-4957-4756-B04B-7FC2143E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F1BC3-FED0-4AA8-B2F5-C4F0A1A8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AED24-F27D-46B4-85A5-F33A7953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887-B51E-4893-A9C8-162D07AF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767F7-989F-4A75-9649-901C5221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E1188-E118-4597-8682-BB807B43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D166C-B210-4F93-BC68-6FF53B5D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561ED-96F7-4B44-AA59-AEAE8F43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6E420-AE29-4C50-B16D-A77270F5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ECEF4-7490-4905-BEFD-A564456B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9DADE-6708-42A8-9CDC-6400F48D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5D576-A391-470E-B50E-F00F0E5E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E414E-8D26-438A-B01B-F95EBD17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A082A-34B9-4357-B0B7-CD459304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76D4-35A9-4D24-A9CB-8F4E3D4A27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9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A3C5-22E3-469E-927E-897DD2E6BC60}" type="slidenum">
              <a:rPr b="0" lang="en-US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4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2C45-C934-48A6-8EDA-02536623BA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8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1AD2-97EB-468F-845F-55F1EF3979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CE84-5DEE-4C46-805F-08B2991BEB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A9BE-5565-4EC9-A522-B6E4701316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84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6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080D-DDFB-46F4-A823-C517237A4A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E411-8E17-401D-81CB-12B515C9A6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17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167F-1AFD-4CF5-B728-89C6C83F24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1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C5E8-BECA-4148-A9DC-3A835BC40F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26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60D6-EFDC-4230-B397-E3312DA4AA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0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542C-49E5-4D37-AD88-298E55D38E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5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13BC-87C5-4B9F-8ED9-2E73BC802D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6.wmf"/><Relationship Id="rId19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2.wmf"/><Relationship Id="rId1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image" Target="../media/image57.jpe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1.wmf"/><Relationship Id="rId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8.wmf"/><Relationship Id="rId2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1.png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0" y="692280"/>
            <a:ext cx="73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新人教版九年级数学</a:t>
            </a:r>
            <a:r>
              <a:rPr b="1" lang="en-US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册</a:t>
            </a:r>
            <a:r>
              <a:rPr b="1" lang="en-US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第二十八章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250920" y="220500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华文行楷"/>
                <a:ea typeface="华文行楷"/>
              </a:rPr>
              <a:t>§28.1 </a:t>
            </a:r>
            <a:r>
              <a:rPr b="1" lang="zh-CN" sz="5400" spc="-1" strike="noStrike">
                <a:solidFill>
                  <a:srgbClr val="663300"/>
                </a:solidFill>
                <a:latin typeface="华文行楷"/>
                <a:ea typeface="华文行楷"/>
              </a:rPr>
              <a:t>锐角三角函数（</a:t>
            </a:r>
            <a:r>
              <a:rPr b="1" lang="en-US" sz="5400" spc="-1" strike="noStrike">
                <a:solidFill>
                  <a:srgbClr val="663300"/>
                </a:solidFill>
                <a:latin typeface="华文行楷"/>
                <a:ea typeface="华文行楷"/>
              </a:rPr>
              <a:t>3</a:t>
            </a:r>
            <a:r>
              <a:rPr b="1" lang="zh-CN" sz="5400" spc="-1" strike="noStrike">
                <a:solidFill>
                  <a:srgbClr val="663300"/>
                </a:solidFill>
                <a:latin typeface="华文行楷"/>
                <a:ea typeface="华文行楷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5" descr="star"/>
          <p:cNvPicPr/>
          <p:nvPr/>
        </p:nvPicPr>
        <p:blipFill>
          <a:blip r:embed="rId1"/>
          <a:stretch/>
        </p:blipFill>
        <p:spPr>
          <a:xfrm>
            <a:off x="1692360" y="5589720"/>
            <a:ext cx="677880" cy="934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star"/>
          <p:cNvPicPr/>
          <p:nvPr/>
        </p:nvPicPr>
        <p:blipFill>
          <a:blip r:embed="rId2"/>
          <a:stretch/>
        </p:blipFill>
        <p:spPr>
          <a:xfrm>
            <a:off x="1258920" y="4508640"/>
            <a:ext cx="696960" cy="1079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star"/>
          <p:cNvPicPr/>
          <p:nvPr/>
        </p:nvPicPr>
        <p:blipFill>
          <a:blip r:embed="rId3"/>
          <a:stretch/>
        </p:blipFill>
        <p:spPr>
          <a:xfrm>
            <a:off x="0" y="5013360"/>
            <a:ext cx="863640" cy="936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8" descr="star"/>
          <p:cNvPicPr/>
          <p:nvPr/>
        </p:nvPicPr>
        <p:blipFill>
          <a:blip r:embed="rId4"/>
          <a:stretch/>
        </p:blipFill>
        <p:spPr>
          <a:xfrm>
            <a:off x="468360" y="57340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9" descr="star"/>
          <p:cNvPicPr/>
          <p:nvPr/>
        </p:nvPicPr>
        <p:blipFill>
          <a:blip r:embed="rId5"/>
          <a:stretch/>
        </p:blipFill>
        <p:spPr>
          <a:xfrm>
            <a:off x="468360" y="4581360"/>
            <a:ext cx="677880" cy="935280"/>
          </a:xfrm>
          <a:prstGeom prst="rect">
            <a:avLst/>
          </a:prstGeom>
          <a:ln w="0">
            <a:noFill/>
          </a:ln>
        </p:spPr>
      </p:pic>
      <p:pic>
        <p:nvPicPr>
          <p:cNvPr id="578" name="奔跑.mp3" descr=""/>
          <p:cNvPicPr/>
          <p:nvPr/>
        </p:nvPicPr>
        <p:blipFill>
          <a:blip r:embed="rId6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93236" fill="hold"/>
                                        <p:tgtEl>
                                          <p:spTgt spid="5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4"/>
          <p:cNvSpPr/>
          <p:nvPr/>
        </p:nvSpPr>
        <p:spPr>
          <a:xfrm>
            <a:off x="611280" y="950760"/>
            <a:ext cx="828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图，在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，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=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度，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0" name="Object 5"/>
          <p:cNvGraphicFramePr/>
          <p:nvPr/>
        </p:nvGraphicFramePr>
        <p:xfrm>
          <a:off x="5832360" y="765000"/>
          <a:ext cx="266076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32360" y="765000"/>
                    <a:ext cx="26607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2" name="Group 16"/>
          <p:cNvGrpSpPr/>
          <p:nvPr/>
        </p:nvGrpSpPr>
        <p:grpSpPr>
          <a:xfrm>
            <a:off x="5051520" y="1700280"/>
            <a:ext cx="4091760" cy="2248560"/>
            <a:chOff x="5051520" y="1700280"/>
            <a:chExt cx="4091760" cy="2248560"/>
          </a:xfrm>
        </p:grpSpPr>
        <p:grpSp>
          <p:nvGrpSpPr>
            <p:cNvPr id="753" name="Group 15"/>
            <p:cNvGrpSpPr/>
            <p:nvPr/>
          </p:nvGrpSpPr>
          <p:grpSpPr>
            <a:xfrm>
              <a:off x="5051520" y="1758960"/>
              <a:ext cx="4091760" cy="2189880"/>
              <a:chOff x="5051520" y="1758960"/>
              <a:chExt cx="4091760" cy="2189880"/>
            </a:xfrm>
          </p:grpSpPr>
          <p:sp>
            <p:nvSpPr>
              <p:cNvPr id="754" name="AutoShape 7"/>
              <p:cNvSpPr/>
              <p:nvPr/>
            </p:nvSpPr>
            <p:spPr>
              <a:xfrm>
                <a:off x="5051520" y="1758960"/>
                <a:ext cx="4091760" cy="218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9"/>
              <p:cNvSpPr/>
              <p:nvPr/>
            </p:nvSpPr>
            <p:spPr>
              <a:xfrm>
                <a:off x="5411520" y="3502800"/>
                <a:ext cx="3310200" cy="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Line 10"/>
              <p:cNvSpPr/>
              <p:nvPr/>
            </p:nvSpPr>
            <p:spPr>
              <a:xfrm flipH="1">
                <a:off x="5411160" y="2177640"/>
                <a:ext cx="1958040" cy="1324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11"/>
              <p:cNvSpPr/>
              <p:nvPr/>
            </p:nvSpPr>
            <p:spPr>
              <a:xfrm>
                <a:off x="7369560" y="2177640"/>
                <a:ext cx="1352160" cy="1324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Rectangle 12"/>
              <p:cNvSpPr/>
              <p:nvPr/>
            </p:nvSpPr>
            <p:spPr>
              <a:xfrm>
                <a:off x="5225040" y="350280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Rectangle 13"/>
              <p:cNvSpPr/>
              <p:nvPr/>
            </p:nvSpPr>
            <p:spPr>
              <a:xfrm>
                <a:off x="8771760" y="34891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0" name="Rectangle 14"/>
            <p:cNvSpPr/>
            <p:nvPr/>
          </p:nvSpPr>
          <p:spPr>
            <a:xfrm>
              <a:off x="7286760" y="17002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1" name="Group 19"/>
          <p:cNvGrpSpPr/>
          <p:nvPr/>
        </p:nvGrpSpPr>
        <p:grpSpPr>
          <a:xfrm>
            <a:off x="7210440" y="2203560"/>
            <a:ext cx="504720" cy="1659240"/>
            <a:chOff x="7210440" y="2203560"/>
            <a:chExt cx="504720" cy="1659240"/>
          </a:xfrm>
        </p:grpSpPr>
        <p:sp>
          <p:nvSpPr>
            <p:cNvPr id="762" name="Line 17"/>
            <p:cNvSpPr/>
            <p:nvPr/>
          </p:nvSpPr>
          <p:spPr>
            <a:xfrm>
              <a:off x="7354800" y="2203560"/>
              <a:ext cx="0" cy="12967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7210440" y="34639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Text Box 20"/>
          <p:cNvSpPr/>
          <p:nvPr/>
        </p:nvSpPr>
        <p:spPr>
          <a:xfrm>
            <a:off x="611280" y="19162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过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D⊥A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于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22"/>
          <p:cNvSpPr/>
          <p:nvPr/>
        </p:nvSpPr>
        <p:spPr>
          <a:xfrm>
            <a:off x="755640" y="2349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=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度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6" name="Object 23"/>
          <p:cNvGraphicFramePr/>
          <p:nvPr/>
        </p:nvGraphicFramePr>
        <p:xfrm>
          <a:off x="2627280" y="2349360"/>
          <a:ext cx="1149480" cy="3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7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2349360"/>
                    <a:ext cx="11494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Object 26"/>
          <p:cNvGraphicFramePr/>
          <p:nvPr/>
        </p:nvGraphicFramePr>
        <p:xfrm>
          <a:off x="641520" y="2784600"/>
          <a:ext cx="2030400" cy="71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9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520" y="2784600"/>
                    <a:ext cx="203040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0" name="Object 27"/>
          <p:cNvGraphicFramePr/>
          <p:nvPr/>
        </p:nvGraphicFramePr>
        <p:xfrm>
          <a:off x="2843280" y="2781360"/>
          <a:ext cx="2446200" cy="71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1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2781360"/>
                    <a:ext cx="24462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Object 28"/>
          <p:cNvGraphicFramePr/>
          <p:nvPr/>
        </p:nvGraphicFramePr>
        <p:xfrm>
          <a:off x="655560" y="3741840"/>
          <a:ext cx="2260800" cy="78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73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560" y="3741840"/>
                    <a:ext cx="22608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Object 31"/>
          <p:cNvGraphicFramePr/>
          <p:nvPr/>
        </p:nvGraphicFramePr>
        <p:xfrm>
          <a:off x="2987640" y="3716280"/>
          <a:ext cx="2446200" cy="78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5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87640" y="3716280"/>
                    <a:ext cx="24462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Object 32"/>
          <p:cNvGraphicFramePr/>
          <p:nvPr/>
        </p:nvGraphicFramePr>
        <p:xfrm>
          <a:off x="695160" y="4653000"/>
          <a:ext cx="2237040" cy="785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77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5160" y="4653000"/>
                    <a:ext cx="223704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8" name="Object 33"/>
          <p:cNvGraphicFramePr/>
          <p:nvPr/>
        </p:nvGraphicFramePr>
        <p:xfrm>
          <a:off x="3056040" y="4657680"/>
          <a:ext cx="2307960" cy="763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79" name="Object 3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56040" y="4657680"/>
                    <a:ext cx="230796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0" name="Object 34"/>
          <p:cNvGraphicFramePr/>
          <p:nvPr/>
        </p:nvGraphicFramePr>
        <p:xfrm>
          <a:off x="762120" y="5592600"/>
          <a:ext cx="3162240" cy="324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81" name="Object 3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120" y="5592600"/>
                    <a:ext cx="31622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611280" y="797040"/>
            <a:ext cx="7777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求下列各式的值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 sin30°cos3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tan30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n45°+2sin6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Object 3"/>
              <p:cNvSpPr txBox="1"/>
              <p:nvPr/>
            </p:nvSpPr>
            <p:spPr>
              <a:xfrm>
                <a:off x="1258920" y="1989000"/>
                <a:ext cx="23763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4" name="Rectangle 4"/>
          <p:cNvSpPr/>
          <p:nvPr/>
        </p:nvSpPr>
        <p:spPr>
          <a:xfrm>
            <a:off x="684360" y="189000"/>
            <a:ext cx="25923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324000" y="30322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解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Rectangle 6"/>
          <p:cNvSpPr/>
          <p:nvPr/>
        </p:nvSpPr>
        <p:spPr>
          <a:xfrm>
            <a:off x="1195560" y="3032280"/>
            <a:ext cx="27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 sin30°cos3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7" name="Object 7"/>
          <p:cNvGraphicFramePr/>
          <p:nvPr/>
        </p:nvGraphicFramePr>
        <p:xfrm>
          <a:off x="1474920" y="3429000"/>
          <a:ext cx="1944720" cy="8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4920" y="3429000"/>
                    <a:ext cx="194472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8"/>
          <p:cNvGraphicFramePr/>
          <p:nvPr/>
        </p:nvGraphicFramePr>
        <p:xfrm>
          <a:off x="1501920" y="4221000"/>
          <a:ext cx="1125360" cy="87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0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01920" y="4221000"/>
                    <a:ext cx="11253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Rectangle 9"/>
          <p:cNvSpPr/>
          <p:nvPr/>
        </p:nvSpPr>
        <p:spPr>
          <a:xfrm>
            <a:off x="4811400" y="2997360"/>
            <a:ext cx="35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3tan30°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an45°+2sin6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2" name="Object 10"/>
          <p:cNvGraphicFramePr/>
          <p:nvPr/>
        </p:nvGraphicFramePr>
        <p:xfrm>
          <a:off x="5029200" y="3429000"/>
          <a:ext cx="254160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3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3429000"/>
                    <a:ext cx="2541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Object 11"/>
          <p:cNvGraphicFramePr/>
          <p:nvPr/>
        </p:nvGraphicFramePr>
        <p:xfrm>
          <a:off x="4989600" y="4365720"/>
          <a:ext cx="1873080" cy="503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89600" y="4365720"/>
                    <a:ext cx="1873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2"/>
          <p:cNvGraphicFramePr/>
          <p:nvPr/>
        </p:nvGraphicFramePr>
        <p:xfrm>
          <a:off x="4991040" y="5084640"/>
          <a:ext cx="1511280" cy="568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97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91040" y="5084640"/>
                    <a:ext cx="15112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Object 2"/>
          <p:cNvGraphicFramePr/>
          <p:nvPr/>
        </p:nvGraphicFramePr>
        <p:xfrm>
          <a:off x="1004760" y="981000"/>
          <a:ext cx="327996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981000"/>
                    <a:ext cx="32799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Object 3"/>
          <p:cNvGraphicFramePr/>
          <p:nvPr/>
        </p:nvGraphicFramePr>
        <p:xfrm>
          <a:off x="1116000" y="2133720"/>
          <a:ext cx="2303640" cy="19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2133720"/>
                    <a:ext cx="230364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Object 4"/>
          <p:cNvGraphicFramePr/>
          <p:nvPr/>
        </p:nvGraphicFramePr>
        <p:xfrm>
          <a:off x="1068480" y="4365720"/>
          <a:ext cx="2352600" cy="61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8480" y="4365720"/>
                    <a:ext cx="23526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Object 5"/>
          <p:cNvGraphicFramePr/>
          <p:nvPr/>
        </p:nvGraphicFramePr>
        <p:xfrm>
          <a:off x="1087560" y="5413320"/>
          <a:ext cx="57600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7560" y="5413320"/>
                    <a:ext cx="5760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6" name="Picture 6" descr="091dm"/>
          <p:cNvPicPr/>
          <p:nvPr/>
        </p:nvPicPr>
        <p:blipFill>
          <a:blip r:embed="rId9"/>
          <a:stretch/>
        </p:blipFill>
        <p:spPr>
          <a:xfrm>
            <a:off x="6300720" y="3068640"/>
            <a:ext cx="2233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468360" y="692280"/>
            <a:ext cx="684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中，∠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90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求∠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∠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度数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8" name="Object 3"/>
              <p:cNvSpPr txBox="1"/>
              <p:nvPr/>
            </p:nvSpPr>
            <p:spPr>
              <a:xfrm>
                <a:off x="4067280" y="692280"/>
                <a:ext cx="2663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09" name="Line 4"/>
          <p:cNvSpPr/>
          <p:nvPr/>
        </p:nvSpPr>
        <p:spPr>
          <a:xfrm flipV="1">
            <a:off x="8158320" y="1197000"/>
            <a:ext cx="0" cy="1224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Line 5"/>
          <p:cNvSpPr/>
          <p:nvPr/>
        </p:nvSpPr>
        <p:spPr>
          <a:xfrm flipH="1">
            <a:off x="6227640" y="1197000"/>
            <a:ext cx="1944720" cy="1224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8028000" y="76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5867280" y="220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8244000" y="220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Group 9"/>
          <p:cNvGrpSpPr/>
          <p:nvPr/>
        </p:nvGrpSpPr>
        <p:grpSpPr>
          <a:xfrm>
            <a:off x="6227640" y="2205000"/>
            <a:ext cx="1944720" cy="216000"/>
            <a:chOff x="6227640" y="2205000"/>
            <a:chExt cx="1944720" cy="216000"/>
          </a:xfrm>
        </p:grpSpPr>
        <p:sp>
          <p:nvSpPr>
            <p:cNvPr id="815" name="Line 10"/>
            <p:cNvSpPr/>
            <p:nvPr/>
          </p:nvSpPr>
          <p:spPr>
            <a:xfrm>
              <a:off x="6227640" y="2421000"/>
              <a:ext cx="1944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6" name="Group 11"/>
            <p:cNvGrpSpPr/>
            <p:nvPr/>
          </p:nvGrpSpPr>
          <p:grpSpPr>
            <a:xfrm>
              <a:off x="7956720" y="2205000"/>
              <a:ext cx="215640" cy="216000"/>
              <a:chOff x="7956720" y="2205000"/>
              <a:chExt cx="215640" cy="216000"/>
            </a:xfrm>
          </p:grpSpPr>
          <p:sp>
            <p:nvSpPr>
              <p:cNvPr id="817" name="Line 12"/>
              <p:cNvSpPr/>
              <p:nvPr/>
            </p:nvSpPr>
            <p:spPr>
              <a:xfrm>
                <a:off x="7956720" y="2219400"/>
                <a:ext cx="215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13"/>
              <p:cNvSpPr/>
              <p:nvPr/>
            </p:nvSpPr>
            <p:spPr>
              <a:xfrm>
                <a:off x="7956720" y="2205000"/>
                <a:ext cx="0" cy="216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19" name="Object 14"/>
          <p:cNvGraphicFramePr/>
          <p:nvPr/>
        </p:nvGraphicFramePr>
        <p:xfrm>
          <a:off x="8172360" y="1515960"/>
          <a:ext cx="50184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2360" y="1515960"/>
                    <a:ext cx="5018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15"/>
          <p:cNvGraphicFramePr/>
          <p:nvPr/>
        </p:nvGraphicFramePr>
        <p:xfrm>
          <a:off x="6819840" y="2478240"/>
          <a:ext cx="633600" cy="44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2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19840" y="2478240"/>
                    <a:ext cx="6336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Text Box 16"/>
          <p:cNvSpPr/>
          <p:nvPr/>
        </p:nvSpPr>
        <p:spPr>
          <a:xfrm>
            <a:off x="900000" y="1916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解： 由勾股定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4" name="Object 17"/>
          <p:cNvGraphicFramePr/>
          <p:nvPr/>
        </p:nvGraphicFramePr>
        <p:xfrm>
          <a:off x="1770120" y="3860640"/>
          <a:ext cx="280188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5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0120" y="3860640"/>
                    <a:ext cx="28018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6" name="Object 18"/>
          <p:cNvGraphicFramePr/>
          <p:nvPr/>
        </p:nvGraphicFramePr>
        <p:xfrm>
          <a:off x="946080" y="2808360"/>
          <a:ext cx="6794640" cy="80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7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46080" y="2808360"/>
                    <a:ext cx="67946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8" name="Text Box 19"/>
          <p:cNvSpPr/>
          <p:nvPr/>
        </p:nvSpPr>
        <p:spPr>
          <a:xfrm>
            <a:off x="2266920" y="51195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∴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3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 Box 20"/>
          <p:cNvSpPr/>
          <p:nvPr/>
        </p:nvSpPr>
        <p:spPr>
          <a:xfrm>
            <a:off x="1763640" y="591192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 = 90°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 ∠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 = 9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°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°= 6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3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3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3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3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3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3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1042920" y="1052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，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=9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度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A+tanB=4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面积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长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Text Box 5"/>
          <p:cNvSpPr/>
          <p:nvPr/>
        </p:nvSpPr>
        <p:spPr>
          <a:xfrm>
            <a:off x="1042920" y="234936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，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=9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度，化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2" name="Object 6"/>
          <p:cNvGraphicFramePr/>
          <p:nvPr/>
        </p:nvGraphicFramePr>
        <p:xfrm>
          <a:off x="5867280" y="2349360"/>
          <a:ext cx="2397240" cy="4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349360"/>
                    <a:ext cx="239724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WordArt 2"/>
          <p:cNvSpPr txBox="1"/>
          <p:nvPr/>
        </p:nvSpPr>
        <p:spPr>
          <a:xfrm>
            <a:off x="0" y="0"/>
            <a:ext cx="190800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拓展与提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835" name="Picture 3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7308720" cy="151596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4"/>
          <p:cNvSpPr/>
          <p:nvPr/>
        </p:nvSpPr>
        <p:spPr>
          <a:xfrm>
            <a:off x="755640" y="2708280"/>
            <a:ext cx="777708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已知：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锐角，且满足                                            ，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度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Picture 5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4824720" cy="81756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6"/>
          <p:cNvSpPr/>
          <p:nvPr/>
        </p:nvSpPr>
        <p:spPr>
          <a:xfrm>
            <a:off x="755640" y="4869000"/>
            <a:ext cx="76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t△AB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中，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=90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化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Picture 7" descr=""/>
          <p:cNvPicPr/>
          <p:nvPr/>
        </p:nvPicPr>
        <p:blipFill>
          <a:blip r:embed="rId3"/>
          <a:stretch/>
        </p:blipFill>
        <p:spPr>
          <a:xfrm>
            <a:off x="1116000" y="5516640"/>
            <a:ext cx="38163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4"/>
          <p:cNvSpPr/>
          <p:nvPr/>
        </p:nvSpPr>
        <p:spPr>
          <a:xfrm>
            <a:off x="684360" y="189000"/>
            <a:ext cx="25923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5"/>
          <p:cNvSpPr/>
          <p:nvPr/>
        </p:nvSpPr>
        <p:spPr>
          <a:xfrm>
            <a:off x="612720" y="8715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0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5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0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角的正弦值、余弦值和正切值如下表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766800" y="1557360"/>
          <a:ext cx="7608960" cy="3325680"/>
        </p:xfrm>
        <a:graphic>
          <a:graphicData uri="http://schemas.openxmlformats.org/drawingml/2006/table">
            <a:tbl>
              <a:tblPr/>
              <a:tblGrid>
                <a:gridCol w="1784160"/>
                <a:gridCol w="1941840"/>
                <a:gridCol w="1941480"/>
                <a:gridCol w="194148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锐角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三角函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0742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0742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5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0742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0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0742f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in 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</a:tr>
              <a:tr h="65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os 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an 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3" name="Object 34"/>
          <p:cNvGraphicFramePr/>
          <p:nvPr/>
        </p:nvGraphicFramePr>
        <p:xfrm>
          <a:off x="3313080" y="2852640"/>
          <a:ext cx="25092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4" name="Object 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13080" y="2852640"/>
                    <a:ext cx="2509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35"/>
          <p:cNvGraphicFramePr/>
          <p:nvPr/>
        </p:nvGraphicFramePr>
        <p:xfrm>
          <a:off x="5219640" y="2905200"/>
          <a:ext cx="368280" cy="595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6" name="Object 3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2905200"/>
                    <a:ext cx="36828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36"/>
          <p:cNvGraphicFramePr/>
          <p:nvPr/>
        </p:nvGraphicFramePr>
        <p:xfrm>
          <a:off x="7142040" y="2852640"/>
          <a:ext cx="370080" cy="62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48" name="Object 3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42040" y="2852640"/>
                    <a:ext cx="37008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37"/>
          <p:cNvGraphicFramePr/>
          <p:nvPr/>
        </p:nvGraphicFramePr>
        <p:xfrm>
          <a:off x="5162400" y="3552840"/>
          <a:ext cx="412920" cy="668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50" name="Object 3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62400" y="3552840"/>
                    <a:ext cx="412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38"/>
          <p:cNvGraphicFramePr/>
          <p:nvPr/>
        </p:nvGraphicFramePr>
        <p:xfrm>
          <a:off x="7245360" y="3500280"/>
          <a:ext cx="279360" cy="72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52" name="Object 3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245360" y="3500280"/>
                    <a:ext cx="279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39"/>
          <p:cNvGraphicFramePr/>
          <p:nvPr/>
        </p:nvGraphicFramePr>
        <p:xfrm>
          <a:off x="7080120" y="4352760"/>
          <a:ext cx="444600" cy="444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54" name="Object 3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80120" y="4352760"/>
                    <a:ext cx="4446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40"/>
          <p:cNvGraphicFramePr/>
          <p:nvPr/>
        </p:nvGraphicFramePr>
        <p:xfrm>
          <a:off x="3262320" y="3514680"/>
          <a:ext cx="314280" cy="739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56" name="Object 4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62320" y="3514680"/>
                    <a:ext cx="3142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Object 41"/>
          <p:cNvGraphicFramePr/>
          <p:nvPr/>
        </p:nvGraphicFramePr>
        <p:xfrm>
          <a:off x="3276720" y="4221000"/>
          <a:ext cx="392040" cy="667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58" name="Object 4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276720" y="4221000"/>
                    <a:ext cx="392040" cy="6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Object 42"/>
          <p:cNvGraphicFramePr/>
          <p:nvPr/>
        </p:nvGraphicFramePr>
        <p:xfrm>
          <a:off x="5354640" y="4437000"/>
          <a:ext cx="154080" cy="2872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60" name="Object 4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54640" y="4437000"/>
                    <a:ext cx="1540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1" name="Text Box 43"/>
          <p:cNvSpPr/>
          <p:nvPr/>
        </p:nvSpPr>
        <p:spPr>
          <a:xfrm>
            <a:off x="900000" y="5157720"/>
            <a:ext cx="770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于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sin</a:t>
            </a:r>
            <a:r>
              <a:rPr b="1" lang="el-GR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α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与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an</a:t>
            </a:r>
            <a:r>
              <a:rPr b="1" lang="el-GR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α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角度越大，函数值也越大；（带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正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于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s</a:t>
            </a:r>
            <a:r>
              <a:rPr b="1" lang="el-GR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α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角度越大，函数值越小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4140360" y="4797360"/>
            <a:ext cx="4751280" cy="1368360"/>
          </a:xfrm>
          <a:prstGeom prst="rect">
            <a:avLst/>
          </a:prstGeom>
          <a:solidFill>
            <a:srgbClr val="50742f"/>
          </a:solidFill>
          <a:ln w="9360">
            <a:solidFill>
              <a:srgbClr val="5074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3"/>
          <p:cNvSpPr/>
          <p:nvPr/>
        </p:nvSpPr>
        <p:spPr>
          <a:xfrm flipH="1">
            <a:off x="2734920" y="1314360"/>
            <a:ext cx="36360" cy="3915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4"/>
          <p:cNvSpPr/>
          <p:nvPr/>
        </p:nvSpPr>
        <p:spPr>
          <a:xfrm flipH="1">
            <a:off x="503280" y="1341360"/>
            <a:ext cx="2232000" cy="388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Line 5"/>
          <p:cNvSpPr/>
          <p:nvPr/>
        </p:nvSpPr>
        <p:spPr>
          <a:xfrm>
            <a:off x="466560" y="5229360"/>
            <a:ext cx="230508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6"/>
          <p:cNvSpPr/>
          <p:nvPr/>
        </p:nvSpPr>
        <p:spPr>
          <a:xfrm>
            <a:off x="2808360" y="112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7"/>
          <p:cNvSpPr/>
          <p:nvPr/>
        </p:nvSpPr>
        <p:spPr>
          <a:xfrm>
            <a:off x="2735280" y="1341360"/>
            <a:ext cx="14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0" y="4797360"/>
            <a:ext cx="431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2554200" y="765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2340000" y="5229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11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12"/>
          <p:cNvSpPr/>
          <p:nvPr/>
        </p:nvSpPr>
        <p:spPr>
          <a:xfrm>
            <a:off x="2411280" y="4941720"/>
            <a:ext cx="0" cy="2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rc 13"/>
          <p:cNvSpPr/>
          <p:nvPr/>
        </p:nvSpPr>
        <p:spPr>
          <a:xfrm>
            <a:off x="826920" y="4756320"/>
            <a:ext cx="216000" cy="47304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14"/>
          <p:cNvSpPr/>
          <p:nvPr/>
        </p:nvSpPr>
        <p:spPr>
          <a:xfrm>
            <a:off x="2627280" y="328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对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5"/>
          <p:cNvSpPr/>
          <p:nvPr/>
        </p:nvSpPr>
        <p:spPr>
          <a:xfrm>
            <a:off x="539640" y="5445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邻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6"/>
          <p:cNvSpPr/>
          <p:nvPr/>
        </p:nvSpPr>
        <p:spPr>
          <a:xfrm>
            <a:off x="6084720" y="472428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∠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对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7"/>
          <p:cNvSpPr/>
          <p:nvPr/>
        </p:nvSpPr>
        <p:spPr>
          <a:xfrm>
            <a:off x="6012000" y="5445000"/>
            <a:ext cx="2808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18"/>
          <p:cNvSpPr/>
          <p:nvPr/>
        </p:nvSpPr>
        <p:spPr>
          <a:xfrm>
            <a:off x="6156360" y="5373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∠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邻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19"/>
          <p:cNvSpPr/>
          <p:nvPr/>
        </p:nvSpPr>
        <p:spPr>
          <a:xfrm>
            <a:off x="5292720" y="551664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20"/>
          <p:cNvSpPr/>
          <p:nvPr/>
        </p:nvSpPr>
        <p:spPr>
          <a:xfrm>
            <a:off x="5292720" y="530064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21"/>
          <p:cNvSpPr/>
          <p:nvPr/>
        </p:nvSpPr>
        <p:spPr>
          <a:xfrm>
            <a:off x="4140360" y="836640"/>
            <a:ext cx="4751280" cy="1368360"/>
          </a:xfrm>
          <a:prstGeom prst="rect">
            <a:avLst/>
          </a:prstGeom>
          <a:solidFill>
            <a:srgbClr val="50742f"/>
          </a:solidFill>
          <a:ln w="9360">
            <a:solidFill>
              <a:srgbClr val="5074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22"/>
          <p:cNvSpPr/>
          <p:nvPr/>
        </p:nvSpPr>
        <p:spPr>
          <a:xfrm>
            <a:off x="4140360" y="2997360"/>
            <a:ext cx="4751280" cy="1368360"/>
          </a:xfrm>
          <a:prstGeom prst="rect">
            <a:avLst/>
          </a:prstGeom>
          <a:solidFill>
            <a:srgbClr val="50742f"/>
          </a:solidFill>
          <a:ln w="9360">
            <a:solidFill>
              <a:srgbClr val="5074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23"/>
          <p:cNvSpPr/>
          <p:nvPr/>
        </p:nvSpPr>
        <p:spPr>
          <a:xfrm>
            <a:off x="4211640" y="5084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24"/>
          <p:cNvSpPr/>
          <p:nvPr/>
        </p:nvSpPr>
        <p:spPr>
          <a:xfrm>
            <a:off x="5508720" y="357336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25"/>
          <p:cNvSpPr/>
          <p:nvPr/>
        </p:nvSpPr>
        <p:spPr>
          <a:xfrm>
            <a:off x="5508720" y="378936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26"/>
          <p:cNvSpPr/>
          <p:nvPr/>
        </p:nvSpPr>
        <p:spPr>
          <a:xfrm>
            <a:off x="5292720" y="162864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27"/>
          <p:cNvSpPr/>
          <p:nvPr/>
        </p:nvSpPr>
        <p:spPr>
          <a:xfrm>
            <a:off x="5292720" y="14130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4284720" y="335772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6555600" y="3117960"/>
            <a:ext cx="16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邻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6555600" y="812880"/>
            <a:ext cx="16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对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31"/>
          <p:cNvSpPr/>
          <p:nvPr/>
        </p:nvSpPr>
        <p:spPr>
          <a:xfrm>
            <a:off x="6084720" y="3645000"/>
            <a:ext cx="280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32"/>
          <p:cNvSpPr/>
          <p:nvPr/>
        </p:nvSpPr>
        <p:spPr>
          <a:xfrm>
            <a:off x="6084720" y="1484280"/>
            <a:ext cx="280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33"/>
          <p:cNvSpPr/>
          <p:nvPr/>
        </p:nvSpPr>
        <p:spPr>
          <a:xfrm>
            <a:off x="7185600" y="364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斜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34"/>
          <p:cNvSpPr/>
          <p:nvPr/>
        </p:nvSpPr>
        <p:spPr>
          <a:xfrm>
            <a:off x="4141080" y="11970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35"/>
          <p:cNvSpPr/>
          <p:nvPr/>
        </p:nvSpPr>
        <p:spPr>
          <a:xfrm>
            <a:off x="7113960" y="1557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斜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36"/>
          <p:cNvSpPr/>
          <p:nvPr/>
        </p:nvSpPr>
        <p:spPr>
          <a:xfrm>
            <a:off x="1025280" y="27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斜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WordArt 37"/>
          <p:cNvSpPr txBox="1"/>
          <p:nvPr/>
        </p:nvSpPr>
        <p:spPr>
          <a:xfrm>
            <a:off x="0" y="0"/>
            <a:ext cx="39956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回顾锐角三角函数如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60280"/>
            <a:ext cx="8748720" cy="2448000"/>
            <a:chOff x="0" y="260280"/>
            <a:chExt cx="8748720" cy="2448000"/>
          </a:xfrm>
        </p:grpSpPr>
        <p:sp>
          <p:nvSpPr>
            <p:cNvPr id="616" name="Rectangle 3"/>
            <p:cNvSpPr/>
            <p:nvPr/>
          </p:nvSpPr>
          <p:spPr>
            <a:xfrm>
              <a:off x="431640" y="765000"/>
              <a:ext cx="8317080" cy="1943280"/>
            </a:xfrm>
            <a:prstGeom prst="rect">
              <a:avLst/>
            </a:prstGeom>
            <a:noFill/>
            <a:ln w="28440">
              <a:solidFill>
                <a:srgbClr val="e1f0ff"/>
              </a:solidFill>
              <a:miter/>
            </a:ln>
            <a:effectLst>
              <a:outerShdw dist="107932" dir="2700000" blurRad="0" rotWithShape="0">
                <a:srgbClr val="00464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7" name="Group 4"/>
            <p:cNvGrpSpPr/>
            <p:nvPr/>
          </p:nvGrpSpPr>
          <p:grpSpPr>
            <a:xfrm>
              <a:off x="0" y="260280"/>
              <a:ext cx="2305080" cy="888840"/>
              <a:chOff x="0" y="260280"/>
              <a:chExt cx="2305080" cy="888840"/>
            </a:xfrm>
          </p:grpSpPr>
          <p:sp>
            <p:nvSpPr>
              <p:cNvPr id="618" name="Rectangle 5"/>
              <p:cNvSpPr/>
              <p:nvPr/>
            </p:nvSpPr>
            <p:spPr>
              <a:xfrm>
                <a:off x="1008000" y="645840"/>
                <a:ext cx="1297080" cy="28764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  <a:effectLst>
                <a:outerShdw dist="107932" dir="2700000" blurRad="0" rotWithShape="0">
                  <a:srgbClr val="00464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6"/>
              <p:cNvSpPr/>
              <p:nvPr/>
            </p:nvSpPr>
            <p:spPr>
              <a:xfrm>
                <a:off x="360360" y="285480"/>
                <a:ext cx="647640" cy="6480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Freeform 7"/>
              <p:cNvSpPr/>
              <p:nvPr/>
            </p:nvSpPr>
            <p:spPr>
              <a:xfrm>
                <a:off x="0" y="645840"/>
                <a:ext cx="1319400" cy="4906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8"/>
              <p:cNvSpPr/>
              <p:nvPr/>
            </p:nvSpPr>
            <p:spPr>
              <a:xfrm>
                <a:off x="0" y="658800"/>
                <a:ext cx="1319400" cy="49032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WordArt 9"/>
              <p:cNvSpPr txBox="1"/>
              <p:nvPr/>
            </p:nvSpPr>
            <p:spPr>
              <a:xfrm>
                <a:off x="552600" y="372960"/>
                <a:ext cx="301680" cy="528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ff00"/>
                      </a:solidFill>
                      <a:miter/>
                    </a:ln>
                    <a:solidFill>
                      <a:srgbClr val="ffff00"/>
                    </a:solidFill>
                    <a:latin typeface="宋体"/>
                  </a:rPr>
                  <a:t>?</a:t>
                </a:r>
                <a:endParaRPr b="0" lang="en-US" sz="1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623" name="WordArt 10"/>
              <p:cNvSpPr txBox="1"/>
              <p:nvPr/>
            </p:nvSpPr>
            <p:spPr>
              <a:xfrm>
                <a:off x="1152720" y="260280"/>
                <a:ext cx="4572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ff3300"/>
                      </a:solidFill>
                      <a:miter/>
                    </a:ln>
                    <a:solidFill>
                      <a:srgbClr val="ff3300"/>
                    </a:solidFill>
                    <a:latin typeface="宋体"/>
                  </a:rPr>
                  <a:t>思</a:t>
                </a:r>
                <a:endParaRPr b="0" lang="en-US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624" name="WordArt 11"/>
              <p:cNvSpPr txBox="1"/>
              <p:nvPr/>
            </p:nvSpPr>
            <p:spPr>
              <a:xfrm>
                <a:off x="1712880" y="485640"/>
                <a:ext cx="4572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ff3300"/>
                      </a:solidFill>
                      <a:miter/>
                    </a:ln>
                    <a:solidFill>
                      <a:srgbClr val="ff3300"/>
                    </a:solidFill>
                    <a:latin typeface="宋体"/>
                  </a:rPr>
                  <a:t>考</a:t>
                </a:r>
                <a:endParaRPr b="0" lang="en-US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625" name="Text Box 12"/>
            <p:cNvSpPr/>
            <p:nvPr/>
          </p:nvSpPr>
          <p:spPr>
            <a:xfrm>
              <a:off x="611280" y="1270080"/>
              <a:ext cx="36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两块三角尺中有几个不同的锐角？分别求出这几个锐角的正弦值、余弦值和正切值．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" name="Group 13"/>
            <p:cNvGrpSpPr/>
            <p:nvPr/>
          </p:nvGrpSpPr>
          <p:grpSpPr>
            <a:xfrm>
              <a:off x="4427640" y="1052640"/>
              <a:ext cx="1873080" cy="1224000"/>
              <a:chOff x="4427640" y="1052640"/>
              <a:chExt cx="1873080" cy="1224000"/>
            </a:xfrm>
          </p:grpSpPr>
          <p:sp>
            <p:nvSpPr>
              <p:cNvPr id="627" name="AutoShape 14"/>
              <p:cNvSpPr/>
              <p:nvPr/>
            </p:nvSpPr>
            <p:spPr>
              <a:xfrm>
                <a:off x="4427640" y="1052640"/>
                <a:ext cx="1873080" cy="1224000"/>
              </a:xfrm>
              <a:prstGeom prst="rtTriangle">
                <a:avLst/>
              </a:prstGeom>
              <a:solidFill>
                <a:srgbClr val="50742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AutoShape 15"/>
              <p:cNvSpPr/>
              <p:nvPr/>
            </p:nvSpPr>
            <p:spPr>
              <a:xfrm>
                <a:off x="4657680" y="1430640"/>
                <a:ext cx="1007640" cy="65880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6"/>
            <p:cNvGrpSpPr/>
            <p:nvPr/>
          </p:nvGrpSpPr>
          <p:grpSpPr>
            <a:xfrm>
              <a:off x="6443640" y="1197000"/>
              <a:ext cx="2158920" cy="1081080"/>
              <a:chOff x="6443640" y="1197000"/>
              <a:chExt cx="2158920" cy="1081080"/>
            </a:xfrm>
          </p:grpSpPr>
          <p:sp>
            <p:nvSpPr>
              <p:cNvPr id="630" name="AutoShape 17"/>
              <p:cNvSpPr/>
              <p:nvPr/>
            </p:nvSpPr>
            <p:spPr>
              <a:xfrm>
                <a:off x="6443640" y="1197000"/>
                <a:ext cx="2158920" cy="1081080"/>
              </a:xfrm>
              <a:prstGeom prst="triangle">
                <a:avLst>
                  <a:gd name="adj" fmla="val 50000"/>
                </a:avLst>
              </a:prstGeom>
              <a:solidFill>
                <a:srgbClr val="50742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AutoShape 18"/>
              <p:cNvSpPr/>
              <p:nvPr/>
            </p:nvSpPr>
            <p:spPr>
              <a:xfrm>
                <a:off x="7005240" y="1535040"/>
                <a:ext cx="1080720" cy="541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Text Box 19"/>
          <p:cNvSpPr/>
          <p:nvPr/>
        </p:nvSpPr>
        <p:spPr>
          <a:xfrm>
            <a:off x="539640" y="2997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设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0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对的直角边长为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那么斜边长为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20"/>
          <p:cNvSpPr/>
          <p:nvPr/>
        </p:nvSpPr>
        <p:spPr>
          <a:xfrm>
            <a:off x="684360" y="342900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另一条直角边长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4" name="Object 21"/>
          <p:cNvGraphicFramePr/>
          <p:nvPr/>
        </p:nvGraphicFramePr>
        <p:xfrm>
          <a:off x="2916360" y="3357720"/>
          <a:ext cx="2160360" cy="59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5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3357720"/>
                    <a:ext cx="2160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Object 22"/>
          <p:cNvGraphicFramePr/>
          <p:nvPr/>
        </p:nvGraphicFramePr>
        <p:xfrm>
          <a:off x="2482920" y="4076640"/>
          <a:ext cx="2089080" cy="711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37" name="Object 2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82920" y="4076640"/>
                    <a:ext cx="20890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Object 23"/>
          <p:cNvGraphicFramePr/>
          <p:nvPr/>
        </p:nvGraphicFramePr>
        <p:xfrm>
          <a:off x="2629080" y="4941720"/>
          <a:ext cx="2374560" cy="814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9" name="Object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29080" y="4941720"/>
                    <a:ext cx="237456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Object 24"/>
          <p:cNvGraphicFramePr/>
          <p:nvPr/>
        </p:nvGraphicFramePr>
        <p:xfrm>
          <a:off x="2698920" y="5805360"/>
          <a:ext cx="2160360" cy="793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41" name="Object 2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98920" y="5805360"/>
                    <a:ext cx="21603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25"/>
          <p:cNvSpPr/>
          <p:nvPr/>
        </p:nvSpPr>
        <p:spPr>
          <a:xfrm>
            <a:off x="5508720" y="1916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26"/>
          <p:cNvSpPr/>
          <p:nvPr/>
        </p:nvSpPr>
        <p:spPr>
          <a:xfrm>
            <a:off x="4356000" y="1197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27"/>
          <p:cNvSpPr/>
          <p:nvPr/>
        </p:nvSpPr>
        <p:spPr>
          <a:xfrm>
            <a:off x="6588000" y="1989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5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28"/>
          <p:cNvSpPr/>
          <p:nvPr/>
        </p:nvSpPr>
        <p:spPr>
          <a:xfrm>
            <a:off x="7956720" y="1952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5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6" name="Group 29"/>
          <p:cNvGrpSpPr/>
          <p:nvPr/>
        </p:nvGrpSpPr>
        <p:grpSpPr>
          <a:xfrm>
            <a:off x="6443640" y="3429000"/>
            <a:ext cx="1728720" cy="1297440"/>
            <a:chOff x="6443640" y="3429000"/>
            <a:chExt cx="1728720" cy="1297440"/>
          </a:xfrm>
        </p:grpSpPr>
        <p:grpSp>
          <p:nvGrpSpPr>
            <p:cNvPr id="647" name="Group 30"/>
            <p:cNvGrpSpPr/>
            <p:nvPr/>
          </p:nvGrpSpPr>
          <p:grpSpPr>
            <a:xfrm>
              <a:off x="6443640" y="3429000"/>
              <a:ext cx="1728720" cy="1224000"/>
              <a:chOff x="6443640" y="3429000"/>
              <a:chExt cx="1728720" cy="1224000"/>
            </a:xfrm>
          </p:grpSpPr>
          <p:sp>
            <p:nvSpPr>
              <p:cNvPr id="648" name="AutoShape 31"/>
              <p:cNvSpPr/>
              <p:nvPr/>
            </p:nvSpPr>
            <p:spPr>
              <a:xfrm flipH="1">
                <a:off x="6443640" y="3429000"/>
                <a:ext cx="1728720" cy="1224000"/>
              </a:xfrm>
              <a:prstGeom prst="rtTriangle">
                <a:avLst/>
              </a:prstGeom>
              <a:solidFill>
                <a:srgbClr val="50742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AutoShape 32"/>
              <p:cNvSpPr/>
              <p:nvPr/>
            </p:nvSpPr>
            <p:spPr>
              <a:xfrm flipH="1">
                <a:off x="7029720" y="3807000"/>
                <a:ext cx="929880" cy="65880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0" name="Text Box 33"/>
            <p:cNvSpPr/>
            <p:nvPr/>
          </p:nvSpPr>
          <p:spPr>
            <a:xfrm>
              <a:off x="6659640" y="432756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0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1" name="Text Box 34"/>
          <p:cNvSpPr/>
          <p:nvPr/>
        </p:nvSpPr>
        <p:spPr>
          <a:xfrm>
            <a:off x="2771640" y="115920"/>
            <a:ext cx="187164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活  动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Object 2"/>
          <p:cNvGraphicFramePr/>
          <p:nvPr/>
        </p:nvGraphicFramePr>
        <p:xfrm>
          <a:off x="2195640" y="333360"/>
          <a:ext cx="237636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33360"/>
                    <a:ext cx="23763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3"/>
          <p:cNvGraphicFramePr/>
          <p:nvPr/>
        </p:nvGraphicFramePr>
        <p:xfrm>
          <a:off x="2340000" y="1197000"/>
          <a:ext cx="208764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1197000"/>
                    <a:ext cx="208764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Object 4"/>
          <p:cNvGraphicFramePr/>
          <p:nvPr/>
        </p:nvGraphicFramePr>
        <p:xfrm>
          <a:off x="2266920" y="2023920"/>
          <a:ext cx="2160720" cy="75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6920" y="2023920"/>
                    <a:ext cx="216072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Text Box 5"/>
          <p:cNvSpPr/>
          <p:nvPr/>
        </p:nvSpPr>
        <p:spPr>
          <a:xfrm>
            <a:off x="957240" y="303228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设两条直角边长为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则斜边长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9" name="Object 6"/>
          <p:cNvGraphicFramePr/>
          <p:nvPr/>
        </p:nvGraphicFramePr>
        <p:xfrm>
          <a:off x="4773600" y="2968560"/>
          <a:ext cx="181440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73600" y="2968560"/>
                    <a:ext cx="18144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Object 7"/>
          <p:cNvGraphicFramePr/>
          <p:nvPr/>
        </p:nvGraphicFramePr>
        <p:xfrm>
          <a:off x="2340000" y="4618080"/>
          <a:ext cx="2521080" cy="89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40000" y="4618080"/>
                    <a:ext cx="25210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8"/>
          <p:cNvGraphicFramePr/>
          <p:nvPr/>
        </p:nvGraphicFramePr>
        <p:xfrm>
          <a:off x="2413080" y="5546880"/>
          <a:ext cx="2303280" cy="97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4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13080" y="5546880"/>
                    <a:ext cx="230328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9"/>
          <p:cNvGraphicFramePr/>
          <p:nvPr/>
        </p:nvGraphicFramePr>
        <p:xfrm>
          <a:off x="2124000" y="3716280"/>
          <a:ext cx="2808360" cy="936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6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24000" y="3716280"/>
                    <a:ext cx="28083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7" name="Group 10"/>
          <p:cNvGrpSpPr/>
          <p:nvPr/>
        </p:nvGrpSpPr>
        <p:grpSpPr>
          <a:xfrm>
            <a:off x="6588000" y="404280"/>
            <a:ext cx="1224000" cy="1767960"/>
            <a:chOff x="6588000" y="404280"/>
            <a:chExt cx="1224000" cy="1767960"/>
          </a:xfrm>
        </p:grpSpPr>
        <p:grpSp>
          <p:nvGrpSpPr>
            <p:cNvPr id="668" name="Group 11"/>
            <p:cNvGrpSpPr/>
            <p:nvPr/>
          </p:nvGrpSpPr>
          <p:grpSpPr>
            <a:xfrm>
              <a:off x="6588000" y="404280"/>
              <a:ext cx="1224000" cy="1729080"/>
              <a:chOff x="6588000" y="404280"/>
              <a:chExt cx="1224000" cy="1729080"/>
            </a:xfrm>
          </p:grpSpPr>
          <p:sp>
            <p:nvSpPr>
              <p:cNvPr id="669" name="AutoShape 12"/>
              <p:cNvSpPr/>
              <p:nvPr/>
            </p:nvSpPr>
            <p:spPr>
              <a:xfrm rot="16200000">
                <a:off x="6335280" y="656640"/>
                <a:ext cx="1729080" cy="1224000"/>
              </a:xfrm>
              <a:prstGeom prst="rtTriangle">
                <a:avLst/>
              </a:prstGeom>
              <a:solidFill>
                <a:srgbClr val="50742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AutoShape 13"/>
              <p:cNvSpPr/>
              <p:nvPr/>
            </p:nvSpPr>
            <p:spPr>
              <a:xfrm rot="16200000">
                <a:off x="6830280" y="1126440"/>
                <a:ext cx="930240" cy="65880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1" name="Text Box 14"/>
            <p:cNvSpPr/>
            <p:nvPr/>
          </p:nvSpPr>
          <p:spPr>
            <a:xfrm>
              <a:off x="6732720" y="177336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1f0ff"/>
                  </a:solidFill>
                  <a:latin typeface="Times New Roman"/>
                </a:rPr>
                <a:t>60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2" name="Group 15"/>
          <p:cNvGrpSpPr/>
          <p:nvPr/>
        </p:nvGrpSpPr>
        <p:grpSpPr>
          <a:xfrm>
            <a:off x="6342840" y="3577320"/>
            <a:ext cx="2288520" cy="2293560"/>
            <a:chOff x="6342840" y="3577320"/>
            <a:chExt cx="2288520" cy="2293560"/>
          </a:xfrm>
        </p:grpSpPr>
        <p:grpSp>
          <p:nvGrpSpPr>
            <p:cNvPr id="673" name="Group 16"/>
            <p:cNvGrpSpPr/>
            <p:nvPr/>
          </p:nvGrpSpPr>
          <p:grpSpPr>
            <a:xfrm>
              <a:off x="6342840" y="3577320"/>
              <a:ext cx="2288520" cy="2293560"/>
              <a:chOff x="6342840" y="3577320"/>
              <a:chExt cx="2288520" cy="2293560"/>
            </a:xfrm>
          </p:grpSpPr>
          <p:sp>
            <p:nvSpPr>
              <p:cNvPr id="674" name="AutoShape 17"/>
              <p:cNvSpPr/>
              <p:nvPr/>
            </p:nvSpPr>
            <p:spPr>
              <a:xfrm rot="8088000">
                <a:off x="6407640" y="4183560"/>
                <a:ext cx="2158920" cy="1081080"/>
              </a:xfrm>
              <a:prstGeom prst="triangle">
                <a:avLst>
                  <a:gd name="adj" fmla="val 50000"/>
                </a:avLst>
              </a:prstGeom>
              <a:solidFill>
                <a:srgbClr val="50742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AutoShape 18"/>
              <p:cNvSpPr/>
              <p:nvPr/>
            </p:nvSpPr>
            <p:spPr>
              <a:xfrm rot="8088000">
                <a:off x="6882120" y="4421520"/>
                <a:ext cx="1080720" cy="541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6" name="Text Box 19"/>
            <p:cNvSpPr/>
            <p:nvPr/>
          </p:nvSpPr>
          <p:spPr>
            <a:xfrm>
              <a:off x="6443640" y="4797360"/>
              <a:ext cx="93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1f0ff"/>
                  </a:solidFill>
                  <a:latin typeface="Times New Roman"/>
                </a:rPr>
                <a:t>45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250920" y="6922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0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5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0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角的正弦值、余弦值和正切值如下表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766800" y="1557360"/>
          <a:ext cx="7608960" cy="3325680"/>
        </p:xfrm>
        <a:graphic>
          <a:graphicData uri="http://schemas.openxmlformats.org/drawingml/2006/table">
            <a:tbl>
              <a:tblPr/>
              <a:tblGrid>
                <a:gridCol w="1784160"/>
                <a:gridCol w="1941840"/>
                <a:gridCol w="1941480"/>
                <a:gridCol w="194148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锐角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三角函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0742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0742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5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0742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0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0742f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in 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</a:tr>
              <a:tr h="65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os 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an 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6886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9" name="Object 31"/>
          <p:cNvGraphicFramePr/>
          <p:nvPr/>
        </p:nvGraphicFramePr>
        <p:xfrm>
          <a:off x="3313080" y="2852640"/>
          <a:ext cx="2509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3080" y="2852640"/>
                    <a:ext cx="2509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Object 32"/>
          <p:cNvGraphicFramePr/>
          <p:nvPr/>
        </p:nvGraphicFramePr>
        <p:xfrm>
          <a:off x="5219640" y="2905200"/>
          <a:ext cx="368280" cy="59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2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905200"/>
                    <a:ext cx="36828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Object 33"/>
          <p:cNvGraphicFramePr/>
          <p:nvPr/>
        </p:nvGraphicFramePr>
        <p:xfrm>
          <a:off x="7142040" y="2852640"/>
          <a:ext cx="370080" cy="62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4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2040" y="2852640"/>
                    <a:ext cx="37008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Object 34"/>
          <p:cNvGraphicFramePr/>
          <p:nvPr/>
        </p:nvGraphicFramePr>
        <p:xfrm>
          <a:off x="5162400" y="3552840"/>
          <a:ext cx="41292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6" name="Object 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62400" y="3552840"/>
                    <a:ext cx="412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Object 35"/>
          <p:cNvGraphicFramePr/>
          <p:nvPr/>
        </p:nvGraphicFramePr>
        <p:xfrm>
          <a:off x="7245360" y="3500280"/>
          <a:ext cx="279360" cy="72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8" name="Object 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45360" y="3500280"/>
                    <a:ext cx="279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Object 36"/>
          <p:cNvGraphicFramePr/>
          <p:nvPr/>
        </p:nvGraphicFramePr>
        <p:xfrm>
          <a:off x="7080120" y="4352760"/>
          <a:ext cx="44460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0" name="Object 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80120" y="4352760"/>
                    <a:ext cx="4446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Object 37"/>
          <p:cNvGraphicFramePr/>
          <p:nvPr/>
        </p:nvGraphicFramePr>
        <p:xfrm>
          <a:off x="3262320" y="3514680"/>
          <a:ext cx="314280" cy="739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92" name="Object 3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62320" y="3514680"/>
                    <a:ext cx="3142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38"/>
          <p:cNvGraphicFramePr/>
          <p:nvPr/>
        </p:nvGraphicFramePr>
        <p:xfrm>
          <a:off x="3276720" y="4221000"/>
          <a:ext cx="392040" cy="667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94" name="Object 3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76720" y="4221000"/>
                    <a:ext cx="392040" cy="6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39"/>
          <p:cNvGraphicFramePr/>
          <p:nvPr/>
        </p:nvGraphicFramePr>
        <p:xfrm>
          <a:off x="5354640" y="4437000"/>
          <a:ext cx="154080" cy="287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96" name="Object 3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54640" y="4437000"/>
                    <a:ext cx="1540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AutoShape 41"/>
          <p:cNvSpPr/>
          <p:nvPr/>
        </p:nvSpPr>
        <p:spPr>
          <a:xfrm>
            <a:off x="2916360" y="189000"/>
            <a:ext cx="5832360" cy="1008000"/>
          </a:xfrm>
          <a:prstGeom prst="cloudCallout">
            <a:avLst>
              <a:gd name="adj1" fmla="val -21064"/>
              <a:gd name="adj2" fmla="val 102125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仔细观察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说说你发现这张表有哪些规律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2"/>
          <p:cNvSpPr/>
          <p:nvPr/>
        </p:nvSpPr>
        <p:spPr>
          <a:xfrm>
            <a:off x="468360" y="404640"/>
            <a:ext cx="7991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求下列各式的值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s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0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Object 3"/>
              <p:cNvSpPr txBox="1"/>
              <p:nvPr/>
            </p:nvSpPr>
            <p:spPr>
              <a:xfrm>
                <a:off x="1187280" y="1392120"/>
                <a:ext cx="23767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0" name="Text Box 4"/>
          <p:cNvSpPr/>
          <p:nvPr/>
        </p:nvSpPr>
        <p:spPr>
          <a:xfrm>
            <a:off x="324000" y="270360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解： 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s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0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5"/>
              <p:cNvSpPr txBox="1"/>
              <p:nvPr/>
            </p:nvSpPr>
            <p:spPr>
              <a:xfrm>
                <a:off x="1476360" y="3240000"/>
                <a:ext cx="1800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2" name="Text Box 6"/>
          <p:cNvSpPr/>
          <p:nvPr/>
        </p:nvSpPr>
        <p:spPr>
          <a:xfrm>
            <a:off x="1405080" y="447192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Object 7"/>
              <p:cNvSpPr txBox="1"/>
              <p:nvPr/>
            </p:nvSpPr>
            <p:spPr>
              <a:xfrm>
                <a:off x="5580000" y="2671920"/>
                <a:ext cx="2232000" cy="89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4" name="Text Box 8"/>
          <p:cNvSpPr/>
          <p:nvPr/>
        </p:nvSpPr>
        <p:spPr>
          <a:xfrm>
            <a:off x="4902840" y="299412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9"/>
              <p:cNvSpPr txBox="1"/>
              <p:nvPr/>
            </p:nvSpPr>
            <p:spPr>
              <a:xfrm>
                <a:off x="5292720" y="3608280"/>
                <a:ext cx="18730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6" name="Text Box 10"/>
          <p:cNvSpPr/>
          <p:nvPr/>
        </p:nvSpPr>
        <p:spPr>
          <a:xfrm>
            <a:off x="5219640" y="49039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11"/>
          <p:cNvSpPr/>
          <p:nvPr/>
        </p:nvSpPr>
        <p:spPr>
          <a:xfrm>
            <a:off x="3672360" y="981000"/>
            <a:ext cx="441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3)tan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sin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4sin3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cos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co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0" y="838080"/>
            <a:ext cx="860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操场里有一个旗杆，老师让小明去测量旗杆高度，小明站在离旗杆底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米远处，目测旗杆的顶部，视线与水平线的夹角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度，并已知目高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6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米．然后他很快就算出旗杆的高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3"/>
          <p:cNvSpPr/>
          <p:nvPr/>
        </p:nvSpPr>
        <p:spPr>
          <a:xfrm>
            <a:off x="1447920" y="563868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6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4"/>
          <p:cNvSpPr/>
          <p:nvPr/>
        </p:nvSpPr>
        <p:spPr>
          <a:xfrm>
            <a:off x="2508120" y="5638680"/>
            <a:ext cx="4648320" cy="0"/>
          </a:xfrm>
          <a:prstGeom prst="line">
            <a:avLst/>
          </a:prstGeom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5"/>
          <p:cNvSpPr/>
          <p:nvPr/>
        </p:nvSpPr>
        <p:spPr>
          <a:xfrm flipV="1">
            <a:off x="2508120" y="2438280"/>
            <a:ext cx="4648320" cy="3184560"/>
          </a:xfrm>
          <a:prstGeom prst="line">
            <a:avLst/>
          </a:prstGeom>
          <a:ln w="34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Line 6"/>
          <p:cNvSpPr/>
          <p:nvPr/>
        </p:nvSpPr>
        <p:spPr>
          <a:xfrm>
            <a:off x="2508120" y="5611680"/>
            <a:ext cx="0" cy="468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3" name="Picture 7" descr="b"/>
          <p:cNvPicPr/>
          <p:nvPr/>
        </p:nvPicPr>
        <p:blipFill>
          <a:blip r:embed="rId1"/>
          <a:stretch/>
        </p:blipFill>
        <p:spPr>
          <a:xfrm>
            <a:off x="2340000" y="5589720"/>
            <a:ext cx="120600" cy="492120"/>
          </a:xfrm>
          <a:prstGeom prst="rect">
            <a:avLst/>
          </a:prstGeom>
          <a:ln w="0">
            <a:noFill/>
          </a:ln>
        </p:spPr>
      </p:pic>
      <p:sp>
        <p:nvSpPr>
          <p:cNvPr id="714" name="Line 8"/>
          <p:cNvSpPr/>
          <p:nvPr/>
        </p:nvSpPr>
        <p:spPr>
          <a:xfrm>
            <a:off x="755640" y="6080040"/>
            <a:ext cx="7620120" cy="0"/>
          </a:xfrm>
          <a:prstGeom prst="line">
            <a:avLst/>
          </a:prstGeom>
          <a:ln w="60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9"/>
          <p:cNvSpPr/>
          <p:nvPr/>
        </p:nvSpPr>
        <p:spPr>
          <a:xfrm>
            <a:off x="4500720" y="5589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10"/>
          <p:cNvSpPr/>
          <p:nvPr/>
        </p:nvSpPr>
        <p:spPr>
          <a:xfrm>
            <a:off x="7158240" y="3870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Line 11"/>
          <p:cNvSpPr/>
          <p:nvPr/>
        </p:nvSpPr>
        <p:spPr>
          <a:xfrm>
            <a:off x="7164360" y="2438280"/>
            <a:ext cx="0" cy="36417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12"/>
          <p:cNvSpPr/>
          <p:nvPr/>
        </p:nvSpPr>
        <p:spPr>
          <a:xfrm>
            <a:off x="0" y="28954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你想知道小明怎样算出的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9" name="Group 13"/>
          <p:cNvGrpSpPr/>
          <p:nvPr/>
        </p:nvGrpSpPr>
        <p:grpSpPr>
          <a:xfrm>
            <a:off x="0" y="0"/>
            <a:ext cx="3809880" cy="869760"/>
            <a:chOff x="0" y="0"/>
            <a:chExt cx="3809880" cy="869760"/>
          </a:xfrm>
        </p:grpSpPr>
        <p:pic>
          <p:nvPicPr>
            <p:cNvPr id="720" name="Picture 14" descr="1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8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Text Box 15"/>
            <p:cNvSpPr/>
            <p:nvPr/>
          </p:nvSpPr>
          <p:spPr>
            <a:xfrm>
              <a:off x="71640" y="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应用生活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2" name="Group 16"/>
          <p:cNvGrpSpPr/>
          <p:nvPr/>
        </p:nvGrpSpPr>
        <p:grpSpPr>
          <a:xfrm>
            <a:off x="6775560" y="2430360"/>
            <a:ext cx="1758960" cy="3665520"/>
            <a:chOff x="6775560" y="2430360"/>
            <a:chExt cx="1758960" cy="3665520"/>
          </a:xfrm>
        </p:grpSpPr>
        <p:pic>
          <p:nvPicPr>
            <p:cNvPr id="723" name="Picture 17" descr="旗杆01（透明）"/>
            <p:cNvPicPr/>
            <p:nvPr/>
          </p:nvPicPr>
          <p:blipFill>
            <a:blip r:embed="rId3"/>
            <a:stretch/>
          </p:blipFill>
          <p:spPr>
            <a:xfrm>
              <a:off x="6775560" y="2430360"/>
              <a:ext cx="1371600" cy="36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18" descr="China1"/>
            <p:cNvPicPr/>
            <p:nvPr/>
          </p:nvPicPr>
          <p:blipFill>
            <a:blip r:embed="rId4"/>
            <a:stretch/>
          </p:blipFill>
          <p:spPr>
            <a:xfrm>
              <a:off x="7086600" y="2514600"/>
              <a:ext cx="1447920" cy="104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5" name="Text Box 19"/>
          <p:cNvSpPr/>
          <p:nvPr/>
        </p:nvSpPr>
        <p:spPr>
          <a:xfrm>
            <a:off x="2916360" y="515772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20"/>
          <p:cNvSpPr/>
          <p:nvPr/>
        </p:nvSpPr>
        <p:spPr>
          <a:xfrm>
            <a:off x="5651640" y="63388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练习：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83-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练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WordArt 2"/>
          <p:cNvSpPr txBox="1"/>
          <p:nvPr/>
        </p:nvSpPr>
        <p:spPr>
          <a:xfrm>
            <a:off x="0" y="0"/>
            <a:ext cx="190800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应用新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28" name="Text Box 3"/>
          <p:cNvSpPr/>
          <p:nvPr/>
        </p:nvSpPr>
        <p:spPr>
          <a:xfrm>
            <a:off x="611280" y="76500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图，在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t△AB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中，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=90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=     ,BC=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求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度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图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已知圆锥的高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等于圆锥的底面半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       倍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α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Picture 4" descr=""/>
          <p:cNvPicPr/>
          <p:nvPr/>
        </p:nvPicPr>
        <p:blipFill>
          <a:blip r:embed="rId1"/>
          <a:stretch/>
        </p:blipFill>
        <p:spPr>
          <a:xfrm>
            <a:off x="3492360" y="1197000"/>
            <a:ext cx="865440" cy="7603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5" descr=""/>
          <p:cNvPicPr/>
          <p:nvPr/>
        </p:nvPicPr>
        <p:blipFill>
          <a:blip r:embed="rId2"/>
          <a:stretch/>
        </p:blipFill>
        <p:spPr>
          <a:xfrm>
            <a:off x="5003640" y="1125360"/>
            <a:ext cx="936720" cy="8240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"/>
          <p:cNvPicPr/>
          <p:nvPr/>
        </p:nvPicPr>
        <p:blipFill>
          <a:blip r:embed="rId3"/>
          <a:stretch/>
        </p:blipFill>
        <p:spPr>
          <a:xfrm>
            <a:off x="1979640" y="2421000"/>
            <a:ext cx="1008000" cy="8874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7" descr=""/>
          <p:cNvPicPr/>
          <p:nvPr/>
        </p:nvPicPr>
        <p:blipFill>
          <a:blip r:embed="rId4"/>
          <a:stretch/>
        </p:blipFill>
        <p:spPr>
          <a:xfrm>
            <a:off x="611280" y="3500280"/>
            <a:ext cx="2374920" cy="235440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8"/>
          <p:cNvSpPr/>
          <p:nvPr/>
        </p:nvSpPr>
        <p:spPr>
          <a:xfrm>
            <a:off x="1258920" y="5805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4" name="Picture 9" descr=""/>
          <p:cNvPicPr/>
          <p:nvPr/>
        </p:nvPicPr>
        <p:blipFill>
          <a:blip r:embed="rId5"/>
          <a:stretch/>
        </p:blipFill>
        <p:spPr>
          <a:xfrm>
            <a:off x="5219640" y="2852640"/>
            <a:ext cx="2274840" cy="273528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0"/>
          <p:cNvSpPr/>
          <p:nvPr/>
        </p:nvSpPr>
        <p:spPr>
          <a:xfrm>
            <a:off x="4859280" y="3860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4"/>
          <p:cNvSpPr/>
          <p:nvPr/>
        </p:nvSpPr>
        <p:spPr>
          <a:xfrm>
            <a:off x="611280" y="95076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图，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，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B=9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度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D⊥A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已知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=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度，计算                                            的值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7" name="Object 5"/>
          <p:cNvGraphicFramePr/>
          <p:nvPr/>
        </p:nvGraphicFramePr>
        <p:xfrm>
          <a:off x="3276720" y="1353960"/>
          <a:ext cx="320976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353960"/>
                    <a:ext cx="32097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9" name="Group 8"/>
          <p:cNvGrpSpPr/>
          <p:nvPr/>
        </p:nvGrpSpPr>
        <p:grpSpPr>
          <a:xfrm>
            <a:off x="4716360" y="1916280"/>
            <a:ext cx="3411360" cy="2131560"/>
            <a:chOff x="4716360" y="1916280"/>
            <a:chExt cx="3411360" cy="2131560"/>
          </a:xfrm>
        </p:grpSpPr>
        <p:sp>
          <p:nvSpPr>
            <p:cNvPr id="740" name="AutoShape 7"/>
            <p:cNvSpPr/>
            <p:nvPr/>
          </p:nvSpPr>
          <p:spPr>
            <a:xfrm>
              <a:off x="4716360" y="1916280"/>
              <a:ext cx="3411360" cy="21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Line 9"/>
            <p:cNvSpPr/>
            <p:nvPr/>
          </p:nvSpPr>
          <p:spPr>
            <a:xfrm>
              <a:off x="5019120" y="3674880"/>
              <a:ext cx="270072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Line 10"/>
            <p:cNvSpPr/>
            <p:nvPr/>
          </p:nvSpPr>
          <p:spPr>
            <a:xfrm>
              <a:off x="7720200" y="2242440"/>
              <a:ext cx="0" cy="1432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Line 11"/>
            <p:cNvSpPr/>
            <p:nvPr/>
          </p:nvSpPr>
          <p:spPr>
            <a:xfrm flipH="1">
              <a:off x="5019120" y="2242440"/>
              <a:ext cx="2700720" cy="1432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Line 12"/>
            <p:cNvSpPr/>
            <p:nvPr/>
          </p:nvSpPr>
          <p:spPr>
            <a:xfrm>
              <a:off x="7090920" y="2580120"/>
              <a:ext cx="628920" cy="10947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Rectangle 13"/>
            <p:cNvSpPr/>
            <p:nvPr/>
          </p:nvSpPr>
          <p:spPr>
            <a:xfrm>
              <a:off x="6973200" y="23472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Rectangle 14"/>
            <p:cNvSpPr/>
            <p:nvPr/>
          </p:nvSpPr>
          <p:spPr>
            <a:xfrm>
              <a:off x="7778520" y="20556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Rectangle 15"/>
            <p:cNvSpPr/>
            <p:nvPr/>
          </p:nvSpPr>
          <p:spPr>
            <a:xfrm>
              <a:off x="4879440" y="36637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Rectangle 16"/>
            <p:cNvSpPr/>
            <p:nvPr/>
          </p:nvSpPr>
          <p:spPr>
            <a:xfrm>
              <a:off x="7731000" y="36518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4T23:45:38Z</dcterms:created>
  <dc:creator/>
  <dc:description/>
  <dc:language>en-US</dc:language>
  <cp:lastModifiedBy>微软用户</cp:lastModifiedBy>
  <dcterms:modified xsi:type="dcterms:W3CDTF">2010-12-30T03:16:50Z</dcterms:modified>
  <cp:revision>1</cp:revision>
  <dc:subject/>
  <dc:title>幻灯片 1</dc:title>
</cp:coreProperties>
</file>