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4.wmf" ContentType="image/x-wmf"/>
  <Override PartName="/ppt/media/image52.wmf" ContentType="image/x-wmf"/>
  <Override PartName="/ppt/media/image95.png" ContentType="image/png"/>
  <Override PartName="/ppt/media/image51.wmf" ContentType="image/x-wmf"/>
  <Override PartName="/ppt/media/image29.png" ContentType="image/png"/>
  <Override PartName="/ppt/media/image94.png" ContentType="image/png"/>
  <Override PartName="/ppt/media/image46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83.png" ContentType="image/png"/>
  <Override PartName="/ppt/media/image41.png" ContentType="image/png"/>
  <Override PartName="/ppt/media/image39.wmf" ContentType="image/x-wmf"/>
  <Override PartName="/ppt/media/image35.png" ContentType="image/png"/>
  <Override PartName="/ppt/media/image32.png" ContentType="image/png"/>
  <Override PartName="/ppt/media/image31.wmf" ContentType="image/x-wmf"/>
  <Override PartName="/ppt/media/image30.wmf" ContentType="image/x-wmf"/>
  <Override PartName="/ppt/media/image13.wmf" ContentType="image/x-wmf"/>
  <Override PartName="/ppt/media/image56.png" ContentType="image/png"/>
  <Override PartName="/ppt/media/image42.wmf" ContentType="image/x-wmf"/>
  <Override PartName="/ppt/media/image8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49.wmf" ContentType="image/x-wmf"/>
  <Override PartName="/ppt/media/image12.wmf" ContentType="image/x-wmf"/>
  <Override PartName="/ppt/media/image3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47.wmf" ContentType="image/x-wmf"/>
  <Override PartName="/ppt/media/image10.wmf" ContentType="image/x-wmf"/>
  <Override PartName="/ppt/media/image53.png" ContentType="image/png"/>
  <Override PartName="/ppt/media/image25.png" ContentType="image/png"/>
  <Override PartName="/ppt/media/image66.wmf" ContentType="image/x-wmf"/>
  <Override PartName="/ppt/media/image67.wmf" ContentType="image/x-wmf"/>
  <Override PartName="/ppt/media/image68.png" ContentType="image/png"/>
  <Override PartName="/ppt/media/image90.wmf" ContentType="image/x-wmf"/>
  <Override PartName="/ppt/media/image69.wmf" ContentType="image/x-wmf"/>
  <Override PartName="/ppt/media/image71.png" ContentType="image/png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7.wmf" ContentType="image/x-wmf"/>
  <Override PartName="/ppt/media/image102.wmf" ContentType="image/x-wmf"/>
  <Override PartName="/ppt/media/image64.wmf" ContentType="image/x-wmf"/>
  <Override PartName="/ppt/media/image24.png" ContentType="image/png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97.wmf" ContentType="image/x-wmf"/>
  <Override PartName="/ppt/media/image85.wmf" ContentType="image/x-wmf"/>
  <Override PartName="/ppt/media/image63.wmf" ContentType="image/x-wmf"/>
  <Override PartName="/ppt/media/image100.png" ContentType="image/png"/>
  <Override PartName="/ppt/media/image98.wmf" ContentType="image/x-wmf"/>
  <Override PartName="/ppt/media/image61.wmf" ContentType="image/x-wmf"/>
  <Override PartName="/ppt/media/image86.wmf" ContentType="image/x-wmf"/>
  <Override PartName="/ppt/media/image96.wmf" ContentType="image/x-wmf"/>
  <Override PartName="/ppt/media/image75.wmf" ContentType="image/x-wmf"/>
  <Override PartName="/ppt/media/image92.png" ContentType="image/png"/>
  <Override PartName="/ppt/media/image101.wmf" ContentType="image/x-wmf"/>
  <Override PartName="/ppt/media/image79.wmf" ContentType="image/x-wmf"/>
  <Override PartName="/ppt/media/image78.wmf" ContentType="image/x-wmf"/>
  <Override PartName="/ppt/media/image60.png" ContentType="image/png"/>
  <Override PartName="/ppt/media/image21.wmf" ContentType="image/x-wmf"/>
  <Override PartName="/ppt/media/image58.wmf" ContentType="image/x-wmf"/>
  <Override PartName="/ppt/media/image23.wmf" ContentType="image/x-wmf"/>
  <Override PartName="/ppt/media/image65.png" ContentType="image/png"/>
  <Override PartName="/ppt/media/image22.wmf" ContentType="image/x-wmf"/>
  <Override PartName="/ppt/media/image59.wmf" ContentType="image/x-wmf"/>
  <Override PartName="/ppt/media/image20.wmf" ContentType="image/x-wmf"/>
  <Override PartName="/ppt/media/image57.wmf" ContentType="image/x-wmf"/>
  <Override PartName="/ppt/media/image16.png" ContentType="image/png"/>
  <Override PartName="/ppt/media/image80.png" ContentType="image/png"/>
  <Override PartName="/ppt/media/image15.png" ContentType="image/png"/>
  <Override PartName="/ppt/media/image5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1.jpeg" ContentType="image/jpeg"/>
  <Override PartName="/ppt/media/image89.wmf" ContentType="image/x-wmf"/>
  <Override PartName="/ppt/media/image27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91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E10-713B-48E8-BF79-CE1B684D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AA1-42A6-4AA3-A661-EFBD6E2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E7F-A76F-411D-B0C5-89FA2877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A32-B5A5-4174-9741-64614385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1FA-26A8-48A7-B7DB-70F10F5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73D-F06B-4159-A7BC-3EB92B29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FC9-1F49-494E-A78D-3472A7D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52C-AC93-474D-9EFF-6DC7A01E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FEA-67F7-4E25-A1F1-E1205231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8D8-CF1C-4CEB-9CD1-6761487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DF0-4E2E-4C41-B03B-E386AD0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4AA-BACA-49BB-A4A9-D4ADDA0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77A-9488-4312-A004-1EB12A62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image" Target="../media/image3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3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2.wmf"/><Relationship Id="rId19" Type="http://schemas.openxmlformats.org/officeDocument/2006/relationships/image" Target="../media/image53.png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image" Target="../media/image6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image" Target="../media/image6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image" Target="../media/image7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image" Target="../media/image76.png"/><Relationship Id="rId5" Type="http://schemas.openxmlformats.org/officeDocument/2006/relationships/image" Target="../media/image77.wmf"/><Relationship Id="rId6" Type="http://schemas.openxmlformats.org/officeDocument/2006/relationships/image" Target="../media/image78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image" Target="../media/image80.png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wmf"/><Relationship Id="rId3" Type="http://schemas.openxmlformats.org/officeDocument/2006/relationships/image" Target="../media/image88.png"/><Relationship Id="rId4" Type="http://schemas.openxmlformats.org/officeDocument/2006/relationships/image" Target="../media/image89.wmf"/><Relationship Id="rId5" Type="http://schemas.openxmlformats.org/officeDocument/2006/relationships/image" Target="../media/image9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wmf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wmf"/><Relationship Id="rId3" Type="http://schemas.openxmlformats.org/officeDocument/2006/relationships/image" Target="../media/image100.png"/><Relationship Id="rId4" Type="http://schemas.openxmlformats.org/officeDocument/2006/relationships/image" Target="../media/image101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0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819520" y="3032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似复习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57200" y="1143000"/>
            <a:ext cx="8458200" cy="3505320"/>
            <a:chOff x="457200" y="1143000"/>
            <a:chExt cx="8458200" cy="3505320"/>
          </a:xfrm>
        </p:grpSpPr>
        <p:graphicFrame>
          <p:nvGraphicFramePr>
            <p:cNvPr id="114" name=""/>
            <p:cNvGraphicFramePr/>
            <p:nvPr/>
          </p:nvGraphicFramePr>
          <p:xfrm>
            <a:off x="457200" y="1143000"/>
            <a:ext cx="8458200" cy="1295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143000"/>
                      <a:ext cx="8458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6" name="Picture 6" descr="8"/>
            <p:cNvPicPr/>
            <p:nvPr/>
          </p:nvPicPr>
          <p:blipFill>
            <a:blip r:embed="rId4"/>
            <a:stretch/>
          </p:blipFill>
          <p:spPr>
            <a:xfrm>
              <a:off x="533520" y="2590920"/>
              <a:ext cx="3886200" cy="2057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7" name=""/>
          <p:cNvGraphicFramePr/>
          <p:nvPr/>
        </p:nvGraphicFramePr>
        <p:xfrm>
          <a:off x="4495680" y="2666880"/>
          <a:ext cx="321948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2666880"/>
                    <a:ext cx="32194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1066680"/>
            <a:ext cx="8686800" cy="5029200"/>
            <a:chOff x="228600" y="1066680"/>
            <a:chExt cx="8686800" cy="5029200"/>
          </a:xfrm>
        </p:grpSpPr>
        <p:graphicFrame>
          <p:nvGraphicFramePr>
            <p:cNvPr id="121" name=""/>
            <p:cNvGraphicFramePr/>
            <p:nvPr/>
          </p:nvGraphicFramePr>
          <p:xfrm>
            <a:off x="228600" y="1066680"/>
            <a:ext cx="8686800" cy="175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1066680"/>
                      <a:ext cx="868680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Picture 6" descr="9"/>
            <p:cNvPicPr/>
            <p:nvPr/>
          </p:nvPicPr>
          <p:blipFill>
            <a:blip r:embed="rId4"/>
            <a:stretch/>
          </p:blipFill>
          <p:spPr>
            <a:xfrm>
              <a:off x="380880" y="2971800"/>
              <a:ext cx="2514600" cy="3124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4" name=""/>
          <p:cNvGraphicFramePr/>
          <p:nvPr/>
        </p:nvGraphicFramePr>
        <p:xfrm>
          <a:off x="3124080" y="3157560"/>
          <a:ext cx="5639040" cy="14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157560"/>
                    <a:ext cx="563904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80880" y="1066680"/>
            <a:ext cx="8610480" cy="5181480"/>
            <a:chOff x="380880" y="1066680"/>
            <a:chExt cx="8610480" cy="5181480"/>
          </a:xfrm>
        </p:grpSpPr>
        <p:graphicFrame>
          <p:nvGraphicFramePr>
            <p:cNvPr id="127" name=""/>
            <p:cNvGraphicFramePr/>
            <p:nvPr/>
          </p:nvGraphicFramePr>
          <p:xfrm>
            <a:off x="380880" y="1066680"/>
            <a:ext cx="8610480" cy="1295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066680"/>
                      <a:ext cx="86104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9" name="Picture 6" descr="10"/>
            <p:cNvPicPr/>
            <p:nvPr/>
          </p:nvPicPr>
          <p:blipFill>
            <a:blip r:embed="rId4"/>
            <a:stretch/>
          </p:blipFill>
          <p:spPr>
            <a:xfrm>
              <a:off x="457200" y="2361960"/>
              <a:ext cx="2971800" cy="3886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0" name=""/>
          <p:cNvGraphicFramePr/>
          <p:nvPr/>
        </p:nvGraphicFramePr>
        <p:xfrm>
          <a:off x="3505320" y="2362320"/>
          <a:ext cx="541008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362320"/>
                    <a:ext cx="54100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990720"/>
            <a:ext cx="8763120" cy="5410080"/>
            <a:chOff x="380880" y="990720"/>
            <a:chExt cx="8763120" cy="5410080"/>
          </a:xfrm>
        </p:grpSpPr>
        <p:graphicFrame>
          <p:nvGraphicFramePr>
            <p:cNvPr id="133" name=""/>
            <p:cNvGraphicFramePr/>
            <p:nvPr/>
          </p:nvGraphicFramePr>
          <p:xfrm>
            <a:off x="380880" y="990720"/>
            <a:ext cx="8763120" cy="2743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990720"/>
                      <a:ext cx="87631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5" name="Picture 6" descr="11"/>
            <p:cNvPicPr/>
            <p:nvPr/>
          </p:nvPicPr>
          <p:blipFill>
            <a:blip r:embed="rId4"/>
            <a:stretch/>
          </p:blipFill>
          <p:spPr>
            <a:xfrm>
              <a:off x="609480" y="3962520"/>
              <a:ext cx="746748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4324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914400"/>
          <a:ext cx="830556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14400"/>
                    <a:ext cx="8305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25146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3581280"/>
          <a:ext cx="8229600" cy="13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581280"/>
                    <a:ext cx="8229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14400" y="1295280"/>
            <a:ext cx="70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,8,9,10,11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2743200" y="303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似复习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8954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0880" y="114300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图形概念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形状相同的图形说成是相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边形相似的定义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边数相同的多边形的对应角相等，对应边成比例，这两个多边形叫做相似多边形，相似多边形的对应边的比叫做相似比（或相似系数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反过来，如果两个多边形满足对应角相等，对应边的比相等，那么这两个多边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3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3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3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85800" y="10666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条平行线截两条直线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推论：平行于三角形一边的直线截其他两边（或两边延长线）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62120" y="3595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相似三角形判断的几种简易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90720" y="428004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定三角形相似的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备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行于三角形一边的直线和其他两边所在直线相交，所成的三角形与原来三角形相似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3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5800" y="11430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两个三角形的三组对应边的比相等， 那么这两个三角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" y="28321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三角形的两组对应边的比相等，且它们的夹角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38080" y="47242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个三角形的两个角与另一个三角形两个角对应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3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3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28954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0880" y="114300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图形概念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形状相同的图形说成是相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边 形相似的定义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边数相同的多边形的对应角相等，对应边成比例，这两个多边形叫做相似多边形，相似多边形的对应边的比叫做相似比（或相似系数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反过来，如果两个多边形满足对应角相等，对应边的比相等，那么这两个多边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762120" y="121932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似三角形的周长与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三角形周长之比等于相似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多边形周长之比等于相似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三角形面积的比等于相似比的平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结论：相似多边形面积的比等于相似比的平方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复习过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460840" y="1206360"/>
          <a:ext cx="762120" cy="3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0840" y="1206360"/>
                    <a:ext cx="76212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990720" y="1600200"/>
          <a:ext cx="5333760" cy="35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600200"/>
                    <a:ext cx="5333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25560" y="990720"/>
            <a:ext cx="8966160" cy="2306520"/>
            <a:chOff x="25560" y="990720"/>
            <a:chExt cx="8966160" cy="2306520"/>
          </a:xfrm>
        </p:grpSpPr>
        <p:pic>
          <p:nvPicPr>
            <p:cNvPr id="162" name="Picture 12" descr=""/>
            <p:cNvPicPr/>
            <p:nvPr/>
          </p:nvPicPr>
          <p:blipFill>
            <a:blip r:embed="rId6"/>
            <a:stretch/>
          </p:blipFill>
          <p:spPr>
            <a:xfrm>
              <a:off x="6553440" y="990720"/>
              <a:ext cx="2438280" cy="2133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3" name=""/>
            <p:cNvGraphicFramePr/>
            <p:nvPr/>
          </p:nvGraphicFramePr>
          <p:xfrm>
            <a:off x="141480" y="1143000"/>
            <a:ext cx="6427800" cy="847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1480" y="1143000"/>
                      <a:ext cx="642780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560" y="2133720"/>
            <a:ext cx="6502320" cy="116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60" y="2133720"/>
                      <a:ext cx="6502320" cy="11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7" name=""/>
          <p:cNvGraphicFramePr/>
          <p:nvPr/>
        </p:nvGraphicFramePr>
        <p:xfrm>
          <a:off x="3276720" y="2133720"/>
          <a:ext cx="45396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2133720"/>
                    <a:ext cx="453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066680" y="2895480"/>
          <a:ext cx="510552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2895480"/>
                    <a:ext cx="5105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152280" y="3429000"/>
            <a:ext cx="8686800" cy="2971800"/>
            <a:chOff x="152280" y="3429000"/>
            <a:chExt cx="8686800" cy="2971800"/>
          </a:xfrm>
        </p:grpSpPr>
        <p:graphicFrame>
          <p:nvGraphicFramePr>
            <p:cNvPr id="172" name=""/>
            <p:cNvGraphicFramePr/>
            <p:nvPr/>
          </p:nvGraphicFramePr>
          <p:xfrm>
            <a:off x="152280" y="3429000"/>
            <a:ext cx="8229600" cy="1676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52280" y="3429000"/>
                      <a:ext cx="822960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304560" y="5410080"/>
            <a:ext cx="4343400" cy="569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4560" y="5410080"/>
                      <a:ext cx="43434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6" name="Picture 27" descr=""/>
            <p:cNvPicPr/>
            <p:nvPr/>
          </p:nvPicPr>
          <p:blipFill>
            <a:blip r:embed="rId19"/>
            <a:stretch/>
          </p:blipFill>
          <p:spPr>
            <a:xfrm>
              <a:off x="6019560" y="4724280"/>
              <a:ext cx="2819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685800" y="990720"/>
          <a:ext cx="74674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04920" y="990720"/>
            <a:ext cx="8305200" cy="1981080"/>
            <a:chOff x="304920" y="990720"/>
            <a:chExt cx="8305200" cy="1981080"/>
          </a:xfrm>
        </p:grpSpPr>
        <p:graphicFrame>
          <p:nvGraphicFramePr>
            <p:cNvPr id="180" name=""/>
            <p:cNvGraphicFramePr/>
            <p:nvPr/>
          </p:nvGraphicFramePr>
          <p:xfrm>
            <a:off x="304920" y="990720"/>
            <a:ext cx="5011200" cy="1295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990720"/>
                      <a:ext cx="5011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2" name="Picture 7" descr=""/>
            <p:cNvPicPr/>
            <p:nvPr/>
          </p:nvPicPr>
          <p:blipFill>
            <a:blip r:embed="rId4"/>
            <a:stretch/>
          </p:blipFill>
          <p:spPr>
            <a:xfrm>
              <a:off x="5486040" y="990720"/>
              <a:ext cx="3124080" cy="1905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3" name=""/>
            <p:cNvGraphicFramePr/>
            <p:nvPr/>
          </p:nvGraphicFramePr>
          <p:xfrm>
            <a:off x="304920" y="2210040"/>
            <a:ext cx="4647960" cy="76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210040"/>
                      <a:ext cx="46479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5" name=""/>
          <p:cNvGraphicFramePr/>
          <p:nvPr/>
        </p:nvGraphicFramePr>
        <p:xfrm>
          <a:off x="380880" y="3048120"/>
          <a:ext cx="8458200" cy="30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048120"/>
                    <a:ext cx="8458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80880" y="990720"/>
            <a:ext cx="8229600" cy="3657600"/>
            <a:chOff x="380880" y="990720"/>
            <a:chExt cx="8229600" cy="3657600"/>
          </a:xfrm>
        </p:grpSpPr>
        <p:graphicFrame>
          <p:nvGraphicFramePr>
            <p:cNvPr id="188" name=""/>
            <p:cNvGraphicFramePr/>
            <p:nvPr/>
          </p:nvGraphicFramePr>
          <p:xfrm>
            <a:off x="380880" y="990720"/>
            <a:ext cx="815328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990720"/>
                      <a:ext cx="815328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380880" y="259092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1" name=""/>
            <p:cNvGraphicFramePr/>
            <p:nvPr/>
          </p:nvGraphicFramePr>
          <p:xfrm>
            <a:off x="3429000" y="2667240"/>
            <a:ext cx="518148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2667240"/>
                      <a:ext cx="5181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3" name=""/>
          <p:cNvGraphicFramePr/>
          <p:nvPr/>
        </p:nvGraphicFramePr>
        <p:xfrm>
          <a:off x="3505320" y="3276720"/>
          <a:ext cx="50292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76720"/>
                    <a:ext cx="5029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762120" y="1353960"/>
          <a:ext cx="5562360" cy="20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353960"/>
                    <a:ext cx="5562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880" y="990720"/>
            <a:ext cx="7924680" cy="4800600"/>
            <a:chOff x="380880" y="990720"/>
            <a:chExt cx="7924680" cy="4800600"/>
          </a:xfrm>
        </p:grpSpPr>
        <p:graphicFrame>
          <p:nvGraphicFramePr>
            <p:cNvPr id="198" name=""/>
            <p:cNvGraphicFramePr/>
            <p:nvPr/>
          </p:nvGraphicFramePr>
          <p:xfrm>
            <a:off x="380880" y="990720"/>
            <a:ext cx="7924680" cy="228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990720"/>
                      <a:ext cx="79246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0" name="Picture 6" descr="213"/>
            <p:cNvPicPr/>
            <p:nvPr/>
          </p:nvPicPr>
          <p:blipFill>
            <a:blip r:embed="rId4"/>
            <a:stretch/>
          </p:blipFill>
          <p:spPr>
            <a:xfrm>
              <a:off x="533160" y="3429000"/>
              <a:ext cx="2895840" cy="2362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1" name=""/>
          <p:cNvGraphicFramePr/>
          <p:nvPr/>
        </p:nvGraphicFramePr>
        <p:xfrm>
          <a:off x="3429000" y="3352680"/>
          <a:ext cx="495288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352680"/>
                    <a:ext cx="4952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609480" y="990720"/>
          <a:ext cx="434340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90720"/>
                    <a:ext cx="43434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5" descr="214"/>
          <p:cNvPicPr/>
          <p:nvPr/>
        </p:nvPicPr>
        <p:blipFill>
          <a:blip r:embed="rId4"/>
          <a:stretch/>
        </p:blipFill>
        <p:spPr>
          <a:xfrm>
            <a:off x="5257800" y="1143000"/>
            <a:ext cx="304812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3581280" y="3809880"/>
          <a:ext cx="480060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809880"/>
                    <a:ext cx="4800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57200" y="990720"/>
            <a:ext cx="8458200" cy="1828800"/>
            <a:chOff x="457200" y="990720"/>
            <a:chExt cx="8458200" cy="1828800"/>
          </a:xfrm>
        </p:grpSpPr>
        <p:graphicFrame>
          <p:nvGraphicFramePr>
            <p:cNvPr id="209" name=""/>
            <p:cNvGraphicFramePr/>
            <p:nvPr/>
          </p:nvGraphicFramePr>
          <p:xfrm>
            <a:off x="457200" y="990720"/>
            <a:ext cx="5791320" cy="1447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990720"/>
                      <a:ext cx="579132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1" name="Picture 6" descr="515"/>
            <p:cNvPicPr/>
            <p:nvPr/>
          </p:nvPicPr>
          <p:blipFill>
            <a:blip r:embed="rId4"/>
            <a:stretch/>
          </p:blipFill>
          <p:spPr>
            <a:xfrm>
              <a:off x="6400800" y="990720"/>
              <a:ext cx="2514600" cy="182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2" name=""/>
          <p:cNvGraphicFramePr/>
          <p:nvPr/>
        </p:nvGraphicFramePr>
        <p:xfrm>
          <a:off x="457200" y="2590920"/>
          <a:ext cx="571500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590920"/>
                    <a:ext cx="5715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4114800"/>
          <a:ext cx="548640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114800"/>
                    <a:ext cx="5486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990720"/>
          <a:ext cx="76201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6201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10666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条平行线截两条直线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推论：平行于三角形一边的直线截其他两边（或两边延长线）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62120" y="3595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相似三角形判断的几种简易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90720" y="428004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定三角形相似的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备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行于三角形一边的直线和其他两边所在直线相交，所成的三角形与原来三角形相似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2743200" y="303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似复习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8954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0880" y="114300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图形概念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形状相同的图形说成是相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边形相似的定义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边数相同的多边形的对应角相等，对应边成比例，这两个多边形叫做相似多边形，相似多边形的对应边的比叫做相似比（或相似系数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反过来，如果两个多边形满足对应角相等，对应边的比相等，那么这两个多边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3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3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3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85800" y="10666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条平行线截两条直线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线分线段成比例定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推论：平行于三角形一边的直线截其他两边（或两边延长线），所得的对应线段的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62120" y="3595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相似三角形判断的几种简易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428004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定三角形相似的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备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平行于三角形一边的直线和其他两边所在直线相交，所成的三角形与原来三角形相似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3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3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5800" y="11430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两个三角形的三组对应边的比相等， 那么这两个三角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5800" y="28321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三角形的两组对应边的比相等，且它们的夹角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38080" y="47242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个三角形的两个角与另一个三角形两个角对应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3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3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3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3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3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3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762120" y="121932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似三角形的周长与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三角形周长之比等于相似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多边形周长之比等于相似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相似三角形面积的比等于相似比的平方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结论：相似多边形面积的比等于相似比的平方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880" y="1066680"/>
            <a:ext cx="8229600" cy="2743200"/>
            <a:chOff x="380880" y="1066680"/>
            <a:chExt cx="8229600" cy="2743200"/>
          </a:xfrm>
        </p:grpSpPr>
        <p:graphicFrame>
          <p:nvGraphicFramePr>
            <p:cNvPr id="231" name=""/>
            <p:cNvGraphicFramePr/>
            <p:nvPr/>
          </p:nvGraphicFramePr>
          <p:xfrm>
            <a:off x="380880" y="1066680"/>
            <a:ext cx="7848720" cy="1295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066680"/>
                      <a:ext cx="78487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3" name="Picture 6" descr="aa"/>
            <p:cNvPicPr/>
            <p:nvPr/>
          </p:nvPicPr>
          <p:blipFill>
            <a:blip r:embed="rId4"/>
            <a:stretch/>
          </p:blipFill>
          <p:spPr>
            <a:xfrm>
              <a:off x="5638680" y="2514600"/>
              <a:ext cx="29718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tretch/>
          </p:blipFill>
          <p:spPr>
            <a:xfrm>
              <a:off x="380880" y="2590560"/>
              <a:ext cx="5410080" cy="47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80880" y="3733920"/>
            <a:ext cx="5715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609480" y="1143000"/>
            <a:ext cx="8001000" cy="4343400"/>
            <a:chOff x="609480" y="1143000"/>
            <a:chExt cx="8001000" cy="4343400"/>
          </a:xfrm>
        </p:grpSpPr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09480" y="1143000"/>
              <a:ext cx="80010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524"/>
            <p:cNvPicPr/>
            <p:nvPr/>
          </p:nvPicPr>
          <p:blipFill>
            <a:blip r:embed="rId3"/>
            <a:stretch/>
          </p:blipFill>
          <p:spPr>
            <a:xfrm>
              <a:off x="1066680" y="2362320"/>
              <a:ext cx="25430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685800" y="4648320"/>
              <a:ext cx="754380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39621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52280" y="990720"/>
            <a:ext cx="8763120" cy="2971800"/>
            <a:chOff x="152280" y="990720"/>
            <a:chExt cx="8763120" cy="2971800"/>
          </a:xfrm>
        </p:grpSpPr>
        <p:pic>
          <p:nvPicPr>
            <p:cNvPr id="242" name="Picture 4" descr="527"/>
            <p:cNvPicPr/>
            <p:nvPr/>
          </p:nvPicPr>
          <p:blipFill>
            <a:blip r:embed="rId2"/>
            <a:stretch/>
          </p:blipFill>
          <p:spPr>
            <a:xfrm>
              <a:off x="6172200" y="2210040"/>
              <a:ext cx="274320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152280" y="990720"/>
              <a:ext cx="746748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6629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6705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380880" y="1066680"/>
            <a:ext cx="7848720" cy="3781440"/>
            <a:chOff x="380880" y="1066680"/>
            <a:chExt cx="7848720" cy="37814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380880" y="1066680"/>
              <a:ext cx="78487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525"/>
            <p:cNvPicPr/>
            <p:nvPr/>
          </p:nvPicPr>
          <p:blipFill>
            <a:blip r:embed="rId3"/>
            <a:stretch/>
          </p:blipFill>
          <p:spPr>
            <a:xfrm>
              <a:off x="609480" y="3124080"/>
              <a:ext cx="254304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581280" y="3200400"/>
            <a:ext cx="4572000" cy="1752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57200" y="4952880"/>
            <a:ext cx="8001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685800" y="11430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两个三角形的三组对应边的比相等， 那么这两个三角形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85800" y="283212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个三角形的两组对应边的比相等，且它们的夹角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38080" y="47242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相似的判定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一个三角形的两个角与另一个三角形两个角对应相等，那么这两个三角形相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533520" y="1066680"/>
            <a:ext cx="7772400" cy="4267080"/>
            <a:chOff x="533520" y="1066680"/>
            <a:chExt cx="7772400" cy="42670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533520" y="1066680"/>
              <a:ext cx="77724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526"/>
            <p:cNvPicPr/>
            <p:nvPr/>
          </p:nvPicPr>
          <p:blipFill>
            <a:blip r:embed="rId3"/>
            <a:stretch/>
          </p:blipFill>
          <p:spPr>
            <a:xfrm>
              <a:off x="762120" y="3200400"/>
              <a:ext cx="403848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457200" y="1143000"/>
            <a:ext cx="7238880" cy="3505320"/>
            <a:chOff x="457200" y="1143000"/>
            <a:chExt cx="7238880" cy="350532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457200" y="1143000"/>
              <a:ext cx="72388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" descr="521"/>
            <p:cNvPicPr/>
            <p:nvPr/>
          </p:nvPicPr>
          <p:blipFill>
            <a:blip r:embed="rId3"/>
            <a:stretch/>
          </p:blipFill>
          <p:spPr>
            <a:xfrm>
              <a:off x="609480" y="2666880"/>
              <a:ext cx="2590920" cy="198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Picture 8" descr="522"/>
          <p:cNvPicPr/>
          <p:nvPr/>
        </p:nvPicPr>
        <p:blipFill>
          <a:blip r:embed="rId4"/>
          <a:stretch/>
        </p:blipFill>
        <p:spPr>
          <a:xfrm>
            <a:off x="4038480" y="2666880"/>
            <a:ext cx="3124440" cy="1981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85800" y="4876920"/>
            <a:ext cx="6400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248520" cy="28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53341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272880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0880" y="990720"/>
            <a:ext cx="8305920" cy="5410080"/>
            <a:chOff x="380880" y="990720"/>
            <a:chExt cx="8305920" cy="54100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380880" y="990720"/>
              <a:ext cx="80010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523"/>
            <p:cNvPicPr/>
            <p:nvPr/>
          </p:nvPicPr>
          <p:blipFill>
            <a:blip r:embed="rId3"/>
            <a:stretch/>
          </p:blipFill>
          <p:spPr>
            <a:xfrm>
              <a:off x="6248160" y="4191120"/>
              <a:ext cx="243864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9"/>
          <p:cNvSpPr/>
          <p:nvPr/>
        </p:nvSpPr>
        <p:spPr>
          <a:xfrm>
            <a:off x="311940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5638680" cy="20574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696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149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914400"/>
            <a:ext cx="8305560" cy="5181480"/>
            <a:chOff x="533520" y="914400"/>
            <a:chExt cx="8305560" cy="5181480"/>
          </a:xfrm>
        </p:grpSpPr>
        <p:graphicFrame>
          <p:nvGraphicFramePr>
            <p:cNvPr id="52" name=""/>
            <p:cNvGraphicFramePr/>
            <p:nvPr/>
          </p:nvGraphicFramePr>
          <p:xfrm>
            <a:off x="533520" y="914400"/>
            <a:ext cx="8229240" cy="1447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914400"/>
                      <a:ext cx="82292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533520" y="2590920"/>
            <a:ext cx="7238520" cy="2057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2590920"/>
                      <a:ext cx="723852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533520" y="4724280"/>
            <a:ext cx="8305560" cy="1371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724280"/>
                      <a:ext cx="83055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" name=""/>
          <p:cNvGraphicFramePr/>
          <p:nvPr/>
        </p:nvGraphicFramePr>
        <p:xfrm>
          <a:off x="8001000" y="990720"/>
          <a:ext cx="485640" cy="515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001000" y="990720"/>
                    <a:ext cx="485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553080" y="2438280"/>
          <a:ext cx="486000" cy="515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3080" y="2438280"/>
                    <a:ext cx="486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467480" y="5105520"/>
          <a:ext cx="486000" cy="515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67480" y="5105520"/>
                    <a:ext cx="486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52280" y="1066680"/>
            <a:ext cx="8991720" cy="5334120"/>
            <a:chOff x="152280" y="1066680"/>
            <a:chExt cx="8991720" cy="5334120"/>
          </a:xfrm>
        </p:grpSpPr>
        <p:graphicFrame>
          <p:nvGraphicFramePr>
            <p:cNvPr id="65" name=""/>
            <p:cNvGraphicFramePr/>
            <p:nvPr/>
          </p:nvGraphicFramePr>
          <p:xfrm>
            <a:off x="152280" y="1066680"/>
            <a:ext cx="8153280" cy="1905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1066680"/>
                      <a:ext cx="8153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7" name=""/>
            <p:cNvGrpSpPr/>
            <p:nvPr/>
          </p:nvGrpSpPr>
          <p:grpSpPr>
            <a:xfrm>
              <a:off x="914400" y="2971800"/>
              <a:ext cx="5410080" cy="1600200"/>
              <a:chOff x="914400" y="2971800"/>
              <a:chExt cx="5410080" cy="1600200"/>
            </a:xfrm>
          </p:grpSpPr>
          <p:pic>
            <p:nvPicPr>
              <p:cNvPr id="68" name="Picture 6" descr="2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971800"/>
                <a:ext cx="243828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8" descr="3"/>
              <p:cNvPicPr/>
              <p:nvPr/>
            </p:nvPicPr>
            <p:blipFill>
              <a:blip r:embed="rId5"/>
              <a:stretch/>
            </p:blipFill>
            <p:spPr>
              <a:xfrm>
                <a:off x="3962520" y="2971800"/>
                <a:ext cx="23619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70" name=""/>
            <p:cNvGraphicFramePr/>
            <p:nvPr/>
          </p:nvGraphicFramePr>
          <p:xfrm>
            <a:off x="152280" y="4572000"/>
            <a:ext cx="8991720" cy="1828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280" y="4572000"/>
                      <a:ext cx="89917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2" name=""/>
          <p:cNvGraphicFramePr/>
          <p:nvPr/>
        </p:nvGraphicFramePr>
        <p:xfrm>
          <a:off x="3081240" y="1676520"/>
          <a:ext cx="42408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81240" y="1676520"/>
                    <a:ext cx="424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248520" y="5410080"/>
          <a:ext cx="47304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8520" y="5410080"/>
                    <a:ext cx="473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280" y="990720"/>
            <a:ext cx="8991720" cy="4876200"/>
            <a:chOff x="152280" y="990720"/>
            <a:chExt cx="8991720" cy="4876200"/>
          </a:xfrm>
        </p:grpSpPr>
        <p:graphicFrame>
          <p:nvGraphicFramePr>
            <p:cNvPr id="77" name=""/>
            <p:cNvGraphicFramePr/>
            <p:nvPr/>
          </p:nvGraphicFramePr>
          <p:xfrm>
            <a:off x="152280" y="990720"/>
            <a:ext cx="8991720" cy="914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990720"/>
                      <a:ext cx="899172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152280" y="1981080"/>
            <a:ext cx="8839080" cy="1066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2280" y="1981080"/>
                      <a:ext cx="8839080" cy="106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" name=""/>
            <p:cNvGrpSpPr/>
            <p:nvPr/>
          </p:nvGrpSpPr>
          <p:grpSpPr>
            <a:xfrm>
              <a:off x="838080" y="3124080"/>
              <a:ext cx="5448240" cy="1961280"/>
              <a:chOff x="838080" y="3124080"/>
              <a:chExt cx="5448240" cy="1961280"/>
            </a:xfrm>
          </p:grpSpPr>
          <p:pic>
            <p:nvPicPr>
              <p:cNvPr id="82" name="Picture 8" descr="4"/>
              <p:cNvPicPr/>
              <p:nvPr/>
            </p:nvPicPr>
            <p:blipFill>
              <a:blip r:embed="rId6"/>
              <a:stretch/>
            </p:blipFill>
            <p:spPr>
              <a:xfrm>
                <a:off x="838080" y="3124080"/>
                <a:ext cx="23241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10" descr="5"/>
              <p:cNvPicPr/>
              <p:nvPr/>
            </p:nvPicPr>
            <p:blipFill>
              <a:blip r:embed="rId7"/>
              <a:stretch/>
            </p:blipFill>
            <p:spPr>
              <a:xfrm>
                <a:off x="3962160" y="3200040"/>
                <a:ext cx="2324160" cy="188532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84" name=""/>
            <p:cNvGraphicFramePr/>
            <p:nvPr/>
          </p:nvGraphicFramePr>
          <p:xfrm>
            <a:off x="152280" y="4952880"/>
            <a:ext cx="8991720" cy="914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4952880"/>
                      <a:ext cx="899172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1752480" y="1401840"/>
          <a:ext cx="71460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1401840"/>
                    <a:ext cx="714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81280" y="2514600"/>
          <a:ext cx="59868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81280" y="2514600"/>
                    <a:ext cx="598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410080" y="2514600"/>
          <a:ext cx="11653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2514600"/>
                    <a:ext cx="11653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447920" y="5334120"/>
          <a:ext cx="317520" cy="503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47920" y="5334120"/>
                    <a:ext cx="317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80880" y="1066680"/>
            <a:ext cx="8610480" cy="4724280"/>
            <a:chOff x="380880" y="1066680"/>
            <a:chExt cx="8610480" cy="4724280"/>
          </a:xfrm>
        </p:grpSpPr>
        <p:graphicFrame>
          <p:nvGraphicFramePr>
            <p:cNvPr id="95" name=""/>
            <p:cNvGraphicFramePr/>
            <p:nvPr/>
          </p:nvGraphicFramePr>
          <p:xfrm>
            <a:off x="380880" y="1066680"/>
            <a:ext cx="853452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1066680"/>
                      <a:ext cx="85345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457200" y="4876560"/>
            <a:ext cx="853416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4876560"/>
                      <a:ext cx="85341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" name=""/>
            <p:cNvGrpSpPr/>
            <p:nvPr/>
          </p:nvGrpSpPr>
          <p:grpSpPr>
            <a:xfrm>
              <a:off x="761760" y="2590560"/>
              <a:ext cx="6553080" cy="2286000"/>
              <a:chOff x="761760" y="2590560"/>
              <a:chExt cx="6553080" cy="2286000"/>
            </a:xfrm>
          </p:grpSpPr>
          <p:pic>
            <p:nvPicPr>
              <p:cNvPr id="100" name="Picture 6" descr="6"/>
              <p:cNvPicPr/>
              <p:nvPr/>
            </p:nvPicPr>
            <p:blipFill>
              <a:blip r:embed="rId6"/>
              <a:stretch/>
            </p:blipFill>
            <p:spPr>
              <a:xfrm>
                <a:off x="761760" y="2590560"/>
                <a:ext cx="289548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0" descr="7"/>
              <p:cNvPicPr/>
              <p:nvPr/>
            </p:nvPicPr>
            <p:blipFill>
              <a:blip r:embed="rId7"/>
              <a:stretch/>
            </p:blipFill>
            <p:spPr>
              <a:xfrm>
                <a:off x="4038480" y="2590560"/>
                <a:ext cx="3276360" cy="20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2" name=""/>
          <p:cNvGraphicFramePr/>
          <p:nvPr/>
        </p:nvGraphicFramePr>
        <p:xfrm>
          <a:off x="762120" y="1905120"/>
          <a:ext cx="4800600" cy="68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1905120"/>
                    <a:ext cx="480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562720" y="5257800"/>
          <a:ext cx="1036440" cy="50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62720" y="5257800"/>
                    <a:ext cx="1036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04920" y="1066680"/>
            <a:ext cx="8686800" cy="5105520"/>
            <a:chOff x="304920" y="1066680"/>
            <a:chExt cx="8686800" cy="5105520"/>
          </a:xfrm>
        </p:grpSpPr>
        <p:graphicFrame>
          <p:nvGraphicFramePr>
            <p:cNvPr id="108" name=""/>
            <p:cNvGraphicFramePr/>
            <p:nvPr/>
          </p:nvGraphicFramePr>
          <p:xfrm>
            <a:off x="381240" y="1066680"/>
            <a:ext cx="8610480" cy="167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1240" y="1066680"/>
                      <a:ext cx="86104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0" name="Picture 6" descr=""/>
            <p:cNvPicPr/>
            <p:nvPr/>
          </p:nvPicPr>
          <p:blipFill>
            <a:blip r:embed="rId4"/>
            <a:stretch/>
          </p:blipFill>
          <p:spPr>
            <a:xfrm>
              <a:off x="304920" y="2743200"/>
              <a:ext cx="4381560" cy="3429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1" name=""/>
          <p:cNvGraphicFramePr/>
          <p:nvPr/>
        </p:nvGraphicFramePr>
        <p:xfrm>
          <a:off x="4648320" y="3105000"/>
          <a:ext cx="434340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105000"/>
                    <a:ext cx="43434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8:23:59Z</dcterms:created>
  <dc:creator/>
  <dc:description/>
  <dc:language>en-US</dc:language>
  <cp:lastModifiedBy>Blue666</cp:lastModifiedBy>
  <dcterms:modified xsi:type="dcterms:W3CDTF">2012-12-30T08:30:5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