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6F6-0692-4BB1-84AD-1FEB3C2C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9DE-085E-4538-B802-44175BB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621-D18D-4377-8F5B-A877FA3F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B32-D408-4CD2-A195-91D74A86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A95-1A03-41F1-B495-78DBC776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4E91-02D8-406A-94CB-9B9F9B7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5718-1DA0-4BFD-B7DC-98CEE3C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759B-BE4E-4BC6-B2F5-A153C828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8BB8-12B2-4EEF-82F9-632E68E5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403B-3E03-467F-996E-24A6258D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4253-A251-4A4D-A9B2-814F28A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698-377B-4954-B41F-F6CFE595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3EA8-5B6E-41A2-8074-6A14665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EA09-3EDA-4B76-A6FA-B124418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E0D6-5680-46DF-9700-069939C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6DC-BF71-4DA1-B1F9-DEEF45E0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F85E-4DE4-4971-8460-E86E6B03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8EA-FD1E-43C0-8C07-7423F3E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6FE-31AC-4DC0-8018-836A5A7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D63-568E-41DD-AA45-A38EC0F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8B6-3B23-4AA1-B7B9-30C8CD8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F70-FC72-46DC-B2F1-B1B7C01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A39-14AE-48A9-B5D2-F3EBF2C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60C-8AEC-4995-B854-34EAB0D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681A-456F-494C-85C4-6D18E6E2876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B2C-10B7-43C7-9DC8-E16AB2245A8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105264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一个二次函数的图象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，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三点，求这个二次函数的            关系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1120" y="333360"/>
            <a:ext cx="168588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771640" y="2995560"/>
            <a:ext cx="4824360" cy="1456920"/>
            <a:chOff x="2771640" y="2995560"/>
            <a:chExt cx="4824360" cy="1456920"/>
          </a:xfrm>
        </p:grpSpPr>
        <p:sp>
          <p:nvSpPr>
            <p:cNvPr id="225" name=""/>
            <p:cNvSpPr/>
            <p:nvPr/>
          </p:nvSpPr>
          <p:spPr>
            <a:xfrm>
              <a:off x="2771640" y="3385800"/>
              <a:ext cx="27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根据题意，得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249880" y="2995560"/>
              <a:ext cx="2346120" cy="1456920"/>
              <a:chOff x="5249880" y="2995560"/>
              <a:chExt cx="2346120" cy="1456920"/>
            </a:xfrm>
          </p:grpSpPr>
          <mc:AlternateContent>
            <mc:Choice xmlns:a14="http://schemas.microsoft.com/office/drawing/2010/main" Requires="a14">
              <p:sp>
                <p:nvSpPr>
                  <p:cNvPr id="227" name=""/>
                  <p:cNvSpPr txBox="1"/>
                  <p:nvPr/>
                </p:nvSpPr>
                <p:spPr>
                  <a:xfrm>
                    <a:off x="5249880" y="3097080"/>
                    <a:ext cx="546120" cy="13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228" name=""/>
              <p:cNvSpPr/>
              <p:nvPr/>
            </p:nvSpPr>
            <p:spPr>
              <a:xfrm>
                <a:off x="6588000" y="2995560"/>
                <a:ext cx="10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c=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04280" y="3427200"/>
                <a:ext cx="150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00"/>
                    </a:solidFill>
                    <a:latin typeface="Times New Roman"/>
                  </a:rPr>
                  <a:t>a+b+c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37080" y="3931920"/>
                <a:ext cx="185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4a+2b+c=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2843280" y="4368960"/>
            <a:ext cx="5060880" cy="947160"/>
            <a:chOff x="2843280" y="4368960"/>
            <a:chExt cx="5060880" cy="947160"/>
          </a:xfrm>
        </p:grpSpPr>
        <p:sp>
          <p:nvSpPr>
            <p:cNvPr id="232" name=""/>
            <p:cNvSpPr/>
            <p:nvPr/>
          </p:nvSpPr>
          <p:spPr>
            <a:xfrm>
              <a:off x="2843280" y="4578480"/>
              <a:ext cx="50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解得：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a=      ,b=     ,c=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527440" y="4368960"/>
              <a:ext cx="358920" cy="947160"/>
              <a:chOff x="5527440" y="4368960"/>
              <a:chExt cx="358920" cy="947160"/>
            </a:xfrm>
          </p:grpSpPr>
          <p:sp>
            <p:nvSpPr>
              <p:cNvPr id="234" name=""/>
              <p:cNvSpPr/>
              <p:nvPr/>
            </p:nvSpPr>
            <p:spPr>
              <a:xfrm>
                <a:off x="5527440" y="43689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71720" y="4881600"/>
                <a:ext cx="28692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376520" y="4368960"/>
              <a:ext cx="358920" cy="947160"/>
              <a:chOff x="4376520" y="4368960"/>
              <a:chExt cx="358920" cy="947160"/>
            </a:xfrm>
          </p:grpSpPr>
          <p:sp>
            <p:nvSpPr>
              <p:cNvPr id="237" name=""/>
              <p:cNvSpPr/>
              <p:nvPr/>
            </p:nvSpPr>
            <p:spPr>
              <a:xfrm>
                <a:off x="4376520" y="43689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420800" y="4881600"/>
                <a:ext cx="28692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2820960" y="249228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解：设所求函数关系式为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y=ax</a:t>
            </a:r>
            <a:r>
              <a:rPr b="1" lang="zh-CN" sz="2800" spc="-1" strike="noStrike" baseline="30000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+bx+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43280" y="5316480"/>
            <a:ext cx="5349960" cy="1368000"/>
            <a:chOff x="2843280" y="5316480"/>
            <a:chExt cx="5349960" cy="1368000"/>
          </a:xfrm>
        </p:grpSpPr>
        <p:sp>
          <p:nvSpPr>
            <p:cNvPr id="241" name=""/>
            <p:cNvSpPr/>
            <p:nvPr/>
          </p:nvSpPr>
          <p:spPr>
            <a:xfrm>
              <a:off x="2843280" y="5316480"/>
              <a:ext cx="53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因此，所求二次函数的关系式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656600" y="5737320"/>
              <a:ext cx="2229120" cy="947160"/>
              <a:chOff x="4656600" y="5737320"/>
              <a:chExt cx="2229120" cy="9471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099040" y="5737320"/>
                <a:ext cx="358920" cy="947160"/>
                <a:chOff x="5099040" y="5737320"/>
                <a:chExt cx="358920" cy="94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99040" y="573732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43320" y="6249960"/>
                  <a:ext cx="286920" cy="0"/>
                </a:xfrm>
                <a:prstGeom prst="line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011640" y="5737320"/>
                <a:ext cx="358920" cy="947160"/>
                <a:chOff x="6011640" y="5737320"/>
                <a:chExt cx="358920" cy="947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011640" y="573732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56280" y="6249960"/>
                  <a:ext cx="287280" cy="0"/>
                </a:xfrm>
                <a:prstGeom prst="line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656600" y="5948280"/>
                <a:ext cx="222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y=    x</a:t>
                </a:r>
                <a:r>
                  <a:rPr b="1" lang="en-US" sz="2800" spc="-1" strike="noStrike" baseline="30000">
                    <a:solidFill>
                      <a:srgbClr val="99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+    x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7960" y="11592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e9ce8"/>
                </a:solidFill>
                <a:latin typeface="Tahoma"/>
                <a:ea typeface="黑体"/>
              </a:rPr>
              <a:t>应用</a:t>
            </a:r>
            <a:r>
              <a:rPr b="1" lang="zh-CN" sz="4800" spc="-1" strike="noStrike">
                <a:solidFill>
                  <a:srgbClr val="7e9ce8"/>
                </a:solidFill>
                <a:latin typeface="Tahoma"/>
                <a:ea typeface="黑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57600" y="901800"/>
            <a:ext cx="536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6 m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长的铝合金型材做一个形状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图所示的矩形窗框．应做成长、宽各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多少时，才能使做成的窗框的透光面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最大？最大透光面积是多少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213600" y="3284640"/>
          <a:ext cx="24620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3600" y="3284640"/>
                    <a:ext cx="24620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89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如图，某隧道口的横截面是抛物线形，已知路宽</a:t>
            </a:r>
            <a:r>
              <a:rPr b="1" i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米，最高点离地面的距离</a:t>
            </a:r>
            <a:r>
              <a:rPr b="1" i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OC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米．以最高点</a:t>
            </a:r>
            <a:r>
              <a:rPr b="1" i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为坐标原点，抛物线的对称轴为</a:t>
            </a:r>
            <a:r>
              <a:rPr b="1" i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轴，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米为数轴的单位长度，建立平面直角坐标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求（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）以这一部分抛物线为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象的函数解析式，并写出</a:t>
            </a:r>
            <a:r>
              <a:rPr b="1" i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的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值范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） 有一辆宽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2.8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米，高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米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农用货车（货物最高处与地面</a:t>
            </a: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6cfa"/>
                </a:solidFill>
                <a:latin typeface="黑体"/>
                <a:ea typeface="黑体"/>
              </a:rPr>
              <a:t>的距离）能否通过此隧道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830920" y="1916280"/>
            <a:ext cx="3313080" cy="3749760"/>
            <a:chOff x="5830920" y="1916280"/>
            <a:chExt cx="3313080" cy="3749760"/>
          </a:xfrm>
        </p:grpSpPr>
        <p:sp>
          <p:nvSpPr>
            <p:cNvPr id="256" name=""/>
            <p:cNvSpPr/>
            <p:nvPr/>
          </p:nvSpPr>
          <p:spPr>
            <a:xfrm>
              <a:off x="5830920" y="3032280"/>
              <a:ext cx="308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275600" y="2179440"/>
              <a:ext cx="0" cy="30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82000" y="3019320"/>
              <a:ext cx="1977840" cy="1928880"/>
            </a:xfrm>
            <a:custGeom>
              <a:avLst/>
              <a:gdLst/>
              <a:ahLst/>
              <a:rect l="l" t="t" r="r" b="b"/>
              <a:pathLst>
                <a:path w="1200" h="1068">
                  <a:moveTo>
                    <a:pt x="0" y="1068"/>
                  </a:moveTo>
                  <a:cubicBezTo>
                    <a:pt x="64" y="813"/>
                    <a:pt x="265" y="0"/>
                    <a:pt x="607" y="7"/>
                  </a:cubicBezTo>
                  <a:cubicBezTo>
                    <a:pt x="904" y="3"/>
                    <a:pt x="1123" y="798"/>
                    <a:pt x="1200" y="1068"/>
                  </a:cubicBezTo>
                </a:path>
              </a:pathLst>
            </a:custGeom>
            <a:noFill/>
            <a:ln w="507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45480" y="2584440"/>
              <a:ext cx="3222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20360" y="2975040"/>
              <a:ext cx="323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39040" y="1916280"/>
              <a:ext cx="3240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82000" y="4950000"/>
              <a:ext cx="19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75280" y="5013360"/>
              <a:ext cx="3225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07640" y="5013360"/>
              <a:ext cx="323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82000" y="4964040"/>
              <a:ext cx="1974600" cy="141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2840" y="50846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611280" y="5373720"/>
            <a:ext cx="2520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14600" y="189000"/>
            <a:ext cx="74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如图，某建筑的屋顶设计成横截面为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物线型（曲线</a:t>
            </a:r>
            <a:r>
              <a:rPr b="1" i="1" lang="zh-CN" sz="4000" spc="-1" strike="noStrike">
                <a:solidFill>
                  <a:srgbClr val="8569fd"/>
                </a:solidFill>
                <a:latin typeface="Tahoma"/>
              </a:rPr>
              <a:t>AOB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）的薄壳屋顶．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拱宽</a:t>
            </a:r>
            <a:r>
              <a:rPr b="1" i="1" lang="zh-CN" sz="4000" spc="-1" strike="noStrike">
                <a:solidFill>
                  <a:srgbClr val="8569fd"/>
                </a:solidFill>
                <a:latin typeface="Tahoma"/>
              </a:rPr>
              <a:t>AB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为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4 m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，拱高</a:t>
            </a:r>
            <a:r>
              <a:rPr b="1" i="1" lang="zh-CN" sz="4000" spc="-1" strike="noStrike">
                <a:solidFill>
                  <a:srgbClr val="8569fd"/>
                </a:solidFill>
                <a:latin typeface="Tahoma"/>
              </a:rPr>
              <a:t>CO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为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0.8 m</a:t>
            </a: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．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工前要先制造建筑模板，怎样画出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69fd"/>
                </a:solidFill>
                <a:latin typeface="Tahoma"/>
              </a:rPr>
              <a:t>的轮廓线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564000" y="2565360"/>
          <a:ext cx="52560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565360"/>
                    <a:ext cx="52560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 txBox="1"/>
          <p:nvPr/>
        </p:nvSpPr>
        <p:spPr>
          <a:xfrm>
            <a:off x="395280" y="5013360"/>
            <a:ext cx="237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36400" y="430200"/>
            <a:ext cx="1238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结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079720"/>
            <a:ext cx="82296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设含有未知数的待求函数关系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根据条件列方程或方程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解方程或方程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得到所求函数关系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39920"/>
            <a:ext cx="3178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待定系数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3047760" cy="3343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95280" y="260280"/>
            <a:ext cx="2476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拓展延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114560"/>
            <a:ext cx="53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年海南省中考数学压轴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70028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，在平面直角坐标系中，直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分别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抛物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bx+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，并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另一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求抛物线所对应的函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3048120" cy="3343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115920"/>
            <a:ext cx="53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年海南省中考数学压轴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720" y="234936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由题意可知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点的坐标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720" y="505944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，所求二次函数的关系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=2,c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99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坐标为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，代入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-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bx+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6720" y="3546360"/>
            <a:ext cx="4483080" cy="964440"/>
            <a:chOff x="396720" y="3546360"/>
            <a:chExt cx="4483080" cy="964440"/>
          </a:xfrm>
        </p:grpSpPr>
        <p:sp>
          <p:nvSpPr>
            <p:cNvPr id="287" name=""/>
            <p:cNvSpPr/>
            <p:nvPr/>
          </p:nvSpPr>
          <p:spPr>
            <a:xfrm>
              <a:off x="396720" y="37162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根据题意，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195280" y="3546360"/>
              <a:ext cx="2684520" cy="964440"/>
              <a:chOff x="2195280" y="3546360"/>
              <a:chExt cx="2684520" cy="964440"/>
            </a:xfrm>
          </p:grpSpPr>
          <p:sp>
            <p:nvSpPr>
              <p:cNvPr id="289" name=""/>
              <p:cNvSpPr/>
              <p:nvPr/>
            </p:nvSpPr>
            <p:spPr>
              <a:xfrm>
                <a:off x="2841480" y="3546360"/>
                <a:ext cx="203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0=-9+3b+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41480" y="4051080"/>
                <a:ext cx="110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3=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95280" y="3546360"/>
                <a:ext cx="955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cc"/>
                    </a:solidFill>
                    <a:latin typeface="Arial"/>
                    <a:ea typeface="黑体"/>
                  </a:rPr>
                  <a:t>｛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1332000" y="5635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-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2x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6922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，在平面直角坐标系中，直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抛物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bx+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，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另一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求抛物线所对应的函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692360" y="1044720"/>
            <a:ext cx="352584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外作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95" name=""/>
          <p:cNvSpPr/>
          <p:nvPr/>
        </p:nvSpPr>
        <p:spPr>
          <a:xfrm>
            <a:off x="1550520" y="3313800"/>
            <a:ext cx="59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7.2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第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11280" y="1557360"/>
            <a:ext cx="7848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祝同学们学习愉快开心！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135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黑体"/>
                <a:ea typeface="黑体"/>
              </a:rPr>
              <a:t>求二次函数的       关系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159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黑体"/>
                <a:ea typeface="黑体"/>
              </a:rPr>
              <a:t>27.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7632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9280" y="1125360"/>
            <a:ext cx="53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年海南省中考数学压轴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700280"/>
            <a:ext cx="84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，在平面直角坐标系中，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分别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抛物线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bx+c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，并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另一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求抛物线所对应的函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,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得抛物线上的一个动点，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交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第一象限内，试问：线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度是否存在最大值？若存在，求出它的最大值及此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；若不存在，请说明理由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底边的等腰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260280"/>
            <a:ext cx="22860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问题情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2822400"/>
            <a:ext cx="3047760" cy="3343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395280" y="260280"/>
            <a:ext cx="22860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问题情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1125360"/>
            <a:ext cx="53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年海南省中考数学压轴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70028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，在平面直角坐标系中，直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分别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抛物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bx+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，并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另一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求抛物线所对应的函数关系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113832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已知一个二次函数的图象过点（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，它的顶点坐标是（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，求这个二次函数的关系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5542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设所求函数关系式为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=a(x-8)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8040" y="3187800"/>
            <a:ext cx="55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题意，得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=a(0-8)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679840" y="3697200"/>
            <a:ext cx="3692520" cy="947160"/>
            <a:chOff x="2679840" y="3697200"/>
            <a:chExt cx="3692520" cy="947160"/>
          </a:xfrm>
        </p:grpSpPr>
        <p:sp>
          <p:nvSpPr>
            <p:cNvPr id="169" name=""/>
            <p:cNvSpPr/>
            <p:nvPr/>
          </p:nvSpPr>
          <p:spPr>
            <a:xfrm>
              <a:off x="2679840" y="3850920"/>
              <a:ext cx="369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：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284360" y="3697200"/>
              <a:ext cx="358920" cy="947160"/>
              <a:chOff x="4284360" y="3697200"/>
              <a:chExt cx="358920" cy="947160"/>
            </a:xfrm>
          </p:grpSpPr>
          <p:sp>
            <p:nvSpPr>
              <p:cNvPr id="171" name=""/>
              <p:cNvSpPr/>
              <p:nvPr/>
            </p:nvSpPr>
            <p:spPr>
              <a:xfrm>
                <a:off x="4284360" y="36972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29000" y="4160880"/>
                <a:ext cx="289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2678040" y="4556160"/>
            <a:ext cx="5349960" cy="1466280"/>
            <a:chOff x="2678040" y="4556160"/>
            <a:chExt cx="5349960" cy="1466280"/>
          </a:xfrm>
        </p:grpSpPr>
        <p:sp>
          <p:nvSpPr>
            <p:cNvPr id="174" name=""/>
            <p:cNvSpPr/>
            <p:nvPr/>
          </p:nvSpPr>
          <p:spPr>
            <a:xfrm>
              <a:off x="2678040" y="4556160"/>
              <a:ext cx="53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因此，所求二次函数的关系式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575520" y="5075280"/>
              <a:ext cx="2320200" cy="947160"/>
              <a:chOff x="3575520" y="5075280"/>
              <a:chExt cx="2320200" cy="9471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4160880" y="5075280"/>
                <a:ext cx="360000" cy="947160"/>
                <a:chOff x="4160880" y="5075280"/>
                <a:chExt cx="360000" cy="9471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160880" y="507528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232160" y="5580000"/>
                  <a:ext cx="28872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575520" y="5261040"/>
                <a:ext cx="23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=-     (x-8)</a:t>
                </a:r>
                <a:r>
                  <a:rPr b="1" lang="en-US" sz="2800" spc="-1" strike="noStrike" baseline="30000">
                    <a:solidFill>
                      <a:srgbClr val="0000cc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+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 txBox="1"/>
          <p:nvPr/>
        </p:nvSpPr>
        <p:spPr>
          <a:xfrm>
            <a:off x="460440" y="260280"/>
            <a:ext cx="2247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例题分析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8000" y="1052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已知二次函数的图象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、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、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三点，求这个二次函数的关系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0440" y="260280"/>
            <a:ext cx="2247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例题分析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3" name=""/>
          <p:cNvSpPr/>
          <p:nvPr/>
        </p:nvSpPr>
        <p:spPr>
          <a:xfrm>
            <a:off x="2533680" y="227664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解：设所求函数关系式为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y=ax</a:t>
            </a:r>
            <a:r>
              <a:rPr b="1" lang="zh-CN" sz="2800" spc="-1" strike="noStrike" baseline="30000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+bx+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33680" y="2822400"/>
            <a:ext cx="4772160" cy="1457280"/>
            <a:chOff x="2533680" y="2822400"/>
            <a:chExt cx="4772160" cy="1457280"/>
          </a:xfrm>
        </p:grpSpPr>
        <p:sp>
          <p:nvSpPr>
            <p:cNvPr id="185" name=""/>
            <p:cNvSpPr/>
            <p:nvPr/>
          </p:nvSpPr>
          <p:spPr>
            <a:xfrm>
              <a:off x="2533680" y="3213000"/>
              <a:ext cx="27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根据题意，得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011920" y="2822400"/>
              <a:ext cx="2293920" cy="1457280"/>
              <a:chOff x="5011920" y="2822400"/>
              <a:chExt cx="2293920" cy="14572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5011920" y="2924280"/>
                    <a:ext cx="546120" cy="13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6423480" y="282240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c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70400" y="3254400"/>
                <a:ext cx="185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4a+2b+c=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70400" y="3759120"/>
                <a:ext cx="203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9a+3b+c=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2535120" y="4211640"/>
            <a:ext cx="5060880" cy="947160"/>
            <a:chOff x="2535120" y="4211640"/>
            <a:chExt cx="5060880" cy="947160"/>
          </a:xfrm>
        </p:grpSpPr>
        <p:sp>
          <p:nvSpPr>
            <p:cNvPr id="192" name=""/>
            <p:cNvSpPr/>
            <p:nvPr/>
          </p:nvSpPr>
          <p:spPr>
            <a:xfrm>
              <a:off x="2535120" y="4421160"/>
              <a:ext cx="50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解得：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a=      ,b=-     ,c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219280" y="4211640"/>
              <a:ext cx="358920" cy="947160"/>
              <a:chOff x="5219280" y="4211640"/>
              <a:chExt cx="358920" cy="947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219280" y="421164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63560" y="4724280"/>
                <a:ext cx="28692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068360" y="4211640"/>
              <a:ext cx="358920" cy="947160"/>
              <a:chOff x="4068360" y="4211640"/>
              <a:chExt cx="358920" cy="947160"/>
            </a:xfrm>
          </p:grpSpPr>
          <p:sp>
            <p:nvSpPr>
              <p:cNvPr id="197" name=""/>
              <p:cNvSpPr/>
              <p:nvPr/>
            </p:nvSpPr>
            <p:spPr>
              <a:xfrm>
                <a:off x="4068360" y="421164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12640" y="4724280"/>
                <a:ext cx="286920" cy="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533680" y="5070600"/>
            <a:ext cx="5349960" cy="1383480"/>
            <a:chOff x="2533680" y="5070600"/>
            <a:chExt cx="5349960" cy="1383480"/>
          </a:xfrm>
        </p:grpSpPr>
        <p:sp>
          <p:nvSpPr>
            <p:cNvPr id="200" name=""/>
            <p:cNvSpPr/>
            <p:nvPr/>
          </p:nvSpPr>
          <p:spPr>
            <a:xfrm>
              <a:off x="2533680" y="5070600"/>
              <a:ext cx="53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因此，所求二次函数的关系式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47360" y="5506920"/>
              <a:ext cx="2229120" cy="947160"/>
              <a:chOff x="4347360" y="5506920"/>
              <a:chExt cx="2229120" cy="9471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789440" y="5506920"/>
                <a:ext cx="358920" cy="947160"/>
                <a:chOff x="4789440" y="5506920"/>
                <a:chExt cx="358920" cy="947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789440" y="550692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833720" y="6019560"/>
                  <a:ext cx="286920" cy="0"/>
                </a:xfrm>
                <a:prstGeom prst="line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581440" y="5506920"/>
                <a:ext cx="358920" cy="947160"/>
                <a:chOff x="5581440" y="5506920"/>
                <a:chExt cx="358920" cy="947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581440" y="5506920"/>
                  <a:ext cx="358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26080" y="6019560"/>
                  <a:ext cx="287280" cy="0"/>
                </a:xfrm>
                <a:prstGeom prst="line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47360" y="5702400"/>
                <a:ext cx="222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y=    x</a:t>
                </a:r>
                <a:r>
                  <a:rPr b="1" lang="en-US" sz="2800" spc="-1" strike="noStrike" baseline="30000">
                    <a:solidFill>
                      <a:srgbClr val="99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990000"/>
                    </a:solidFill>
                    <a:latin typeface="Times New Roman"/>
                  </a:rPr>
                  <a:t>-    x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6400" y="430200"/>
            <a:ext cx="11242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归纳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079720"/>
            <a:ext cx="82296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、设含有未知数的待求函数关系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、根据条件列方程或方程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、解方程或方程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d35ba"/>
                </a:solidFill>
                <a:latin typeface="黑体"/>
                <a:ea typeface="黑体"/>
              </a:rPr>
              <a:t>、得到所求函数关系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339920"/>
            <a:ext cx="3178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待定系数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3287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一个二次函数的图象过点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它的顶点坐标是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-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-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求这个二次函数的关系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3344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、一个二次函数的图象过（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-2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，（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，（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三点，求这个二次函数的关系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1120" y="333360"/>
            <a:ext cx="168588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1197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一个二次函数的图象过点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它的顶点坐标是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-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，求这个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次函数的关系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1120" y="333360"/>
            <a:ext cx="168588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7" name=""/>
          <p:cNvSpPr/>
          <p:nvPr/>
        </p:nvSpPr>
        <p:spPr>
          <a:xfrm>
            <a:off x="1959120" y="4724280"/>
            <a:ext cx="68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因此，所求二次函数的关系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2852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解：设所求函数关系式为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y=a(x+1)</a:t>
            </a:r>
            <a:r>
              <a:rPr b="1" lang="zh-CN" sz="3200" spc="-1" strike="noStrike" baseline="30000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59120" y="3500280"/>
            <a:ext cx="71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根据题意，得：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10=a(1+1)</a:t>
            </a:r>
            <a:r>
              <a:rPr b="1" lang="zh-CN" sz="3200" spc="-1" strike="noStrike" baseline="30000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60560" y="4149720"/>
            <a:ext cx="31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解得：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a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552456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解得：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y=3(x+1)</a:t>
            </a:r>
            <a:r>
              <a:rPr b="1" lang="zh-CN" sz="3200" spc="-1" strike="noStrike" baseline="30000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lgs</dc:creator>
  <dc:description/>
  <dc:language>en-US</dc:language>
  <cp:lastModifiedBy>User</cp:lastModifiedBy>
  <dcterms:modified xsi:type="dcterms:W3CDTF">2013-12-13T01:48:21Z</dcterms:modified>
  <cp:revision>573</cp:revision>
  <dc:subject/>
  <dc:title>八年级数学（下册）第四章 相似图形</dc:title>
</cp:coreProperties>
</file>