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9.jpeg" ContentType="image/jpeg"/>
  <Override PartName="/ppt/media/image12.wmf" ContentType="image/x-wmf"/>
  <Override PartName="/ppt/media/chimes.wav" ContentType="audio/x-wav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B8EC0-B2EF-4D06-80EB-EA561E540A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AA1FF-A864-46F5-9DE4-47432A54B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78A5F-9FA7-4E0F-BF6A-AAA4496AA3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D82-D0AF-4E4B-B920-61E8E88F3D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63478-116D-424B-8AB7-404F8B33D0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54A90-A0C3-46EF-A5C8-59136F7389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A5EB0-513B-4117-9A46-281F1896B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2BB69-623D-41E0-93ED-8B8C1803DA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4AFE4-B29F-4933-A95A-0A8834BE0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498A98-80DD-4BFD-91B3-2A538056F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D30ED-295F-44BF-8A8A-9E6ECA0D25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C4020-B814-4F01-A5B9-EDC15498C5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7A2623-429B-4B37-8CFA-5B71BB20AFE4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image" Target="../media/image11.wm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file:///&#20108;&#27425;&#20989;&#25968;y=x2.gsp" TargetMode="External"/><Relationship Id="rId3" Type="http://schemas.openxmlformats.org/officeDocument/2006/relationships/hyperlink" Target="file:///&#20108;&#27425;&#20989;&#25968;y=x2.gsp" TargetMode="External"/><Relationship Id="rId4" Type="http://schemas.openxmlformats.org/officeDocument/2006/relationships/hyperlink" Target="file:///&#20108;&#27425;&#20989;&#25968;y=x2.gsp" TargetMode="External"/><Relationship Id="rId5" Type="http://schemas.openxmlformats.org/officeDocument/2006/relationships/hyperlink" Target="file:///&#20108;&#27425;&#20989;&#25968;y=x2.gsp" TargetMode="External"/><Relationship Id="rId6" Type="http://schemas.openxmlformats.org/officeDocument/2006/relationships/hyperlink" Target="file:///&#20108;&#27425;&#20989;&#25968;y=x2.gsp" TargetMode="External"/><Relationship Id="rId7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file:///26.2.1&#20108;&#27425;&#20989;&#25968;.gsp" TargetMode="External"/><Relationship Id="rId3" Type="http://schemas.openxmlformats.org/officeDocument/2006/relationships/hyperlink" Target="file:///26.2.1&#20108;&#27425;&#20989;&#25968;.gsp" TargetMode="External"/><Relationship Id="rId4" Type="http://schemas.openxmlformats.org/officeDocument/2006/relationships/hyperlink" Target="file:///26.2.1&#20108;&#27425;&#20989;&#25968;.gsp" TargetMode="External"/><Relationship Id="rId5" Type="http://schemas.openxmlformats.org/officeDocument/2006/relationships/hyperlink" Target="file:///26.2.1&#20108;&#27425;&#20989;&#25968;.gsp" TargetMode="External"/><Relationship Id="rId6" Type="http://schemas.openxmlformats.org/officeDocument/2006/relationships/hyperlink" Target="file:///26.2.1&#20108;&#27425;&#20989;&#25968;.gsp" TargetMode="External"/><Relationship Id="rId7" Type="http://schemas.openxmlformats.org/officeDocument/2006/relationships/hyperlink" Target="file://10.12.177.108/&#20108;&#27425;&#20989;&#25968;/26.2.1&#20108;&#27425;&#20989;&#25968;.gsp" TargetMode="External"/><Relationship Id="rId8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826920" y="836640"/>
            <a:ext cx="7632720" cy="180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27.2.1 </a:t>
            </a:r>
            <a:r>
              <a:rPr b="1" lang="zh-CN" sz="5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二次函数的图象与性质</a:t>
            </a:r>
            <a:r>
              <a:rPr b="1" lang="en-US" sz="5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(</a:t>
            </a:r>
            <a:r>
              <a:rPr b="1" lang="zh-CN" sz="5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一</a:t>
            </a:r>
            <a:r>
              <a:rPr b="1" lang="en-US" sz="5400" spc="1" strike="noStrike">
                <a:ln w="0">
                  <a:noFill/>
                </a:ln>
                <a:solidFill>
                  <a:srgbClr val="ff00ff"/>
                </a:solidFill>
                <a:effectLst>
                  <a:outerShdw dist="53966" dir="2700000" blurRad="0" rotWithShape="0">
                    <a:srgbClr val="c0c0c0">
                      <a:alpha val="80000"/>
                    </a:srgbClr>
                  </a:outerShdw>
                </a:effectLst>
                <a:latin typeface="宋体"/>
              </a:rPr>
              <a:t>)</a:t>
            </a:r>
            <a:endParaRPr b="1" lang="en-US" sz="5400" spc="1" strike="noStrike">
              <a:ln w="0">
                <a:noFill/>
              </a:ln>
              <a:solidFill>
                <a:srgbClr val="ff00ff"/>
              </a:solidFill>
              <a:effectLst>
                <a:outerShdw dist="53966" dir="2700000" blurRad="0" rotWithShape="0">
                  <a:srgbClr val="c0c0c0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2" name=""/>
              <p:cNvSpPr txBox="1"/>
              <p:nvPr/>
            </p:nvSpPr>
            <p:spPr>
              <a:xfrm>
                <a:off x="1395360" y="2997360"/>
                <a:ext cx="6129360" cy="976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y</m:t>
                    </m:r>
                    <m:r>
                      <m:t xml:space="preserve">=</m:t>
                    </m:r>
                    <m:sSup>
                      <m:e>
                        <m:r>
                          <m:rPr>
                            <m:lit/>
                            <m:nor/>
                          </m:rPr>
                          <m:t xml:space="preserve">ax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rPr>
                        <m:lit/>
                        <m:nor/>
                      </m:rPr>
                      <m:t xml:space="preserve">的图象与性质</m:t>
                    </m:r>
                  </m:oMath>
                </a14:m>
              </a:p>
            </p:txBody>
          </p:sp>
        </mc:Choice>
        <mc:Fallback/>
      </mc:AlternateContent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504720" y="1187280"/>
            <a:ext cx="6691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993366"/>
                </a:solidFill>
                <a:latin typeface="黑体"/>
                <a:ea typeface="黑体"/>
              </a:rPr>
              <a:t>探究</a:t>
            </a:r>
            <a:r>
              <a:rPr b="1" lang="zh-CN" sz="2400" spc="-1" strike="noStrike">
                <a:solidFill>
                  <a:srgbClr val="993366"/>
                </a:solidFill>
                <a:latin typeface="黑体"/>
                <a:ea typeface="黑体"/>
              </a:rPr>
              <a:t>4</a:t>
            </a:r>
            <a:r>
              <a:rPr b="1" lang="zh-CN" sz="2400" spc="-1" strike="noStrike">
                <a:solidFill>
                  <a:srgbClr val="993366"/>
                </a:solidFill>
                <a:latin typeface="黑体"/>
                <a:ea typeface="黑体"/>
              </a:rPr>
              <a:t>、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观察图形，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随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黑体"/>
                <a:ea typeface="黑体"/>
              </a:rPr>
              <a:t>的变化如何变化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017800" y="4356000"/>
            <a:ext cx="2438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050"/>
                </a:solidFill>
                <a:latin typeface="Times New Roman"/>
                <a:ea typeface="隶书"/>
              </a:rPr>
              <a:t>y=-2x</a:t>
            </a:r>
            <a:r>
              <a:rPr b="1" lang="en-US" sz="2800" spc="-1" strike="noStrike" baseline="30000">
                <a:solidFill>
                  <a:srgbClr val="ff5050"/>
                </a:solidFill>
                <a:latin typeface="Times New Roman"/>
                <a:ea typeface="隶书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3025800" y="3274920"/>
            <a:ext cx="762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33440" y="3443400"/>
            <a:ext cx="2663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8818560" y="5824440"/>
            <a:ext cx="1440" cy="5256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5760" bIns="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1" name=""/>
          <p:cNvGrpSpPr/>
          <p:nvPr/>
        </p:nvGrpSpPr>
        <p:grpSpPr>
          <a:xfrm>
            <a:off x="577800" y="2122560"/>
            <a:ext cx="2269800" cy="2624040"/>
            <a:chOff x="577800" y="2122560"/>
            <a:chExt cx="2269800" cy="2624040"/>
          </a:xfrm>
        </p:grpSpPr>
        <p:sp>
          <p:nvSpPr>
            <p:cNvPr id="232" name=""/>
            <p:cNvSpPr/>
            <p:nvPr/>
          </p:nvSpPr>
          <p:spPr>
            <a:xfrm flipH="1">
              <a:off x="1520640" y="2198880"/>
              <a:ext cx="61920" cy="250776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558800" y="230832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1503360" y="228600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8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1558800" y="2449440"/>
              <a:ext cx="601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1558800" y="259416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1503360" y="257004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6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1558800" y="273852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1558800" y="288288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1503360" y="285912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4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1558800" y="3027240"/>
              <a:ext cx="601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1626840" y="3189240"/>
              <a:ext cx="6048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1503360" y="314496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2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1558800" y="331164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1558800" y="345600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1558800" y="3600360"/>
              <a:ext cx="601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1558800" y="374508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1484640" y="372096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-2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1558800" y="388476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1558800" y="402912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1484640" y="400680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-4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1558800" y="4173480"/>
              <a:ext cx="601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1558800" y="4317840"/>
              <a:ext cx="601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1492560" y="428292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-6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1558800" y="4462560"/>
              <a:ext cx="60120" cy="144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1558800" y="4603680"/>
              <a:ext cx="60120" cy="180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1492560" y="4572000"/>
              <a:ext cx="3420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-8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577800" y="3440160"/>
              <a:ext cx="144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831600" y="3440160"/>
              <a:ext cx="144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079280" y="3440160"/>
              <a:ext cx="144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1331640" y="3440160"/>
              <a:ext cx="180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1585800" y="3440160"/>
              <a:ext cx="144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839600" y="3440160"/>
              <a:ext cx="180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2091960" y="3440160"/>
              <a:ext cx="180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2339640" y="3440160"/>
              <a:ext cx="180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2592000" y="3440160"/>
              <a:ext cx="180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2846160" y="3440160"/>
              <a:ext cx="1440" cy="34920"/>
            </a:xfrm>
            <a:prstGeom prst="line">
              <a:avLst/>
            </a:prstGeom>
            <a:ln w="6480">
              <a:solidFill>
                <a:srgbClr val="000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2824200" y="3483000"/>
              <a:ext cx="21960" cy="46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00" spc="-1" strike="noStrike">
                  <a:solidFill>
                    <a:srgbClr val="000080"/>
                  </a:solidFill>
                  <a:latin typeface=""/>
                </a:rPr>
                <a:t>5</a:t>
              </a:r>
              <a:endParaRPr b="0" lang="en-US" sz="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004760" y="3462480"/>
              <a:ext cx="1066680" cy="1284120"/>
            </a:xfrm>
            <a:custGeom>
              <a:avLst/>
              <a:gdLst/>
              <a:ahLst/>
              <a:rect l="l" t="t" r="r" b="b"/>
              <a:pathLst>
                <a:path w="672" h="809">
                  <a:moveTo>
                    <a:pt x="0" y="804"/>
                  </a:moveTo>
                  <a:lnTo>
                    <a:pt x="4" y="797"/>
                  </a:lnTo>
                  <a:lnTo>
                    <a:pt x="4" y="790"/>
                  </a:lnTo>
                  <a:lnTo>
                    <a:pt x="4" y="782"/>
                  </a:lnTo>
                  <a:lnTo>
                    <a:pt x="8" y="773"/>
                  </a:lnTo>
                  <a:lnTo>
                    <a:pt x="8" y="766"/>
                  </a:lnTo>
                  <a:lnTo>
                    <a:pt x="12" y="759"/>
                  </a:lnTo>
                  <a:lnTo>
                    <a:pt x="12" y="751"/>
                  </a:lnTo>
                  <a:lnTo>
                    <a:pt x="12" y="744"/>
                  </a:lnTo>
                  <a:lnTo>
                    <a:pt x="17" y="737"/>
                  </a:lnTo>
                  <a:lnTo>
                    <a:pt x="17" y="727"/>
                  </a:lnTo>
                  <a:lnTo>
                    <a:pt x="21" y="720"/>
                  </a:lnTo>
                  <a:lnTo>
                    <a:pt x="21" y="713"/>
                  </a:lnTo>
                  <a:lnTo>
                    <a:pt x="21" y="706"/>
                  </a:lnTo>
                  <a:lnTo>
                    <a:pt x="25" y="699"/>
                  </a:lnTo>
                  <a:lnTo>
                    <a:pt x="25" y="692"/>
                  </a:lnTo>
                  <a:lnTo>
                    <a:pt x="25" y="684"/>
                  </a:lnTo>
                  <a:lnTo>
                    <a:pt x="29" y="677"/>
                  </a:lnTo>
                  <a:lnTo>
                    <a:pt x="29" y="670"/>
                  </a:lnTo>
                  <a:lnTo>
                    <a:pt x="33" y="663"/>
                  </a:lnTo>
                  <a:lnTo>
                    <a:pt x="33" y="656"/>
                  </a:lnTo>
                  <a:lnTo>
                    <a:pt x="33" y="648"/>
                  </a:lnTo>
                  <a:lnTo>
                    <a:pt x="38" y="641"/>
                  </a:lnTo>
                  <a:lnTo>
                    <a:pt x="38" y="634"/>
                  </a:lnTo>
                  <a:lnTo>
                    <a:pt x="42" y="627"/>
                  </a:lnTo>
                  <a:lnTo>
                    <a:pt x="42" y="620"/>
                  </a:lnTo>
                  <a:lnTo>
                    <a:pt x="42" y="615"/>
                  </a:lnTo>
                  <a:lnTo>
                    <a:pt x="46" y="608"/>
                  </a:lnTo>
                  <a:lnTo>
                    <a:pt x="46" y="601"/>
                  </a:lnTo>
                  <a:lnTo>
                    <a:pt x="50" y="593"/>
                  </a:lnTo>
                  <a:lnTo>
                    <a:pt x="50" y="586"/>
                  </a:lnTo>
                  <a:lnTo>
                    <a:pt x="50" y="579"/>
                  </a:lnTo>
                  <a:lnTo>
                    <a:pt x="54" y="574"/>
                  </a:lnTo>
                  <a:lnTo>
                    <a:pt x="54" y="567"/>
                  </a:lnTo>
                  <a:lnTo>
                    <a:pt x="54" y="560"/>
                  </a:lnTo>
                  <a:lnTo>
                    <a:pt x="59" y="553"/>
                  </a:lnTo>
                  <a:lnTo>
                    <a:pt x="59" y="548"/>
                  </a:lnTo>
                  <a:lnTo>
                    <a:pt x="63" y="541"/>
                  </a:lnTo>
                  <a:lnTo>
                    <a:pt x="63" y="534"/>
                  </a:lnTo>
                  <a:lnTo>
                    <a:pt x="63" y="529"/>
                  </a:lnTo>
                  <a:lnTo>
                    <a:pt x="67" y="522"/>
                  </a:lnTo>
                  <a:lnTo>
                    <a:pt x="67" y="514"/>
                  </a:lnTo>
                  <a:lnTo>
                    <a:pt x="71" y="510"/>
                  </a:lnTo>
                  <a:lnTo>
                    <a:pt x="71" y="502"/>
                  </a:lnTo>
                  <a:lnTo>
                    <a:pt x="71" y="498"/>
                  </a:lnTo>
                  <a:lnTo>
                    <a:pt x="75" y="491"/>
                  </a:lnTo>
                  <a:lnTo>
                    <a:pt x="75" y="486"/>
                  </a:lnTo>
                  <a:lnTo>
                    <a:pt x="80" y="479"/>
                  </a:lnTo>
                  <a:lnTo>
                    <a:pt x="80" y="471"/>
                  </a:lnTo>
                  <a:lnTo>
                    <a:pt x="80" y="467"/>
                  </a:lnTo>
                  <a:lnTo>
                    <a:pt x="84" y="459"/>
                  </a:lnTo>
                  <a:lnTo>
                    <a:pt x="84" y="455"/>
                  </a:lnTo>
                  <a:lnTo>
                    <a:pt x="84" y="450"/>
                  </a:lnTo>
                  <a:lnTo>
                    <a:pt x="88" y="443"/>
                  </a:lnTo>
                  <a:lnTo>
                    <a:pt x="88" y="438"/>
                  </a:lnTo>
                  <a:lnTo>
                    <a:pt x="92" y="431"/>
                  </a:lnTo>
                  <a:lnTo>
                    <a:pt x="92" y="426"/>
                  </a:lnTo>
                  <a:lnTo>
                    <a:pt x="92" y="419"/>
                  </a:lnTo>
                  <a:lnTo>
                    <a:pt x="96" y="414"/>
                  </a:lnTo>
                  <a:lnTo>
                    <a:pt x="96" y="409"/>
                  </a:lnTo>
                  <a:lnTo>
                    <a:pt x="101" y="402"/>
                  </a:lnTo>
                  <a:lnTo>
                    <a:pt x="101" y="397"/>
                  </a:lnTo>
                  <a:lnTo>
                    <a:pt x="101" y="392"/>
                  </a:lnTo>
                  <a:lnTo>
                    <a:pt x="105" y="388"/>
                  </a:lnTo>
                  <a:lnTo>
                    <a:pt x="105" y="380"/>
                  </a:lnTo>
                  <a:lnTo>
                    <a:pt x="109" y="376"/>
                  </a:lnTo>
                  <a:lnTo>
                    <a:pt x="109" y="371"/>
                  </a:lnTo>
                  <a:lnTo>
                    <a:pt x="109" y="366"/>
                  </a:lnTo>
                  <a:lnTo>
                    <a:pt x="113" y="359"/>
                  </a:lnTo>
                  <a:lnTo>
                    <a:pt x="113" y="354"/>
                  </a:lnTo>
                  <a:lnTo>
                    <a:pt x="113" y="349"/>
                  </a:lnTo>
                  <a:lnTo>
                    <a:pt x="117" y="345"/>
                  </a:lnTo>
                  <a:lnTo>
                    <a:pt x="117" y="340"/>
                  </a:lnTo>
                  <a:lnTo>
                    <a:pt x="122" y="335"/>
                  </a:lnTo>
                  <a:lnTo>
                    <a:pt x="122" y="330"/>
                  </a:lnTo>
                  <a:lnTo>
                    <a:pt x="122" y="323"/>
                  </a:lnTo>
                  <a:lnTo>
                    <a:pt x="126" y="318"/>
                  </a:lnTo>
                  <a:lnTo>
                    <a:pt x="126" y="313"/>
                  </a:lnTo>
                  <a:lnTo>
                    <a:pt x="130" y="309"/>
                  </a:lnTo>
                  <a:lnTo>
                    <a:pt x="130" y="304"/>
                  </a:lnTo>
                  <a:lnTo>
                    <a:pt x="130" y="299"/>
                  </a:lnTo>
                  <a:lnTo>
                    <a:pt x="134" y="294"/>
                  </a:lnTo>
                  <a:lnTo>
                    <a:pt x="134" y="290"/>
                  </a:lnTo>
                  <a:lnTo>
                    <a:pt x="138" y="285"/>
                  </a:lnTo>
                  <a:lnTo>
                    <a:pt x="138" y="280"/>
                  </a:lnTo>
                  <a:lnTo>
                    <a:pt x="138" y="275"/>
                  </a:lnTo>
                  <a:lnTo>
                    <a:pt x="143" y="273"/>
                  </a:lnTo>
                  <a:lnTo>
                    <a:pt x="143" y="268"/>
                  </a:lnTo>
                  <a:lnTo>
                    <a:pt x="143" y="263"/>
                  </a:lnTo>
                  <a:lnTo>
                    <a:pt x="147" y="258"/>
                  </a:lnTo>
                  <a:lnTo>
                    <a:pt x="147" y="254"/>
                  </a:lnTo>
                  <a:lnTo>
                    <a:pt x="151" y="249"/>
                  </a:lnTo>
                  <a:lnTo>
                    <a:pt x="151" y="244"/>
                  </a:lnTo>
                  <a:lnTo>
                    <a:pt x="151" y="242"/>
                  </a:lnTo>
                  <a:lnTo>
                    <a:pt x="155" y="237"/>
                  </a:lnTo>
                  <a:lnTo>
                    <a:pt x="155" y="232"/>
                  </a:lnTo>
                  <a:lnTo>
                    <a:pt x="159" y="227"/>
                  </a:lnTo>
                  <a:lnTo>
                    <a:pt x="159" y="225"/>
                  </a:lnTo>
                  <a:lnTo>
                    <a:pt x="159" y="220"/>
                  </a:lnTo>
                  <a:lnTo>
                    <a:pt x="164" y="215"/>
                  </a:lnTo>
                  <a:lnTo>
                    <a:pt x="164" y="211"/>
                  </a:lnTo>
                  <a:lnTo>
                    <a:pt x="168" y="208"/>
                  </a:lnTo>
                  <a:lnTo>
                    <a:pt x="168" y="203"/>
                  </a:lnTo>
                  <a:lnTo>
                    <a:pt x="168" y="199"/>
                  </a:lnTo>
                  <a:lnTo>
                    <a:pt x="172" y="196"/>
                  </a:lnTo>
                  <a:lnTo>
                    <a:pt x="172" y="191"/>
                  </a:lnTo>
                  <a:lnTo>
                    <a:pt x="172" y="189"/>
                  </a:lnTo>
                  <a:lnTo>
                    <a:pt x="176" y="184"/>
                  </a:lnTo>
                  <a:lnTo>
                    <a:pt x="176" y="182"/>
                  </a:lnTo>
                  <a:lnTo>
                    <a:pt x="180" y="177"/>
                  </a:lnTo>
                  <a:lnTo>
                    <a:pt x="180" y="172"/>
                  </a:lnTo>
                  <a:lnTo>
                    <a:pt x="180" y="170"/>
                  </a:lnTo>
                  <a:lnTo>
                    <a:pt x="185" y="165"/>
                  </a:lnTo>
                  <a:lnTo>
                    <a:pt x="185" y="163"/>
                  </a:lnTo>
                  <a:lnTo>
                    <a:pt x="189" y="158"/>
                  </a:lnTo>
                  <a:lnTo>
                    <a:pt x="189" y="156"/>
                  </a:lnTo>
                  <a:lnTo>
                    <a:pt x="189" y="153"/>
                  </a:lnTo>
                  <a:lnTo>
                    <a:pt x="193" y="148"/>
                  </a:lnTo>
                  <a:lnTo>
                    <a:pt x="193" y="146"/>
                  </a:lnTo>
                  <a:lnTo>
                    <a:pt x="197" y="141"/>
                  </a:lnTo>
                  <a:lnTo>
                    <a:pt x="197" y="139"/>
                  </a:lnTo>
                  <a:lnTo>
                    <a:pt x="197" y="136"/>
                  </a:lnTo>
                  <a:lnTo>
                    <a:pt x="201" y="132"/>
                  </a:lnTo>
                  <a:lnTo>
                    <a:pt x="201" y="129"/>
                  </a:lnTo>
                  <a:lnTo>
                    <a:pt x="201" y="127"/>
                  </a:lnTo>
                  <a:lnTo>
                    <a:pt x="206" y="122"/>
                  </a:lnTo>
                  <a:lnTo>
                    <a:pt x="206" y="120"/>
                  </a:lnTo>
                  <a:lnTo>
                    <a:pt x="210" y="117"/>
                  </a:lnTo>
                  <a:lnTo>
                    <a:pt x="210" y="115"/>
                  </a:lnTo>
                  <a:lnTo>
                    <a:pt x="210" y="110"/>
                  </a:lnTo>
                  <a:lnTo>
                    <a:pt x="214" y="108"/>
                  </a:lnTo>
                  <a:lnTo>
                    <a:pt x="214" y="105"/>
                  </a:lnTo>
                  <a:lnTo>
                    <a:pt x="218" y="103"/>
                  </a:lnTo>
                  <a:lnTo>
                    <a:pt x="218" y="100"/>
                  </a:lnTo>
                  <a:lnTo>
                    <a:pt x="218" y="98"/>
                  </a:lnTo>
                  <a:lnTo>
                    <a:pt x="222" y="93"/>
                  </a:lnTo>
                  <a:lnTo>
                    <a:pt x="222" y="91"/>
                  </a:lnTo>
                  <a:lnTo>
                    <a:pt x="222" y="89"/>
                  </a:lnTo>
                  <a:lnTo>
                    <a:pt x="227" y="86"/>
                  </a:lnTo>
                  <a:lnTo>
                    <a:pt x="227" y="84"/>
                  </a:lnTo>
                  <a:lnTo>
                    <a:pt x="231" y="81"/>
                  </a:lnTo>
                  <a:lnTo>
                    <a:pt x="231" y="79"/>
                  </a:lnTo>
                  <a:lnTo>
                    <a:pt x="231" y="77"/>
                  </a:lnTo>
                  <a:lnTo>
                    <a:pt x="235" y="74"/>
                  </a:lnTo>
                  <a:lnTo>
                    <a:pt x="235" y="72"/>
                  </a:lnTo>
                  <a:lnTo>
                    <a:pt x="239" y="69"/>
                  </a:lnTo>
                  <a:lnTo>
                    <a:pt x="239" y="67"/>
                  </a:lnTo>
                  <a:lnTo>
                    <a:pt x="239" y="65"/>
                  </a:lnTo>
                  <a:lnTo>
                    <a:pt x="243" y="62"/>
                  </a:lnTo>
                  <a:lnTo>
                    <a:pt x="243" y="60"/>
                  </a:lnTo>
                  <a:lnTo>
                    <a:pt x="248" y="57"/>
                  </a:lnTo>
                  <a:lnTo>
                    <a:pt x="248" y="55"/>
                  </a:lnTo>
                  <a:lnTo>
                    <a:pt x="252" y="53"/>
                  </a:lnTo>
                  <a:lnTo>
                    <a:pt x="252" y="50"/>
                  </a:lnTo>
                  <a:lnTo>
                    <a:pt x="252" y="48"/>
                  </a:lnTo>
                  <a:lnTo>
                    <a:pt x="256" y="45"/>
                  </a:lnTo>
                  <a:lnTo>
                    <a:pt x="260" y="43"/>
                  </a:lnTo>
                  <a:lnTo>
                    <a:pt x="260" y="41"/>
                  </a:lnTo>
                  <a:lnTo>
                    <a:pt x="260" y="38"/>
                  </a:lnTo>
                  <a:lnTo>
                    <a:pt x="264" y="38"/>
                  </a:lnTo>
                  <a:lnTo>
                    <a:pt x="264" y="36"/>
                  </a:lnTo>
                  <a:lnTo>
                    <a:pt x="269" y="33"/>
                  </a:lnTo>
                  <a:lnTo>
                    <a:pt x="269" y="31"/>
                  </a:lnTo>
                  <a:lnTo>
                    <a:pt x="273" y="29"/>
                  </a:lnTo>
                  <a:lnTo>
                    <a:pt x="277" y="26"/>
                  </a:lnTo>
                  <a:lnTo>
                    <a:pt x="277" y="24"/>
                  </a:lnTo>
                  <a:lnTo>
                    <a:pt x="281" y="22"/>
                  </a:lnTo>
                  <a:lnTo>
                    <a:pt x="281" y="19"/>
                  </a:lnTo>
                  <a:lnTo>
                    <a:pt x="285" y="19"/>
                  </a:lnTo>
                  <a:lnTo>
                    <a:pt x="285" y="17"/>
                  </a:lnTo>
                  <a:lnTo>
                    <a:pt x="290" y="17"/>
                  </a:lnTo>
                  <a:lnTo>
                    <a:pt x="290" y="14"/>
                  </a:lnTo>
                  <a:lnTo>
                    <a:pt x="294" y="12"/>
                  </a:lnTo>
                  <a:lnTo>
                    <a:pt x="298" y="12"/>
                  </a:lnTo>
                  <a:lnTo>
                    <a:pt x="298" y="10"/>
                  </a:lnTo>
                  <a:lnTo>
                    <a:pt x="302" y="10"/>
                  </a:lnTo>
                  <a:lnTo>
                    <a:pt x="302" y="7"/>
                  </a:lnTo>
                  <a:lnTo>
                    <a:pt x="306" y="7"/>
                  </a:lnTo>
                  <a:lnTo>
                    <a:pt x="306" y="5"/>
                  </a:lnTo>
                  <a:lnTo>
                    <a:pt x="311" y="5"/>
                  </a:lnTo>
                  <a:lnTo>
                    <a:pt x="315" y="2"/>
                  </a:lnTo>
                  <a:lnTo>
                    <a:pt x="319" y="2"/>
                  </a:lnTo>
                  <a:lnTo>
                    <a:pt x="323" y="2"/>
                  </a:lnTo>
                  <a:lnTo>
                    <a:pt x="323" y="0"/>
                  </a:lnTo>
                  <a:lnTo>
                    <a:pt x="327" y="0"/>
                  </a:lnTo>
                  <a:lnTo>
                    <a:pt x="332" y="0"/>
                  </a:lnTo>
                  <a:lnTo>
                    <a:pt x="336" y="0"/>
                  </a:lnTo>
                  <a:lnTo>
                    <a:pt x="340" y="0"/>
                  </a:lnTo>
                  <a:lnTo>
                    <a:pt x="344" y="0"/>
                  </a:lnTo>
                  <a:lnTo>
                    <a:pt x="349" y="0"/>
                  </a:lnTo>
                  <a:lnTo>
                    <a:pt x="349" y="2"/>
                  </a:lnTo>
                  <a:lnTo>
                    <a:pt x="353" y="2"/>
                  </a:lnTo>
                  <a:lnTo>
                    <a:pt x="357" y="2"/>
                  </a:lnTo>
                  <a:lnTo>
                    <a:pt x="357" y="5"/>
                  </a:lnTo>
                  <a:lnTo>
                    <a:pt x="361" y="5"/>
                  </a:lnTo>
                  <a:lnTo>
                    <a:pt x="365" y="5"/>
                  </a:lnTo>
                  <a:lnTo>
                    <a:pt x="365" y="7"/>
                  </a:lnTo>
                  <a:lnTo>
                    <a:pt x="370" y="7"/>
                  </a:lnTo>
                  <a:lnTo>
                    <a:pt x="370" y="10"/>
                  </a:lnTo>
                  <a:lnTo>
                    <a:pt x="374" y="10"/>
                  </a:lnTo>
                  <a:lnTo>
                    <a:pt x="374" y="12"/>
                  </a:lnTo>
                  <a:lnTo>
                    <a:pt x="378" y="12"/>
                  </a:lnTo>
                  <a:lnTo>
                    <a:pt x="378" y="14"/>
                  </a:lnTo>
                  <a:lnTo>
                    <a:pt x="382" y="14"/>
                  </a:lnTo>
                  <a:lnTo>
                    <a:pt x="382" y="17"/>
                  </a:lnTo>
                  <a:lnTo>
                    <a:pt x="386" y="17"/>
                  </a:lnTo>
                  <a:lnTo>
                    <a:pt x="386" y="19"/>
                  </a:lnTo>
                  <a:lnTo>
                    <a:pt x="391" y="22"/>
                  </a:lnTo>
                  <a:lnTo>
                    <a:pt x="395" y="24"/>
                  </a:lnTo>
                  <a:lnTo>
                    <a:pt x="395" y="26"/>
                  </a:lnTo>
                  <a:lnTo>
                    <a:pt x="399" y="26"/>
                  </a:lnTo>
                  <a:lnTo>
                    <a:pt x="399" y="29"/>
                  </a:lnTo>
                  <a:lnTo>
                    <a:pt x="399" y="31"/>
                  </a:lnTo>
                  <a:lnTo>
                    <a:pt x="403" y="31"/>
                  </a:lnTo>
                  <a:lnTo>
                    <a:pt x="403" y="33"/>
                  </a:lnTo>
                  <a:lnTo>
                    <a:pt x="407" y="36"/>
                  </a:lnTo>
                  <a:lnTo>
                    <a:pt x="407" y="38"/>
                  </a:lnTo>
                  <a:lnTo>
                    <a:pt x="412" y="41"/>
                  </a:lnTo>
                  <a:lnTo>
                    <a:pt x="416" y="43"/>
                  </a:lnTo>
                  <a:lnTo>
                    <a:pt x="416" y="45"/>
                  </a:lnTo>
                  <a:lnTo>
                    <a:pt x="416" y="48"/>
                  </a:lnTo>
                  <a:lnTo>
                    <a:pt x="420" y="50"/>
                  </a:lnTo>
                  <a:lnTo>
                    <a:pt x="424" y="53"/>
                  </a:lnTo>
                  <a:lnTo>
                    <a:pt x="424" y="55"/>
                  </a:lnTo>
                  <a:lnTo>
                    <a:pt x="424" y="57"/>
                  </a:lnTo>
                  <a:lnTo>
                    <a:pt x="428" y="60"/>
                  </a:lnTo>
                  <a:lnTo>
                    <a:pt x="428" y="62"/>
                  </a:lnTo>
                  <a:lnTo>
                    <a:pt x="428" y="65"/>
                  </a:lnTo>
                  <a:lnTo>
                    <a:pt x="433" y="67"/>
                  </a:lnTo>
                  <a:lnTo>
                    <a:pt x="433" y="69"/>
                  </a:lnTo>
                  <a:lnTo>
                    <a:pt x="437" y="72"/>
                  </a:lnTo>
                  <a:lnTo>
                    <a:pt x="437" y="74"/>
                  </a:lnTo>
                  <a:lnTo>
                    <a:pt x="441" y="79"/>
                  </a:lnTo>
                  <a:lnTo>
                    <a:pt x="441" y="81"/>
                  </a:lnTo>
                  <a:lnTo>
                    <a:pt x="445" y="84"/>
                  </a:lnTo>
                  <a:lnTo>
                    <a:pt x="445" y="86"/>
                  </a:lnTo>
                  <a:lnTo>
                    <a:pt x="445" y="89"/>
                  </a:lnTo>
                  <a:lnTo>
                    <a:pt x="449" y="91"/>
                  </a:lnTo>
                  <a:lnTo>
                    <a:pt x="449" y="93"/>
                  </a:lnTo>
                  <a:lnTo>
                    <a:pt x="454" y="96"/>
                  </a:lnTo>
                  <a:lnTo>
                    <a:pt x="454" y="98"/>
                  </a:lnTo>
                  <a:lnTo>
                    <a:pt x="454" y="100"/>
                  </a:lnTo>
                  <a:lnTo>
                    <a:pt x="458" y="103"/>
                  </a:lnTo>
                  <a:lnTo>
                    <a:pt x="458" y="108"/>
                  </a:lnTo>
                  <a:lnTo>
                    <a:pt x="458" y="110"/>
                  </a:lnTo>
                  <a:lnTo>
                    <a:pt x="462" y="112"/>
                  </a:lnTo>
                  <a:lnTo>
                    <a:pt x="462" y="115"/>
                  </a:lnTo>
                  <a:lnTo>
                    <a:pt x="466" y="120"/>
                  </a:lnTo>
                  <a:lnTo>
                    <a:pt x="466" y="122"/>
                  </a:lnTo>
                  <a:lnTo>
                    <a:pt x="466" y="124"/>
                  </a:lnTo>
                  <a:lnTo>
                    <a:pt x="470" y="127"/>
                  </a:lnTo>
                  <a:lnTo>
                    <a:pt x="470" y="132"/>
                  </a:lnTo>
                  <a:lnTo>
                    <a:pt x="475" y="134"/>
                  </a:lnTo>
                  <a:lnTo>
                    <a:pt x="475" y="136"/>
                  </a:lnTo>
                  <a:lnTo>
                    <a:pt x="475" y="141"/>
                  </a:lnTo>
                  <a:lnTo>
                    <a:pt x="479" y="144"/>
                  </a:lnTo>
                  <a:lnTo>
                    <a:pt x="479" y="148"/>
                  </a:lnTo>
                  <a:lnTo>
                    <a:pt x="479" y="151"/>
                  </a:lnTo>
                  <a:lnTo>
                    <a:pt x="483" y="153"/>
                  </a:lnTo>
                  <a:lnTo>
                    <a:pt x="483" y="158"/>
                  </a:lnTo>
                  <a:lnTo>
                    <a:pt x="487" y="160"/>
                  </a:lnTo>
                  <a:lnTo>
                    <a:pt x="487" y="165"/>
                  </a:lnTo>
                  <a:lnTo>
                    <a:pt x="487" y="167"/>
                  </a:lnTo>
                  <a:lnTo>
                    <a:pt x="491" y="172"/>
                  </a:lnTo>
                  <a:lnTo>
                    <a:pt x="491" y="175"/>
                  </a:lnTo>
                  <a:lnTo>
                    <a:pt x="496" y="179"/>
                  </a:lnTo>
                  <a:lnTo>
                    <a:pt x="496" y="182"/>
                  </a:lnTo>
                  <a:lnTo>
                    <a:pt x="496" y="187"/>
                  </a:lnTo>
                  <a:lnTo>
                    <a:pt x="500" y="191"/>
                  </a:lnTo>
                  <a:lnTo>
                    <a:pt x="500" y="194"/>
                  </a:lnTo>
                  <a:lnTo>
                    <a:pt x="504" y="199"/>
                  </a:lnTo>
                  <a:lnTo>
                    <a:pt x="504" y="201"/>
                  </a:lnTo>
                  <a:lnTo>
                    <a:pt x="504" y="206"/>
                  </a:lnTo>
                  <a:lnTo>
                    <a:pt x="508" y="211"/>
                  </a:lnTo>
                  <a:lnTo>
                    <a:pt x="508" y="213"/>
                  </a:lnTo>
                  <a:lnTo>
                    <a:pt x="508" y="218"/>
                  </a:lnTo>
                  <a:lnTo>
                    <a:pt x="512" y="223"/>
                  </a:lnTo>
                  <a:lnTo>
                    <a:pt x="512" y="227"/>
                  </a:lnTo>
                  <a:lnTo>
                    <a:pt x="517" y="230"/>
                  </a:lnTo>
                  <a:lnTo>
                    <a:pt x="517" y="234"/>
                  </a:lnTo>
                  <a:lnTo>
                    <a:pt x="517" y="239"/>
                  </a:lnTo>
                  <a:lnTo>
                    <a:pt x="521" y="244"/>
                  </a:lnTo>
                  <a:lnTo>
                    <a:pt x="521" y="246"/>
                  </a:lnTo>
                  <a:lnTo>
                    <a:pt x="525" y="251"/>
                  </a:lnTo>
                  <a:lnTo>
                    <a:pt x="525" y="256"/>
                  </a:lnTo>
                  <a:lnTo>
                    <a:pt x="525" y="261"/>
                  </a:lnTo>
                  <a:lnTo>
                    <a:pt x="529" y="266"/>
                  </a:lnTo>
                  <a:lnTo>
                    <a:pt x="529" y="270"/>
                  </a:lnTo>
                  <a:lnTo>
                    <a:pt x="533" y="275"/>
                  </a:lnTo>
                  <a:lnTo>
                    <a:pt x="533" y="280"/>
                  </a:lnTo>
                  <a:lnTo>
                    <a:pt x="533" y="282"/>
                  </a:lnTo>
                  <a:lnTo>
                    <a:pt x="538" y="287"/>
                  </a:lnTo>
                  <a:lnTo>
                    <a:pt x="538" y="292"/>
                  </a:lnTo>
                  <a:lnTo>
                    <a:pt x="538" y="297"/>
                  </a:lnTo>
                  <a:lnTo>
                    <a:pt x="542" y="301"/>
                  </a:lnTo>
                  <a:lnTo>
                    <a:pt x="542" y="306"/>
                  </a:lnTo>
                  <a:lnTo>
                    <a:pt x="546" y="311"/>
                  </a:lnTo>
                  <a:lnTo>
                    <a:pt x="546" y="318"/>
                  </a:lnTo>
                  <a:lnTo>
                    <a:pt x="546" y="323"/>
                  </a:lnTo>
                  <a:lnTo>
                    <a:pt x="550" y="328"/>
                  </a:lnTo>
                  <a:lnTo>
                    <a:pt x="550" y="333"/>
                  </a:lnTo>
                  <a:lnTo>
                    <a:pt x="554" y="337"/>
                  </a:lnTo>
                  <a:lnTo>
                    <a:pt x="554" y="342"/>
                  </a:lnTo>
                  <a:lnTo>
                    <a:pt x="554" y="347"/>
                  </a:lnTo>
                  <a:lnTo>
                    <a:pt x="559" y="352"/>
                  </a:lnTo>
                  <a:lnTo>
                    <a:pt x="559" y="357"/>
                  </a:lnTo>
                  <a:lnTo>
                    <a:pt x="563" y="364"/>
                  </a:lnTo>
                  <a:lnTo>
                    <a:pt x="563" y="368"/>
                  </a:lnTo>
                  <a:lnTo>
                    <a:pt x="563" y="373"/>
                  </a:lnTo>
                  <a:lnTo>
                    <a:pt x="567" y="378"/>
                  </a:lnTo>
                  <a:lnTo>
                    <a:pt x="567" y="385"/>
                  </a:lnTo>
                  <a:lnTo>
                    <a:pt x="567" y="390"/>
                  </a:lnTo>
                  <a:lnTo>
                    <a:pt x="571" y="395"/>
                  </a:lnTo>
                  <a:lnTo>
                    <a:pt x="571" y="400"/>
                  </a:lnTo>
                  <a:lnTo>
                    <a:pt x="575" y="407"/>
                  </a:lnTo>
                  <a:lnTo>
                    <a:pt x="575" y="412"/>
                  </a:lnTo>
                  <a:lnTo>
                    <a:pt x="575" y="416"/>
                  </a:lnTo>
                  <a:lnTo>
                    <a:pt x="580" y="424"/>
                  </a:lnTo>
                  <a:lnTo>
                    <a:pt x="580" y="428"/>
                  </a:lnTo>
                  <a:lnTo>
                    <a:pt x="584" y="435"/>
                  </a:lnTo>
                  <a:lnTo>
                    <a:pt x="584" y="440"/>
                  </a:lnTo>
                  <a:lnTo>
                    <a:pt x="584" y="445"/>
                  </a:lnTo>
                  <a:lnTo>
                    <a:pt x="588" y="452"/>
                  </a:lnTo>
                  <a:lnTo>
                    <a:pt x="588" y="457"/>
                  </a:lnTo>
                  <a:lnTo>
                    <a:pt x="592" y="464"/>
                  </a:lnTo>
                  <a:lnTo>
                    <a:pt x="592" y="469"/>
                  </a:lnTo>
                  <a:lnTo>
                    <a:pt x="592" y="476"/>
                  </a:lnTo>
                  <a:lnTo>
                    <a:pt x="596" y="481"/>
                  </a:lnTo>
                  <a:lnTo>
                    <a:pt x="596" y="488"/>
                  </a:lnTo>
                  <a:lnTo>
                    <a:pt x="596" y="495"/>
                  </a:lnTo>
                  <a:lnTo>
                    <a:pt x="601" y="500"/>
                  </a:lnTo>
                  <a:lnTo>
                    <a:pt x="601" y="507"/>
                  </a:lnTo>
                  <a:lnTo>
                    <a:pt x="605" y="512"/>
                  </a:lnTo>
                  <a:lnTo>
                    <a:pt x="605" y="519"/>
                  </a:lnTo>
                  <a:lnTo>
                    <a:pt x="605" y="526"/>
                  </a:lnTo>
                  <a:lnTo>
                    <a:pt x="609" y="531"/>
                  </a:lnTo>
                  <a:lnTo>
                    <a:pt x="609" y="538"/>
                  </a:lnTo>
                  <a:lnTo>
                    <a:pt x="613" y="546"/>
                  </a:lnTo>
                  <a:lnTo>
                    <a:pt x="613" y="550"/>
                  </a:lnTo>
                  <a:lnTo>
                    <a:pt x="613" y="558"/>
                  </a:lnTo>
                  <a:lnTo>
                    <a:pt x="617" y="565"/>
                  </a:lnTo>
                  <a:lnTo>
                    <a:pt x="617" y="572"/>
                  </a:lnTo>
                  <a:lnTo>
                    <a:pt x="622" y="577"/>
                  </a:lnTo>
                  <a:lnTo>
                    <a:pt x="622" y="584"/>
                  </a:lnTo>
                  <a:lnTo>
                    <a:pt x="622" y="591"/>
                  </a:lnTo>
                  <a:lnTo>
                    <a:pt x="626" y="598"/>
                  </a:lnTo>
                  <a:lnTo>
                    <a:pt x="626" y="605"/>
                  </a:lnTo>
                  <a:lnTo>
                    <a:pt x="626" y="610"/>
                  </a:lnTo>
                  <a:lnTo>
                    <a:pt x="630" y="617"/>
                  </a:lnTo>
                  <a:lnTo>
                    <a:pt x="630" y="625"/>
                  </a:lnTo>
                  <a:lnTo>
                    <a:pt x="634" y="632"/>
                  </a:lnTo>
                  <a:lnTo>
                    <a:pt x="634" y="639"/>
                  </a:lnTo>
                  <a:lnTo>
                    <a:pt x="634" y="646"/>
                  </a:lnTo>
                  <a:lnTo>
                    <a:pt x="638" y="653"/>
                  </a:lnTo>
                  <a:lnTo>
                    <a:pt x="638" y="660"/>
                  </a:lnTo>
                  <a:lnTo>
                    <a:pt x="643" y="668"/>
                  </a:lnTo>
                  <a:lnTo>
                    <a:pt x="643" y="675"/>
                  </a:lnTo>
                  <a:lnTo>
                    <a:pt x="643" y="682"/>
                  </a:lnTo>
                  <a:lnTo>
                    <a:pt x="647" y="689"/>
                  </a:lnTo>
                  <a:lnTo>
                    <a:pt x="647" y="696"/>
                  </a:lnTo>
                  <a:lnTo>
                    <a:pt x="651" y="703"/>
                  </a:lnTo>
                  <a:lnTo>
                    <a:pt x="651" y="711"/>
                  </a:lnTo>
                  <a:lnTo>
                    <a:pt x="651" y="718"/>
                  </a:lnTo>
                  <a:lnTo>
                    <a:pt x="655" y="725"/>
                  </a:lnTo>
                  <a:lnTo>
                    <a:pt x="655" y="732"/>
                  </a:lnTo>
                  <a:lnTo>
                    <a:pt x="655" y="739"/>
                  </a:lnTo>
                  <a:lnTo>
                    <a:pt x="659" y="749"/>
                  </a:lnTo>
                  <a:lnTo>
                    <a:pt x="659" y="756"/>
                  </a:lnTo>
                  <a:lnTo>
                    <a:pt x="664" y="763"/>
                  </a:lnTo>
                  <a:lnTo>
                    <a:pt x="664" y="770"/>
                  </a:lnTo>
                  <a:lnTo>
                    <a:pt x="664" y="778"/>
                  </a:lnTo>
                  <a:lnTo>
                    <a:pt x="668" y="787"/>
                  </a:lnTo>
                  <a:lnTo>
                    <a:pt x="668" y="794"/>
                  </a:lnTo>
                  <a:lnTo>
                    <a:pt x="672" y="802"/>
                  </a:lnTo>
                  <a:lnTo>
                    <a:pt x="672" y="809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571400" y="3448080"/>
              <a:ext cx="34920" cy="19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25560" y="3448080"/>
              <a:ext cx="33120" cy="19080"/>
            </a:xfrm>
            <a:prstGeom prst="ellipse">
              <a:avLst/>
            </a:prstGeom>
            <a:solidFill>
              <a:srgbClr val="ff0000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1703160" y="2122560"/>
              <a:ext cx="762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1493640" y="3419640"/>
              <a:ext cx="914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1104840" y="2266920"/>
              <a:ext cx="914400" cy="1143000"/>
            </a:xfrm>
            <a:custGeom>
              <a:avLst/>
              <a:gdLst/>
              <a:ahLst/>
              <a:rect l="l" t="t" r="r" b="b"/>
              <a:pathLst>
                <a:path w="960" h="1236">
                  <a:moveTo>
                    <a:pt x="0" y="8"/>
                  </a:moveTo>
                  <a:lnTo>
                    <a:pt x="6" y="19"/>
                  </a:lnTo>
                  <a:lnTo>
                    <a:pt x="6" y="30"/>
                  </a:lnTo>
                  <a:lnTo>
                    <a:pt x="6" y="41"/>
                  </a:lnTo>
                  <a:lnTo>
                    <a:pt x="12" y="55"/>
                  </a:lnTo>
                  <a:lnTo>
                    <a:pt x="12" y="66"/>
                  </a:lnTo>
                  <a:lnTo>
                    <a:pt x="18" y="77"/>
                  </a:lnTo>
                  <a:lnTo>
                    <a:pt x="18" y="88"/>
                  </a:lnTo>
                  <a:lnTo>
                    <a:pt x="18" y="99"/>
                  </a:lnTo>
                  <a:lnTo>
                    <a:pt x="24" y="110"/>
                  </a:lnTo>
                  <a:lnTo>
                    <a:pt x="24" y="125"/>
                  </a:lnTo>
                  <a:lnTo>
                    <a:pt x="30" y="136"/>
                  </a:lnTo>
                  <a:lnTo>
                    <a:pt x="30" y="147"/>
                  </a:lnTo>
                  <a:lnTo>
                    <a:pt x="30" y="158"/>
                  </a:lnTo>
                  <a:lnTo>
                    <a:pt x="36" y="169"/>
                  </a:lnTo>
                  <a:lnTo>
                    <a:pt x="36" y="180"/>
                  </a:lnTo>
                  <a:lnTo>
                    <a:pt x="36" y="191"/>
                  </a:lnTo>
                  <a:lnTo>
                    <a:pt x="42" y="201"/>
                  </a:lnTo>
                  <a:lnTo>
                    <a:pt x="42" y="212"/>
                  </a:lnTo>
                  <a:lnTo>
                    <a:pt x="48" y="223"/>
                  </a:lnTo>
                  <a:lnTo>
                    <a:pt x="48" y="234"/>
                  </a:lnTo>
                  <a:lnTo>
                    <a:pt x="48" y="245"/>
                  </a:lnTo>
                  <a:lnTo>
                    <a:pt x="54" y="256"/>
                  </a:lnTo>
                  <a:lnTo>
                    <a:pt x="54" y="267"/>
                  </a:lnTo>
                  <a:lnTo>
                    <a:pt x="60" y="278"/>
                  </a:lnTo>
                  <a:lnTo>
                    <a:pt x="60" y="289"/>
                  </a:lnTo>
                  <a:lnTo>
                    <a:pt x="60" y="297"/>
                  </a:lnTo>
                  <a:lnTo>
                    <a:pt x="66" y="307"/>
                  </a:lnTo>
                  <a:lnTo>
                    <a:pt x="66" y="318"/>
                  </a:lnTo>
                  <a:lnTo>
                    <a:pt x="72" y="329"/>
                  </a:lnTo>
                  <a:lnTo>
                    <a:pt x="72" y="340"/>
                  </a:lnTo>
                  <a:lnTo>
                    <a:pt x="72" y="351"/>
                  </a:lnTo>
                  <a:lnTo>
                    <a:pt x="78" y="359"/>
                  </a:lnTo>
                  <a:lnTo>
                    <a:pt x="78" y="370"/>
                  </a:lnTo>
                  <a:lnTo>
                    <a:pt x="78" y="381"/>
                  </a:lnTo>
                  <a:lnTo>
                    <a:pt x="84" y="392"/>
                  </a:lnTo>
                  <a:lnTo>
                    <a:pt x="84" y="399"/>
                  </a:lnTo>
                  <a:lnTo>
                    <a:pt x="90" y="410"/>
                  </a:lnTo>
                  <a:lnTo>
                    <a:pt x="90" y="421"/>
                  </a:lnTo>
                  <a:lnTo>
                    <a:pt x="90" y="428"/>
                  </a:lnTo>
                  <a:lnTo>
                    <a:pt x="96" y="439"/>
                  </a:lnTo>
                  <a:lnTo>
                    <a:pt x="96" y="450"/>
                  </a:lnTo>
                  <a:lnTo>
                    <a:pt x="102" y="457"/>
                  </a:lnTo>
                  <a:lnTo>
                    <a:pt x="102" y="468"/>
                  </a:lnTo>
                  <a:lnTo>
                    <a:pt x="102" y="476"/>
                  </a:lnTo>
                  <a:lnTo>
                    <a:pt x="108" y="487"/>
                  </a:lnTo>
                  <a:lnTo>
                    <a:pt x="108" y="494"/>
                  </a:lnTo>
                  <a:lnTo>
                    <a:pt x="114" y="505"/>
                  </a:lnTo>
                  <a:lnTo>
                    <a:pt x="114" y="516"/>
                  </a:lnTo>
                  <a:lnTo>
                    <a:pt x="114" y="523"/>
                  </a:lnTo>
                  <a:lnTo>
                    <a:pt x="120" y="534"/>
                  </a:lnTo>
                  <a:lnTo>
                    <a:pt x="120" y="541"/>
                  </a:lnTo>
                  <a:lnTo>
                    <a:pt x="120" y="549"/>
                  </a:lnTo>
                  <a:lnTo>
                    <a:pt x="126" y="560"/>
                  </a:lnTo>
                  <a:lnTo>
                    <a:pt x="126" y="567"/>
                  </a:lnTo>
                  <a:lnTo>
                    <a:pt x="132" y="578"/>
                  </a:lnTo>
                  <a:lnTo>
                    <a:pt x="132" y="585"/>
                  </a:lnTo>
                  <a:lnTo>
                    <a:pt x="132" y="596"/>
                  </a:lnTo>
                  <a:lnTo>
                    <a:pt x="138" y="604"/>
                  </a:lnTo>
                  <a:lnTo>
                    <a:pt x="138" y="611"/>
                  </a:lnTo>
                  <a:lnTo>
                    <a:pt x="144" y="622"/>
                  </a:lnTo>
                  <a:lnTo>
                    <a:pt x="144" y="629"/>
                  </a:lnTo>
                  <a:lnTo>
                    <a:pt x="144" y="636"/>
                  </a:lnTo>
                  <a:lnTo>
                    <a:pt x="150" y="644"/>
                  </a:lnTo>
                  <a:lnTo>
                    <a:pt x="150" y="655"/>
                  </a:lnTo>
                  <a:lnTo>
                    <a:pt x="156" y="662"/>
                  </a:lnTo>
                  <a:lnTo>
                    <a:pt x="156" y="669"/>
                  </a:lnTo>
                  <a:lnTo>
                    <a:pt x="156" y="677"/>
                  </a:lnTo>
                  <a:lnTo>
                    <a:pt x="162" y="688"/>
                  </a:lnTo>
                  <a:lnTo>
                    <a:pt x="162" y="695"/>
                  </a:lnTo>
                  <a:lnTo>
                    <a:pt x="162" y="702"/>
                  </a:lnTo>
                  <a:lnTo>
                    <a:pt x="168" y="710"/>
                  </a:lnTo>
                  <a:lnTo>
                    <a:pt x="168" y="717"/>
                  </a:lnTo>
                  <a:lnTo>
                    <a:pt x="174" y="724"/>
                  </a:lnTo>
                  <a:lnTo>
                    <a:pt x="174" y="732"/>
                  </a:lnTo>
                  <a:lnTo>
                    <a:pt x="174" y="742"/>
                  </a:lnTo>
                  <a:lnTo>
                    <a:pt x="180" y="750"/>
                  </a:lnTo>
                  <a:lnTo>
                    <a:pt x="180" y="757"/>
                  </a:lnTo>
                  <a:lnTo>
                    <a:pt x="186" y="764"/>
                  </a:lnTo>
                  <a:lnTo>
                    <a:pt x="186" y="772"/>
                  </a:lnTo>
                  <a:lnTo>
                    <a:pt x="186" y="779"/>
                  </a:lnTo>
                  <a:lnTo>
                    <a:pt x="192" y="786"/>
                  </a:lnTo>
                  <a:lnTo>
                    <a:pt x="192" y="794"/>
                  </a:lnTo>
                  <a:lnTo>
                    <a:pt x="198" y="801"/>
                  </a:lnTo>
                  <a:lnTo>
                    <a:pt x="198" y="808"/>
                  </a:lnTo>
                  <a:lnTo>
                    <a:pt x="198" y="816"/>
                  </a:lnTo>
                  <a:lnTo>
                    <a:pt x="204" y="819"/>
                  </a:lnTo>
                  <a:lnTo>
                    <a:pt x="204" y="827"/>
                  </a:lnTo>
                  <a:lnTo>
                    <a:pt x="204" y="834"/>
                  </a:lnTo>
                  <a:lnTo>
                    <a:pt x="210" y="841"/>
                  </a:lnTo>
                  <a:lnTo>
                    <a:pt x="210" y="849"/>
                  </a:lnTo>
                  <a:lnTo>
                    <a:pt x="216" y="856"/>
                  </a:lnTo>
                  <a:lnTo>
                    <a:pt x="216" y="863"/>
                  </a:lnTo>
                  <a:lnTo>
                    <a:pt x="216" y="867"/>
                  </a:lnTo>
                  <a:lnTo>
                    <a:pt x="222" y="874"/>
                  </a:lnTo>
                  <a:lnTo>
                    <a:pt x="222" y="881"/>
                  </a:lnTo>
                  <a:lnTo>
                    <a:pt x="228" y="889"/>
                  </a:lnTo>
                  <a:lnTo>
                    <a:pt x="228" y="892"/>
                  </a:lnTo>
                  <a:lnTo>
                    <a:pt x="228" y="900"/>
                  </a:lnTo>
                  <a:lnTo>
                    <a:pt x="234" y="907"/>
                  </a:lnTo>
                  <a:lnTo>
                    <a:pt x="234" y="914"/>
                  </a:lnTo>
                  <a:lnTo>
                    <a:pt x="240" y="918"/>
                  </a:lnTo>
                  <a:lnTo>
                    <a:pt x="240" y="925"/>
                  </a:lnTo>
                  <a:lnTo>
                    <a:pt x="240" y="933"/>
                  </a:lnTo>
                  <a:lnTo>
                    <a:pt x="246" y="936"/>
                  </a:lnTo>
                  <a:lnTo>
                    <a:pt x="246" y="944"/>
                  </a:lnTo>
                  <a:lnTo>
                    <a:pt x="246" y="947"/>
                  </a:lnTo>
                  <a:lnTo>
                    <a:pt x="252" y="955"/>
                  </a:lnTo>
                  <a:lnTo>
                    <a:pt x="252" y="958"/>
                  </a:lnTo>
                  <a:lnTo>
                    <a:pt x="258" y="965"/>
                  </a:lnTo>
                  <a:lnTo>
                    <a:pt x="258" y="973"/>
                  </a:lnTo>
                  <a:lnTo>
                    <a:pt x="258" y="976"/>
                  </a:lnTo>
                  <a:lnTo>
                    <a:pt x="264" y="984"/>
                  </a:lnTo>
                  <a:lnTo>
                    <a:pt x="264" y="987"/>
                  </a:lnTo>
                  <a:lnTo>
                    <a:pt x="270" y="995"/>
                  </a:lnTo>
                  <a:lnTo>
                    <a:pt x="270" y="998"/>
                  </a:lnTo>
                  <a:lnTo>
                    <a:pt x="270" y="1002"/>
                  </a:lnTo>
                  <a:lnTo>
                    <a:pt x="276" y="1009"/>
                  </a:lnTo>
                  <a:lnTo>
                    <a:pt x="276" y="1013"/>
                  </a:lnTo>
                  <a:lnTo>
                    <a:pt x="282" y="1020"/>
                  </a:lnTo>
                  <a:lnTo>
                    <a:pt x="282" y="1024"/>
                  </a:lnTo>
                  <a:lnTo>
                    <a:pt x="282" y="1028"/>
                  </a:lnTo>
                  <a:lnTo>
                    <a:pt x="288" y="1035"/>
                  </a:lnTo>
                  <a:lnTo>
                    <a:pt x="288" y="1039"/>
                  </a:lnTo>
                  <a:lnTo>
                    <a:pt x="288" y="1042"/>
                  </a:lnTo>
                  <a:lnTo>
                    <a:pt x="294" y="1050"/>
                  </a:lnTo>
                  <a:lnTo>
                    <a:pt x="294" y="1053"/>
                  </a:lnTo>
                  <a:lnTo>
                    <a:pt x="300" y="1057"/>
                  </a:lnTo>
                  <a:lnTo>
                    <a:pt x="300" y="1061"/>
                  </a:lnTo>
                  <a:lnTo>
                    <a:pt x="300" y="1068"/>
                  </a:lnTo>
                  <a:lnTo>
                    <a:pt x="306" y="1071"/>
                  </a:lnTo>
                  <a:lnTo>
                    <a:pt x="306" y="1075"/>
                  </a:lnTo>
                  <a:lnTo>
                    <a:pt x="312" y="1079"/>
                  </a:lnTo>
                  <a:lnTo>
                    <a:pt x="312" y="1082"/>
                  </a:lnTo>
                  <a:lnTo>
                    <a:pt x="312" y="1086"/>
                  </a:lnTo>
                  <a:lnTo>
                    <a:pt x="318" y="1093"/>
                  </a:lnTo>
                  <a:lnTo>
                    <a:pt x="318" y="1097"/>
                  </a:lnTo>
                  <a:lnTo>
                    <a:pt x="318" y="1101"/>
                  </a:lnTo>
                  <a:lnTo>
                    <a:pt x="324" y="1104"/>
                  </a:lnTo>
                  <a:lnTo>
                    <a:pt x="324" y="1108"/>
                  </a:lnTo>
                  <a:lnTo>
                    <a:pt x="330" y="1112"/>
                  </a:lnTo>
                  <a:lnTo>
                    <a:pt x="330" y="1115"/>
                  </a:lnTo>
                  <a:lnTo>
                    <a:pt x="330" y="1119"/>
                  </a:lnTo>
                  <a:lnTo>
                    <a:pt x="336" y="1123"/>
                  </a:lnTo>
                  <a:lnTo>
                    <a:pt x="336" y="1126"/>
                  </a:lnTo>
                  <a:lnTo>
                    <a:pt x="342" y="1130"/>
                  </a:lnTo>
                  <a:lnTo>
                    <a:pt x="342" y="1134"/>
                  </a:lnTo>
                  <a:lnTo>
                    <a:pt x="342" y="1137"/>
                  </a:lnTo>
                  <a:lnTo>
                    <a:pt x="348" y="1141"/>
                  </a:lnTo>
                  <a:lnTo>
                    <a:pt x="348" y="1145"/>
                  </a:lnTo>
                  <a:lnTo>
                    <a:pt x="354" y="1148"/>
                  </a:lnTo>
                  <a:lnTo>
                    <a:pt x="354" y="1152"/>
                  </a:lnTo>
                  <a:lnTo>
                    <a:pt x="360" y="1156"/>
                  </a:lnTo>
                  <a:lnTo>
                    <a:pt x="360" y="1159"/>
                  </a:lnTo>
                  <a:lnTo>
                    <a:pt x="360" y="1163"/>
                  </a:lnTo>
                  <a:lnTo>
                    <a:pt x="366" y="1167"/>
                  </a:lnTo>
                  <a:lnTo>
                    <a:pt x="372" y="1170"/>
                  </a:lnTo>
                  <a:lnTo>
                    <a:pt x="372" y="1174"/>
                  </a:lnTo>
                  <a:lnTo>
                    <a:pt x="372" y="1178"/>
                  </a:lnTo>
                  <a:lnTo>
                    <a:pt x="378" y="1178"/>
                  </a:lnTo>
                  <a:lnTo>
                    <a:pt x="378" y="1181"/>
                  </a:lnTo>
                  <a:lnTo>
                    <a:pt x="384" y="1185"/>
                  </a:lnTo>
                  <a:lnTo>
                    <a:pt x="384" y="1188"/>
                  </a:lnTo>
                  <a:lnTo>
                    <a:pt x="390" y="1192"/>
                  </a:lnTo>
                  <a:lnTo>
                    <a:pt x="396" y="1196"/>
                  </a:lnTo>
                  <a:lnTo>
                    <a:pt x="396" y="1199"/>
                  </a:lnTo>
                  <a:lnTo>
                    <a:pt x="402" y="1203"/>
                  </a:lnTo>
                  <a:lnTo>
                    <a:pt x="402" y="1207"/>
                  </a:lnTo>
                  <a:lnTo>
                    <a:pt x="408" y="1207"/>
                  </a:lnTo>
                  <a:lnTo>
                    <a:pt x="408" y="1210"/>
                  </a:lnTo>
                  <a:lnTo>
                    <a:pt x="414" y="1210"/>
                  </a:lnTo>
                  <a:lnTo>
                    <a:pt x="414" y="1214"/>
                  </a:lnTo>
                  <a:lnTo>
                    <a:pt x="420" y="1218"/>
                  </a:lnTo>
                  <a:lnTo>
                    <a:pt x="426" y="1218"/>
                  </a:lnTo>
                  <a:lnTo>
                    <a:pt x="426" y="1221"/>
                  </a:lnTo>
                  <a:lnTo>
                    <a:pt x="432" y="1221"/>
                  </a:lnTo>
                  <a:lnTo>
                    <a:pt x="432" y="1225"/>
                  </a:lnTo>
                  <a:lnTo>
                    <a:pt x="438" y="1225"/>
                  </a:lnTo>
                  <a:lnTo>
                    <a:pt x="438" y="1229"/>
                  </a:lnTo>
                  <a:lnTo>
                    <a:pt x="444" y="1229"/>
                  </a:lnTo>
                  <a:lnTo>
                    <a:pt x="450" y="1232"/>
                  </a:lnTo>
                  <a:lnTo>
                    <a:pt x="456" y="1232"/>
                  </a:lnTo>
                  <a:lnTo>
                    <a:pt x="462" y="1232"/>
                  </a:lnTo>
                  <a:lnTo>
                    <a:pt x="462" y="1236"/>
                  </a:lnTo>
                  <a:lnTo>
                    <a:pt x="468" y="1236"/>
                  </a:lnTo>
                  <a:lnTo>
                    <a:pt x="474" y="1236"/>
                  </a:lnTo>
                  <a:lnTo>
                    <a:pt x="480" y="1236"/>
                  </a:lnTo>
                  <a:lnTo>
                    <a:pt x="486" y="1236"/>
                  </a:lnTo>
                  <a:lnTo>
                    <a:pt x="492" y="1236"/>
                  </a:lnTo>
                  <a:lnTo>
                    <a:pt x="498" y="1236"/>
                  </a:lnTo>
                  <a:lnTo>
                    <a:pt x="498" y="1232"/>
                  </a:lnTo>
                  <a:lnTo>
                    <a:pt x="504" y="1232"/>
                  </a:lnTo>
                  <a:lnTo>
                    <a:pt x="510" y="1232"/>
                  </a:lnTo>
                  <a:lnTo>
                    <a:pt x="510" y="1229"/>
                  </a:lnTo>
                  <a:lnTo>
                    <a:pt x="516" y="1229"/>
                  </a:lnTo>
                  <a:lnTo>
                    <a:pt x="522" y="1229"/>
                  </a:lnTo>
                  <a:lnTo>
                    <a:pt x="522" y="1225"/>
                  </a:lnTo>
                  <a:lnTo>
                    <a:pt x="528" y="1225"/>
                  </a:lnTo>
                  <a:lnTo>
                    <a:pt x="528" y="1221"/>
                  </a:lnTo>
                  <a:lnTo>
                    <a:pt x="534" y="1221"/>
                  </a:lnTo>
                  <a:lnTo>
                    <a:pt x="534" y="1218"/>
                  </a:lnTo>
                  <a:lnTo>
                    <a:pt x="540" y="1218"/>
                  </a:lnTo>
                  <a:lnTo>
                    <a:pt x="540" y="1214"/>
                  </a:lnTo>
                  <a:lnTo>
                    <a:pt x="546" y="1214"/>
                  </a:lnTo>
                  <a:lnTo>
                    <a:pt x="546" y="1210"/>
                  </a:lnTo>
                  <a:lnTo>
                    <a:pt x="552" y="1210"/>
                  </a:lnTo>
                  <a:lnTo>
                    <a:pt x="552" y="1207"/>
                  </a:lnTo>
                  <a:lnTo>
                    <a:pt x="558" y="1203"/>
                  </a:lnTo>
                  <a:lnTo>
                    <a:pt x="564" y="1199"/>
                  </a:lnTo>
                  <a:lnTo>
                    <a:pt x="564" y="1196"/>
                  </a:lnTo>
                  <a:lnTo>
                    <a:pt x="570" y="1196"/>
                  </a:lnTo>
                  <a:lnTo>
                    <a:pt x="570" y="1192"/>
                  </a:lnTo>
                  <a:lnTo>
                    <a:pt x="570" y="1188"/>
                  </a:lnTo>
                  <a:lnTo>
                    <a:pt x="576" y="1188"/>
                  </a:lnTo>
                  <a:lnTo>
                    <a:pt x="576" y="1185"/>
                  </a:lnTo>
                  <a:lnTo>
                    <a:pt x="582" y="1181"/>
                  </a:lnTo>
                  <a:lnTo>
                    <a:pt x="582" y="1178"/>
                  </a:lnTo>
                  <a:lnTo>
                    <a:pt x="588" y="1174"/>
                  </a:lnTo>
                  <a:lnTo>
                    <a:pt x="594" y="1170"/>
                  </a:lnTo>
                  <a:lnTo>
                    <a:pt x="594" y="1167"/>
                  </a:lnTo>
                  <a:lnTo>
                    <a:pt x="594" y="1163"/>
                  </a:lnTo>
                  <a:lnTo>
                    <a:pt x="600" y="1159"/>
                  </a:lnTo>
                  <a:lnTo>
                    <a:pt x="606" y="1156"/>
                  </a:lnTo>
                  <a:lnTo>
                    <a:pt x="606" y="1152"/>
                  </a:lnTo>
                  <a:lnTo>
                    <a:pt x="606" y="1148"/>
                  </a:lnTo>
                  <a:lnTo>
                    <a:pt x="612" y="1145"/>
                  </a:lnTo>
                  <a:lnTo>
                    <a:pt x="612" y="1141"/>
                  </a:lnTo>
                  <a:lnTo>
                    <a:pt x="612" y="1137"/>
                  </a:lnTo>
                  <a:lnTo>
                    <a:pt x="618" y="1134"/>
                  </a:lnTo>
                  <a:lnTo>
                    <a:pt x="618" y="1130"/>
                  </a:lnTo>
                  <a:lnTo>
                    <a:pt x="624" y="1126"/>
                  </a:lnTo>
                  <a:lnTo>
                    <a:pt x="624" y="1123"/>
                  </a:lnTo>
                  <a:lnTo>
                    <a:pt x="630" y="1115"/>
                  </a:lnTo>
                  <a:lnTo>
                    <a:pt x="630" y="1112"/>
                  </a:lnTo>
                  <a:lnTo>
                    <a:pt x="636" y="1108"/>
                  </a:lnTo>
                  <a:lnTo>
                    <a:pt x="636" y="1104"/>
                  </a:lnTo>
                  <a:lnTo>
                    <a:pt x="636" y="1101"/>
                  </a:lnTo>
                  <a:lnTo>
                    <a:pt x="642" y="1097"/>
                  </a:lnTo>
                  <a:lnTo>
                    <a:pt x="642" y="1093"/>
                  </a:lnTo>
                  <a:lnTo>
                    <a:pt x="648" y="1090"/>
                  </a:lnTo>
                  <a:lnTo>
                    <a:pt x="648" y="1086"/>
                  </a:lnTo>
                  <a:lnTo>
                    <a:pt x="648" y="1082"/>
                  </a:lnTo>
                  <a:lnTo>
                    <a:pt x="654" y="1079"/>
                  </a:lnTo>
                  <a:lnTo>
                    <a:pt x="654" y="1071"/>
                  </a:lnTo>
                  <a:lnTo>
                    <a:pt x="654" y="1068"/>
                  </a:lnTo>
                  <a:lnTo>
                    <a:pt x="660" y="1064"/>
                  </a:lnTo>
                  <a:lnTo>
                    <a:pt x="660" y="1061"/>
                  </a:lnTo>
                  <a:lnTo>
                    <a:pt x="666" y="1053"/>
                  </a:lnTo>
                  <a:lnTo>
                    <a:pt x="666" y="1050"/>
                  </a:lnTo>
                  <a:lnTo>
                    <a:pt x="666" y="1046"/>
                  </a:lnTo>
                  <a:lnTo>
                    <a:pt x="672" y="1042"/>
                  </a:lnTo>
                  <a:lnTo>
                    <a:pt x="672" y="1035"/>
                  </a:lnTo>
                  <a:lnTo>
                    <a:pt x="678" y="1031"/>
                  </a:lnTo>
                  <a:lnTo>
                    <a:pt x="678" y="1028"/>
                  </a:lnTo>
                  <a:lnTo>
                    <a:pt x="678" y="1020"/>
                  </a:lnTo>
                  <a:lnTo>
                    <a:pt x="684" y="1017"/>
                  </a:lnTo>
                  <a:lnTo>
                    <a:pt x="684" y="1009"/>
                  </a:lnTo>
                  <a:lnTo>
                    <a:pt x="684" y="1006"/>
                  </a:lnTo>
                  <a:lnTo>
                    <a:pt x="690" y="1002"/>
                  </a:lnTo>
                  <a:lnTo>
                    <a:pt x="690" y="995"/>
                  </a:lnTo>
                  <a:lnTo>
                    <a:pt x="696" y="991"/>
                  </a:lnTo>
                  <a:lnTo>
                    <a:pt x="696" y="984"/>
                  </a:lnTo>
                  <a:lnTo>
                    <a:pt x="696" y="980"/>
                  </a:lnTo>
                  <a:lnTo>
                    <a:pt x="702" y="973"/>
                  </a:lnTo>
                  <a:lnTo>
                    <a:pt x="702" y="969"/>
                  </a:lnTo>
                  <a:lnTo>
                    <a:pt x="708" y="962"/>
                  </a:lnTo>
                  <a:lnTo>
                    <a:pt x="708" y="958"/>
                  </a:lnTo>
                  <a:lnTo>
                    <a:pt x="708" y="951"/>
                  </a:lnTo>
                  <a:lnTo>
                    <a:pt x="714" y="944"/>
                  </a:lnTo>
                  <a:lnTo>
                    <a:pt x="714" y="940"/>
                  </a:lnTo>
                  <a:lnTo>
                    <a:pt x="720" y="933"/>
                  </a:lnTo>
                  <a:lnTo>
                    <a:pt x="720" y="929"/>
                  </a:lnTo>
                  <a:lnTo>
                    <a:pt x="720" y="922"/>
                  </a:lnTo>
                  <a:lnTo>
                    <a:pt x="726" y="914"/>
                  </a:lnTo>
                  <a:lnTo>
                    <a:pt x="726" y="911"/>
                  </a:lnTo>
                  <a:lnTo>
                    <a:pt x="726" y="903"/>
                  </a:lnTo>
                  <a:lnTo>
                    <a:pt x="732" y="896"/>
                  </a:lnTo>
                  <a:lnTo>
                    <a:pt x="732" y="889"/>
                  </a:lnTo>
                  <a:lnTo>
                    <a:pt x="738" y="885"/>
                  </a:lnTo>
                  <a:lnTo>
                    <a:pt x="738" y="878"/>
                  </a:lnTo>
                  <a:lnTo>
                    <a:pt x="738" y="870"/>
                  </a:lnTo>
                  <a:lnTo>
                    <a:pt x="744" y="863"/>
                  </a:lnTo>
                  <a:lnTo>
                    <a:pt x="744" y="859"/>
                  </a:lnTo>
                  <a:lnTo>
                    <a:pt x="750" y="852"/>
                  </a:lnTo>
                  <a:lnTo>
                    <a:pt x="750" y="845"/>
                  </a:lnTo>
                  <a:lnTo>
                    <a:pt x="750" y="838"/>
                  </a:lnTo>
                  <a:lnTo>
                    <a:pt x="756" y="830"/>
                  </a:lnTo>
                  <a:lnTo>
                    <a:pt x="756" y="823"/>
                  </a:lnTo>
                  <a:lnTo>
                    <a:pt x="762" y="816"/>
                  </a:lnTo>
                  <a:lnTo>
                    <a:pt x="762" y="808"/>
                  </a:lnTo>
                  <a:lnTo>
                    <a:pt x="762" y="805"/>
                  </a:lnTo>
                  <a:lnTo>
                    <a:pt x="768" y="797"/>
                  </a:lnTo>
                  <a:lnTo>
                    <a:pt x="768" y="790"/>
                  </a:lnTo>
                  <a:lnTo>
                    <a:pt x="768" y="783"/>
                  </a:lnTo>
                  <a:lnTo>
                    <a:pt x="774" y="775"/>
                  </a:lnTo>
                  <a:lnTo>
                    <a:pt x="774" y="768"/>
                  </a:lnTo>
                  <a:lnTo>
                    <a:pt x="780" y="761"/>
                  </a:lnTo>
                  <a:lnTo>
                    <a:pt x="780" y="750"/>
                  </a:lnTo>
                  <a:lnTo>
                    <a:pt x="780" y="742"/>
                  </a:lnTo>
                  <a:lnTo>
                    <a:pt x="786" y="735"/>
                  </a:lnTo>
                  <a:lnTo>
                    <a:pt x="786" y="728"/>
                  </a:lnTo>
                  <a:lnTo>
                    <a:pt x="792" y="721"/>
                  </a:lnTo>
                  <a:lnTo>
                    <a:pt x="792" y="713"/>
                  </a:lnTo>
                  <a:lnTo>
                    <a:pt x="792" y="706"/>
                  </a:lnTo>
                  <a:lnTo>
                    <a:pt x="798" y="699"/>
                  </a:lnTo>
                  <a:lnTo>
                    <a:pt x="798" y="691"/>
                  </a:lnTo>
                  <a:lnTo>
                    <a:pt x="804" y="680"/>
                  </a:lnTo>
                  <a:lnTo>
                    <a:pt x="804" y="673"/>
                  </a:lnTo>
                  <a:lnTo>
                    <a:pt x="804" y="666"/>
                  </a:lnTo>
                  <a:lnTo>
                    <a:pt x="810" y="658"/>
                  </a:lnTo>
                  <a:lnTo>
                    <a:pt x="810" y="647"/>
                  </a:lnTo>
                  <a:lnTo>
                    <a:pt x="810" y="640"/>
                  </a:lnTo>
                  <a:lnTo>
                    <a:pt x="816" y="633"/>
                  </a:lnTo>
                  <a:lnTo>
                    <a:pt x="816" y="626"/>
                  </a:lnTo>
                  <a:lnTo>
                    <a:pt x="822" y="615"/>
                  </a:lnTo>
                  <a:lnTo>
                    <a:pt x="822" y="607"/>
                  </a:lnTo>
                  <a:lnTo>
                    <a:pt x="822" y="600"/>
                  </a:lnTo>
                  <a:lnTo>
                    <a:pt x="828" y="589"/>
                  </a:lnTo>
                  <a:lnTo>
                    <a:pt x="828" y="582"/>
                  </a:lnTo>
                  <a:lnTo>
                    <a:pt x="834" y="571"/>
                  </a:lnTo>
                  <a:lnTo>
                    <a:pt x="834" y="563"/>
                  </a:lnTo>
                  <a:lnTo>
                    <a:pt x="834" y="556"/>
                  </a:lnTo>
                  <a:lnTo>
                    <a:pt x="840" y="545"/>
                  </a:lnTo>
                  <a:lnTo>
                    <a:pt x="840" y="538"/>
                  </a:lnTo>
                  <a:lnTo>
                    <a:pt x="846" y="527"/>
                  </a:lnTo>
                  <a:lnTo>
                    <a:pt x="846" y="520"/>
                  </a:lnTo>
                  <a:lnTo>
                    <a:pt x="846" y="509"/>
                  </a:lnTo>
                  <a:lnTo>
                    <a:pt x="852" y="501"/>
                  </a:lnTo>
                  <a:lnTo>
                    <a:pt x="852" y="490"/>
                  </a:lnTo>
                  <a:lnTo>
                    <a:pt x="852" y="479"/>
                  </a:lnTo>
                  <a:lnTo>
                    <a:pt x="858" y="472"/>
                  </a:lnTo>
                  <a:lnTo>
                    <a:pt x="858" y="461"/>
                  </a:lnTo>
                  <a:lnTo>
                    <a:pt x="864" y="454"/>
                  </a:lnTo>
                  <a:lnTo>
                    <a:pt x="864" y="443"/>
                  </a:lnTo>
                  <a:lnTo>
                    <a:pt x="864" y="432"/>
                  </a:lnTo>
                  <a:lnTo>
                    <a:pt x="870" y="424"/>
                  </a:lnTo>
                  <a:lnTo>
                    <a:pt x="870" y="413"/>
                  </a:lnTo>
                  <a:lnTo>
                    <a:pt x="876" y="403"/>
                  </a:lnTo>
                  <a:lnTo>
                    <a:pt x="876" y="395"/>
                  </a:lnTo>
                  <a:lnTo>
                    <a:pt x="876" y="384"/>
                  </a:lnTo>
                  <a:lnTo>
                    <a:pt x="882" y="373"/>
                  </a:lnTo>
                  <a:lnTo>
                    <a:pt x="882" y="362"/>
                  </a:lnTo>
                  <a:lnTo>
                    <a:pt x="888" y="355"/>
                  </a:lnTo>
                  <a:lnTo>
                    <a:pt x="888" y="344"/>
                  </a:lnTo>
                  <a:lnTo>
                    <a:pt x="888" y="333"/>
                  </a:lnTo>
                  <a:lnTo>
                    <a:pt x="894" y="322"/>
                  </a:lnTo>
                  <a:lnTo>
                    <a:pt x="894" y="311"/>
                  </a:lnTo>
                  <a:lnTo>
                    <a:pt x="894" y="304"/>
                  </a:lnTo>
                  <a:lnTo>
                    <a:pt x="900" y="293"/>
                  </a:lnTo>
                  <a:lnTo>
                    <a:pt x="900" y="282"/>
                  </a:lnTo>
                  <a:lnTo>
                    <a:pt x="906" y="271"/>
                  </a:lnTo>
                  <a:lnTo>
                    <a:pt x="906" y="260"/>
                  </a:lnTo>
                  <a:lnTo>
                    <a:pt x="906" y="249"/>
                  </a:lnTo>
                  <a:lnTo>
                    <a:pt x="912" y="238"/>
                  </a:lnTo>
                  <a:lnTo>
                    <a:pt x="912" y="227"/>
                  </a:lnTo>
                  <a:lnTo>
                    <a:pt x="918" y="216"/>
                  </a:lnTo>
                  <a:lnTo>
                    <a:pt x="918" y="205"/>
                  </a:lnTo>
                  <a:lnTo>
                    <a:pt x="918" y="194"/>
                  </a:lnTo>
                  <a:lnTo>
                    <a:pt x="924" y="183"/>
                  </a:lnTo>
                  <a:lnTo>
                    <a:pt x="924" y="172"/>
                  </a:lnTo>
                  <a:lnTo>
                    <a:pt x="930" y="161"/>
                  </a:lnTo>
                  <a:lnTo>
                    <a:pt x="930" y="150"/>
                  </a:lnTo>
                  <a:lnTo>
                    <a:pt x="930" y="139"/>
                  </a:lnTo>
                  <a:lnTo>
                    <a:pt x="936" y="128"/>
                  </a:lnTo>
                  <a:lnTo>
                    <a:pt x="936" y="117"/>
                  </a:lnTo>
                  <a:lnTo>
                    <a:pt x="936" y="106"/>
                  </a:lnTo>
                  <a:lnTo>
                    <a:pt x="942" y="92"/>
                  </a:lnTo>
                  <a:lnTo>
                    <a:pt x="942" y="81"/>
                  </a:lnTo>
                  <a:lnTo>
                    <a:pt x="948" y="70"/>
                  </a:lnTo>
                  <a:lnTo>
                    <a:pt x="948" y="59"/>
                  </a:lnTo>
                  <a:lnTo>
                    <a:pt x="948" y="48"/>
                  </a:lnTo>
                  <a:lnTo>
                    <a:pt x="954" y="33"/>
                  </a:lnTo>
                  <a:lnTo>
                    <a:pt x="954" y="22"/>
                  </a:lnTo>
                  <a:lnTo>
                    <a:pt x="960" y="11"/>
                  </a:lnTo>
                  <a:lnTo>
                    <a:pt x="960" y="0"/>
                  </a:lnTo>
                </a:path>
              </a:pathLst>
            </a:custGeom>
            <a:noFill/>
            <a:ln w="38160">
              <a:solidFill>
                <a:srgbClr val="3333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5" name=""/>
          <p:cNvSpPr/>
          <p:nvPr/>
        </p:nvSpPr>
        <p:spPr>
          <a:xfrm>
            <a:off x="2162160" y="2122560"/>
            <a:ext cx="167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y=2x</a:t>
            </a:r>
            <a:r>
              <a:rPr b="1" lang="en-US" sz="2800" spc="-1" strike="noStrike" baseline="30000">
                <a:solidFill>
                  <a:srgbClr val="333399"/>
                </a:solidFill>
                <a:latin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3602160" y="2050920"/>
            <a:ext cx="5184720" cy="324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当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＞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5050"/>
                </a:solidFill>
                <a:latin typeface="Times New Roman"/>
                <a:ea typeface="楷体_GB2312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称轴的左侧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y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增大而减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称轴的右侧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y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当</a:t>
            </a:r>
            <a:r>
              <a:rPr b="1" lang="zh-CN" sz="2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a</a:t>
            </a:r>
            <a:r>
              <a:rPr b="1" lang="zh-CN" sz="2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＜</a:t>
            </a:r>
            <a:r>
              <a:rPr b="1" lang="zh-CN" sz="2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0</a:t>
            </a:r>
            <a:r>
              <a:rPr b="1" lang="zh-CN" sz="2400" spc="-1" strike="noStrike">
                <a:solidFill>
                  <a:srgbClr val="ff5050"/>
                </a:solidFill>
                <a:latin typeface="楷体_GB2312"/>
                <a:ea typeface="楷体_GB2312"/>
              </a:rPr>
              <a:t>时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称轴的左侧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y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 增大而增大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对称轴的右侧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:y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楷体_GB2312"/>
                <a:ea typeface="楷体_GB2312"/>
              </a:rPr>
              <a:t>的增大而减小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5" dur="indefinite" restart="never" nodeType="tmRoot">
          <p:childTnLst>
            <p:seq>
              <p:cTn id="156" dur="indefinite" nodeType="mainSeq">
                <p:childTnLst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1" dur="5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/>
          <p:nvPr/>
        </p:nvSpPr>
        <p:spPr>
          <a:xfrm>
            <a:off x="4057920" y="606600"/>
            <a:ext cx="618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隶书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请同学们把所学的二次函数图象的知识归纳小结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78" name=""/>
          <p:cNvGraphicFramePr/>
          <p:nvPr/>
        </p:nvGraphicFramePr>
        <p:xfrm>
          <a:off x="395280" y="1557360"/>
          <a:ext cx="8380440" cy="4235400"/>
        </p:xfrm>
        <a:graphic>
          <a:graphicData uri="http://schemas.openxmlformats.org/drawingml/2006/table">
            <a:tbl>
              <a:tblPr/>
              <a:tblGrid>
                <a:gridCol w="993600"/>
                <a:gridCol w="1136160"/>
                <a:gridCol w="1207800"/>
                <a:gridCol w="781200"/>
                <a:gridCol w="1828080"/>
                <a:gridCol w="599760"/>
                <a:gridCol w="465120"/>
                <a:gridCol w="560520"/>
                <a:gridCol w="593640"/>
                <a:gridCol w="216000"/>
              </a:tblGrid>
              <a:tr h="627120"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y=ax</a:t>
                      </a:r>
                      <a:r>
                        <a:rPr b="1" lang="en-US" sz="2800" spc="-1" strike="noStrike" baseline="30000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顶点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对称轴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开口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图象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左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  <a:ea typeface="隶书"/>
                        </a:rPr>
                        <a:t>右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4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32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1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＞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28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</a:t>
                      </a: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＜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79" name=""/>
          <p:cNvSpPr/>
          <p:nvPr/>
        </p:nvSpPr>
        <p:spPr>
          <a:xfrm>
            <a:off x="1576440" y="2709720"/>
            <a:ext cx="108756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隶书"/>
              </a:rPr>
              <a:t>(0,0)</a:t>
            </a: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隶书"/>
              </a:rPr>
              <a:t>最低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隶书"/>
              </a:rPr>
              <a:t>(0,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050"/>
                </a:solidFill>
                <a:latin typeface="Times New Roman"/>
                <a:ea typeface="隶书"/>
              </a:rPr>
              <a:t>最高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2889360" y="3116160"/>
            <a:ext cx="10396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y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3665520" y="2844720"/>
            <a:ext cx="66852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3851280" y="2933640"/>
            <a:ext cx="541440" cy="267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向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向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6561000" y="2844720"/>
            <a:ext cx="297000" cy="5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6959520" y="3213000"/>
            <a:ext cx="103356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增大         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6454800" y="3192480"/>
            <a:ext cx="1033560" cy="2325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减小         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7497720" y="3213000"/>
            <a:ext cx="1033560" cy="228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增大        减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5486400" y="253692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5486400" y="263052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486400" y="272736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5468040" y="271152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"/>
              </a:rPr>
              <a:t>6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5486400" y="282420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5486400" y="2919240"/>
            <a:ext cx="15840" cy="180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5486400" y="3016080"/>
            <a:ext cx="15840" cy="180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5486400" y="311004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5504760" y="2709720"/>
            <a:ext cx="20340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5486400" y="3205080"/>
            <a:ext cx="15840" cy="180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486400" y="3301920"/>
            <a:ext cx="15840" cy="180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5486400" y="3398760"/>
            <a:ext cx="15840" cy="180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5486400" y="349416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5486400" y="358776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486400" y="368460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486400" y="378000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5486400" y="3973680"/>
            <a:ext cx="15840" cy="144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4" name=""/>
          <p:cNvGrpSpPr/>
          <p:nvPr/>
        </p:nvGrpSpPr>
        <p:grpSpPr>
          <a:xfrm>
            <a:off x="4586400" y="2486880"/>
            <a:ext cx="1778040" cy="1670040"/>
            <a:chOff x="4586400" y="2486880"/>
            <a:chExt cx="1778040" cy="1670040"/>
          </a:xfrm>
        </p:grpSpPr>
        <p:sp>
          <p:nvSpPr>
            <p:cNvPr id="305" name=""/>
            <p:cNvSpPr/>
            <p:nvPr/>
          </p:nvSpPr>
          <p:spPr>
            <a:xfrm flipH="1">
              <a:off x="5496840" y="2486880"/>
              <a:ext cx="1440" cy="1670040"/>
            </a:xfrm>
            <a:prstGeom prst="line">
              <a:avLst/>
            </a:prstGeom>
            <a:ln w="28440">
              <a:solidFill>
                <a:srgbClr val="000080"/>
              </a:solidFill>
              <a:miter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586400" y="3512880"/>
              <a:ext cx="1778040" cy="14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478152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5065560" y="3292560"/>
            <a:ext cx="180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513720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5208480" y="3292560"/>
            <a:ext cx="180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28012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34996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5421240" y="3292560"/>
            <a:ext cx="180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549288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56416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646600" y="3301920"/>
            <a:ext cx="180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570564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5799240" y="330192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5921280" y="3292560"/>
            <a:ext cx="180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606276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6134040" y="3292560"/>
            <a:ext cx="180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620568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6189840" y="3319560"/>
            <a:ext cx="406080" cy="426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80"/>
                </a:solidFill>
                <a:latin typeface=""/>
              </a:rPr>
              <a:t>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6276960" y="3292560"/>
            <a:ext cx="1440" cy="22320"/>
          </a:xfrm>
          <a:prstGeom prst="line">
            <a:avLst/>
          </a:prstGeom>
          <a:ln w="144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4480" bIns="-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5075280" y="2637000"/>
            <a:ext cx="890640" cy="858600"/>
          </a:xfrm>
          <a:custGeom>
            <a:avLst/>
            <a:gdLst/>
            <a:ahLst/>
            <a:rect l="l" t="t" r="r" b="b"/>
            <a:pathLst>
              <a:path w="155" h="541">
                <a:moveTo>
                  <a:pt x="0" y="0"/>
                </a:moveTo>
                <a:lnTo>
                  <a:pt x="0" y="7"/>
                </a:lnTo>
                <a:lnTo>
                  <a:pt x="0" y="13"/>
                </a:lnTo>
                <a:lnTo>
                  <a:pt x="1" y="19"/>
                </a:lnTo>
                <a:lnTo>
                  <a:pt x="1" y="26"/>
                </a:lnTo>
                <a:lnTo>
                  <a:pt x="3" y="32"/>
                </a:lnTo>
                <a:lnTo>
                  <a:pt x="3" y="39"/>
                </a:lnTo>
                <a:lnTo>
                  <a:pt x="3" y="45"/>
                </a:lnTo>
                <a:lnTo>
                  <a:pt x="4" y="50"/>
                </a:lnTo>
                <a:lnTo>
                  <a:pt x="4" y="56"/>
                </a:lnTo>
                <a:lnTo>
                  <a:pt x="5" y="62"/>
                </a:lnTo>
                <a:lnTo>
                  <a:pt x="5" y="69"/>
                </a:lnTo>
                <a:lnTo>
                  <a:pt x="5" y="75"/>
                </a:lnTo>
                <a:lnTo>
                  <a:pt x="6" y="80"/>
                </a:lnTo>
                <a:lnTo>
                  <a:pt x="6" y="86"/>
                </a:lnTo>
                <a:lnTo>
                  <a:pt x="6" y="93"/>
                </a:lnTo>
                <a:lnTo>
                  <a:pt x="7" y="98"/>
                </a:lnTo>
                <a:lnTo>
                  <a:pt x="7" y="104"/>
                </a:lnTo>
                <a:lnTo>
                  <a:pt x="9" y="110"/>
                </a:lnTo>
                <a:lnTo>
                  <a:pt x="9" y="115"/>
                </a:lnTo>
                <a:lnTo>
                  <a:pt x="9" y="121"/>
                </a:lnTo>
                <a:lnTo>
                  <a:pt x="10" y="126"/>
                </a:lnTo>
                <a:lnTo>
                  <a:pt x="10" y="133"/>
                </a:lnTo>
                <a:lnTo>
                  <a:pt x="11" y="137"/>
                </a:lnTo>
                <a:lnTo>
                  <a:pt x="11" y="144"/>
                </a:lnTo>
                <a:lnTo>
                  <a:pt x="11" y="149"/>
                </a:lnTo>
                <a:lnTo>
                  <a:pt x="12" y="155"/>
                </a:lnTo>
                <a:lnTo>
                  <a:pt x="12" y="160"/>
                </a:lnTo>
                <a:lnTo>
                  <a:pt x="13" y="165"/>
                </a:lnTo>
                <a:lnTo>
                  <a:pt x="13" y="171"/>
                </a:lnTo>
                <a:lnTo>
                  <a:pt x="13" y="176"/>
                </a:lnTo>
                <a:lnTo>
                  <a:pt x="15" y="180"/>
                </a:lnTo>
                <a:lnTo>
                  <a:pt x="15" y="187"/>
                </a:lnTo>
                <a:lnTo>
                  <a:pt x="15" y="192"/>
                </a:lnTo>
                <a:lnTo>
                  <a:pt x="16" y="196"/>
                </a:lnTo>
                <a:lnTo>
                  <a:pt x="16" y="201"/>
                </a:lnTo>
                <a:lnTo>
                  <a:pt x="17" y="208"/>
                </a:lnTo>
                <a:lnTo>
                  <a:pt x="17" y="212"/>
                </a:lnTo>
                <a:lnTo>
                  <a:pt x="17" y="217"/>
                </a:lnTo>
                <a:lnTo>
                  <a:pt x="18" y="222"/>
                </a:lnTo>
                <a:lnTo>
                  <a:pt x="18" y="227"/>
                </a:lnTo>
                <a:lnTo>
                  <a:pt x="19" y="232"/>
                </a:lnTo>
                <a:lnTo>
                  <a:pt x="19" y="236"/>
                </a:lnTo>
                <a:lnTo>
                  <a:pt x="19" y="241"/>
                </a:lnTo>
                <a:lnTo>
                  <a:pt x="20" y="246"/>
                </a:lnTo>
                <a:lnTo>
                  <a:pt x="20" y="251"/>
                </a:lnTo>
                <a:lnTo>
                  <a:pt x="22" y="255"/>
                </a:lnTo>
                <a:lnTo>
                  <a:pt x="22" y="260"/>
                </a:lnTo>
                <a:lnTo>
                  <a:pt x="22" y="265"/>
                </a:lnTo>
                <a:lnTo>
                  <a:pt x="23" y="270"/>
                </a:lnTo>
                <a:lnTo>
                  <a:pt x="23" y="275"/>
                </a:lnTo>
                <a:lnTo>
                  <a:pt x="23" y="278"/>
                </a:lnTo>
                <a:lnTo>
                  <a:pt x="24" y="283"/>
                </a:lnTo>
                <a:lnTo>
                  <a:pt x="24" y="287"/>
                </a:lnTo>
                <a:lnTo>
                  <a:pt x="25" y="292"/>
                </a:lnTo>
                <a:lnTo>
                  <a:pt x="25" y="295"/>
                </a:lnTo>
                <a:lnTo>
                  <a:pt x="25" y="300"/>
                </a:lnTo>
                <a:lnTo>
                  <a:pt x="26" y="305"/>
                </a:lnTo>
                <a:lnTo>
                  <a:pt x="26" y="308"/>
                </a:lnTo>
                <a:lnTo>
                  <a:pt x="28" y="313"/>
                </a:lnTo>
                <a:lnTo>
                  <a:pt x="28" y="318"/>
                </a:lnTo>
                <a:lnTo>
                  <a:pt x="28" y="321"/>
                </a:lnTo>
                <a:lnTo>
                  <a:pt x="29" y="326"/>
                </a:lnTo>
                <a:lnTo>
                  <a:pt x="29" y="329"/>
                </a:lnTo>
                <a:lnTo>
                  <a:pt x="30" y="334"/>
                </a:lnTo>
                <a:lnTo>
                  <a:pt x="30" y="337"/>
                </a:lnTo>
                <a:lnTo>
                  <a:pt x="30" y="342"/>
                </a:lnTo>
                <a:lnTo>
                  <a:pt x="31" y="345"/>
                </a:lnTo>
                <a:lnTo>
                  <a:pt x="31" y="350"/>
                </a:lnTo>
                <a:lnTo>
                  <a:pt x="31" y="353"/>
                </a:lnTo>
                <a:lnTo>
                  <a:pt x="32" y="356"/>
                </a:lnTo>
                <a:lnTo>
                  <a:pt x="32" y="361"/>
                </a:lnTo>
                <a:lnTo>
                  <a:pt x="34" y="364"/>
                </a:lnTo>
                <a:lnTo>
                  <a:pt x="34" y="367"/>
                </a:lnTo>
                <a:lnTo>
                  <a:pt x="34" y="372"/>
                </a:lnTo>
                <a:lnTo>
                  <a:pt x="35" y="375"/>
                </a:lnTo>
                <a:lnTo>
                  <a:pt x="35" y="378"/>
                </a:lnTo>
                <a:lnTo>
                  <a:pt x="36" y="381"/>
                </a:lnTo>
                <a:lnTo>
                  <a:pt x="36" y="385"/>
                </a:lnTo>
                <a:lnTo>
                  <a:pt x="36" y="389"/>
                </a:lnTo>
                <a:lnTo>
                  <a:pt x="37" y="393"/>
                </a:lnTo>
                <a:lnTo>
                  <a:pt x="37" y="396"/>
                </a:lnTo>
                <a:lnTo>
                  <a:pt x="38" y="399"/>
                </a:lnTo>
                <a:lnTo>
                  <a:pt x="38" y="402"/>
                </a:lnTo>
                <a:lnTo>
                  <a:pt x="38" y="405"/>
                </a:lnTo>
                <a:lnTo>
                  <a:pt x="39" y="409"/>
                </a:lnTo>
                <a:lnTo>
                  <a:pt x="39" y="412"/>
                </a:lnTo>
                <a:lnTo>
                  <a:pt x="39" y="415"/>
                </a:lnTo>
                <a:lnTo>
                  <a:pt x="41" y="418"/>
                </a:lnTo>
                <a:lnTo>
                  <a:pt x="41" y="421"/>
                </a:lnTo>
                <a:lnTo>
                  <a:pt x="42" y="425"/>
                </a:lnTo>
                <a:lnTo>
                  <a:pt x="42" y="428"/>
                </a:lnTo>
                <a:lnTo>
                  <a:pt x="42" y="429"/>
                </a:lnTo>
                <a:lnTo>
                  <a:pt x="43" y="433"/>
                </a:lnTo>
                <a:lnTo>
                  <a:pt x="43" y="436"/>
                </a:lnTo>
                <a:lnTo>
                  <a:pt x="44" y="439"/>
                </a:lnTo>
                <a:lnTo>
                  <a:pt x="44" y="442"/>
                </a:lnTo>
                <a:lnTo>
                  <a:pt x="44" y="444"/>
                </a:lnTo>
                <a:lnTo>
                  <a:pt x="45" y="447"/>
                </a:lnTo>
                <a:lnTo>
                  <a:pt x="45" y="450"/>
                </a:lnTo>
                <a:lnTo>
                  <a:pt x="45" y="452"/>
                </a:lnTo>
                <a:lnTo>
                  <a:pt x="47" y="455"/>
                </a:lnTo>
                <a:lnTo>
                  <a:pt x="47" y="456"/>
                </a:lnTo>
                <a:lnTo>
                  <a:pt x="48" y="460"/>
                </a:lnTo>
                <a:lnTo>
                  <a:pt x="48" y="463"/>
                </a:lnTo>
                <a:lnTo>
                  <a:pt x="48" y="464"/>
                </a:lnTo>
                <a:lnTo>
                  <a:pt x="49" y="468"/>
                </a:lnTo>
                <a:lnTo>
                  <a:pt x="49" y="469"/>
                </a:lnTo>
                <a:lnTo>
                  <a:pt x="50" y="472"/>
                </a:lnTo>
                <a:lnTo>
                  <a:pt x="50" y="474"/>
                </a:lnTo>
                <a:lnTo>
                  <a:pt x="50" y="476"/>
                </a:lnTo>
                <a:lnTo>
                  <a:pt x="51" y="479"/>
                </a:lnTo>
                <a:lnTo>
                  <a:pt x="51" y="480"/>
                </a:lnTo>
                <a:lnTo>
                  <a:pt x="52" y="482"/>
                </a:lnTo>
                <a:lnTo>
                  <a:pt x="52" y="485"/>
                </a:lnTo>
                <a:lnTo>
                  <a:pt x="52" y="487"/>
                </a:lnTo>
                <a:lnTo>
                  <a:pt x="54" y="488"/>
                </a:lnTo>
                <a:lnTo>
                  <a:pt x="54" y="492"/>
                </a:lnTo>
                <a:lnTo>
                  <a:pt x="54" y="493"/>
                </a:lnTo>
                <a:lnTo>
                  <a:pt x="55" y="495"/>
                </a:lnTo>
                <a:lnTo>
                  <a:pt x="55" y="496"/>
                </a:lnTo>
                <a:lnTo>
                  <a:pt x="56" y="498"/>
                </a:lnTo>
                <a:lnTo>
                  <a:pt x="56" y="500"/>
                </a:lnTo>
                <a:lnTo>
                  <a:pt x="56" y="503"/>
                </a:lnTo>
                <a:lnTo>
                  <a:pt x="57" y="504"/>
                </a:lnTo>
                <a:lnTo>
                  <a:pt x="57" y="506"/>
                </a:lnTo>
                <a:lnTo>
                  <a:pt x="58" y="508"/>
                </a:lnTo>
                <a:lnTo>
                  <a:pt x="58" y="509"/>
                </a:lnTo>
                <a:lnTo>
                  <a:pt x="58" y="511"/>
                </a:lnTo>
                <a:lnTo>
                  <a:pt x="60" y="512"/>
                </a:lnTo>
                <a:lnTo>
                  <a:pt x="60" y="514"/>
                </a:lnTo>
                <a:lnTo>
                  <a:pt x="61" y="514"/>
                </a:lnTo>
                <a:lnTo>
                  <a:pt x="61" y="515"/>
                </a:lnTo>
                <a:lnTo>
                  <a:pt x="61" y="517"/>
                </a:lnTo>
                <a:lnTo>
                  <a:pt x="62" y="519"/>
                </a:lnTo>
                <a:lnTo>
                  <a:pt x="62" y="520"/>
                </a:lnTo>
                <a:lnTo>
                  <a:pt x="62" y="522"/>
                </a:lnTo>
                <a:lnTo>
                  <a:pt x="63" y="522"/>
                </a:lnTo>
                <a:lnTo>
                  <a:pt x="63" y="523"/>
                </a:lnTo>
                <a:lnTo>
                  <a:pt x="64" y="525"/>
                </a:lnTo>
                <a:lnTo>
                  <a:pt x="64" y="527"/>
                </a:lnTo>
                <a:lnTo>
                  <a:pt x="66" y="528"/>
                </a:lnTo>
                <a:lnTo>
                  <a:pt x="67" y="530"/>
                </a:lnTo>
                <a:lnTo>
                  <a:pt x="67" y="531"/>
                </a:lnTo>
                <a:lnTo>
                  <a:pt x="68" y="533"/>
                </a:lnTo>
                <a:lnTo>
                  <a:pt x="69" y="535"/>
                </a:lnTo>
                <a:lnTo>
                  <a:pt x="70" y="536"/>
                </a:lnTo>
                <a:lnTo>
                  <a:pt x="70" y="538"/>
                </a:lnTo>
                <a:lnTo>
                  <a:pt x="71" y="538"/>
                </a:lnTo>
                <a:lnTo>
                  <a:pt x="73" y="538"/>
                </a:lnTo>
                <a:lnTo>
                  <a:pt x="73" y="539"/>
                </a:lnTo>
                <a:lnTo>
                  <a:pt x="74" y="539"/>
                </a:lnTo>
                <a:lnTo>
                  <a:pt x="75" y="541"/>
                </a:lnTo>
                <a:lnTo>
                  <a:pt x="76" y="541"/>
                </a:lnTo>
                <a:lnTo>
                  <a:pt x="77" y="541"/>
                </a:lnTo>
                <a:lnTo>
                  <a:pt x="79" y="541"/>
                </a:lnTo>
                <a:lnTo>
                  <a:pt x="80" y="541"/>
                </a:lnTo>
                <a:lnTo>
                  <a:pt x="81" y="539"/>
                </a:lnTo>
                <a:lnTo>
                  <a:pt x="82" y="539"/>
                </a:lnTo>
                <a:lnTo>
                  <a:pt x="83" y="538"/>
                </a:lnTo>
                <a:lnTo>
                  <a:pt x="85" y="536"/>
                </a:lnTo>
                <a:lnTo>
                  <a:pt x="86" y="536"/>
                </a:lnTo>
                <a:lnTo>
                  <a:pt x="86" y="535"/>
                </a:lnTo>
                <a:lnTo>
                  <a:pt x="87" y="533"/>
                </a:lnTo>
                <a:lnTo>
                  <a:pt x="87" y="531"/>
                </a:lnTo>
                <a:lnTo>
                  <a:pt x="88" y="531"/>
                </a:lnTo>
                <a:lnTo>
                  <a:pt x="88" y="530"/>
                </a:lnTo>
                <a:lnTo>
                  <a:pt x="89" y="530"/>
                </a:lnTo>
                <a:lnTo>
                  <a:pt x="89" y="528"/>
                </a:lnTo>
                <a:lnTo>
                  <a:pt x="89" y="527"/>
                </a:lnTo>
                <a:lnTo>
                  <a:pt x="90" y="527"/>
                </a:lnTo>
                <a:lnTo>
                  <a:pt x="90" y="525"/>
                </a:lnTo>
                <a:lnTo>
                  <a:pt x="92" y="523"/>
                </a:lnTo>
                <a:lnTo>
                  <a:pt x="92" y="522"/>
                </a:lnTo>
                <a:lnTo>
                  <a:pt x="93" y="520"/>
                </a:lnTo>
                <a:lnTo>
                  <a:pt x="93" y="519"/>
                </a:lnTo>
                <a:lnTo>
                  <a:pt x="94" y="517"/>
                </a:lnTo>
                <a:lnTo>
                  <a:pt x="94" y="515"/>
                </a:lnTo>
                <a:lnTo>
                  <a:pt x="95" y="514"/>
                </a:lnTo>
                <a:lnTo>
                  <a:pt x="95" y="512"/>
                </a:lnTo>
                <a:lnTo>
                  <a:pt x="95" y="511"/>
                </a:lnTo>
                <a:lnTo>
                  <a:pt x="96" y="509"/>
                </a:lnTo>
                <a:lnTo>
                  <a:pt x="96" y="508"/>
                </a:lnTo>
                <a:lnTo>
                  <a:pt x="98" y="506"/>
                </a:lnTo>
                <a:lnTo>
                  <a:pt x="98" y="504"/>
                </a:lnTo>
                <a:lnTo>
                  <a:pt x="98" y="503"/>
                </a:lnTo>
                <a:lnTo>
                  <a:pt x="99" y="501"/>
                </a:lnTo>
                <a:lnTo>
                  <a:pt x="99" y="500"/>
                </a:lnTo>
                <a:lnTo>
                  <a:pt x="100" y="498"/>
                </a:lnTo>
                <a:lnTo>
                  <a:pt x="100" y="495"/>
                </a:lnTo>
                <a:lnTo>
                  <a:pt x="100" y="493"/>
                </a:lnTo>
                <a:lnTo>
                  <a:pt x="101" y="492"/>
                </a:lnTo>
                <a:lnTo>
                  <a:pt x="101" y="490"/>
                </a:lnTo>
                <a:lnTo>
                  <a:pt x="102" y="488"/>
                </a:lnTo>
                <a:lnTo>
                  <a:pt x="102" y="485"/>
                </a:lnTo>
                <a:lnTo>
                  <a:pt x="102" y="484"/>
                </a:lnTo>
                <a:lnTo>
                  <a:pt x="104" y="482"/>
                </a:lnTo>
                <a:lnTo>
                  <a:pt x="104" y="479"/>
                </a:lnTo>
                <a:lnTo>
                  <a:pt x="104" y="477"/>
                </a:lnTo>
                <a:lnTo>
                  <a:pt x="105" y="476"/>
                </a:lnTo>
                <a:lnTo>
                  <a:pt x="105" y="472"/>
                </a:lnTo>
                <a:lnTo>
                  <a:pt x="106" y="471"/>
                </a:lnTo>
                <a:lnTo>
                  <a:pt x="106" y="468"/>
                </a:lnTo>
                <a:lnTo>
                  <a:pt x="106" y="466"/>
                </a:lnTo>
                <a:lnTo>
                  <a:pt x="107" y="463"/>
                </a:lnTo>
                <a:lnTo>
                  <a:pt x="107" y="461"/>
                </a:lnTo>
                <a:lnTo>
                  <a:pt x="108" y="458"/>
                </a:lnTo>
                <a:lnTo>
                  <a:pt x="108" y="456"/>
                </a:lnTo>
                <a:lnTo>
                  <a:pt x="108" y="453"/>
                </a:lnTo>
                <a:lnTo>
                  <a:pt x="109" y="450"/>
                </a:lnTo>
                <a:lnTo>
                  <a:pt x="109" y="448"/>
                </a:lnTo>
                <a:lnTo>
                  <a:pt x="111" y="445"/>
                </a:lnTo>
                <a:lnTo>
                  <a:pt x="111" y="442"/>
                </a:lnTo>
                <a:lnTo>
                  <a:pt x="111" y="441"/>
                </a:lnTo>
                <a:lnTo>
                  <a:pt x="112" y="437"/>
                </a:lnTo>
                <a:lnTo>
                  <a:pt x="112" y="434"/>
                </a:lnTo>
                <a:lnTo>
                  <a:pt x="112" y="431"/>
                </a:lnTo>
                <a:lnTo>
                  <a:pt x="113" y="428"/>
                </a:lnTo>
                <a:lnTo>
                  <a:pt x="113" y="425"/>
                </a:lnTo>
                <a:lnTo>
                  <a:pt x="114" y="423"/>
                </a:lnTo>
                <a:lnTo>
                  <a:pt x="114" y="420"/>
                </a:lnTo>
                <a:lnTo>
                  <a:pt x="114" y="417"/>
                </a:lnTo>
                <a:lnTo>
                  <a:pt x="115" y="413"/>
                </a:lnTo>
                <a:lnTo>
                  <a:pt x="115" y="410"/>
                </a:lnTo>
                <a:lnTo>
                  <a:pt x="117" y="407"/>
                </a:lnTo>
                <a:lnTo>
                  <a:pt x="117" y="404"/>
                </a:lnTo>
                <a:lnTo>
                  <a:pt x="117" y="401"/>
                </a:lnTo>
                <a:lnTo>
                  <a:pt x="118" y="397"/>
                </a:lnTo>
                <a:lnTo>
                  <a:pt x="118" y="394"/>
                </a:lnTo>
                <a:lnTo>
                  <a:pt x="118" y="391"/>
                </a:lnTo>
                <a:lnTo>
                  <a:pt x="119" y="386"/>
                </a:lnTo>
                <a:lnTo>
                  <a:pt x="119" y="383"/>
                </a:lnTo>
                <a:lnTo>
                  <a:pt x="120" y="380"/>
                </a:lnTo>
                <a:lnTo>
                  <a:pt x="120" y="377"/>
                </a:lnTo>
                <a:lnTo>
                  <a:pt x="120" y="374"/>
                </a:lnTo>
                <a:lnTo>
                  <a:pt x="121" y="369"/>
                </a:lnTo>
                <a:lnTo>
                  <a:pt x="121" y="366"/>
                </a:lnTo>
                <a:lnTo>
                  <a:pt x="122" y="362"/>
                </a:lnTo>
                <a:lnTo>
                  <a:pt x="122" y="358"/>
                </a:lnTo>
                <a:lnTo>
                  <a:pt x="122" y="354"/>
                </a:lnTo>
                <a:lnTo>
                  <a:pt x="124" y="351"/>
                </a:lnTo>
                <a:lnTo>
                  <a:pt x="124" y="346"/>
                </a:lnTo>
                <a:lnTo>
                  <a:pt x="125" y="343"/>
                </a:lnTo>
                <a:lnTo>
                  <a:pt x="125" y="338"/>
                </a:lnTo>
                <a:lnTo>
                  <a:pt x="125" y="335"/>
                </a:lnTo>
                <a:lnTo>
                  <a:pt x="126" y="330"/>
                </a:lnTo>
                <a:lnTo>
                  <a:pt x="126" y="327"/>
                </a:lnTo>
                <a:lnTo>
                  <a:pt x="126" y="322"/>
                </a:lnTo>
                <a:lnTo>
                  <a:pt x="127" y="319"/>
                </a:lnTo>
                <a:lnTo>
                  <a:pt x="127" y="314"/>
                </a:lnTo>
                <a:lnTo>
                  <a:pt x="128" y="311"/>
                </a:lnTo>
                <a:lnTo>
                  <a:pt x="128" y="307"/>
                </a:lnTo>
                <a:lnTo>
                  <a:pt x="128" y="302"/>
                </a:lnTo>
                <a:lnTo>
                  <a:pt x="130" y="299"/>
                </a:lnTo>
                <a:lnTo>
                  <a:pt x="130" y="294"/>
                </a:lnTo>
                <a:lnTo>
                  <a:pt x="131" y="289"/>
                </a:lnTo>
                <a:lnTo>
                  <a:pt x="131" y="284"/>
                </a:lnTo>
                <a:lnTo>
                  <a:pt x="131" y="281"/>
                </a:lnTo>
                <a:lnTo>
                  <a:pt x="132" y="276"/>
                </a:lnTo>
                <a:lnTo>
                  <a:pt x="132" y="271"/>
                </a:lnTo>
                <a:lnTo>
                  <a:pt x="133" y="267"/>
                </a:lnTo>
                <a:lnTo>
                  <a:pt x="133" y="262"/>
                </a:lnTo>
                <a:lnTo>
                  <a:pt x="133" y="257"/>
                </a:lnTo>
                <a:lnTo>
                  <a:pt x="134" y="252"/>
                </a:lnTo>
                <a:lnTo>
                  <a:pt x="134" y="247"/>
                </a:lnTo>
                <a:lnTo>
                  <a:pt x="134" y="243"/>
                </a:lnTo>
                <a:lnTo>
                  <a:pt x="136" y="238"/>
                </a:lnTo>
                <a:lnTo>
                  <a:pt x="136" y="233"/>
                </a:lnTo>
                <a:lnTo>
                  <a:pt x="137" y="228"/>
                </a:lnTo>
                <a:lnTo>
                  <a:pt x="137" y="224"/>
                </a:lnTo>
                <a:lnTo>
                  <a:pt x="137" y="219"/>
                </a:lnTo>
                <a:lnTo>
                  <a:pt x="138" y="214"/>
                </a:lnTo>
                <a:lnTo>
                  <a:pt x="138" y="209"/>
                </a:lnTo>
                <a:lnTo>
                  <a:pt x="139" y="204"/>
                </a:lnTo>
                <a:lnTo>
                  <a:pt x="139" y="200"/>
                </a:lnTo>
                <a:lnTo>
                  <a:pt x="139" y="193"/>
                </a:lnTo>
                <a:lnTo>
                  <a:pt x="140" y="188"/>
                </a:lnTo>
                <a:lnTo>
                  <a:pt x="140" y="184"/>
                </a:lnTo>
                <a:lnTo>
                  <a:pt x="141" y="177"/>
                </a:lnTo>
                <a:lnTo>
                  <a:pt x="141" y="173"/>
                </a:lnTo>
                <a:lnTo>
                  <a:pt x="141" y="168"/>
                </a:lnTo>
                <a:lnTo>
                  <a:pt x="143" y="161"/>
                </a:lnTo>
                <a:lnTo>
                  <a:pt x="143" y="157"/>
                </a:lnTo>
                <a:lnTo>
                  <a:pt x="143" y="152"/>
                </a:lnTo>
                <a:lnTo>
                  <a:pt x="144" y="145"/>
                </a:lnTo>
                <a:lnTo>
                  <a:pt x="144" y="141"/>
                </a:lnTo>
                <a:lnTo>
                  <a:pt x="145" y="134"/>
                </a:lnTo>
                <a:lnTo>
                  <a:pt x="145" y="129"/>
                </a:lnTo>
                <a:lnTo>
                  <a:pt x="145" y="123"/>
                </a:lnTo>
                <a:lnTo>
                  <a:pt x="146" y="118"/>
                </a:lnTo>
                <a:lnTo>
                  <a:pt x="146" y="112"/>
                </a:lnTo>
                <a:lnTo>
                  <a:pt x="147" y="107"/>
                </a:lnTo>
                <a:lnTo>
                  <a:pt x="147" y="101"/>
                </a:lnTo>
                <a:lnTo>
                  <a:pt x="147" y="94"/>
                </a:lnTo>
                <a:lnTo>
                  <a:pt x="149" y="90"/>
                </a:lnTo>
                <a:lnTo>
                  <a:pt x="149" y="83"/>
                </a:lnTo>
                <a:lnTo>
                  <a:pt x="150" y="77"/>
                </a:lnTo>
                <a:lnTo>
                  <a:pt x="150" y="70"/>
                </a:lnTo>
                <a:lnTo>
                  <a:pt x="150" y="66"/>
                </a:lnTo>
                <a:lnTo>
                  <a:pt x="151" y="59"/>
                </a:lnTo>
                <a:lnTo>
                  <a:pt x="151" y="53"/>
                </a:lnTo>
                <a:lnTo>
                  <a:pt x="151" y="46"/>
                </a:lnTo>
                <a:lnTo>
                  <a:pt x="152" y="40"/>
                </a:lnTo>
                <a:lnTo>
                  <a:pt x="152" y="34"/>
                </a:lnTo>
                <a:lnTo>
                  <a:pt x="153" y="29"/>
                </a:lnTo>
                <a:lnTo>
                  <a:pt x="153" y="23"/>
                </a:lnTo>
                <a:lnTo>
                  <a:pt x="153" y="16"/>
                </a:lnTo>
                <a:lnTo>
                  <a:pt x="155" y="10"/>
                </a:lnTo>
                <a:lnTo>
                  <a:pt x="155" y="3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5489640" y="3297240"/>
            <a:ext cx="69840" cy="126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-37800" bIns="-37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4656240" y="4978440"/>
            <a:ext cx="1778040" cy="1440"/>
          </a:xfrm>
          <a:prstGeom prst="line">
            <a:avLst/>
          </a:prstGeom>
          <a:ln w="28440">
            <a:solidFill>
              <a:srgbClr val="00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 flipH="1">
            <a:off x="5494320" y="4215600"/>
            <a:ext cx="1440" cy="1670040"/>
          </a:xfrm>
          <a:prstGeom prst="line">
            <a:avLst/>
          </a:prstGeom>
          <a:ln w="2844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 rot="10960200">
            <a:off x="5036400" y="5015880"/>
            <a:ext cx="885960" cy="858600"/>
          </a:xfrm>
          <a:custGeom>
            <a:avLst/>
            <a:gdLst/>
            <a:ahLst/>
            <a:rect l="l" t="t" r="r" b="b"/>
            <a:pathLst>
              <a:path w="155" h="541">
                <a:moveTo>
                  <a:pt x="0" y="0"/>
                </a:moveTo>
                <a:lnTo>
                  <a:pt x="0" y="7"/>
                </a:lnTo>
                <a:lnTo>
                  <a:pt x="0" y="13"/>
                </a:lnTo>
                <a:lnTo>
                  <a:pt x="1" y="19"/>
                </a:lnTo>
                <a:lnTo>
                  <a:pt x="1" y="26"/>
                </a:lnTo>
                <a:lnTo>
                  <a:pt x="3" y="32"/>
                </a:lnTo>
                <a:lnTo>
                  <a:pt x="3" y="39"/>
                </a:lnTo>
                <a:lnTo>
                  <a:pt x="3" y="45"/>
                </a:lnTo>
                <a:lnTo>
                  <a:pt x="4" y="50"/>
                </a:lnTo>
                <a:lnTo>
                  <a:pt x="4" y="56"/>
                </a:lnTo>
                <a:lnTo>
                  <a:pt x="5" y="62"/>
                </a:lnTo>
                <a:lnTo>
                  <a:pt x="5" y="69"/>
                </a:lnTo>
                <a:lnTo>
                  <a:pt x="5" y="75"/>
                </a:lnTo>
                <a:lnTo>
                  <a:pt x="6" y="80"/>
                </a:lnTo>
                <a:lnTo>
                  <a:pt x="6" y="86"/>
                </a:lnTo>
                <a:lnTo>
                  <a:pt x="6" y="93"/>
                </a:lnTo>
                <a:lnTo>
                  <a:pt x="7" y="98"/>
                </a:lnTo>
                <a:lnTo>
                  <a:pt x="7" y="104"/>
                </a:lnTo>
                <a:lnTo>
                  <a:pt x="9" y="110"/>
                </a:lnTo>
                <a:lnTo>
                  <a:pt x="9" y="115"/>
                </a:lnTo>
                <a:lnTo>
                  <a:pt x="9" y="121"/>
                </a:lnTo>
                <a:lnTo>
                  <a:pt x="10" y="126"/>
                </a:lnTo>
                <a:lnTo>
                  <a:pt x="10" y="133"/>
                </a:lnTo>
                <a:lnTo>
                  <a:pt x="11" y="137"/>
                </a:lnTo>
                <a:lnTo>
                  <a:pt x="11" y="144"/>
                </a:lnTo>
                <a:lnTo>
                  <a:pt x="11" y="149"/>
                </a:lnTo>
                <a:lnTo>
                  <a:pt x="12" y="155"/>
                </a:lnTo>
                <a:lnTo>
                  <a:pt x="12" y="160"/>
                </a:lnTo>
                <a:lnTo>
                  <a:pt x="13" y="165"/>
                </a:lnTo>
                <a:lnTo>
                  <a:pt x="13" y="171"/>
                </a:lnTo>
                <a:lnTo>
                  <a:pt x="13" y="176"/>
                </a:lnTo>
                <a:lnTo>
                  <a:pt x="15" y="180"/>
                </a:lnTo>
                <a:lnTo>
                  <a:pt x="15" y="187"/>
                </a:lnTo>
                <a:lnTo>
                  <a:pt x="15" y="192"/>
                </a:lnTo>
                <a:lnTo>
                  <a:pt x="16" y="196"/>
                </a:lnTo>
                <a:lnTo>
                  <a:pt x="16" y="201"/>
                </a:lnTo>
                <a:lnTo>
                  <a:pt x="17" y="208"/>
                </a:lnTo>
                <a:lnTo>
                  <a:pt x="17" y="212"/>
                </a:lnTo>
                <a:lnTo>
                  <a:pt x="17" y="217"/>
                </a:lnTo>
                <a:lnTo>
                  <a:pt x="18" y="222"/>
                </a:lnTo>
                <a:lnTo>
                  <a:pt x="18" y="227"/>
                </a:lnTo>
                <a:lnTo>
                  <a:pt x="19" y="232"/>
                </a:lnTo>
                <a:lnTo>
                  <a:pt x="19" y="236"/>
                </a:lnTo>
                <a:lnTo>
                  <a:pt x="19" y="241"/>
                </a:lnTo>
                <a:lnTo>
                  <a:pt x="20" y="246"/>
                </a:lnTo>
                <a:lnTo>
                  <a:pt x="20" y="251"/>
                </a:lnTo>
                <a:lnTo>
                  <a:pt x="22" y="255"/>
                </a:lnTo>
                <a:lnTo>
                  <a:pt x="22" y="260"/>
                </a:lnTo>
                <a:lnTo>
                  <a:pt x="22" y="265"/>
                </a:lnTo>
                <a:lnTo>
                  <a:pt x="23" y="270"/>
                </a:lnTo>
                <a:lnTo>
                  <a:pt x="23" y="275"/>
                </a:lnTo>
                <a:lnTo>
                  <a:pt x="23" y="278"/>
                </a:lnTo>
                <a:lnTo>
                  <a:pt x="24" y="283"/>
                </a:lnTo>
                <a:lnTo>
                  <a:pt x="24" y="287"/>
                </a:lnTo>
                <a:lnTo>
                  <a:pt x="25" y="292"/>
                </a:lnTo>
                <a:lnTo>
                  <a:pt x="25" y="295"/>
                </a:lnTo>
                <a:lnTo>
                  <a:pt x="25" y="300"/>
                </a:lnTo>
                <a:lnTo>
                  <a:pt x="26" y="305"/>
                </a:lnTo>
                <a:lnTo>
                  <a:pt x="26" y="308"/>
                </a:lnTo>
                <a:lnTo>
                  <a:pt x="28" y="313"/>
                </a:lnTo>
                <a:lnTo>
                  <a:pt x="28" y="318"/>
                </a:lnTo>
                <a:lnTo>
                  <a:pt x="28" y="321"/>
                </a:lnTo>
                <a:lnTo>
                  <a:pt x="29" y="326"/>
                </a:lnTo>
                <a:lnTo>
                  <a:pt x="29" y="329"/>
                </a:lnTo>
                <a:lnTo>
                  <a:pt x="30" y="334"/>
                </a:lnTo>
                <a:lnTo>
                  <a:pt x="30" y="337"/>
                </a:lnTo>
                <a:lnTo>
                  <a:pt x="30" y="342"/>
                </a:lnTo>
                <a:lnTo>
                  <a:pt x="31" y="345"/>
                </a:lnTo>
                <a:lnTo>
                  <a:pt x="31" y="350"/>
                </a:lnTo>
                <a:lnTo>
                  <a:pt x="31" y="353"/>
                </a:lnTo>
                <a:lnTo>
                  <a:pt x="32" y="356"/>
                </a:lnTo>
                <a:lnTo>
                  <a:pt x="32" y="361"/>
                </a:lnTo>
                <a:lnTo>
                  <a:pt x="34" y="364"/>
                </a:lnTo>
                <a:lnTo>
                  <a:pt x="34" y="367"/>
                </a:lnTo>
                <a:lnTo>
                  <a:pt x="34" y="372"/>
                </a:lnTo>
                <a:lnTo>
                  <a:pt x="35" y="375"/>
                </a:lnTo>
                <a:lnTo>
                  <a:pt x="35" y="378"/>
                </a:lnTo>
                <a:lnTo>
                  <a:pt x="36" y="381"/>
                </a:lnTo>
                <a:lnTo>
                  <a:pt x="36" y="385"/>
                </a:lnTo>
                <a:lnTo>
                  <a:pt x="36" y="389"/>
                </a:lnTo>
                <a:lnTo>
                  <a:pt x="37" y="393"/>
                </a:lnTo>
                <a:lnTo>
                  <a:pt x="37" y="396"/>
                </a:lnTo>
                <a:lnTo>
                  <a:pt x="38" y="399"/>
                </a:lnTo>
                <a:lnTo>
                  <a:pt x="38" y="402"/>
                </a:lnTo>
                <a:lnTo>
                  <a:pt x="38" y="405"/>
                </a:lnTo>
                <a:lnTo>
                  <a:pt x="39" y="409"/>
                </a:lnTo>
                <a:lnTo>
                  <a:pt x="39" y="412"/>
                </a:lnTo>
                <a:lnTo>
                  <a:pt x="39" y="415"/>
                </a:lnTo>
                <a:lnTo>
                  <a:pt x="41" y="418"/>
                </a:lnTo>
                <a:lnTo>
                  <a:pt x="41" y="421"/>
                </a:lnTo>
                <a:lnTo>
                  <a:pt x="42" y="425"/>
                </a:lnTo>
                <a:lnTo>
                  <a:pt x="42" y="428"/>
                </a:lnTo>
                <a:lnTo>
                  <a:pt x="42" y="429"/>
                </a:lnTo>
                <a:lnTo>
                  <a:pt x="43" y="433"/>
                </a:lnTo>
                <a:lnTo>
                  <a:pt x="43" y="436"/>
                </a:lnTo>
                <a:lnTo>
                  <a:pt x="44" y="439"/>
                </a:lnTo>
                <a:lnTo>
                  <a:pt x="44" y="442"/>
                </a:lnTo>
                <a:lnTo>
                  <a:pt x="44" y="444"/>
                </a:lnTo>
                <a:lnTo>
                  <a:pt x="45" y="447"/>
                </a:lnTo>
                <a:lnTo>
                  <a:pt x="45" y="450"/>
                </a:lnTo>
                <a:lnTo>
                  <a:pt x="45" y="452"/>
                </a:lnTo>
                <a:lnTo>
                  <a:pt x="47" y="455"/>
                </a:lnTo>
                <a:lnTo>
                  <a:pt x="47" y="456"/>
                </a:lnTo>
                <a:lnTo>
                  <a:pt x="48" y="460"/>
                </a:lnTo>
                <a:lnTo>
                  <a:pt x="48" y="463"/>
                </a:lnTo>
                <a:lnTo>
                  <a:pt x="48" y="464"/>
                </a:lnTo>
                <a:lnTo>
                  <a:pt x="49" y="468"/>
                </a:lnTo>
                <a:lnTo>
                  <a:pt x="49" y="469"/>
                </a:lnTo>
                <a:lnTo>
                  <a:pt x="50" y="472"/>
                </a:lnTo>
                <a:lnTo>
                  <a:pt x="50" y="474"/>
                </a:lnTo>
                <a:lnTo>
                  <a:pt x="50" y="476"/>
                </a:lnTo>
                <a:lnTo>
                  <a:pt x="51" y="479"/>
                </a:lnTo>
                <a:lnTo>
                  <a:pt x="51" y="480"/>
                </a:lnTo>
                <a:lnTo>
                  <a:pt x="52" y="482"/>
                </a:lnTo>
                <a:lnTo>
                  <a:pt x="52" y="485"/>
                </a:lnTo>
                <a:lnTo>
                  <a:pt x="52" y="487"/>
                </a:lnTo>
                <a:lnTo>
                  <a:pt x="54" y="488"/>
                </a:lnTo>
                <a:lnTo>
                  <a:pt x="54" y="492"/>
                </a:lnTo>
                <a:lnTo>
                  <a:pt x="54" y="493"/>
                </a:lnTo>
                <a:lnTo>
                  <a:pt x="55" y="495"/>
                </a:lnTo>
                <a:lnTo>
                  <a:pt x="55" y="496"/>
                </a:lnTo>
                <a:lnTo>
                  <a:pt x="56" y="498"/>
                </a:lnTo>
                <a:lnTo>
                  <a:pt x="56" y="500"/>
                </a:lnTo>
                <a:lnTo>
                  <a:pt x="56" y="503"/>
                </a:lnTo>
                <a:lnTo>
                  <a:pt x="57" y="504"/>
                </a:lnTo>
                <a:lnTo>
                  <a:pt x="57" y="506"/>
                </a:lnTo>
                <a:lnTo>
                  <a:pt x="58" y="508"/>
                </a:lnTo>
                <a:lnTo>
                  <a:pt x="58" y="509"/>
                </a:lnTo>
                <a:lnTo>
                  <a:pt x="58" y="511"/>
                </a:lnTo>
                <a:lnTo>
                  <a:pt x="60" y="512"/>
                </a:lnTo>
                <a:lnTo>
                  <a:pt x="60" y="514"/>
                </a:lnTo>
                <a:lnTo>
                  <a:pt x="61" y="514"/>
                </a:lnTo>
                <a:lnTo>
                  <a:pt x="61" y="515"/>
                </a:lnTo>
                <a:lnTo>
                  <a:pt x="61" y="517"/>
                </a:lnTo>
                <a:lnTo>
                  <a:pt x="62" y="519"/>
                </a:lnTo>
                <a:lnTo>
                  <a:pt x="62" y="520"/>
                </a:lnTo>
                <a:lnTo>
                  <a:pt x="62" y="522"/>
                </a:lnTo>
                <a:lnTo>
                  <a:pt x="63" y="522"/>
                </a:lnTo>
                <a:lnTo>
                  <a:pt x="63" y="523"/>
                </a:lnTo>
                <a:lnTo>
                  <a:pt x="64" y="525"/>
                </a:lnTo>
                <a:lnTo>
                  <a:pt x="64" y="527"/>
                </a:lnTo>
                <a:lnTo>
                  <a:pt x="66" y="528"/>
                </a:lnTo>
                <a:lnTo>
                  <a:pt x="67" y="530"/>
                </a:lnTo>
                <a:lnTo>
                  <a:pt x="67" y="531"/>
                </a:lnTo>
                <a:lnTo>
                  <a:pt x="68" y="533"/>
                </a:lnTo>
                <a:lnTo>
                  <a:pt x="69" y="535"/>
                </a:lnTo>
                <a:lnTo>
                  <a:pt x="70" y="536"/>
                </a:lnTo>
                <a:lnTo>
                  <a:pt x="70" y="538"/>
                </a:lnTo>
                <a:lnTo>
                  <a:pt x="71" y="538"/>
                </a:lnTo>
                <a:lnTo>
                  <a:pt x="73" y="538"/>
                </a:lnTo>
                <a:lnTo>
                  <a:pt x="73" y="539"/>
                </a:lnTo>
                <a:lnTo>
                  <a:pt x="74" y="539"/>
                </a:lnTo>
                <a:lnTo>
                  <a:pt x="75" y="541"/>
                </a:lnTo>
                <a:lnTo>
                  <a:pt x="76" y="541"/>
                </a:lnTo>
                <a:lnTo>
                  <a:pt x="77" y="541"/>
                </a:lnTo>
                <a:lnTo>
                  <a:pt x="79" y="541"/>
                </a:lnTo>
                <a:lnTo>
                  <a:pt x="80" y="541"/>
                </a:lnTo>
                <a:lnTo>
                  <a:pt x="81" y="539"/>
                </a:lnTo>
                <a:lnTo>
                  <a:pt x="82" y="539"/>
                </a:lnTo>
                <a:lnTo>
                  <a:pt x="83" y="538"/>
                </a:lnTo>
                <a:lnTo>
                  <a:pt x="85" y="536"/>
                </a:lnTo>
                <a:lnTo>
                  <a:pt x="86" y="536"/>
                </a:lnTo>
                <a:lnTo>
                  <a:pt x="86" y="535"/>
                </a:lnTo>
                <a:lnTo>
                  <a:pt x="87" y="533"/>
                </a:lnTo>
                <a:lnTo>
                  <a:pt x="87" y="531"/>
                </a:lnTo>
                <a:lnTo>
                  <a:pt x="88" y="531"/>
                </a:lnTo>
                <a:lnTo>
                  <a:pt x="88" y="530"/>
                </a:lnTo>
                <a:lnTo>
                  <a:pt x="89" y="530"/>
                </a:lnTo>
                <a:lnTo>
                  <a:pt x="89" y="528"/>
                </a:lnTo>
                <a:lnTo>
                  <a:pt x="89" y="527"/>
                </a:lnTo>
                <a:lnTo>
                  <a:pt x="90" y="527"/>
                </a:lnTo>
                <a:lnTo>
                  <a:pt x="90" y="525"/>
                </a:lnTo>
                <a:lnTo>
                  <a:pt x="92" y="523"/>
                </a:lnTo>
                <a:lnTo>
                  <a:pt x="92" y="522"/>
                </a:lnTo>
                <a:lnTo>
                  <a:pt x="93" y="520"/>
                </a:lnTo>
                <a:lnTo>
                  <a:pt x="93" y="519"/>
                </a:lnTo>
                <a:lnTo>
                  <a:pt x="94" y="517"/>
                </a:lnTo>
                <a:lnTo>
                  <a:pt x="94" y="515"/>
                </a:lnTo>
                <a:lnTo>
                  <a:pt x="95" y="514"/>
                </a:lnTo>
                <a:lnTo>
                  <a:pt x="95" y="512"/>
                </a:lnTo>
                <a:lnTo>
                  <a:pt x="95" y="511"/>
                </a:lnTo>
                <a:lnTo>
                  <a:pt x="96" y="509"/>
                </a:lnTo>
                <a:lnTo>
                  <a:pt x="96" y="508"/>
                </a:lnTo>
                <a:lnTo>
                  <a:pt x="98" y="506"/>
                </a:lnTo>
                <a:lnTo>
                  <a:pt x="98" y="504"/>
                </a:lnTo>
                <a:lnTo>
                  <a:pt x="98" y="503"/>
                </a:lnTo>
                <a:lnTo>
                  <a:pt x="99" y="501"/>
                </a:lnTo>
                <a:lnTo>
                  <a:pt x="99" y="500"/>
                </a:lnTo>
                <a:lnTo>
                  <a:pt x="100" y="498"/>
                </a:lnTo>
                <a:lnTo>
                  <a:pt x="100" y="495"/>
                </a:lnTo>
                <a:lnTo>
                  <a:pt x="100" y="493"/>
                </a:lnTo>
                <a:lnTo>
                  <a:pt x="101" y="492"/>
                </a:lnTo>
                <a:lnTo>
                  <a:pt x="101" y="490"/>
                </a:lnTo>
                <a:lnTo>
                  <a:pt x="102" y="488"/>
                </a:lnTo>
                <a:lnTo>
                  <a:pt x="102" y="485"/>
                </a:lnTo>
                <a:lnTo>
                  <a:pt x="102" y="484"/>
                </a:lnTo>
                <a:lnTo>
                  <a:pt x="104" y="482"/>
                </a:lnTo>
                <a:lnTo>
                  <a:pt x="104" y="479"/>
                </a:lnTo>
                <a:lnTo>
                  <a:pt x="104" y="477"/>
                </a:lnTo>
                <a:lnTo>
                  <a:pt x="105" y="476"/>
                </a:lnTo>
                <a:lnTo>
                  <a:pt x="105" y="472"/>
                </a:lnTo>
                <a:lnTo>
                  <a:pt x="106" y="471"/>
                </a:lnTo>
                <a:lnTo>
                  <a:pt x="106" y="468"/>
                </a:lnTo>
                <a:lnTo>
                  <a:pt x="106" y="466"/>
                </a:lnTo>
                <a:lnTo>
                  <a:pt x="107" y="463"/>
                </a:lnTo>
                <a:lnTo>
                  <a:pt x="107" y="461"/>
                </a:lnTo>
                <a:lnTo>
                  <a:pt x="108" y="458"/>
                </a:lnTo>
                <a:lnTo>
                  <a:pt x="108" y="456"/>
                </a:lnTo>
                <a:lnTo>
                  <a:pt x="108" y="453"/>
                </a:lnTo>
                <a:lnTo>
                  <a:pt x="109" y="450"/>
                </a:lnTo>
                <a:lnTo>
                  <a:pt x="109" y="448"/>
                </a:lnTo>
                <a:lnTo>
                  <a:pt x="111" y="445"/>
                </a:lnTo>
                <a:lnTo>
                  <a:pt x="111" y="442"/>
                </a:lnTo>
                <a:lnTo>
                  <a:pt x="111" y="441"/>
                </a:lnTo>
                <a:lnTo>
                  <a:pt x="112" y="437"/>
                </a:lnTo>
                <a:lnTo>
                  <a:pt x="112" y="434"/>
                </a:lnTo>
                <a:lnTo>
                  <a:pt x="112" y="431"/>
                </a:lnTo>
                <a:lnTo>
                  <a:pt x="113" y="428"/>
                </a:lnTo>
                <a:lnTo>
                  <a:pt x="113" y="425"/>
                </a:lnTo>
                <a:lnTo>
                  <a:pt x="114" y="423"/>
                </a:lnTo>
                <a:lnTo>
                  <a:pt x="114" y="420"/>
                </a:lnTo>
                <a:lnTo>
                  <a:pt x="114" y="417"/>
                </a:lnTo>
                <a:lnTo>
                  <a:pt x="115" y="413"/>
                </a:lnTo>
                <a:lnTo>
                  <a:pt x="115" y="410"/>
                </a:lnTo>
                <a:lnTo>
                  <a:pt x="117" y="407"/>
                </a:lnTo>
                <a:lnTo>
                  <a:pt x="117" y="404"/>
                </a:lnTo>
                <a:lnTo>
                  <a:pt x="117" y="401"/>
                </a:lnTo>
                <a:lnTo>
                  <a:pt x="118" y="397"/>
                </a:lnTo>
                <a:lnTo>
                  <a:pt x="118" y="394"/>
                </a:lnTo>
                <a:lnTo>
                  <a:pt x="118" y="391"/>
                </a:lnTo>
                <a:lnTo>
                  <a:pt x="119" y="386"/>
                </a:lnTo>
                <a:lnTo>
                  <a:pt x="119" y="383"/>
                </a:lnTo>
                <a:lnTo>
                  <a:pt x="120" y="380"/>
                </a:lnTo>
                <a:lnTo>
                  <a:pt x="120" y="377"/>
                </a:lnTo>
                <a:lnTo>
                  <a:pt x="120" y="374"/>
                </a:lnTo>
                <a:lnTo>
                  <a:pt x="121" y="369"/>
                </a:lnTo>
                <a:lnTo>
                  <a:pt x="121" y="366"/>
                </a:lnTo>
                <a:lnTo>
                  <a:pt x="122" y="362"/>
                </a:lnTo>
                <a:lnTo>
                  <a:pt x="122" y="358"/>
                </a:lnTo>
                <a:lnTo>
                  <a:pt x="122" y="354"/>
                </a:lnTo>
                <a:lnTo>
                  <a:pt x="124" y="351"/>
                </a:lnTo>
                <a:lnTo>
                  <a:pt x="124" y="346"/>
                </a:lnTo>
                <a:lnTo>
                  <a:pt x="125" y="343"/>
                </a:lnTo>
                <a:lnTo>
                  <a:pt x="125" y="338"/>
                </a:lnTo>
                <a:lnTo>
                  <a:pt x="125" y="335"/>
                </a:lnTo>
                <a:lnTo>
                  <a:pt x="126" y="330"/>
                </a:lnTo>
                <a:lnTo>
                  <a:pt x="126" y="327"/>
                </a:lnTo>
                <a:lnTo>
                  <a:pt x="126" y="322"/>
                </a:lnTo>
                <a:lnTo>
                  <a:pt x="127" y="319"/>
                </a:lnTo>
                <a:lnTo>
                  <a:pt x="127" y="314"/>
                </a:lnTo>
                <a:lnTo>
                  <a:pt x="128" y="311"/>
                </a:lnTo>
                <a:lnTo>
                  <a:pt x="128" y="307"/>
                </a:lnTo>
                <a:lnTo>
                  <a:pt x="128" y="302"/>
                </a:lnTo>
                <a:lnTo>
                  <a:pt x="130" y="299"/>
                </a:lnTo>
                <a:lnTo>
                  <a:pt x="130" y="294"/>
                </a:lnTo>
                <a:lnTo>
                  <a:pt x="131" y="289"/>
                </a:lnTo>
                <a:lnTo>
                  <a:pt x="131" y="284"/>
                </a:lnTo>
                <a:lnTo>
                  <a:pt x="131" y="281"/>
                </a:lnTo>
                <a:lnTo>
                  <a:pt x="132" y="276"/>
                </a:lnTo>
                <a:lnTo>
                  <a:pt x="132" y="271"/>
                </a:lnTo>
                <a:lnTo>
                  <a:pt x="133" y="267"/>
                </a:lnTo>
                <a:lnTo>
                  <a:pt x="133" y="262"/>
                </a:lnTo>
                <a:lnTo>
                  <a:pt x="133" y="257"/>
                </a:lnTo>
                <a:lnTo>
                  <a:pt x="134" y="252"/>
                </a:lnTo>
                <a:lnTo>
                  <a:pt x="134" y="247"/>
                </a:lnTo>
                <a:lnTo>
                  <a:pt x="134" y="243"/>
                </a:lnTo>
                <a:lnTo>
                  <a:pt x="136" y="238"/>
                </a:lnTo>
                <a:lnTo>
                  <a:pt x="136" y="233"/>
                </a:lnTo>
                <a:lnTo>
                  <a:pt x="137" y="228"/>
                </a:lnTo>
                <a:lnTo>
                  <a:pt x="137" y="224"/>
                </a:lnTo>
                <a:lnTo>
                  <a:pt x="137" y="219"/>
                </a:lnTo>
                <a:lnTo>
                  <a:pt x="138" y="214"/>
                </a:lnTo>
                <a:lnTo>
                  <a:pt x="138" y="209"/>
                </a:lnTo>
                <a:lnTo>
                  <a:pt x="139" y="204"/>
                </a:lnTo>
                <a:lnTo>
                  <a:pt x="139" y="200"/>
                </a:lnTo>
                <a:lnTo>
                  <a:pt x="139" y="193"/>
                </a:lnTo>
                <a:lnTo>
                  <a:pt x="140" y="188"/>
                </a:lnTo>
                <a:lnTo>
                  <a:pt x="140" y="184"/>
                </a:lnTo>
                <a:lnTo>
                  <a:pt x="141" y="177"/>
                </a:lnTo>
                <a:lnTo>
                  <a:pt x="141" y="173"/>
                </a:lnTo>
                <a:lnTo>
                  <a:pt x="141" y="168"/>
                </a:lnTo>
                <a:lnTo>
                  <a:pt x="143" y="161"/>
                </a:lnTo>
                <a:lnTo>
                  <a:pt x="143" y="157"/>
                </a:lnTo>
                <a:lnTo>
                  <a:pt x="143" y="152"/>
                </a:lnTo>
                <a:lnTo>
                  <a:pt x="144" y="145"/>
                </a:lnTo>
                <a:lnTo>
                  <a:pt x="144" y="141"/>
                </a:lnTo>
                <a:lnTo>
                  <a:pt x="145" y="134"/>
                </a:lnTo>
                <a:lnTo>
                  <a:pt x="145" y="129"/>
                </a:lnTo>
                <a:lnTo>
                  <a:pt x="145" y="123"/>
                </a:lnTo>
                <a:lnTo>
                  <a:pt x="146" y="118"/>
                </a:lnTo>
                <a:lnTo>
                  <a:pt x="146" y="112"/>
                </a:lnTo>
                <a:lnTo>
                  <a:pt x="147" y="107"/>
                </a:lnTo>
                <a:lnTo>
                  <a:pt x="147" y="101"/>
                </a:lnTo>
                <a:lnTo>
                  <a:pt x="147" y="94"/>
                </a:lnTo>
                <a:lnTo>
                  <a:pt x="149" y="90"/>
                </a:lnTo>
                <a:lnTo>
                  <a:pt x="149" y="83"/>
                </a:lnTo>
                <a:lnTo>
                  <a:pt x="150" y="77"/>
                </a:lnTo>
                <a:lnTo>
                  <a:pt x="150" y="70"/>
                </a:lnTo>
                <a:lnTo>
                  <a:pt x="150" y="66"/>
                </a:lnTo>
                <a:lnTo>
                  <a:pt x="151" y="59"/>
                </a:lnTo>
                <a:lnTo>
                  <a:pt x="151" y="53"/>
                </a:lnTo>
                <a:lnTo>
                  <a:pt x="151" y="46"/>
                </a:lnTo>
                <a:lnTo>
                  <a:pt x="152" y="40"/>
                </a:lnTo>
                <a:lnTo>
                  <a:pt x="152" y="34"/>
                </a:lnTo>
                <a:lnTo>
                  <a:pt x="153" y="29"/>
                </a:lnTo>
                <a:lnTo>
                  <a:pt x="153" y="23"/>
                </a:lnTo>
                <a:lnTo>
                  <a:pt x="153" y="16"/>
                </a:lnTo>
                <a:lnTo>
                  <a:pt x="155" y="10"/>
                </a:lnTo>
                <a:lnTo>
                  <a:pt x="155" y="3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5949720" y="3176640"/>
            <a:ext cx="1033560" cy="248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隶书"/>
              </a:rPr>
              <a:t>增大         增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3" dur="5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8" dur="500"/>
                                        <p:tgtEl>
                                          <p:spTgt spid="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3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4" fill="hold">
                      <p:stCondLst>
                        <p:cond delay="indefinite"/>
                      </p:stCondLst>
                      <p:childTnLst>
                        <p:par>
                          <p:cTn id="195" fill="hold">
                            <p:stCondLst>
                              <p:cond delay="0"/>
                            </p:stCondLst>
                            <p:childTnLst>
                              <p:par>
                                <p:cTn id="19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8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"/>
          <p:cNvSpPr/>
          <p:nvPr/>
        </p:nvSpPr>
        <p:spPr>
          <a:xfrm>
            <a:off x="395280" y="3587760"/>
            <a:ext cx="5616720" cy="23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2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开口方向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大于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时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开口向上；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当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a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小 于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0</a:t>
            </a: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时，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开口向下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539640" y="692280"/>
            <a:ext cx="540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二次函数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y=ax</a:t>
            </a:r>
            <a:r>
              <a:rPr b="1" lang="zh-CN" sz="3200" spc="-1" strike="noStrike" baseline="30000">
                <a:solidFill>
                  <a:srgbClr val="333399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333399"/>
                </a:solidFill>
                <a:latin typeface="黑体"/>
                <a:ea typeface="黑体"/>
              </a:rPr>
              <a:t>的图象的性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324000" y="1851120"/>
            <a:ext cx="720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Times New Roman"/>
                <a:ea typeface="楷体_GB2312"/>
              </a:rPr>
              <a:t>(1)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、顶点是原点，对称轴是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y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轴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4" name="" descr=""/>
          <p:cNvPicPr/>
          <p:nvPr/>
        </p:nvPicPr>
        <p:blipFill>
          <a:blip r:embed="rId1"/>
          <a:stretch/>
        </p:blipFill>
        <p:spPr>
          <a:xfrm>
            <a:off x="5111640" y="2421000"/>
            <a:ext cx="4032360" cy="3870360"/>
          </a:xfrm>
          <a:prstGeom prst="rect">
            <a:avLst/>
          </a:prstGeom>
          <a:ln w="0">
            <a:noFill/>
          </a:ln>
        </p:spPr>
      </p:pic>
      <p:pic>
        <p:nvPicPr>
          <p:cNvPr id="335" name="" descr=""/>
          <p:cNvPicPr/>
          <p:nvPr/>
        </p:nvPicPr>
        <p:blipFill>
          <a:blip r:embed="rId2"/>
          <a:stretch/>
        </p:blipFill>
        <p:spPr>
          <a:xfrm>
            <a:off x="4716360" y="1700280"/>
            <a:ext cx="4824360" cy="2738520"/>
          </a:xfrm>
          <a:prstGeom prst="rect">
            <a:avLst/>
          </a:prstGeom>
          <a:ln w="0">
            <a:noFill/>
          </a:ln>
        </p:spPr>
      </p:pic>
      <p:pic>
        <p:nvPicPr>
          <p:cNvPr id="336" name="" descr=""/>
          <p:cNvPicPr/>
          <p:nvPr/>
        </p:nvPicPr>
        <p:blipFill>
          <a:blip r:embed="rId3"/>
          <a:stretch/>
        </p:blipFill>
        <p:spPr>
          <a:xfrm>
            <a:off x="3635280" y="4221000"/>
            <a:ext cx="6705720" cy="2143440"/>
          </a:xfrm>
          <a:prstGeom prst="rect">
            <a:avLst/>
          </a:prstGeom>
          <a:ln w="0">
            <a:noFill/>
          </a:ln>
        </p:spPr>
      </p:pic>
      <p:sp>
        <p:nvSpPr>
          <p:cNvPr id="337" name=""/>
          <p:cNvSpPr/>
          <p:nvPr/>
        </p:nvSpPr>
        <p:spPr>
          <a:xfrm>
            <a:off x="7812000" y="1700280"/>
            <a:ext cx="9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&g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7846920" y="5084640"/>
            <a:ext cx="1297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&lt;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" descr=""/>
          <p:cNvPicPr/>
          <p:nvPr/>
        </p:nvPicPr>
        <p:blipFill>
          <a:blip r:embed="rId4"/>
          <a:stretch/>
        </p:blipFill>
        <p:spPr>
          <a:xfrm>
            <a:off x="4716360" y="1700280"/>
            <a:ext cx="4824360" cy="2738520"/>
          </a:xfrm>
          <a:prstGeom prst="rect">
            <a:avLst/>
          </a:prstGeom>
          <a:ln w="0">
            <a:noFill/>
          </a:ln>
        </p:spPr>
      </p:pic>
      <p:sp>
        <p:nvSpPr>
          <p:cNvPr id="340" name=""/>
          <p:cNvSpPr/>
          <p:nvPr/>
        </p:nvSpPr>
        <p:spPr>
          <a:xfrm>
            <a:off x="971640" y="2643120"/>
            <a:ext cx="3240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即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直线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楷体_GB2312"/>
              </a:rPr>
              <a:t>:x=0,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9" dur="indefinite" restart="never" nodeType="tmRoot">
          <p:childTnLst>
            <p:seq>
              <p:cTn id="200" dur="indefinite" nodeType="mainSeq">
                <p:childTnLst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5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500"/>
                                        <p:tgtEl>
                                          <p:spTgt spid="3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5" dur="5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"/>
          <p:cNvSpPr/>
          <p:nvPr/>
        </p:nvSpPr>
        <p:spPr>
          <a:xfrm>
            <a:off x="395280" y="981000"/>
            <a:ext cx="3529080" cy="246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324000" y="260280"/>
            <a:ext cx="453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(3)</a:t>
            </a:r>
            <a:r>
              <a:rPr b="1" lang="zh-CN" sz="3600" spc="-1" strike="noStrike">
                <a:solidFill>
                  <a:srgbClr val="333399"/>
                </a:solidFill>
                <a:latin typeface="Arial"/>
              </a:rPr>
              <a:t>、增减性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1"/>
          <a:stretch/>
        </p:blipFill>
        <p:spPr>
          <a:xfrm>
            <a:off x="4932360" y="260280"/>
            <a:ext cx="3995640" cy="226872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4716360" y="2492280"/>
            <a:ext cx="4427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 flipV="1">
            <a:off x="6804000" y="-360"/>
            <a:ext cx="73080" cy="5157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6" name="" descr=""/>
          <p:cNvPicPr/>
          <p:nvPr/>
        </p:nvPicPr>
        <p:blipFill>
          <a:blip r:embed="rId2"/>
          <a:stretch/>
        </p:blipFill>
        <p:spPr>
          <a:xfrm>
            <a:off x="3492360" y="2349360"/>
            <a:ext cx="6705720" cy="2143440"/>
          </a:xfrm>
          <a:prstGeom prst="rect">
            <a:avLst/>
          </a:prstGeom>
          <a:ln w="0">
            <a:noFill/>
          </a:ln>
        </p:spPr>
      </p:pic>
      <p:sp>
        <p:nvSpPr>
          <p:cNvPr id="347" name=""/>
          <p:cNvSpPr/>
          <p:nvPr/>
        </p:nvSpPr>
        <p:spPr>
          <a:xfrm>
            <a:off x="7596360" y="404640"/>
            <a:ext cx="158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a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＞</a:t>
            </a:r>
            <a:r>
              <a:rPr b="1" lang="zh-CN" sz="3200" spc="-1" strike="noStrike">
                <a:solidFill>
                  <a:srgbClr val="ff3300"/>
                </a:solidFill>
                <a:latin typeface="Arial"/>
              </a:rPr>
              <a:t>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7667640" y="3284640"/>
            <a:ext cx="100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Arial"/>
              </a:rPr>
              <a:t>a&lt;0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3203640" y="1844640"/>
            <a:ext cx="3960720" cy="73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73080" y="162864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对称轴的左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lt;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3274920" y="1628640"/>
            <a:ext cx="31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增大而减小；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0" y="2133720"/>
            <a:ext cx="3203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对称轴的右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gt;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311120" y="5883120"/>
            <a:ext cx="16765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92200" y="3355920"/>
            <a:ext cx="1209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a&lt;0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时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11280" y="1125360"/>
            <a:ext cx="2592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当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a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＞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0</a:t>
            </a:r>
            <a:r>
              <a:rPr b="1" lang="zh-CN" sz="2400" spc="-1" strike="noStrike">
                <a:solidFill>
                  <a:srgbClr val="ff5050"/>
                </a:solidFill>
                <a:latin typeface="Arial"/>
              </a:rPr>
              <a:t>时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0" y="3789360"/>
            <a:ext cx="19796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0" y="3998880"/>
            <a:ext cx="3059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对称轴的左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lt;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3130560" y="3998880"/>
            <a:ext cx="331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增大而增大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-36360" y="4575240"/>
            <a:ext cx="3241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在对称轴的右侧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(</a:t>
            </a:r>
            <a:r>
              <a:rPr b="1" lang="zh-CN" sz="2400" spc="-1" strike="noStrike">
                <a:solidFill>
                  <a:srgbClr val="ff3300"/>
                </a:solidFill>
                <a:latin typeface="Arial"/>
              </a:rPr>
              <a:t>x&gt;0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3132000" y="4575240"/>
            <a:ext cx="302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y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随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x</a:t>
            </a:r>
            <a:r>
              <a:rPr b="1" lang="zh-CN" sz="2400" spc="-1" strike="noStrike">
                <a:solidFill>
                  <a:srgbClr val="333399"/>
                </a:solidFill>
                <a:latin typeface="Arial"/>
              </a:rPr>
              <a:t>的增大而减小</a:t>
            </a:r>
            <a:r>
              <a:rPr b="0" lang="zh-CN" sz="2400" spc="-1" strike="noStrike">
                <a:solidFill>
                  <a:srgbClr val="000000"/>
                </a:solidFill>
                <a:latin typeface="Arial"/>
              </a:rPr>
              <a:t>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848880" y="2708280"/>
            <a:ext cx="3690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∴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=0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  y</a:t>
            </a:r>
            <a:r>
              <a:rPr b="1" lang="zh-CN" sz="2400" spc="-1" strike="noStrike" baseline="-25000">
                <a:solidFill>
                  <a:srgbClr val="000066"/>
                </a:solidFill>
                <a:latin typeface="Times New Roman"/>
              </a:rPr>
              <a:t>最小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1076040" y="5300640"/>
            <a:ext cx="3690000" cy="56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∴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当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x=0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时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,   y</a:t>
            </a:r>
            <a:r>
              <a:rPr b="1" lang="zh-CN" sz="2400" spc="-1" strike="noStrike" baseline="-25000">
                <a:solidFill>
                  <a:srgbClr val="000066"/>
                </a:solidFill>
                <a:latin typeface="Times New Roman"/>
              </a:rPr>
              <a:t>最大值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=o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50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7" dur="20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2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37" dur="5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2" dur="5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7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3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4" dur="80"/>
                                        <p:tgtEl>
                                          <p:spTgt spid="36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5" fill="hold">
                      <p:stCondLst>
                        <p:cond delay="indefinite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59" dur="500"/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4" dur="500"/>
                                        <p:tgtEl>
                                          <p:spTgt spid="3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9" dur="5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0" fill="hold">
                      <p:stCondLst>
                        <p:cond delay="indefinite"/>
                      </p:stCondLst>
                      <p:childTnLst>
                        <p:par>
                          <p:cTn id="271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4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7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4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6" dur="80"/>
                                        <p:tgtEl>
                                          <p:spTgt spid="36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"/>
          <p:cNvSpPr/>
          <p:nvPr/>
        </p:nvSpPr>
        <p:spPr>
          <a:xfrm>
            <a:off x="539640" y="333360"/>
            <a:ext cx="3168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试一试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26920" y="119700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2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在对称轴的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900000" y="3860640"/>
            <a:ext cx="7561440" cy="224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、函数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-3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的开口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对称轴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顶点是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在对称轴的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侧，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，在对称轴的右侧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增大而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     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zh-CN" sz="2800" spc="-1" strike="noStrike" u="sng">
                <a:solidFill>
                  <a:srgbClr val="000000"/>
                </a:solidFill>
                <a:uFillTx/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7" dur="indefinite" restart="never" nodeType="tmRoot">
          <p:childTnLst>
            <p:seq>
              <p:cTn id="288" dur="indefinite" nodeType="mainSeq">
                <p:childTnLst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3" dur="20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4" fill="hold">
                      <p:stCondLst>
                        <p:cond delay="indefinite"/>
                      </p:stCondLst>
                      <p:childTnLst>
                        <p:par>
                          <p:cTn id="295" fill="hold">
                            <p:stCondLst>
                              <p:cond delay="0"/>
                            </p:stCondLst>
                            <p:childTnLst>
                              <p:par>
                                <p:cTn id="296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98" dur="20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"/>
          <p:cNvSpPr/>
          <p:nvPr/>
        </p:nvSpPr>
        <p:spPr>
          <a:xfrm>
            <a:off x="228600" y="380880"/>
            <a:ext cx="8534520" cy="382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观察函数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y=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黑体"/>
                <a:ea typeface="黑体"/>
              </a:rPr>
              <a:t>的图象，则下列判断中正确的是      （       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若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a,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互为相反数，则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=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=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函数值相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于同一个自变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两个函数值与它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C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任一个实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有两个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和它对应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D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对任意实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都有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＞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4114800" y="5562720"/>
            <a:ext cx="228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 flipV="1">
            <a:off x="5257800" y="396252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172200" y="5562720"/>
            <a:ext cx="220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5334120" y="3809880"/>
            <a:ext cx="99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5181480" y="548640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4572000" y="4149720"/>
            <a:ext cx="1371600" cy="1392120"/>
          </a:xfrm>
          <a:custGeom>
            <a:avLst/>
            <a:gdLst/>
            <a:ahLst/>
            <a:rect l="l" t="t" r="r" b="b"/>
            <a:pathLst>
              <a:path w="155" h="541">
                <a:moveTo>
                  <a:pt x="0" y="0"/>
                </a:moveTo>
                <a:lnTo>
                  <a:pt x="0" y="7"/>
                </a:lnTo>
                <a:lnTo>
                  <a:pt x="0" y="13"/>
                </a:lnTo>
                <a:lnTo>
                  <a:pt x="1" y="19"/>
                </a:lnTo>
                <a:lnTo>
                  <a:pt x="1" y="26"/>
                </a:lnTo>
                <a:lnTo>
                  <a:pt x="3" y="32"/>
                </a:lnTo>
                <a:lnTo>
                  <a:pt x="3" y="39"/>
                </a:lnTo>
                <a:lnTo>
                  <a:pt x="3" y="45"/>
                </a:lnTo>
                <a:lnTo>
                  <a:pt x="4" y="50"/>
                </a:lnTo>
                <a:lnTo>
                  <a:pt x="4" y="56"/>
                </a:lnTo>
                <a:lnTo>
                  <a:pt x="5" y="62"/>
                </a:lnTo>
                <a:lnTo>
                  <a:pt x="5" y="69"/>
                </a:lnTo>
                <a:lnTo>
                  <a:pt x="5" y="75"/>
                </a:lnTo>
                <a:lnTo>
                  <a:pt x="6" y="80"/>
                </a:lnTo>
                <a:lnTo>
                  <a:pt x="6" y="86"/>
                </a:lnTo>
                <a:lnTo>
                  <a:pt x="6" y="93"/>
                </a:lnTo>
                <a:lnTo>
                  <a:pt x="7" y="98"/>
                </a:lnTo>
                <a:lnTo>
                  <a:pt x="7" y="104"/>
                </a:lnTo>
                <a:lnTo>
                  <a:pt x="9" y="110"/>
                </a:lnTo>
                <a:lnTo>
                  <a:pt x="9" y="115"/>
                </a:lnTo>
                <a:lnTo>
                  <a:pt x="9" y="121"/>
                </a:lnTo>
                <a:lnTo>
                  <a:pt x="10" y="126"/>
                </a:lnTo>
                <a:lnTo>
                  <a:pt x="10" y="133"/>
                </a:lnTo>
                <a:lnTo>
                  <a:pt x="11" y="137"/>
                </a:lnTo>
                <a:lnTo>
                  <a:pt x="11" y="144"/>
                </a:lnTo>
                <a:lnTo>
                  <a:pt x="11" y="149"/>
                </a:lnTo>
                <a:lnTo>
                  <a:pt x="12" y="155"/>
                </a:lnTo>
                <a:lnTo>
                  <a:pt x="12" y="160"/>
                </a:lnTo>
                <a:lnTo>
                  <a:pt x="13" y="165"/>
                </a:lnTo>
                <a:lnTo>
                  <a:pt x="13" y="171"/>
                </a:lnTo>
                <a:lnTo>
                  <a:pt x="13" y="176"/>
                </a:lnTo>
                <a:lnTo>
                  <a:pt x="15" y="180"/>
                </a:lnTo>
                <a:lnTo>
                  <a:pt x="15" y="187"/>
                </a:lnTo>
                <a:lnTo>
                  <a:pt x="15" y="192"/>
                </a:lnTo>
                <a:lnTo>
                  <a:pt x="16" y="196"/>
                </a:lnTo>
                <a:lnTo>
                  <a:pt x="16" y="201"/>
                </a:lnTo>
                <a:lnTo>
                  <a:pt x="17" y="208"/>
                </a:lnTo>
                <a:lnTo>
                  <a:pt x="17" y="212"/>
                </a:lnTo>
                <a:lnTo>
                  <a:pt x="17" y="217"/>
                </a:lnTo>
                <a:lnTo>
                  <a:pt x="18" y="222"/>
                </a:lnTo>
                <a:lnTo>
                  <a:pt x="18" y="227"/>
                </a:lnTo>
                <a:lnTo>
                  <a:pt x="19" y="232"/>
                </a:lnTo>
                <a:lnTo>
                  <a:pt x="19" y="236"/>
                </a:lnTo>
                <a:lnTo>
                  <a:pt x="19" y="241"/>
                </a:lnTo>
                <a:lnTo>
                  <a:pt x="20" y="246"/>
                </a:lnTo>
                <a:lnTo>
                  <a:pt x="20" y="251"/>
                </a:lnTo>
                <a:lnTo>
                  <a:pt x="22" y="255"/>
                </a:lnTo>
                <a:lnTo>
                  <a:pt x="22" y="260"/>
                </a:lnTo>
                <a:lnTo>
                  <a:pt x="22" y="265"/>
                </a:lnTo>
                <a:lnTo>
                  <a:pt x="23" y="270"/>
                </a:lnTo>
                <a:lnTo>
                  <a:pt x="23" y="275"/>
                </a:lnTo>
                <a:lnTo>
                  <a:pt x="23" y="278"/>
                </a:lnTo>
                <a:lnTo>
                  <a:pt x="24" y="283"/>
                </a:lnTo>
                <a:lnTo>
                  <a:pt x="24" y="287"/>
                </a:lnTo>
                <a:lnTo>
                  <a:pt x="25" y="292"/>
                </a:lnTo>
                <a:lnTo>
                  <a:pt x="25" y="295"/>
                </a:lnTo>
                <a:lnTo>
                  <a:pt x="25" y="300"/>
                </a:lnTo>
                <a:lnTo>
                  <a:pt x="26" y="305"/>
                </a:lnTo>
                <a:lnTo>
                  <a:pt x="26" y="308"/>
                </a:lnTo>
                <a:lnTo>
                  <a:pt x="28" y="313"/>
                </a:lnTo>
                <a:lnTo>
                  <a:pt x="28" y="318"/>
                </a:lnTo>
                <a:lnTo>
                  <a:pt x="28" y="321"/>
                </a:lnTo>
                <a:lnTo>
                  <a:pt x="29" y="326"/>
                </a:lnTo>
                <a:lnTo>
                  <a:pt x="29" y="329"/>
                </a:lnTo>
                <a:lnTo>
                  <a:pt x="30" y="334"/>
                </a:lnTo>
                <a:lnTo>
                  <a:pt x="30" y="337"/>
                </a:lnTo>
                <a:lnTo>
                  <a:pt x="30" y="342"/>
                </a:lnTo>
                <a:lnTo>
                  <a:pt x="31" y="345"/>
                </a:lnTo>
                <a:lnTo>
                  <a:pt x="31" y="350"/>
                </a:lnTo>
                <a:lnTo>
                  <a:pt x="31" y="353"/>
                </a:lnTo>
                <a:lnTo>
                  <a:pt x="32" y="356"/>
                </a:lnTo>
                <a:lnTo>
                  <a:pt x="32" y="361"/>
                </a:lnTo>
                <a:lnTo>
                  <a:pt x="34" y="364"/>
                </a:lnTo>
                <a:lnTo>
                  <a:pt x="34" y="367"/>
                </a:lnTo>
                <a:lnTo>
                  <a:pt x="34" y="372"/>
                </a:lnTo>
                <a:lnTo>
                  <a:pt x="35" y="375"/>
                </a:lnTo>
                <a:lnTo>
                  <a:pt x="35" y="378"/>
                </a:lnTo>
                <a:lnTo>
                  <a:pt x="36" y="381"/>
                </a:lnTo>
                <a:lnTo>
                  <a:pt x="36" y="385"/>
                </a:lnTo>
                <a:lnTo>
                  <a:pt x="36" y="389"/>
                </a:lnTo>
                <a:lnTo>
                  <a:pt x="37" y="393"/>
                </a:lnTo>
                <a:lnTo>
                  <a:pt x="37" y="396"/>
                </a:lnTo>
                <a:lnTo>
                  <a:pt x="38" y="399"/>
                </a:lnTo>
                <a:lnTo>
                  <a:pt x="38" y="402"/>
                </a:lnTo>
                <a:lnTo>
                  <a:pt x="38" y="405"/>
                </a:lnTo>
                <a:lnTo>
                  <a:pt x="39" y="409"/>
                </a:lnTo>
                <a:lnTo>
                  <a:pt x="39" y="412"/>
                </a:lnTo>
                <a:lnTo>
                  <a:pt x="39" y="415"/>
                </a:lnTo>
                <a:lnTo>
                  <a:pt x="41" y="418"/>
                </a:lnTo>
                <a:lnTo>
                  <a:pt x="41" y="421"/>
                </a:lnTo>
                <a:lnTo>
                  <a:pt x="42" y="425"/>
                </a:lnTo>
                <a:lnTo>
                  <a:pt x="42" y="428"/>
                </a:lnTo>
                <a:lnTo>
                  <a:pt x="42" y="429"/>
                </a:lnTo>
                <a:lnTo>
                  <a:pt x="43" y="433"/>
                </a:lnTo>
                <a:lnTo>
                  <a:pt x="43" y="436"/>
                </a:lnTo>
                <a:lnTo>
                  <a:pt x="44" y="439"/>
                </a:lnTo>
                <a:lnTo>
                  <a:pt x="44" y="442"/>
                </a:lnTo>
                <a:lnTo>
                  <a:pt x="44" y="444"/>
                </a:lnTo>
                <a:lnTo>
                  <a:pt x="45" y="447"/>
                </a:lnTo>
                <a:lnTo>
                  <a:pt x="45" y="450"/>
                </a:lnTo>
                <a:lnTo>
                  <a:pt x="45" y="452"/>
                </a:lnTo>
                <a:lnTo>
                  <a:pt x="47" y="455"/>
                </a:lnTo>
                <a:lnTo>
                  <a:pt x="47" y="456"/>
                </a:lnTo>
                <a:lnTo>
                  <a:pt x="48" y="460"/>
                </a:lnTo>
                <a:lnTo>
                  <a:pt x="48" y="463"/>
                </a:lnTo>
                <a:lnTo>
                  <a:pt x="48" y="464"/>
                </a:lnTo>
                <a:lnTo>
                  <a:pt x="49" y="468"/>
                </a:lnTo>
                <a:lnTo>
                  <a:pt x="49" y="469"/>
                </a:lnTo>
                <a:lnTo>
                  <a:pt x="50" y="472"/>
                </a:lnTo>
                <a:lnTo>
                  <a:pt x="50" y="474"/>
                </a:lnTo>
                <a:lnTo>
                  <a:pt x="50" y="476"/>
                </a:lnTo>
                <a:lnTo>
                  <a:pt x="51" y="479"/>
                </a:lnTo>
                <a:lnTo>
                  <a:pt x="51" y="480"/>
                </a:lnTo>
                <a:lnTo>
                  <a:pt x="52" y="482"/>
                </a:lnTo>
                <a:lnTo>
                  <a:pt x="52" y="485"/>
                </a:lnTo>
                <a:lnTo>
                  <a:pt x="52" y="487"/>
                </a:lnTo>
                <a:lnTo>
                  <a:pt x="54" y="488"/>
                </a:lnTo>
                <a:lnTo>
                  <a:pt x="54" y="492"/>
                </a:lnTo>
                <a:lnTo>
                  <a:pt x="54" y="493"/>
                </a:lnTo>
                <a:lnTo>
                  <a:pt x="55" y="495"/>
                </a:lnTo>
                <a:lnTo>
                  <a:pt x="55" y="496"/>
                </a:lnTo>
                <a:lnTo>
                  <a:pt x="56" y="498"/>
                </a:lnTo>
                <a:lnTo>
                  <a:pt x="56" y="500"/>
                </a:lnTo>
                <a:lnTo>
                  <a:pt x="56" y="503"/>
                </a:lnTo>
                <a:lnTo>
                  <a:pt x="57" y="504"/>
                </a:lnTo>
                <a:lnTo>
                  <a:pt x="57" y="506"/>
                </a:lnTo>
                <a:lnTo>
                  <a:pt x="58" y="508"/>
                </a:lnTo>
                <a:lnTo>
                  <a:pt x="58" y="509"/>
                </a:lnTo>
                <a:lnTo>
                  <a:pt x="58" y="511"/>
                </a:lnTo>
                <a:lnTo>
                  <a:pt x="60" y="512"/>
                </a:lnTo>
                <a:lnTo>
                  <a:pt x="60" y="514"/>
                </a:lnTo>
                <a:lnTo>
                  <a:pt x="61" y="514"/>
                </a:lnTo>
                <a:lnTo>
                  <a:pt x="61" y="515"/>
                </a:lnTo>
                <a:lnTo>
                  <a:pt x="61" y="517"/>
                </a:lnTo>
                <a:lnTo>
                  <a:pt x="62" y="519"/>
                </a:lnTo>
                <a:lnTo>
                  <a:pt x="62" y="520"/>
                </a:lnTo>
                <a:lnTo>
                  <a:pt x="62" y="522"/>
                </a:lnTo>
                <a:lnTo>
                  <a:pt x="63" y="522"/>
                </a:lnTo>
                <a:lnTo>
                  <a:pt x="63" y="523"/>
                </a:lnTo>
                <a:lnTo>
                  <a:pt x="64" y="525"/>
                </a:lnTo>
                <a:lnTo>
                  <a:pt x="64" y="527"/>
                </a:lnTo>
                <a:lnTo>
                  <a:pt x="66" y="528"/>
                </a:lnTo>
                <a:lnTo>
                  <a:pt x="67" y="530"/>
                </a:lnTo>
                <a:lnTo>
                  <a:pt x="67" y="531"/>
                </a:lnTo>
                <a:lnTo>
                  <a:pt x="68" y="533"/>
                </a:lnTo>
                <a:lnTo>
                  <a:pt x="69" y="535"/>
                </a:lnTo>
                <a:lnTo>
                  <a:pt x="70" y="536"/>
                </a:lnTo>
                <a:lnTo>
                  <a:pt x="70" y="538"/>
                </a:lnTo>
                <a:lnTo>
                  <a:pt x="71" y="538"/>
                </a:lnTo>
                <a:lnTo>
                  <a:pt x="73" y="538"/>
                </a:lnTo>
                <a:lnTo>
                  <a:pt x="73" y="539"/>
                </a:lnTo>
                <a:lnTo>
                  <a:pt x="74" y="539"/>
                </a:lnTo>
                <a:lnTo>
                  <a:pt x="75" y="541"/>
                </a:lnTo>
                <a:lnTo>
                  <a:pt x="76" y="541"/>
                </a:lnTo>
                <a:lnTo>
                  <a:pt x="77" y="541"/>
                </a:lnTo>
                <a:lnTo>
                  <a:pt x="79" y="541"/>
                </a:lnTo>
                <a:lnTo>
                  <a:pt x="80" y="541"/>
                </a:lnTo>
                <a:lnTo>
                  <a:pt x="81" y="539"/>
                </a:lnTo>
                <a:lnTo>
                  <a:pt x="82" y="539"/>
                </a:lnTo>
                <a:lnTo>
                  <a:pt x="83" y="538"/>
                </a:lnTo>
                <a:lnTo>
                  <a:pt x="85" y="536"/>
                </a:lnTo>
                <a:lnTo>
                  <a:pt x="86" y="536"/>
                </a:lnTo>
                <a:lnTo>
                  <a:pt x="86" y="535"/>
                </a:lnTo>
                <a:lnTo>
                  <a:pt x="87" y="533"/>
                </a:lnTo>
                <a:lnTo>
                  <a:pt x="87" y="531"/>
                </a:lnTo>
                <a:lnTo>
                  <a:pt x="88" y="531"/>
                </a:lnTo>
                <a:lnTo>
                  <a:pt x="88" y="530"/>
                </a:lnTo>
                <a:lnTo>
                  <a:pt x="89" y="530"/>
                </a:lnTo>
                <a:lnTo>
                  <a:pt x="89" y="528"/>
                </a:lnTo>
                <a:lnTo>
                  <a:pt x="89" y="527"/>
                </a:lnTo>
                <a:lnTo>
                  <a:pt x="90" y="527"/>
                </a:lnTo>
                <a:lnTo>
                  <a:pt x="90" y="525"/>
                </a:lnTo>
                <a:lnTo>
                  <a:pt x="92" y="523"/>
                </a:lnTo>
                <a:lnTo>
                  <a:pt x="92" y="522"/>
                </a:lnTo>
                <a:lnTo>
                  <a:pt x="93" y="520"/>
                </a:lnTo>
                <a:lnTo>
                  <a:pt x="93" y="519"/>
                </a:lnTo>
                <a:lnTo>
                  <a:pt x="94" y="517"/>
                </a:lnTo>
                <a:lnTo>
                  <a:pt x="94" y="515"/>
                </a:lnTo>
                <a:lnTo>
                  <a:pt x="95" y="514"/>
                </a:lnTo>
                <a:lnTo>
                  <a:pt x="95" y="512"/>
                </a:lnTo>
                <a:lnTo>
                  <a:pt x="95" y="511"/>
                </a:lnTo>
                <a:lnTo>
                  <a:pt x="96" y="509"/>
                </a:lnTo>
                <a:lnTo>
                  <a:pt x="96" y="508"/>
                </a:lnTo>
                <a:lnTo>
                  <a:pt x="98" y="506"/>
                </a:lnTo>
                <a:lnTo>
                  <a:pt x="98" y="504"/>
                </a:lnTo>
                <a:lnTo>
                  <a:pt x="98" y="503"/>
                </a:lnTo>
                <a:lnTo>
                  <a:pt x="99" y="501"/>
                </a:lnTo>
                <a:lnTo>
                  <a:pt x="99" y="500"/>
                </a:lnTo>
                <a:lnTo>
                  <a:pt x="100" y="498"/>
                </a:lnTo>
                <a:lnTo>
                  <a:pt x="100" y="495"/>
                </a:lnTo>
                <a:lnTo>
                  <a:pt x="100" y="493"/>
                </a:lnTo>
                <a:lnTo>
                  <a:pt x="101" y="492"/>
                </a:lnTo>
                <a:lnTo>
                  <a:pt x="101" y="490"/>
                </a:lnTo>
                <a:lnTo>
                  <a:pt x="102" y="488"/>
                </a:lnTo>
                <a:lnTo>
                  <a:pt x="102" y="485"/>
                </a:lnTo>
                <a:lnTo>
                  <a:pt x="102" y="484"/>
                </a:lnTo>
                <a:lnTo>
                  <a:pt x="104" y="482"/>
                </a:lnTo>
                <a:lnTo>
                  <a:pt x="104" y="479"/>
                </a:lnTo>
                <a:lnTo>
                  <a:pt x="104" y="477"/>
                </a:lnTo>
                <a:lnTo>
                  <a:pt x="105" y="476"/>
                </a:lnTo>
                <a:lnTo>
                  <a:pt x="105" y="472"/>
                </a:lnTo>
                <a:lnTo>
                  <a:pt x="106" y="471"/>
                </a:lnTo>
                <a:lnTo>
                  <a:pt x="106" y="468"/>
                </a:lnTo>
                <a:lnTo>
                  <a:pt x="106" y="466"/>
                </a:lnTo>
                <a:lnTo>
                  <a:pt x="107" y="463"/>
                </a:lnTo>
                <a:lnTo>
                  <a:pt x="107" y="461"/>
                </a:lnTo>
                <a:lnTo>
                  <a:pt x="108" y="458"/>
                </a:lnTo>
                <a:lnTo>
                  <a:pt x="108" y="456"/>
                </a:lnTo>
                <a:lnTo>
                  <a:pt x="108" y="453"/>
                </a:lnTo>
                <a:lnTo>
                  <a:pt x="109" y="450"/>
                </a:lnTo>
                <a:lnTo>
                  <a:pt x="109" y="448"/>
                </a:lnTo>
                <a:lnTo>
                  <a:pt x="111" y="445"/>
                </a:lnTo>
                <a:lnTo>
                  <a:pt x="111" y="442"/>
                </a:lnTo>
                <a:lnTo>
                  <a:pt x="111" y="441"/>
                </a:lnTo>
                <a:lnTo>
                  <a:pt x="112" y="437"/>
                </a:lnTo>
                <a:lnTo>
                  <a:pt x="112" y="434"/>
                </a:lnTo>
                <a:lnTo>
                  <a:pt x="112" y="431"/>
                </a:lnTo>
                <a:lnTo>
                  <a:pt x="113" y="428"/>
                </a:lnTo>
                <a:lnTo>
                  <a:pt x="113" y="425"/>
                </a:lnTo>
                <a:lnTo>
                  <a:pt x="114" y="423"/>
                </a:lnTo>
                <a:lnTo>
                  <a:pt x="114" y="420"/>
                </a:lnTo>
                <a:lnTo>
                  <a:pt x="114" y="417"/>
                </a:lnTo>
                <a:lnTo>
                  <a:pt x="115" y="413"/>
                </a:lnTo>
                <a:lnTo>
                  <a:pt x="115" y="410"/>
                </a:lnTo>
                <a:lnTo>
                  <a:pt x="117" y="407"/>
                </a:lnTo>
                <a:lnTo>
                  <a:pt x="117" y="404"/>
                </a:lnTo>
                <a:lnTo>
                  <a:pt x="117" y="401"/>
                </a:lnTo>
                <a:lnTo>
                  <a:pt x="118" y="397"/>
                </a:lnTo>
                <a:lnTo>
                  <a:pt x="118" y="394"/>
                </a:lnTo>
                <a:lnTo>
                  <a:pt x="118" y="391"/>
                </a:lnTo>
                <a:lnTo>
                  <a:pt x="119" y="386"/>
                </a:lnTo>
                <a:lnTo>
                  <a:pt x="119" y="383"/>
                </a:lnTo>
                <a:lnTo>
                  <a:pt x="120" y="380"/>
                </a:lnTo>
                <a:lnTo>
                  <a:pt x="120" y="377"/>
                </a:lnTo>
                <a:lnTo>
                  <a:pt x="120" y="374"/>
                </a:lnTo>
                <a:lnTo>
                  <a:pt x="121" y="369"/>
                </a:lnTo>
                <a:lnTo>
                  <a:pt x="121" y="366"/>
                </a:lnTo>
                <a:lnTo>
                  <a:pt x="122" y="362"/>
                </a:lnTo>
                <a:lnTo>
                  <a:pt x="122" y="358"/>
                </a:lnTo>
                <a:lnTo>
                  <a:pt x="122" y="354"/>
                </a:lnTo>
                <a:lnTo>
                  <a:pt x="124" y="351"/>
                </a:lnTo>
                <a:lnTo>
                  <a:pt x="124" y="346"/>
                </a:lnTo>
                <a:lnTo>
                  <a:pt x="125" y="343"/>
                </a:lnTo>
                <a:lnTo>
                  <a:pt x="125" y="338"/>
                </a:lnTo>
                <a:lnTo>
                  <a:pt x="125" y="335"/>
                </a:lnTo>
                <a:lnTo>
                  <a:pt x="126" y="330"/>
                </a:lnTo>
                <a:lnTo>
                  <a:pt x="126" y="327"/>
                </a:lnTo>
                <a:lnTo>
                  <a:pt x="126" y="322"/>
                </a:lnTo>
                <a:lnTo>
                  <a:pt x="127" y="319"/>
                </a:lnTo>
                <a:lnTo>
                  <a:pt x="127" y="314"/>
                </a:lnTo>
                <a:lnTo>
                  <a:pt x="128" y="311"/>
                </a:lnTo>
                <a:lnTo>
                  <a:pt x="128" y="307"/>
                </a:lnTo>
                <a:lnTo>
                  <a:pt x="128" y="302"/>
                </a:lnTo>
                <a:lnTo>
                  <a:pt x="130" y="299"/>
                </a:lnTo>
                <a:lnTo>
                  <a:pt x="130" y="294"/>
                </a:lnTo>
                <a:lnTo>
                  <a:pt x="131" y="289"/>
                </a:lnTo>
                <a:lnTo>
                  <a:pt x="131" y="284"/>
                </a:lnTo>
                <a:lnTo>
                  <a:pt x="131" y="281"/>
                </a:lnTo>
                <a:lnTo>
                  <a:pt x="132" y="276"/>
                </a:lnTo>
                <a:lnTo>
                  <a:pt x="132" y="271"/>
                </a:lnTo>
                <a:lnTo>
                  <a:pt x="133" y="267"/>
                </a:lnTo>
                <a:lnTo>
                  <a:pt x="133" y="262"/>
                </a:lnTo>
                <a:lnTo>
                  <a:pt x="133" y="257"/>
                </a:lnTo>
                <a:lnTo>
                  <a:pt x="134" y="252"/>
                </a:lnTo>
                <a:lnTo>
                  <a:pt x="134" y="247"/>
                </a:lnTo>
                <a:lnTo>
                  <a:pt x="134" y="243"/>
                </a:lnTo>
                <a:lnTo>
                  <a:pt x="136" y="238"/>
                </a:lnTo>
                <a:lnTo>
                  <a:pt x="136" y="233"/>
                </a:lnTo>
                <a:lnTo>
                  <a:pt x="137" y="228"/>
                </a:lnTo>
                <a:lnTo>
                  <a:pt x="137" y="224"/>
                </a:lnTo>
                <a:lnTo>
                  <a:pt x="137" y="219"/>
                </a:lnTo>
                <a:lnTo>
                  <a:pt x="138" y="214"/>
                </a:lnTo>
                <a:lnTo>
                  <a:pt x="138" y="209"/>
                </a:lnTo>
                <a:lnTo>
                  <a:pt x="139" y="204"/>
                </a:lnTo>
                <a:lnTo>
                  <a:pt x="139" y="200"/>
                </a:lnTo>
                <a:lnTo>
                  <a:pt x="139" y="193"/>
                </a:lnTo>
                <a:lnTo>
                  <a:pt x="140" y="188"/>
                </a:lnTo>
                <a:lnTo>
                  <a:pt x="140" y="184"/>
                </a:lnTo>
                <a:lnTo>
                  <a:pt x="141" y="177"/>
                </a:lnTo>
                <a:lnTo>
                  <a:pt x="141" y="173"/>
                </a:lnTo>
                <a:lnTo>
                  <a:pt x="141" y="168"/>
                </a:lnTo>
                <a:lnTo>
                  <a:pt x="143" y="161"/>
                </a:lnTo>
                <a:lnTo>
                  <a:pt x="143" y="157"/>
                </a:lnTo>
                <a:lnTo>
                  <a:pt x="143" y="152"/>
                </a:lnTo>
                <a:lnTo>
                  <a:pt x="144" y="145"/>
                </a:lnTo>
                <a:lnTo>
                  <a:pt x="144" y="141"/>
                </a:lnTo>
                <a:lnTo>
                  <a:pt x="145" y="134"/>
                </a:lnTo>
                <a:lnTo>
                  <a:pt x="145" y="129"/>
                </a:lnTo>
                <a:lnTo>
                  <a:pt x="145" y="123"/>
                </a:lnTo>
                <a:lnTo>
                  <a:pt x="146" y="118"/>
                </a:lnTo>
                <a:lnTo>
                  <a:pt x="146" y="112"/>
                </a:lnTo>
                <a:lnTo>
                  <a:pt x="147" y="107"/>
                </a:lnTo>
                <a:lnTo>
                  <a:pt x="147" y="101"/>
                </a:lnTo>
                <a:lnTo>
                  <a:pt x="147" y="94"/>
                </a:lnTo>
                <a:lnTo>
                  <a:pt x="149" y="90"/>
                </a:lnTo>
                <a:lnTo>
                  <a:pt x="149" y="83"/>
                </a:lnTo>
                <a:lnTo>
                  <a:pt x="150" y="77"/>
                </a:lnTo>
                <a:lnTo>
                  <a:pt x="150" y="70"/>
                </a:lnTo>
                <a:lnTo>
                  <a:pt x="150" y="66"/>
                </a:lnTo>
                <a:lnTo>
                  <a:pt x="151" y="59"/>
                </a:lnTo>
                <a:lnTo>
                  <a:pt x="151" y="53"/>
                </a:lnTo>
                <a:lnTo>
                  <a:pt x="151" y="46"/>
                </a:lnTo>
                <a:lnTo>
                  <a:pt x="152" y="40"/>
                </a:lnTo>
                <a:lnTo>
                  <a:pt x="152" y="34"/>
                </a:lnTo>
                <a:lnTo>
                  <a:pt x="153" y="29"/>
                </a:lnTo>
                <a:lnTo>
                  <a:pt x="153" y="23"/>
                </a:lnTo>
                <a:lnTo>
                  <a:pt x="153" y="16"/>
                </a:lnTo>
                <a:lnTo>
                  <a:pt x="155" y="10"/>
                </a:lnTo>
                <a:lnTo>
                  <a:pt x="155" y="3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971640" y="1484280"/>
            <a:ext cx="533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"/>
          <p:cNvSpPr/>
          <p:nvPr/>
        </p:nvSpPr>
        <p:spPr>
          <a:xfrm>
            <a:off x="228600" y="304920"/>
            <a:ext cx="8305920" cy="360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例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、已知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y =(m+1)x  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是二次函数且其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图象开口向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求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m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值和函数解析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）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在何范围内，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增大而增大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y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增大而减小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5" name=""/>
              <p:cNvSpPr txBox="1"/>
              <p:nvPr/>
            </p:nvSpPr>
            <p:spPr>
              <a:xfrm>
                <a:off x="3962520" y="228600"/>
                <a:ext cx="1143000" cy="4716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r>
                          <m:t xml:space="preserve">m</m:t>
                        </m:r>
                      </m:e>
                      <m:sup>
                        <m:r>
                          <m:t xml:space="preserve">2</m:t>
                        </m:r>
                      </m:sup>
                    </m:sSup>
                    <m:r>
                      <m:t xml:space="preserve">+</m:t>
                    </m:r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grpSp>
        <p:nvGrpSpPr>
          <p:cNvPr id="376" name=""/>
          <p:cNvGrpSpPr/>
          <p:nvPr/>
        </p:nvGrpSpPr>
        <p:grpSpPr>
          <a:xfrm>
            <a:off x="4876920" y="3189240"/>
            <a:ext cx="3733560" cy="2832120"/>
            <a:chOff x="4876920" y="3189240"/>
            <a:chExt cx="3733560" cy="2832120"/>
          </a:xfrm>
        </p:grpSpPr>
        <p:sp>
          <p:nvSpPr>
            <p:cNvPr id="377" name=""/>
            <p:cNvSpPr/>
            <p:nvPr/>
          </p:nvSpPr>
          <p:spPr>
            <a:xfrm>
              <a:off x="4876920" y="4560840"/>
              <a:ext cx="2971800" cy="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6227640" y="3582720"/>
              <a:ext cx="0" cy="2438640"/>
            </a:xfrm>
            <a:prstGeom prst="line">
              <a:avLst/>
            </a:prstGeom>
            <a:ln w="28440">
              <a:solidFill>
                <a:srgbClr val="0000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rot="10762800">
              <a:off x="5486400" y="4560480"/>
              <a:ext cx="1447920" cy="1239840"/>
            </a:xfrm>
            <a:custGeom>
              <a:avLst/>
              <a:gdLst/>
              <a:ahLst/>
              <a:rect l="l" t="t" r="r" b="b"/>
              <a:pathLst>
                <a:path w="155" h="541">
                  <a:moveTo>
                    <a:pt x="0" y="0"/>
                  </a:moveTo>
                  <a:lnTo>
                    <a:pt x="0" y="7"/>
                  </a:lnTo>
                  <a:lnTo>
                    <a:pt x="0" y="13"/>
                  </a:lnTo>
                  <a:lnTo>
                    <a:pt x="1" y="19"/>
                  </a:lnTo>
                  <a:lnTo>
                    <a:pt x="1" y="26"/>
                  </a:lnTo>
                  <a:lnTo>
                    <a:pt x="3" y="32"/>
                  </a:lnTo>
                  <a:lnTo>
                    <a:pt x="3" y="39"/>
                  </a:lnTo>
                  <a:lnTo>
                    <a:pt x="3" y="45"/>
                  </a:lnTo>
                  <a:lnTo>
                    <a:pt x="4" y="50"/>
                  </a:lnTo>
                  <a:lnTo>
                    <a:pt x="4" y="56"/>
                  </a:lnTo>
                  <a:lnTo>
                    <a:pt x="5" y="62"/>
                  </a:lnTo>
                  <a:lnTo>
                    <a:pt x="5" y="69"/>
                  </a:lnTo>
                  <a:lnTo>
                    <a:pt x="5" y="75"/>
                  </a:lnTo>
                  <a:lnTo>
                    <a:pt x="6" y="80"/>
                  </a:lnTo>
                  <a:lnTo>
                    <a:pt x="6" y="86"/>
                  </a:lnTo>
                  <a:lnTo>
                    <a:pt x="6" y="93"/>
                  </a:lnTo>
                  <a:lnTo>
                    <a:pt x="7" y="98"/>
                  </a:lnTo>
                  <a:lnTo>
                    <a:pt x="7" y="104"/>
                  </a:lnTo>
                  <a:lnTo>
                    <a:pt x="9" y="110"/>
                  </a:lnTo>
                  <a:lnTo>
                    <a:pt x="9" y="115"/>
                  </a:lnTo>
                  <a:lnTo>
                    <a:pt x="9" y="121"/>
                  </a:lnTo>
                  <a:lnTo>
                    <a:pt x="10" y="126"/>
                  </a:lnTo>
                  <a:lnTo>
                    <a:pt x="10" y="133"/>
                  </a:lnTo>
                  <a:lnTo>
                    <a:pt x="11" y="137"/>
                  </a:lnTo>
                  <a:lnTo>
                    <a:pt x="11" y="144"/>
                  </a:lnTo>
                  <a:lnTo>
                    <a:pt x="11" y="149"/>
                  </a:lnTo>
                  <a:lnTo>
                    <a:pt x="12" y="155"/>
                  </a:lnTo>
                  <a:lnTo>
                    <a:pt x="12" y="160"/>
                  </a:lnTo>
                  <a:lnTo>
                    <a:pt x="13" y="165"/>
                  </a:lnTo>
                  <a:lnTo>
                    <a:pt x="13" y="171"/>
                  </a:lnTo>
                  <a:lnTo>
                    <a:pt x="13" y="176"/>
                  </a:lnTo>
                  <a:lnTo>
                    <a:pt x="15" y="180"/>
                  </a:lnTo>
                  <a:lnTo>
                    <a:pt x="15" y="187"/>
                  </a:lnTo>
                  <a:lnTo>
                    <a:pt x="15" y="192"/>
                  </a:lnTo>
                  <a:lnTo>
                    <a:pt x="16" y="196"/>
                  </a:lnTo>
                  <a:lnTo>
                    <a:pt x="16" y="201"/>
                  </a:lnTo>
                  <a:lnTo>
                    <a:pt x="17" y="208"/>
                  </a:lnTo>
                  <a:lnTo>
                    <a:pt x="17" y="212"/>
                  </a:lnTo>
                  <a:lnTo>
                    <a:pt x="17" y="217"/>
                  </a:lnTo>
                  <a:lnTo>
                    <a:pt x="18" y="222"/>
                  </a:lnTo>
                  <a:lnTo>
                    <a:pt x="18" y="227"/>
                  </a:lnTo>
                  <a:lnTo>
                    <a:pt x="19" y="232"/>
                  </a:lnTo>
                  <a:lnTo>
                    <a:pt x="19" y="236"/>
                  </a:lnTo>
                  <a:lnTo>
                    <a:pt x="19" y="241"/>
                  </a:lnTo>
                  <a:lnTo>
                    <a:pt x="20" y="246"/>
                  </a:lnTo>
                  <a:lnTo>
                    <a:pt x="20" y="251"/>
                  </a:lnTo>
                  <a:lnTo>
                    <a:pt x="22" y="255"/>
                  </a:lnTo>
                  <a:lnTo>
                    <a:pt x="22" y="260"/>
                  </a:lnTo>
                  <a:lnTo>
                    <a:pt x="22" y="265"/>
                  </a:lnTo>
                  <a:lnTo>
                    <a:pt x="23" y="270"/>
                  </a:lnTo>
                  <a:lnTo>
                    <a:pt x="23" y="275"/>
                  </a:lnTo>
                  <a:lnTo>
                    <a:pt x="23" y="278"/>
                  </a:lnTo>
                  <a:lnTo>
                    <a:pt x="24" y="283"/>
                  </a:lnTo>
                  <a:lnTo>
                    <a:pt x="24" y="287"/>
                  </a:lnTo>
                  <a:lnTo>
                    <a:pt x="25" y="292"/>
                  </a:lnTo>
                  <a:lnTo>
                    <a:pt x="25" y="295"/>
                  </a:lnTo>
                  <a:lnTo>
                    <a:pt x="25" y="300"/>
                  </a:lnTo>
                  <a:lnTo>
                    <a:pt x="26" y="305"/>
                  </a:lnTo>
                  <a:lnTo>
                    <a:pt x="26" y="308"/>
                  </a:lnTo>
                  <a:lnTo>
                    <a:pt x="28" y="313"/>
                  </a:lnTo>
                  <a:lnTo>
                    <a:pt x="28" y="318"/>
                  </a:lnTo>
                  <a:lnTo>
                    <a:pt x="28" y="321"/>
                  </a:lnTo>
                  <a:lnTo>
                    <a:pt x="29" y="326"/>
                  </a:lnTo>
                  <a:lnTo>
                    <a:pt x="29" y="329"/>
                  </a:lnTo>
                  <a:lnTo>
                    <a:pt x="30" y="334"/>
                  </a:lnTo>
                  <a:lnTo>
                    <a:pt x="30" y="337"/>
                  </a:lnTo>
                  <a:lnTo>
                    <a:pt x="30" y="342"/>
                  </a:lnTo>
                  <a:lnTo>
                    <a:pt x="31" y="345"/>
                  </a:lnTo>
                  <a:lnTo>
                    <a:pt x="31" y="350"/>
                  </a:lnTo>
                  <a:lnTo>
                    <a:pt x="31" y="353"/>
                  </a:lnTo>
                  <a:lnTo>
                    <a:pt x="32" y="356"/>
                  </a:lnTo>
                  <a:lnTo>
                    <a:pt x="32" y="361"/>
                  </a:lnTo>
                  <a:lnTo>
                    <a:pt x="34" y="364"/>
                  </a:lnTo>
                  <a:lnTo>
                    <a:pt x="34" y="367"/>
                  </a:lnTo>
                  <a:lnTo>
                    <a:pt x="34" y="372"/>
                  </a:lnTo>
                  <a:lnTo>
                    <a:pt x="35" y="375"/>
                  </a:lnTo>
                  <a:lnTo>
                    <a:pt x="35" y="378"/>
                  </a:lnTo>
                  <a:lnTo>
                    <a:pt x="36" y="381"/>
                  </a:lnTo>
                  <a:lnTo>
                    <a:pt x="36" y="385"/>
                  </a:lnTo>
                  <a:lnTo>
                    <a:pt x="36" y="389"/>
                  </a:lnTo>
                  <a:lnTo>
                    <a:pt x="37" y="393"/>
                  </a:lnTo>
                  <a:lnTo>
                    <a:pt x="37" y="396"/>
                  </a:lnTo>
                  <a:lnTo>
                    <a:pt x="38" y="399"/>
                  </a:lnTo>
                  <a:lnTo>
                    <a:pt x="38" y="402"/>
                  </a:lnTo>
                  <a:lnTo>
                    <a:pt x="38" y="405"/>
                  </a:lnTo>
                  <a:lnTo>
                    <a:pt x="39" y="409"/>
                  </a:lnTo>
                  <a:lnTo>
                    <a:pt x="39" y="412"/>
                  </a:lnTo>
                  <a:lnTo>
                    <a:pt x="39" y="415"/>
                  </a:lnTo>
                  <a:lnTo>
                    <a:pt x="41" y="418"/>
                  </a:lnTo>
                  <a:lnTo>
                    <a:pt x="41" y="421"/>
                  </a:lnTo>
                  <a:lnTo>
                    <a:pt x="42" y="425"/>
                  </a:lnTo>
                  <a:lnTo>
                    <a:pt x="42" y="428"/>
                  </a:lnTo>
                  <a:lnTo>
                    <a:pt x="42" y="429"/>
                  </a:lnTo>
                  <a:lnTo>
                    <a:pt x="43" y="433"/>
                  </a:lnTo>
                  <a:lnTo>
                    <a:pt x="43" y="436"/>
                  </a:lnTo>
                  <a:lnTo>
                    <a:pt x="44" y="439"/>
                  </a:lnTo>
                  <a:lnTo>
                    <a:pt x="44" y="442"/>
                  </a:lnTo>
                  <a:lnTo>
                    <a:pt x="44" y="444"/>
                  </a:lnTo>
                  <a:lnTo>
                    <a:pt x="45" y="447"/>
                  </a:lnTo>
                  <a:lnTo>
                    <a:pt x="45" y="450"/>
                  </a:lnTo>
                  <a:lnTo>
                    <a:pt x="45" y="452"/>
                  </a:lnTo>
                  <a:lnTo>
                    <a:pt x="47" y="455"/>
                  </a:lnTo>
                  <a:lnTo>
                    <a:pt x="47" y="456"/>
                  </a:lnTo>
                  <a:lnTo>
                    <a:pt x="48" y="460"/>
                  </a:lnTo>
                  <a:lnTo>
                    <a:pt x="48" y="463"/>
                  </a:lnTo>
                  <a:lnTo>
                    <a:pt x="48" y="464"/>
                  </a:lnTo>
                  <a:lnTo>
                    <a:pt x="49" y="468"/>
                  </a:lnTo>
                  <a:lnTo>
                    <a:pt x="49" y="469"/>
                  </a:lnTo>
                  <a:lnTo>
                    <a:pt x="50" y="472"/>
                  </a:lnTo>
                  <a:lnTo>
                    <a:pt x="50" y="474"/>
                  </a:lnTo>
                  <a:lnTo>
                    <a:pt x="50" y="476"/>
                  </a:lnTo>
                  <a:lnTo>
                    <a:pt x="51" y="479"/>
                  </a:lnTo>
                  <a:lnTo>
                    <a:pt x="51" y="480"/>
                  </a:lnTo>
                  <a:lnTo>
                    <a:pt x="52" y="482"/>
                  </a:lnTo>
                  <a:lnTo>
                    <a:pt x="52" y="485"/>
                  </a:lnTo>
                  <a:lnTo>
                    <a:pt x="52" y="487"/>
                  </a:lnTo>
                  <a:lnTo>
                    <a:pt x="54" y="488"/>
                  </a:lnTo>
                  <a:lnTo>
                    <a:pt x="54" y="492"/>
                  </a:lnTo>
                  <a:lnTo>
                    <a:pt x="54" y="493"/>
                  </a:lnTo>
                  <a:lnTo>
                    <a:pt x="55" y="495"/>
                  </a:lnTo>
                  <a:lnTo>
                    <a:pt x="55" y="496"/>
                  </a:lnTo>
                  <a:lnTo>
                    <a:pt x="56" y="498"/>
                  </a:lnTo>
                  <a:lnTo>
                    <a:pt x="56" y="500"/>
                  </a:lnTo>
                  <a:lnTo>
                    <a:pt x="56" y="503"/>
                  </a:lnTo>
                  <a:lnTo>
                    <a:pt x="57" y="504"/>
                  </a:lnTo>
                  <a:lnTo>
                    <a:pt x="57" y="506"/>
                  </a:lnTo>
                  <a:lnTo>
                    <a:pt x="58" y="508"/>
                  </a:lnTo>
                  <a:lnTo>
                    <a:pt x="58" y="509"/>
                  </a:lnTo>
                  <a:lnTo>
                    <a:pt x="58" y="511"/>
                  </a:lnTo>
                  <a:lnTo>
                    <a:pt x="60" y="512"/>
                  </a:lnTo>
                  <a:lnTo>
                    <a:pt x="60" y="514"/>
                  </a:lnTo>
                  <a:lnTo>
                    <a:pt x="61" y="514"/>
                  </a:lnTo>
                  <a:lnTo>
                    <a:pt x="61" y="515"/>
                  </a:lnTo>
                  <a:lnTo>
                    <a:pt x="61" y="517"/>
                  </a:lnTo>
                  <a:lnTo>
                    <a:pt x="62" y="519"/>
                  </a:lnTo>
                  <a:lnTo>
                    <a:pt x="62" y="520"/>
                  </a:lnTo>
                  <a:lnTo>
                    <a:pt x="62" y="522"/>
                  </a:lnTo>
                  <a:lnTo>
                    <a:pt x="63" y="522"/>
                  </a:lnTo>
                  <a:lnTo>
                    <a:pt x="63" y="523"/>
                  </a:lnTo>
                  <a:lnTo>
                    <a:pt x="64" y="525"/>
                  </a:lnTo>
                  <a:lnTo>
                    <a:pt x="64" y="527"/>
                  </a:lnTo>
                  <a:lnTo>
                    <a:pt x="66" y="528"/>
                  </a:lnTo>
                  <a:lnTo>
                    <a:pt x="67" y="530"/>
                  </a:lnTo>
                  <a:lnTo>
                    <a:pt x="67" y="531"/>
                  </a:lnTo>
                  <a:lnTo>
                    <a:pt x="68" y="533"/>
                  </a:lnTo>
                  <a:lnTo>
                    <a:pt x="69" y="535"/>
                  </a:lnTo>
                  <a:lnTo>
                    <a:pt x="70" y="536"/>
                  </a:lnTo>
                  <a:lnTo>
                    <a:pt x="70" y="538"/>
                  </a:lnTo>
                  <a:lnTo>
                    <a:pt x="71" y="538"/>
                  </a:lnTo>
                  <a:lnTo>
                    <a:pt x="73" y="538"/>
                  </a:lnTo>
                  <a:lnTo>
                    <a:pt x="73" y="539"/>
                  </a:lnTo>
                  <a:lnTo>
                    <a:pt x="74" y="539"/>
                  </a:lnTo>
                  <a:lnTo>
                    <a:pt x="75" y="541"/>
                  </a:lnTo>
                  <a:lnTo>
                    <a:pt x="76" y="541"/>
                  </a:lnTo>
                  <a:lnTo>
                    <a:pt x="77" y="541"/>
                  </a:lnTo>
                  <a:lnTo>
                    <a:pt x="79" y="541"/>
                  </a:lnTo>
                  <a:lnTo>
                    <a:pt x="80" y="541"/>
                  </a:lnTo>
                  <a:lnTo>
                    <a:pt x="81" y="539"/>
                  </a:lnTo>
                  <a:lnTo>
                    <a:pt x="82" y="539"/>
                  </a:lnTo>
                  <a:lnTo>
                    <a:pt x="83" y="538"/>
                  </a:lnTo>
                  <a:lnTo>
                    <a:pt x="85" y="536"/>
                  </a:lnTo>
                  <a:lnTo>
                    <a:pt x="86" y="536"/>
                  </a:lnTo>
                  <a:lnTo>
                    <a:pt x="86" y="535"/>
                  </a:lnTo>
                  <a:lnTo>
                    <a:pt x="87" y="533"/>
                  </a:lnTo>
                  <a:lnTo>
                    <a:pt x="87" y="531"/>
                  </a:lnTo>
                  <a:lnTo>
                    <a:pt x="88" y="531"/>
                  </a:lnTo>
                  <a:lnTo>
                    <a:pt x="88" y="530"/>
                  </a:lnTo>
                  <a:lnTo>
                    <a:pt x="89" y="530"/>
                  </a:lnTo>
                  <a:lnTo>
                    <a:pt x="89" y="528"/>
                  </a:lnTo>
                  <a:lnTo>
                    <a:pt x="89" y="527"/>
                  </a:lnTo>
                  <a:lnTo>
                    <a:pt x="90" y="527"/>
                  </a:lnTo>
                  <a:lnTo>
                    <a:pt x="90" y="525"/>
                  </a:lnTo>
                  <a:lnTo>
                    <a:pt x="92" y="523"/>
                  </a:lnTo>
                  <a:lnTo>
                    <a:pt x="92" y="522"/>
                  </a:lnTo>
                  <a:lnTo>
                    <a:pt x="93" y="520"/>
                  </a:lnTo>
                  <a:lnTo>
                    <a:pt x="93" y="519"/>
                  </a:lnTo>
                  <a:lnTo>
                    <a:pt x="94" y="517"/>
                  </a:lnTo>
                  <a:lnTo>
                    <a:pt x="94" y="515"/>
                  </a:lnTo>
                  <a:lnTo>
                    <a:pt x="95" y="514"/>
                  </a:lnTo>
                  <a:lnTo>
                    <a:pt x="95" y="512"/>
                  </a:lnTo>
                  <a:lnTo>
                    <a:pt x="95" y="511"/>
                  </a:lnTo>
                  <a:lnTo>
                    <a:pt x="96" y="509"/>
                  </a:lnTo>
                  <a:lnTo>
                    <a:pt x="96" y="508"/>
                  </a:lnTo>
                  <a:lnTo>
                    <a:pt x="98" y="506"/>
                  </a:lnTo>
                  <a:lnTo>
                    <a:pt x="98" y="504"/>
                  </a:lnTo>
                  <a:lnTo>
                    <a:pt x="98" y="503"/>
                  </a:lnTo>
                  <a:lnTo>
                    <a:pt x="99" y="501"/>
                  </a:lnTo>
                  <a:lnTo>
                    <a:pt x="99" y="500"/>
                  </a:lnTo>
                  <a:lnTo>
                    <a:pt x="100" y="498"/>
                  </a:lnTo>
                  <a:lnTo>
                    <a:pt x="100" y="495"/>
                  </a:lnTo>
                  <a:lnTo>
                    <a:pt x="100" y="493"/>
                  </a:lnTo>
                  <a:lnTo>
                    <a:pt x="101" y="492"/>
                  </a:lnTo>
                  <a:lnTo>
                    <a:pt x="101" y="490"/>
                  </a:lnTo>
                  <a:lnTo>
                    <a:pt x="102" y="488"/>
                  </a:lnTo>
                  <a:lnTo>
                    <a:pt x="102" y="485"/>
                  </a:lnTo>
                  <a:lnTo>
                    <a:pt x="102" y="484"/>
                  </a:lnTo>
                  <a:lnTo>
                    <a:pt x="104" y="482"/>
                  </a:lnTo>
                  <a:lnTo>
                    <a:pt x="104" y="479"/>
                  </a:lnTo>
                  <a:lnTo>
                    <a:pt x="104" y="477"/>
                  </a:lnTo>
                  <a:lnTo>
                    <a:pt x="105" y="476"/>
                  </a:lnTo>
                  <a:lnTo>
                    <a:pt x="105" y="472"/>
                  </a:lnTo>
                  <a:lnTo>
                    <a:pt x="106" y="471"/>
                  </a:lnTo>
                  <a:lnTo>
                    <a:pt x="106" y="468"/>
                  </a:lnTo>
                  <a:lnTo>
                    <a:pt x="106" y="466"/>
                  </a:lnTo>
                  <a:lnTo>
                    <a:pt x="107" y="463"/>
                  </a:lnTo>
                  <a:lnTo>
                    <a:pt x="107" y="461"/>
                  </a:lnTo>
                  <a:lnTo>
                    <a:pt x="108" y="458"/>
                  </a:lnTo>
                  <a:lnTo>
                    <a:pt x="108" y="456"/>
                  </a:lnTo>
                  <a:lnTo>
                    <a:pt x="108" y="453"/>
                  </a:lnTo>
                  <a:lnTo>
                    <a:pt x="109" y="450"/>
                  </a:lnTo>
                  <a:lnTo>
                    <a:pt x="109" y="448"/>
                  </a:lnTo>
                  <a:lnTo>
                    <a:pt x="111" y="445"/>
                  </a:lnTo>
                  <a:lnTo>
                    <a:pt x="111" y="442"/>
                  </a:lnTo>
                  <a:lnTo>
                    <a:pt x="111" y="441"/>
                  </a:lnTo>
                  <a:lnTo>
                    <a:pt x="112" y="437"/>
                  </a:lnTo>
                  <a:lnTo>
                    <a:pt x="112" y="434"/>
                  </a:lnTo>
                  <a:lnTo>
                    <a:pt x="112" y="431"/>
                  </a:lnTo>
                  <a:lnTo>
                    <a:pt x="113" y="428"/>
                  </a:lnTo>
                  <a:lnTo>
                    <a:pt x="113" y="425"/>
                  </a:lnTo>
                  <a:lnTo>
                    <a:pt x="114" y="423"/>
                  </a:lnTo>
                  <a:lnTo>
                    <a:pt x="114" y="420"/>
                  </a:lnTo>
                  <a:lnTo>
                    <a:pt x="114" y="417"/>
                  </a:lnTo>
                  <a:lnTo>
                    <a:pt x="115" y="413"/>
                  </a:lnTo>
                  <a:lnTo>
                    <a:pt x="115" y="410"/>
                  </a:lnTo>
                  <a:lnTo>
                    <a:pt x="117" y="407"/>
                  </a:lnTo>
                  <a:lnTo>
                    <a:pt x="117" y="404"/>
                  </a:lnTo>
                  <a:lnTo>
                    <a:pt x="117" y="401"/>
                  </a:lnTo>
                  <a:lnTo>
                    <a:pt x="118" y="397"/>
                  </a:lnTo>
                  <a:lnTo>
                    <a:pt x="118" y="394"/>
                  </a:lnTo>
                  <a:lnTo>
                    <a:pt x="118" y="391"/>
                  </a:lnTo>
                  <a:lnTo>
                    <a:pt x="119" y="386"/>
                  </a:lnTo>
                  <a:lnTo>
                    <a:pt x="119" y="383"/>
                  </a:lnTo>
                  <a:lnTo>
                    <a:pt x="120" y="380"/>
                  </a:lnTo>
                  <a:lnTo>
                    <a:pt x="120" y="377"/>
                  </a:lnTo>
                  <a:lnTo>
                    <a:pt x="120" y="374"/>
                  </a:lnTo>
                  <a:lnTo>
                    <a:pt x="121" y="369"/>
                  </a:lnTo>
                  <a:lnTo>
                    <a:pt x="121" y="366"/>
                  </a:lnTo>
                  <a:lnTo>
                    <a:pt x="122" y="362"/>
                  </a:lnTo>
                  <a:lnTo>
                    <a:pt x="122" y="358"/>
                  </a:lnTo>
                  <a:lnTo>
                    <a:pt x="122" y="354"/>
                  </a:lnTo>
                  <a:lnTo>
                    <a:pt x="124" y="351"/>
                  </a:lnTo>
                  <a:lnTo>
                    <a:pt x="124" y="346"/>
                  </a:lnTo>
                  <a:lnTo>
                    <a:pt x="125" y="343"/>
                  </a:lnTo>
                  <a:lnTo>
                    <a:pt x="125" y="338"/>
                  </a:lnTo>
                  <a:lnTo>
                    <a:pt x="125" y="335"/>
                  </a:lnTo>
                  <a:lnTo>
                    <a:pt x="126" y="330"/>
                  </a:lnTo>
                  <a:lnTo>
                    <a:pt x="126" y="327"/>
                  </a:lnTo>
                  <a:lnTo>
                    <a:pt x="126" y="322"/>
                  </a:lnTo>
                  <a:lnTo>
                    <a:pt x="127" y="319"/>
                  </a:lnTo>
                  <a:lnTo>
                    <a:pt x="127" y="314"/>
                  </a:lnTo>
                  <a:lnTo>
                    <a:pt x="128" y="311"/>
                  </a:lnTo>
                  <a:lnTo>
                    <a:pt x="128" y="307"/>
                  </a:lnTo>
                  <a:lnTo>
                    <a:pt x="128" y="302"/>
                  </a:lnTo>
                  <a:lnTo>
                    <a:pt x="130" y="299"/>
                  </a:lnTo>
                  <a:lnTo>
                    <a:pt x="130" y="294"/>
                  </a:lnTo>
                  <a:lnTo>
                    <a:pt x="131" y="289"/>
                  </a:lnTo>
                  <a:lnTo>
                    <a:pt x="131" y="284"/>
                  </a:lnTo>
                  <a:lnTo>
                    <a:pt x="131" y="281"/>
                  </a:lnTo>
                  <a:lnTo>
                    <a:pt x="132" y="276"/>
                  </a:lnTo>
                  <a:lnTo>
                    <a:pt x="132" y="271"/>
                  </a:lnTo>
                  <a:lnTo>
                    <a:pt x="133" y="267"/>
                  </a:lnTo>
                  <a:lnTo>
                    <a:pt x="133" y="262"/>
                  </a:lnTo>
                  <a:lnTo>
                    <a:pt x="133" y="257"/>
                  </a:lnTo>
                  <a:lnTo>
                    <a:pt x="134" y="252"/>
                  </a:lnTo>
                  <a:lnTo>
                    <a:pt x="134" y="247"/>
                  </a:lnTo>
                  <a:lnTo>
                    <a:pt x="134" y="243"/>
                  </a:lnTo>
                  <a:lnTo>
                    <a:pt x="136" y="238"/>
                  </a:lnTo>
                  <a:lnTo>
                    <a:pt x="136" y="233"/>
                  </a:lnTo>
                  <a:lnTo>
                    <a:pt x="137" y="228"/>
                  </a:lnTo>
                  <a:lnTo>
                    <a:pt x="137" y="224"/>
                  </a:lnTo>
                  <a:lnTo>
                    <a:pt x="137" y="219"/>
                  </a:lnTo>
                  <a:lnTo>
                    <a:pt x="138" y="214"/>
                  </a:lnTo>
                  <a:lnTo>
                    <a:pt x="138" y="209"/>
                  </a:lnTo>
                  <a:lnTo>
                    <a:pt x="139" y="204"/>
                  </a:lnTo>
                  <a:lnTo>
                    <a:pt x="139" y="200"/>
                  </a:lnTo>
                  <a:lnTo>
                    <a:pt x="139" y="193"/>
                  </a:lnTo>
                  <a:lnTo>
                    <a:pt x="140" y="188"/>
                  </a:lnTo>
                  <a:lnTo>
                    <a:pt x="140" y="184"/>
                  </a:lnTo>
                  <a:lnTo>
                    <a:pt x="141" y="177"/>
                  </a:lnTo>
                  <a:lnTo>
                    <a:pt x="141" y="173"/>
                  </a:lnTo>
                  <a:lnTo>
                    <a:pt x="141" y="168"/>
                  </a:lnTo>
                  <a:lnTo>
                    <a:pt x="143" y="161"/>
                  </a:lnTo>
                  <a:lnTo>
                    <a:pt x="143" y="157"/>
                  </a:lnTo>
                  <a:lnTo>
                    <a:pt x="143" y="152"/>
                  </a:lnTo>
                  <a:lnTo>
                    <a:pt x="144" y="145"/>
                  </a:lnTo>
                  <a:lnTo>
                    <a:pt x="144" y="141"/>
                  </a:lnTo>
                  <a:lnTo>
                    <a:pt x="145" y="134"/>
                  </a:lnTo>
                  <a:lnTo>
                    <a:pt x="145" y="129"/>
                  </a:lnTo>
                  <a:lnTo>
                    <a:pt x="145" y="123"/>
                  </a:lnTo>
                  <a:lnTo>
                    <a:pt x="146" y="118"/>
                  </a:lnTo>
                  <a:lnTo>
                    <a:pt x="146" y="112"/>
                  </a:lnTo>
                  <a:lnTo>
                    <a:pt x="147" y="107"/>
                  </a:lnTo>
                  <a:lnTo>
                    <a:pt x="147" y="101"/>
                  </a:lnTo>
                  <a:lnTo>
                    <a:pt x="147" y="94"/>
                  </a:lnTo>
                  <a:lnTo>
                    <a:pt x="149" y="90"/>
                  </a:lnTo>
                  <a:lnTo>
                    <a:pt x="149" y="83"/>
                  </a:lnTo>
                  <a:lnTo>
                    <a:pt x="150" y="77"/>
                  </a:lnTo>
                  <a:lnTo>
                    <a:pt x="150" y="70"/>
                  </a:lnTo>
                  <a:lnTo>
                    <a:pt x="150" y="66"/>
                  </a:lnTo>
                  <a:lnTo>
                    <a:pt x="151" y="59"/>
                  </a:lnTo>
                  <a:lnTo>
                    <a:pt x="151" y="53"/>
                  </a:lnTo>
                  <a:lnTo>
                    <a:pt x="151" y="46"/>
                  </a:lnTo>
                  <a:lnTo>
                    <a:pt x="152" y="40"/>
                  </a:lnTo>
                  <a:lnTo>
                    <a:pt x="152" y="34"/>
                  </a:lnTo>
                  <a:lnTo>
                    <a:pt x="153" y="29"/>
                  </a:lnTo>
                  <a:lnTo>
                    <a:pt x="153" y="23"/>
                  </a:lnTo>
                  <a:lnTo>
                    <a:pt x="153" y="16"/>
                  </a:lnTo>
                  <a:lnTo>
                    <a:pt x="155" y="10"/>
                  </a:lnTo>
                  <a:lnTo>
                    <a:pt x="155" y="3"/>
                  </a:lnTo>
                </a:path>
              </a:pathLst>
            </a:custGeom>
            <a:noFill/>
            <a:ln w="38160">
              <a:solidFill>
                <a:srgbClr val="ff505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7467480" y="463680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6324480" y="3189240"/>
              <a:ext cx="6098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943600" y="4408200"/>
              <a:ext cx="6094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7" dur="indefinite" restart="never" nodeType="tmRoot">
          <p:childTnLst>
            <p:seq>
              <p:cTn id="308" dur="indefinite" nodeType="mainSeq">
                <p:childTnLst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3" dur="50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"/>
          <p:cNvSpPr/>
          <p:nvPr/>
        </p:nvSpPr>
        <p:spPr>
          <a:xfrm>
            <a:off x="539640" y="476280"/>
            <a:ext cx="2232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练习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4" name=""/>
          <p:cNvGrpSpPr/>
          <p:nvPr/>
        </p:nvGrpSpPr>
        <p:grpSpPr>
          <a:xfrm>
            <a:off x="179280" y="3429000"/>
            <a:ext cx="8696520" cy="2178360"/>
            <a:chOff x="179280" y="3429000"/>
            <a:chExt cx="8696520" cy="2178360"/>
          </a:xfrm>
        </p:grpSpPr>
        <p:sp>
          <p:nvSpPr>
            <p:cNvPr id="385" name=""/>
            <p:cNvSpPr/>
            <p:nvPr/>
          </p:nvSpPr>
          <p:spPr>
            <a:xfrm>
              <a:off x="179280" y="3789360"/>
              <a:ext cx="8209080" cy="1818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已知函数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二次函数，且开口向上。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求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m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值及二次函数的解析式，并回答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的变化规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386" name=""/>
                <p:cNvSpPr txBox="1"/>
                <p:nvPr/>
              </p:nvSpPr>
              <p:spPr>
                <a:xfrm>
                  <a:off x="2268360" y="3429000"/>
                  <a:ext cx="6607440" cy="982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1</m:t>
                          </m:r>
                        </m:e>
                      </m:d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sSup>
                            <m:e>
                              <m:r>
                                <m:t xml:space="preserve">m</m:t>
                              </m:r>
                            </m:e>
                            <m:sup>
                              <m:r>
                                <m:t xml:space="preserve">2</m:t>
                              </m:r>
                            </m:sup>
                          </m:sSup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  <m:r>
                            <m:t xml:space="preserve">m</m:t>
                          </m:r>
                          <m:r>
                            <m:t xml:space="preserve">+</m:t>
                          </m:r>
                          <m:r>
                            <m:t xml:space="preserve">2</m:t>
                          </m:r>
                        </m:sup>
                      </m:sSup>
                      <m:r>
                        <m:t xml:space="preserve">+</m:t>
                      </m:r>
                      <m:d>
                        <m:dPr>
                          <m:begChr m:val="("/>
                          <m:endChr m:val=")"/>
                        </m:dPr>
                        <m:e>
                          <m:r>
                            <m:t xml:space="preserve">m</m:t>
                          </m:r>
                          <m:r>
                            <m:t xml:space="preserve">−</m:t>
                          </m:r>
                          <m:r>
                            <m:t xml:space="preserve">2</m:t>
                          </m:r>
                        </m:e>
                      </m:d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387" name=""/>
          <p:cNvGrpSpPr/>
          <p:nvPr/>
        </p:nvGrpSpPr>
        <p:grpSpPr>
          <a:xfrm>
            <a:off x="179280" y="1628640"/>
            <a:ext cx="7921800" cy="1385280"/>
            <a:chOff x="179280" y="1628640"/>
            <a:chExt cx="7921800" cy="1385280"/>
          </a:xfrm>
        </p:grpSpPr>
        <p:sp>
          <p:nvSpPr>
            <p:cNvPr id="388" name=""/>
            <p:cNvSpPr/>
            <p:nvPr/>
          </p:nvSpPr>
          <p:spPr>
            <a:xfrm>
              <a:off x="179280" y="1844640"/>
              <a:ext cx="7921800" cy="1169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、已知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y=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k+2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）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      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是二次函数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且当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&gt;0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时，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y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随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X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增大而增大，则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k=</a:t>
              </a:r>
              <a:r>
                <a:rPr b="1" lang="zh-CN" sz="2800" spc="-1" strike="noStrike" u="sng">
                  <a:solidFill>
                    <a:srgbClr val="000000"/>
                  </a:solidFill>
                  <a:uFillTx/>
                  <a:latin typeface="Times New Roman"/>
                  <a:ea typeface="Times New Roman"/>
                </a:rPr>
                <a:t>             </a:t>
              </a:r>
              <a:r>
                <a:rPr b="1" lang="zh-CN" sz="2800" spc="-1" strike="noStrike">
                  <a:solidFill>
                    <a:srgbClr val="000000"/>
                  </a:solidFill>
                  <a:latin typeface="Times New Roman"/>
                  <a:ea typeface="Times New Roman"/>
                </a:rPr>
                <a:t>；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276720" y="1628640"/>
              <a:ext cx="12236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k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+k-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0" dur="20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325" dur="2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"/>
          <p:cNvSpPr/>
          <p:nvPr/>
        </p:nvSpPr>
        <p:spPr>
          <a:xfrm>
            <a:off x="0" y="304920"/>
            <a:ext cx="8915400" cy="447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例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、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函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a≠0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直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2x-3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交于点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,b).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1)a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与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值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2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抛物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解析式，并求顶点坐标和对称轴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3)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取何值时，二次函数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楷体_GB2312"/>
                <a:ea typeface="楷体_GB2312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随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x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增大而增大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(4)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求抛物线与直线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y=-2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两交点与顶点构成的三角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</a:t>
            </a:r>
            <a:r>
              <a:rPr b="1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面积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4876920" y="4724280"/>
            <a:ext cx="266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 flipV="1">
            <a:off x="6019920" y="3733560"/>
            <a:ext cx="0" cy="2361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 rot="10762800">
            <a:off x="5333760" y="4723920"/>
            <a:ext cx="1447560" cy="1239840"/>
          </a:xfrm>
          <a:custGeom>
            <a:avLst/>
            <a:gdLst/>
            <a:ahLst/>
            <a:rect l="l" t="t" r="r" b="b"/>
            <a:pathLst>
              <a:path w="155" h="541">
                <a:moveTo>
                  <a:pt x="0" y="0"/>
                </a:moveTo>
                <a:lnTo>
                  <a:pt x="0" y="7"/>
                </a:lnTo>
                <a:lnTo>
                  <a:pt x="0" y="13"/>
                </a:lnTo>
                <a:lnTo>
                  <a:pt x="1" y="19"/>
                </a:lnTo>
                <a:lnTo>
                  <a:pt x="1" y="26"/>
                </a:lnTo>
                <a:lnTo>
                  <a:pt x="3" y="32"/>
                </a:lnTo>
                <a:lnTo>
                  <a:pt x="3" y="39"/>
                </a:lnTo>
                <a:lnTo>
                  <a:pt x="3" y="45"/>
                </a:lnTo>
                <a:lnTo>
                  <a:pt x="4" y="50"/>
                </a:lnTo>
                <a:lnTo>
                  <a:pt x="4" y="56"/>
                </a:lnTo>
                <a:lnTo>
                  <a:pt x="5" y="62"/>
                </a:lnTo>
                <a:lnTo>
                  <a:pt x="5" y="69"/>
                </a:lnTo>
                <a:lnTo>
                  <a:pt x="5" y="75"/>
                </a:lnTo>
                <a:lnTo>
                  <a:pt x="6" y="80"/>
                </a:lnTo>
                <a:lnTo>
                  <a:pt x="6" y="86"/>
                </a:lnTo>
                <a:lnTo>
                  <a:pt x="6" y="93"/>
                </a:lnTo>
                <a:lnTo>
                  <a:pt x="7" y="98"/>
                </a:lnTo>
                <a:lnTo>
                  <a:pt x="7" y="104"/>
                </a:lnTo>
                <a:lnTo>
                  <a:pt x="9" y="110"/>
                </a:lnTo>
                <a:lnTo>
                  <a:pt x="9" y="115"/>
                </a:lnTo>
                <a:lnTo>
                  <a:pt x="9" y="121"/>
                </a:lnTo>
                <a:lnTo>
                  <a:pt x="10" y="126"/>
                </a:lnTo>
                <a:lnTo>
                  <a:pt x="10" y="133"/>
                </a:lnTo>
                <a:lnTo>
                  <a:pt x="11" y="137"/>
                </a:lnTo>
                <a:lnTo>
                  <a:pt x="11" y="144"/>
                </a:lnTo>
                <a:lnTo>
                  <a:pt x="11" y="149"/>
                </a:lnTo>
                <a:lnTo>
                  <a:pt x="12" y="155"/>
                </a:lnTo>
                <a:lnTo>
                  <a:pt x="12" y="160"/>
                </a:lnTo>
                <a:lnTo>
                  <a:pt x="13" y="165"/>
                </a:lnTo>
                <a:lnTo>
                  <a:pt x="13" y="171"/>
                </a:lnTo>
                <a:lnTo>
                  <a:pt x="13" y="176"/>
                </a:lnTo>
                <a:lnTo>
                  <a:pt x="15" y="180"/>
                </a:lnTo>
                <a:lnTo>
                  <a:pt x="15" y="187"/>
                </a:lnTo>
                <a:lnTo>
                  <a:pt x="15" y="192"/>
                </a:lnTo>
                <a:lnTo>
                  <a:pt x="16" y="196"/>
                </a:lnTo>
                <a:lnTo>
                  <a:pt x="16" y="201"/>
                </a:lnTo>
                <a:lnTo>
                  <a:pt x="17" y="208"/>
                </a:lnTo>
                <a:lnTo>
                  <a:pt x="17" y="212"/>
                </a:lnTo>
                <a:lnTo>
                  <a:pt x="17" y="217"/>
                </a:lnTo>
                <a:lnTo>
                  <a:pt x="18" y="222"/>
                </a:lnTo>
                <a:lnTo>
                  <a:pt x="18" y="227"/>
                </a:lnTo>
                <a:lnTo>
                  <a:pt x="19" y="232"/>
                </a:lnTo>
                <a:lnTo>
                  <a:pt x="19" y="236"/>
                </a:lnTo>
                <a:lnTo>
                  <a:pt x="19" y="241"/>
                </a:lnTo>
                <a:lnTo>
                  <a:pt x="20" y="246"/>
                </a:lnTo>
                <a:lnTo>
                  <a:pt x="20" y="251"/>
                </a:lnTo>
                <a:lnTo>
                  <a:pt x="22" y="255"/>
                </a:lnTo>
                <a:lnTo>
                  <a:pt x="22" y="260"/>
                </a:lnTo>
                <a:lnTo>
                  <a:pt x="22" y="265"/>
                </a:lnTo>
                <a:lnTo>
                  <a:pt x="23" y="270"/>
                </a:lnTo>
                <a:lnTo>
                  <a:pt x="23" y="275"/>
                </a:lnTo>
                <a:lnTo>
                  <a:pt x="23" y="278"/>
                </a:lnTo>
                <a:lnTo>
                  <a:pt x="24" y="283"/>
                </a:lnTo>
                <a:lnTo>
                  <a:pt x="24" y="287"/>
                </a:lnTo>
                <a:lnTo>
                  <a:pt x="25" y="292"/>
                </a:lnTo>
                <a:lnTo>
                  <a:pt x="25" y="295"/>
                </a:lnTo>
                <a:lnTo>
                  <a:pt x="25" y="300"/>
                </a:lnTo>
                <a:lnTo>
                  <a:pt x="26" y="305"/>
                </a:lnTo>
                <a:lnTo>
                  <a:pt x="26" y="308"/>
                </a:lnTo>
                <a:lnTo>
                  <a:pt x="28" y="313"/>
                </a:lnTo>
                <a:lnTo>
                  <a:pt x="28" y="318"/>
                </a:lnTo>
                <a:lnTo>
                  <a:pt x="28" y="321"/>
                </a:lnTo>
                <a:lnTo>
                  <a:pt x="29" y="326"/>
                </a:lnTo>
                <a:lnTo>
                  <a:pt x="29" y="329"/>
                </a:lnTo>
                <a:lnTo>
                  <a:pt x="30" y="334"/>
                </a:lnTo>
                <a:lnTo>
                  <a:pt x="30" y="337"/>
                </a:lnTo>
                <a:lnTo>
                  <a:pt x="30" y="342"/>
                </a:lnTo>
                <a:lnTo>
                  <a:pt x="31" y="345"/>
                </a:lnTo>
                <a:lnTo>
                  <a:pt x="31" y="350"/>
                </a:lnTo>
                <a:lnTo>
                  <a:pt x="31" y="353"/>
                </a:lnTo>
                <a:lnTo>
                  <a:pt x="32" y="356"/>
                </a:lnTo>
                <a:lnTo>
                  <a:pt x="32" y="361"/>
                </a:lnTo>
                <a:lnTo>
                  <a:pt x="34" y="364"/>
                </a:lnTo>
                <a:lnTo>
                  <a:pt x="34" y="367"/>
                </a:lnTo>
                <a:lnTo>
                  <a:pt x="34" y="372"/>
                </a:lnTo>
                <a:lnTo>
                  <a:pt x="35" y="375"/>
                </a:lnTo>
                <a:lnTo>
                  <a:pt x="35" y="378"/>
                </a:lnTo>
                <a:lnTo>
                  <a:pt x="36" y="381"/>
                </a:lnTo>
                <a:lnTo>
                  <a:pt x="36" y="385"/>
                </a:lnTo>
                <a:lnTo>
                  <a:pt x="36" y="389"/>
                </a:lnTo>
                <a:lnTo>
                  <a:pt x="37" y="393"/>
                </a:lnTo>
                <a:lnTo>
                  <a:pt x="37" y="396"/>
                </a:lnTo>
                <a:lnTo>
                  <a:pt x="38" y="399"/>
                </a:lnTo>
                <a:lnTo>
                  <a:pt x="38" y="402"/>
                </a:lnTo>
                <a:lnTo>
                  <a:pt x="38" y="405"/>
                </a:lnTo>
                <a:lnTo>
                  <a:pt x="39" y="409"/>
                </a:lnTo>
                <a:lnTo>
                  <a:pt x="39" y="412"/>
                </a:lnTo>
                <a:lnTo>
                  <a:pt x="39" y="415"/>
                </a:lnTo>
                <a:lnTo>
                  <a:pt x="41" y="418"/>
                </a:lnTo>
                <a:lnTo>
                  <a:pt x="41" y="421"/>
                </a:lnTo>
                <a:lnTo>
                  <a:pt x="42" y="425"/>
                </a:lnTo>
                <a:lnTo>
                  <a:pt x="42" y="428"/>
                </a:lnTo>
                <a:lnTo>
                  <a:pt x="42" y="429"/>
                </a:lnTo>
                <a:lnTo>
                  <a:pt x="43" y="433"/>
                </a:lnTo>
                <a:lnTo>
                  <a:pt x="43" y="436"/>
                </a:lnTo>
                <a:lnTo>
                  <a:pt x="44" y="439"/>
                </a:lnTo>
                <a:lnTo>
                  <a:pt x="44" y="442"/>
                </a:lnTo>
                <a:lnTo>
                  <a:pt x="44" y="444"/>
                </a:lnTo>
                <a:lnTo>
                  <a:pt x="45" y="447"/>
                </a:lnTo>
                <a:lnTo>
                  <a:pt x="45" y="450"/>
                </a:lnTo>
                <a:lnTo>
                  <a:pt x="45" y="452"/>
                </a:lnTo>
                <a:lnTo>
                  <a:pt x="47" y="455"/>
                </a:lnTo>
                <a:lnTo>
                  <a:pt x="47" y="456"/>
                </a:lnTo>
                <a:lnTo>
                  <a:pt x="48" y="460"/>
                </a:lnTo>
                <a:lnTo>
                  <a:pt x="48" y="463"/>
                </a:lnTo>
                <a:lnTo>
                  <a:pt x="48" y="464"/>
                </a:lnTo>
                <a:lnTo>
                  <a:pt x="49" y="468"/>
                </a:lnTo>
                <a:lnTo>
                  <a:pt x="49" y="469"/>
                </a:lnTo>
                <a:lnTo>
                  <a:pt x="50" y="472"/>
                </a:lnTo>
                <a:lnTo>
                  <a:pt x="50" y="474"/>
                </a:lnTo>
                <a:lnTo>
                  <a:pt x="50" y="476"/>
                </a:lnTo>
                <a:lnTo>
                  <a:pt x="51" y="479"/>
                </a:lnTo>
                <a:lnTo>
                  <a:pt x="51" y="480"/>
                </a:lnTo>
                <a:lnTo>
                  <a:pt x="52" y="482"/>
                </a:lnTo>
                <a:lnTo>
                  <a:pt x="52" y="485"/>
                </a:lnTo>
                <a:lnTo>
                  <a:pt x="52" y="487"/>
                </a:lnTo>
                <a:lnTo>
                  <a:pt x="54" y="488"/>
                </a:lnTo>
                <a:lnTo>
                  <a:pt x="54" y="492"/>
                </a:lnTo>
                <a:lnTo>
                  <a:pt x="54" y="493"/>
                </a:lnTo>
                <a:lnTo>
                  <a:pt x="55" y="495"/>
                </a:lnTo>
                <a:lnTo>
                  <a:pt x="55" y="496"/>
                </a:lnTo>
                <a:lnTo>
                  <a:pt x="56" y="498"/>
                </a:lnTo>
                <a:lnTo>
                  <a:pt x="56" y="500"/>
                </a:lnTo>
                <a:lnTo>
                  <a:pt x="56" y="503"/>
                </a:lnTo>
                <a:lnTo>
                  <a:pt x="57" y="504"/>
                </a:lnTo>
                <a:lnTo>
                  <a:pt x="57" y="506"/>
                </a:lnTo>
                <a:lnTo>
                  <a:pt x="58" y="508"/>
                </a:lnTo>
                <a:lnTo>
                  <a:pt x="58" y="509"/>
                </a:lnTo>
                <a:lnTo>
                  <a:pt x="58" y="511"/>
                </a:lnTo>
                <a:lnTo>
                  <a:pt x="60" y="512"/>
                </a:lnTo>
                <a:lnTo>
                  <a:pt x="60" y="514"/>
                </a:lnTo>
                <a:lnTo>
                  <a:pt x="61" y="514"/>
                </a:lnTo>
                <a:lnTo>
                  <a:pt x="61" y="515"/>
                </a:lnTo>
                <a:lnTo>
                  <a:pt x="61" y="517"/>
                </a:lnTo>
                <a:lnTo>
                  <a:pt x="62" y="519"/>
                </a:lnTo>
                <a:lnTo>
                  <a:pt x="62" y="520"/>
                </a:lnTo>
                <a:lnTo>
                  <a:pt x="62" y="522"/>
                </a:lnTo>
                <a:lnTo>
                  <a:pt x="63" y="522"/>
                </a:lnTo>
                <a:lnTo>
                  <a:pt x="63" y="523"/>
                </a:lnTo>
                <a:lnTo>
                  <a:pt x="64" y="525"/>
                </a:lnTo>
                <a:lnTo>
                  <a:pt x="64" y="527"/>
                </a:lnTo>
                <a:lnTo>
                  <a:pt x="66" y="528"/>
                </a:lnTo>
                <a:lnTo>
                  <a:pt x="67" y="530"/>
                </a:lnTo>
                <a:lnTo>
                  <a:pt x="67" y="531"/>
                </a:lnTo>
                <a:lnTo>
                  <a:pt x="68" y="533"/>
                </a:lnTo>
                <a:lnTo>
                  <a:pt x="69" y="535"/>
                </a:lnTo>
                <a:lnTo>
                  <a:pt x="70" y="536"/>
                </a:lnTo>
                <a:lnTo>
                  <a:pt x="70" y="538"/>
                </a:lnTo>
                <a:lnTo>
                  <a:pt x="71" y="538"/>
                </a:lnTo>
                <a:lnTo>
                  <a:pt x="73" y="538"/>
                </a:lnTo>
                <a:lnTo>
                  <a:pt x="73" y="539"/>
                </a:lnTo>
                <a:lnTo>
                  <a:pt x="74" y="539"/>
                </a:lnTo>
                <a:lnTo>
                  <a:pt x="75" y="541"/>
                </a:lnTo>
                <a:lnTo>
                  <a:pt x="76" y="541"/>
                </a:lnTo>
                <a:lnTo>
                  <a:pt x="77" y="541"/>
                </a:lnTo>
                <a:lnTo>
                  <a:pt x="79" y="541"/>
                </a:lnTo>
                <a:lnTo>
                  <a:pt x="80" y="541"/>
                </a:lnTo>
                <a:lnTo>
                  <a:pt x="81" y="539"/>
                </a:lnTo>
                <a:lnTo>
                  <a:pt x="82" y="539"/>
                </a:lnTo>
                <a:lnTo>
                  <a:pt x="83" y="538"/>
                </a:lnTo>
                <a:lnTo>
                  <a:pt x="85" y="536"/>
                </a:lnTo>
                <a:lnTo>
                  <a:pt x="86" y="536"/>
                </a:lnTo>
                <a:lnTo>
                  <a:pt x="86" y="535"/>
                </a:lnTo>
                <a:lnTo>
                  <a:pt x="87" y="533"/>
                </a:lnTo>
                <a:lnTo>
                  <a:pt x="87" y="531"/>
                </a:lnTo>
                <a:lnTo>
                  <a:pt x="88" y="531"/>
                </a:lnTo>
                <a:lnTo>
                  <a:pt x="88" y="530"/>
                </a:lnTo>
                <a:lnTo>
                  <a:pt x="89" y="530"/>
                </a:lnTo>
                <a:lnTo>
                  <a:pt x="89" y="528"/>
                </a:lnTo>
                <a:lnTo>
                  <a:pt x="89" y="527"/>
                </a:lnTo>
                <a:lnTo>
                  <a:pt x="90" y="527"/>
                </a:lnTo>
                <a:lnTo>
                  <a:pt x="90" y="525"/>
                </a:lnTo>
                <a:lnTo>
                  <a:pt x="92" y="523"/>
                </a:lnTo>
                <a:lnTo>
                  <a:pt x="92" y="522"/>
                </a:lnTo>
                <a:lnTo>
                  <a:pt x="93" y="520"/>
                </a:lnTo>
                <a:lnTo>
                  <a:pt x="93" y="519"/>
                </a:lnTo>
                <a:lnTo>
                  <a:pt x="94" y="517"/>
                </a:lnTo>
                <a:lnTo>
                  <a:pt x="94" y="515"/>
                </a:lnTo>
                <a:lnTo>
                  <a:pt x="95" y="514"/>
                </a:lnTo>
                <a:lnTo>
                  <a:pt x="95" y="512"/>
                </a:lnTo>
                <a:lnTo>
                  <a:pt x="95" y="511"/>
                </a:lnTo>
                <a:lnTo>
                  <a:pt x="96" y="509"/>
                </a:lnTo>
                <a:lnTo>
                  <a:pt x="96" y="508"/>
                </a:lnTo>
                <a:lnTo>
                  <a:pt x="98" y="506"/>
                </a:lnTo>
                <a:lnTo>
                  <a:pt x="98" y="504"/>
                </a:lnTo>
                <a:lnTo>
                  <a:pt x="98" y="503"/>
                </a:lnTo>
                <a:lnTo>
                  <a:pt x="99" y="501"/>
                </a:lnTo>
                <a:lnTo>
                  <a:pt x="99" y="500"/>
                </a:lnTo>
                <a:lnTo>
                  <a:pt x="100" y="498"/>
                </a:lnTo>
                <a:lnTo>
                  <a:pt x="100" y="495"/>
                </a:lnTo>
                <a:lnTo>
                  <a:pt x="100" y="493"/>
                </a:lnTo>
                <a:lnTo>
                  <a:pt x="101" y="492"/>
                </a:lnTo>
                <a:lnTo>
                  <a:pt x="101" y="490"/>
                </a:lnTo>
                <a:lnTo>
                  <a:pt x="102" y="488"/>
                </a:lnTo>
                <a:lnTo>
                  <a:pt x="102" y="485"/>
                </a:lnTo>
                <a:lnTo>
                  <a:pt x="102" y="484"/>
                </a:lnTo>
                <a:lnTo>
                  <a:pt x="104" y="482"/>
                </a:lnTo>
                <a:lnTo>
                  <a:pt x="104" y="479"/>
                </a:lnTo>
                <a:lnTo>
                  <a:pt x="104" y="477"/>
                </a:lnTo>
                <a:lnTo>
                  <a:pt x="105" y="476"/>
                </a:lnTo>
                <a:lnTo>
                  <a:pt x="105" y="472"/>
                </a:lnTo>
                <a:lnTo>
                  <a:pt x="106" y="471"/>
                </a:lnTo>
                <a:lnTo>
                  <a:pt x="106" y="468"/>
                </a:lnTo>
                <a:lnTo>
                  <a:pt x="106" y="466"/>
                </a:lnTo>
                <a:lnTo>
                  <a:pt x="107" y="463"/>
                </a:lnTo>
                <a:lnTo>
                  <a:pt x="107" y="461"/>
                </a:lnTo>
                <a:lnTo>
                  <a:pt x="108" y="458"/>
                </a:lnTo>
                <a:lnTo>
                  <a:pt x="108" y="456"/>
                </a:lnTo>
                <a:lnTo>
                  <a:pt x="108" y="453"/>
                </a:lnTo>
                <a:lnTo>
                  <a:pt x="109" y="450"/>
                </a:lnTo>
                <a:lnTo>
                  <a:pt x="109" y="448"/>
                </a:lnTo>
                <a:lnTo>
                  <a:pt x="111" y="445"/>
                </a:lnTo>
                <a:lnTo>
                  <a:pt x="111" y="442"/>
                </a:lnTo>
                <a:lnTo>
                  <a:pt x="111" y="441"/>
                </a:lnTo>
                <a:lnTo>
                  <a:pt x="112" y="437"/>
                </a:lnTo>
                <a:lnTo>
                  <a:pt x="112" y="434"/>
                </a:lnTo>
                <a:lnTo>
                  <a:pt x="112" y="431"/>
                </a:lnTo>
                <a:lnTo>
                  <a:pt x="113" y="428"/>
                </a:lnTo>
                <a:lnTo>
                  <a:pt x="113" y="425"/>
                </a:lnTo>
                <a:lnTo>
                  <a:pt x="114" y="423"/>
                </a:lnTo>
                <a:lnTo>
                  <a:pt x="114" y="420"/>
                </a:lnTo>
                <a:lnTo>
                  <a:pt x="114" y="417"/>
                </a:lnTo>
                <a:lnTo>
                  <a:pt x="115" y="413"/>
                </a:lnTo>
                <a:lnTo>
                  <a:pt x="115" y="410"/>
                </a:lnTo>
                <a:lnTo>
                  <a:pt x="117" y="407"/>
                </a:lnTo>
                <a:lnTo>
                  <a:pt x="117" y="404"/>
                </a:lnTo>
                <a:lnTo>
                  <a:pt x="117" y="401"/>
                </a:lnTo>
                <a:lnTo>
                  <a:pt x="118" y="397"/>
                </a:lnTo>
                <a:lnTo>
                  <a:pt x="118" y="394"/>
                </a:lnTo>
                <a:lnTo>
                  <a:pt x="118" y="391"/>
                </a:lnTo>
                <a:lnTo>
                  <a:pt x="119" y="386"/>
                </a:lnTo>
                <a:lnTo>
                  <a:pt x="119" y="383"/>
                </a:lnTo>
                <a:lnTo>
                  <a:pt x="120" y="380"/>
                </a:lnTo>
                <a:lnTo>
                  <a:pt x="120" y="377"/>
                </a:lnTo>
                <a:lnTo>
                  <a:pt x="120" y="374"/>
                </a:lnTo>
                <a:lnTo>
                  <a:pt x="121" y="369"/>
                </a:lnTo>
                <a:lnTo>
                  <a:pt x="121" y="366"/>
                </a:lnTo>
                <a:lnTo>
                  <a:pt x="122" y="362"/>
                </a:lnTo>
                <a:lnTo>
                  <a:pt x="122" y="358"/>
                </a:lnTo>
                <a:lnTo>
                  <a:pt x="122" y="354"/>
                </a:lnTo>
                <a:lnTo>
                  <a:pt x="124" y="351"/>
                </a:lnTo>
                <a:lnTo>
                  <a:pt x="124" y="346"/>
                </a:lnTo>
                <a:lnTo>
                  <a:pt x="125" y="343"/>
                </a:lnTo>
                <a:lnTo>
                  <a:pt x="125" y="338"/>
                </a:lnTo>
                <a:lnTo>
                  <a:pt x="125" y="335"/>
                </a:lnTo>
                <a:lnTo>
                  <a:pt x="126" y="330"/>
                </a:lnTo>
                <a:lnTo>
                  <a:pt x="126" y="327"/>
                </a:lnTo>
                <a:lnTo>
                  <a:pt x="126" y="322"/>
                </a:lnTo>
                <a:lnTo>
                  <a:pt x="127" y="319"/>
                </a:lnTo>
                <a:lnTo>
                  <a:pt x="127" y="314"/>
                </a:lnTo>
                <a:lnTo>
                  <a:pt x="128" y="311"/>
                </a:lnTo>
                <a:lnTo>
                  <a:pt x="128" y="307"/>
                </a:lnTo>
                <a:lnTo>
                  <a:pt x="128" y="302"/>
                </a:lnTo>
                <a:lnTo>
                  <a:pt x="130" y="299"/>
                </a:lnTo>
                <a:lnTo>
                  <a:pt x="130" y="294"/>
                </a:lnTo>
                <a:lnTo>
                  <a:pt x="131" y="289"/>
                </a:lnTo>
                <a:lnTo>
                  <a:pt x="131" y="284"/>
                </a:lnTo>
                <a:lnTo>
                  <a:pt x="131" y="281"/>
                </a:lnTo>
                <a:lnTo>
                  <a:pt x="132" y="276"/>
                </a:lnTo>
                <a:lnTo>
                  <a:pt x="132" y="271"/>
                </a:lnTo>
                <a:lnTo>
                  <a:pt x="133" y="267"/>
                </a:lnTo>
                <a:lnTo>
                  <a:pt x="133" y="262"/>
                </a:lnTo>
                <a:lnTo>
                  <a:pt x="133" y="257"/>
                </a:lnTo>
                <a:lnTo>
                  <a:pt x="134" y="252"/>
                </a:lnTo>
                <a:lnTo>
                  <a:pt x="134" y="247"/>
                </a:lnTo>
                <a:lnTo>
                  <a:pt x="134" y="243"/>
                </a:lnTo>
                <a:lnTo>
                  <a:pt x="136" y="238"/>
                </a:lnTo>
                <a:lnTo>
                  <a:pt x="136" y="233"/>
                </a:lnTo>
                <a:lnTo>
                  <a:pt x="137" y="228"/>
                </a:lnTo>
                <a:lnTo>
                  <a:pt x="137" y="224"/>
                </a:lnTo>
                <a:lnTo>
                  <a:pt x="137" y="219"/>
                </a:lnTo>
                <a:lnTo>
                  <a:pt x="138" y="214"/>
                </a:lnTo>
                <a:lnTo>
                  <a:pt x="138" y="209"/>
                </a:lnTo>
                <a:lnTo>
                  <a:pt x="139" y="204"/>
                </a:lnTo>
                <a:lnTo>
                  <a:pt x="139" y="200"/>
                </a:lnTo>
                <a:lnTo>
                  <a:pt x="139" y="193"/>
                </a:lnTo>
                <a:lnTo>
                  <a:pt x="140" y="188"/>
                </a:lnTo>
                <a:lnTo>
                  <a:pt x="140" y="184"/>
                </a:lnTo>
                <a:lnTo>
                  <a:pt x="141" y="177"/>
                </a:lnTo>
                <a:lnTo>
                  <a:pt x="141" y="173"/>
                </a:lnTo>
                <a:lnTo>
                  <a:pt x="141" y="168"/>
                </a:lnTo>
                <a:lnTo>
                  <a:pt x="143" y="161"/>
                </a:lnTo>
                <a:lnTo>
                  <a:pt x="143" y="157"/>
                </a:lnTo>
                <a:lnTo>
                  <a:pt x="143" y="152"/>
                </a:lnTo>
                <a:lnTo>
                  <a:pt x="144" y="145"/>
                </a:lnTo>
                <a:lnTo>
                  <a:pt x="144" y="141"/>
                </a:lnTo>
                <a:lnTo>
                  <a:pt x="145" y="134"/>
                </a:lnTo>
                <a:lnTo>
                  <a:pt x="145" y="129"/>
                </a:lnTo>
                <a:lnTo>
                  <a:pt x="145" y="123"/>
                </a:lnTo>
                <a:lnTo>
                  <a:pt x="146" y="118"/>
                </a:lnTo>
                <a:lnTo>
                  <a:pt x="146" y="112"/>
                </a:lnTo>
                <a:lnTo>
                  <a:pt x="147" y="107"/>
                </a:lnTo>
                <a:lnTo>
                  <a:pt x="147" y="101"/>
                </a:lnTo>
                <a:lnTo>
                  <a:pt x="147" y="94"/>
                </a:lnTo>
                <a:lnTo>
                  <a:pt x="149" y="90"/>
                </a:lnTo>
                <a:lnTo>
                  <a:pt x="149" y="83"/>
                </a:lnTo>
                <a:lnTo>
                  <a:pt x="150" y="77"/>
                </a:lnTo>
                <a:lnTo>
                  <a:pt x="150" y="70"/>
                </a:lnTo>
                <a:lnTo>
                  <a:pt x="150" y="66"/>
                </a:lnTo>
                <a:lnTo>
                  <a:pt x="151" y="59"/>
                </a:lnTo>
                <a:lnTo>
                  <a:pt x="151" y="53"/>
                </a:lnTo>
                <a:lnTo>
                  <a:pt x="151" y="46"/>
                </a:lnTo>
                <a:lnTo>
                  <a:pt x="152" y="40"/>
                </a:lnTo>
                <a:lnTo>
                  <a:pt x="152" y="34"/>
                </a:lnTo>
                <a:lnTo>
                  <a:pt x="153" y="29"/>
                </a:lnTo>
                <a:lnTo>
                  <a:pt x="153" y="23"/>
                </a:lnTo>
                <a:lnTo>
                  <a:pt x="153" y="16"/>
                </a:lnTo>
                <a:lnTo>
                  <a:pt x="155" y="10"/>
                </a:lnTo>
                <a:lnTo>
                  <a:pt x="155" y="3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5410080" y="5867280"/>
            <a:ext cx="1447920" cy="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 flipH="1">
            <a:off x="5410080" y="4724280"/>
            <a:ext cx="609840" cy="11430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6019920" y="4724280"/>
            <a:ext cx="761760" cy="1143000"/>
          </a:xfrm>
          <a:prstGeom prst="line">
            <a:avLst/>
          </a:prstGeom>
          <a:ln w="28440">
            <a:solidFill>
              <a:srgbClr val="bbe0e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5562720" y="44197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105520" y="579132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781680" y="5867280"/>
            <a:ext cx="91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467480" y="4648320"/>
            <a:ext cx="1447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172200" y="358128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6781680" y="548640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y=-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2700360" y="1125360"/>
            <a:ext cx="6192720" cy="574920"/>
          </a:xfrm>
          <a:prstGeom prst="wedgeRoundRectCallout">
            <a:avLst>
              <a:gd name="adj1" fmla="val -56870"/>
              <a:gd name="adj2" fmla="val -20439"/>
              <a:gd name="adj3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先代入直线，得到交点再代入二次函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6" dur="indefinite" restart="never" nodeType="tmRoot">
          <p:childTnLst>
            <p:seq>
              <p:cTn id="327" dur="indefinite" nodeType="mainSeq">
                <p:childTnLst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32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"/>
          <p:cNvSpPr/>
          <p:nvPr/>
        </p:nvSpPr>
        <p:spPr>
          <a:xfrm>
            <a:off x="395280" y="476280"/>
            <a:ext cx="79218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例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3</a:t>
            </a:r>
            <a:r>
              <a:rPr b="1" lang="zh-CN" sz="3200" spc="-1" strike="noStrike">
                <a:solidFill>
                  <a:srgbClr val="ff3300"/>
                </a:solidFill>
                <a:latin typeface="黑体"/>
                <a:ea typeface="黑体"/>
              </a:rPr>
              <a:t>、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求抛物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=4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黑体"/>
                <a:ea typeface="黑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与直线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y=3x+1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的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交点坐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5435640" y="2602080"/>
            <a:ext cx="1351080" cy="3348000"/>
          </a:xfrm>
          <a:custGeom>
            <a:avLst/>
            <a:gdLst/>
            <a:ahLst/>
            <a:rect l="l" t="t" r="r" b="b"/>
            <a:pathLst>
              <a:path w="912" h="2448">
                <a:moveTo>
                  <a:pt x="0" y="0"/>
                </a:moveTo>
                <a:lnTo>
                  <a:pt x="0" y="12"/>
                </a:lnTo>
                <a:lnTo>
                  <a:pt x="0" y="24"/>
                </a:lnTo>
                <a:lnTo>
                  <a:pt x="6" y="36"/>
                </a:lnTo>
                <a:lnTo>
                  <a:pt x="6" y="48"/>
                </a:lnTo>
                <a:lnTo>
                  <a:pt x="6" y="60"/>
                </a:lnTo>
                <a:lnTo>
                  <a:pt x="12" y="66"/>
                </a:lnTo>
                <a:lnTo>
                  <a:pt x="12" y="78"/>
                </a:lnTo>
                <a:lnTo>
                  <a:pt x="12" y="90"/>
                </a:lnTo>
                <a:lnTo>
                  <a:pt x="12" y="102"/>
                </a:lnTo>
                <a:lnTo>
                  <a:pt x="18" y="114"/>
                </a:lnTo>
                <a:lnTo>
                  <a:pt x="18" y="126"/>
                </a:lnTo>
                <a:lnTo>
                  <a:pt x="18" y="132"/>
                </a:lnTo>
                <a:lnTo>
                  <a:pt x="24" y="144"/>
                </a:lnTo>
                <a:lnTo>
                  <a:pt x="24" y="156"/>
                </a:lnTo>
                <a:lnTo>
                  <a:pt x="24" y="168"/>
                </a:lnTo>
                <a:lnTo>
                  <a:pt x="24" y="180"/>
                </a:lnTo>
                <a:lnTo>
                  <a:pt x="30" y="186"/>
                </a:lnTo>
                <a:lnTo>
                  <a:pt x="30" y="198"/>
                </a:lnTo>
                <a:lnTo>
                  <a:pt x="30" y="210"/>
                </a:lnTo>
                <a:lnTo>
                  <a:pt x="36" y="222"/>
                </a:lnTo>
                <a:lnTo>
                  <a:pt x="36" y="228"/>
                </a:lnTo>
                <a:lnTo>
                  <a:pt x="36" y="240"/>
                </a:lnTo>
                <a:lnTo>
                  <a:pt x="36" y="252"/>
                </a:lnTo>
                <a:lnTo>
                  <a:pt x="42" y="264"/>
                </a:lnTo>
                <a:lnTo>
                  <a:pt x="42" y="270"/>
                </a:lnTo>
                <a:lnTo>
                  <a:pt x="42" y="282"/>
                </a:lnTo>
                <a:lnTo>
                  <a:pt x="48" y="294"/>
                </a:lnTo>
                <a:lnTo>
                  <a:pt x="48" y="306"/>
                </a:lnTo>
                <a:lnTo>
                  <a:pt x="48" y="312"/>
                </a:lnTo>
                <a:lnTo>
                  <a:pt x="48" y="324"/>
                </a:lnTo>
                <a:lnTo>
                  <a:pt x="54" y="336"/>
                </a:lnTo>
                <a:lnTo>
                  <a:pt x="54" y="348"/>
                </a:lnTo>
                <a:lnTo>
                  <a:pt x="54" y="354"/>
                </a:lnTo>
                <a:lnTo>
                  <a:pt x="54" y="366"/>
                </a:lnTo>
                <a:lnTo>
                  <a:pt x="60" y="378"/>
                </a:lnTo>
                <a:lnTo>
                  <a:pt x="60" y="390"/>
                </a:lnTo>
                <a:lnTo>
                  <a:pt x="60" y="396"/>
                </a:lnTo>
                <a:lnTo>
                  <a:pt x="66" y="408"/>
                </a:lnTo>
                <a:lnTo>
                  <a:pt x="66" y="420"/>
                </a:lnTo>
                <a:lnTo>
                  <a:pt x="66" y="426"/>
                </a:lnTo>
                <a:lnTo>
                  <a:pt x="66" y="438"/>
                </a:lnTo>
                <a:lnTo>
                  <a:pt x="72" y="450"/>
                </a:lnTo>
                <a:lnTo>
                  <a:pt x="72" y="456"/>
                </a:lnTo>
                <a:lnTo>
                  <a:pt x="72" y="468"/>
                </a:lnTo>
                <a:lnTo>
                  <a:pt x="78" y="480"/>
                </a:lnTo>
                <a:lnTo>
                  <a:pt x="78" y="486"/>
                </a:lnTo>
                <a:lnTo>
                  <a:pt x="78" y="498"/>
                </a:lnTo>
                <a:lnTo>
                  <a:pt x="78" y="510"/>
                </a:lnTo>
                <a:lnTo>
                  <a:pt x="84" y="516"/>
                </a:lnTo>
                <a:lnTo>
                  <a:pt x="84" y="528"/>
                </a:lnTo>
                <a:lnTo>
                  <a:pt x="84" y="540"/>
                </a:lnTo>
                <a:lnTo>
                  <a:pt x="90" y="546"/>
                </a:lnTo>
                <a:lnTo>
                  <a:pt x="90" y="558"/>
                </a:lnTo>
                <a:lnTo>
                  <a:pt x="90" y="570"/>
                </a:lnTo>
                <a:lnTo>
                  <a:pt x="90" y="576"/>
                </a:lnTo>
                <a:lnTo>
                  <a:pt x="96" y="588"/>
                </a:lnTo>
                <a:lnTo>
                  <a:pt x="96" y="594"/>
                </a:lnTo>
                <a:lnTo>
                  <a:pt x="96" y="606"/>
                </a:lnTo>
                <a:lnTo>
                  <a:pt x="102" y="618"/>
                </a:lnTo>
                <a:lnTo>
                  <a:pt x="102" y="624"/>
                </a:lnTo>
                <a:lnTo>
                  <a:pt x="102" y="636"/>
                </a:lnTo>
                <a:lnTo>
                  <a:pt x="102" y="642"/>
                </a:lnTo>
                <a:lnTo>
                  <a:pt x="108" y="654"/>
                </a:lnTo>
                <a:lnTo>
                  <a:pt x="108" y="666"/>
                </a:lnTo>
                <a:lnTo>
                  <a:pt x="108" y="672"/>
                </a:lnTo>
                <a:lnTo>
                  <a:pt x="114" y="684"/>
                </a:lnTo>
                <a:lnTo>
                  <a:pt x="114" y="690"/>
                </a:lnTo>
                <a:lnTo>
                  <a:pt x="114" y="702"/>
                </a:lnTo>
                <a:lnTo>
                  <a:pt x="114" y="714"/>
                </a:lnTo>
                <a:lnTo>
                  <a:pt x="120" y="720"/>
                </a:lnTo>
                <a:lnTo>
                  <a:pt x="120" y="732"/>
                </a:lnTo>
                <a:lnTo>
                  <a:pt x="120" y="738"/>
                </a:lnTo>
                <a:lnTo>
                  <a:pt x="126" y="750"/>
                </a:lnTo>
                <a:lnTo>
                  <a:pt x="126" y="756"/>
                </a:lnTo>
                <a:lnTo>
                  <a:pt x="126" y="768"/>
                </a:lnTo>
                <a:lnTo>
                  <a:pt x="126" y="774"/>
                </a:lnTo>
                <a:lnTo>
                  <a:pt x="132" y="786"/>
                </a:lnTo>
                <a:lnTo>
                  <a:pt x="132" y="792"/>
                </a:lnTo>
                <a:lnTo>
                  <a:pt x="132" y="804"/>
                </a:lnTo>
                <a:lnTo>
                  <a:pt x="138" y="810"/>
                </a:lnTo>
                <a:lnTo>
                  <a:pt x="138" y="822"/>
                </a:lnTo>
                <a:lnTo>
                  <a:pt x="138" y="834"/>
                </a:lnTo>
                <a:lnTo>
                  <a:pt x="138" y="840"/>
                </a:lnTo>
                <a:lnTo>
                  <a:pt x="144" y="852"/>
                </a:lnTo>
                <a:lnTo>
                  <a:pt x="144" y="858"/>
                </a:lnTo>
                <a:lnTo>
                  <a:pt x="144" y="870"/>
                </a:lnTo>
                <a:lnTo>
                  <a:pt x="144" y="876"/>
                </a:lnTo>
                <a:lnTo>
                  <a:pt x="150" y="882"/>
                </a:lnTo>
                <a:lnTo>
                  <a:pt x="150" y="894"/>
                </a:lnTo>
                <a:lnTo>
                  <a:pt x="150" y="900"/>
                </a:lnTo>
                <a:lnTo>
                  <a:pt x="156" y="912"/>
                </a:lnTo>
                <a:lnTo>
                  <a:pt x="156" y="918"/>
                </a:lnTo>
                <a:lnTo>
                  <a:pt x="156" y="930"/>
                </a:lnTo>
                <a:lnTo>
                  <a:pt x="156" y="936"/>
                </a:lnTo>
                <a:lnTo>
                  <a:pt x="162" y="948"/>
                </a:lnTo>
                <a:lnTo>
                  <a:pt x="162" y="954"/>
                </a:lnTo>
                <a:lnTo>
                  <a:pt x="162" y="966"/>
                </a:lnTo>
                <a:lnTo>
                  <a:pt x="168" y="972"/>
                </a:lnTo>
                <a:lnTo>
                  <a:pt x="168" y="984"/>
                </a:lnTo>
                <a:lnTo>
                  <a:pt x="168" y="990"/>
                </a:lnTo>
                <a:lnTo>
                  <a:pt x="168" y="996"/>
                </a:lnTo>
                <a:lnTo>
                  <a:pt x="174" y="1008"/>
                </a:lnTo>
                <a:lnTo>
                  <a:pt x="174" y="1014"/>
                </a:lnTo>
                <a:lnTo>
                  <a:pt x="174" y="1026"/>
                </a:lnTo>
                <a:lnTo>
                  <a:pt x="180" y="1032"/>
                </a:lnTo>
                <a:lnTo>
                  <a:pt x="180" y="1044"/>
                </a:lnTo>
                <a:lnTo>
                  <a:pt x="180" y="1050"/>
                </a:lnTo>
                <a:lnTo>
                  <a:pt x="180" y="1056"/>
                </a:lnTo>
                <a:lnTo>
                  <a:pt x="186" y="1068"/>
                </a:lnTo>
                <a:lnTo>
                  <a:pt x="186" y="1074"/>
                </a:lnTo>
                <a:lnTo>
                  <a:pt x="186" y="1086"/>
                </a:lnTo>
                <a:lnTo>
                  <a:pt x="192" y="1092"/>
                </a:lnTo>
                <a:lnTo>
                  <a:pt x="192" y="1098"/>
                </a:lnTo>
                <a:lnTo>
                  <a:pt x="192" y="1110"/>
                </a:lnTo>
                <a:lnTo>
                  <a:pt x="192" y="1116"/>
                </a:lnTo>
                <a:lnTo>
                  <a:pt x="198" y="1122"/>
                </a:lnTo>
                <a:lnTo>
                  <a:pt x="198" y="1134"/>
                </a:lnTo>
                <a:lnTo>
                  <a:pt x="198" y="1140"/>
                </a:lnTo>
                <a:lnTo>
                  <a:pt x="204" y="1152"/>
                </a:lnTo>
                <a:lnTo>
                  <a:pt x="204" y="1158"/>
                </a:lnTo>
                <a:lnTo>
                  <a:pt x="204" y="1164"/>
                </a:lnTo>
                <a:lnTo>
                  <a:pt x="204" y="1176"/>
                </a:lnTo>
                <a:lnTo>
                  <a:pt x="210" y="1182"/>
                </a:lnTo>
                <a:lnTo>
                  <a:pt x="210" y="1188"/>
                </a:lnTo>
                <a:lnTo>
                  <a:pt x="210" y="1200"/>
                </a:lnTo>
                <a:lnTo>
                  <a:pt x="216" y="1206"/>
                </a:lnTo>
                <a:lnTo>
                  <a:pt x="216" y="1212"/>
                </a:lnTo>
                <a:lnTo>
                  <a:pt x="216" y="1224"/>
                </a:lnTo>
                <a:lnTo>
                  <a:pt x="216" y="1230"/>
                </a:lnTo>
                <a:lnTo>
                  <a:pt x="222" y="1236"/>
                </a:lnTo>
                <a:lnTo>
                  <a:pt x="222" y="1242"/>
                </a:lnTo>
                <a:lnTo>
                  <a:pt x="222" y="1254"/>
                </a:lnTo>
                <a:lnTo>
                  <a:pt x="228" y="1260"/>
                </a:lnTo>
                <a:lnTo>
                  <a:pt x="228" y="1266"/>
                </a:lnTo>
                <a:lnTo>
                  <a:pt x="228" y="1278"/>
                </a:lnTo>
                <a:lnTo>
                  <a:pt x="228" y="1284"/>
                </a:lnTo>
                <a:lnTo>
                  <a:pt x="234" y="1290"/>
                </a:lnTo>
                <a:lnTo>
                  <a:pt x="234" y="1296"/>
                </a:lnTo>
                <a:lnTo>
                  <a:pt x="234" y="1308"/>
                </a:lnTo>
                <a:lnTo>
                  <a:pt x="234" y="1314"/>
                </a:lnTo>
                <a:lnTo>
                  <a:pt x="240" y="1320"/>
                </a:lnTo>
                <a:lnTo>
                  <a:pt x="240" y="1332"/>
                </a:lnTo>
                <a:lnTo>
                  <a:pt x="240" y="1338"/>
                </a:lnTo>
                <a:lnTo>
                  <a:pt x="246" y="1344"/>
                </a:lnTo>
                <a:lnTo>
                  <a:pt x="246" y="1350"/>
                </a:lnTo>
                <a:lnTo>
                  <a:pt x="246" y="1362"/>
                </a:lnTo>
                <a:lnTo>
                  <a:pt x="246" y="1368"/>
                </a:lnTo>
                <a:lnTo>
                  <a:pt x="252" y="1374"/>
                </a:lnTo>
                <a:lnTo>
                  <a:pt x="252" y="1380"/>
                </a:lnTo>
                <a:lnTo>
                  <a:pt x="252" y="1386"/>
                </a:lnTo>
                <a:lnTo>
                  <a:pt x="258" y="1398"/>
                </a:lnTo>
                <a:lnTo>
                  <a:pt x="258" y="1404"/>
                </a:lnTo>
                <a:lnTo>
                  <a:pt x="258" y="1410"/>
                </a:lnTo>
                <a:lnTo>
                  <a:pt x="258" y="1416"/>
                </a:lnTo>
                <a:lnTo>
                  <a:pt x="264" y="1428"/>
                </a:lnTo>
                <a:lnTo>
                  <a:pt x="264" y="1434"/>
                </a:lnTo>
                <a:lnTo>
                  <a:pt x="264" y="1440"/>
                </a:lnTo>
                <a:lnTo>
                  <a:pt x="270" y="1446"/>
                </a:lnTo>
                <a:lnTo>
                  <a:pt x="270" y="1452"/>
                </a:lnTo>
                <a:lnTo>
                  <a:pt x="270" y="1458"/>
                </a:lnTo>
                <a:lnTo>
                  <a:pt x="270" y="1470"/>
                </a:lnTo>
                <a:lnTo>
                  <a:pt x="276" y="1476"/>
                </a:lnTo>
                <a:lnTo>
                  <a:pt x="276" y="1482"/>
                </a:lnTo>
                <a:lnTo>
                  <a:pt x="276" y="1488"/>
                </a:lnTo>
                <a:lnTo>
                  <a:pt x="282" y="1494"/>
                </a:lnTo>
                <a:lnTo>
                  <a:pt x="282" y="1500"/>
                </a:lnTo>
                <a:lnTo>
                  <a:pt x="282" y="1512"/>
                </a:lnTo>
                <a:lnTo>
                  <a:pt x="282" y="1518"/>
                </a:lnTo>
                <a:lnTo>
                  <a:pt x="288" y="1524"/>
                </a:lnTo>
                <a:lnTo>
                  <a:pt x="288" y="1530"/>
                </a:lnTo>
                <a:lnTo>
                  <a:pt x="288" y="1536"/>
                </a:lnTo>
                <a:lnTo>
                  <a:pt x="294" y="1542"/>
                </a:lnTo>
                <a:lnTo>
                  <a:pt x="294" y="1548"/>
                </a:lnTo>
                <a:lnTo>
                  <a:pt x="294" y="1560"/>
                </a:lnTo>
                <a:lnTo>
                  <a:pt x="294" y="1566"/>
                </a:lnTo>
                <a:lnTo>
                  <a:pt x="300" y="1572"/>
                </a:lnTo>
                <a:lnTo>
                  <a:pt x="300" y="1578"/>
                </a:lnTo>
                <a:lnTo>
                  <a:pt x="300" y="1584"/>
                </a:lnTo>
                <a:lnTo>
                  <a:pt x="306" y="1590"/>
                </a:lnTo>
                <a:lnTo>
                  <a:pt x="306" y="1596"/>
                </a:lnTo>
                <a:lnTo>
                  <a:pt x="306" y="1602"/>
                </a:lnTo>
                <a:lnTo>
                  <a:pt x="306" y="1608"/>
                </a:lnTo>
                <a:lnTo>
                  <a:pt x="312" y="1620"/>
                </a:lnTo>
                <a:lnTo>
                  <a:pt x="312" y="1626"/>
                </a:lnTo>
                <a:lnTo>
                  <a:pt x="312" y="1632"/>
                </a:lnTo>
                <a:lnTo>
                  <a:pt x="312" y="1638"/>
                </a:lnTo>
                <a:lnTo>
                  <a:pt x="318" y="1644"/>
                </a:lnTo>
                <a:lnTo>
                  <a:pt x="318" y="1650"/>
                </a:lnTo>
                <a:lnTo>
                  <a:pt x="318" y="1656"/>
                </a:lnTo>
                <a:lnTo>
                  <a:pt x="324" y="1662"/>
                </a:lnTo>
                <a:lnTo>
                  <a:pt x="324" y="1668"/>
                </a:lnTo>
                <a:lnTo>
                  <a:pt x="324" y="1674"/>
                </a:lnTo>
                <a:lnTo>
                  <a:pt x="324" y="1680"/>
                </a:lnTo>
                <a:lnTo>
                  <a:pt x="330" y="1686"/>
                </a:lnTo>
                <a:lnTo>
                  <a:pt x="330" y="1692"/>
                </a:lnTo>
                <a:lnTo>
                  <a:pt x="330" y="1698"/>
                </a:lnTo>
                <a:lnTo>
                  <a:pt x="336" y="1704"/>
                </a:lnTo>
                <a:lnTo>
                  <a:pt x="336" y="1710"/>
                </a:lnTo>
                <a:lnTo>
                  <a:pt x="336" y="1716"/>
                </a:lnTo>
                <a:lnTo>
                  <a:pt x="336" y="1722"/>
                </a:lnTo>
                <a:lnTo>
                  <a:pt x="342" y="1728"/>
                </a:lnTo>
                <a:lnTo>
                  <a:pt x="342" y="1734"/>
                </a:lnTo>
                <a:lnTo>
                  <a:pt x="342" y="1740"/>
                </a:lnTo>
                <a:lnTo>
                  <a:pt x="348" y="1746"/>
                </a:lnTo>
                <a:lnTo>
                  <a:pt x="348" y="1752"/>
                </a:lnTo>
                <a:lnTo>
                  <a:pt x="348" y="1758"/>
                </a:lnTo>
                <a:lnTo>
                  <a:pt x="348" y="1764"/>
                </a:lnTo>
                <a:lnTo>
                  <a:pt x="354" y="1770"/>
                </a:lnTo>
                <a:lnTo>
                  <a:pt x="354" y="1776"/>
                </a:lnTo>
                <a:lnTo>
                  <a:pt x="354" y="1782"/>
                </a:lnTo>
                <a:lnTo>
                  <a:pt x="360" y="1788"/>
                </a:lnTo>
                <a:lnTo>
                  <a:pt x="360" y="1794"/>
                </a:lnTo>
                <a:lnTo>
                  <a:pt x="360" y="1800"/>
                </a:lnTo>
                <a:lnTo>
                  <a:pt x="360" y="1806"/>
                </a:lnTo>
                <a:lnTo>
                  <a:pt x="366" y="1812"/>
                </a:lnTo>
                <a:lnTo>
                  <a:pt x="366" y="1818"/>
                </a:lnTo>
                <a:lnTo>
                  <a:pt x="366" y="1824"/>
                </a:lnTo>
                <a:lnTo>
                  <a:pt x="372" y="1830"/>
                </a:lnTo>
                <a:lnTo>
                  <a:pt x="372" y="1836"/>
                </a:lnTo>
                <a:lnTo>
                  <a:pt x="372" y="1842"/>
                </a:lnTo>
                <a:lnTo>
                  <a:pt x="372" y="1848"/>
                </a:lnTo>
                <a:lnTo>
                  <a:pt x="378" y="1854"/>
                </a:lnTo>
                <a:lnTo>
                  <a:pt x="378" y="1860"/>
                </a:lnTo>
                <a:lnTo>
                  <a:pt x="384" y="1866"/>
                </a:lnTo>
                <a:lnTo>
                  <a:pt x="384" y="1872"/>
                </a:lnTo>
                <a:lnTo>
                  <a:pt x="384" y="1878"/>
                </a:lnTo>
                <a:lnTo>
                  <a:pt x="384" y="1884"/>
                </a:lnTo>
                <a:lnTo>
                  <a:pt x="390" y="1890"/>
                </a:lnTo>
                <a:lnTo>
                  <a:pt x="390" y="1896"/>
                </a:lnTo>
                <a:lnTo>
                  <a:pt x="390" y="1902"/>
                </a:lnTo>
                <a:lnTo>
                  <a:pt x="396" y="1902"/>
                </a:lnTo>
                <a:lnTo>
                  <a:pt x="396" y="1908"/>
                </a:lnTo>
                <a:lnTo>
                  <a:pt x="396" y="1914"/>
                </a:lnTo>
                <a:lnTo>
                  <a:pt x="396" y="1920"/>
                </a:lnTo>
                <a:lnTo>
                  <a:pt x="402" y="1926"/>
                </a:lnTo>
                <a:lnTo>
                  <a:pt x="402" y="1932"/>
                </a:lnTo>
                <a:lnTo>
                  <a:pt x="402" y="1938"/>
                </a:lnTo>
                <a:lnTo>
                  <a:pt x="402" y="1944"/>
                </a:lnTo>
                <a:lnTo>
                  <a:pt x="408" y="1944"/>
                </a:lnTo>
                <a:lnTo>
                  <a:pt x="408" y="1950"/>
                </a:lnTo>
                <a:lnTo>
                  <a:pt x="408" y="1956"/>
                </a:lnTo>
                <a:lnTo>
                  <a:pt x="414" y="1962"/>
                </a:lnTo>
                <a:lnTo>
                  <a:pt x="414" y="1968"/>
                </a:lnTo>
                <a:lnTo>
                  <a:pt x="414" y="1974"/>
                </a:lnTo>
                <a:lnTo>
                  <a:pt x="420" y="1980"/>
                </a:lnTo>
                <a:lnTo>
                  <a:pt x="420" y="1986"/>
                </a:lnTo>
                <a:lnTo>
                  <a:pt x="420" y="1992"/>
                </a:lnTo>
                <a:lnTo>
                  <a:pt x="426" y="1998"/>
                </a:lnTo>
                <a:lnTo>
                  <a:pt x="426" y="2004"/>
                </a:lnTo>
                <a:lnTo>
                  <a:pt x="426" y="2010"/>
                </a:lnTo>
                <a:lnTo>
                  <a:pt x="432" y="2016"/>
                </a:lnTo>
                <a:lnTo>
                  <a:pt x="432" y="2022"/>
                </a:lnTo>
                <a:lnTo>
                  <a:pt x="438" y="2028"/>
                </a:lnTo>
                <a:lnTo>
                  <a:pt x="438" y="2034"/>
                </a:lnTo>
                <a:lnTo>
                  <a:pt x="438" y="2040"/>
                </a:lnTo>
                <a:lnTo>
                  <a:pt x="444" y="2046"/>
                </a:lnTo>
                <a:lnTo>
                  <a:pt x="444" y="2052"/>
                </a:lnTo>
                <a:lnTo>
                  <a:pt x="444" y="2058"/>
                </a:lnTo>
                <a:lnTo>
                  <a:pt x="450" y="2058"/>
                </a:lnTo>
                <a:lnTo>
                  <a:pt x="450" y="2064"/>
                </a:lnTo>
                <a:lnTo>
                  <a:pt x="450" y="2070"/>
                </a:lnTo>
                <a:lnTo>
                  <a:pt x="450" y="2076"/>
                </a:lnTo>
                <a:lnTo>
                  <a:pt x="456" y="2076"/>
                </a:lnTo>
                <a:lnTo>
                  <a:pt x="456" y="2082"/>
                </a:lnTo>
                <a:lnTo>
                  <a:pt x="456" y="2088"/>
                </a:lnTo>
                <a:lnTo>
                  <a:pt x="462" y="2088"/>
                </a:lnTo>
                <a:lnTo>
                  <a:pt x="462" y="2094"/>
                </a:lnTo>
                <a:lnTo>
                  <a:pt x="462" y="2100"/>
                </a:lnTo>
                <a:lnTo>
                  <a:pt x="462" y="2106"/>
                </a:lnTo>
                <a:lnTo>
                  <a:pt x="468" y="2106"/>
                </a:lnTo>
                <a:lnTo>
                  <a:pt x="468" y="2112"/>
                </a:lnTo>
                <a:lnTo>
                  <a:pt x="468" y="2118"/>
                </a:lnTo>
                <a:lnTo>
                  <a:pt x="474" y="2118"/>
                </a:lnTo>
                <a:lnTo>
                  <a:pt x="474" y="2124"/>
                </a:lnTo>
                <a:lnTo>
                  <a:pt x="474" y="2130"/>
                </a:lnTo>
                <a:lnTo>
                  <a:pt x="480" y="2136"/>
                </a:lnTo>
                <a:lnTo>
                  <a:pt x="480" y="2142"/>
                </a:lnTo>
                <a:lnTo>
                  <a:pt x="486" y="2148"/>
                </a:lnTo>
                <a:lnTo>
                  <a:pt x="486" y="2154"/>
                </a:lnTo>
                <a:lnTo>
                  <a:pt x="486" y="2160"/>
                </a:lnTo>
                <a:lnTo>
                  <a:pt x="492" y="2166"/>
                </a:lnTo>
                <a:lnTo>
                  <a:pt x="492" y="2172"/>
                </a:lnTo>
                <a:lnTo>
                  <a:pt x="498" y="2178"/>
                </a:lnTo>
                <a:lnTo>
                  <a:pt x="498" y="2184"/>
                </a:lnTo>
                <a:lnTo>
                  <a:pt x="504" y="2190"/>
                </a:lnTo>
                <a:lnTo>
                  <a:pt x="504" y="2196"/>
                </a:lnTo>
                <a:lnTo>
                  <a:pt x="504" y="2202"/>
                </a:lnTo>
                <a:lnTo>
                  <a:pt x="510" y="2202"/>
                </a:lnTo>
                <a:lnTo>
                  <a:pt x="510" y="2208"/>
                </a:lnTo>
                <a:lnTo>
                  <a:pt x="516" y="2214"/>
                </a:lnTo>
                <a:lnTo>
                  <a:pt x="516" y="2220"/>
                </a:lnTo>
                <a:lnTo>
                  <a:pt x="516" y="2226"/>
                </a:lnTo>
                <a:lnTo>
                  <a:pt x="522" y="2226"/>
                </a:lnTo>
                <a:lnTo>
                  <a:pt x="522" y="2232"/>
                </a:lnTo>
                <a:lnTo>
                  <a:pt x="528" y="2238"/>
                </a:lnTo>
                <a:lnTo>
                  <a:pt x="528" y="2244"/>
                </a:lnTo>
                <a:lnTo>
                  <a:pt x="528" y="2250"/>
                </a:lnTo>
                <a:lnTo>
                  <a:pt x="534" y="2250"/>
                </a:lnTo>
                <a:lnTo>
                  <a:pt x="534" y="2256"/>
                </a:lnTo>
                <a:lnTo>
                  <a:pt x="540" y="2262"/>
                </a:lnTo>
                <a:lnTo>
                  <a:pt x="540" y="2268"/>
                </a:lnTo>
                <a:lnTo>
                  <a:pt x="546" y="2274"/>
                </a:lnTo>
                <a:lnTo>
                  <a:pt x="546" y="2280"/>
                </a:lnTo>
                <a:lnTo>
                  <a:pt x="552" y="2280"/>
                </a:lnTo>
                <a:lnTo>
                  <a:pt x="552" y="2286"/>
                </a:lnTo>
                <a:lnTo>
                  <a:pt x="552" y="2292"/>
                </a:lnTo>
                <a:lnTo>
                  <a:pt x="558" y="2292"/>
                </a:lnTo>
                <a:lnTo>
                  <a:pt x="558" y="2298"/>
                </a:lnTo>
                <a:lnTo>
                  <a:pt x="564" y="2298"/>
                </a:lnTo>
                <a:lnTo>
                  <a:pt x="564" y="2304"/>
                </a:lnTo>
                <a:lnTo>
                  <a:pt x="564" y="2310"/>
                </a:lnTo>
                <a:lnTo>
                  <a:pt x="570" y="2310"/>
                </a:lnTo>
                <a:lnTo>
                  <a:pt x="570" y="2316"/>
                </a:lnTo>
                <a:lnTo>
                  <a:pt x="576" y="2322"/>
                </a:lnTo>
                <a:lnTo>
                  <a:pt x="576" y="2328"/>
                </a:lnTo>
                <a:lnTo>
                  <a:pt x="582" y="2328"/>
                </a:lnTo>
                <a:lnTo>
                  <a:pt x="582" y="2334"/>
                </a:lnTo>
                <a:lnTo>
                  <a:pt x="588" y="2340"/>
                </a:lnTo>
                <a:lnTo>
                  <a:pt x="588" y="2346"/>
                </a:lnTo>
                <a:lnTo>
                  <a:pt x="594" y="2346"/>
                </a:lnTo>
                <a:lnTo>
                  <a:pt x="594" y="2352"/>
                </a:lnTo>
                <a:lnTo>
                  <a:pt x="600" y="2352"/>
                </a:lnTo>
                <a:lnTo>
                  <a:pt x="600" y="2358"/>
                </a:lnTo>
                <a:lnTo>
                  <a:pt x="606" y="2364"/>
                </a:lnTo>
                <a:lnTo>
                  <a:pt x="606" y="2370"/>
                </a:lnTo>
                <a:lnTo>
                  <a:pt x="612" y="2370"/>
                </a:lnTo>
                <a:lnTo>
                  <a:pt x="612" y="2376"/>
                </a:lnTo>
                <a:lnTo>
                  <a:pt x="618" y="2376"/>
                </a:lnTo>
                <a:lnTo>
                  <a:pt x="618" y="2382"/>
                </a:lnTo>
                <a:lnTo>
                  <a:pt x="624" y="2382"/>
                </a:lnTo>
                <a:lnTo>
                  <a:pt x="624" y="2388"/>
                </a:lnTo>
                <a:lnTo>
                  <a:pt x="630" y="2388"/>
                </a:lnTo>
                <a:lnTo>
                  <a:pt x="630" y="2394"/>
                </a:lnTo>
                <a:lnTo>
                  <a:pt x="636" y="2394"/>
                </a:lnTo>
                <a:lnTo>
                  <a:pt x="636" y="2400"/>
                </a:lnTo>
                <a:lnTo>
                  <a:pt x="642" y="2400"/>
                </a:lnTo>
                <a:lnTo>
                  <a:pt x="642" y="2406"/>
                </a:lnTo>
                <a:lnTo>
                  <a:pt x="648" y="2406"/>
                </a:lnTo>
                <a:lnTo>
                  <a:pt x="654" y="2412"/>
                </a:lnTo>
                <a:lnTo>
                  <a:pt x="660" y="2418"/>
                </a:lnTo>
                <a:lnTo>
                  <a:pt x="666" y="2418"/>
                </a:lnTo>
                <a:lnTo>
                  <a:pt x="666" y="2424"/>
                </a:lnTo>
                <a:lnTo>
                  <a:pt x="672" y="2424"/>
                </a:lnTo>
                <a:lnTo>
                  <a:pt x="678" y="2430"/>
                </a:lnTo>
                <a:lnTo>
                  <a:pt x="684" y="2430"/>
                </a:lnTo>
                <a:lnTo>
                  <a:pt x="684" y="2436"/>
                </a:lnTo>
                <a:lnTo>
                  <a:pt x="690" y="2436"/>
                </a:lnTo>
                <a:lnTo>
                  <a:pt x="696" y="2436"/>
                </a:lnTo>
                <a:lnTo>
                  <a:pt x="702" y="2442"/>
                </a:lnTo>
                <a:lnTo>
                  <a:pt x="708" y="2442"/>
                </a:lnTo>
                <a:lnTo>
                  <a:pt x="714" y="2442"/>
                </a:lnTo>
                <a:lnTo>
                  <a:pt x="720" y="2442"/>
                </a:lnTo>
                <a:lnTo>
                  <a:pt x="720" y="2448"/>
                </a:lnTo>
                <a:lnTo>
                  <a:pt x="726" y="2448"/>
                </a:lnTo>
                <a:lnTo>
                  <a:pt x="732" y="2448"/>
                </a:lnTo>
                <a:lnTo>
                  <a:pt x="738" y="2448"/>
                </a:lnTo>
                <a:lnTo>
                  <a:pt x="744" y="2448"/>
                </a:lnTo>
                <a:lnTo>
                  <a:pt x="750" y="2448"/>
                </a:lnTo>
                <a:lnTo>
                  <a:pt x="756" y="2448"/>
                </a:lnTo>
                <a:lnTo>
                  <a:pt x="762" y="2448"/>
                </a:lnTo>
                <a:lnTo>
                  <a:pt x="768" y="2448"/>
                </a:lnTo>
                <a:lnTo>
                  <a:pt x="774" y="2442"/>
                </a:lnTo>
                <a:lnTo>
                  <a:pt x="780" y="2442"/>
                </a:lnTo>
                <a:lnTo>
                  <a:pt x="786" y="2442"/>
                </a:lnTo>
                <a:lnTo>
                  <a:pt x="792" y="2436"/>
                </a:lnTo>
                <a:lnTo>
                  <a:pt x="798" y="2436"/>
                </a:lnTo>
                <a:lnTo>
                  <a:pt x="804" y="2436"/>
                </a:lnTo>
                <a:lnTo>
                  <a:pt x="804" y="2430"/>
                </a:lnTo>
                <a:lnTo>
                  <a:pt x="810" y="2430"/>
                </a:lnTo>
                <a:lnTo>
                  <a:pt x="816" y="2424"/>
                </a:lnTo>
                <a:lnTo>
                  <a:pt x="822" y="2424"/>
                </a:lnTo>
                <a:lnTo>
                  <a:pt x="822" y="2418"/>
                </a:lnTo>
                <a:lnTo>
                  <a:pt x="828" y="2418"/>
                </a:lnTo>
                <a:lnTo>
                  <a:pt x="834" y="2412"/>
                </a:lnTo>
                <a:lnTo>
                  <a:pt x="840" y="2412"/>
                </a:lnTo>
                <a:lnTo>
                  <a:pt x="840" y="2406"/>
                </a:lnTo>
                <a:lnTo>
                  <a:pt x="846" y="2406"/>
                </a:lnTo>
                <a:lnTo>
                  <a:pt x="846" y="2400"/>
                </a:lnTo>
                <a:lnTo>
                  <a:pt x="852" y="2400"/>
                </a:lnTo>
                <a:lnTo>
                  <a:pt x="852" y="2394"/>
                </a:lnTo>
                <a:lnTo>
                  <a:pt x="858" y="2394"/>
                </a:lnTo>
                <a:lnTo>
                  <a:pt x="858" y="2388"/>
                </a:lnTo>
                <a:lnTo>
                  <a:pt x="864" y="2388"/>
                </a:lnTo>
                <a:lnTo>
                  <a:pt x="864" y="2382"/>
                </a:lnTo>
                <a:lnTo>
                  <a:pt x="870" y="2382"/>
                </a:lnTo>
                <a:lnTo>
                  <a:pt x="870" y="2376"/>
                </a:lnTo>
                <a:lnTo>
                  <a:pt x="876" y="2376"/>
                </a:lnTo>
                <a:lnTo>
                  <a:pt x="876" y="2370"/>
                </a:lnTo>
                <a:lnTo>
                  <a:pt x="882" y="2364"/>
                </a:lnTo>
                <a:lnTo>
                  <a:pt x="888" y="2358"/>
                </a:lnTo>
                <a:lnTo>
                  <a:pt x="888" y="2352"/>
                </a:lnTo>
                <a:lnTo>
                  <a:pt x="894" y="2352"/>
                </a:lnTo>
                <a:lnTo>
                  <a:pt x="894" y="2346"/>
                </a:lnTo>
                <a:lnTo>
                  <a:pt x="900" y="2346"/>
                </a:lnTo>
                <a:lnTo>
                  <a:pt x="900" y="2340"/>
                </a:lnTo>
                <a:lnTo>
                  <a:pt x="906" y="2334"/>
                </a:lnTo>
                <a:lnTo>
                  <a:pt x="906" y="2328"/>
                </a:lnTo>
                <a:lnTo>
                  <a:pt x="912" y="2328"/>
                </a:lnTo>
                <a:lnTo>
                  <a:pt x="912" y="2322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6753240" y="2673360"/>
            <a:ext cx="843120" cy="3139920"/>
          </a:xfrm>
          <a:custGeom>
            <a:avLst/>
            <a:gdLst/>
            <a:ahLst/>
            <a:rect l="l" t="t" r="r" b="b"/>
            <a:pathLst>
              <a:path w="576" h="2316">
                <a:moveTo>
                  <a:pt x="0" y="2316"/>
                </a:moveTo>
                <a:lnTo>
                  <a:pt x="6" y="2310"/>
                </a:lnTo>
                <a:lnTo>
                  <a:pt x="6" y="2304"/>
                </a:lnTo>
                <a:lnTo>
                  <a:pt x="12" y="2304"/>
                </a:lnTo>
                <a:lnTo>
                  <a:pt x="12" y="2298"/>
                </a:lnTo>
                <a:lnTo>
                  <a:pt x="18" y="2292"/>
                </a:lnTo>
                <a:lnTo>
                  <a:pt x="18" y="2286"/>
                </a:lnTo>
                <a:lnTo>
                  <a:pt x="24" y="2280"/>
                </a:lnTo>
                <a:lnTo>
                  <a:pt x="24" y="2274"/>
                </a:lnTo>
                <a:lnTo>
                  <a:pt x="30" y="2274"/>
                </a:lnTo>
                <a:lnTo>
                  <a:pt x="30" y="2268"/>
                </a:lnTo>
                <a:lnTo>
                  <a:pt x="30" y="2262"/>
                </a:lnTo>
                <a:lnTo>
                  <a:pt x="36" y="2262"/>
                </a:lnTo>
                <a:lnTo>
                  <a:pt x="36" y="2256"/>
                </a:lnTo>
                <a:lnTo>
                  <a:pt x="42" y="2250"/>
                </a:lnTo>
                <a:lnTo>
                  <a:pt x="42" y="2244"/>
                </a:lnTo>
                <a:lnTo>
                  <a:pt x="48" y="2238"/>
                </a:lnTo>
                <a:lnTo>
                  <a:pt x="48" y="2232"/>
                </a:lnTo>
                <a:lnTo>
                  <a:pt x="54" y="2232"/>
                </a:lnTo>
                <a:lnTo>
                  <a:pt x="54" y="2226"/>
                </a:lnTo>
                <a:lnTo>
                  <a:pt x="54" y="2220"/>
                </a:lnTo>
                <a:lnTo>
                  <a:pt x="60" y="2214"/>
                </a:lnTo>
                <a:lnTo>
                  <a:pt x="60" y="2208"/>
                </a:lnTo>
                <a:lnTo>
                  <a:pt x="66" y="2208"/>
                </a:lnTo>
                <a:lnTo>
                  <a:pt x="66" y="2202"/>
                </a:lnTo>
                <a:lnTo>
                  <a:pt x="66" y="2196"/>
                </a:lnTo>
                <a:lnTo>
                  <a:pt x="72" y="2190"/>
                </a:lnTo>
                <a:lnTo>
                  <a:pt x="72" y="2184"/>
                </a:lnTo>
                <a:lnTo>
                  <a:pt x="78" y="2184"/>
                </a:lnTo>
                <a:lnTo>
                  <a:pt x="78" y="2178"/>
                </a:lnTo>
                <a:lnTo>
                  <a:pt x="78" y="2172"/>
                </a:lnTo>
                <a:lnTo>
                  <a:pt x="84" y="2166"/>
                </a:lnTo>
                <a:lnTo>
                  <a:pt x="84" y="2160"/>
                </a:lnTo>
                <a:lnTo>
                  <a:pt x="90" y="2154"/>
                </a:lnTo>
                <a:lnTo>
                  <a:pt x="90" y="2148"/>
                </a:lnTo>
                <a:lnTo>
                  <a:pt x="90" y="2142"/>
                </a:lnTo>
                <a:lnTo>
                  <a:pt x="96" y="2142"/>
                </a:lnTo>
                <a:lnTo>
                  <a:pt x="96" y="2136"/>
                </a:lnTo>
                <a:lnTo>
                  <a:pt x="96" y="2130"/>
                </a:lnTo>
                <a:lnTo>
                  <a:pt x="102" y="2124"/>
                </a:lnTo>
                <a:lnTo>
                  <a:pt x="102" y="2118"/>
                </a:lnTo>
                <a:lnTo>
                  <a:pt x="108" y="2112"/>
                </a:lnTo>
                <a:lnTo>
                  <a:pt x="108" y="2106"/>
                </a:lnTo>
                <a:lnTo>
                  <a:pt x="108" y="2100"/>
                </a:lnTo>
                <a:lnTo>
                  <a:pt x="114" y="2094"/>
                </a:lnTo>
                <a:lnTo>
                  <a:pt x="114" y="2088"/>
                </a:lnTo>
                <a:lnTo>
                  <a:pt x="120" y="2082"/>
                </a:lnTo>
                <a:lnTo>
                  <a:pt x="120" y="2076"/>
                </a:lnTo>
                <a:lnTo>
                  <a:pt x="120" y="2070"/>
                </a:lnTo>
                <a:lnTo>
                  <a:pt x="126" y="2064"/>
                </a:lnTo>
                <a:lnTo>
                  <a:pt x="126" y="2058"/>
                </a:lnTo>
                <a:lnTo>
                  <a:pt x="132" y="2052"/>
                </a:lnTo>
                <a:lnTo>
                  <a:pt x="132" y="2046"/>
                </a:lnTo>
                <a:lnTo>
                  <a:pt x="132" y="2040"/>
                </a:lnTo>
                <a:lnTo>
                  <a:pt x="138" y="2034"/>
                </a:lnTo>
                <a:lnTo>
                  <a:pt x="138" y="2028"/>
                </a:lnTo>
                <a:lnTo>
                  <a:pt x="138" y="2022"/>
                </a:lnTo>
                <a:lnTo>
                  <a:pt x="144" y="2022"/>
                </a:lnTo>
                <a:lnTo>
                  <a:pt x="144" y="2016"/>
                </a:lnTo>
                <a:lnTo>
                  <a:pt x="144" y="2010"/>
                </a:lnTo>
                <a:lnTo>
                  <a:pt x="144" y="2004"/>
                </a:lnTo>
                <a:lnTo>
                  <a:pt x="150" y="2004"/>
                </a:lnTo>
                <a:lnTo>
                  <a:pt x="150" y="1998"/>
                </a:lnTo>
                <a:lnTo>
                  <a:pt x="150" y="1992"/>
                </a:lnTo>
                <a:lnTo>
                  <a:pt x="156" y="1986"/>
                </a:lnTo>
                <a:lnTo>
                  <a:pt x="156" y="1980"/>
                </a:lnTo>
                <a:lnTo>
                  <a:pt x="156" y="1974"/>
                </a:lnTo>
                <a:lnTo>
                  <a:pt x="162" y="1968"/>
                </a:lnTo>
                <a:lnTo>
                  <a:pt x="162" y="1962"/>
                </a:lnTo>
                <a:lnTo>
                  <a:pt x="162" y="1956"/>
                </a:lnTo>
                <a:lnTo>
                  <a:pt x="168" y="1950"/>
                </a:lnTo>
                <a:lnTo>
                  <a:pt x="168" y="1944"/>
                </a:lnTo>
                <a:lnTo>
                  <a:pt x="168" y="1938"/>
                </a:lnTo>
                <a:lnTo>
                  <a:pt x="174" y="1932"/>
                </a:lnTo>
                <a:lnTo>
                  <a:pt x="174" y="1926"/>
                </a:lnTo>
                <a:lnTo>
                  <a:pt x="174" y="1920"/>
                </a:lnTo>
                <a:lnTo>
                  <a:pt x="180" y="1920"/>
                </a:lnTo>
                <a:lnTo>
                  <a:pt x="180" y="1914"/>
                </a:lnTo>
                <a:lnTo>
                  <a:pt x="180" y="1908"/>
                </a:lnTo>
                <a:lnTo>
                  <a:pt x="180" y="1902"/>
                </a:lnTo>
                <a:lnTo>
                  <a:pt x="186" y="1896"/>
                </a:lnTo>
                <a:lnTo>
                  <a:pt x="186" y="1890"/>
                </a:lnTo>
                <a:lnTo>
                  <a:pt x="186" y="1884"/>
                </a:lnTo>
                <a:lnTo>
                  <a:pt x="186" y="1878"/>
                </a:lnTo>
                <a:lnTo>
                  <a:pt x="192" y="1872"/>
                </a:lnTo>
                <a:lnTo>
                  <a:pt x="192" y="1866"/>
                </a:lnTo>
                <a:lnTo>
                  <a:pt x="198" y="1860"/>
                </a:lnTo>
                <a:lnTo>
                  <a:pt x="198" y="1854"/>
                </a:lnTo>
                <a:lnTo>
                  <a:pt x="198" y="1848"/>
                </a:lnTo>
                <a:lnTo>
                  <a:pt x="198" y="1842"/>
                </a:lnTo>
                <a:lnTo>
                  <a:pt x="204" y="1836"/>
                </a:lnTo>
                <a:lnTo>
                  <a:pt x="204" y="1830"/>
                </a:lnTo>
                <a:lnTo>
                  <a:pt x="204" y="1824"/>
                </a:lnTo>
                <a:lnTo>
                  <a:pt x="210" y="1818"/>
                </a:lnTo>
                <a:lnTo>
                  <a:pt x="210" y="1812"/>
                </a:lnTo>
                <a:lnTo>
                  <a:pt x="210" y="1806"/>
                </a:lnTo>
                <a:lnTo>
                  <a:pt x="210" y="1800"/>
                </a:lnTo>
                <a:lnTo>
                  <a:pt x="216" y="1800"/>
                </a:lnTo>
                <a:lnTo>
                  <a:pt x="216" y="1794"/>
                </a:lnTo>
                <a:lnTo>
                  <a:pt x="216" y="1788"/>
                </a:lnTo>
                <a:lnTo>
                  <a:pt x="222" y="1782"/>
                </a:lnTo>
                <a:lnTo>
                  <a:pt x="222" y="1776"/>
                </a:lnTo>
                <a:lnTo>
                  <a:pt x="222" y="1770"/>
                </a:lnTo>
                <a:lnTo>
                  <a:pt x="222" y="1764"/>
                </a:lnTo>
                <a:lnTo>
                  <a:pt x="228" y="1758"/>
                </a:lnTo>
                <a:lnTo>
                  <a:pt x="228" y="1752"/>
                </a:lnTo>
                <a:lnTo>
                  <a:pt x="228" y="1746"/>
                </a:lnTo>
                <a:lnTo>
                  <a:pt x="234" y="1740"/>
                </a:lnTo>
                <a:lnTo>
                  <a:pt x="234" y="1734"/>
                </a:lnTo>
                <a:lnTo>
                  <a:pt x="234" y="1728"/>
                </a:lnTo>
                <a:lnTo>
                  <a:pt x="234" y="1722"/>
                </a:lnTo>
                <a:lnTo>
                  <a:pt x="240" y="1716"/>
                </a:lnTo>
                <a:lnTo>
                  <a:pt x="240" y="1710"/>
                </a:lnTo>
                <a:lnTo>
                  <a:pt x="240" y="1704"/>
                </a:lnTo>
                <a:lnTo>
                  <a:pt x="246" y="1698"/>
                </a:lnTo>
                <a:lnTo>
                  <a:pt x="246" y="1692"/>
                </a:lnTo>
                <a:lnTo>
                  <a:pt x="246" y="1686"/>
                </a:lnTo>
                <a:lnTo>
                  <a:pt x="246" y="1680"/>
                </a:lnTo>
                <a:lnTo>
                  <a:pt x="252" y="1674"/>
                </a:lnTo>
                <a:lnTo>
                  <a:pt x="252" y="1668"/>
                </a:lnTo>
                <a:lnTo>
                  <a:pt x="252" y="1656"/>
                </a:lnTo>
                <a:lnTo>
                  <a:pt x="258" y="1650"/>
                </a:lnTo>
                <a:lnTo>
                  <a:pt x="258" y="1644"/>
                </a:lnTo>
                <a:lnTo>
                  <a:pt x="258" y="1638"/>
                </a:lnTo>
                <a:lnTo>
                  <a:pt x="258" y="1632"/>
                </a:lnTo>
                <a:lnTo>
                  <a:pt x="264" y="1626"/>
                </a:lnTo>
                <a:lnTo>
                  <a:pt x="264" y="1620"/>
                </a:lnTo>
                <a:lnTo>
                  <a:pt x="264" y="1614"/>
                </a:lnTo>
                <a:lnTo>
                  <a:pt x="270" y="1608"/>
                </a:lnTo>
                <a:lnTo>
                  <a:pt x="270" y="1602"/>
                </a:lnTo>
                <a:lnTo>
                  <a:pt x="270" y="1596"/>
                </a:lnTo>
                <a:lnTo>
                  <a:pt x="270" y="1590"/>
                </a:lnTo>
                <a:lnTo>
                  <a:pt x="276" y="1584"/>
                </a:lnTo>
                <a:lnTo>
                  <a:pt x="276" y="1572"/>
                </a:lnTo>
                <a:lnTo>
                  <a:pt x="276" y="1566"/>
                </a:lnTo>
                <a:lnTo>
                  <a:pt x="276" y="1560"/>
                </a:lnTo>
                <a:lnTo>
                  <a:pt x="282" y="1554"/>
                </a:lnTo>
                <a:lnTo>
                  <a:pt x="282" y="1548"/>
                </a:lnTo>
                <a:lnTo>
                  <a:pt x="282" y="1542"/>
                </a:lnTo>
                <a:lnTo>
                  <a:pt x="288" y="1536"/>
                </a:lnTo>
                <a:lnTo>
                  <a:pt x="288" y="1530"/>
                </a:lnTo>
                <a:lnTo>
                  <a:pt x="288" y="1518"/>
                </a:lnTo>
                <a:lnTo>
                  <a:pt x="288" y="1512"/>
                </a:lnTo>
                <a:lnTo>
                  <a:pt x="294" y="1506"/>
                </a:lnTo>
                <a:lnTo>
                  <a:pt x="294" y="1500"/>
                </a:lnTo>
                <a:lnTo>
                  <a:pt x="294" y="1494"/>
                </a:lnTo>
                <a:lnTo>
                  <a:pt x="300" y="1488"/>
                </a:lnTo>
                <a:lnTo>
                  <a:pt x="300" y="1482"/>
                </a:lnTo>
                <a:lnTo>
                  <a:pt x="300" y="1470"/>
                </a:lnTo>
                <a:lnTo>
                  <a:pt x="300" y="1464"/>
                </a:lnTo>
                <a:lnTo>
                  <a:pt x="306" y="1458"/>
                </a:lnTo>
                <a:lnTo>
                  <a:pt x="306" y="1452"/>
                </a:lnTo>
                <a:lnTo>
                  <a:pt x="306" y="1446"/>
                </a:lnTo>
                <a:lnTo>
                  <a:pt x="312" y="1434"/>
                </a:lnTo>
                <a:lnTo>
                  <a:pt x="312" y="1428"/>
                </a:lnTo>
                <a:lnTo>
                  <a:pt x="312" y="1422"/>
                </a:lnTo>
                <a:lnTo>
                  <a:pt x="312" y="1416"/>
                </a:lnTo>
                <a:lnTo>
                  <a:pt x="318" y="1410"/>
                </a:lnTo>
                <a:lnTo>
                  <a:pt x="318" y="1398"/>
                </a:lnTo>
                <a:lnTo>
                  <a:pt x="318" y="1392"/>
                </a:lnTo>
                <a:lnTo>
                  <a:pt x="324" y="1386"/>
                </a:lnTo>
                <a:lnTo>
                  <a:pt x="324" y="1380"/>
                </a:lnTo>
                <a:lnTo>
                  <a:pt x="324" y="1374"/>
                </a:lnTo>
                <a:lnTo>
                  <a:pt x="324" y="1362"/>
                </a:lnTo>
                <a:lnTo>
                  <a:pt x="330" y="1356"/>
                </a:lnTo>
                <a:lnTo>
                  <a:pt x="330" y="1350"/>
                </a:lnTo>
                <a:lnTo>
                  <a:pt x="330" y="1344"/>
                </a:lnTo>
                <a:lnTo>
                  <a:pt x="336" y="1332"/>
                </a:lnTo>
                <a:lnTo>
                  <a:pt x="336" y="1326"/>
                </a:lnTo>
                <a:lnTo>
                  <a:pt x="336" y="1320"/>
                </a:lnTo>
                <a:lnTo>
                  <a:pt x="336" y="1314"/>
                </a:lnTo>
                <a:lnTo>
                  <a:pt x="342" y="1302"/>
                </a:lnTo>
                <a:lnTo>
                  <a:pt x="342" y="1296"/>
                </a:lnTo>
                <a:lnTo>
                  <a:pt x="342" y="1290"/>
                </a:lnTo>
                <a:lnTo>
                  <a:pt x="348" y="1284"/>
                </a:lnTo>
                <a:lnTo>
                  <a:pt x="348" y="1272"/>
                </a:lnTo>
                <a:lnTo>
                  <a:pt x="348" y="1266"/>
                </a:lnTo>
                <a:lnTo>
                  <a:pt x="348" y="1260"/>
                </a:lnTo>
                <a:lnTo>
                  <a:pt x="354" y="1248"/>
                </a:lnTo>
                <a:lnTo>
                  <a:pt x="354" y="1242"/>
                </a:lnTo>
                <a:lnTo>
                  <a:pt x="354" y="1236"/>
                </a:lnTo>
                <a:lnTo>
                  <a:pt x="354" y="1224"/>
                </a:lnTo>
                <a:lnTo>
                  <a:pt x="360" y="1218"/>
                </a:lnTo>
                <a:lnTo>
                  <a:pt x="360" y="1212"/>
                </a:lnTo>
                <a:lnTo>
                  <a:pt x="360" y="1200"/>
                </a:lnTo>
                <a:lnTo>
                  <a:pt x="366" y="1194"/>
                </a:lnTo>
                <a:lnTo>
                  <a:pt x="366" y="1188"/>
                </a:lnTo>
                <a:lnTo>
                  <a:pt x="366" y="1182"/>
                </a:lnTo>
                <a:lnTo>
                  <a:pt x="366" y="1170"/>
                </a:lnTo>
                <a:lnTo>
                  <a:pt x="372" y="1164"/>
                </a:lnTo>
                <a:lnTo>
                  <a:pt x="372" y="1152"/>
                </a:lnTo>
                <a:lnTo>
                  <a:pt x="372" y="1146"/>
                </a:lnTo>
                <a:lnTo>
                  <a:pt x="378" y="1140"/>
                </a:lnTo>
                <a:lnTo>
                  <a:pt x="378" y="1128"/>
                </a:lnTo>
                <a:lnTo>
                  <a:pt x="378" y="1122"/>
                </a:lnTo>
                <a:lnTo>
                  <a:pt x="378" y="1116"/>
                </a:lnTo>
                <a:lnTo>
                  <a:pt x="384" y="1104"/>
                </a:lnTo>
                <a:lnTo>
                  <a:pt x="384" y="1098"/>
                </a:lnTo>
                <a:lnTo>
                  <a:pt x="384" y="1092"/>
                </a:lnTo>
                <a:lnTo>
                  <a:pt x="390" y="1080"/>
                </a:lnTo>
                <a:lnTo>
                  <a:pt x="390" y="1074"/>
                </a:lnTo>
                <a:lnTo>
                  <a:pt x="390" y="1062"/>
                </a:lnTo>
                <a:lnTo>
                  <a:pt x="390" y="1056"/>
                </a:lnTo>
                <a:lnTo>
                  <a:pt x="396" y="1050"/>
                </a:lnTo>
                <a:lnTo>
                  <a:pt x="396" y="1038"/>
                </a:lnTo>
                <a:lnTo>
                  <a:pt x="396" y="1032"/>
                </a:lnTo>
                <a:lnTo>
                  <a:pt x="402" y="1020"/>
                </a:lnTo>
                <a:lnTo>
                  <a:pt x="402" y="1014"/>
                </a:lnTo>
                <a:lnTo>
                  <a:pt x="402" y="1008"/>
                </a:lnTo>
                <a:lnTo>
                  <a:pt x="402" y="996"/>
                </a:lnTo>
                <a:lnTo>
                  <a:pt x="408" y="990"/>
                </a:lnTo>
                <a:lnTo>
                  <a:pt x="408" y="978"/>
                </a:lnTo>
                <a:lnTo>
                  <a:pt x="408" y="972"/>
                </a:lnTo>
                <a:lnTo>
                  <a:pt x="414" y="960"/>
                </a:lnTo>
                <a:lnTo>
                  <a:pt x="414" y="954"/>
                </a:lnTo>
                <a:lnTo>
                  <a:pt x="414" y="942"/>
                </a:lnTo>
                <a:lnTo>
                  <a:pt x="414" y="936"/>
                </a:lnTo>
                <a:lnTo>
                  <a:pt x="420" y="930"/>
                </a:lnTo>
                <a:lnTo>
                  <a:pt x="420" y="918"/>
                </a:lnTo>
                <a:lnTo>
                  <a:pt x="420" y="912"/>
                </a:lnTo>
                <a:lnTo>
                  <a:pt x="426" y="900"/>
                </a:lnTo>
                <a:lnTo>
                  <a:pt x="426" y="894"/>
                </a:lnTo>
                <a:lnTo>
                  <a:pt x="426" y="882"/>
                </a:lnTo>
                <a:lnTo>
                  <a:pt x="426" y="876"/>
                </a:lnTo>
                <a:lnTo>
                  <a:pt x="432" y="864"/>
                </a:lnTo>
                <a:lnTo>
                  <a:pt x="432" y="858"/>
                </a:lnTo>
                <a:lnTo>
                  <a:pt x="432" y="846"/>
                </a:lnTo>
                <a:lnTo>
                  <a:pt x="438" y="840"/>
                </a:lnTo>
                <a:lnTo>
                  <a:pt x="438" y="828"/>
                </a:lnTo>
                <a:lnTo>
                  <a:pt x="438" y="822"/>
                </a:lnTo>
                <a:lnTo>
                  <a:pt x="438" y="810"/>
                </a:lnTo>
                <a:lnTo>
                  <a:pt x="444" y="804"/>
                </a:lnTo>
                <a:lnTo>
                  <a:pt x="444" y="792"/>
                </a:lnTo>
                <a:lnTo>
                  <a:pt x="444" y="786"/>
                </a:lnTo>
                <a:lnTo>
                  <a:pt x="444" y="774"/>
                </a:lnTo>
                <a:lnTo>
                  <a:pt x="450" y="768"/>
                </a:lnTo>
                <a:lnTo>
                  <a:pt x="450" y="756"/>
                </a:lnTo>
                <a:lnTo>
                  <a:pt x="450" y="744"/>
                </a:lnTo>
                <a:lnTo>
                  <a:pt x="456" y="738"/>
                </a:lnTo>
                <a:lnTo>
                  <a:pt x="456" y="726"/>
                </a:lnTo>
                <a:lnTo>
                  <a:pt x="456" y="720"/>
                </a:lnTo>
                <a:lnTo>
                  <a:pt x="456" y="708"/>
                </a:lnTo>
                <a:lnTo>
                  <a:pt x="462" y="702"/>
                </a:lnTo>
                <a:lnTo>
                  <a:pt x="462" y="690"/>
                </a:lnTo>
                <a:lnTo>
                  <a:pt x="462" y="684"/>
                </a:lnTo>
                <a:lnTo>
                  <a:pt x="468" y="672"/>
                </a:lnTo>
                <a:lnTo>
                  <a:pt x="468" y="660"/>
                </a:lnTo>
                <a:lnTo>
                  <a:pt x="468" y="654"/>
                </a:lnTo>
                <a:lnTo>
                  <a:pt x="468" y="642"/>
                </a:lnTo>
                <a:lnTo>
                  <a:pt x="474" y="636"/>
                </a:lnTo>
                <a:lnTo>
                  <a:pt x="474" y="624"/>
                </a:lnTo>
                <a:lnTo>
                  <a:pt x="474" y="612"/>
                </a:lnTo>
                <a:lnTo>
                  <a:pt x="480" y="606"/>
                </a:lnTo>
                <a:lnTo>
                  <a:pt x="480" y="594"/>
                </a:lnTo>
                <a:lnTo>
                  <a:pt x="480" y="588"/>
                </a:lnTo>
                <a:lnTo>
                  <a:pt x="480" y="576"/>
                </a:lnTo>
                <a:lnTo>
                  <a:pt x="486" y="564"/>
                </a:lnTo>
                <a:lnTo>
                  <a:pt x="486" y="558"/>
                </a:lnTo>
                <a:lnTo>
                  <a:pt x="486" y="546"/>
                </a:lnTo>
                <a:lnTo>
                  <a:pt x="492" y="534"/>
                </a:lnTo>
                <a:lnTo>
                  <a:pt x="492" y="528"/>
                </a:lnTo>
                <a:lnTo>
                  <a:pt x="492" y="516"/>
                </a:lnTo>
                <a:lnTo>
                  <a:pt x="492" y="504"/>
                </a:lnTo>
                <a:lnTo>
                  <a:pt x="498" y="498"/>
                </a:lnTo>
                <a:lnTo>
                  <a:pt x="498" y="486"/>
                </a:lnTo>
                <a:lnTo>
                  <a:pt x="498" y="474"/>
                </a:lnTo>
                <a:lnTo>
                  <a:pt x="504" y="468"/>
                </a:lnTo>
                <a:lnTo>
                  <a:pt x="504" y="456"/>
                </a:lnTo>
                <a:lnTo>
                  <a:pt x="504" y="444"/>
                </a:lnTo>
                <a:lnTo>
                  <a:pt x="504" y="438"/>
                </a:lnTo>
                <a:lnTo>
                  <a:pt x="510" y="426"/>
                </a:lnTo>
                <a:lnTo>
                  <a:pt x="510" y="414"/>
                </a:lnTo>
                <a:lnTo>
                  <a:pt x="510" y="408"/>
                </a:lnTo>
                <a:lnTo>
                  <a:pt x="516" y="396"/>
                </a:lnTo>
                <a:lnTo>
                  <a:pt x="516" y="384"/>
                </a:lnTo>
                <a:lnTo>
                  <a:pt x="516" y="378"/>
                </a:lnTo>
                <a:lnTo>
                  <a:pt x="516" y="366"/>
                </a:lnTo>
                <a:lnTo>
                  <a:pt x="522" y="354"/>
                </a:lnTo>
                <a:lnTo>
                  <a:pt x="522" y="342"/>
                </a:lnTo>
                <a:lnTo>
                  <a:pt x="522" y="336"/>
                </a:lnTo>
                <a:lnTo>
                  <a:pt x="528" y="324"/>
                </a:lnTo>
                <a:lnTo>
                  <a:pt x="528" y="312"/>
                </a:lnTo>
                <a:lnTo>
                  <a:pt x="528" y="306"/>
                </a:lnTo>
                <a:lnTo>
                  <a:pt x="528" y="294"/>
                </a:lnTo>
                <a:lnTo>
                  <a:pt x="534" y="282"/>
                </a:lnTo>
                <a:lnTo>
                  <a:pt x="534" y="270"/>
                </a:lnTo>
                <a:lnTo>
                  <a:pt x="534" y="264"/>
                </a:lnTo>
                <a:lnTo>
                  <a:pt x="534" y="252"/>
                </a:lnTo>
                <a:lnTo>
                  <a:pt x="540" y="240"/>
                </a:lnTo>
                <a:lnTo>
                  <a:pt x="540" y="228"/>
                </a:lnTo>
                <a:lnTo>
                  <a:pt x="540" y="222"/>
                </a:lnTo>
                <a:lnTo>
                  <a:pt x="546" y="210"/>
                </a:lnTo>
                <a:lnTo>
                  <a:pt x="546" y="198"/>
                </a:lnTo>
                <a:lnTo>
                  <a:pt x="546" y="186"/>
                </a:lnTo>
                <a:lnTo>
                  <a:pt x="546" y="174"/>
                </a:lnTo>
                <a:lnTo>
                  <a:pt x="552" y="168"/>
                </a:lnTo>
                <a:lnTo>
                  <a:pt x="552" y="156"/>
                </a:lnTo>
                <a:lnTo>
                  <a:pt x="552" y="144"/>
                </a:lnTo>
                <a:lnTo>
                  <a:pt x="558" y="132"/>
                </a:lnTo>
                <a:lnTo>
                  <a:pt x="558" y="120"/>
                </a:lnTo>
                <a:lnTo>
                  <a:pt x="558" y="114"/>
                </a:lnTo>
                <a:lnTo>
                  <a:pt x="558" y="102"/>
                </a:lnTo>
                <a:lnTo>
                  <a:pt x="564" y="90"/>
                </a:lnTo>
                <a:lnTo>
                  <a:pt x="564" y="78"/>
                </a:lnTo>
                <a:lnTo>
                  <a:pt x="564" y="66"/>
                </a:lnTo>
                <a:lnTo>
                  <a:pt x="570" y="54"/>
                </a:lnTo>
                <a:lnTo>
                  <a:pt x="570" y="48"/>
                </a:lnTo>
                <a:lnTo>
                  <a:pt x="570" y="36"/>
                </a:lnTo>
                <a:lnTo>
                  <a:pt x="570" y="24"/>
                </a:lnTo>
                <a:lnTo>
                  <a:pt x="576" y="12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4140360" y="5986440"/>
            <a:ext cx="4535280" cy="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6010200" y="2205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8388360" y="606600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flipV="1">
            <a:off x="6516720" y="2241360"/>
            <a:ext cx="0" cy="4221000"/>
          </a:xfrm>
          <a:prstGeom prst="line">
            <a:avLst/>
          </a:prstGeom>
          <a:ln w="38160">
            <a:solidFill>
              <a:srgbClr val="3333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6154560" y="6021360"/>
            <a:ext cx="433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flipV="1">
            <a:off x="4284720" y="2781360"/>
            <a:ext cx="3816360" cy="3744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684360" y="2492280"/>
            <a:ext cx="4751280" cy="2160720"/>
          </a:xfrm>
          <a:prstGeom prst="wedgeEllipseCallout">
            <a:avLst>
              <a:gd name="adj1" fmla="val 59120"/>
              <a:gd name="adj2" fmla="val 60138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行楷"/>
              </a:rPr>
              <a:t>求抛物线与直线的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交点坐标</a:t>
            </a: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行楷"/>
              </a:rPr>
              <a:t>的方法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Arial"/>
                <a:ea typeface="华文行楷"/>
              </a:rPr>
              <a:t>两解析式联列</a:t>
            </a:r>
            <a:r>
              <a:rPr b="1" lang="zh-CN" sz="2800" spc="-1" strike="noStrike">
                <a:solidFill>
                  <a:srgbClr val="ff3300"/>
                </a:solidFill>
                <a:latin typeface="Arial"/>
                <a:ea typeface="华文行楷"/>
              </a:rPr>
              <a:t>方程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4" name=""/>
          <p:cNvGrpSpPr/>
          <p:nvPr/>
        </p:nvGrpSpPr>
        <p:grpSpPr>
          <a:xfrm>
            <a:off x="539640" y="5445000"/>
            <a:ext cx="2303640" cy="1015920"/>
            <a:chOff x="539640" y="5445000"/>
            <a:chExt cx="2303640" cy="1015920"/>
          </a:xfrm>
        </p:grpSpPr>
        <p:sp>
          <p:nvSpPr>
            <p:cNvPr id="415" name=""/>
            <p:cNvSpPr/>
            <p:nvPr/>
          </p:nvSpPr>
          <p:spPr>
            <a:xfrm>
              <a:off x="539640" y="5445000"/>
              <a:ext cx="216000" cy="1008360"/>
            </a:xfrm>
            <a:custGeom>
              <a:avLst/>
              <a:gdLst>
                <a:gd name="textAreaLeft" fmla="*/ 137880 w 216000"/>
                <a:gd name="textAreaRight" fmla="*/ 216360 w 216000"/>
                <a:gd name="textAreaTop" fmla="*/ 26280 h 1008360"/>
                <a:gd name="textAreaBottom" fmla="*/ 982080 h 100836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755640" y="5445000"/>
              <a:ext cx="2087640" cy="1015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4x</a:t>
              </a:r>
              <a:r>
                <a:rPr b="1" lang="en-US" sz="2400" spc="-1" strike="noStrike" baseline="30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000000"/>
                  </a:solidFill>
                  <a:latin typeface="Times New Roman"/>
                </a:rPr>
                <a:t>y=3x+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3" dur="indefinite" restart="never" nodeType="tmRoot">
          <p:childTnLst>
            <p:seq>
              <p:cTn id="334" dur="indefinite" nodeType="mainSeq">
                <p:childTnLst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9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500"/>
                            </p:stCondLst>
                            <p:childTnLst>
                              <p:par>
                                <p:cTn id="34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4" fill="hold">
                      <p:stCondLst>
                        <p:cond delay="indefinite"/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8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53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520560" y="349200"/>
            <a:ext cx="7867800" cy="230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二次函数的定义：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 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函数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y=ax</a:t>
            </a:r>
            <a:r>
              <a:rPr b="1" lang="zh-CN" sz="3200" spc="-1" strike="noStrike" baseline="30000">
                <a:solidFill>
                  <a:srgbClr val="ff505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+bx+c(a,b,c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是常数，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a≠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 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叫做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x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的二次函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24000" y="2655720"/>
            <a:ext cx="842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思考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你认为判断二次函数的关键是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9640" y="3441600"/>
            <a:ext cx="799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判断一个函数是否是二次函数的关键是：看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二次项的系数是否为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66560" y="4767120"/>
            <a:ext cx="856944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练习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若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(m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3m-4)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+(m+2)x+3m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二次函数，则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m_____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"/>
          <p:cNvSpPr/>
          <p:nvPr/>
        </p:nvSpPr>
        <p:spPr>
          <a:xfrm>
            <a:off x="34920" y="44280"/>
            <a:ext cx="496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回顾练习及提高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8" name=""/>
          <p:cNvGrpSpPr/>
          <p:nvPr/>
        </p:nvGrpSpPr>
        <p:grpSpPr>
          <a:xfrm>
            <a:off x="1274760" y="681120"/>
            <a:ext cx="7351560" cy="1599840"/>
            <a:chOff x="1274760" y="681120"/>
            <a:chExt cx="7351560" cy="1599840"/>
          </a:xfrm>
        </p:grpSpPr>
        <p:sp>
          <p:nvSpPr>
            <p:cNvPr id="419" name=""/>
            <p:cNvSpPr/>
            <p:nvPr/>
          </p:nvSpPr>
          <p:spPr>
            <a:xfrm>
              <a:off x="1358640" y="723960"/>
              <a:ext cx="645948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二次函数　　　　的顶点坐标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对称轴是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图像在　轴的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顶点除外），开口方向向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，当　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　随着　的增大而减小，当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　随着　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的增大而增大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0" name=""/>
                <p:cNvSpPr txBox="1"/>
                <p:nvPr/>
              </p:nvSpPr>
              <p:spPr>
                <a:xfrm>
                  <a:off x="7980480" y="1181160"/>
                  <a:ext cx="341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1" name=""/>
                <p:cNvSpPr txBox="1"/>
                <p:nvPr/>
              </p:nvSpPr>
              <p:spPr>
                <a:xfrm>
                  <a:off x="2703600" y="681120"/>
                  <a:ext cx="1085760" cy="500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t xml:space="preserve">π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2" name=""/>
                <p:cNvSpPr txBox="1"/>
                <p:nvPr/>
              </p:nvSpPr>
              <p:spPr>
                <a:xfrm>
                  <a:off x="1274760" y="1181160"/>
                  <a:ext cx="341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3" name=""/>
                <p:cNvSpPr txBox="1"/>
                <p:nvPr/>
              </p:nvSpPr>
              <p:spPr>
                <a:xfrm>
                  <a:off x="2798640" y="1568520"/>
                  <a:ext cx="341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4" name=""/>
                <p:cNvSpPr txBox="1"/>
                <p:nvPr/>
              </p:nvSpPr>
              <p:spPr>
                <a:xfrm>
                  <a:off x="8285040" y="1568520"/>
                  <a:ext cx="341280" cy="3747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5" name=""/>
                <p:cNvSpPr txBox="1"/>
                <p:nvPr/>
              </p:nvSpPr>
              <p:spPr>
                <a:xfrm>
                  <a:off x="7277040" y="1528920"/>
                  <a:ext cx="3762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26" name=""/>
                <p:cNvSpPr txBox="1"/>
                <p:nvPr/>
              </p:nvSpPr>
              <p:spPr>
                <a:xfrm>
                  <a:off x="1808280" y="1486080"/>
                  <a:ext cx="376200" cy="4413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27" name=""/>
          <p:cNvGrpSpPr/>
          <p:nvPr/>
        </p:nvGrpSpPr>
        <p:grpSpPr>
          <a:xfrm>
            <a:off x="1387080" y="2565360"/>
            <a:ext cx="6105960" cy="866880"/>
            <a:chOff x="1387080" y="2565360"/>
            <a:chExt cx="6105960" cy="866880"/>
          </a:xfrm>
        </p:grpSpPr>
        <p:sp>
          <p:nvSpPr>
            <p:cNvPr id="428" name=""/>
            <p:cNvSpPr/>
            <p:nvPr/>
          </p:nvSpPr>
          <p:spPr>
            <a:xfrm>
              <a:off x="1387080" y="2606760"/>
              <a:ext cx="61059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抛物线　　　　，当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　随着　的增大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减小，当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　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时，函数　有最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值，此时　＝</a:t>
              </a:r>
              <a:r>
                <a:rPr b="1" lang="zh-CN" sz="2400" spc="-1" strike="noStrike" u="sng">
                  <a:solidFill>
                    <a:srgbClr val="000000"/>
                  </a:solidFill>
                  <a:uFillTx/>
                  <a:latin typeface="Times New Roman"/>
                </a:rPr>
                <a:t>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29" name=""/>
                <p:cNvSpPr txBox="1"/>
                <p:nvPr/>
              </p:nvSpPr>
              <p:spPr>
                <a:xfrm>
                  <a:off x="2133720" y="2565360"/>
                  <a:ext cx="1288800" cy="493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r>
                        <m:t xml:space="preserve">−</m:t>
                      </m:r>
                      <m:r>
                        <m:t xml:space="preserve">3</m:t>
                      </m:r>
                      <m:sSup>
                        <m:e>
                          <m:r>
                            <m:t xml:space="preserve">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0" name=""/>
                <p:cNvSpPr txBox="1"/>
                <p:nvPr/>
              </p:nvSpPr>
              <p:spPr>
                <a:xfrm>
                  <a:off x="3886200" y="2717640"/>
                  <a:ext cx="27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1" name=""/>
                <p:cNvSpPr txBox="1"/>
                <p:nvPr/>
              </p:nvSpPr>
              <p:spPr>
                <a:xfrm>
                  <a:off x="1600200" y="3098880"/>
                  <a:ext cx="27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2" name=""/>
                <p:cNvSpPr txBox="1"/>
                <p:nvPr/>
              </p:nvSpPr>
              <p:spPr>
                <a:xfrm>
                  <a:off x="6934320" y="2724120"/>
                  <a:ext cx="271440" cy="2984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x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3" name=""/>
                <p:cNvSpPr txBox="1"/>
                <p:nvPr/>
              </p:nvSpPr>
              <p:spPr>
                <a:xfrm>
                  <a:off x="6019920" y="2717640"/>
                  <a:ext cx="263520" cy="3114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4" name=""/>
                <p:cNvSpPr txBox="1"/>
                <p:nvPr/>
              </p:nvSpPr>
              <p:spPr>
                <a:xfrm>
                  <a:off x="6781680" y="3022560"/>
                  <a:ext cx="263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5" name=""/>
                <p:cNvSpPr txBox="1"/>
                <p:nvPr/>
              </p:nvSpPr>
              <p:spPr>
                <a:xfrm>
                  <a:off x="4419720" y="3092400"/>
                  <a:ext cx="263520" cy="3110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36" name=""/>
          <p:cNvGrpSpPr/>
          <p:nvPr/>
        </p:nvGrpSpPr>
        <p:grpSpPr>
          <a:xfrm>
            <a:off x="948600" y="3789360"/>
            <a:ext cx="6900120" cy="1232640"/>
            <a:chOff x="948600" y="3789360"/>
            <a:chExt cx="6900120" cy="1232640"/>
          </a:xfrm>
        </p:grpSpPr>
        <p:sp>
          <p:nvSpPr>
            <p:cNvPr id="437" name=""/>
            <p:cNvSpPr/>
            <p:nvPr/>
          </p:nvSpPr>
          <p:spPr>
            <a:xfrm>
              <a:off x="948600" y="3830760"/>
              <a:ext cx="686412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3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、根据二次函数　　　　的图像的性质，回答下列问题：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1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如果点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P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在抛物线　　　上，那么点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Q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　　　也在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这条抛物线上吗？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38" name=""/>
                <p:cNvSpPr txBox="1"/>
                <p:nvPr/>
              </p:nvSpPr>
              <p:spPr>
                <a:xfrm>
                  <a:off x="3124080" y="3789360"/>
                  <a:ext cx="11685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39" name=""/>
                <p:cNvSpPr txBox="1"/>
                <p:nvPr/>
              </p:nvSpPr>
              <p:spPr>
                <a:xfrm>
                  <a:off x="4089240" y="4178160"/>
                  <a:ext cx="1168560" cy="52560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y</m:t>
                      </m:r>
                      <m:r>
                        <m:t xml:space="preserve">=</m:t>
                      </m:r>
                      <m:sSup>
                        <m:e>
                          <m:r>
                            <m:rPr>
                              <m:lit/>
                              <m:nor/>
                            </m:rPr>
                            <m:t xml:space="preserve">ax</m:t>
                          </m:r>
                        </m:e>
                        <m:sup>
                          <m:r>
                            <m:t xml:space="preserve">2</m:t>
                          </m:r>
                        </m:sup>
                      </m:sSup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0" name=""/>
                <p:cNvSpPr txBox="1"/>
                <p:nvPr/>
              </p:nvSpPr>
              <p:spPr>
                <a:xfrm>
                  <a:off x="1981080" y="4210200"/>
                  <a:ext cx="806400" cy="4172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1" name=""/>
                <p:cNvSpPr txBox="1"/>
                <p:nvPr/>
              </p:nvSpPr>
              <p:spPr>
                <a:xfrm>
                  <a:off x="6781680" y="4254480"/>
                  <a:ext cx="1067040" cy="44928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(</m:t>
                      </m:r>
                      <m:r>
                        <m:t xml:space="preserve">−</m:t>
                      </m:r>
                      <m:r>
                        <m:t xml:space="preserve">m</m:t>
                      </m:r>
                      <m:r>
                        <m:t xml:space="preserve">,</m:t>
                      </m:r>
                      <m:r>
                        <m:t xml:space="preserve">n</m:t>
                      </m:r>
                      <m:r>
                        <m:t xml:space="preserve">)</m:t>
                      </m:r>
                    </m:oMath>
                  </a14:m>
                </a:p>
              </p:txBody>
            </p:sp>
          </mc:Choice>
          <mc:Fallback/>
        </mc:AlternateContent>
      </p:grpSp>
      <p:grpSp>
        <p:nvGrpSpPr>
          <p:cNvPr id="442" name=""/>
          <p:cNvGrpSpPr/>
          <p:nvPr/>
        </p:nvGrpSpPr>
        <p:grpSpPr>
          <a:xfrm>
            <a:off x="609480" y="5229360"/>
            <a:ext cx="7373880" cy="841320"/>
            <a:chOff x="609480" y="5229360"/>
            <a:chExt cx="7373880" cy="841320"/>
          </a:xfrm>
        </p:grpSpPr>
        <p:sp>
          <p:nvSpPr>
            <p:cNvPr id="443" name=""/>
            <p:cNvSpPr/>
            <p:nvPr/>
          </p:nvSpPr>
          <p:spPr>
            <a:xfrm>
              <a:off x="1259640" y="5229360"/>
              <a:ext cx="60876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（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）当　　　时，设自变量　，　的对应值分别为　，　，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000000"/>
                  </a:solidFill>
                  <a:latin typeface="Times New Roman"/>
                </a:rPr>
                <a:t>当　　　　　时，必有　　　吗？为什么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mc:AlternateContent>
          <mc:Choice xmlns:a14="http://schemas.microsoft.com/office/drawing/2010/main" Requires="a14">
            <p:sp>
              <p:nvSpPr>
                <p:cNvPr id="444" name=""/>
                <p:cNvSpPr txBox="1"/>
                <p:nvPr/>
              </p:nvSpPr>
              <p:spPr>
                <a:xfrm>
                  <a:off x="1371600" y="5264280"/>
                  <a:ext cx="787320" cy="39384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r>
                        <m:t xml:space="preserve">a</m:t>
                      </m:r>
                      <m:r>
                        <m:t xml:space="preserve">&l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5" name=""/>
                <p:cNvSpPr txBox="1"/>
                <p:nvPr/>
              </p:nvSpPr>
              <p:spPr>
                <a:xfrm>
                  <a:off x="4114800" y="5232600"/>
                  <a:ext cx="29196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6" name=""/>
                <p:cNvSpPr txBox="1"/>
                <p:nvPr/>
              </p:nvSpPr>
              <p:spPr>
                <a:xfrm>
                  <a:off x="4537080" y="5232600"/>
                  <a:ext cx="339840" cy="41256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7" name=""/>
                <p:cNvSpPr txBox="1"/>
                <p:nvPr/>
              </p:nvSpPr>
              <p:spPr>
                <a:xfrm>
                  <a:off x="7086600" y="5264280"/>
                  <a:ext cx="31608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8" name=""/>
                <p:cNvSpPr txBox="1"/>
                <p:nvPr/>
              </p:nvSpPr>
              <p:spPr>
                <a:xfrm>
                  <a:off x="7620120" y="5264280"/>
                  <a:ext cx="363240" cy="4129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49" name=""/>
                <p:cNvSpPr txBox="1"/>
                <p:nvPr/>
              </p:nvSpPr>
              <p:spPr>
                <a:xfrm>
                  <a:off x="609480" y="5645160"/>
                  <a:ext cx="1428840" cy="4255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gt;</m:t>
                      </m:r>
                      <m:sSub>
                        <m:e>
                          <m:r>
                            <m:t xml:space="preserve">x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  <m:r>
                        <m:t xml:space="preserve">&gt;</m:t>
                      </m:r>
                      <m:r>
                        <m:t xml:space="preserve">0</m:t>
                      </m:r>
                    </m:oMath>
                  </a14:m>
                </a:p>
              </p:txBody>
            </p:sp>
          </mc:Choice>
          <mc:Fallback/>
        </mc:AlternateContent>
        <mc:AlternateContent>
          <mc:Choice xmlns:a14="http://schemas.microsoft.com/office/drawing/2010/main" Requires="a14">
            <p:sp>
              <p:nvSpPr>
                <p:cNvPr id="450" name=""/>
                <p:cNvSpPr txBox="1"/>
                <p:nvPr/>
              </p:nvSpPr>
              <p:spPr>
                <a:xfrm>
                  <a:off x="3429000" y="5645160"/>
                  <a:ext cx="774720" cy="346320"/>
                </a:xfrm>
                <a:prstGeom prst="rect">
                  <a:avLst/>
                </a:prstGeom>
              </p:spPr>
              <p:txBody>
                <a:bodyPr/>
                <a:p>
                  <a14:m>
                    <m:oMath xmlns:m="http://schemas.openxmlformats.org/officeDocument/2006/math"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1</m:t>
                          </m:r>
                        </m:sub>
                      </m:sSub>
                      <m:r>
                        <m:t xml:space="preserve">&lt;</m:t>
                      </m:r>
                      <m:sSub>
                        <m:e>
                          <m:r>
                            <m:t xml:space="preserve">y</m:t>
                          </m:r>
                        </m:e>
                        <m:sub>
                          <m:r>
                            <m:t xml:space="preserve">2</m:t>
                          </m:r>
                        </m:sub>
                      </m:sSub>
                    </m:oMath>
                  </a14:m>
                </a:p>
              </p:txBody>
            </p:sp>
          </mc:Choice>
          <mc:Fallback/>
        </mc:AlternateContent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4" dur="indefinite" restart="never" nodeType="tmRoot">
          <p:childTnLst>
            <p:seq>
              <p:cTn id="355" dur="indefinite" nodeType="mainSeq">
                <p:childTnLst>
                  <p:par>
                    <p:cTn id="356" fill="hold">
                      <p:stCondLst>
                        <p:cond delay="indefinite"/>
                      </p:stCondLst>
                      <p:childTnLst>
                        <p:par>
                          <p:cTn id="357" fill="hold">
                            <p:stCondLst>
                              <p:cond delay="0"/>
                            </p:stCondLst>
                            <p:childTnLst>
                              <p:par>
                                <p:cTn id="35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4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2" fill="hold">
                      <p:stCondLst>
                        <p:cond delay="indefinite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4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5" dur="500" fill="hold"/>
                                        <p:tgtEl>
                                          <p:spTgt spid="4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"/>
          <p:cNvSpPr/>
          <p:nvPr/>
        </p:nvSpPr>
        <p:spPr>
          <a:xfrm>
            <a:off x="0" y="0"/>
            <a:ext cx="7924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  <a:ea typeface="隶书"/>
              </a:rPr>
              <a:t>小结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324000" y="1989000"/>
            <a:ext cx="74898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   顶点都在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原点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对称轴是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轴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324000" y="2781360"/>
            <a:ext cx="810072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２）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&g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开口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当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a&lt;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时，开口向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1547640" y="3645000"/>
            <a:ext cx="727236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（３）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当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a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＞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0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时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对称轴的左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:y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增大而减小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对称轴的右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:y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增大而增大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　　　当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a&lt;0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</a:rPr>
              <a:t>时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对称轴的左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:y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 增大而增大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在对称轴的右侧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:y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随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x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</a:rPr>
              <a:t>的增大而减小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34920" y="1563840"/>
            <a:ext cx="8424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２．二次函数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y=ax</a:t>
            </a:r>
            <a:r>
              <a:rPr b="1" lang="zh-CN" sz="3600" spc="-1" strike="noStrike" baseline="30000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图象性质与特点：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08000" y="406440"/>
            <a:ext cx="8172360" cy="202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１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．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y=ax</a:t>
            </a:r>
            <a:r>
              <a:rPr b="1" lang="zh-CN" sz="3600" spc="-1" strike="noStrike" baseline="30000">
                <a:solidFill>
                  <a:srgbClr val="ff5050"/>
                </a:solidFill>
                <a:latin typeface="Times New Roman"/>
              </a:rPr>
              <a:t>2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+bx+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(a,b,c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是常数，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a≠0)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叫做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x</a:t>
            </a: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的</a:t>
            </a:r>
            <a:r>
              <a:rPr b="1" lang="zh-CN" sz="3600" spc="-1" strike="noStrike">
                <a:solidFill>
                  <a:srgbClr val="ff5050"/>
                </a:solidFill>
                <a:latin typeface="Times New Roman"/>
              </a:rPr>
              <a:t>二次函数．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6" dur="indefinite" restart="never" nodeType="tmRoot">
          <p:childTnLst>
            <p:seq>
              <p:cTn id="387" dur="indefinite" nodeType="mainSeq">
                <p:childTnLst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2" dur="500"/>
                                        <p:tgtEl>
                                          <p:spTgt spid="4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5" dur="500"/>
                                        <p:tgtEl>
                                          <p:spTgt spid="4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8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304920" y="920880"/>
            <a:ext cx="84358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ff3300"/>
                </a:solidFill>
                <a:latin typeface="Times New Roman"/>
                <a:ea typeface="华文行楷"/>
              </a:rPr>
              <a:t>探究１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二次函数的图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82600" y="1979640"/>
            <a:ext cx="8610480" cy="64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1</a:t>
            </a:r>
            <a:r>
              <a:rPr b="1" lang="zh-CN" sz="3200" spc="-1" strike="noStrike">
                <a:solidFill>
                  <a:srgbClr val="ff5050"/>
                </a:solidFill>
                <a:latin typeface="Times New Roman"/>
                <a:ea typeface="隶书"/>
              </a:rPr>
              <a:t>：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2"/>
              </a:rPr>
              <a:t>画出 </a:t>
            </a:r>
            <a:r>
              <a:rPr b="0" lang="zh-CN" sz="3200" spc="-1" strike="noStrike" u="sng">
                <a:solidFill>
                  <a:srgbClr val="009999"/>
                </a:solidFill>
                <a:uFillTx/>
                <a:latin typeface="Times New Roman"/>
                <a:ea typeface="隶书"/>
                <a:hlinkClick r:id="rId3"/>
              </a:rPr>
              <a:t>y=   x</a:t>
            </a:r>
            <a:r>
              <a:rPr b="0" lang="zh-CN" sz="3200" spc="-1" strike="noStrike" u="sng" baseline="30000">
                <a:solidFill>
                  <a:srgbClr val="009999"/>
                </a:solidFill>
                <a:uFillTx/>
                <a:latin typeface="Times New Roman"/>
                <a:ea typeface="隶书"/>
                <a:hlinkClick r:id="rId4"/>
              </a:rPr>
              <a:t>2</a:t>
            </a:r>
            <a:r>
              <a:rPr b="0" lang="zh-CN" sz="3200" spc="-1" strike="noStrike" u="sng" baseline="30000">
                <a:solidFill>
                  <a:srgbClr val="009999"/>
                </a:solidFill>
                <a:uFillTx/>
                <a:latin typeface="Times New Roman"/>
                <a:ea typeface="隶书"/>
                <a:hlinkClick r:id="rId5"/>
              </a:rPr>
              <a:t>   </a:t>
            </a:r>
            <a:r>
              <a:rPr b="0" lang="zh-CN" sz="3200" spc="-1" strike="noStrike" u="sng" baseline="30000">
                <a:solidFill>
                  <a:srgbClr val="009999"/>
                </a:solidFill>
                <a:uFillTx/>
                <a:latin typeface="Times New Roman"/>
                <a:ea typeface="隶书"/>
                <a:hlinkClick r:id="rId6"/>
              </a:rPr>
              <a:t>的图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34880" y="2597040"/>
            <a:ext cx="39038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解： （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）列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826920" y="3689280"/>
          <a:ext cx="7620120" cy="1035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"/>
          <p:cNvSpPr/>
          <p:nvPr/>
        </p:nvSpPr>
        <p:spPr>
          <a:xfrm>
            <a:off x="5705640" y="1168560"/>
            <a:ext cx="2808000" cy="1873080"/>
          </a:xfrm>
          <a:prstGeom prst="wedgeEllipseCallout">
            <a:avLst>
              <a:gd name="adj1" fmla="val -63736"/>
              <a:gd name="adj2" fmla="val 722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51240" y="1363680"/>
            <a:ext cx="1880280" cy="161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以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0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为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心选取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7</a:t>
            </a: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个</a:t>
            </a:r>
            <a:r>
              <a:rPr b="1" i="1" lang="zh-CN" sz="36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x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99"/>
                </a:solidFill>
                <a:latin typeface="Times New Roman"/>
                <a:ea typeface="华文行楷"/>
              </a:rPr>
              <a:t>值列表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" dur="5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4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9" dur="500"/>
                                        <p:tgtEl>
                                          <p:spTgt spid="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"/>
                            </p:stCondLst>
                            <p:childTnLst>
                              <p:par>
                                <p:cTn id="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595440" y="2133720"/>
            <a:ext cx="2286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2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）描点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595440" y="3573360"/>
            <a:ext cx="2590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（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3</a:t>
            </a:r>
            <a:r>
              <a:rPr b="1" lang="zh-CN" sz="3600" spc="-1" strike="noStrike">
                <a:solidFill>
                  <a:srgbClr val="993366"/>
                </a:solidFill>
                <a:latin typeface="Times New Roman"/>
                <a:ea typeface="隶书"/>
              </a:rPr>
              <a:t>）连线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5" name=""/>
          <p:cNvGraphicFramePr/>
          <p:nvPr/>
        </p:nvGraphicFramePr>
        <p:xfrm>
          <a:off x="601560" y="333360"/>
          <a:ext cx="7931160" cy="1039680"/>
        </p:xfrm>
        <a:graphic>
          <a:graphicData uri="http://schemas.openxmlformats.org/drawingml/2006/table">
            <a:tbl>
              <a:tblPr/>
              <a:tblGrid>
                <a:gridCol w="822240"/>
                <a:gridCol w="824040"/>
                <a:gridCol w="822240"/>
                <a:gridCol w="824040"/>
                <a:gridCol w="822240"/>
                <a:gridCol w="822240"/>
                <a:gridCol w="824040"/>
                <a:gridCol w="822240"/>
                <a:gridCol w="824040"/>
                <a:gridCol w="52380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2960640" y="1562040"/>
            <a:ext cx="5067360" cy="48196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4245120" y="2109960"/>
            <a:ext cx="2342880" cy="369540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3"/>
          <a:stretch/>
        </p:blipFill>
        <p:spPr>
          <a:xfrm>
            <a:off x="4089240" y="1779480"/>
            <a:ext cx="2714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3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4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9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4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9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553640" y="1007280"/>
            <a:ext cx="3240" cy="4273560"/>
          </a:xfrm>
          <a:prstGeom prst="line">
            <a:avLst/>
          </a:prstGeom>
          <a:ln w="38160">
            <a:solidFill>
              <a:srgbClr val="00008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7758000" y="4727520"/>
            <a:ext cx="99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57600" y="4727520"/>
            <a:ext cx="28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99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14760" y="115092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124160" y="976320"/>
            <a:ext cx="5097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4514760" y="1512720"/>
            <a:ext cx="8568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14760" y="187488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270320" y="1623960"/>
            <a:ext cx="2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14760" y="222732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4514760" y="2589120"/>
            <a:ext cx="8568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270320" y="2386080"/>
            <a:ext cx="26208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4514760" y="295128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514760" y="3313080"/>
            <a:ext cx="8568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4270320" y="3147840"/>
            <a:ext cx="3049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514760" y="367524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14760" y="4027320"/>
            <a:ext cx="8568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295880" y="3859200"/>
            <a:ext cx="26172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99"/>
                </a:solidFill>
                <a:latin typeface="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514760" y="438948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4514760" y="4751280"/>
            <a:ext cx="85680" cy="180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514760" y="5113440"/>
            <a:ext cx="85680" cy="14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1200240" y="4751280"/>
            <a:ext cx="6715080" cy="1800"/>
          </a:xfrm>
          <a:prstGeom prst="line">
            <a:avLst/>
          </a:prstGeom>
          <a:ln w="38160">
            <a:solidFill>
              <a:srgbClr val="00008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314360" y="4713120"/>
            <a:ext cx="180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67652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02896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39076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52560" y="4713120"/>
            <a:ext cx="180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2541240" y="4818240"/>
            <a:ext cx="272160" cy="36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"/>
              </a:rPr>
              <a:t>-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11472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476520" y="4713120"/>
            <a:ext cx="180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828960" y="4713120"/>
            <a:ext cx="180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9112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455292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91508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527688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562932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5991120" y="4713120"/>
            <a:ext cx="180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635328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715080" y="4713120"/>
            <a:ext cx="180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07724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42968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791480" y="4713120"/>
            <a:ext cx="1440" cy="86040"/>
          </a:xfrm>
          <a:prstGeom prst="line">
            <a:avLst/>
          </a:prstGeom>
          <a:ln w="9360">
            <a:solidFill>
              <a:srgbClr val="000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9240" bIns="392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3371760" y="865080"/>
            <a:ext cx="1447920" cy="3886200"/>
          </a:xfrm>
          <a:custGeom>
            <a:avLst/>
            <a:gdLst/>
            <a:ahLst/>
            <a:rect l="l" t="t" r="r" b="b"/>
            <a:pathLst>
              <a:path w="912" h="2448">
                <a:moveTo>
                  <a:pt x="0" y="0"/>
                </a:moveTo>
                <a:lnTo>
                  <a:pt x="0" y="12"/>
                </a:lnTo>
                <a:lnTo>
                  <a:pt x="0" y="24"/>
                </a:lnTo>
                <a:lnTo>
                  <a:pt x="6" y="36"/>
                </a:lnTo>
                <a:lnTo>
                  <a:pt x="6" y="48"/>
                </a:lnTo>
                <a:lnTo>
                  <a:pt x="6" y="60"/>
                </a:lnTo>
                <a:lnTo>
                  <a:pt x="12" y="66"/>
                </a:lnTo>
                <a:lnTo>
                  <a:pt x="12" y="78"/>
                </a:lnTo>
                <a:lnTo>
                  <a:pt x="12" y="90"/>
                </a:lnTo>
                <a:lnTo>
                  <a:pt x="12" y="102"/>
                </a:lnTo>
                <a:lnTo>
                  <a:pt x="18" y="114"/>
                </a:lnTo>
                <a:lnTo>
                  <a:pt x="18" y="126"/>
                </a:lnTo>
                <a:lnTo>
                  <a:pt x="18" y="132"/>
                </a:lnTo>
                <a:lnTo>
                  <a:pt x="24" y="144"/>
                </a:lnTo>
                <a:lnTo>
                  <a:pt x="24" y="156"/>
                </a:lnTo>
                <a:lnTo>
                  <a:pt x="24" y="168"/>
                </a:lnTo>
                <a:lnTo>
                  <a:pt x="24" y="180"/>
                </a:lnTo>
                <a:lnTo>
                  <a:pt x="30" y="186"/>
                </a:lnTo>
                <a:lnTo>
                  <a:pt x="30" y="198"/>
                </a:lnTo>
                <a:lnTo>
                  <a:pt x="30" y="210"/>
                </a:lnTo>
                <a:lnTo>
                  <a:pt x="36" y="222"/>
                </a:lnTo>
                <a:lnTo>
                  <a:pt x="36" y="228"/>
                </a:lnTo>
                <a:lnTo>
                  <a:pt x="36" y="240"/>
                </a:lnTo>
                <a:lnTo>
                  <a:pt x="36" y="252"/>
                </a:lnTo>
                <a:lnTo>
                  <a:pt x="42" y="264"/>
                </a:lnTo>
                <a:lnTo>
                  <a:pt x="42" y="270"/>
                </a:lnTo>
                <a:lnTo>
                  <a:pt x="42" y="282"/>
                </a:lnTo>
                <a:lnTo>
                  <a:pt x="48" y="294"/>
                </a:lnTo>
                <a:lnTo>
                  <a:pt x="48" y="306"/>
                </a:lnTo>
                <a:lnTo>
                  <a:pt x="48" y="312"/>
                </a:lnTo>
                <a:lnTo>
                  <a:pt x="48" y="324"/>
                </a:lnTo>
                <a:lnTo>
                  <a:pt x="54" y="336"/>
                </a:lnTo>
                <a:lnTo>
                  <a:pt x="54" y="348"/>
                </a:lnTo>
                <a:lnTo>
                  <a:pt x="54" y="354"/>
                </a:lnTo>
                <a:lnTo>
                  <a:pt x="54" y="366"/>
                </a:lnTo>
                <a:lnTo>
                  <a:pt x="60" y="378"/>
                </a:lnTo>
                <a:lnTo>
                  <a:pt x="60" y="390"/>
                </a:lnTo>
                <a:lnTo>
                  <a:pt x="60" y="396"/>
                </a:lnTo>
                <a:lnTo>
                  <a:pt x="66" y="408"/>
                </a:lnTo>
                <a:lnTo>
                  <a:pt x="66" y="420"/>
                </a:lnTo>
                <a:lnTo>
                  <a:pt x="66" y="426"/>
                </a:lnTo>
                <a:lnTo>
                  <a:pt x="66" y="438"/>
                </a:lnTo>
                <a:lnTo>
                  <a:pt x="72" y="450"/>
                </a:lnTo>
                <a:lnTo>
                  <a:pt x="72" y="456"/>
                </a:lnTo>
                <a:lnTo>
                  <a:pt x="72" y="468"/>
                </a:lnTo>
                <a:lnTo>
                  <a:pt x="78" y="480"/>
                </a:lnTo>
                <a:lnTo>
                  <a:pt x="78" y="486"/>
                </a:lnTo>
                <a:lnTo>
                  <a:pt x="78" y="498"/>
                </a:lnTo>
                <a:lnTo>
                  <a:pt x="78" y="510"/>
                </a:lnTo>
                <a:lnTo>
                  <a:pt x="84" y="516"/>
                </a:lnTo>
                <a:lnTo>
                  <a:pt x="84" y="528"/>
                </a:lnTo>
                <a:lnTo>
                  <a:pt x="84" y="540"/>
                </a:lnTo>
                <a:lnTo>
                  <a:pt x="90" y="546"/>
                </a:lnTo>
                <a:lnTo>
                  <a:pt x="90" y="558"/>
                </a:lnTo>
                <a:lnTo>
                  <a:pt x="90" y="570"/>
                </a:lnTo>
                <a:lnTo>
                  <a:pt x="90" y="576"/>
                </a:lnTo>
                <a:lnTo>
                  <a:pt x="96" y="588"/>
                </a:lnTo>
                <a:lnTo>
                  <a:pt x="96" y="594"/>
                </a:lnTo>
                <a:lnTo>
                  <a:pt x="96" y="606"/>
                </a:lnTo>
                <a:lnTo>
                  <a:pt x="102" y="618"/>
                </a:lnTo>
                <a:lnTo>
                  <a:pt x="102" y="624"/>
                </a:lnTo>
                <a:lnTo>
                  <a:pt x="102" y="636"/>
                </a:lnTo>
                <a:lnTo>
                  <a:pt x="102" y="642"/>
                </a:lnTo>
                <a:lnTo>
                  <a:pt x="108" y="654"/>
                </a:lnTo>
                <a:lnTo>
                  <a:pt x="108" y="666"/>
                </a:lnTo>
                <a:lnTo>
                  <a:pt x="108" y="672"/>
                </a:lnTo>
                <a:lnTo>
                  <a:pt x="114" y="684"/>
                </a:lnTo>
                <a:lnTo>
                  <a:pt x="114" y="690"/>
                </a:lnTo>
                <a:lnTo>
                  <a:pt x="114" y="702"/>
                </a:lnTo>
                <a:lnTo>
                  <a:pt x="114" y="714"/>
                </a:lnTo>
                <a:lnTo>
                  <a:pt x="120" y="720"/>
                </a:lnTo>
                <a:lnTo>
                  <a:pt x="120" y="732"/>
                </a:lnTo>
                <a:lnTo>
                  <a:pt x="120" y="738"/>
                </a:lnTo>
                <a:lnTo>
                  <a:pt x="126" y="750"/>
                </a:lnTo>
                <a:lnTo>
                  <a:pt x="126" y="756"/>
                </a:lnTo>
                <a:lnTo>
                  <a:pt x="126" y="768"/>
                </a:lnTo>
                <a:lnTo>
                  <a:pt x="126" y="774"/>
                </a:lnTo>
                <a:lnTo>
                  <a:pt x="132" y="786"/>
                </a:lnTo>
                <a:lnTo>
                  <a:pt x="132" y="792"/>
                </a:lnTo>
                <a:lnTo>
                  <a:pt x="132" y="804"/>
                </a:lnTo>
                <a:lnTo>
                  <a:pt x="138" y="810"/>
                </a:lnTo>
                <a:lnTo>
                  <a:pt x="138" y="822"/>
                </a:lnTo>
                <a:lnTo>
                  <a:pt x="138" y="834"/>
                </a:lnTo>
                <a:lnTo>
                  <a:pt x="138" y="840"/>
                </a:lnTo>
                <a:lnTo>
                  <a:pt x="144" y="852"/>
                </a:lnTo>
                <a:lnTo>
                  <a:pt x="144" y="858"/>
                </a:lnTo>
                <a:lnTo>
                  <a:pt x="144" y="870"/>
                </a:lnTo>
                <a:lnTo>
                  <a:pt x="144" y="876"/>
                </a:lnTo>
                <a:lnTo>
                  <a:pt x="150" y="882"/>
                </a:lnTo>
                <a:lnTo>
                  <a:pt x="150" y="894"/>
                </a:lnTo>
                <a:lnTo>
                  <a:pt x="150" y="900"/>
                </a:lnTo>
                <a:lnTo>
                  <a:pt x="156" y="912"/>
                </a:lnTo>
                <a:lnTo>
                  <a:pt x="156" y="918"/>
                </a:lnTo>
                <a:lnTo>
                  <a:pt x="156" y="930"/>
                </a:lnTo>
                <a:lnTo>
                  <a:pt x="156" y="936"/>
                </a:lnTo>
                <a:lnTo>
                  <a:pt x="162" y="948"/>
                </a:lnTo>
                <a:lnTo>
                  <a:pt x="162" y="954"/>
                </a:lnTo>
                <a:lnTo>
                  <a:pt x="162" y="966"/>
                </a:lnTo>
                <a:lnTo>
                  <a:pt x="168" y="972"/>
                </a:lnTo>
                <a:lnTo>
                  <a:pt x="168" y="984"/>
                </a:lnTo>
                <a:lnTo>
                  <a:pt x="168" y="990"/>
                </a:lnTo>
                <a:lnTo>
                  <a:pt x="168" y="996"/>
                </a:lnTo>
                <a:lnTo>
                  <a:pt x="174" y="1008"/>
                </a:lnTo>
                <a:lnTo>
                  <a:pt x="174" y="1014"/>
                </a:lnTo>
                <a:lnTo>
                  <a:pt x="174" y="1026"/>
                </a:lnTo>
                <a:lnTo>
                  <a:pt x="180" y="1032"/>
                </a:lnTo>
                <a:lnTo>
                  <a:pt x="180" y="1044"/>
                </a:lnTo>
                <a:lnTo>
                  <a:pt x="180" y="1050"/>
                </a:lnTo>
                <a:lnTo>
                  <a:pt x="180" y="1056"/>
                </a:lnTo>
                <a:lnTo>
                  <a:pt x="186" y="1068"/>
                </a:lnTo>
                <a:lnTo>
                  <a:pt x="186" y="1074"/>
                </a:lnTo>
                <a:lnTo>
                  <a:pt x="186" y="1086"/>
                </a:lnTo>
                <a:lnTo>
                  <a:pt x="192" y="1092"/>
                </a:lnTo>
                <a:lnTo>
                  <a:pt x="192" y="1098"/>
                </a:lnTo>
                <a:lnTo>
                  <a:pt x="192" y="1110"/>
                </a:lnTo>
                <a:lnTo>
                  <a:pt x="192" y="1116"/>
                </a:lnTo>
                <a:lnTo>
                  <a:pt x="198" y="1122"/>
                </a:lnTo>
                <a:lnTo>
                  <a:pt x="198" y="1134"/>
                </a:lnTo>
                <a:lnTo>
                  <a:pt x="198" y="1140"/>
                </a:lnTo>
                <a:lnTo>
                  <a:pt x="204" y="1152"/>
                </a:lnTo>
                <a:lnTo>
                  <a:pt x="204" y="1158"/>
                </a:lnTo>
                <a:lnTo>
                  <a:pt x="204" y="1164"/>
                </a:lnTo>
                <a:lnTo>
                  <a:pt x="204" y="1176"/>
                </a:lnTo>
                <a:lnTo>
                  <a:pt x="210" y="1182"/>
                </a:lnTo>
                <a:lnTo>
                  <a:pt x="210" y="1188"/>
                </a:lnTo>
                <a:lnTo>
                  <a:pt x="210" y="1200"/>
                </a:lnTo>
                <a:lnTo>
                  <a:pt x="216" y="1206"/>
                </a:lnTo>
                <a:lnTo>
                  <a:pt x="216" y="1212"/>
                </a:lnTo>
                <a:lnTo>
                  <a:pt x="216" y="1224"/>
                </a:lnTo>
                <a:lnTo>
                  <a:pt x="216" y="1230"/>
                </a:lnTo>
                <a:lnTo>
                  <a:pt x="222" y="1236"/>
                </a:lnTo>
                <a:lnTo>
                  <a:pt x="222" y="1242"/>
                </a:lnTo>
                <a:lnTo>
                  <a:pt x="222" y="1254"/>
                </a:lnTo>
                <a:lnTo>
                  <a:pt x="228" y="1260"/>
                </a:lnTo>
                <a:lnTo>
                  <a:pt x="228" y="1266"/>
                </a:lnTo>
                <a:lnTo>
                  <a:pt x="228" y="1278"/>
                </a:lnTo>
                <a:lnTo>
                  <a:pt x="228" y="1284"/>
                </a:lnTo>
                <a:lnTo>
                  <a:pt x="234" y="1290"/>
                </a:lnTo>
                <a:lnTo>
                  <a:pt x="234" y="1296"/>
                </a:lnTo>
                <a:lnTo>
                  <a:pt x="234" y="1308"/>
                </a:lnTo>
                <a:lnTo>
                  <a:pt x="234" y="1314"/>
                </a:lnTo>
                <a:lnTo>
                  <a:pt x="240" y="1320"/>
                </a:lnTo>
                <a:lnTo>
                  <a:pt x="240" y="1332"/>
                </a:lnTo>
                <a:lnTo>
                  <a:pt x="240" y="1338"/>
                </a:lnTo>
                <a:lnTo>
                  <a:pt x="246" y="1344"/>
                </a:lnTo>
                <a:lnTo>
                  <a:pt x="246" y="1350"/>
                </a:lnTo>
                <a:lnTo>
                  <a:pt x="246" y="1362"/>
                </a:lnTo>
                <a:lnTo>
                  <a:pt x="246" y="1368"/>
                </a:lnTo>
                <a:lnTo>
                  <a:pt x="252" y="1374"/>
                </a:lnTo>
                <a:lnTo>
                  <a:pt x="252" y="1380"/>
                </a:lnTo>
                <a:lnTo>
                  <a:pt x="252" y="1386"/>
                </a:lnTo>
                <a:lnTo>
                  <a:pt x="258" y="1398"/>
                </a:lnTo>
                <a:lnTo>
                  <a:pt x="258" y="1404"/>
                </a:lnTo>
                <a:lnTo>
                  <a:pt x="258" y="1410"/>
                </a:lnTo>
                <a:lnTo>
                  <a:pt x="258" y="1416"/>
                </a:lnTo>
                <a:lnTo>
                  <a:pt x="264" y="1428"/>
                </a:lnTo>
                <a:lnTo>
                  <a:pt x="264" y="1434"/>
                </a:lnTo>
                <a:lnTo>
                  <a:pt x="264" y="1440"/>
                </a:lnTo>
                <a:lnTo>
                  <a:pt x="270" y="1446"/>
                </a:lnTo>
                <a:lnTo>
                  <a:pt x="270" y="1452"/>
                </a:lnTo>
                <a:lnTo>
                  <a:pt x="270" y="1458"/>
                </a:lnTo>
                <a:lnTo>
                  <a:pt x="270" y="1470"/>
                </a:lnTo>
                <a:lnTo>
                  <a:pt x="276" y="1476"/>
                </a:lnTo>
                <a:lnTo>
                  <a:pt x="276" y="1482"/>
                </a:lnTo>
                <a:lnTo>
                  <a:pt x="276" y="1488"/>
                </a:lnTo>
                <a:lnTo>
                  <a:pt x="282" y="1494"/>
                </a:lnTo>
                <a:lnTo>
                  <a:pt x="282" y="1500"/>
                </a:lnTo>
                <a:lnTo>
                  <a:pt x="282" y="1512"/>
                </a:lnTo>
                <a:lnTo>
                  <a:pt x="282" y="1518"/>
                </a:lnTo>
                <a:lnTo>
                  <a:pt x="288" y="1524"/>
                </a:lnTo>
                <a:lnTo>
                  <a:pt x="288" y="1530"/>
                </a:lnTo>
                <a:lnTo>
                  <a:pt x="288" y="1536"/>
                </a:lnTo>
                <a:lnTo>
                  <a:pt x="294" y="1542"/>
                </a:lnTo>
                <a:lnTo>
                  <a:pt x="294" y="1548"/>
                </a:lnTo>
                <a:lnTo>
                  <a:pt x="294" y="1560"/>
                </a:lnTo>
                <a:lnTo>
                  <a:pt x="294" y="1566"/>
                </a:lnTo>
                <a:lnTo>
                  <a:pt x="300" y="1572"/>
                </a:lnTo>
                <a:lnTo>
                  <a:pt x="300" y="1578"/>
                </a:lnTo>
                <a:lnTo>
                  <a:pt x="300" y="1584"/>
                </a:lnTo>
                <a:lnTo>
                  <a:pt x="306" y="1590"/>
                </a:lnTo>
                <a:lnTo>
                  <a:pt x="306" y="1596"/>
                </a:lnTo>
                <a:lnTo>
                  <a:pt x="306" y="1602"/>
                </a:lnTo>
                <a:lnTo>
                  <a:pt x="306" y="1608"/>
                </a:lnTo>
                <a:lnTo>
                  <a:pt x="312" y="1620"/>
                </a:lnTo>
                <a:lnTo>
                  <a:pt x="312" y="1626"/>
                </a:lnTo>
                <a:lnTo>
                  <a:pt x="312" y="1632"/>
                </a:lnTo>
                <a:lnTo>
                  <a:pt x="312" y="1638"/>
                </a:lnTo>
                <a:lnTo>
                  <a:pt x="318" y="1644"/>
                </a:lnTo>
                <a:lnTo>
                  <a:pt x="318" y="1650"/>
                </a:lnTo>
                <a:lnTo>
                  <a:pt x="318" y="1656"/>
                </a:lnTo>
                <a:lnTo>
                  <a:pt x="324" y="1662"/>
                </a:lnTo>
                <a:lnTo>
                  <a:pt x="324" y="1668"/>
                </a:lnTo>
                <a:lnTo>
                  <a:pt x="324" y="1674"/>
                </a:lnTo>
                <a:lnTo>
                  <a:pt x="324" y="1680"/>
                </a:lnTo>
                <a:lnTo>
                  <a:pt x="330" y="1686"/>
                </a:lnTo>
                <a:lnTo>
                  <a:pt x="330" y="1692"/>
                </a:lnTo>
                <a:lnTo>
                  <a:pt x="330" y="1698"/>
                </a:lnTo>
                <a:lnTo>
                  <a:pt x="336" y="1704"/>
                </a:lnTo>
                <a:lnTo>
                  <a:pt x="336" y="1710"/>
                </a:lnTo>
                <a:lnTo>
                  <a:pt x="336" y="1716"/>
                </a:lnTo>
                <a:lnTo>
                  <a:pt x="336" y="1722"/>
                </a:lnTo>
                <a:lnTo>
                  <a:pt x="342" y="1728"/>
                </a:lnTo>
                <a:lnTo>
                  <a:pt x="342" y="1734"/>
                </a:lnTo>
                <a:lnTo>
                  <a:pt x="342" y="1740"/>
                </a:lnTo>
                <a:lnTo>
                  <a:pt x="348" y="1746"/>
                </a:lnTo>
                <a:lnTo>
                  <a:pt x="348" y="1752"/>
                </a:lnTo>
                <a:lnTo>
                  <a:pt x="348" y="1758"/>
                </a:lnTo>
                <a:lnTo>
                  <a:pt x="348" y="1764"/>
                </a:lnTo>
                <a:lnTo>
                  <a:pt x="354" y="1770"/>
                </a:lnTo>
                <a:lnTo>
                  <a:pt x="354" y="1776"/>
                </a:lnTo>
                <a:lnTo>
                  <a:pt x="354" y="1782"/>
                </a:lnTo>
                <a:lnTo>
                  <a:pt x="360" y="1788"/>
                </a:lnTo>
                <a:lnTo>
                  <a:pt x="360" y="1794"/>
                </a:lnTo>
                <a:lnTo>
                  <a:pt x="360" y="1800"/>
                </a:lnTo>
                <a:lnTo>
                  <a:pt x="360" y="1806"/>
                </a:lnTo>
                <a:lnTo>
                  <a:pt x="366" y="1812"/>
                </a:lnTo>
                <a:lnTo>
                  <a:pt x="366" y="1818"/>
                </a:lnTo>
                <a:lnTo>
                  <a:pt x="366" y="1824"/>
                </a:lnTo>
                <a:lnTo>
                  <a:pt x="372" y="1830"/>
                </a:lnTo>
                <a:lnTo>
                  <a:pt x="372" y="1836"/>
                </a:lnTo>
                <a:lnTo>
                  <a:pt x="372" y="1842"/>
                </a:lnTo>
                <a:lnTo>
                  <a:pt x="372" y="1848"/>
                </a:lnTo>
                <a:lnTo>
                  <a:pt x="378" y="1854"/>
                </a:lnTo>
                <a:lnTo>
                  <a:pt x="378" y="1860"/>
                </a:lnTo>
                <a:lnTo>
                  <a:pt x="384" y="1866"/>
                </a:lnTo>
                <a:lnTo>
                  <a:pt x="384" y="1872"/>
                </a:lnTo>
                <a:lnTo>
                  <a:pt x="384" y="1878"/>
                </a:lnTo>
                <a:lnTo>
                  <a:pt x="384" y="1884"/>
                </a:lnTo>
                <a:lnTo>
                  <a:pt x="390" y="1890"/>
                </a:lnTo>
                <a:lnTo>
                  <a:pt x="390" y="1896"/>
                </a:lnTo>
                <a:lnTo>
                  <a:pt x="390" y="1902"/>
                </a:lnTo>
                <a:lnTo>
                  <a:pt x="396" y="1902"/>
                </a:lnTo>
                <a:lnTo>
                  <a:pt x="396" y="1908"/>
                </a:lnTo>
                <a:lnTo>
                  <a:pt x="396" y="1914"/>
                </a:lnTo>
                <a:lnTo>
                  <a:pt x="396" y="1920"/>
                </a:lnTo>
                <a:lnTo>
                  <a:pt x="402" y="1926"/>
                </a:lnTo>
                <a:lnTo>
                  <a:pt x="402" y="1932"/>
                </a:lnTo>
                <a:lnTo>
                  <a:pt x="402" y="1938"/>
                </a:lnTo>
                <a:lnTo>
                  <a:pt x="402" y="1944"/>
                </a:lnTo>
                <a:lnTo>
                  <a:pt x="408" y="1944"/>
                </a:lnTo>
                <a:lnTo>
                  <a:pt x="408" y="1950"/>
                </a:lnTo>
                <a:lnTo>
                  <a:pt x="408" y="1956"/>
                </a:lnTo>
                <a:lnTo>
                  <a:pt x="414" y="1962"/>
                </a:lnTo>
                <a:lnTo>
                  <a:pt x="414" y="1968"/>
                </a:lnTo>
                <a:lnTo>
                  <a:pt x="414" y="1974"/>
                </a:lnTo>
                <a:lnTo>
                  <a:pt x="420" y="1980"/>
                </a:lnTo>
                <a:lnTo>
                  <a:pt x="420" y="1986"/>
                </a:lnTo>
                <a:lnTo>
                  <a:pt x="420" y="1992"/>
                </a:lnTo>
                <a:lnTo>
                  <a:pt x="426" y="1998"/>
                </a:lnTo>
                <a:lnTo>
                  <a:pt x="426" y="2004"/>
                </a:lnTo>
                <a:lnTo>
                  <a:pt x="426" y="2010"/>
                </a:lnTo>
                <a:lnTo>
                  <a:pt x="432" y="2016"/>
                </a:lnTo>
                <a:lnTo>
                  <a:pt x="432" y="2022"/>
                </a:lnTo>
                <a:lnTo>
                  <a:pt x="438" y="2028"/>
                </a:lnTo>
                <a:lnTo>
                  <a:pt x="438" y="2034"/>
                </a:lnTo>
                <a:lnTo>
                  <a:pt x="438" y="2040"/>
                </a:lnTo>
                <a:lnTo>
                  <a:pt x="444" y="2046"/>
                </a:lnTo>
                <a:lnTo>
                  <a:pt x="444" y="2052"/>
                </a:lnTo>
                <a:lnTo>
                  <a:pt x="444" y="2058"/>
                </a:lnTo>
                <a:lnTo>
                  <a:pt x="450" y="2058"/>
                </a:lnTo>
                <a:lnTo>
                  <a:pt x="450" y="2064"/>
                </a:lnTo>
                <a:lnTo>
                  <a:pt x="450" y="2070"/>
                </a:lnTo>
                <a:lnTo>
                  <a:pt x="450" y="2076"/>
                </a:lnTo>
                <a:lnTo>
                  <a:pt x="456" y="2076"/>
                </a:lnTo>
                <a:lnTo>
                  <a:pt x="456" y="2082"/>
                </a:lnTo>
                <a:lnTo>
                  <a:pt x="456" y="2088"/>
                </a:lnTo>
                <a:lnTo>
                  <a:pt x="462" y="2088"/>
                </a:lnTo>
                <a:lnTo>
                  <a:pt x="462" y="2094"/>
                </a:lnTo>
                <a:lnTo>
                  <a:pt x="462" y="2100"/>
                </a:lnTo>
                <a:lnTo>
                  <a:pt x="462" y="2106"/>
                </a:lnTo>
                <a:lnTo>
                  <a:pt x="468" y="2106"/>
                </a:lnTo>
                <a:lnTo>
                  <a:pt x="468" y="2112"/>
                </a:lnTo>
                <a:lnTo>
                  <a:pt x="468" y="2118"/>
                </a:lnTo>
                <a:lnTo>
                  <a:pt x="474" y="2118"/>
                </a:lnTo>
                <a:lnTo>
                  <a:pt x="474" y="2124"/>
                </a:lnTo>
                <a:lnTo>
                  <a:pt x="474" y="2130"/>
                </a:lnTo>
                <a:lnTo>
                  <a:pt x="480" y="2136"/>
                </a:lnTo>
                <a:lnTo>
                  <a:pt x="480" y="2142"/>
                </a:lnTo>
                <a:lnTo>
                  <a:pt x="486" y="2148"/>
                </a:lnTo>
                <a:lnTo>
                  <a:pt x="486" y="2154"/>
                </a:lnTo>
                <a:lnTo>
                  <a:pt x="486" y="2160"/>
                </a:lnTo>
                <a:lnTo>
                  <a:pt x="492" y="2166"/>
                </a:lnTo>
                <a:lnTo>
                  <a:pt x="492" y="2172"/>
                </a:lnTo>
                <a:lnTo>
                  <a:pt x="498" y="2178"/>
                </a:lnTo>
                <a:lnTo>
                  <a:pt x="498" y="2184"/>
                </a:lnTo>
                <a:lnTo>
                  <a:pt x="504" y="2190"/>
                </a:lnTo>
                <a:lnTo>
                  <a:pt x="504" y="2196"/>
                </a:lnTo>
                <a:lnTo>
                  <a:pt x="504" y="2202"/>
                </a:lnTo>
                <a:lnTo>
                  <a:pt x="510" y="2202"/>
                </a:lnTo>
                <a:lnTo>
                  <a:pt x="510" y="2208"/>
                </a:lnTo>
                <a:lnTo>
                  <a:pt x="516" y="2214"/>
                </a:lnTo>
                <a:lnTo>
                  <a:pt x="516" y="2220"/>
                </a:lnTo>
                <a:lnTo>
                  <a:pt x="516" y="2226"/>
                </a:lnTo>
                <a:lnTo>
                  <a:pt x="522" y="2226"/>
                </a:lnTo>
                <a:lnTo>
                  <a:pt x="522" y="2232"/>
                </a:lnTo>
                <a:lnTo>
                  <a:pt x="528" y="2238"/>
                </a:lnTo>
                <a:lnTo>
                  <a:pt x="528" y="2244"/>
                </a:lnTo>
                <a:lnTo>
                  <a:pt x="528" y="2250"/>
                </a:lnTo>
                <a:lnTo>
                  <a:pt x="534" y="2250"/>
                </a:lnTo>
                <a:lnTo>
                  <a:pt x="534" y="2256"/>
                </a:lnTo>
                <a:lnTo>
                  <a:pt x="540" y="2262"/>
                </a:lnTo>
                <a:lnTo>
                  <a:pt x="540" y="2268"/>
                </a:lnTo>
                <a:lnTo>
                  <a:pt x="546" y="2274"/>
                </a:lnTo>
                <a:lnTo>
                  <a:pt x="546" y="2280"/>
                </a:lnTo>
                <a:lnTo>
                  <a:pt x="552" y="2280"/>
                </a:lnTo>
                <a:lnTo>
                  <a:pt x="552" y="2286"/>
                </a:lnTo>
                <a:lnTo>
                  <a:pt x="552" y="2292"/>
                </a:lnTo>
                <a:lnTo>
                  <a:pt x="558" y="2292"/>
                </a:lnTo>
                <a:lnTo>
                  <a:pt x="558" y="2298"/>
                </a:lnTo>
                <a:lnTo>
                  <a:pt x="564" y="2298"/>
                </a:lnTo>
                <a:lnTo>
                  <a:pt x="564" y="2304"/>
                </a:lnTo>
                <a:lnTo>
                  <a:pt x="564" y="2310"/>
                </a:lnTo>
                <a:lnTo>
                  <a:pt x="570" y="2310"/>
                </a:lnTo>
                <a:lnTo>
                  <a:pt x="570" y="2316"/>
                </a:lnTo>
                <a:lnTo>
                  <a:pt x="576" y="2322"/>
                </a:lnTo>
                <a:lnTo>
                  <a:pt x="576" y="2328"/>
                </a:lnTo>
                <a:lnTo>
                  <a:pt x="582" y="2328"/>
                </a:lnTo>
                <a:lnTo>
                  <a:pt x="582" y="2334"/>
                </a:lnTo>
                <a:lnTo>
                  <a:pt x="588" y="2340"/>
                </a:lnTo>
                <a:lnTo>
                  <a:pt x="588" y="2346"/>
                </a:lnTo>
                <a:lnTo>
                  <a:pt x="594" y="2346"/>
                </a:lnTo>
                <a:lnTo>
                  <a:pt x="594" y="2352"/>
                </a:lnTo>
                <a:lnTo>
                  <a:pt x="600" y="2352"/>
                </a:lnTo>
                <a:lnTo>
                  <a:pt x="600" y="2358"/>
                </a:lnTo>
                <a:lnTo>
                  <a:pt x="606" y="2364"/>
                </a:lnTo>
                <a:lnTo>
                  <a:pt x="606" y="2370"/>
                </a:lnTo>
                <a:lnTo>
                  <a:pt x="612" y="2370"/>
                </a:lnTo>
                <a:lnTo>
                  <a:pt x="612" y="2376"/>
                </a:lnTo>
                <a:lnTo>
                  <a:pt x="618" y="2376"/>
                </a:lnTo>
                <a:lnTo>
                  <a:pt x="618" y="2382"/>
                </a:lnTo>
                <a:lnTo>
                  <a:pt x="624" y="2382"/>
                </a:lnTo>
                <a:lnTo>
                  <a:pt x="624" y="2388"/>
                </a:lnTo>
                <a:lnTo>
                  <a:pt x="630" y="2388"/>
                </a:lnTo>
                <a:lnTo>
                  <a:pt x="630" y="2394"/>
                </a:lnTo>
                <a:lnTo>
                  <a:pt x="636" y="2394"/>
                </a:lnTo>
                <a:lnTo>
                  <a:pt x="636" y="2400"/>
                </a:lnTo>
                <a:lnTo>
                  <a:pt x="642" y="2400"/>
                </a:lnTo>
                <a:lnTo>
                  <a:pt x="642" y="2406"/>
                </a:lnTo>
                <a:lnTo>
                  <a:pt x="648" y="2406"/>
                </a:lnTo>
                <a:lnTo>
                  <a:pt x="654" y="2412"/>
                </a:lnTo>
                <a:lnTo>
                  <a:pt x="660" y="2418"/>
                </a:lnTo>
                <a:lnTo>
                  <a:pt x="666" y="2418"/>
                </a:lnTo>
                <a:lnTo>
                  <a:pt x="666" y="2424"/>
                </a:lnTo>
                <a:lnTo>
                  <a:pt x="672" y="2424"/>
                </a:lnTo>
                <a:lnTo>
                  <a:pt x="678" y="2430"/>
                </a:lnTo>
                <a:lnTo>
                  <a:pt x="684" y="2430"/>
                </a:lnTo>
                <a:lnTo>
                  <a:pt x="684" y="2436"/>
                </a:lnTo>
                <a:lnTo>
                  <a:pt x="690" y="2436"/>
                </a:lnTo>
                <a:lnTo>
                  <a:pt x="696" y="2436"/>
                </a:lnTo>
                <a:lnTo>
                  <a:pt x="702" y="2442"/>
                </a:lnTo>
                <a:lnTo>
                  <a:pt x="708" y="2442"/>
                </a:lnTo>
                <a:lnTo>
                  <a:pt x="714" y="2442"/>
                </a:lnTo>
                <a:lnTo>
                  <a:pt x="720" y="2442"/>
                </a:lnTo>
                <a:lnTo>
                  <a:pt x="720" y="2448"/>
                </a:lnTo>
                <a:lnTo>
                  <a:pt x="726" y="2448"/>
                </a:lnTo>
                <a:lnTo>
                  <a:pt x="732" y="2448"/>
                </a:lnTo>
                <a:lnTo>
                  <a:pt x="738" y="2448"/>
                </a:lnTo>
                <a:lnTo>
                  <a:pt x="744" y="2448"/>
                </a:lnTo>
                <a:lnTo>
                  <a:pt x="750" y="2448"/>
                </a:lnTo>
                <a:lnTo>
                  <a:pt x="756" y="2448"/>
                </a:lnTo>
                <a:lnTo>
                  <a:pt x="762" y="2448"/>
                </a:lnTo>
                <a:lnTo>
                  <a:pt x="768" y="2448"/>
                </a:lnTo>
                <a:lnTo>
                  <a:pt x="774" y="2442"/>
                </a:lnTo>
                <a:lnTo>
                  <a:pt x="780" y="2442"/>
                </a:lnTo>
                <a:lnTo>
                  <a:pt x="786" y="2442"/>
                </a:lnTo>
                <a:lnTo>
                  <a:pt x="792" y="2436"/>
                </a:lnTo>
                <a:lnTo>
                  <a:pt x="798" y="2436"/>
                </a:lnTo>
                <a:lnTo>
                  <a:pt x="804" y="2436"/>
                </a:lnTo>
                <a:lnTo>
                  <a:pt x="804" y="2430"/>
                </a:lnTo>
                <a:lnTo>
                  <a:pt x="810" y="2430"/>
                </a:lnTo>
                <a:lnTo>
                  <a:pt x="816" y="2424"/>
                </a:lnTo>
                <a:lnTo>
                  <a:pt x="822" y="2424"/>
                </a:lnTo>
                <a:lnTo>
                  <a:pt x="822" y="2418"/>
                </a:lnTo>
                <a:lnTo>
                  <a:pt x="828" y="2418"/>
                </a:lnTo>
                <a:lnTo>
                  <a:pt x="834" y="2412"/>
                </a:lnTo>
                <a:lnTo>
                  <a:pt x="840" y="2412"/>
                </a:lnTo>
                <a:lnTo>
                  <a:pt x="840" y="2406"/>
                </a:lnTo>
                <a:lnTo>
                  <a:pt x="846" y="2406"/>
                </a:lnTo>
                <a:lnTo>
                  <a:pt x="846" y="2400"/>
                </a:lnTo>
                <a:lnTo>
                  <a:pt x="852" y="2400"/>
                </a:lnTo>
                <a:lnTo>
                  <a:pt x="852" y="2394"/>
                </a:lnTo>
                <a:lnTo>
                  <a:pt x="858" y="2394"/>
                </a:lnTo>
                <a:lnTo>
                  <a:pt x="858" y="2388"/>
                </a:lnTo>
                <a:lnTo>
                  <a:pt x="864" y="2388"/>
                </a:lnTo>
                <a:lnTo>
                  <a:pt x="864" y="2382"/>
                </a:lnTo>
                <a:lnTo>
                  <a:pt x="870" y="2382"/>
                </a:lnTo>
                <a:lnTo>
                  <a:pt x="870" y="2376"/>
                </a:lnTo>
                <a:lnTo>
                  <a:pt x="876" y="2376"/>
                </a:lnTo>
                <a:lnTo>
                  <a:pt x="876" y="2370"/>
                </a:lnTo>
                <a:lnTo>
                  <a:pt x="882" y="2364"/>
                </a:lnTo>
                <a:lnTo>
                  <a:pt x="888" y="2358"/>
                </a:lnTo>
                <a:lnTo>
                  <a:pt x="888" y="2352"/>
                </a:lnTo>
                <a:lnTo>
                  <a:pt x="894" y="2352"/>
                </a:lnTo>
                <a:lnTo>
                  <a:pt x="894" y="2346"/>
                </a:lnTo>
                <a:lnTo>
                  <a:pt x="900" y="2346"/>
                </a:lnTo>
                <a:lnTo>
                  <a:pt x="900" y="2340"/>
                </a:lnTo>
                <a:lnTo>
                  <a:pt x="906" y="2334"/>
                </a:lnTo>
                <a:lnTo>
                  <a:pt x="906" y="2328"/>
                </a:lnTo>
                <a:lnTo>
                  <a:pt x="912" y="2328"/>
                </a:lnTo>
                <a:lnTo>
                  <a:pt x="912" y="2322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786200" y="938160"/>
            <a:ext cx="914400" cy="3676680"/>
          </a:xfrm>
          <a:custGeom>
            <a:avLst/>
            <a:gdLst/>
            <a:ahLst/>
            <a:rect l="l" t="t" r="r" b="b"/>
            <a:pathLst>
              <a:path w="576" h="2316">
                <a:moveTo>
                  <a:pt x="0" y="2316"/>
                </a:moveTo>
                <a:lnTo>
                  <a:pt x="6" y="2310"/>
                </a:lnTo>
                <a:lnTo>
                  <a:pt x="6" y="2304"/>
                </a:lnTo>
                <a:lnTo>
                  <a:pt x="12" y="2304"/>
                </a:lnTo>
                <a:lnTo>
                  <a:pt x="12" y="2298"/>
                </a:lnTo>
                <a:lnTo>
                  <a:pt x="18" y="2292"/>
                </a:lnTo>
                <a:lnTo>
                  <a:pt x="18" y="2286"/>
                </a:lnTo>
                <a:lnTo>
                  <a:pt x="24" y="2280"/>
                </a:lnTo>
                <a:lnTo>
                  <a:pt x="24" y="2274"/>
                </a:lnTo>
                <a:lnTo>
                  <a:pt x="30" y="2274"/>
                </a:lnTo>
                <a:lnTo>
                  <a:pt x="30" y="2268"/>
                </a:lnTo>
                <a:lnTo>
                  <a:pt x="30" y="2262"/>
                </a:lnTo>
                <a:lnTo>
                  <a:pt x="36" y="2262"/>
                </a:lnTo>
                <a:lnTo>
                  <a:pt x="36" y="2256"/>
                </a:lnTo>
                <a:lnTo>
                  <a:pt x="42" y="2250"/>
                </a:lnTo>
                <a:lnTo>
                  <a:pt x="42" y="2244"/>
                </a:lnTo>
                <a:lnTo>
                  <a:pt x="48" y="2238"/>
                </a:lnTo>
                <a:lnTo>
                  <a:pt x="48" y="2232"/>
                </a:lnTo>
                <a:lnTo>
                  <a:pt x="54" y="2232"/>
                </a:lnTo>
                <a:lnTo>
                  <a:pt x="54" y="2226"/>
                </a:lnTo>
                <a:lnTo>
                  <a:pt x="54" y="2220"/>
                </a:lnTo>
                <a:lnTo>
                  <a:pt x="60" y="2214"/>
                </a:lnTo>
                <a:lnTo>
                  <a:pt x="60" y="2208"/>
                </a:lnTo>
                <a:lnTo>
                  <a:pt x="66" y="2208"/>
                </a:lnTo>
                <a:lnTo>
                  <a:pt x="66" y="2202"/>
                </a:lnTo>
                <a:lnTo>
                  <a:pt x="66" y="2196"/>
                </a:lnTo>
                <a:lnTo>
                  <a:pt x="72" y="2190"/>
                </a:lnTo>
                <a:lnTo>
                  <a:pt x="72" y="2184"/>
                </a:lnTo>
                <a:lnTo>
                  <a:pt x="78" y="2184"/>
                </a:lnTo>
                <a:lnTo>
                  <a:pt x="78" y="2178"/>
                </a:lnTo>
                <a:lnTo>
                  <a:pt x="78" y="2172"/>
                </a:lnTo>
                <a:lnTo>
                  <a:pt x="84" y="2166"/>
                </a:lnTo>
                <a:lnTo>
                  <a:pt x="84" y="2160"/>
                </a:lnTo>
                <a:lnTo>
                  <a:pt x="90" y="2154"/>
                </a:lnTo>
                <a:lnTo>
                  <a:pt x="90" y="2148"/>
                </a:lnTo>
                <a:lnTo>
                  <a:pt x="90" y="2142"/>
                </a:lnTo>
                <a:lnTo>
                  <a:pt x="96" y="2142"/>
                </a:lnTo>
                <a:lnTo>
                  <a:pt x="96" y="2136"/>
                </a:lnTo>
                <a:lnTo>
                  <a:pt x="96" y="2130"/>
                </a:lnTo>
                <a:lnTo>
                  <a:pt x="102" y="2124"/>
                </a:lnTo>
                <a:lnTo>
                  <a:pt x="102" y="2118"/>
                </a:lnTo>
                <a:lnTo>
                  <a:pt x="108" y="2112"/>
                </a:lnTo>
                <a:lnTo>
                  <a:pt x="108" y="2106"/>
                </a:lnTo>
                <a:lnTo>
                  <a:pt x="108" y="2100"/>
                </a:lnTo>
                <a:lnTo>
                  <a:pt x="114" y="2094"/>
                </a:lnTo>
                <a:lnTo>
                  <a:pt x="114" y="2088"/>
                </a:lnTo>
                <a:lnTo>
                  <a:pt x="120" y="2082"/>
                </a:lnTo>
                <a:lnTo>
                  <a:pt x="120" y="2076"/>
                </a:lnTo>
                <a:lnTo>
                  <a:pt x="120" y="2070"/>
                </a:lnTo>
                <a:lnTo>
                  <a:pt x="126" y="2064"/>
                </a:lnTo>
                <a:lnTo>
                  <a:pt x="126" y="2058"/>
                </a:lnTo>
                <a:lnTo>
                  <a:pt x="132" y="2052"/>
                </a:lnTo>
                <a:lnTo>
                  <a:pt x="132" y="2046"/>
                </a:lnTo>
                <a:lnTo>
                  <a:pt x="132" y="2040"/>
                </a:lnTo>
                <a:lnTo>
                  <a:pt x="138" y="2034"/>
                </a:lnTo>
                <a:lnTo>
                  <a:pt x="138" y="2028"/>
                </a:lnTo>
                <a:lnTo>
                  <a:pt x="138" y="2022"/>
                </a:lnTo>
                <a:lnTo>
                  <a:pt x="144" y="2022"/>
                </a:lnTo>
                <a:lnTo>
                  <a:pt x="144" y="2016"/>
                </a:lnTo>
                <a:lnTo>
                  <a:pt x="144" y="2010"/>
                </a:lnTo>
                <a:lnTo>
                  <a:pt x="144" y="2004"/>
                </a:lnTo>
                <a:lnTo>
                  <a:pt x="150" y="2004"/>
                </a:lnTo>
                <a:lnTo>
                  <a:pt x="150" y="1998"/>
                </a:lnTo>
                <a:lnTo>
                  <a:pt x="150" y="1992"/>
                </a:lnTo>
                <a:lnTo>
                  <a:pt x="156" y="1986"/>
                </a:lnTo>
                <a:lnTo>
                  <a:pt x="156" y="1980"/>
                </a:lnTo>
                <a:lnTo>
                  <a:pt x="156" y="1974"/>
                </a:lnTo>
                <a:lnTo>
                  <a:pt x="162" y="1968"/>
                </a:lnTo>
                <a:lnTo>
                  <a:pt x="162" y="1962"/>
                </a:lnTo>
                <a:lnTo>
                  <a:pt x="162" y="1956"/>
                </a:lnTo>
                <a:lnTo>
                  <a:pt x="168" y="1950"/>
                </a:lnTo>
                <a:lnTo>
                  <a:pt x="168" y="1944"/>
                </a:lnTo>
                <a:lnTo>
                  <a:pt x="168" y="1938"/>
                </a:lnTo>
                <a:lnTo>
                  <a:pt x="174" y="1932"/>
                </a:lnTo>
                <a:lnTo>
                  <a:pt x="174" y="1926"/>
                </a:lnTo>
                <a:lnTo>
                  <a:pt x="174" y="1920"/>
                </a:lnTo>
                <a:lnTo>
                  <a:pt x="180" y="1920"/>
                </a:lnTo>
                <a:lnTo>
                  <a:pt x="180" y="1914"/>
                </a:lnTo>
                <a:lnTo>
                  <a:pt x="180" y="1908"/>
                </a:lnTo>
                <a:lnTo>
                  <a:pt x="180" y="1902"/>
                </a:lnTo>
                <a:lnTo>
                  <a:pt x="186" y="1896"/>
                </a:lnTo>
                <a:lnTo>
                  <a:pt x="186" y="1890"/>
                </a:lnTo>
                <a:lnTo>
                  <a:pt x="186" y="1884"/>
                </a:lnTo>
                <a:lnTo>
                  <a:pt x="186" y="1878"/>
                </a:lnTo>
                <a:lnTo>
                  <a:pt x="192" y="1872"/>
                </a:lnTo>
                <a:lnTo>
                  <a:pt x="192" y="1866"/>
                </a:lnTo>
                <a:lnTo>
                  <a:pt x="198" y="1860"/>
                </a:lnTo>
                <a:lnTo>
                  <a:pt x="198" y="1854"/>
                </a:lnTo>
                <a:lnTo>
                  <a:pt x="198" y="1848"/>
                </a:lnTo>
                <a:lnTo>
                  <a:pt x="198" y="1842"/>
                </a:lnTo>
                <a:lnTo>
                  <a:pt x="204" y="1836"/>
                </a:lnTo>
                <a:lnTo>
                  <a:pt x="204" y="1830"/>
                </a:lnTo>
                <a:lnTo>
                  <a:pt x="204" y="1824"/>
                </a:lnTo>
                <a:lnTo>
                  <a:pt x="210" y="1818"/>
                </a:lnTo>
                <a:lnTo>
                  <a:pt x="210" y="1812"/>
                </a:lnTo>
                <a:lnTo>
                  <a:pt x="210" y="1806"/>
                </a:lnTo>
                <a:lnTo>
                  <a:pt x="210" y="1800"/>
                </a:lnTo>
                <a:lnTo>
                  <a:pt x="216" y="1800"/>
                </a:lnTo>
                <a:lnTo>
                  <a:pt x="216" y="1794"/>
                </a:lnTo>
                <a:lnTo>
                  <a:pt x="216" y="1788"/>
                </a:lnTo>
                <a:lnTo>
                  <a:pt x="222" y="1782"/>
                </a:lnTo>
                <a:lnTo>
                  <a:pt x="222" y="1776"/>
                </a:lnTo>
                <a:lnTo>
                  <a:pt x="222" y="1770"/>
                </a:lnTo>
                <a:lnTo>
                  <a:pt x="222" y="1764"/>
                </a:lnTo>
                <a:lnTo>
                  <a:pt x="228" y="1758"/>
                </a:lnTo>
                <a:lnTo>
                  <a:pt x="228" y="1752"/>
                </a:lnTo>
                <a:lnTo>
                  <a:pt x="228" y="1746"/>
                </a:lnTo>
                <a:lnTo>
                  <a:pt x="234" y="1740"/>
                </a:lnTo>
                <a:lnTo>
                  <a:pt x="234" y="1734"/>
                </a:lnTo>
                <a:lnTo>
                  <a:pt x="234" y="1728"/>
                </a:lnTo>
                <a:lnTo>
                  <a:pt x="234" y="1722"/>
                </a:lnTo>
                <a:lnTo>
                  <a:pt x="240" y="1716"/>
                </a:lnTo>
                <a:lnTo>
                  <a:pt x="240" y="1710"/>
                </a:lnTo>
                <a:lnTo>
                  <a:pt x="240" y="1704"/>
                </a:lnTo>
                <a:lnTo>
                  <a:pt x="246" y="1698"/>
                </a:lnTo>
                <a:lnTo>
                  <a:pt x="246" y="1692"/>
                </a:lnTo>
                <a:lnTo>
                  <a:pt x="246" y="1686"/>
                </a:lnTo>
                <a:lnTo>
                  <a:pt x="246" y="1680"/>
                </a:lnTo>
                <a:lnTo>
                  <a:pt x="252" y="1674"/>
                </a:lnTo>
                <a:lnTo>
                  <a:pt x="252" y="1668"/>
                </a:lnTo>
                <a:lnTo>
                  <a:pt x="252" y="1656"/>
                </a:lnTo>
                <a:lnTo>
                  <a:pt x="258" y="1650"/>
                </a:lnTo>
                <a:lnTo>
                  <a:pt x="258" y="1644"/>
                </a:lnTo>
                <a:lnTo>
                  <a:pt x="258" y="1638"/>
                </a:lnTo>
                <a:lnTo>
                  <a:pt x="258" y="1632"/>
                </a:lnTo>
                <a:lnTo>
                  <a:pt x="264" y="1626"/>
                </a:lnTo>
                <a:lnTo>
                  <a:pt x="264" y="1620"/>
                </a:lnTo>
                <a:lnTo>
                  <a:pt x="264" y="1614"/>
                </a:lnTo>
                <a:lnTo>
                  <a:pt x="270" y="1608"/>
                </a:lnTo>
                <a:lnTo>
                  <a:pt x="270" y="1602"/>
                </a:lnTo>
                <a:lnTo>
                  <a:pt x="270" y="1596"/>
                </a:lnTo>
                <a:lnTo>
                  <a:pt x="270" y="1590"/>
                </a:lnTo>
                <a:lnTo>
                  <a:pt x="276" y="1584"/>
                </a:lnTo>
                <a:lnTo>
                  <a:pt x="276" y="1572"/>
                </a:lnTo>
                <a:lnTo>
                  <a:pt x="276" y="1566"/>
                </a:lnTo>
                <a:lnTo>
                  <a:pt x="276" y="1560"/>
                </a:lnTo>
                <a:lnTo>
                  <a:pt x="282" y="1554"/>
                </a:lnTo>
                <a:lnTo>
                  <a:pt x="282" y="1548"/>
                </a:lnTo>
                <a:lnTo>
                  <a:pt x="282" y="1542"/>
                </a:lnTo>
                <a:lnTo>
                  <a:pt x="288" y="1536"/>
                </a:lnTo>
                <a:lnTo>
                  <a:pt x="288" y="1530"/>
                </a:lnTo>
                <a:lnTo>
                  <a:pt x="288" y="1518"/>
                </a:lnTo>
                <a:lnTo>
                  <a:pt x="288" y="1512"/>
                </a:lnTo>
                <a:lnTo>
                  <a:pt x="294" y="1506"/>
                </a:lnTo>
                <a:lnTo>
                  <a:pt x="294" y="1500"/>
                </a:lnTo>
                <a:lnTo>
                  <a:pt x="294" y="1494"/>
                </a:lnTo>
                <a:lnTo>
                  <a:pt x="300" y="1488"/>
                </a:lnTo>
                <a:lnTo>
                  <a:pt x="300" y="1482"/>
                </a:lnTo>
                <a:lnTo>
                  <a:pt x="300" y="1470"/>
                </a:lnTo>
                <a:lnTo>
                  <a:pt x="300" y="1464"/>
                </a:lnTo>
                <a:lnTo>
                  <a:pt x="306" y="1458"/>
                </a:lnTo>
                <a:lnTo>
                  <a:pt x="306" y="1452"/>
                </a:lnTo>
                <a:lnTo>
                  <a:pt x="306" y="1446"/>
                </a:lnTo>
                <a:lnTo>
                  <a:pt x="312" y="1434"/>
                </a:lnTo>
                <a:lnTo>
                  <a:pt x="312" y="1428"/>
                </a:lnTo>
                <a:lnTo>
                  <a:pt x="312" y="1422"/>
                </a:lnTo>
                <a:lnTo>
                  <a:pt x="312" y="1416"/>
                </a:lnTo>
                <a:lnTo>
                  <a:pt x="318" y="1410"/>
                </a:lnTo>
                <a:lnTo>
                  <a:pt x="318" y="1398"/>
                </a:lnTo>
                <a:lnTo>
                  <a:pt x="318" y="1392"/>
                </a:lnTo>
                <a:lnTo>
                  <a:pt x="324" y="1386"/>
                </a:lnTo>
                <a:lnTo>
                  <a:pt x="324" y="1380"/>
                </a:lnTo>
                <a:lnTo>
                  <a:pt x="324" y="1374"/>
                </a:lnTo>
                <a:lnTo>
                  <a:pt x="324" y="1362"/>
                </a:lnTo>
                <a:lnTo>
                  <a:pt x="330" y="1356"/>
                </a:lnTo>
                <a:lnTo>
                  <a:pt x="330" y="1350"/>
                </a:lnTo>
                <a:lnTo>
                  <a:pt x="330" y="1344"/>
                </a:lnTo>
                <a:lnTo>
                  <a:pt x="336" y="1332"/>
                </a:lnTo>
                <a:lnTo>
                  <a:pt x="336" y="1326"/>
                </a:lnTo>
                <a:lnTo>
                  <a:pt x="336" y="1320"/>
                </a:lnTo>
                <a:lnTo>
                  <a:pt x="336" y="1314"/>
                </a:lnTo>
                <a:lnTo>
                  <a:pt x="342" y="1302"/>
                </a:lnTo>
                <a:lnTo>
                  <a:pt x="342" y="1296"/>
                </a:lnTo>
                <a:lnTo>
                  <a:pt x="342" y="1290"/>
                </a:lnTo>
                <a:lnTo>
                  <a:pt x="348" y="1284"/>
                </a:lnTo>
                <a:lnTo>
                  <a:pt x="348" y="1272"/>
                </a:lnTo>
                <a:lnTo>
                  <a:pt x="348" y="1266"/>
                </a:lnTo>
                <a:lnTo>
                  <a:pt x="348" y="1260"/>
                </a:lnTo>
                <a:lnTo>
                  <a:pt x="354" y="1248"/>
                </a:lnTo>
                <a:lnTo>
                  <a:pt x="354" y="1242"/>
                </a:lnTo>
                <a:lnTo>
                  <a:pt x="354" y="1236"/>
                </a:lnTo>
                <a:lnTo>
                  <a:pt x="354" y="1224"/>
                </a:lnTo>
                <a:lnTo>
                  <a:pt x="360" y="1218"/>
                </a:lnTo>
                <a:lnTo>
                  <a:pt x="360" y="1212"/>
                </a:lnTo>
                <a:lnTo>
                  <a:pt x="360" y="1200"/>
                </a:lnTo>
                <a:lnTo>
                  <a:pt x="366" y="1194"/>
                </a:lnTo>
                <a:lnTo>
                  <a:pt x="366" y="1188"/>
                </a:lnTo>
                <a:lnTo>
                  <a:pt x="366" y="1182"/>
                </a:lnTo>
                <a:lnTo>
                  <a:pt x="366" y="1170"/>
                </a:lnTo>
                <a:lnTo>
                  <a:pt x="372" y="1164"/>
                </a:lnTo>
                <a:lnTo>
                  <a:pt x="372" y="1152"/>
                </a:lnTo>
                <a:lnTo>
                  <a:pt x="372" y="1146"/>
                </a:lnTo>
                <a:lnTo>
                  <a:pt x="378" y="1140"/>
                </a:lnTo>
                <a:lnTo>
                  <a:pt x="378" y="1128"/>
                </a:lnTo>
                <a:lnTo>
                  <a:pt x="378" y="1122"/>
                </a:lnTo>
                <a:lnTo>
                  <a:pt x="378" y="1116"/>
                </a:lnTo>
                <a:lnTo>
                  <a:pt x="384" y="1104"/>
                </a:lnTo>
                <a:lnTo>
                  <a:pt x="384" y="1098"/>
                </a:lnTo>
                <a:lnTo>
                  <a:pt x="384" y="1092"/>
                </a:lnTo>
                <a:lnTo>
                  <a:pt x="390" y="1080"/>
                </a:lnTo>
                <a:lnTo>
                  <a:pt x="390" y="1074"/>
                </a:lnTo>
                <a:lnTo>
                  <a:pt x="390" y="1062"/>
                </a:lnTo>
                <a:lnTo>
                  <a:pt x="390" y="1056"/>
                </a:lnTo>
                <a:lnTo>
                  <a:pt x="396" y="1050"/>
                </a:lnTo>
                <a:lnTo>
                  <a:pt x="396" y="1038"/>
                </a:lnTo>
                <a:lnTo>
                  <a:pt x="396" y="1032"/>
                </a:lnTo>
                <a:lnTo>
                  <a:pt x="402" y="1020"/>
                </a:lnTo>
                <a:lnTo>
                  <a:pt x="402" y="1014"/>
                </a:lnTo>
                <a:lnTo>
                  <a:pt x="402" y="1008"/>
                </a:lnTo>
                <a:lnTo>
                  <a:pt x="402" y="996"/>
                </a:lnTo>
                <a:lnTo>
                  <a:pt x="408" y="990"/>
                </a:lnTo>
                <a:lnTo>
                  <a:pt x="408" y="978"/>
                </a:lnTo>
                <a:lnTo>
                  <a:pt x="408" y="972"/>
                </a:lnTo>
                <a:lnTo>
                  <a:pt x="414" y="960"/>
                </a:lnTo>
                <a:lnTo>
                  <a:pt x="414" y="954"/>
                </a:lnTo>
                <a:lnTo>
                  <a:pt x="414" y="942"/>
                </a:lnTo>
                <a:lnTo>
                  <a:pt x="414" y="936"/>
                </a:lnTo>
                <a:lnTo>
                  <a:pt x="420" y="930"/>
                </a:lnTo>
                <a:lnTo>
                  <a:pt x="420" y="918"/>
                </a:lnTo>
                <a:lnTo>
                  <a:pt x="420" y="912"/>
                </a:lnTo>
                <a:lnTo>
                  <a:pt x="426" y="900"/>
                </a:lnTo>
                <a:lnTo>
                  <a:pt x="426" y="894"/>
                </a:lnTo>
                <a:lnTo>
                  <a:pt x="426" y="882"/>
                </a:lnTo>
                <a:lnTo>
                  <a:pt x="426" y="876"/>
                </a:lnTo>
                <a:lnTo>
                  <a:pt x="432" y="864"/>
                </a:lnTo>
                <a:lnTo>
                  <a:pt x="432" y="858"/>
                </a:lnTo>
                <a:lnTo>
                  <a:pt x="432" y="846"/>
                </a:lnTo>
                <a:lnTo>
                  <a:pt x="438" y="840"/>
                </a:lnTo>
                <a:lnTo>
                  <a:pt x="438" y="828"/>
                </a:lnTo>
                <a:lnTo>
                  <a:pt x="438" y="822"/>
                </a:lnTo>
                <a:lnTo>
                  <a:pt x="438" y="810"/>
                </a:lnTo>
                <a:lnTo>
                  <a:pt x="444" y="804"/>
                </a:lnTo>
                <a:lnTo>
                  <a:pt x="444" y="792"/>
                </a:lnTo>
                <a:lnTo>
                  <a:pt x="444" y="786"/>
                </a:lnTo>
                <a:lnTo>
                  <a:pt x="444" y="774"/>
                </a:lnTo>
                <a:lnTo>
                  <a:pt x="450" y="768"/>
                </a:lnTo>
                <a:lnTo>
                  <a:pt x="450" y="756"/>
                </a:lnTo>
                <a:lnTo>
                  <a:pt x="450" y="744"/>
                </a:lnTo>
                <a:lnTo>
                  <a:pt x="456" y="738"/>
                </a:lnTo>
                <a:lnTo>
                  <a:pt x="456" y="726"/>
                </a:lnTo>
                <a:lnTo>
                  <a:pt x="456" y="720"/>
                </a:lnTo>
                <a:lnTo>
                  <a:pt x="456" y="708"/>
                </a:lnTo>
                <a:lnTo>
                  <a:pt x="462" y="702"/>
                </a:lnTo>
                <a:lnTo>
                  <a:pt x="462" y="690"/>
                </a:lnTo>
                <a:lnTo>
                  <a:pt x="462" y="684"/>
                </a:lnTo>
                <a:lnTo>
                  <a:pt x="468" y="672"/>
                </a:lnTo>
                <a:lnTo>
                  <a:pt x="468" y="660"/>
                </a:lnTo>
                <a:lnTo>
                  <a:pt x="468" y="654"/>
                </a:lnTo>
                <a:lnTo>
                  <a:pt x="468" y="642"/>
                </a:lnTo>
                <a:lnTo>
                  <a:pt x="474" y="636"/>
                </a:lnTo>
                <a:lnTo>
                  <a:pt x="474" y="624"/>
                </a:lnTo>
                <a:lnTo>
                  <a:pt x="474" y="612"/>
                </a:lnTo>
                <a:lnTo>
                  <a:pt x="480" y="606"/>
                </a:lnTo>
                <a:lnTo>
                  <a:pt x="480" y="594"/>
                </a:lnTo>
                <a:lnTo>
                  <a:pt x="480" y="588"/>
                </a:lnTo>
                <a:lnTo>
                  <a:pt x="480" y="576"/>
                </a:lnTo>
                <a:lnTo>
                  <a:pt x="486" y="564"/>
                </a:lnTo>
                <a:lnTo>
                  <a:pt x="486" y="558"/>
                </a:lnTo>
                <a:lnTo>
                  <a:pt x="486" y="546"/>
                </a:lnTo>
                <a:lnTo>
                  <a:pt x="492" y="534"/>
                </a:lnTo>
                <a:lnTo>
                  <a:pt x="492" y="528"/>
                </a:lnTo>
                <a:lnTo>
                  <a:pt x="492" y="516"/>
                </a:lnTo>
                <a:lnTo>
                  <a:pt x="492" y="504"/>
                </a:lnTo>
                <a:lnTo>
                  <a:pt x="498" y="498"/>
                </a:lnTo>
                <a:lnTo>
                  <a:pt x="498" y="486"/>
                </a:lnTo>
                <a:lnTo>
                  <a:pt x="498" y="474"/>
                </a:lnTo>
                <a:lnTo>
                  <a:pt x="504" y="468"/>
                </a:lnTo>
                <a:lnTo>
                  <a:pt x="504" y="456"/>
                </a:lnTo>
                <a:lnTo>
                  <a:pt x="504" y="444"/>
                </a:lnTo>
                <a:lnTo>
                  <a:pt x="504" y="438"/>
                </a:lnTo>
                <a:lnTo>
                  <a:pt x="510" y="426"/>
                </a:lnTo>
                <a:lnTo>
                  <a:pt x="510" y="414"/>
                </a:lnTo>
                <a:lnTo>
                  <a:pt x="510" y="408"/>
                </a:lnTo>
                <a:lnTo>
                  <a:pt x="516" y="396"/>
                </a:lnTo>
                <a:lnTo>
                  <a:pt x="516" y="384"/>
                </a:lnTo>
                <a:lnTo>
                  <a:pt x="516" y="378"/>
                </a:lnTo>
                <a:lnTo>
                  <a:pt x="516" y="366"/>
                </a:lnTo>
                <a:lnTo>
                  <a:pt x="522" y="354"/>
                </a:lnTo>
                <a:lnTo>
                  <a:pt x="522" y="342"/>
                </a:lnTo>
                <a:lnTo>
                  <a:pt x="522" y="336"/>
                </a:lnTo>
                <a:lnTo>
                  <a:pt x="528" y="324"/>
                </a:lnTo>
                <a:lnTo>
                  <a:pt x="528" y="312"/>
                </a:lnTo>
                <a:lnTo>
                  <a:pt x="528" y="306"/>
                </a:lnTo>
                <a:lnTo>
                  <a:pt x="528" y="294"/>
                </a:lnTo>
                <a:lnTo>
                  <a:pt x="534" y="282"/>
                </a:lnTo>
                <a:lnTo>
                  <a:pt x="534" y="270"/>
                </a:lnTo>
                <a:lnTo>
                  <a:pt x="534" y="264"/>
                </a:lnTo>
                <a:lnTo>
                  <a:pt x="534" y="252"/>
                </a:lnTo>
                <a:lnTo>
                  <a:pt x="540" y="240"/>
                </a:lnTo>
                <a:lnTo>
                  <a:pt x="540" y="228"/>
                </a:lnTo>
                <a:lnTo>
                  <a:pt x="540" y="222"/>
                </a:lnTo>
                <a:lnTo>
                  <a:pt x="546" y="210"/>
                </a:lnTo>
                <a:lnTo>
                  <a:pt x="546" y="198"/>
                </a:lnTo>
                <a:lnTo>
                  <a:pt x="546" y="186"/>
                </a:lnTo>
                <a:lnTo>
                  <a:pt x="546" y="174"/>
                </a:lnTo>
                <a:lnTo>
                  <a:pt x="552" y="168"/>
                </a:lnTo>
                <a:lnTo>
                  <a:pt x="552" y="156"/>
                </a:lnTo>
                <a:lnTo>
                  <a:pt x="552" y="144"/>
                </a:lnTo>
                <a:lnTo>
                  <a:pt x="558" y="132"/>
                </a:lnTo>
                <a:lnTo>
                  <a:pt x="558" y="120"/>
                </a:lnTo>
                <a:lnTo>
                  <a:pt x="558" y="114"/>
                </a:lnTo>
                <a:lnTo>
                  <a:pt x="558" y="102"/>
                </a:lnTo>
                <a:lnTo>
                  <a:pt x="564" y="90"/>
                </a:lnTo>
                <a:lnTo>
                  <a:pt x="564" y="78"/>
                </a:lnTo>
                <a:lnTo>
                  <a:pt x="564" y="66"/>
                </a:lnTo>
                <a:lnTo>
                  <a:pt x="570" y="54"/>
                </a:lnTo>
                <a:lnTo>
                  <a:pt x="570" y="48"/>
                </a:lnTo>
                <a:lnTo>
                  <a:pt x="570" y="36"/>
                </a:lnTo>
                <a:lnTo>
                  <a:pt x="570" y="24"/>
                </a:lnTo>
                <a:lnTo>
                  <a:pt x="576" y="12"/>
                </a:lnTo>
                <a:lnTo>
                  <a:pt x="576" y="0"/>
                </a:lnTo>
              </a:path>
            </a:pathLst>
          </a:custGeom>
          <a:noFill/>
          <a:ln w="38160">
            <a:solidFill>
              <a:srgbClr val="ff505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4486320" y="4656240"/>
            <a:ext cx="144360" cy="118800"/>
          </a:xfrm>
          <a:prstGeom prst="ellipse">
            <a:avLst/>
          </a:prstGeom>
          <a:solidFill>
            <a:srgbClr val="ff0000"/>
          </a:solidFill>
          <a:ln w="0">
            <a:solidFill>
              <a:srgbClr val="000000"/>
            </a:solidFill>
          </a:ln>
        </p:spPr>
        <p:style>
          <a:lnRef idx="0"/>
          <a:fillRef idx="0"/>
          <a:effectRef idx="0"/>
          <a:fontRef idx="minor"/>
        </p:style>
        <p:txBody>
          <a:bodyPr lIns="90000" rIns="90000" tIns="37440" bIns="374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148080" y="4730760"/>
            <a:ext cx="354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80"/>
                </a:solidFill>
                <a:latin typeface="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168800" y="43671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862520" y="4367160"/>
            <a:ext cx="76320" cy="763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221440" y="3287880"/>
            <a:ext cx="7596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794040" y="3287880"/>
            <a:ext cx="76320" cy="75960"/>
          </a:xfrm>
          <a:prstGeom prst="ellipse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840" bIns="684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580000" y="1487520"/>
            <a:ext cx="76320" cy="76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433680" y="1487520"/>
            <a:ext cx="76320" cy="76320"/>
          </a:xfrm>
          <a:prstGeom prst="ellipse">
            <a:avLst/>
          </a:prstGeom>
          <a:solidFill>
            <a:srgbClr val="9933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7200" bIns="72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81640" y="785880"/>
            <a:ext cx="121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6573960" y="768240"/>
            <a:ext cx="1871640" cy="1079640"/>
          </a:xfrm>
          <a:prstGeom prst="wedgeEllipseCallout">
            <a:avLst>
              <a:gd name="adj1" fmla="val -102842"/>
              <a:gd name="adj2" fmla="val 68824"/>
            </a:avLst>
          </a:prstGeom>
          <a:solidFill>
            <a:srgbClr val="ffff66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轴对称图形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468360" y="549360"/>
            <a:ext cx="2303280" cy="1079280"/>
          </a:xfrm>
          <a:prstGeom prst="wedgeEllipseCallout">
            <a:avLst>
              <a:gd name="adj1" fmla="val 81564"/>
              <a:gd name="adj2" fmla="val 86027"/>
            </a:avLst>
          </a:prstGeom>
          <a:solidFill>
            <a:srgbClr val="00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这是一条抛物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5796000" y="5229360"/>
            <a:ext cx="2448000" cy="1224000"/>
          </a:xfrm>
          <a:prstGeom prst="wedgeEllipseCallout">
            <a:avLst>
              <a:gd name="adj1" fmla="val -98055"/>
              <a:gd name="adj2" fmla="val -84759"/>
            </a:avLst>
          </a:prstGeom>
          <a:solidFill>
            <a:srgbClr val="ff99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这是抛物线的顶点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84360" y="2924280"/>
            <a:ext cx="1871640" cy="1152360"/>
          </a:xfrm>
          <a:prstGeom prst="wedgeEllipseCallout">
            <a:avLst>
              <a:gd name="adj1" fmla="val 154157"/>
              <a:gd name="adj2" fmla="val -56199"/>
            </a:avLst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对称轴是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y</a:t>
            </a:r>
            <a:r>
              <a:rPr b="1" lang="zh-CN" sz="2800" spc="-1" strike="noStrike">
                <a:solidFill>
                  <a:srgbClr val="333399"/>
                </a:solidFill>
                <a:latin typeface="Times New Roman"/>
              </a:rPr>
              <a:t>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6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1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6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1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609480" y="380880"/>
            <a:ext cx="830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2</a:t>
            </a:r>
            <a:r>
              <a:rPr b="0" lang="zh-CN" sz="3600" spc="-1" strike="noStrike">
                <a:solidFill>
                  <a:srgbClr val="ff5050"/>
                </a:solidFill>
                <a:latin typeface="Times New Roman"/>
              </a:rPr>
              <a:t>：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请同学们画出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y=-x</a:t>
            </a:r>
            <a:r>
              <a:rPr b="1" lang="zh-CN" sz="3200" spc="-1" strike="noStrike" baseline="30000">
                <a:solidFill>
                  <a:srgbClr val="000000"/>
                </a:solidFill>
                <a:latin typeface="Times New Roman"/>
                <a:ea typeface="隶书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 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隶书"/>
              </a:rPr>
              <a:t>的图象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1676520" y="2514600"/>
            <a:ext cx="4800600" cy="330660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17" name=""/>
          <p:cNvGraphicFramePr/>
          <p:nvPr/>
        </p:nvGraphicFramePr>
        <p:xfrm>
          <a:off x="755640" y="1341360"/>
          <a:ext cx="7620120" cy="1035000"/>
        </p:xfrm>
        <a:graphic>
          <a:graphicData uri="http://schemas.openxmlformats.org/drawingml/2006/table">
            <a:tbl>
              <a:tblPr/>
              <a:tblGrid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  <a:gridCol w="762120"/>
                <a:gridCol w="761760"/>
                <a:gridCol w="762120"/>
              </a:tblGrid>
              <a:tr h="947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x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        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…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179280" y="1484280"/>
            <a:ext cx="7993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探究２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它们整体上给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一种什么感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468360" y="2708280"/>
            <a:ext cx="80643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答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这两个图象都是以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为对称轴的轴对称图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两个图象关于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x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对称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324000" y="3860640"/>
            <a:ext cx="799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定义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函数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是一条关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轴对称的曲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这条曲线叫做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抛物线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50920" y="4653000"/>
            <a:ext cx="799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对称轴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对称轴与抛物线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交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是抛物线的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顶点</a:t>
            </a:r>
            <a:r>
              <a:rPr b="1" lang="zh-CN" sz="36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6657840" y="404640"/>
            <a:ext cx="2486160" cy="2624040"/>
            <a:chOff x="6657840" y="404640"/>
            <a:chExt cx="2486160" cy="2624040"/>
          </a:xfrm>
        </p:grpSpPr>
        <p:grpSp>
          <p:nvGrpSpPr>
            <p:cNvPr id="123" name=""/>
            <p:cNvGrpSpPr/>
            <p:nvPr/>
          </p:nvGrpSpPr>
          <p:grpSpPr>
            <a:xfrm>
              <a:off x="6657840" y="404640"/>
              <a:ext cx="2485800" cy="2624040"/>
              <a:chOff x="6657840" y="404640"/>
              <a:chExt cx="2485800" cy="2624040"/>
            </a:xfrm>
          </p:grpSpPr>
          <p:grpSp>
            <p:nvGrpSpPr>
              <p:cNvPr id="124" name=""/>
              <p:cNvGrpSpPr/>
              <p:nvPr/>
            </p:nvGrpSpPr>
            <p:grpSpPr>
              <a:xfrm>
                <a:off x="6873840" y="404640"/>
                <a:ext cx="2269800" cy="2624040"/>
                <a:chOff x="6873840" y="404640"/>
                <a:chExt cx="2269800" cy="2624040"/>
              </a:xfrm>
            </p:grpSpPr>
            <p:sp>
              <p:nvSpPr>
                <p:cNvPr id="125" name=""/>
                <p:cNvSpPr/>
                <p:nvPr/>
              </p:nvSpPr>
              <p:spPr>
                <a:xfrm flipH="1">
                  <a:off x="7816680" y="480960"/>
                  <a:ext cx="61920" cy="2507760"/>
                </a:xfrm>
                <a:prstGeom prst="line">
                  <a:avLst/>
                </a:prstGeom>
                <a:ln w="28440">
                  <a:solidFill>
                    <a:srgbClr val="000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7854840" y="59040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7799400" y="56808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8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7854840" y="73152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7854840" y="87624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7799400" y="85212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6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7854840" y="102060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7854840" y="116496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799400" y="114120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4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7854840" y="130932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7922880" y="1471320"/>
                  <a:ext cx="6048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7799400" y="142704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2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7854840" y="159372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7854840" y="173808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7854840" y="188244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7854840" y="202716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7780680" y="200304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2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7854840" y="216684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7854840" y="231120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7780680" y="228888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4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7854840" y="245556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7854840" y="259992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788600" y="256500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6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7854840" y="274464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7854840" y="288576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7788600" y="285408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8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873840" y="172224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127640" y="172224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75320" y="172224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7680" y="172224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881840" y="172224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135640" y="172224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388000" y="172224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635680" y="172224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"/>
                <p:cNvSpPr/>
                <p:nvPr/>
              </p:nvSpPr>
              <p:spPr>
                <a:xfrm>
                  <a:off x="8888040" y="172224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>
                  <a:off x="9142200" y="172224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9120240" y="176508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5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"/>
                <p:cNvSpPr/>
                <p:nvPr/>
              </p:nvSpPr>
              <p:spPr>
                <a:xfrm>
                  <a:off x="7300800" y="1744560"/>
                  <a:ext cx="1066680" cy="1284120"/>
                </a:xfrm>
                <a:custGeom>
                  <a:avLst/>
                  <a:gdLst/>
                  <a:ahLst/>
                  <a:rect l="l" t="t" r="r" b="b"/>
                  <a:pathLst>
                    <a:path w="672" h="809">
                      <a:moveTo>
                        <a:pt x="0" y="804"/>
                      </a:moveTo>
                      <a:lnTo>
                        <a:pt x="4" y="797"/>
                      </a:lnTo>
                      <a:lnTo>
                        <a:pt x="4" y="790"/>
                      </a:lnTo>
                      <a:lnTo>
                        <a:pt x="4" y="782"/>
                      </a:lnTo>
                      <a:lnTo>
                        <a:pt x="8" y="773"/>
                      </a:lnTo>
                      <a:lnTo>
                        <a:pt x="8" y="766"/>
                      </a:lnTo>
                      <a:lnTo>
                        <a:pt x="12" y="759"/>
                      </a:lnTo>
                      <a:lnTo>
                        <a:pt x="12" y="751"/>
                      </a:lnTo>
                      <a:lnTo>
                        <a:pt x="12" y="744"/>
                      </a:lnTo>
                      <a:lnTo>
                        <a:pt x="17" y="737"/>
                      </a:lnTo>
                      <a:lnTo>
                        <a:pt x="17" y="727"/>
                      </a:lnTo>
                      <a:lnTo>
                        <a:pt x="21" y="720"/>
                      </a:lnTo>
                      <a:lnTo>
                        <a:pt x="21" y="713"/>
                      </a:lnTo>
                      <a:lnTo>
                        <a:pt x="21" y="706"/>
                      </a:lnTo>
                      <a:lnTo>
                        <a:pt x="25" y="699"/>
                      </a:lnTo>
                      <a:lnTo>
                        <a:pt x="25" y="692"/>
                      </a:lnTo>
                      <a:lnTo>
                        <a:pt x="25" y="684"/>
                      </a:lnTo>
                      <a:lnTo>
                        <a:pt x="29" y="677"/>
                      </a:lnTo>
                      <a:lnTo>
                        <a:pt x="29" y="670"/>
                      </a:lnTo>
                      <a:lnTo>
                        <a:pt x="33" y="663"/>
                      </a:lnTo>
                      <a:lnTo>
                        <a:pt x="33" y="656"/>
                      </a:lnTo>
                      <a:lnTo>
                        <a:pt x="33" y="648"/>
                      </a:lnTo>
                      <a:lnTo>
                        <a:pt x="38" y="641"/>
                      </a:lnTo>
                      <a:lnTo>
                        <a:pt x="38" y="634"/>
                      </a:lnTo>
                      <a:lnTo>
                        <a:pt x="42" y="627"/>
                      </a:lnTo>
                      <a:lnTo>
                        <a:pt x="42" y="620"/>
                      </a:lnTo>
                      <a:lnTo>
                        <a:pt x="42" y="615"/>
                      </a:lnTo>
                      <a:lnTo>
                        <a:pt x="46" y="608"/>
                      </a:lnTo>
                      <a:lnTo>
                        <a:pt x="46" y="601"/>
                      </a:lnTo>
                      <a:lnTo>
                        <a:pt x="50" y="593"/>
                      </a:lnTo>
                      <a:lnTo>
                        <a:pt x="50" y="586"/>
                      </a:lnTo>
                      <a:lnTo>
                        <a:pt x="50" y="579"/>
                      </a:lnTo>
                      <a:lnTo>
                        <a:pt x="54" y="574"/>
                      </a:lnTo>
                      <a:lnTo>
                        <a:pt x="54" y="567"/>
                      </a:lnTo>
                      <a:lnTo>
                        <a:pt x="54" y="560"/>
                      </a:lnTo>
                      <a:lnTo>
                        <a:pt x="59" y="553"/>
                      </a:lnTo>
                      <a:lnTo>
                        <a:pt x="59" y="548"/>
                      </a:lnTo>
                      <a:lnTo>
                        <a:pt x="63" y="541"/>
                      </a:lnTo>
                      <a:lnTo>
                        <a:pt x="63" y="534"/>
                      </a:lnTo>
                      <a:lnTo>
                        <a:pt x="63" y="529"/>
                      </a:lnTo>
                      <a:lnTo>
                        <a:pt x="67" y="522"/>
                      </a:lnTo>
                      <a:lnTo>
                        <a:pt x="67" y="514"/>
                      </a:lnTo>
                      <a:lnTo>
                        <a:pt x="71" y="510"/>
                      </a:lnTo>
                      <a:lnTo>
                        <a:pt x="71" y="502"/>
                      </a:lnTo>
                      <a:lnTo>
                        <a:pt x="71" y="498"/>
                      </a:lnTo>
                      <a:lnTo>
                        <a:pt x="75" y="491"/>
                      </a:lnTo>
                      <a:lnTo>
                        <a:pt x="75" y="486"/>
                      </a:lnTo>
                      <a:lnTo>
                        <a:pt x="80" y="479"/>
                      </a:lnTo>
                      <a:lnTo>
                        <a:pt x="80" y="471"/>
                      </a:lnTo>
                      <a:lnTo>
                        <a:pt x="80" y="467"/>
                      </a:lnTo>
                      <a:lnTo>
                        <a:pt x="84" y="459"/>
                      </a:lnTo>
                      <a:lnTo>
                        <a:pt x="84" y="455"/>
                      </a:lnTo>
                      <a:lnTo>
                        <a:pt x="84" y="450"/>
                      </a:lnTo>
                      <a:lnTo>
                        <a:pt x="88" y="443"/>
                      </a:lnTo>
                      <a:lnTo>
                        <a:pt x="88" y="438"/>
                      </a:lnTo>
                      <a:lnTo>
                        <a:pt x="92" y="431"/>
                      </a:lnTo>
                      <a:lnTo>
                        <a:pt x="92" y="426"/>
                      </a:lnTo>
                      <a:lnTo>
                        <a:pt x="92" y="419"/>
                      </a:lnTo>
                      <a:lnTo>
                        <a:pt x="96" y="414"/>
                      </a:lnTo>
                      <a:lnTo>
                        <a:pt x="96" y="409"/>
                      </a:lnTo>
                      <a:lnTo>
                        <a:pt x="101" y="402"/>
                      </a:lnTo>
                      <a:lnTo>
                        <a:pt x="101" y="397"/>
                      </a:lnTo>
                      <a:lnTo>
                        <a:pt x="101" y="392"/>
                      </a:lnTo>
                      <a:lnTo>
                        <a:pt x="105" y="388"/>
                      </a:lnTo>
                      <a:lnTo>
                        <a:pt x="105" y="380"/>
                      </a:lnTo>
                      <a:lnTo>
                        <a:pt x="109" y="376"/>
                      </a:lnTo>
                      <a:lnTo>
                        <a:pt x="109" y="371"/>
                      </a:lnTo>
                      <a:lnTo>
                        <a:pt x="109" y="366"/>
                      </a:lnTo>
                      <a:lnTo>
                        <a:pt x="113" y="359"/>
                      </a:lnTo>
                      <a:lnTo>
                        <a:pt x="113" y="354"/>
                      </a:lnTo>
                      <a:lnTo>
                        <a:pt x="113" y="349"/>
                      </a:lnTo>
                      <a:lnTo>
                        <a:pt x="117" y="345"/>
                      </a:lnTo>
                      <a:lnTo>
                        <a:pt x="117" y="340"/>
                      </a:lnTo>
                      <a:lnTo>
                        <a:pt x="122" y="335"/>
                      </a:lnTo>
                      <a:lnTo>
                        <a:pt x="122" y="330"/>
                      </a:lnTo>
                      <a:lnTo>
                        <a:pt x="122" y="323"/>
                      </a:lnTo>
                      <a:lnTo>
                        <a:pt x="126" y="318"/>
                      </a:lnTo>
                      <a:lnTo>
                        <a:pt x="126" y="313"/>
                      </a:lnTo>
                      <a:lnTo>
                        <a:pt x="130" y="309"/>
                      </a:lnTo>
                      <a:lnTo>
                        <a:pt x="130" y="304"/>
                      </a:lnTo>
                      <a:lnTo>
                        <a:pt x="130" y="299"/>
                      </a:lnTo>
                      <a:lnTo>
                        <a:pt x="134" y="294"/>
                      </a:lnTo>
                      <a:lnTo>
                        <a:pt x="134" y="290"/>
                      </a:lnTo>
                      <a:lnTo>
                        <a:pt x="138" y="285"/>
                      </a:lnTo>
                      <a:lnTo>
                        <a:pt x="138" y="280"/>
                      </a:lnTo>
                      <a:lnTo>
                        <a:pt x="138" y="275"/>
                      </a:lnTo>
                      <a:lnTo>
                        <a:pt x="143" y="273"/>
                      </a:lnTo>
                      <a:lnTo>
                        <a:pt x="143" y="268"/>
                      </a:lnTo>
                      <a:lnTo>
                        <a:pt x="143" y="263"/>
                      </a:lnTo>
                      <a:lnTo>
                        <a:pt x="147" y="258"/>
                      </a:lnTo>
                      <a:lnTo>
                        <a:pt x="147" y="254"/>
                      </a:lnTo>
                      <a:lnTo>
                        <a:pt x="151" y="249"/>
                      </a:lnTo>
                      <a:lnTo>
                        <a:pt x="151" y="244"/>
                      </a:lnTo>
                      <a:lnTo>
                        <a:pt x="151" y="242"/>
                      </a:lnTo>
                      <a:lnTo>
                        <a:pt x="155" y="237"/>
                      </a:lnTo>
                      <a:lnTo>
                        <a:pt x="155" y="232"/>
                      </a:lnTo>
                      <a:lnTo>
                        <a:pt x="159" y="227"/>
                      </a:lnTo>
                      <a:lnTo>
                        <a:pt x="159" y="225"/>
                      </a:lnTo>
                      <a:lnTo>
                        <a:pt x="159" y="220"/>
                      </a:lnTo>
                      <a:lnTo>
                        <a:pt x="164" y="215"/>
                      </a:lnTo>
                      <a:lnTo>
                        <a:pt x="164" y="211"/>
                      </a:lnTo>
                      <a:lnTo>
                        <a:pt x="168" y="208"/>
                      </a:lnTo>
                      <a:lnTo>
                        <a:pt x="168" y="203"/>
                      </a:lnTo>
                      <a:lnTo>
                        <a:pt x="168" y="199"/>
                      </a:lnTo>
                      <a:lnTo>
                        <a:pt x="172" y="196"/>
                      </a:lnTo>
                      <a:lnTo>
                        <a:pt x="172" y="191"/>
                      </a:lnTo>
                      <a:lnTo>
                        <a:pt x="172" y="189"/>
                      </a:lnTo>
                      <a:lnTo>
                        <a:pt x="176" y="184"/>
                      </a:lnTo>
                      <a:lnTo>
                        <a:pt x="176" y="182"/>
                      </a:lnTo>
                      <a:lnTo>
                        <a:pt x="180" y="177"/>
                      </a:lnTo>
                      <a:lnTo>
                        <a:pt x="180" y="172"/>
                      </a:lnTo>
                      <a:lnTo>
                        <a:pt x="180" y="170"/>
                      </a:lnTo>
                      <a:lnTo>
                        <a:pt x="185" y="165"/>
                      </a:lnTo>
                      <a:lnTo>
                        <a:pt x="185" y="163"/>
                      </a:lnTo>
                      <a:lnTo>
                        <a:pt x="189" y="158"/>
                      </a:lnTo>
                      <a:lnTo>
                        <a:pt x="189" y="156"/>
                      </a:lnTo>
                      <a:lnTo>
                        <a:pt x="189" y="153"/>
                      </a:lnTo>
                      <a:lnTo>
                        <a:pt x="193" y="148"/>
                      </a:lnTo>
                      <a:lnTo>
                        <a:pt x="193" y="146"/>
                      </a:lnTo>
                      <a:lnTo>
                        <a:pt x="197" y="141"/>
                      </a:lnTo>
                      <a:lnTo>
                        <a:pt x="197" y="139"/>
                      </a:lnTo>
                      <a:lnTo>
                        <a:pt x="197" y="136"/>
                      </a:lnTo>
                      <a:lnTo>
                        <a:pt x="201" y="132"/>
                      </a:lnTo>
                      <a:lnTo>
                        <a:pt x="201" y="129"/>
                      </a:lnTo>
                      <a:lnTo>
                        <a:pt x="201" y="127"/>
                      </a:lnTo>
                      <a:lnTo>
                        <a:pt x="206" y="122"/>
                      </a:lnTo>
                      <a:lnTo>
                        <a:pt x="206" y="120"/>
                      </a:lnTo>
                      <a:lnTo>
                        <a:pt x="210" y="117"/>
                      </a:lnTo>
                      <a:lnTo>
                        <a:pt x="210" y="115"/>
                      </a:lnTo>
                      <a:lnTo>
                        <a:pt x="210" y="110"/>
                      </a:lnTo>
                      <a:lnTo>
                        <a:pt x="214" y="108"/>
                      </a:lnTo>
                      <a:lnTo>
                        <a:pt x="214" y="105"/>
                      </a:lnTo>
                      <a:lnTo>
                        <a:pt x="218" y="103"/>
                      </a:lnTo>
                      <a:lnTo>
                        <a:pt x="218" y="100"/>
                      </a:lnTo>
                      <a:lnTo>
                        <a:pt x="218" y="98"/>
                      </a:lnTo>
                      <a:lnTo>
                        <a:pt x="222" y="93"/>
                      </a:lnTo>
                      <a:lnTo>
                        <a:pt x="222" y="91"/>
                      </a:lnTo>
                      <a:lnTo>
                        <a:pt x="222" y="89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31" y="81"/>
                      </a:lnTo>
                      <a:lnTo>
                        <a:pt x="231" y="79"/>
                      </a:lnTo>
                      <a:lnTo>
                        <a:pt x="231" y="77"/>
                      </a:lnTo>
                      <a:lnTo>
                        <a:pt x="235" y="74"/>
                      </a:lnTo>
                      <a:lnTo>
                        <a:pt x="235" y="72"/>
                      </a:lnTo>
                      <a:lnTo>
                        <a:pt x="239" y="69"/>
                      </a:lnTo>
                      <a:lnTo>
                        <a:pt x="239" y="67"/>
                      </a:lnTo>
                      <a:lnTo>
                        <a:pt x="239" y="65"/>
                      </a:lnTo>
                      <a:lnTo>
                        <a:pt x="243" y="62"/>
                      </a:lnTo>
                      <a:lnTo>
                        <a:pt x="243" y="60"/>
                      </a:lnTo>
                      <a:lnTo>
                        <a:pt x="248" y="57"/>
                      </a:lnTo>
                      <a:lnTo>
                        <a:pt x="248" y="55"/>
                      </a:lnTo>
                      <a:lnTo>
                        <a:pt x="252" y="53"/>
                      </a:lnTo>
                      <a:lnTo>
                        <a:pt x="252" y="50"/>
                      </a:lnTo>
                      <a:lnTo>
                        <a:pt x="252" y="48"/>
                      </a:lnTo>
                      <a:lnTo>
                        <a:pt x="256" y="45"/>
                      </a:lnTo>
                      <a:lnTo>
                        <a:pt x="260" y="43"/>
                      </a:lnTo>
                      <a:lnTo>
                        <a:pt x="260" y="41"/>
                      </a:lnTo>
                      <a:lnTo>
                        <a:pt x="260" y="38"/>
                      </a:lnTo>
                      <a:lnTo>
                        <a:pt x="264" y="38"/>
                      </a:lnTo>
                      <a:lnTo>
                        <a:pt x="264" y="36"/>
                      </a:lnTo>
                      <a:lnTo>
                        <a:pt x="269" y="33"/>
                      </a:lnTo>
                      <a:lnTo>
                        <a:pt x="269" y="31"/>
                      </a:lnTo>
                      <a:lnTo>
                        <a:pt x="273" y="29"/>
                      </a:lnTo>
                      <a:lnTo>
                        <a:pt x="277" y="26"/>
                      </a:lnTo>
                      <a:lnTo>
                        <a:pt x="277" y="24"/>
                      </a:lnTo>
                      <a:lnTo>
                        <a:pt x="281" y="22"/>
                      </a:lnTo>
                      <a:lnTo>
                        <a:pt x="281" y="19"/>
                      </a:lnTo>
                      <a:lnTo>
                        <a:pt x="285" y="19"/>
                      </a:lnTo>
                      <a:lnTo>
                        <a:pt x="285" y="17"/>
                      </a:lnTo>
                      <a:lnTo>
                        <a:pt x="290" y="17"/>
                      </a:lnTo>
                      <a:lnTo>
                        <a:pt x="290" y="14"/>
                      </a:lnTo>
                      <a:lnTo>
                        <a:pt x="294" y="12"/>
                      </a:lnTo>
                      <a:lnTo>
                        <a:pt x="298" y="12"/>
                      </a:lnTo>
                      <a:lnTo>
                        <a:pt x="298" y="10"/>
                      </a:lnTo>
                      <a:lnTo>
                        <a:pt x="302" y="10"/>
                      </a:lnTo>
                      <a:lnTo>
                        <a:pt x="302" y="7"/>
                      </a:lnTo>
                      <a:lnTo>
                        <a:pt x="306" y="7"/>
                      </a:lnTo>
                      <a:lnTo>
                        <a:pt x="306" y="5"/>
                      </a:lnTo>
                      <a:lnTo>
                        <a:pt x="311" y="5"/>
                      </a:lnTo>
                      <a:lnTo>
                        <a:pt x="315" y="2"/>
                      </a:lnTo>
                      <a:lnTo>
                        <a:pt x="319" y="2"/>
                      </a:lnTo>
                      <a:lnTo>
                        <a:pt x="323" y="2"/>
                      </a:lnTo>
                      <a:lnTo>
                        <a:pt x="323" y="0"/>
                      </a:lnTo>
                      <a:lnTo>
                        <a:pt x="327" y="0"/>
                      </a:lnTo>
                      <a:lnTo>
                        <a:pt x="332" y="0"/>
                      </a:lnTo>
                      <a:lnTo>
                        <a:pt x="336" y="0"/>
                      </a:lnTo>
                      <a:lnTo>
                        <a:pt x="340" y="0"/>
                      </a:lnTo>
                      <a:lnTo>
                        <a:pt x="344" y="0"/>
                      </a:lnTo>
                      <a:lnTo>
                        <a:pt x="349" y="0"/>
                      </a:lnTo>
                      <a:lnTo>
                        <a:pt x="349" y="2"/>
                      </a:lnTo>
                      <a:lnTo>
                        <a:pt x="353" y="2"/>
                      </a:lnTo>
                      <a:lnTo>
                        <a:pt x="357" y="2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5" y="5"/>
                      </a:lnTo>
                      <a:lnTo>
                        <a:pt x="365" y="7"/>
                      </a:lnTo>
                      <a:lnTo>
                        <a:pt x="370" y="7"/>
                      </a:lnTo>
                      <a:lnTo>
                        <a:pt x="370" y="10"/>
                      </a:lnTo>
                      <a:lnTo>
                        <a:pt x="374" y="10"/>
                      </a:lnTo>
                      <a:lnTo>
                        <a:pt x="374" y="12"/>
                      </a:lnTo>
                      <a:lnTo>
                        <a:pt x="378" y="12"/>
                      </a:lnTo>
                      <a:lnTo>
                        <a:pt x="378" y="14"/>
                      </a:lnTo>
                      <a:lnTo>
                        <a:pt x="382" y="14"/>
                      </a:lnTo>
                      <a:lnTo>
                        <a:pt x="382" y="17"/>
                      </a:lnTo>
                      <a:lnTo>
                        <a:pt x="386" y="17"/>
                      </a:lnTo>
                      <a:lnTo>
                        <a:pt x="386" y="19"/>
                      </a:lnTo>
                      <a:lnTo>
                        <a:pt x="391" y="22"/>
                      </a:lnTo>
                      <a:lnTo>
                        <a:pt x="395" y="24"/>
                      </a:lnTo>
                      <a:lnTo>
                        <a:pt x="395" y="26"/>
                      </a:lnTo>
                      <a:lnTo>
                        <a:pt x="399" y="26"/>
                      </a:lnTo>
                      <a:lnTo>
                        <a:pt x="399" y="29"/>
                      </a:lnTo>
                      <a:lnTo>
                        <a:pt x="399" y="31"/>
                      </a:lnTo>
                      <a:lnTo>
                        <a:pt x="403" y="31"/>
                      </a:lnTo>
                      <a:lnTo>
                        <a:pt x="403" y="33"/>
                      </a:lnTo>
                      <a:lnTo>
                        <a:pt x="407" y="36"/>
                      </a:lnTo>
                      <a:lnTo>
                        <a:pt x="407" y="38"/>
                      </a:lnTo>
                      <a:lnTo>
                        <a:pt x="412" y="41"/>
                      </a:lnTo>
                      <a:lnTo>
                        <a:pt x="416" y="43"/>
                      </a:lnTo>
                      <a:lnTo>
                        <a:pt x="416" y="45"/>
                      </a:lnTo>
                      <a:lnTo>
                        <a:pt x="416" y="48"/>
                      </a:lnTo>
                      <a:lnTo>
                        <a:pt x="420" y="50"/>
                      </a:lnTo>
                      <a:lnTo>
                        <a:pt x="424" y="53"/>
                      </a:lnTo>
                      <a:lnTo>
                        <a:pt x="424" y="55"/>
                      </a:lnTo>
                      <a:lnTo>
                        <a:pt x="424" y="57"/>
                      </a:lnTo>
                      <a:lnTo>
                        <a:pt x="428" y="60"/>
                      </a:lnTo>
                      <a:lnTo>
                        <a:pt x="428" y="62"/>
                      </a:lnTo>
                      <a:lnTo>
                        <a:pt x="428" y="65"/>
                      </a:lnTo>
                      <a:lnTo>
                        <a:pt x="433" y="67"/>
                      </a:lnTo>
                      <a:lnTo>
                        <a:pt x="433" y="69"/>
                      </a:lnTo>
                      <a:lnTo>
                        <a:pt x="437" y="72"/>
                      </a:lnTo>
                      <a:lnTo>
                        <a:pt x="437" y="74"/>
                      </a:lnTo>
                      <a:lnTo>
                        <a:pt x="441" y="79"/>
                      </a:lnTo>
                      <a:lnTo>
                        <a:pt x="441" y="81"/>
                      </a:lnTo>
                      <a:lnTo>
                        <a:pt x="445" y="84"/>
                      </a:lnTo>
                      <a:lnTo>
                        <a:pt x="445" y="86"/>
                      </a:lnTo>
                      <a:lnTo>
                        <a:pt x="445" y="89"/>
                      </a:lnTo>
                      <a:lnTo>
                        <a:pt x="449" y="91"/>
                      </a:lnTo>
                      <a:lnTo>
                        <a:pt x="449" y="93"/>
                      </a:lnTo>
                      <a:lnTo>
                        <a:pt x="454" y="96"/>
                      </a:lnTo>
                      <a:lnTo>
                        <a:pt x="454" y="98"/>
                      </a:lnTo>
                      <a:lnTo>
                        <a:pt x="454" y="100"/>
                      </a:lnTo>
                      <a:lnTo>
                        <a:pt x="458" y="103"/>
                      </a:lnTo>
                      <a:lnTo>
                        <a:pt x="458" y="108"/>
                      </a:lnTo>
                      <a:lnTo>
                        <a:pt x="458" y="110"/>
                      </a:lnTo>
                      <a:lnTo>
                        <a:pt x="462" y="112"/>
                      </a:lnTo>
                      <a:lnTo>
                        <a:pt x="462" y="115"/>
                      </a:lnTo>
                      <a:lnTo>
                        <a:pt x="466" y="120"/>
                      </a:lnTo>
                      <a:lnTo>
                        <a:pt x="466" y="122"/>
                      </a:lnTo>
                      <a:lnTo>
                        <a:pt x="466" y="124"/>
                      </a:lnTo>
                      <a:lnTo>
                        <a:pt x="470" y="127"/>
                      </a:lnTo>
                      <a:lnTo>
                        <a:pt x="470" y="132"/>
                      </a:lnTo>
                      <a:lnTo>
                        <a:pt x="475" y="134"/>
                      </a:lnTo>
                      <a:lnTo>
                        <a:pt x="475" y="136"/>
                      </a:lnTo>
                      <a:lnTo>
                        <a:pt x="475" y="141"/>
                      </a:lnTo>
                      <a:lnTo>
                        <a:pt x="479" y="144"/>
                      </a:lnTo>
                      <a:lnTo>
                        <a:pt x="479" y="148"/>
                      </a:lnTo>
                      <a:lnTo>
                        <a:pt x="479" y="151"/>
                      </a:lnTo>
                      <a:lnTo>
                        <a:pt x="483" y="153"/>
                      </a:lnTo>
                      <a:lnTo>
                        <a:pt x="483" y="158"/>
                      </a:lnTo>
                      <a:lnTo>
                        <a:pt x="487" y="160"/>
                      </a:lnTo>
                      <a:lnTo>
                        <a:pt x="487" y="165"/>
                      </a:lnTo>
                      <a:lnTo>
                        <a:pt x="487" y="167"/>
                      </a:lnTo>
                      <a:lnTo>
                        <a:pt x="491" y="172"/>
                      </a:lnTo>
                      <a:lnTo>
                        <a:pt x="491" y="175"/>
                      </a:lnTo>
                      <a:lnTo>
                        <a:pt x="496" y="179"/>
                      </a:lnTo>
                      <a:lnTo>
                        <a:pt x="496" y="182"/>
                      </a:lnTo>
                      <a:lnTo>
                        <a:pt x="496" y="187"/>
                      </a:lnTo>
                      <a:lnTo>
                        <a:pt x="500" y="191"/>
                      </a:lnTo>
                      <a:lnTo>
                        <a:pt x="500" y="194"/>
                      </a:lnTo>
                      <a:lnTo>
                        <a:pt x="504" y="199"/>
                      </a:lnTo>
                      <a:lnTo>
                        <a:pt x="504" y="201"/>
                      </a:lnTo>
                      <a:lnTo>
                        <a:pt x="504" y="206"/>
                      </a:lnTo>
                      <a:lnTo>
                        <a:pt x="508" y="211"/>
                      </a:lnTo>
                      <a:lnTo>
                        <a:pt x="508" y="213"/>
                      </a:lnTo>
                      <a:lnTo>
                        <a:pt x="508" y="218"/>
                      </a:lnTo>
                      <a:lnTo>
                        <a:pt x="512" y="223"/>
                      </a:lnTo>
                      <a:lnTo>
                        <a:pt x="512" y="227"/>
                      </a:lnTo>
                      <a:lnTo>
                        <a:pt x="517" y="230"/>
                      </a:lnTo>
                      <a:lnTo>
                        <a:pt x="517" y="234"/>
                      </a:lnTo>
                      <a:lnTo>
                        <a:pt x="517" y="239"/>
                      </a:lnTo>
                      <a:lnTo>
                        <a:pt x="521" y="244"/>
                      </a:lnTo>
                      <a:lnTo>
                        <a:pt x="521" y="246"/>
                      </a:lnTo>
                      <a:lnTo>
                        <a:pt x="525" y="251"/>
                      </a:lnTo>
                      <a:lnTo>
                        <a:pt x="525" y="256"/>
                      </a:lnTo>
                      <a:lnTo>
                        <a:pt x="525" y="261"/>
                      </a:lnTo>
                      <a:lnTo>
                        <a:pt x="529" y="266"/>
                      </a:lnTo>
                      <a:lnTo>
                        <a:pt x="529" y="270"/>
                      </a:lnTo>
                      <a:lnTo>
                        <a:pt x="533" y="275"/>
                      </a:lnTo>
                      <a:lnTo>
                        <a:pt x="533" y="280"/>
                      </a:lnTo>
                      <a:lnTo>
                        <a:pt x="533" y="282"/>
                      </a:lnTo>
                      <a:lnTo>
                        <a:pt x="538" y="287"/>
                      </a:lnTo>
                      <a:lnTo>
                        <a:pt x="538" y="292"/>
                      </a:lnTo>
                      <a:lnTo>
                        <a:pt x="538" y="297"/>
                      </a:lnTo>
                      <a:lnTo>
                        <a:pt x="542" y="301"/>
                      </a:lnTo>
                      <a:lnTo>
                        <a:pt x="542" y="306"/>
                      </a:lnTo>
                      <a:lnTo>
                        <a:pt x="546" y="311"/>
                      </a:lnTo>
                      <a:lnTo>
                        <a:pt x="546" y="318"/>
                      </a:lnTo>
                      <a:lnTo>
                        <a:pt x="546" y="323"/>
                      </a:lnTo>
                      <a:lnTo>
                        <a:pt x="550" y="328"/>
                      </a:lnTo>
                      <a:lnTo>
                        <a:pt x="550" y="333"/>
                      </a:lnTo>
                      <a:lnTo>
                        <a:pt x="554" y="337"/>
                      </a:lnTo>
                      <a:lnTo>
                        <a:pt x="554" y="342"/>
                      </a:lnTo>
                      <a:lnTo>
                        <a:pt x="554" y="347"/>
                      </a:lnTo>
                      <a:lnTo>
                        <a:pt x="559" y="352"/>
                      </a:lnTo>
                      <a:lnTo>
                        <a:pt x="559" y="357"/>
                      </a:lnTo>
                      <a:lnTo>
                        <a:pt x="563" y="364"/>
                      </a:lnTo>
                      <a:lnTo>
                        <a:pt x="563" y="368"/>
                      </a:lnTo>
                      <a:lnTo>
                        <a:pt x="563" y="373"/>
                      </a:lnTo>
                      <a:lnTo>
                        <a:pt x="567" y="378"/>
                      </a:lnTo>
                      <a:lnTo>
                        <a:pt x="567" y="385"/>
                      </a:lnTo>
                      <a:lnTo>
                        <a:pt x="567" y="390"/>
                      </a:lnTo>
                      <a:lnTo>
                        <a:pt x="571" y="395"/>
                      </a:lnTo>
                      <a:lnTo>
                        <a:pt x="571" y="400"/>
                      </a:lnTo>
                      <a:lnTo>
                        <a:pt x="575" y="407"/>
                      </a:lnTo>
                      <a:lnTo>
                        <a:pt x="575" y="412"/>
                      </a:lnTo>
                      <a:lnTo>
                        <a:pt x="575" y="416"/>
                      </a:lnTo>
                      <a:lnTo>
                        <a:pt x="580" y="424"/>
                      </a:lnTo>
                      <a:lnTo>
                        <a:pt x="580" y="428"/>
                      </a:lnTo>
                      <a:lnTo>
                        <a:pt x="584" y="435"/>
                      </a:lnTo>
                      <a:lnTo>
                        <a:pt x="584" y="440"/>
                      </a:lnTo>
                      <a:lnTo>
                        <a:pt x="584" y="445"/>
                      </a:lnTo>
                      <a:lnTo>
                        <a:pt x="588" y="452"/>
                      </a:lnTo>
                      <a:lnTo>
                        <a:pt x="588" y="457"/>
                      </a:lnTo>
                      <a:lnTo>
                        <a:pt x="592" y="464"/>
                      </a:lnTo>
                      <a:lnTo>
                        <a:pt x="592" y="469"/>
                      </a:lnTo>
                      <a:lnTo>
                        <a:pt x="592" y="476"/>
                      </a:lnTo>
                      <a:lnTo>
                        <a:pt x="596" y="481"/>
                      </a:lnTo>
                      <a:lnTo>
                        <a:pt x="596" y="488"/>
                      </a:lnTo>
                      <a:lnTo>
                        <a:pt x="596" y="495"/>
                      </a:lnTo>
                      <a:lnTo>
                        <a:pt x="601" y="500"/>
                      </a:lnTo>
                      <a:lnTo>
                        <a:pt x="601" y="507"/>
                      </a:lnTo>
                      <a:lnTo>
                        <a:pt x="605" y="512"/>
                      </a:lnTo>
                      <a:lnTo>
                        <a:pt x="605" y="519"/>
                      </a:lnTo>
                      <a:lnTo>
                        <a:pt x="605" y="526"/>
                      </a:lnTo>
                      <a:lnTo>
                        <a:pt x="609" y="531"/>
                      </a:lnTo>
                      <a:lnTo>
                        <a:pt x="609" y="538"/>
                      </a:lnTo>
                      <a:lnTo>
                        <a:pt x="613" y="546"/>
                      </a:lnTo>
                      <a:lnTo>
                        <a:pt x="613" y="550"/>
                      </a:lnTo>
                      <a:lnTo>
                        <a:pt x="613" y="558"/>
                      </a:lnTo>
                      <a:lnTo>
                        <a:pt x="617" y="565"/>
                      </a:lnTo>
                      <a:lnTo>
                        <a:pt x="617" y="572"/>
                      </a:lnTo>
                      <a:lnTo>
                        <a:pt x="622" y="577"/>
                      </a:lnTo>
                      <a:lnTo>
                        <a:pt x="622" y="584"/>
                      </a:lnTo>
                      <a:lnTo>
                        <a:pt x="622" y="591"/>
                      </a:lnTo>
                      <a:lnTo>
                        <a:pt x="626" y="598"/>
                      </a:lnTo>
                      <a:lnTo>
                        <a:pt x="626" y="605"/>
                      </a:lnTo>
                      <a:lnTo>
                        <a:pt x="626" y="610"/>
                      </a:lnTo>
                      <a:lnTo>
                        <a:pt x="630" y="617"/>
                      </a:lnTo>
                      <a:lnTo>
                        <a:pt x="630" y="625"/>
                      </a:lnTo>
                      <a:lnTo>
                        <a:pt x="634" y="632"/>
                      </a:lnTo>
                      <a:lnTo>
                        <a:pt x="634" y="639"/>
                      </a:lnTo>
                      <a:lnTo>
                        <a:pt x="634" y="646"/>
                      </a:lnTo>
                      <a:lnTo>
                        <a:pt x="638" y="653"/>
                      </a:lnTo>
                      <a:lnTo>
                        <a:pt x="638" y="660"/>
                      </a:lnTo>
                      <a:lnTo>
                        <a:pt x="643" y="668"/>
                      </a:lnTo>
                      <a:lnTo>
                        <a:pt x="643" y="675"/>
                      </a:lnTo>
                      <a:lnTo>
                        <a:pt x="643" y="682"/>
                      </a:lnTo>
                      <a:lnTo>
                        <a:pt x="647" y="689"/>
                      </a:lnTo>
                      <a:lnTo>
                        <a:pt x="647" y="696"/>
                      </a:lnTo>
                      <a:lnTo>
                        <a:pt x="651" y="703"/>
                      </a:lnTo>
                      <a:lnTo>
                        <a:pt x="651" y="711"/>
                      </a:lnTo>
                      <a:lnTo>
                        <a:pt x="651" y="718"/>
                      </a:lnTo>
                      <a:lnTo>
                        <a:pt x="655" y="725"/>
                      </a:lnTo>
                      <a:lnTo>
                        <a:pt x="655" y="732"/>
                      </a:lnTo>
                      <a:lnTo>
                        <a:pt x="655" y="739"/>
                      </a:lnTo>
                      <a:lnTo>
                        <a:pt x="659" y="749"/>
                      </a:lnTo>
                      <a:lnTo>
                        <a:pt x="659" y="756"/>
                      </a:lnTo>
                      <a:lnTo>
                        <a:pt x="664" y="763"/>
                      </a:lnTo>
                      <a:lnTo>
                        <a:pt x="664" y="770"/>
                      </a:lnTo>
                      <a:lnTo>
                        <a:pt x="664" y="778"/>
                      </a:lnTo>
                      <a:lnTo>
                        <a:pt x="668" y="787"/>
                      </a:lnTo>
                      <a:lnTo>
                        <a:pt x="668" y="794"/>
                      </a:lnTo>
                      <a:lnTo>
                        <a:pt x="672" y="802"/>
                      </a:lnTo>
                      <a:lnTo>
                        <a:pt x="672" y="809"/>
                      </a:lnTo>
                    </a:path>
                  </a:pathLst>
                </a:custGeom>
                <a:noFill/>
                <a:ln w="3816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"/>
                <p:cNvSpPr/>
                <p:nvPr/>
              </p:nvSpPr>
              <p:spPr>
                <a:xfrm>
                  <a:off x="7867440" y="1730160"/>
                  <a:ext cx="34920" cy="19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8121600" y="1730160"/>
                  <a:ext cx="33120" cy="19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7999200" y="40464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"/>
                <p:cNvSpPr/>
                <p:nvPr/>
              </p:nvSpPr>
              <p:spPr>
                <a:xfrm>
                  <a:off x="7789680" y="170172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"/>
                <p:cNvSpPr/>
                <p:nvPr/>
              </p:nvSpPr>
              <p:spPr>
                <a:xfrm>
                  <a:off x="7400880" y="549000"/>
                  <a:ext cx="914400" cy="1143000"/>
                </a:xfrm>
                <a:custGeom>
                  <a:avLst/>
                  <a:gdLst/>
                  <a:ahLst/>
                  <a:rect l="l" t="t" r="r" b="b"/>
                  <a:pathLst>
                    <a:path w="960" h="1236">
                      <a:moveTo>
                        <a:pt x="0" y="8"/>
                      </a:moveTo>
                      <a:lnTo>
                        <a:pt x="6" y="19"/>
                      </a:lnTo>
                      <a:lnTo>
                        <a:pt x="6" y="30"/>
                      </a:lnTo>
                      <a:lnTo>
                        <a:pt x="6" y="41"/>
                      </a:lnTo>
                      <a:lnTo>
                        <a:pt x="12" y="55"/>
                      </a:lnTo>
                      <a:lnTo>
                        <a:pt x="12" y="66"/>
                      </a:lnTo>
                      <a:lnTo>
                        <a:pt x="18" y="77"/>
                      </a:lnTo>
                      <a:lnTo>
                        <a:pt x="18" y="88"/>
                      </a:lnTo>
                      <a:lnTo>
                        <a:pt x="18" y="99"/>
                      </a:lnTo>
                      <a:lnTo>
                        <a:pt x="24" y="110"/>
                      </a:lnTo>
                      <a:lnTo>
                        <a:pt x="24" y="125"/>
                      </a:lnTo>
                      <a:lnTo>
                        <a:pt x="30" y="136"/>
                      </a:lnTo>
                      <a:lnTo>
                        <a:pt x="30" y="147"/>
                      </a:lnTo>
                      <a:lnTo>
                        <a:pt x="30" y="158"/>
                      </a:lnTo>
                      <a:lnTo>
                        <a:pt x="36" y="169"/>
                      </a:lnTo>
                      <a:lnTo>
                        <a:pt x="36" y="180"/>
                      </a:lnTo>
                      <a:lnTo>
                        <a:pt x="36" y="191"/>
                      </a:lnTo>
                      <a:lnTo>
                        <a:pt x="42" y="201"/>
                      </a:lnTo>
                      <a:lnTo>
                        <a:pt x="42" y="212"/>
                      </a:lnTo>
                      <a:lnTo>
                        <a:pt x="48" y="223"/>
                      </a:lnTo>
                      <a:lnTo>
                        <a:pt x="48" y="234"/>
                      </a:lnTo>
                      <a:lnTo>
                        <a:pt x="48" y="245"/>
                      </a:lnTo>
                      <a:lnTo>
                        <a:pt x="54" y="256"/>
                      </a:lnTo>
                      <a:lnTo>
                        <a:pt x="54" y="267"/>
                      </a:lnTo>
                      <a:lnTo>
                        <a:pt x="60" y="278"/>
                      </a:lnTo>
                      <a:lnTo>
                        <a:pt x="60" y="289"/>
                      </a:lnTo>
                      <a:lnTo>
                        <a:pt x="60" y="297"/>
                      </a:lnTo>
                      <a:lnTo>
                        <a:pt x="66" y="307"/>
                      </a:lnTo>
                      <a:lnTo>
                        <a:pt x="66" y="318"/>
                      </a:lnTo>
                      <a:lnTo>
                        <a:pt x="72" y="329"/>
                      </a:lnTo>
                      <a:lnTo>
                        <a:pt x="72" y="340"/>
                      </a:lnTo>
                      <a:lnTo>
                        <a:pt x="72" y="351"/>
                      </a:lnTo>
                      <a:lnTo>
                        <a:pt x="78" y="359"/>
                      </a:lnTo>
                      <a:lnTo>
                        <a:pt x="78" y="370"/>
                      </a:lnTo>
                      <a:lnTo>
                        <a:pt x="78" y="381"/>
                      </a:lnTo>
                      <a:lnTo>
                        <a:pt x="84" y="392"/>
                      </a:lnTo>
                      <a:lnTo>
                        <a:pt x="84" y="399"/>
                      </a:lnTo>
                      <a:lnTo>
                        <a:pt x="90" y="410"/>
                      </a:lnTo>
                      <a:lnTo>
                        <a:pt x="90" y="421"/>
                      </a:lnTo>
                      <a:lnTo>
                        <a:pt x="90" y="428"/>
                      </a:lnTo>
                      <a:lnTo>
                        <a:pt x="96" y="439"/>
                      </a:lnTo>
                      <a:lnTo>
                        <a:pt x="96" y="450"/>
                      </a:lnTo>
                      <a:lnTo>
                        <a:pt x="102" y="457"/>
                      </a:lnTo>
                      <a:lnTo>
                        <a:pt x="102" y="468"/>
                      </a:lnTo>
                      <a:lnTo>
                        <a:pt x="102" y="476"/>
                      </a:lnTo>
                      <a:lnTo>
                        <a:pt x="108" y="487"/>
                      </a:lnTo>
                      <a:lnTo>
                        <a:pt x="108" y="494"/>
                      </a:lnTo>
                      <a:lnTo>
                        <a:pt x="114" y="505"/>
                      </a:lnTo>
                      <a:lnTo>
                        <a:pt x="114" y="516"/>
                      </a:lnTo>
                      <a:lnTo>
                        <a:pt x="114" y="523"/>
                      </a:lnTo>
                      <a:lnTo>
                        <a:pt x="120" y="534"/>
                      </a:lnTo>
                      <a:lnTo>
                        <a:pt x="120" y="541"/>
                      </a:lnTo>
                      <a:lnTo>
                        <a:pt x="120" y="549"/>
                      </a:lnTo>
                      <a:lnTo>
                        <a:pt x="126" y="560"/>
                      </a:lnTo>
                      <a:lnTo>
                        <a:pt x="126" y="567"/>
                      </a:lnTo>
                      <a:lnTo>
                        <a:pt x="132" y="578"/>
                      </a:lnTo>
                      <a:lnTo>
                        <a:pt x="132" y="585"/>
                      </a:lnTo>
                      <a:lnTo>
                        <a:pt x="132" y="596"/>
                      </a:lnTo>
                      <a:lnTo>
                        <a:pt x="138" y="604"/>
                      </a:lnTo>
                      <a:lnTo>
                        <a:pt x="138" y="611"/>
                      </a:lnTo>
                      <a:lnTo>
                        <a:pt x="144" y="622"/>
                      </a:lnTo>
                      <a:lnTo>
                        <a:pt x="144" y="629"/>
                      </a:lnTo>
                      <a:lnTo>
                        <a:pt x="144" y="636"/>
                      </a:lnTo>
                      <a:lnTo>
                        <a:pt x="150" y="644"/>
                      </a:lnTo>
                      <a:lnTo>
                        <a:pt x="150" y="655"/>
                      </a:lnTo>
                      <a:lnTo>
                        <a:pt x="156" y="662"/>
                      </a:lnTo>
                      <a:lnTo>
                        <a:pt x="156" y="669"/>
                      </a:lnTo>
                      <a:lnTo>
                        <a:pt x="156" y="677"/>
                      </a:lnTo>
                      <a:lnTo>
                        <a:pt x="162" y="688"/>
                      </a:lnTo>
                      <a:lnTo>
                        <a:pt x="162" y="695"/>
                      </a:lnTo>
                      <a:lnTo>
                        <a:pt x="162" y="702"/>
                      </a:lnTo>
                      <a:lnTo>
                        <a:pt x="168" y="710"/>
                      </a:lnTo>
                      <a:lnTo>
                        <a:pt x="168" y="717"/>
                      </a:lnTo>
                      <a:lnTo>
                        <a:pt x="174" y="724"/>
                      </a:lnTo>
                      <a:lnTo>
                        <a:pt x="174" y="732"/>
                      </a:lnTo>
                      <a:lnTo>
                        <a:pt x="174" y="742"/>
                      </a:lnTo>
                      <a:lnTo>
                        <a:pt x="180" y="750"/>
                      </a:lnTo>
                      <a:lnTo>
                        <a:pt x="180" y="757"/>
                      </a:lnTo>
                      <a:lnTo>
                        <a:pt x="186" y="764"/>
                      </a:lnTo>
                      <a:lnTo>
                        <a:pt x="186" y="772"/>
                      </a:lnTo>
                      <a:lnTo>
                        <a:pt x="186" y="779"/>
                      </a:lnTo>
                      <a:lnTo>
                        <a:pt x="192" y="786"/>
                      </a:lnTo>
                      <a:lnTo>
                        <a:pt x="192" y="794"/>
                      </a:lnTo>
                      <a:lnTo>
                        <a:pt x="198" y="801"/>
                      </a:lnTo>
                      <a:lnTo>
                        <a:pt x="198" y="808"/>
                      </a:lnTo>
                      <a:lnTo>
                        <a:pt x="198" y="816"/>
                      </a:lnTo>
                      <a:lnTo>
                        <a:pt x="204" y="819"/>
                      </a:lnTo>
                      <a:lnTo>
                        <a:pt x="204" y="827"/>
                      </a:lnTo>
                      <a:lnTo>
                        <a:pt x="204" y="834"/>
                      </a:lnTo>
                      <a:lnTo>
                        <a:pt x="210" y="841"/>
                      </a:lnTo>
                      <a:lnTo>
                        <a:pt x="210" y="849"/>
                      </a:lnTo>
                      <a:lnTo>
                        <a:pt x="216" y="856"/>
                      </a:lnTo>
                      <a:lnTo>
                        <a:pt x="216" y="863"/>
                      </a:lnTo>
                      <a:lnTo>
                        <a:pt x="216" y="867"/>
                      </a:lnTo>
                      <a:lnTo>
                        <a:pt x="222" y="874"/>
                      </a:lnTo>
                      <a:lnTo>
                        <a:pt x="222" y="881"/>
                      </a:lnTo>
                      <a:lnTo>
                        <a:pt x="228" y="889"/>
                      </a:lnTo>
                      <a:lnTo>
                        <a:pt x="228" y="892"/>
                      </a:lnTo>
                      <a:lnTo>
                        <a:pt x="228" y="900"/>
                      </a:lnTo>
                      <a:lnTo>
                        <a:pt x="234" y="907"/>
                      </a:lnTo>
                      <a:lnTo>
                        <a:pt x="234" y="914"/>
                      </a:lnTo>
                      <a:lnTo>
                        <a:pt x="240" y="918"/>
                      </a:lnTo>
                      <a:lnTo>
                        <a:pt x="240" y="925"/>
                      </a:lnTo>
                      <a:lnTo>
                        <a:pt x="240" y="933"/>
                      </a:lnTo>
                      <a:lnTo>
                        <a:pt x="246" y="936"/>
                      </a:lnTo>
                      <a:lnTo>
                        <a:pt x="246" y="944"/>
                      </a:lnTo>
                      <a:lnTo>
                        <a:pt x="246" y="947"/>
                      </a:lnTo>
                      <a:lnTo>
                        <a:pt x="252" y="955"/>
                      </a:lnTo>
                      <a:lnTo>
                        <a:pt x="252" y="958"/>
                      </a:lnTo>
                      <a:lnTo>
                        <a:pt x="258" y="965"/>
                      </a:lnTo>
                      <a:lnTo>
                        <a:pt x="258" y="973"/>
                      </a:lnTo>
                      <a:lnTo>
                        <a:pt x="258" y="976"/>
                      </a:lnTo>
                      <a:lnTo>
                        <a:pt x="264" y="984"/>
                      </a:lnTo>
                      <a:lnTo>
                        <a:pt x="264" y="987"/>
                      </a:lnTo>
                      <a:lnTo>
                        <a:pt x="270" y="995"/>
                      </a:lnTo>
                      <a:lnTo>
                        <a:pt x="270" y="998"/>
                      </a:lnTo>
                      <a:lnTo>
                        <a:pt x="270" y="1002"/>
                      </a:lnTo>
                      <a:lnTo>
                        <a:pt x="276" y="1009"/>
                      </a:lnTo>
                      <a:lnTo>
                        <a:pt x="276" y="1013"/>
                      </a:lnTo>
                      <a:lnTo>
                        <a:pt x="282" y="1020"/>
                      </a:lnTo>
                      <a:lnTo>
                        <a:pt x="282" y="1024"/>
                      </a:lnTo>
                      <a:lnTo>
                        <a:pt x="282" y="1028"/>
                      </a:lnTo>
                      <a:lnTo>
                        <a:pt x="288" y="1035"/>
                      </a:lnTo>
                      <a:lnTo>
                        <a:pt x="288" y="1039"/>
                      </a:lnTo>
                      <a:lnTo>
                        <a:pt x="288" y="1042"/>
                      </a:lnTo>
                      <a:lnTo>
                        <a:pt x="294" y="1050"/>
                      </a:lnTo>
                      <a:lnTo>
                        <a:pt x="294" y="1053"/>
                      </a:lnTo>
                      <a:lnTo>
                        <a:pt x="300" y="1057"/>
                      </a:lnTo>
                      <a:lnTo>
                        <a:pt x="300" y="1061"/>
                      </a:lnTo>
                      <a:lnTo>
                        <a:pt x="300" y="1068"/>
                      </a:lnTo>
                      <a:lnTo>
                        <a:pt x="306" y="1071"/>
                      </a:lnTo>
                      <a:lnTo>
                        <a:pt x="306" y="1075"/>
                      </a:lnTo>
                      <a:lnTo>
                        <a:pt x="312" y="1079"/>
                      </a:lnTo>
                      <a:lnTo>
                        <a:pt x="312" y="1082"/>
                      </a:lnTo>
                      <a:lnTo>
                        <a:pt x="312" y="1086"/>
                      </a:lnTo>
                      <a:lnTo>
                        <a:pt x="318" y="1093"/>
                      </a:lnTo>
                      <a:lnTo>
                        <a:pt x="318" y="1097"/>
                      </a:lnTo>
                      <a:lnTo>
                        <a:pt x="318" y="1101"/>
                      </a:lnTo>
                      <a:lnTo>
                        <a:pt x="324" y="1104"/>
                      </a:lnTo>
                      <a:lnTo>
                        <a:pt x="324" y="1108"/>
                      </a:lnTo>
                      <a:lnTo>
                        <a:pt x="330" y="1112"/>
                      </a:lnTo>
                      <a:lnTo>
                        <a:pt x="330" y="1115"/>
                      </a:lnTo>
                      <a:lnTo>
                        <a:pt x="330" y="1119"/>
                      </a:lnTo>
                      <a:lnTo>
                        <a:pt x="336" y="1123"/>
                      </a:lnTo>
                      <a:lnTo>
                        <a:pt x="336" y="1126"/>
                      </a:lnTo>
                      <a:lnTo>
                        <a:pt x="342" y="1130"/>
                      </a:lnTo>
                      <a:lnTo>
                        <a:pt x="342" y="1134"/>
                      </a:lnTo>
                      <a:lnTo>
                        <a:pt x="342" y="1137"/>
                      </a:lnTo>
                      <a:lnTo>
                        <a:pt x="348" y="1141"/>
                      </a:lnTo>
                      <a:lnTo>
                        <a:pt x="348" y="1145"/>
                      </a:lnTo>
                      <a:lnTo>
                        <a:pt x="354" y="1148"/>
                      </a:lnTo>
                      <a:lnTo>
                        <a:pt x="354" y="1152"/>
                      </a:lnTo>
                      <a:lnTo>
                        <a:pt x="360" y="1156"/>
                      </a:lnTo>
                      <a:lnTo>
                        <a:pt x="360" y="1159"/>
                      </a:lnTo>
                      <a:lnTo>
                        <a:pt x="360" y="1163"/>
                      </a:lnTo>
                      <a:lnTo>
                        <a:pt x="366" y="1167"/>
                      </a:lnTo>
                      <a:lnTo>
                        <a:pt x="372" y="1170"/>
                      </a:lnTo>
                      <a:lnTo>
                        <a:pt x="372" y="1174"/>
                      </a:lnTo>
                      <a:lnTo>
                        <a:pt x="372" y="1178"/>
                      </a:lnTo>
                      <a:lnTo>
                        <a:pt x="378" y="1178"/>
                      </a:lnTo>
                      <a:lnTo>
                        <a:pt x="378" y="1181"/>
                      </a:lnTo>
                      <a:lnTo>
                        <a:pt x="384" y="1185"/>
                      </a:lnTo>
                      <a:lnTo>
                        <a:pt x="384" y="1188"/>
                      </a:lnTo>
                      <a:lnTo>
                        <a:pt x="390" y="1192"/>
                      </a:lnTo>
                      <a:lnTo>
                        <a:pt x="396" y="1196"/>
                      </a:lnTo>
                      <a:lnTo>
                        <a:pt x="396" y="1199"/>
                      </a:lnTo>
                      <a:lnTo>
                        <a:pt x="402" y="1203"/>
                      </a:lnTo>
                      <a:lnTo>
                        <a:pt x="402" y="1207"/>
                      </a:lnTo>
                      <a:lnTo>
                        <a:pt x="408" y="1207"/>
                      </a:lnTo>
                      <a:lnTo>
                        <a:pt x="408" y="1210"/>
                      </a:lnTo>
                      <a:lnTo>
                        <a:pt x="414" y="1210"/>
                      </a:lnTo>
                      <a:lnTo>
                        <a:pt x="414" y="1214"/>
                      </a:lnTo>
                      <a:lnTo>
                        <a:pt x="420" y="1218"/>
                      </a:lnTo>
                      <a:lnTo>
                        <a:pt x="426" y="1218"/>
                      </a:lnTo>
                      <a:lnTo>
                        <a:pt x="426" y="1221"/>
                      </a:lnTo>
                      <a:lnTo>
                        <a:pt x="432" y="1221"/>
                      </a:lnTo>
                      <a:lnTo>
                        <a:pt x="432" y="1225"/>
                      </a:lnTo>
                      <a:lnTo>
                        <a:pt x="438" y="1225"/>
                      </a:lnTo>
                      <a:lnTo>
                        <a:pt x="438" y="1229"/>
                      </a:lnTo>
                      <a:lnTo>
                        <a:pt x="444" y="1229"/>
                      </a:lnTo>
                      <a:lnTo>
                        <a:pt x="450" y="1232"/>
                      </a:lnTo>
                      <a:lnTo>
                        <a:pt x="456" y="1232"/>
                      </a:lnTo>
                      <a:lnTo>
                        <a:pt x="462" y="1232"/>
                      </a:lnTo>
                      <a:lnTo>
                        <a:pt x="462" y="1236"/>
                      </a:lnTo>
                      <a:lnTo>
                        <a:pt x="468" y="1236"/>
                      </a:lnTo>
                      <a:lnTo>
                        <a:pt x="474" y="1236"/>
                      </a:lnTo>
                      <a:lnTo>
                        <a:pt x="480" y="1236"/>
                      </a:lnTo>
                      <a:lnTo>
                        <a:pt x="486" y="1236"/>
                      </a:lnTo>
                      <a:lnTo>
                        <a:pt x="492" y="1236"/>
                      </a:lnTo>
                      <a:lnTo>
                        <a:pt x="498" y="1236"/>
                      </a:lnTo>
                      <a:lnTo>
                        <a:pt x="498" y="1232"/>
                      </a:lnTo>
                      <a:lnTo>
                        <a:pt x="504" y="1232"/>
                      </a:lnTo>
                      <a:lnTo>
                        <a:pt x="510" y="1232"/>
                      </a:lnTo>
                      <a:lnTo>
                        <a:pt x="510" y="1229"/>
                      </a:lnTo>
                      <a:lnTo>
                        <a:pt x="516" y="1229"/>
                      </a:lnTo>
                      <a:lnTo>
                        <a:pt x="522" y="1229"/>
                      </a:lnTo>
                      <a:lnTo>
                        <a:pt x="522" y="1225"/>
                      </a:lnTo>
                      <a:lnTo>
                        <a:pt x="528" y="1225"/>
                      </a:lnTo>
                      <a:lnTo>
                        <a:pt x="528" y="1221"/>
                      </a:lnTo>
                      <a:lnTo>
                        <a:pt x="534" y="1221"/>
                      </a:lnTo>
                      <a:lnTo>
                        <a:pt x="534" y="1218"/>
                      </a:lnTo>
                      <a:lnTo>
                        <a:pt x="540" y="1218"/>
                      </a:lnTo>
                      <a:lnTo>
                        <a:pt x="540" y="1214"/>
                      </a:lnTo>
                      <a:lnTo>
                        <a:pt x="546" y="1214"/>
                      </a:lnTo>
                      <a:lnTo>
                        <a:pt x="546" y="1210"/>
                      </a:lnTo>
                      <a:lnTo>
                        <a:pt x="552" y="1210"/>
                      </a:lnTo>
                      <a:lnTo>
                        <a:pt x="552" y="1207"/>
                      </a:lnTo>
                      <a:lnTo>
                        <a:pt x="558" y="1203"/>
                      </a:lnTo>
                      <a:lnTo>
                        <a:pt x="564" y="1199"/>
                      </a:lnTo>
                      <a:lnTo>
                        <a:pt x="564" y="1196"/>
                      </a:lnTo>
                      <a:lnTo>
                        <a:pt x="570" y="1196"/>
                      </a:lnTo>
                      <a:lnTo>
                        <a:pt x="570" y="1192"/>
                      </a:lnTo>
                      <a:lnTo>
                        <a:pt x="570" y="1188"/>
                      </a:lnTo>
                      <a:lnTo>
                        <a:pt x="576" y="1188"/>
                      </a:lnTo>
                      <a:lnTo>
                        <a:pt x="576" y="1185"/>
                      </a:lnTo>
                      <a:lnTo>
                        <a:pt x="582" y="1181"/>
                      </a:lnTo>
                      <a:lnTo>
                        <a:pt x="582" y="1178"/>
                      </a:lnTo>
                      <a:lnTo>
                        <a:pt x="588" y="1174"/>
                      </a:lnTo>
                      <a:lnTo>
                        <a:pt x="594" y="1170"/>
                      </a:lnTo>
                      <a:lnTo>
                        <a:pt x="594" y="1167"/>
                      </a:lnTo>
                      <a:lnTo>
                        <a:pt x="594" y="1163"/>
                      </a:lnTo>
                      <a:lnTo>
                        <a:pt x="600" y="1159"/>
                      </a:lnTo>
                      <a:lnTo>
                        <a:pt x="606" y="1156"/>
                      </a:lnTo>
                      <a:lnTo>
                        <a:pt x="606" y="1152"/>
                      </a:lnTo>
                      <a:lnTo>
                        <a:pt x="606" y="1148"/>
                      </a:lnTo>
                      <a:lnTo>
                        <a:pt x="612" y="1145"/>
                      </a:lnTo>
                      <a:lnTo>
                        <a:pt x="612" y="1141"/>
                      </a:lnTo>
                      <a:lnTo>
                        <a:pt x="612" y="1137"/>
                      </a:lnTo>
                      <a:lnTo>
                        <a:pt x="618" y="1134"/>
                      </a:lnTo>
                      <a:lnTo>
                        <a:pt x="618" y="1130"/>
                      </a:lnTo>
                      <a:lnTo>
                        <a:pt x="624" y="1126"/>
                      </a:lnTo>
                      <a:lnTo>
                        <a:pt x="624" y="1123"/>
                      </a:lnTo>
                      <a:lnTo>
                        <a:pt x="630" y="1115"/>
                      </a:lnTo>
                      <a:lnTo>
                        <a:pt x="630" y="1112"/>
                      </a:lnTo>
                      <a:lnTo>
                        <a:pt x="636" y="1108"/>
                      </a:lnTo>
                      <a:lnTo>
                        <a:pt x="636" y="1104"/>
                      </a:lnTo>
                      <a:lnTo>
                        <a:pt x="636" y="1101"/>
                      </a:lnTo>
                      <a:lnTo>
                        <a:pt x="642" y="1097"/>
                      </a:lnTo>
                      <a:lnTo>
                        <a:pt x="642" y="1093"/>
                      </a:lnTo>
                      <a:lnTo>
                        <a:pt x="648" y="1090"/>
                      </a:lnTo>
                      <a:lnTo>
                        <a:pt x="648" y="1086"/>
                      </a:lnTo>
                      <a:lnTo>
                        <a:pt x="648" y="1082"/>
                      </a:lnTo>
                      <a:lnTo>
                        <a:pt x="654" y="1079"/>
                      </a:lnTo>
                      <a:lnTo>
                        <a:pt x="654" y="1071"/>
                      </a:lnTo>
                      <a:lnTo>
                        <a:pt x="654" y="1068"/>
                      </a:lnTo>
                      <a:lnTo>
                        <a:pt x="660" y="1064"/>
                      </a:lnTo>
                      <a:lnTo>
                        <a:pt x="660" y="1061"/>
                      </a:lnTo>
                      <a:lnTo>
                        <a:pt x="666" y="1053"/>
                      </a:lnTo>
                      <a:lnTo>
                        <a:pt x="666" y="1050"/>
                      </a:lnTo>
                      <a:lnTo>
                        <a:pt x="666" y="1046"/>
                      </a:lnTo>
                      <a:lnTo>
                        <a:pt x="672" y="1042"/>
                      </a:lnTo>
                      <a:lnTo>
                        <a:pt x="672" y="1035"/>
                      </a:lnTo>
                      <a:lnTo>
                        <a:pt x="678" y="1031"/>
                      </a:lnTo>
                      <a:lnTo>
                        <a:pt x="678" y="1028"/>
                      </a:lnTo>
                      <a:lnTo>
                        <a:pt x="678" y="1020"/>
                      </a:lnTo>
                      <a:lnTo>
                        <a:pt x="684" y="1017"/>
                      </a:lnTo>
                      <a:lnTo>
                        <a:pt x="684" y="1009"/>
                      </a:lnTo>
                      <a:lnTo>
                        <a:pt x="684" y="1006"/>
                      </a:lnTo>
                      <a:lnTo>
                        <a:pt x="690" y="1002"/>
                      </a:lnTo>
                      <a:lnTo>
                        <a:pt x="690" y="995"/>
                      </a:lnTo>
                      <a:lnTo>
                        <a:pt x="696" y="991"/>
                      </a:lnTo>
                      <a:lnTo>
                        <a:pt x="696" y="984"/>
                      </a:lnTo>
                      <a:lnTo>
                        <a:pt x="696" y="980"/>
                      </a:lnTo>
                      <a:lnTo>
                        <a:pt x="702" y="973"/>
                      </a:lnTo>
                      <a:lnTo>
                        <a:pt x="702" y="969"/>
                      </a:lnTo>
                      <a:lnTo>
                        <a:pt x="708" y="962"/>
                      </a:lnTo>
                      <a:lnTo>
                        <a:pt x="708" y="958"/>
                      </a:lnTo>
                      <a:lnTo>
                        <a:pt x="708" y="951"/>
                      </a:lnTo>
                      <a:lnTo>
                        <a:pt x="714" y="944"/>
                      </a:lnTo>
                      <a:lnTo>
                        <a:pt x="714" y="940"/>
                      </a:lnTo>
                      <a:lnTo>
                        <a:pt x="720" y="933"/>
                      </a:lnTo>
                      <a:lnTo>
                        <a:pt x="720" y="929"/>
                      </a:lnTo>
                      <a:lnTo>
                        <a:pt x="720" y="922"/>
                      </a:lnTo>
                      <a:lnTo>
                        <a:pt x="726" y="914"/>
                      </a:lnTo>
                      <a:lnTo>
                        <a:pt x="726" y="911"/>
                      </a:lnTo>
                      <a:lnTo>
                        <a:pt x="726" y="903"/>
                      </a:lnTo>
                      <a:lnTo>
                        <a:pt x="732" y="896"/>
                      </a:lnTo>
                      <a:lnTo>
                        <a:pt x="732" y="889"/>
                      </a:lnTo>
                      <a:lnTo>
                        <a:pt x="738" y="885"/>
                      </a:lnTo>
                      <a:lnTo>
                        <a:pt x="738" y="878"/>
                      </a:lnTo>
                      <a:lnTo>
                        <a:pt x="738" y="870"/>
                      </a:lnTo>
                      <a:lnTo>
                        <a:pt x="744" y="863"/>
                      </a:lnTo>
                      <a:lnTo>
                        <a:pt x="744" y="859"/>
                      </a:lnTo>
                      <a:lnTo>
                        <a:pt x="750" y="852"/>
                      </a:lnTo>
                      <a:lnTo>
                        <a:pt x="750" y="845"/>
                      </a:lnTo>
                      <a:lnTo>
                        <a:pt x="750" y="838"/>
                      </a:lnTo>
                      <a:lnTo>
                        <a:pt x="756" y="830"/>
                      </a:lnTo>
                      <a:lnTo>
                        <a:pt x="756" y="823"/>
                      </a:lnTo>
                      <a:lnTo>
                        <a:pt x="762" y="816"/>
                      </a:lnTo>
                      <a:lnTo>
                        <a:pt x="762" y="808"/>
                      </a:lnTo>
                      <a:lnTo>
                        <a:pt x="762" y="805"/>
                      </a:lnTo>
                      <a:lnTo>
                        <a:pt x="768" y="797"/>
                      </a:lnTo>
                      <a:lnTo>
                        <a:pt x="768" y="790"/>
                      </a:lnTo>
                      <a:lnTo>
                        <a:pt x="768" y="783"/>
                      </a:lnTo>
                      <a:lnTo>
                        <a:pt x="774" y="775"/>
                      </a:lnTo>
                      <a:lnTo>
                        <a:pt x="774" y="768"/>
                      </a:lnTo>
                      <a:lnTo>
                        <a:pt x="780" y="761"/>
                      </a:lnTo>
                      <a:lnTo>
                        <a:pt x="780" y="750"/>
                      </a:lnTo>
                      <a:lnTo>
                        <a:pt x="780" y="742"/>
                      </a:lnTo>
                      <a:lnTo>
                        <a:pt x="786" y="735"/>
                      </a:lnTo>
                      <a:lnTo>
                        <a:pt x="786" y="728"/>
                      </a:lnTo>
                      <a:lnTo>
                        <a:pt x="792" y="721"/>
                      </a:lnTo>
                      <a:lnTo>
                        <a:pt x="792" y="713"/>
                      </a:lnTo>
                      <a:lnTo>
                        <a:pt x="792" y="706"/>
                      </a:lnTo>
                      <a:lnTo>
                        <a:pt x="798" y="699"/>
                      </a:lnTo>
                      <a:lnTo>
                        <a:pt x="798" y="691"/>
                      </a:lnTo>
                      <a:lnTo>
                        <a:pt x="804" y="680"/>
                      </a:lnTo>
                      <a:lnTo>
                        <a:pt x="804" y="673"/>
                      </a:lnTo>
                      <a:lnTo>
                        <a:pt x="804" y="666"/>
                      </a:lnTo>
                      <a:lnTo>
                        <a:pt x="810" y="658"/>
                      </a:lnTo>
                      <a:lnTo>
                        <a:pt x="810" y="647"/>
                      </a:lnTo>
                      <a:lnTo>
                        <a:pt x="810" y="640"/>
                      </a:lnTo>
                      <a:lnTo>
                        <a:pt x="816" y="633"/>
                      </a:lnTo>
                      <a:lnTo>
                        <a:pt x="816" y="626"/>
                      </a:lnTo>
                      <a:lnTo>
                        <a:pt x="822" y="615"/>
                      </a:lnTo>
                      <a:lnTo>
                        <a:pt x="822" y="607"/>
                      </a:lnTo>
                      <a:lnTo>
                        <a:pt x="822" y="600"/>
                      </a:lnTo>
                      <a:lnTo>
                        <a:pt x="828" y="589"/>
                      </a:lnTo>
                      <a:lnTo>
                        <a:pt x="828" y="582"/>
                      </a:lnTo>
                      <a:lnTo>
                        <a:pt x="834" y="571"/>
                      </a:lnTo>
                      <a:lnTo>
                        <a:pt x="834" y="563"/>
                      </a:lnTo>
                      <a:lnTo>
                        <a:pt x="834" y="556"/>
                      </a:lnTo>
                      <a:lnTo>
                        <a:pt x="840" y="545"/>
                      </a:lnTo>
                      <a:lnTo>
                        <a:pt x="840" y="538"/>
                      </a:lnTo>
                      <a:lnTo>
                        <a:pt x="846" y="527"/>
                      </a:lnTo>
                      <a:lnTo>
                        <a:pt x="846" y="520"/>
                      </a:lnTo>
                      <a:lnTo>
                        <a:pt x="846" y="509"/>
                      </a:lnTo>
                      <a:lnTo>
                        <a:pt x="852" y="501"/>
                      </a:lnTo>
                      <a:lnTo>
                        <a:pt x="852" y="490"/>
                      </a:lnTo>
                      <a:lnTo>
                        <a:pt x="852" y="479"/>
                      </a:lnTo>
                      <a:lnTo>
                        <a:pt x="858" y="472"/>
                      </a:lnTo>
                      <a:lnTo>
                        <a:pt x="858" y="461"/>
                      </a:lnTo>
                      <a:lnTo>
                        <a:pt x="864" y="454"/>
                      </a:lnTo>
                      <a:lnTo>
                        <a:pt x="864" y="443"/>
                      </a:lnTo>
                      <a:lnTo>
                        <a:pt x="864" y="432"/>
                      </a:lnTo>
                      <a:lnTo>
                        <a:pt x="870" y="424"/>
                      </a:lnTo>
                      <a:lnTo>
                        <a:pt x="870" y="413"/>
                      </a:lnTo>
                      <a:lnTo>
                        <a:pt x="876" y="403"/>
                      </a:lnTo>
                      <a:lnTo>
                        <a:pt x="876" y="395"/>
                      </a:lnTo>
                      <a:lnTo>
                        <a:pt x="876" y="384"/>
                      </a:lnTo>
                      <a:lnTo>
                        <a:pt x="882" y="373"/>
                      </a:lnTo>
                      <a:lnTo>
                        <a:pt x="882" y="362"/>
                      </a:lnTo>
                      <a:lnTo>
                        <a:pt x="888" y="355"/>
                      </a:lnTo>
                      <a:lnTo>
                        <a:pt x="888" y="344"/>
                      </a:lnTo>
                      <a:lnTo>
                        <a:pt x="888" y="333"/>
                      </a:lnTo>
                      <a:lnTo>
                        <a:pt x="894" y="322"/>
                      </a:lnTo>
                      <a:lnTo>
                        <a:pt x="894" y="311"/>
                      </a:lnTo>
                      <a:lnTo>
                        <a:pt x="894" y="304"/>
                      </a:lnTo>
                      <a:lnTo>
                        <a:pt x="900" y="293"/>
                      </a:lnTo>
                      <a:lnTo>
                        <a:pt x="900" y="282"/>
                      </a:lnTo>
                      <a:lnTo>
                        <a:pt x="906" y="271"/>
                      </a:lnTo>
                      <a:lnTo>
                        <a:pt x="906" y="260"/>
                      </a:lnTo>
                      <a:lnTo>
                        <a:pt x="906" y="249"/>
                      </a:lnTo>
                      <a:lnTo>
                        <a:pt x="912" y="238"/>
                      </a:lnTo>
                      <a:lnTo>
                        <a:pt x="912" y="227"/>
                      </a:lnTo>
                      <a:lnTo>
                        <a:pt x="918" y="216"/>
                      </a:lnTo>
                      <a:lnTo>
                        <a:pt x="918" y="205"/>
                      </a:lnTo>
                      <a:lnTo>
                        <a:pt x="918" y="194"/>
                      </a:lnTo>
                      <a:lnTo>
                        <a:pt x="924" y="183"/>
                      </a:lnTo>
                      <a:lnTo>
                        <a:pt x="924" y="172"/>
                      </a:lnTo>
                      <a:lnTo>
                        <a:pt x="930" y="161"/>
                      </a:lnTo>
                      <a:lnTo>
                        <a:pt x="930" y="150"/>
                      </a:lnTo>
                      <a:lnTo>
                        <a:pt x="930" y="139"/>
                      </a:lnTo>
                      <a:lnTo>
                        <a:pt x="936" y="128"/>
                      </a:lnTo>
                      <a:lnTo>
                        <a:pt x="936" y="117"/>
                      </a:lnTo>
                      <a:lnTo>
                        <a:pt x="936" y="106"/>
                      </a:lnTo>
                      <a:lnTo>
                        <a:pt x="942" y="92"/>
                      </a:lnTo>
                      <a:lnTo>
                        <a:pt x="942" y="81"/>
                      </a:lnTo>
                      <a:lnTo>
                        <a:pt x="948" y="70"/>
                      </a:lnTo>
                      <a:lnTo>
                        <a:pt x="948" y="59"/>
                      </a:lnTo>
                      <a:lnTo>
                        <a:pt x="948" y="48"/>
                      </a:lnTo>
                      <a:lnTo>
                        <a:pt x="954" y="33"/>
                      </a:lnTo>
                      <a:lnTo>
                        <a:pt x="954" y="22"/>
                      </a:lnTo>
                      <a:lnTo>
                        <a:pt x="960" y="11"/>
                      </a:lnTo>
                      <a:lnTo>
                        <a:pt x="960" y="0"/>
                      </a:ln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68" name=""/>
              <p:cNvSpPr/>
              <p:nvPr/>
            </p:nvSpPr>
            <p:spPr>
              <a:xfrm>
                <a:off x="6657840" y="1773360"/>
                <a:ext cx="24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9" name=""/>
            <p:cNvSpPr/>
            <p:nvPr/>
          </p:nvSpPr>
          <p:spPr>
            <a:xfrm>
              <a:off x="8675640" y="1773360"/>
              <a:ext cx="46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0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5" dur="500"/>
                                        <p:tgtEl>
                                          <p:spTgt spid="1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0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5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684360" y="1268280"/>
            <a:ext cx="784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探究３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观察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y=-x</a:t>
            </a:r>
            <a:r>
              <a:rPr b="1" lang="zh-CN" sz="2400" spc="-1" strike="noStrike" baseline="30000">
                <a:solidFill>
                  <a:srgbClr val="0000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图象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说出它们的开口方向和顶点坐标及其规律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68360" y="1773360"/>
            <a:ext cx="70563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684360" y="2563920"/>
            <a:ext cx="52560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1.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抛物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图象开口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       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抛物线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=-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的图象开口向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755640" y="3932280"/>
            <a:ext cx="4968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2.  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图象的顶点都在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原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y=x</a:t>
            </a:r>
            <a:r>
              <a:rPr b="1" lang="zh-CN" sz="2400" spc="-1" strike="noStrike" baseline="30000">
                <a:solidFill>
                  <a:srgbClr val="ff3300"/>
                </a:solidFill>
                <a:latin typeface="Times New Roman"/>
              </a:rPr>
              <a:t>2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的顶点是图象的最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低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点</a:t>
            </a: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2400" spc="-1" strike="noStrike">
                <a:solidFill>
                  <a:srgbClr val="333399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 u="sng">
                <a:solidFill>
                  <a:srgbClr val="009999"/>
                </a:solidFill>
                <a:uFillTx/>
                <a:latin typeface="Times New Roman"/>
                <a:hlinkClick r:id="rId2"/>
              </a:rPr>
              <a:t>y=-x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3"/>
              </a:rPr>
              <a:t>2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4"/>
              </a:rPr>
              <a:t>的顶点是图象的最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5"/>
              </a:rPr>
              <a:t>高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6"/>
              </a:rPr>
              <a:t>点</a:t>
            </a:r>
            <a:r>
              <a:rPr b="0" lang="zh-CN" sz="2400" spc="-1" strike="noStrike" u="sng" baseline="30000">
                <a:solidFill>
                  <a:srgbClr val="009999"/>
                </a:solidFill>
                <a:uFillTx/>
                <a:latin typeface="Times New Roman"/>
                <a:hlinkClick r:id="rId7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" name=""/>
          <p:cNvGrpSpPr/>
          <p:nvPr/>
        </p:nvGrpSpPr>
        <p:grpSpPr>
          <a:xfrm>
            <a:off x="5724360" y="2421000"/>
            <a:ext cx="2738520" cy="2624040"/>
            <a:chOff x="5724360" y="2421000"/>
            <a:chExt cx="2738520" cy="2624040"/>
          </a:xfrm>
        </p:grpSpPr>
        <p:grpSp>
          <p:nvGrpSpPr>
            <p:cNvPr id="175" name=""/>
            <p:cNvGrpSpPr/>
            <p:nvPr/>
          </p:nvGrpSpPr>
          <p:grpSpPr>
            <a:xfrm>
              <a:off x="5724360" y="2421000"/>
              <a:ext cx="2485800" cy="2624040"/>
              <a:chOff x="5724360" y="2421000"/>
              <a:chExt cx="2485800" cy="2624040"/>
            </a:xfrm>
          </p:grpSpPr>
          <p:grpSp>
            <p:nvGrpSpPr>
              <p:cNvPr id="176" name=""/>
              <p:cNvGrpSpPr/>
              <p:nvPr/>
            </p:nvGrpSpPr>
            <p:grpSpPr>
              <a:xfrm>
                <a:off x="5940360" y="2421000"/>
                <a:ext cx="2269800" cy="2624040"/>
                <a:chOff x="5940360" y="2421000"/>
                <a:chExt cx="2269800" cy="2624040"/>
              </a:xfrm>
            </p:grpSpPr>
            <p:sp>
              <p:nvSpPr>
                <p:cNvPr id="177" name=""/>
                <p:cNvSpPr/>
                <p:nvPr/>
              </p:nvSpPr>
              <p:spPr>
                <a:xfrm flipH="1">
                  <a:off x="6883200" y="2497320"/>
                  <a:ext cx="61920" cy="2507760"/>
                </a:xfrm>
                <a:prstGeom prst="line">
                  <a:avLst/>
                </a:prstGeom>
                <a:ln w="28440">
                  <a:solidFill>
                    <a:srgbClr val="000080"/>
                  </a:solidFill>
                  <a:miter/>
                  <a:head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"/>
                <p:cNvSpPr/>
                <p:nvPr/>
              </p:nvSpPr>
              <p:spPr>
                <a:xfrm>
                  <a:off x="6921360" y="260676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"/>
                <p:cNvSpPr/>
                <p:nvPr/>
              </p:nvSpPr>
              <p:spPr>
                <a:xfrm>
                  <a:off x="6865920" y="258444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8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6921360" y="274788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"/>
                <p:cNvSpPr/>
                <p:nvPr/>
              </p:nvSpPr>
              <p:spPr>
                <a:xfrm>
                  <a:off x="6921360" y="289260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"/>
                <p:cNvSpPr/>
                <p:nvPr/>
              </p:nvSpPr>
              <p:spPr>
                <a:xfrm>
                  <a:off x="6865920" y="286848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6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"/>
                <p:cNvSpPr/>
                <p:nvPr/>
              </p:nvSpPr>
              <p:spPr>
                <a:xfrm>
                  <a:off x="6921360" y="303696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>
                  <a:off x="6921360" y="318132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"/>
                <p:cNvSpPr/>
                <p:nvPr/>
              </p:nvSpPr>
              <p:spPr>
                <a:xfrm>
                  <a:off x="6865920" y="315756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4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"/>
                <p:cNvSpPr/>
                <p:nvPr/>
              </p:nvSpPr>
              <p:spPr>
                <a:xfrm>
                  <a:off x="6921360" y="332568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6989400" y="3487680"/>
                  <a:ext cx="6048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"/>
                <p:cNvSpPr/>
                <p:nvPr/>
              </p:nvSpPr>
              <p:spPr>
                <a:xfrm>
                  <a:off x="6865920" y="344340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2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"/>
                <p:cNvSpPr/>
                <p:nvPr/>
              </p:nvSpPr>
              <p:spPr>
                <a:xfrm>
                  <a:off x="6921360" y="361008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"/>
                <p:cNvSpPr/>
                <p:nvPr/>
              </p:nvSpPr>
              <p:spPr>
                <a:xfrm>
                  <a:off x="6921360" y="375444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"/>
                <p:cNvSpPr/>
                <p:nvPr/>
              </p:nvSpPr>
              <p:spPr>
                <a:xfrm>
                  <a:off x="6921360" y="389880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"/>
                <p:cNvSpPr/>
                <p:nvPr/>
              </p:nvSpPr>
              <p:spPr>
                <a:xfrm>
                  <a:off x="6921360" y="404352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"/>
                <p:cNvSpPr/>
                <p:nvPr/>
              </p:nvSpPr>
              <p:spPr>
                <a:xfrm>
                  <a:off x="6847200" y="401940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2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4" name=""/>
                <p:cNvSpPr/>
                <p:nvPr/>
              </p:nvSpPr>
              <p:spPr>
                <a:xfrm>
                  <a:off x="6921360" y="418320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"/>
                <p:cNvSpPr/>
                <p:nvPr/>
              </p:nvSpPr>
              <p:spPr>
                <a:xfrm>
                  <a:off x="6921360" y="432756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6" name=""/>
                <p:cNvSpPr/>
                <p:nvPr/>
              </p:nvSpPr>
              <p:spPr>
                <a:xfrm>
                  <a:off x="6847200" y="430524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4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7" name=""/>
                <p:cNvSpPr/>
                <p:nvPr/>
              </p:nvSpPr>
              <p:spPr>
                <a:xfrm>
                  <a:off x="6921360" y="447192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"/>
                <p:cNvSpPr/>
                <p:nvPr/>
              </p:nvSpPr>
              <p:spPr>
                <a:xfrm>
                  <a:off x="6921360" y="461628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"/>
                <p:cNvSpPr/>
                <p:nvPr/>
              </p:nvSpPr>
              <p:spPr>
                <a:xfrm>
                  <a:off x="6855120" y="458136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6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"/>
                <p:cNvSpPr/>
                <p:nvPr/>
              </p:nvSpPr>
              <p:spPr>
                <a:xfrm>
                  <a:off x="6921360" y="4761000"/>
                  <a:ext cx="60120" cy="144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360" bIns="-453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"/>
                <p:cNvSpPr/>
                <p:nvPr/>
              </p:nvSpPr>
              <p:spPr>
                <a:xfrm>
                  <a:off x="6921360" y="4902120"/>
                  <a:ext cx="60120" cy="180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5000" bIns="-450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2" name=""/>
                <p:cNvSpPr/>
                <p:nvPr/>
              </p:nvSpPr>
              <p:spPr>
                <a:xfrm>
                  <a:off x="6855120" y="4870440"/>
                  <a:ext cx="3420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-8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"/>
                <p:cNvSpPr/>
                <p:nvPr/>
              </p:nvSpPr>
              <p:spPr>
                <a:xfrm>
                  <a:off x="5940360" y="373860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"/>
                <p:cNvSpPr/>
                <p:nvPr/>
              </p:nvSpPr>
              <p:spPr>
                <a:xfrm>
                  <a:off x="6194160" y="373860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"/>
                <p:cNvSpPr/>
                <p:nvPr/>
              </p:nvSpPr>
              <p:spPr>
                <a:xfrm>
                  <a:off x="6441840" y="373860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"/>
                <p:cNvSpPr/>
                <p:nvPr/>
              </p:nvSpPr>
              <p:spPr>
                <a:xfrm>
                  <a:off x="6694200" y="373860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"/>
                <p:cNvSpPr/>
                <p:nvPr/>
              </p:nvSpPr>
              <p:spPr>
                <a:xfrm>
                  <a:off x="6948360" y="373860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>
                  <a:off x="7202160" y="373860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>
                  <a:off x="7454520" y="373860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"/>
                <p:cNvSpPr/>
                <p:nvPr/>
              </p:nvSpPr>
              <p:spPr>
                <a:xfrm>
                  <a:off x="7702200" y="373860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"/>
                <p:cNvSpPr/>
                <p:nvPr/>
              </p:nvSpPr>
              <p:spPr>
                <a:xfrm>
                  <a:off x="7954560" y="3738600"/>
                  <a:ext cx="180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8208720" y="3738600"/>
                  <a:ext cx="1440" cy="34920"/>
                </a:xfrm>
                <a:prstGeom prst="line">
                  <a:avLst/>
                </a:prstGeom>
                <a:ln w="6480">
                  <a:solidFill>
                    <a:srgbClr val="00008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8186760" y="3781440"/>
                  <a:ext cx="21960" cy="46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0" rIns="0" tIns="0" bIns="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00" spc="-1" strike="noStrike">
                      <a:solidFill>
                        <a:srgbClr val="000080"/>
                      </a:solidFill>
                      <a:latin typeface=""/>
                    </a:rPr>
                    <a:t>5</a:t>
                  </a:r>
                  <a:endParaRPr b="0" lang="en-US" sz="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"/>
                <p:cNvSpPr/>
                <p:nvPr/>
              </p:nvSpPr>
              <p:spPr>
                <a:xfrm>
                  <a:off x="6367320" y="3760920"/>
                  <a:ext cx="1066680" cy="1284120"/>
                </a:xfrm>
                <a:custGeom>
                  <a:avLst/>
                  <a:gdLst/>
                  <a:ahLst/>
                  <a:rect l="l" t="t" r="r" b="b"/>
                  <a:pathLst>
                    <a:path w="672" h="809">
                      <a:moveTo>
                        <a:pt x="0" y="804"/>
                      </a:moveTo>
                      <a:lnTo>
                        <a:pt x="4" y="797"/>
                      </a:lnTo>
                      <a:lnTo>
                        <a:pt x="4" y="790"/>
                      </a:lnTo>
                      <a:lnTo>
                        <a:pt x="4" y="782"/>
                      </a:lnTo>
                      <a:lnTo>
                        <a:pt x="8" y="773"/>
                      </a:lnTo>
                      <a:lnTo>
                        <a:pt x="8" y="766"/>
                      </a:lnTo>
                      <a:lnTo>
                        <a:pt x="12" y="759"/>
                      </a:lnTo>
                      <a:lnTo>
                        <a:pt x="12" y="751"/>
                      </a:lnTo>
                      <a:lnTo>
                        <a:pt x="12" y="744"/>
                      </a:lnTo>
                      <a:lnTo>
                        <a:pt x="17" y="737"/>
                      </a:lnTo>
                      <a:lnTo>
                        <a:pt x="17" y="727"/>
                      </a:lnTo>
                      <a:lnTo>
                        <a:pt x="21" y="720"/>
                      </a:lnTo>
                      <a:lnTo>
                        <a:pt x="21" y="713"/>
                      </a:lnTo>
                      <a:lnTo>
                        <a:pt x="21" y="706"/>
                      </a:lnTo>
                      <a:lnTo>
                        <a:pt x="25" y="699"/>
                      </a:lnTo>
                      <a:lnTo>
                        <a:pt x="25" y="692"/>
                      </a:lnTo>
                      <a:lnTo>
                        <a:pt x="25" y="684"/>
                      </a:lnTo>
                      <a:lnTo>
                        <a:pt x="29" y="677"/>
                      </a:lnTo>
                      <a:lnTo>
                        <a:pt x="29" y="670"/>
                      </a:lnTo>
                      <a:lnTo>
                        <a:pt x="33" y="663"/>
                      </a:lnTo>
                      <a:lnTo>
                        <a:pt x="33" y="656"/>
                      </a:lnTo>
                      <a:lnTo>
                        <a:pt x="33" y="648"/>
                      </a:lnTo>
                      <a:lnTo>
                        <a:pt x="38" y="641"/>
                      </a:lnTo>
                      <a:lnTo>
                        <a:pt x="38" y="634"/>
                      </a:lnTo>
                      <a:lnTo>
                        <a:pt x="42" y="627"/>
                      </a:lnTo>
                      <a:lnTo>
                        <a:pt x="42" y="620"/>
                      </a:lnTo>
                      <a:lnTo>
                        <a:pt x="42" y="615"/>
                      </a:lnTo>
                      <a:lnTo>
                        <a:pt x="46" y="608"/>
                      </a:lnTo>
                      <a:lnTo>
                        <a:pt x="46" y="601"/>
                      </a:lnTo>
                      <a:lnTo>
                        <a:pt x="50" y="593"/>
                      </a:lnTo>
                      <a:lnTo>
                        <a:pt x="50" y="586"/>
                      </a:lnTo>
                      <a:lnTo>
                        <a:pt x="50" y="579"/>
                      </a:lnTo>
                      <a:lnTo>
                        <a:pt x="54" y="574"/>
                      </a:lnTo>
                      <a:lnTo>
                        <a:pt x="54" y="567"/>
                      </a:lnTo>
                      <a:lnTo>
                        <a:pt x="54" y="560"/>
                      </a:lnTo>
                      <a:lnTo>
                        <a:pt x="59" y="553"/>
                      </a:lnTo>
                      <a:lnTo>
                        <a:pt x="59" y="548"/>
                      </a:lnTo>
                      <a:lnTo>
                        <a:pt x="63" y="541"/>
                      </a:lnTo>
                      <a:lnTo>
                        <a:pt x="63" y="534"/>
                      </a:lnTo>
                      <a:lnTo>
                        <a:pt x="63" y="529"/>
                      </a:lnTo>
                      <a:lnTo>
                        <a:pt x="67" y="522"/>
                      </a:lnTo>
                      <a:lnTo>
                        <a:pt x="67" y="514"/>
                      </a:lnTo>
                      <a:lnTo>
                        <a:pt x="71" y="510"/>
                      </a:lnTo>
                      <a:lnTo>
                        <a:pt x="71" y="502"/>
                      </a:lnTo>
                      <a:lnTo>
                        <a:pt x="71" y="498"/>
                      </a:lnTo>
                      <a:lnTo>
                        <a:pt x="75" y="491"/>
                      </a:lnTo>
                      <a:lnTo>
                        <a:pt x="75" y="486"/>
                      </a:lnTo>
                      <a:lnTo>
                        <a:pt x="80" y="479"/>
                      </a:lnTo>
                      <a:lnTo>
                        <a:pt x="80" y="471"/>
                      </a:lnTo>
                      <a:lnTo>
                        <a:pt x="80" y="467"/>
                      </a:lnTo>
                      <a:lnTo>
                        <a:pt x="84" y="459"/>
                      </a:lnTo>
                      <a:lnTo>
                        <a:pt x="84" y="455"/>
                      </a:lnTo>
                      <a:lnTo>
                        <a:pt x="84" y="450"/>
                      </a:lnTo>
                      <a:lnTo>
                        <a:pt x="88" y="443"/>
                      </a:lnTo>
                      <a:lnTo>
                        <a:pt x="88" y="438"/>
                      </a:lnTo>
                      <a:lnTo>
                        <a:pt x="92" y="431"/>
                      </a:lnTo>
                      <a:lnTo>
                        <a:pt x="92" y="426"/>
                      </a:lnTo>
                      <a:lnTo>
                        <a:pt x="92" y="419"/>
                      </a:lnTo>
                      <a:lnTo>
                        <a:pt x="96" y="414"/>
                      </a:lnTo>
                      <a:lnTo>
                        <a:pt x="96" y="409"/>
                      </a:lnTo>
                      <a:lnTo>
                        <a:pt x="101" y="402"/>
                      </a:lnTo>
                      <a:lnTo>
                        <a:pt x="101" y="397"/>
                      </a:lnTo>
                      <a:lnTo>
                        <a:pt x="101" y="392"/>
                      </a:lnTo>
                      <a:lnTo>
                        <a:pt x="105" y="388"/>
                      </a:lnTo>
                      <a:lnTo>
                        <a:pt x="105" y="380"/>
                      </a:lnTo>
                      <a:lnTo>
                        <a:pt x="109" y="376"/>
                      </a:lnTo>
                      <a:lnTo>
                        <a:pt x="109" y="371"/>
                      </a:lnTo>
                      <a:lnTo>
                        <a:pt x="109" y="366"/>
                      </a:lnTo>
                      <a:lnTo>
                        <a:pt x="113" y="359"/>
                      </a:lnTo>
                      <a:lnTo>
                        <a:pt x="113" y="354"/>
                      </a:lnTo>
                      <a:lnTo>
                        <a:pt x="113" y="349"/>
                      </a:lnTo>
                      <a:lnTo>
                        <a:pt x="117" y="345"/>
                      </a:lnTo>
                      <a:lnTo>
                        <a:pt x="117" y="340"/>
                      </a:lnTo>
                      <a:lnTo>
                        <a:pt x="122" y="335"/>
                      </a:lnTo>
                      <a:lnTo>
                        <a:pt x="122" y="330"/>
                      </a:lnTo>
                      <a:lnTo>
                        <a:pt x="122" y="323"/>
                      </a:lnTo>
                      <a:lnTo>
                        <a:pt x="126" y="318"/>
                      </a:lnTo>
                      <a:lnTo>
                        <a:pt x="126" y="313"/>
                      </a:lnTo>
                      <a:lnTo>
                        <a:pt x="130" y="309"/>
                      </a:lnTo>
                      <a:lnTo>
                        <a:pt x="130" y="304"/>
                      </a:lnTo>
                      <a:lnTo>
                        <a:pt x="130" y="299"/>
                      </a:lnTo>
                      <a:lnTo>
                        <a:pt x="134" y="294"/>
                      </a:lnTo>
                      <a:lnTo>
                        <a:pt x="134" y="290"/>
                      </a:lnTo>
                      <a:lnTo>
                        <a:pt x="138" y="285"/>
                      </a:lnTo>
                      <a:lnTo>
                        <a:pt x="138" y="280"/>
                      </a:lnTo>
                      <a:lnTo>
                        <a:pt x="138" y="275"/>
                      </a:lnTo>
                      <a:lnTo>
                        <a:pt x="143" y="273"/>
                      </a:lnTo>
                      <a:lnTo>
                        <a:pt x="143" y="268"/>
                      </a:lnTo>
                      <a:lnTo>
                        <a:pt x="143" y="263"/>
                      </a:lnTo>
                      <a:lnTo>
                        <a:pt x="147" y="258"/>
                      </a:lnTo>
                      <a:lnTo>
                        <a:pt x="147" y="254"/>
                      </a:lnTo>
                      <a:lnTo>
                        <a:pt x="151" y="249"/>
                      </a:lnTo>
                      <a:lnTo>
                        <a:pt x="151" y="244"/>
                      </a:lnTo>
                      <a:lnTo>
                        <a:pt x="151" y="242"/>
                      </a:lnTo>
                      <a:lnTo>
                        <a:pt x="155" y="237"/>
                      </a:lnTo>
                      <a:lnTo>
                        <a:pt x="155" y="232"/>
                      </a:lnTo>
                      <a:lnTo>
                        <a:pt x="159" y="227"/>
                      </a:lnTo>
                      <a:lnTo>
                        <a:pt x="159" y="225"/>
                      </a:lnTo>
                      <a:lnTo>
                        <a:pt x="159" y="220"/>
                      </a:lnTo>
                      <a:lnTo>
                        <a:pt x="164" y="215"/>
                      </a:lnTo>
                      <a:lnTo>
                        <a:pt x="164" y="211"/>
                      </a:lnTo>
                      <a:lnTo>
                        <a:pt x="168" y="208"/>
                      </a:lnTo>
                      <a:lnTo>
                        <a:pt x="168" y="203"/>
                      </a:lnTo>
                      <a:lnTo>
                        <a:pt x="168" y="199"/>
                      </a:lnTo>
                      <a:lnTo>
                        <a:pt x="172" y="196"/>
                      </a:lnTo>
                      <a:lnTo>
                        <a:pt x="172" y="191"/>
                      </a:lnTo>
                      <a:lnTo>
                        <a:pt x="172" y="189"/>
                      </a:lnTo>
                      <a:lnTo>
                        <a:pt x="176" y="184"/>
                      </a:lnTo>
                      <a:lnTo>
                        <a:pt x="176" y="182"/>
                      </a:lnTo>
                      <a:lnTo>
                        <a:pt x="180" y="177"/>
                      </a:lnTo>
                      <a:lnTo>
                        <a:pt x="180" y="172"/>
                      </a:lnTo>
                      <a:lnTo>
                        <a:pt x="180" y="170"/>
                      </a:lnTo>
                      <a:lnTo>
                        <a:pt x="185" y="165"/>
                      </a:lnTo>
                      <a:lnTo>
                        <a:pt x="185" y="163"/>
                      </a:lnTo>
                      <a:lnTo>
                        <a:pt x="189" y="158"/>
                      </a:lnTo>
                      <a:lnTo>
                        <a:pt x="189" y="156"/>
                      </a:lnTo>
                      <a:lnTo>
                        <a:pt x="189" y="153"/>
                      </a:lnTo>
                      <a:lnTo>
                        <a:pt x="193" y="148"/>
                      </a:lnTo>
                      <a:lnTo>
                        <a:pt x="193" y="146"/>
                      </a:lnTo>
                      <a:lnTo>
                        <a:pt x="197" y="141"/>
                      </a:lnTo>
                      <a:lnTo>
                        <a:pt x="197" y="139"/>
                      </a:lnTo>
                      <a:lnTo>
                        <a:pt x="197" y="136"/>
                      </a:lnTo>
                      <a:lnTo>
                        <a:pt x="201" y="132"/>
                      </a:lnTo>
                      <a:lnTo>
                        <a:pt x="201" y="129"/>
                      </a:lnTo>
                      <a:lnTo>
                        <a:pt x="201" y="127"/>
                      </a:lnTo>
                      <a:lnTo>
                        <a:pt x="206" y="122"/>
                      </a:lnTo>
                      <a:lnTo>
                        <a:pt x="206" y="120"/>
                      </a:lnTo>
                      <a:lnTo>
                        <a:pt x="210" y="117"/>
                      </a:lnTo>
                      <a:lnTo>
                        <a:pt x="210" y="115"/>
                      </a:lnTo>
                      <a:lnTo>
                        <a:pt x="210" y="110"/>
                      </a:lnTo>
                      <a:lnTo>
                        <a:pt x="214" y="108"/>
                      </a:lnTo>
                      <a:lnTo>
                        <a:pt x="214" y="105"/>
                      </a:lnTo>
                      <a:lnTo>
                        <a:pt x="218" y="103"/>
                      </a:lnTo>
                      <a:lnTo>
                        <a:pt x="218" y="100"/>
                      </a:lnTo>
                      <a:lnTo>
                        <a:pt x="218" y="98"/>
                      </a:lnTo>
                      <a:lnTo>
                        <a:pt x="222" y="93"/>
                      </a:lnTo>
                      <a:lnTo>
                        <a:pt x="222" y="91"/>
                      </a:lnTo>
                      <a:lnTo>
                        <a:pt x="222" y="89"/>
                      </a:lnTo>
                      <a:lnTo>
                        <a:pt x="227" y="86"/>
                      </a:lnTo>
                      <a:lnTo>
                        <a:pt x="227" y="84"/>
                      </a:lnTo>
                      <a:lnTo>
                        <a:pt x="231" y="81"/>
                      </a:lnTo>
                      <a:lnTo>
                        <a:pt x="231" y="79"/>
                      </a:lnTo>
                      <a:lnTo>
                        <a:pt x="231" y="77"/>
                      </a:lnTo>
                      <a:lnTo>
                        <a:pt x="235" y="74"/>
                      </a:lnTo>
                      <a:lnTo>
                        <a:pt x="235" y="72"/>
                      </a:lnTo>
                      <a:lnTo>
                        <a:pt x="239" y="69"/>
                      </a:lnTo>
                      <a:lnTo>
                        <a:pt x="239" y="67"/>
                      </a:lnTo>
                      <a:lnTo>
                        <a:pt x="239" y="65"/>
                      </a:lnTo>
                      <a:lnTo>
                        <a:pt x="243" y="62"/>
                      </a:lnTo>
                      <a:lnTo>
                        <a:pt x="243" y="60"/>
                      </a:lnTo>
                      <a:lnTo>
                        <a:pt x="248" y="57"/>
                      </a:lnTo>
                      <a:lnTo>
                        <a:pt x="248" y="55"/>
                      </a:lnTo>
                      <a:lnTo>
                        <a:pt x="252" y="53"/>
                      </a:lnTo>
                      <a:lnTo>
                        <a:pt x="252" y="50"/>
                      </a:lnTo>
                      <a:lnTo>
                        <a:pt x="252" y="48"/>
                      </a:lnTo>
                      <a:lnTo>
                        <a:pt x="256" y="45"/>
                      </a:lnTo>
                      <a:lnTo>
                        <a:pt x="260" y="43"/>
                      </a:lnTo>
                      <a:lnTo>
                        <a:pt x="260" y="41"/>
                      </a:lnTo>
                      <a:lnTo>
                        <a:pt x="260" y="38"/>
                      </a:lnTo>
                      <a:lnTo>
                        <a:pt x="264" y="38"/>
                      </a:lnTo>
                      <a:lnTo>
                        <a:pt x="264" y="36"/>
                      </a:lnTo>
                      <a:lnTo>
                        <a:pt x="269" y="33"/>
                      </a:lnTo>
                      <a:lnTo>
                        <a:pt x="269" y="31"/>
                      </a:lnTo>
                      <a:lnTo>
                        <a:pt x="273" y="29"/>
                      </a:lnTo>
                      <a:lnTo>
                        <a:pt x="277" y="26"/>
                      </a:lnTo>
                      <a:lnTo>
                        <a:pt x="277" y="24"/>
                      </a:lnTo>
                      <a:lnTo>
                        <a:pt x="281" y="22"/>
                      </a:lnTo>
                      <a:lnTo>
                        <a:pt x="281" y="19"/>
                      </a:lnTo>
                      <a:lnTo>
                        <a:pt x="285" y="19"/>
                      </a:lnTo>
                      <a:lnTo>
                        <a:pt x="285" y="17"/>
                      </a:lnTo>
                      <a:lnTo>
                        <a:pt x="290" y="17"/>
                      </a:lnTo>
                      <a:lnTo>
                        <a:pt x="290" y="14"/>
                      </a:lnTo>
                      <a:lnTo>
                        <a:pt x="294" y="12"/>
                      </a:lnTo>
                      <a:lnTo>
                        <a:pt x="298" y="12"/>
                      </a:lnTo>
                      <a:lnTo>
                        <a:pt x="298" y="10"/>
                      </a:lnTo>
                      <a:lnTo>
                        <a:pt x="302" y="10"/>
                      </a:lnTo>
                      <a:lnTo>
                        <a:pt x="302" y="7"/>
                      </a:lnTo>
                      <a:lnTo>
                        <a:pt x="306" y="7"/>
                      </a:lnTo>
                      <a:lnTo>
                        <a:pt x="306" y="5"/>
                      </a:lnTo>
                      <a:lnTo>
                        <a:pt x="311" y="5"/>
                      </a:lnTo>
                      <a:lnTo>
                        <a:pt x="315" y="2"/>
                      </a:lnTo>
                      <a:lnTo>
                        <a:pt x="319" y="2"/>
                      </a:lnTo>
                      <a:lnTo>
                        <a:pt x="323" y="2"/>
                      </a:lnTo>
                      <a:lnTo>
                        <a:pt x="323" y="0"/>
                      </a:lnTo>
                      <a:lnTo>
                        <a:pt x="327" y="0"/>
                      </a:lnTo>
                      <a:lnTo>
                        <a:pt x="332" y="0"/>
                      </a:lnTo>
                      <a:lnTo>
                        <a:pt x="336" y="0"/>
                      </a:lnTo>
                      <a:lnTo>
                        <a:pt x="340" y="0"/>
                      </a:lnTo>
                      <a:lnTo>
                        <a:pt x="344" y="0"/>
                      </a:lnTo>
                      <a:lnTo>
                        <a:pt x="349" y="0"/>
                      </a:lnTo>
                      <a:lnTo>
                        <a:pt x="349" y="2"/>
                      </a:lnTo>
                      <a:lnTo>
                        <a:pt x="353" y="2"/>
                      </a:lnTo>
                      <a:lnTo>
                        <a:pt x="357" y="2"/>
                      </a:lnTo>
                      <a:lnTo>
                        <a:pt x="357" y="5"/>
                      </a:lnTo>
                      <a:lnTo>
                        <a:pt x="361" y="5"/>
                      </a:lnTo>
                      <a:lnTo>
                        <a:pt x="365" y="5"/>
                      </a:lnTo>
                      <a:lnTo>
                        <a:pt x="365" y="7"/>
                      </a:lnTo>
                      <a:lnTo>
                        <a:pt x="370" y="7"/>
                      </a:lnTo>
                      <a:lnTo>
                        <a:pt x="370" y="10"/>
                      </a:lnTo>
                      <a:lnTo>
                        <a:pt x="374" y="10"/>
                      </a:lnTo>
                      <a:lnTo>
                        <a:pt x="374" y="12"/>
                      </a:lnTo>
                      <a:lnTo>
                        <a:pt x="378" y="12"/>
                      </a:lnTo>
                      <a:lnTo>
                        <a:pt x="378" y="14"/>
                      </a:lnTo>
                      <a:lnTo>
                        <a:pt x="382" y="14"/>
                      </a:lnTo>
                      <a:lnTo>
                        <a:pt x="382" y="17"/>
                      </a:lnTo>
                      <a:lnTo>
                        <a:pt x="386" y="17"/>
                      </a:lnTo>
                      <a:lnTo>
                        <a:pt x="386" y="19"/>
                      </a:lnTo>
                      <a:lnTo>
                        <a:pt x="391" y="22"/>
                      </a:lnTo>
                      <a:lnTo>
                        <a:pt x="395" y="24"/>
                      </a:lnTo>
                      <a:lnTo>
                        <a:pt x="395" y="26"/>
                      </a:lnTo>
                      <a:lnTo>
                        <a:pt x="399" y="26"/>
                      </a:lnTo>
                      <a:lnTo>
                        <a:pt x="399" y="29"/>
                      </a:lnTo>
                      <a:lnTo>
                        <a:pt x="399" y="31"/>
                      </a:lnTo>
                      <a:lnTo>
                        <a:pt x="403" y="31"/>
                      </a:lnTo>
                      <a:lnTo>
                        <a:pt x="403" y="33"/>
                      </a:lnTo>
                      <a:lnTo>
                        <a:pt x="407" y="36"/>
                      </a:lnTo>
                      <a:lnTo>
                        <a:pt x="407" y="38"/>
                      </a:lnTo>
                      <a:lnTo>
                        <a:pt x="412" y="41"/>
                      </a:lnTo>
                      <a:lnTo>
                        <a:pt x="416" y="43"/>
                      </a:lnTo>
                      <a:lnTo>
                        <a:pt x="416" y="45"/>
                      </a:lnTo>
                      <a:lnTo>
                        <a:pt x="416" y="48"/>
                      </a:lnTo>
                      <a:lnTo>
                        <a:pt x="420" y="50"/>
                      </a:lnTo>
                      <a:lnTo>
                        <a:pt x="424" y="53"/>
                      </a:lnTo>
                      <a:lnTo>
                        <a:pt x="424" y="55"/>
                      </a:lnTo>
                      <a:lnTo>
                        <a:pt x="424" y="57"/>
                      </a:lnTo>
                      <a:lnTo>
                        <a:pt x="428" y="60"/>
                      </a:lnTo>
                      <a:lnTo>
                        <a:pt x="428" y="62"/>
                      </a:lnTo>
                      <a:lnTo>
                        <a:pt x="428" y="65"/>
                      </a:lnTo>
                      <a:lnTo>
                        <a:pt x="433" y="67"/>
                      </a:lnTo>
                      <a:lnTo>
                        <a:pt x="433" y="69"/>
                      </a:lnTo>
                      <a:lnTo>
                        <a:pt x="437" y="72"/>
                      </a:lnTo>
                      <a:lnTo>
                        <a:pt x="437" y="74"/>
                      </a:lnTo>
                      <a:lnTo>
                        <a:pt x="441" y="79"/>
                      </a:lnTo>
                      <a:lnTo>
                        <a:pt x="441" y="81"/>
                      </a:lnTo>
                      <a:lnTo>
                        <a:pt x="445" y="84"/>
                      </a:lnTo>
                      <a:lnTo>
                        <a:pt x="445" y="86"/>
                      </a:lnTo>
                      <a:lnTo>
                        <a:pt x="445" y="89"/>
                      </a:lnTo>
                      <a:lnTo>
                        <a:pt x="449" y="91"/>
                      </a:lnTo>
                      <a:lnTo>
                        <a:pt x="449" y="93"/>
                      </a:lnTo>
                      <a:lnTo>
                        <a:pt x="454" y="96"/>
                      </a:lnTo>
                      <a:lnTo>
                        <a:pt x="454" y="98"/>
                      </a:lnTo>
                      <a:lnTo>
                        <a:pt x="454" y="100"/>
                      </a:lnTo>
                      <a:lnTo>
                        <a:pt x="458" y="103"/>
                      </a:lnTo>
                      <a:lnTo>
                        <a:pt x="458" y="108"/>
                      </a:lnTo>
                      <a:lnTo>
                        <a:pt x="458" y="110"/>
                      </a:lnTo>
                      <a:lnTo>
                        <a:pt x="462" y="112"/>
                      </a:lnTo>
                      <a:lnTo>
                        <a:pt x="462" y="115"/>
                      </a:lnTo>
                      <a:lnTo>
                        <a:pt x="466" y="120"/>
                      </a:lnTo>
                      <a:lnTo>
                        <a:pt x="466" y="122"/>
                      </a:lnTo>
                      <a:lnTo>
                        <a:pt x="466" y="124"/>
                      </a:lnTo>
                      <a:lnTo>
                        <a:pt x="470" y="127"/>
                      </a:lnTo>
                      <a:lnTo>
                        <a:pt x="470" y="132"/>
                      </a:lnTo>
                      <a:lnTo>
                        <a:pt x="475" y="134"/>
                      </a:lnTo>
                      <a:lnTo>
                        <a:pt x="475" y="136"/>
                      </a:lnTo>
                      <a:lnTo>
                        <a:pt x="475" y="141"/>
                      </a:lnTo>
                      <a:lnTo>
                        <a:pt x="479" y="144"/>
                      </a:lnTo>
                      <a:lnTo>
                        <a:pt x="479" y="148"/>
                      </a:lnTo>
                      <a:lnTo>
                        <a:pt x="479" y="151"/>
                      </a:lnTo>
                      <a:lnTo>
                        <a:pt x="483" y="153"/>
                      </a:lnTo>
                      <a:lnTo>
                        <a:pt x="483" y="158"/>
                      </a:lnTo>
                      <a:lnTo>
                        <a:pt x="487" y="160"/>
                      </a:lnTo>
                      <a:lnTo>
                        <a:pt x="487" y="165"/>
                      </a:lnTo>
                      <a:lnTo>
                        <a:pt x="487" y="167"/>
                      </a:lnTo>
                      <a:lnTo>
                        <a:pt x="491" y="172"/>
                      </a:lnTo>
                      <a:lnTo>
                        <a:pt x="491" y="175"/>
                      </a:lnTo>
                      <a:lnTo>
                        <a:pt x="496" y="179"/>
                      </a:lnTo>
                      <a:lnTo>
                        <a:pt x="496" y="182"/>
                      </a:lnTo>
                      <a:lnTo>
                        <a:pt x="496" y="187"/>
                      </a:lnTo>
                      <a:lnTo>
                        <a:pt x="500" y="191"/>
                      </a:lnTo>
                      <a:lnTo>
                        <a:pt x="500" y="194"/>
                      </a:lnTo>
                      <a:lnTo>
                        <a:pt x="504" y="199"/>
                      </a:lnTo>
                      <a:lnTo>
                        <a:pt x="504" y="201"/>
                      </a:lnTo>
                      <a:lnTo>
                        <a:pt x="504" y="206"/>
                      </a:lnTo>
                      <a:lnTo>
                        <a:pt x="508" y="211"/>
                      </a:lnTo>
                      <a:lnTo>
                        <a:pt x="508" y="213"/>
                      </a:lnTo>
                      <a:lnTo>
                        <a:pt x="508" y="218"/>
                      </a:lnTo>
                      <a:lnTo>
                        <a:pt x="512" y="223"/>
                      </a:lnTo>
                      <a:lnTo>
                        <a:pt x="512" y="227"/>
                      </a:lnTo>
                      <a:lnTo>
                        <a:pt x="517" y="230"/>
                      </a:lnTo>
                      <a:lnTo>
                        <a:pt x="517" y="234"/>
                      </a:lnTo>
                      <a:lnTo>
                        <a:pt x="517" y="239"/>
                      </a:lnTo>
                      <a:lnTo>
                        <a:pt x="521" y="244"/>
                      </a:lnTo>
                      <a:lnTo>
                        <a:pt x="521" y="246"/>
                      </a:lnTo>
                      <a:lnTo>
                        <a:pt x="525" y="251"/>
                      </a:lnTo>
                      <a:lnTo>
                        <a:pt x="525" y="256"/>
                      </a:lnTo>
                      <a:lnTo>
                        <a:pt x="525" y="261"/>
                      </a:lnTo>
                      <a:lnTo>
                        <a:pt x="529" y="266"/>
                      </a:lnTo>
                      <a:lnTo>
                        <a:pt x="529" y="270"/>
                      </a:lnTo>
                      <a:lnTo>
                        <a:pt x="533" y="275"/>
                      </a:lnTo>
                      <a:lnTo>
                        <a:pt x="533" y="280"/>
                      </a:lnTo>
                      <a:lnTo>
                        <a:pt x="533" y="282"/>
                      </a:lnTo>
                      <a:lnTo>
                        <a:pt x="538" y="287"/>
                      </a:lnTo>
                      <a:lnTo>
                        <a:pt x="538" y="292"/>
                      </a:lnTo>
                      <a:lnTo>
                        <a:pt x="538" y="297"/>
                      </a:lnTo>
                      <a:lnTo>
                        <a:pt x="542" y="301"/>
                      </a:lnTo>
                      <a:lnTo>
                        <a:pt x="542" y="306"/>
                      </a:lnTo>
                      <a:lnTo>
                        <a:pt x="546" y="311"/>
                      </a:lnTo>
                      <a:lnTo>
                        <a:pt x="546" y="318"/>
                      </a:lnTo>
                      <a:lnTo>
                        <a:pt x="546" y="323"/>
                      </a:lnTo>
                      <a:lnTo>
                        <a:pt x="550" y="328"/>
                      </a:lnTo>
                      <a:lnTo>
                        <a:pt x="550" y="333"/>
                      </a:lnTo>
                      <a:lnTo>
                        <a:pt x="554" y="337"/>
                      </a:lnTo>
                      <a:lnTo>
                        <a:pt x="554" y="342"/>
                      </a:lnTo>
                      <a:lnTo>
                        <a:pt x="554" y="347"/>
                      </a:lnTo>
                      <a:lnTo>
                        <a:pt x="559" y="352"/>
                      </a:lnTo>
                      <a:lnTo>
                        <a:pt x="559" y="357"/>
                      </a:lnTo>
                      <a:lnTo>
                        <a:pt x="563" y="364"/>
                      </a:lnTo>
                      <a:lnTo>
                        <a:pt x="563" y="368"/>
                      </a:lnTo>
                      <a:lnTo>
                        <a:pt x="563" y="373"/>
                      </a:lnTo>
                      <a:lnTo>
                        <a:pt x="567" y="378"/>
                      </a:lnTo>
                      <a:lnTo>
                        <a:pt x="567" y="385"/>
                      </a:lnTo>
                      <a:lnTo>
                        <a:pt x="567" y="390"/>
                      </a:lnTo>
                      <a:lnTo>
                        <a:pt x="571" y="395"/>
                      </a:lnTo>
                      <a:lnTo>
                        <a:pt x="571" y="400"/>
                      </a:lnTo>
                      <a:lnTo>
                        <a:pt x="575" y="407"/>
                      </a:lnTo>
                      <a:lnTo>
                        <a:pt x="575" y="412"/>
                      </a:lnTo>
                      <a:lnTo>
                        <a:pt x="575" y="416"/>
                      </a:lnTo>
                      <a:lnTo>
                        <a:pt x="580" y="424"/>
                      </a:lnTo>
                      <a:lnTo>
                        <a:pt x="580" y="428"/>
                      </a:lnTo>
                      <a:lnTo>
                        <a:pt x="584" y="435"/>
                      </a:lnTo>
                      <a:lnTo>
                        <a:pt x="584" y="440"/>
                      </a:lnTo>
                      <a:lnTo>
                        <a:pt x="584" y="445"/>
                      </a:lnTo>
                      <a:lnTo>
                        <a:pt x="588" y="452"/>
                      </a:lnTo>
                      <a:lnTo>
                        <a:pt x="588" y="457"/>
                      </a:lnTo>
                      <a:lnTo>
                        <a:pt x="592" y="464"/>
                      </a:lnTo>
                      <a:lnTo>
                        <a:pt x="592" y="469"/>
                      </a:lnTo>
                      <a:lnTo>
                        <a:pt x="592" y="476"/>
                      </a:lnTo>
                      <a:lnTo>
                        <a:pt x="596" y="481"/>
                      </a:lnTo>
                      <a:lnTo>
                        <a:pt x="596" y="488"/>
                      </a:lnTo>
                      <a:lnTo>
                        <a:pt x="596" y="495"/>
                      </a:lnTo>
                      <a:lnTo>
                        <a:pt x="601" y="500"/>
                      </a:lnTo>
                      <a:lnTo>
                        <a:pt x="601" y="507"/>
                      </a:lnTo>
                      <a:lnTo>
                        <a:pt x="605" y="512"/>
                      </a:lnTo>
                      <a:lnTo>
                        <a:pt x="605" y="519"/>
                      </a:lnTo>
                      <a:lnTo>
                        <a:pt x="605" y="526"/>
                      </a:lnTo>
                      <a:lnTo>
                        <a:pt x="609" y="531"/>
                      </a:lnTo>
                      <a:lnTo>
                        <a:pt x="609" y="538"/>
                      </a:lnTo>
                      <a:lnTo>
                        <a:pt x="613" y="546"/>
                      </a:lnTo>
                      <a:lnTo>
                        <a:pt x="613" y="550"/>
                      </a:lnTo>
                      <a:lnTo>
                        <a:pt x="613" y="558"/>
                      </a:lnTo>
                      <a:lnTo>
                        <a:pt x="617" y="565"/>
                      </a:lnTo>
                      <a:lnTo>
                        <a:pt x="617" y="572"/>
                      </a:lnTo>
                      <a:lnTo>
                        <a:pt x="622" y="577"/>
                      </a:lnTo>
                      <a:lnTo>
                        <a:pt x="622" y="584"/>
                      </a:lnTo>
                      <a:lnTo>
                        <a:pt x="622" y="591"/>
                      </a:lnTo>
                      <a:lnTo>
                        <a:pt x="626" y="598"/>
                      </a:lnTo>
                      <a:lnTo>
                        <a:pt x="626" y="605"/>
                      </a:lnTo>
                      <a:lnTo>
                        <a:pt x="626" y="610"/>
                      </a:lnTo>
                      <a:lnTo>
                        <a:pt x="630" y="617"/>
                      </a:lnTo>
                      <a:lnTo>
                        <a:pt x="630" y="625"/>
                      </a:lnTo>
                      <a:lnTo>
                        <a:pt x="634" y="632"/>
                      </a:lnTo>
                      <a:lnTo>
                        <a:pt x="634" y="639"/>
                      </a:lnTo>
                      <a:lnTo>
                        <a:pt x="634" y="646"/>
                      </a:lnTo>
                      <a:lnTo>
                        <a:pt x="638" y="653"/>
                      </a:lnTo>
                      <a:lnTo>
                        <a:pt x="638" y="660"/>
                      </a:lnTo>
                      <a:lnTo>
                        <a:pt x="643" y="668"/>
                      </a:lnTo>
                      <a:lnTo>
                        <a:pt x="643" y="675"/>
                      </a:lnTo>
                      <a:lnTo>
                        <a:pt x="643" y="682"/>
                      </a:lnTo>
                      <a:lnTo>
                        <a:pt x="647" y="689"/>
                      </a:lnTo>
                      <a:lnTo>
                        <a:pt x="647" y="696"/>
                      </a:lnTo>
                      <a:lnTo>
                        <a:pt x="651" y="703"/>
                      </a:lnTo>
                      <a:lnTo>
                        <a:pt x="651" y="711"/>
                      </a:lnTo>
                      <a:lnTo>
                        <a:pt x="651" y="718"/>
                      </a:lnTo>
                      <a:lnTo>
                        <a:pt x="655" y="725"/>
                      </a:lnTo>
                      <a:lnTo>
                        <a:pt x="655" y="732"/>
                      </a:lnTo>
                      <a:lnTo>
                        <a:pt x="655" y="739"/>
                      </a:lnTo>
                      <a:lnTo>
                        <a:pt x="659" y="749"/>
                      </a:lnTo>
                      <a:lnTo>
                        <a:pt x="659" y="756"/>
                      </a:lnTo>
                      <a:lnTo>
                        <a:pt x="664" y="763"/>
                      </a:lnTo>
                      <a:lnTo>
                        <a:pt x="664" y="770"/>
                      </a:lnTo>
                      <a:lnTo>
                        <a:pt x="664" y="778"/>
                      </a:lnTo>
                      <a:lnTo>
                        <a:pt x="668" y="787"/>
                      </a:lnTo>
                      <a:lnTo>
                        <a:pt x="668" y="794"/>
                      </a:lnTo>
                      <a:lnTo>
                        <a:pt x="672" y="802"/>
                      </a:lnTo>
                      <a:lnTo>
                        <a:pt x="672" y="809"/>
                      </a:lnTo>
                    </a:path>
                  </a:pathLst>
                </a:custGeom>
                <a:noFill/>
                <a:ln w="38160">
                  <a:solidFill>
                    <a:srgbClr val="ff505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"/>
                <p:cNvSpPr/>
                <p:nvPr/>
              </p:nvSpPr>
              <p:spPr>
                <a:xfrm>
                  <a:off x="6933960" y="3746520"/>
                  <a:ext cx="34920" cy="19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"/>
                <p:cNvSpPr/>
                <p:nvPr/>
              </p:nvSpPr>
              <p:spPr>
                <a:xfrm>
                  <a:off x="7188120" y="3746520"/>
                  <a:ext cx="33120" cy="19080"/>
                </a:xfrm>
                <a:prstGeom prst="ellipse">
                  <a:avLst/>
                </a:prstGeom>
                <a:solidFill>
                  <a:srgbClr val="ff0000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>
                  <a:off x="7065720" y="2421000"/>
                  <a:ext cx="76212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y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>
                  <a:off x="6856200" y="3718080"/>
                  <a:ext cx="914400" cy="4597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2400" spc="-1" strike="noStrike">
                      <a:solidFill>
                        <a:srgbClr val="000000"/>
                      </a:solidFill>
                      <a:latin typeface="Times New Roman"/>
                    </a:rPr>
                    <a:t>o</a:t>
                  </a:r>
                  <a:endParaRPr b="0" lang="en-US" sz="24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"/>
                <p:cNvSpPr/>
                <p:nvPr/>
              </p:nvSpPr>
              <p:spPr>
                <a:xfrm>
                  <a:off x="6467400" y="2565360"/>
                  <a:ext cx="914400" cy="1143000"/>
                </a:xfrm>
                <a:custGeom>
                  <a:avLst/>
                  <a:gdLst/>
                  <a:ahLst/>
                  <a:rect l="l" t="t" r="r" b="b"/>
                  <a:pathLst>
                    <a:path w="960" h="1236">
                      <a:moveTo>
                        <a:pt x="0" y="8"/>
                      </a:moveTo>
                      <a:lnTo>
                        <a:pt x="6" y="19"/>
                      </a:lnTo>
                      <a:lnTo>
                        <a:pt x="6" y="30"/>
                      </a:lnTo>
                      <a:lnTo>
                        <a:pt x="6" y="41"/>
                      </a:lnTo>
                      <a:lnTo>
                        <a:pt x="12" y="55"/>
                      </a:lnTo>
                      <a:lnTo>
                        <a:pt x="12" y="66"/>
                      </a:lnTo>
                      <a:lnTo>
                        <a:pt x="18" y="77"/>
                      </a:lnTo>
                      <a:lnTo>
                        <a:pt x="18" y="88"/>
                      </a:lnTo>
                      <a:lnTo>
                        <a:pt x="18" y="99"/>
                      </a:lnTo>
                      <a:lnTo>
                        <a:pt x="24" y="110"/>
                      </a:lnTo>
                      <a:lnTo>
                        <a:pt x="24" y="125"/>
                      </a:lnTo>
                      <a:lnTo>
                        <a:pt x="30" y="136"/>
                      </a:lnTo>
                      <a:lnTo>
                        <a:pt x="30" y="147"/>
                      </a:lnTo>
                      <a:lnTo>
                        <a:pt x="30" y="158"/>
                      </a:lnTo>
                      <a:lnTo>
                        <a:pt x="36" y="169"/>
                      </a:lnTo>
                      <a:lnTo>
                        <a:pt x="36" y="180"/>
                      </a:lnTo>
                      <a:lnTo>
                        <a:pt x="36" y="191"/>
                      </a:lnTo>
                      <a:lnTo>
                        <a:pt x="42" y="201"/>
                      </a:lnTo>
                      <a:lnTo>
                        <a:pt x="42" y="212"/>
                      </a:lnTo>
                      <a:lnTo>
                        <a:pt x="48" y="223"/>
                      </a:lnTo>
                      <a:lnTo>
                        <a:pt x="48" y="234"/>
                      </a:lnTo>
                      <a:lnTo>
                        <a:pt x="48" y="245"/>
                      </a:lnTo>
                      <a:lnTo>
                        <a:pt x="54" y="256"/>
                      </a:lnTo>
                      <a:lnTo>
                        <a:pt x="54" y="267"/>
                      </a:lnTo>
                      <a:lnTo>
                        <a:pt x="60" y="278"/>
                      </a:lnTo>
                      <a:lnTo>
                        <a:pt x="60" y="289"/>
                      </a:lnTo>
                      <a:lnTo>
                        <a:pt x="60" y="297"/>
                      </a:lnTo>
                      <a:lnTo>
                        <a:pt x="66" y="307"/>
                      </a:lnTo>
                      <a:lnTo>
                        <a:pt x="66" y="318"/>
                      </a:lnTo>
                      <a:lnTo>
                        <a:pt x="72" y="329"/>
                      </a:lnTo>
                      <a:lnTo>
                        <a:pt x="72" y="340"/>
                      </a:lnTo>
                      <a:lnTo>
                        <a:pt x="72" y="351"/>
                      </a:lnTo>
                      <a:lnTo>
                        <a:pt x="78" y="359"/>
                      </a:lnTo>
                      <a:lnTo>
                        <a:pt x="78" y="370"/>
                      </a:lnTo>
                      <a:lnTo>
                        <a:pt x="78" y="381"/>
                      </a:lnTo>
                      <a:lnTo>
                        <a:pt x="84" y="392"/>
                      </a:lnTo>
                      <a:lnTo>
                        <a:pt x="84" y="399"/>
                      </a:lnTo>
                      <a:lnTo>
                        <a:pt x="90" y="410"/>
                      </a:lnTo>
                      <a:lnTo>
                        <a:pt x="90" y="421"/>
                      </a:lnTo>
                      <a:lnTo>
                        <a:pt x="90" y="428"/>
                      </a:lnTo>
                      <a:lnTo>
                        <a:pt x="96" y="439"/>
                      </a:lnTo>
                      <a:lnTo>
                        <a:pt x="96" y="450"/>
                      </a:lnTo>
                      <a:lnTo>
                        <a:pt x="102" y="457"/>
                      </a:lnTo>
                      <a:lnTo>
                        <a:pt x="102" y="468"/>
                      </a:lnTo>
                      <a:lnTo>
                        <a:pt x="102" y="476"/>
                      </a:lnTo>
                      <a:lnTo>
                        <a:pt x="108" y="487"/>
                      </a:lnTo>
                      <a:lnTo>
                        <a:pt x="108" y="494"/>
                      </a:lnTo>
                      <a:lnTo>
                        <a:pt x="114" y="505"/>
                      </a:lnTo>
                      <a:lnTo>
                        <a:pt x="114" y="516"/>
                      </a:lnTo>
                      <a:lnTo>
                        <a:pt x="114" y="523"/>
                      </a:lnTo>
                      <a:lnTo>
                        <a:pt x="120" y="534"/>
                      </a:lnTo>
                      <a:lnTo>
                        <a:pt x="120" y="541"/>
                      </a:lnTo>
                      <a:lnTo>
                        <a:pt x="120" y="549"/>
                      </a:lnTo>
                      <a:lnTo>
                        <a:pt x="126" y="560"/>
                      </a:lnTo>
                      <a:lnTo>
                        <a:pt x="126" y="567"/>
                      </a:lnTo>
                      <a:lnTo>
                        <a:pt x="132" y="578"/>
                      </a:lnTo>
                      <a:lnTo>
                        <a:pt x="132" y="585"/>
                      </a:lnTo>
                      <a:lnTo>
                        <a:pt x="132" y="596"/>
                      </a:lnTo>
                      <a:lnTo>
                        <a:pt x="138" y="604"/>
                      </a:lnTo>
                      <a:lnTo>
                        <a:pt x="138" y="611"/>
                      </a:lnTo>
                      <a:lnTo>
                        <a:pt x="144" y="622"/>
                      </a:lnTo>
                      <a:lnTo>
                        <a:pt x="144" y="629"/>
                      </a:lnTo>
                      <a:lnTo>
                        <a:pt x="144" y="636"/>
                      </a:lnTo>
                      <a:lnTo>
                        <a:pt x="150" y="644"/>
                      </a:lnTo>
                      <a:lnTo>
                        <a:pt x="150" y="655"/>
                      </a:lnTo>
                      <a:lnTo>
                        <a:pt x="156" y="662"/>
                      </a:lnTo>
                      <a:lnTo>
                        <a:pt x="156" y="669"/>
                      </a:lnTo>
                      <a:lnTo>
                        <a:pt x="156" y="677"/>
                      </a:lnTo>
                      <a:lnTo>
                        <a:pt x="162" y="688"/>
                      </a:lnTo>
                      <a:lnTo>
                        <a:pt x="162" y="695"/>
                      </a:lnTo>
                      <a:lnTo>
                        <a:pt x="162" y="702"/>
                      </a:lnTo>
                      <a:lnTo>
                        <a:pt x="168" y="710"/>
                      </a:lnTo>
                      <a:lnTo>
                        <a:pt x="168" y="717"/>
                      </a:lnTo>
                      <a:lnTo>
                        <a:pt x="174" y="724"/>
                      </a:lnTo>
                      <a:lnTo>
                        <a:pt x="174" y="732"/>
                      </a:lnTo>
                      <a:lnTo>
                        <a:pt x="174" y="742"/>
                      </a:lnTo>
                      <a:lnTo>
                        <a:pt x="180" y="750"/>
                      </a:lnTo>
                      <a:lnTo>
                        <a:pt x="180" y="757"/>
                      </a:lnTo>
                      <a:lnTo>
                        <a:pt x="186" y="764"/>
                      </a:lnTo>
                      <a:lnTo>
                        <a:pt x="186" y="772"/>
                      </a:lnTo>
                      <a:lnTo>
                        <a:pt x="186" y="779"/>
                      </a:lnTo>
                      <a:lnTo>
                        <a:pt x="192" y="786"/>
                      </a:lnTo>
                      <a:lnTo>
                        <a:pt x="192" y="794"/>
                      </a:lnTo>
                      <a:lnTo>
                        <a:pt x="198" y="801"/>
                      </a:lnTo>
                      <a:lnTo>
                        <a:pt x="198" y="808"/>
                      </a:lnTo>
                      <a:lnTo>
                        <a:pt x="198" y="816"/>
                      </a:lnTo>
                      <a:lnTo>
                        <a:pt x="204" y="819"/>
                      </a:lnTo>
                      <a:lnTo>
                        <a:pt x="204" y="827"/>
                      </a:lnTo>
                      <a:lnTo>
                        <a:pt x="204" y="834"/>
                      </a:lnTo>
                      <a:lnTo>
                        <a:pt x="210" y="841"/>
                      </a:lnTo>
                      <a:lnTo>
                        <a:pt x="210" y="849"/>
                      </a:lnTo>
                      <a:lnTo>
                        <a:pt x="216" y="856"/>
                      </a:lnTo>
                      <a:lnTo>
                        <a:pt x="216" y="863"/>
                      </a:lnTo>
                      <a:lnTo>
                        <a:pt x="216" y="867"/>
                      </a:lnTo>
                      <a:lnTo>
                        <a:pt x="222" y="874"/>
                      </a:lnTo>
                      <a:lnTo>
                        <a:pt x="222" y="881"/>
                      </a:lnTo>
                      <a:lnTo>
                        <a:pt x="228" y="889"/>
                      </a:lnTo>
                      <a:lnTo>
                        <a:pt x="228" y="892"/>
                      </a:lnTo>
                      <a:lnTo>
                        <a:pt x="228" y="900"/>
                      </a:lnTo>
                      <a:lnTo>
                        <a:pt x="234" y="907"/>
                      </a:lnTo>
                      <a:lnTo>
                        <a:pt x="234" y="914"/>
                      </a:lnTo>
                      <a:lnTo>
                        <a:pt x="240" y="918"/>
                      </a:lnTo>
                      <a:lnTo>
                        <a:pt x="240" y="925"/>
                      </a:lnTo>
                      <a:lnTo>
                        <a:pt x="240" y="933"/>
                      </a:lnTo>
                      <a:lnTo>
                        <a:pt x="246" y="936"/>
                      </a:lnTo>
                      <a:lnTo>
                        <a:pt x="246" y="944"/>
                      </a:lnTo>
                      <a:lnTo>
                        <a:pt x="246" y="947"/>
                      </a:lnTo>
                      <a:lnTo>
                        <a:pt x="252" y="955"/>
                      </a:lnTo>
                      <a:lnTo>
                        <a:pt x="252" y="958"/>
                      </a:lnTo>
                      <a:lnTo>
                        <a:pt x="258" y="965"/>
                      </a:lnTo>
                      <a:lnTo>
                        <a:pt x="258" y="973"/>
                      </a:lnTo>
                      <a:lnTo>
                        <a:pt x="258" y="976"/>
                      </a:lnTo>
                      <a:lnTo>
                        <a:pt x="264" y="984"/>
                      </a:lnTo>
                      <a:lnTo>
                        <a:pt x="264" y="987"/>
                      </a:lnTo>
                      <a:lnTo>
                        <a:pt x="270" y="995"/>
                      </a:lnTo>
                      <a:lnTo>
                        <a:pt x="270" y="998"/>
                      </a:lnTo>
                      <a:lnTo>
                        <a:pt x="270" y="1002"/>
                      </a:lnTo>
                      <a:lnTo>
                        <a:pt x="276" y="1009"/>
                      </a:lnTo>
                      <a:lnTo>
                        <a:pt x="276" y="1013"/>
                      </a:lnTo>
                      <a:lnTo>
                        <a:pt x="282" y="1020"/>
                      </a:lnTo>
                      <a:lnTo>
                        <a:pt x="282" y="1024"/>
                      </a:lnTo>
                      <a:lnTo>
                        <a:pt x="282" y="1028"/>
                      </a:lnTo>
                      <a:lnTo>
                        <a:pt x="288" y="1035"/>
                      </a:lnTo>
                      <a:lnTo>
                        <a:pt x="288" y="1039"/>
                      </a:lnTo>
                      <a:lnTo>
                        <a:pt x="288" y="1042"/>
                      </a:lnTo>
                      <a:lnTo>
                        <a:pt x="294" y="1050"/>
                      </a:lnTo>
                      <a:lnTo>
                        <a:pt x="294" y="1053"/>
                      </a:lnTo>
                      <a:lnTo>
                        <a:pt x="300" y="1057"/>
                      </a:lnTo>
                      <a:lnTo>
                        <a:pt x="300" y="1061"/>
                      </a:lnTo>
                      <a:lnTo>
                        <a:pt x="300" y="1068"/>
                      </a:lnTo>
                      <a:lnTo>
                        <a:pt x="306" y="1071"/>
                      </a:lnTo>
                      <a:lnTo>
                        <a:pt x="306" y="1075"/>
                      </a:lnTo>
                      <a:lnTo>
                        <a:pt x="312" y="1079"/>
                      </a:lnTo>
                      <a:lnTo>
                        <a:pt x="312" y="1082"/>
                      </a:lnTo>
                      <a:lnTo>
                        <a:pt x="312" y="1086"/>
                      </a:lnTo>
                      <a:lnTo>
                        <a:pt x="318" y="1093"/>
                      </a:lnTo>
                      <a:lnTo>
                        <a:pt x="318" y="1097"/>
                      </a:lnTo>
                      <a:lnTo>
                        <a:pt x="318" y="1101"/>
                      </a:lnTo>
                      <a:lnTo>
                        <a:pt x="324" y="1104"/>
                      </a:lnTo>
                      <a:lnTo>
                        <a:pt x="324" y="1108"/>
                      </a:lnTo>
                      <a:lnTo>
                        <a:pt x="330" y="1112"/>
                      </a:lnTo>
                      <a:lnTo>
                        <a:pt x="330" y="1115"/>
                      </a:lnTo>
                      <a:lnTo>
                        <a:pt x="330" y="1119"/>
                      </a:lnTo>
                      <a:lnTo>
                        <a:pt x="336" y="1123"/>
                      </a:lnTo>
                      <a:lnTo>
                        <a:pt x="336" y="1126"/>
                      </a:lnTo>
                      <a:lnTo>
                        <a:pt x="342" y="1130"/>
                      </a:lnTo>
                      <a:lnTo>
                        <a:pt x="342" y="1134"/>
                      </a:lnTo>
                      <a:lnTo>
                        <a:pt x="342" y="1137"/>
                      </a:lnTo>
                      <a:lnTo>
                        <a:pt x="348" y="1141"/>
                      </a:lnTo>
                      <a:lnTo>
                        <a:pt x="348" y="1145"/>
                      </a:lnTo>
                      <a:lnTo>
                        <a:pt x="354" y="1148"/>
                      </a:lnTo>
                      <a:lnTo>
                        <a:pt x="354" y="1152"/>
                      </a:lnTo>
                      <a:lnTo>
                        <a:pt x="360" y="1156"/>
                      </a:lnTo>
                      <a:lnTo>
                        <a:pt x="360" y="1159"/>
                      </a:lnTo>
                      <a:lnTo>
                        <a:pt x="360" y="1163"/>
                      </a:lnTo>
                      <a:lnTo>
                        <a:pt x="366" y="1167"/>
                      </a:lnTo>
                      <a:lnTo>
                        <a:pt x="372" y="1170"/>
                      </a:lnTo>
                      <a:lnTo>
                        <a:pt x="372" y="1174"/>
                      </a:lnTo>
                      <a:lnTo>
                        <a:pt x="372" y="1178"/>
                      </a:lnTo>
                      <a:lnTo>
                        <a:pt x="378" y="1178"/>
                      </a:lnTo>
                      <a:lnTo>
                        <a:pt x="378" y="1181"/>
                      </a:lnTo>
                      <a:lnTo>
                        <a:pt x="384" y="1185"/>
                      </a:lnTo>
                      <a:lnTo>
                        <a:pt x="384" y="1188"/>
                      </a:lnTo>
                      <a:lnTo>
                        <a:pt x="390" y="1192"/>
                      </a:lnTo>
                      <a:lnTo>
                        <a:pt x="396" y="1196"/>
                      </a:lnTo>
                      <a:lnTo>
                        <a:pt x="396" y="1199"/>
                      </a:lnTo>
                      <a:lnTo>
                        <a:pt x="402" y="1203"/>
                      </a:lnTo>
                      <a:lnTo>
                        <a:pt x="402" y="1207"/>
                      </a:lnTo>
                      <a:lnTo>
                        <a:pt x="408" y="1207"/>
                      </a:lnTo>
                      <a:lnTo>
                        <a:pt x="408" y="1210"/>
                      </a:lnTo>
                      <a:lnTo>
                        <a:pt x="414" y="1210"/>
                      </a:lnTo>
                      <a:lnTo>
                        <a:pt x="414" y="1214"/>
                      </a:lnTo>
                      <a:lnTo>
                        <a:pt x="420" y="1218"/>
                      </a:lnTo>
                      <a:lnTo>
                        <a:pt x="426" y="1218"/>
                      </a:lnTo>
                      <a:lnTo>
                        <a:pt x="426" y="1221"/>
                      </a:lnTo>
                      <a:lnTo>
                        <a:pt x="432" y="1221"/>
                      </a:lnTo>
                      <a:lnTo>
                        <a:pt x="432" y="1225"/>
                      </a:lnTo>
                      <a:lnTo>
                        <a:pt x="438" y="1225"/>
                      </a:lnTo>
                      <a:lnTo>
                        <a:pt x="438" y="1229"/>
                      </a:lnTo>
                      <a:lnTo>
                        <a:pt x="444" y="1229"/>
                      </a:lnTo>
                      <a:lnTo>
                        <a:pt x="450" y="1232"/>
                      </a:lnTo>
                      <a:lnTo>
                        <a:pt x="456" y="1232"/>
                      </a:lnTo>
                      <a:lnTo>
                        <a:pt x="462" y="1232"/>
                      </a:lnTo>
                      <a:lnTo>
                        <a:pt x="462" y="1236"/>
                      </a:lnTo>
                      <a:lnTo>
                        <a:pt x="468" y="1236"/>
                      </a:lnTo>
                      <a:lnTo>
                        <a:pt x="474" y="1236"/>
                      </a:lnTo>
                      <a:lnTo>
                        <a:pt x="480" y="1236"/>
                      </a:lnTo>
                      <a:lnTo>
                        <a:pt x="486" y="1236"/>
                      </a:lnTo>
                      <a:lnTo>
                        <a:pt x="492" y="1236"/>
                      </a:lnTo>
                      <a:lnTo>
                        <a:pt x="498" y="1236"/>
                      </a:lnTo>
                      <a:lnTo>
                        <a:pt x="498" y="1232"/>
                      </a:lnTo>
                      <a:lnTo>
                        <a:pt x="504" y="1232"/>
                      </a:lnTo>
                      <a:lnTo>
                        <a:pt x="510" y="1232"/>
                      </a:lnTo>
                      <a:lnTo>
                        <a:pt x="510" y="1229"/>
                      </a:lnTo>
                      <a:lnTo>
                        <a:pt x="516" y="1229"/>
                      </a:lnTo>
                      <a:lnTo>
                        <a:pt x="522" y="1229"/>
                      </a:lnTo>
                      <a:lnTo>
                        <a:pt x="522" y="1225"/>
                      </a:lnTo>
                      <a:lnTo>
                        <a:pt x="528" y="1225"/>
                      </a:lnTo>
                      <a:lnTo>
                        <a:pt x="528" y="1221"/>
                      </a:lnTo>
                      <a:lnTo>
                        <a:pt x="534" y="1221"/>
                      </a:lnTo>
                      <a:lnTo>
                        <a:pt x="534" y="1218"/>
                      </a:lnTo>
                      <a:lnTo>
                        <a:pt x="540" y="1218"/>
                      </a:lnTo>
                      <a:lnTo>
                        <a:pt x="540" y="1214"/>
                      </a:lnTo>
                      <a:lnTo>
                        <a:pt x="546" y="1214"/>
                      </a:lnTo>
                      <a:lnTo>
                        <a:pt x="546" y="1210"/>
                      </a:lnTo>
                      <a:lnTo>
                        <a:pt x="552" y="1210"/>
                      </a:lnTo>
                      <a:lnTo>
                        <a:pt x="552" y="1207"/>
                      </a:lnTo>
                      <a:lnTo>
                        <a:pt x="558" y="1203"/>
                      </a:lnTo>
                      <a:lnTo>
                        <a:pt x="564" y="1199"/>
                      </a:lnTo>
                      <a:lnTo>
                        <a:pt x="564" y="1196"/>
                      </a:lnTo>
                      <a:lnTo>
                        <a:pt x="570" y="1196"/>
                      </a:lnTo>
                      <a:lnTo>
                        <a:pt x="570" y="1192"/>
                      </a:lnTo>
                      <a:lnTo>
                        <a:pt x="570" y="1188"/>
                      </a:lnTo>
                      <a:lnTo>
                        <a:pt x="576" y="1188"/>
                      </a:lnTo>
                      <a:lnTo>
                        <a:pt x="576" y="1185"/>
                      </a:lnTo>
                      <a:lnTo>
                        <a:pt x="582" y="1181"/>
                      </a:lnTo>
                      <a:lnTo>
                        <a:pt x="582" y="1178"/>
                      </a:lnTo>
                      <a:lnTo>
                        <a:pt x="588" y="1174"/>
                      </a:lnTo>
                      <a:lnTo>
                        <a:pt x="594" y="1170"/>
                      </a:lnTo>
                      <a:lnTo>
                        <a:pt x="594" y="1167"/>
                      </a:lnTo>
                      <a:lnTo>
                        <a:pt x="594" y="1163"/>
                      </a:lnTo>
                      <a:lnTo>
                        <a:pt x="600" y="1159"/>
                      </a:lnTo>
                      <a:lnTo>
                        <a:pt x="606" y="1156"/>
                      </a:lnTo>
                      <a:lnTo>
                        <a:pt x="606" y="1152"/>
                      </a:lnTo>
                      <a:lnTo>
                        <a:pt x="606" y="1148"/>
                      </a:lnTo>
                      <a:lnTo>
                        <a:pt x="612" y="1145"/>
                      </a:lnTo>
                      <a:lnTo>
                        <a:pt x="612" y="1141"/>
                      </a:lnTo>
                      <a:lnTo>
                        <a:pt x="612" y="1137"/>
                      </a:lnTo>
                      <a:lnTo>
                        <a:pt x="618" y="1134"/>
                      </a:lnTo>
                      <a:lnTo>
                        <a:pt x="618" y="1130"/>
                      </a:lnTo>
                      <a:lnTo>
                        <a:pt x="624" y="1126"/>
                      </a:lnTo>
                      <a:lnTo>
                        <a:pt x="624" y="1123"/>
                      </a:lnTo>
                      <a:lnTo>
                        <a:pt x="630" y="1115"/>
                      </a:lnTo>
                      <a:lnTo>
                        <a:pt x="630" y="1112"/>
                      </a:lnTo>
                      <a:lnTo>
                        <a:pt x="636" y="1108"/>
                      </a:lnTo>
                      <a:lnTo>
                        <a:pt x="636" y="1104"/>
                      </a:lnTo>
                      <a:lnTo>
                        <a:pt x="636" y="1101"/>
                      </a:lnTo>
                      <a:lnTo>
                        <a:pt x="642" y="1097"/>
                      </a:lnTo>
                      <a:lnTo>
                        <a:pt x="642" y="1093"/>
                      </a:lnTo>
                      <a:lnTo>
                        <a:pt x="648" y="1090"/>
                      </a:lnTo>
                      <a:lnTo>
                        <a:pt x="648" y="1086"/>
                      </a:lnTo>
                      <a:lnTo>
                        <a:pt x="648" y="1082"/>
                      </a:lnTo>
                      <a:lnTo>
                        <a:pt x="654" y="1079"/>
                      </a:lnTo>
                      <a:lnTo>
                        <a:pt x="654" y="1071"/>
                      </a:lnTo>
                      <a:lnTo>
                        <a:pt x="654" y="1068"/>
                      </a:lnTo>
                      <a:lnTo>
                        <a:pt x="660" y="1064"/>
                      </a:lnTo>
                      <a:lnTo>
                        <a:pt x="660" y="1061"/>
                      </a:lnTo>
                      <a:lnTo>
                        <a:pt x="666" y="1053"/>
                      </a:lnTo>
                      <a:lnTo>
                        <a:pt x="666" y="1050"/>
                      </a:lnTo>
                      <a:lnTo>
                        <a:pt x="666" y="1046"/>
                      </a:lnTo>
                      <a:lnTo>
                        <a:pt x="672" y="1042"/>
                      </a:lnTo>
                      <a:lnTo>
                        <a:pt x="672" y="1035"/>
                      </a:lnTo>
                      <a:lnTo>
                        <a:pt x="678" y="1031"/>
                      </a:lnTo>
                      <a:lnTo>
                        <a:pt x="678" y="1028"/>
                      </a:lnTo>
                      <a:lnTo>
                        <a:pt x="678" y="1020"/>
                      </a:lnTo>
                      <a:lnTo>
                        <a:pt x="684" y="1017"/>
                      </a:lnTo>
                      <a:lnTo>
                        <a:pt x="684" y="1009"/>
                      </a:lnTo>
                      <a:lnTo>
                        <a:pt x="684" y="1006"/>
                      </a:lnTo>
                      <a:lnTo>
                        <a:pt x="690" y="1002"/>
                      </a:lnTo>
                      <a:lnTo>
                        <a:pt x="690" y="995"/>
                      </a:lnTo>
                      <a:lnTo>
                        <a:pt x="696" y="991"/>
                      </a:lnTo>
                      <a:lnTo>
                        <a:pt x="696" y="984"/>
                      </a:lnTo>
                      <a:lnTo>
                        <a:pt x="696" y="980"/>
                      </a:lnTo>
                      <a:lnTo>
                        <a:pt x="702" y="973"/>
                      </a:lnTo>
                      <a:lnTo>
                        <a:pt x="702" y="969"/>
                      </a:lnTo>
                      <a:lnTo>
                        <a:pt x="708" y="962"/>
                      </a:lnTo>
                      <a:lnTo>
                        <a:pt x="708" y="958"/>
                      </a:lnTo>
                      <a:lnTo>
                        <a:pt x="708" y="951"/>
                      </a:lnTo>
                      <a:lnTo>
                        <a:pt x="714" y="944"/>
                      </a:lnTo>
                      <a:lnTo>
                        <a:pt x="714" y="940"/>
                      </a:lnTo>
                      <a:lnTo>
                        <a:pt x="720" y="933"/>
                      </a:lnTo>
                      <a:lnTo>
                        <a:pt x="720" y="929"/>
                      </a:lnTo>
                      <a:lnTo>
                        <a:pt x="720" y="922"/>
                      </a:lnTo>
                      <a:lnTo>
                        <a:pt x="726" y="914"/>
                      </a:lnTo>
                      <a:lnTo>
                        <a:pt x="726" y="911"/>
                      </a:lnTo>
                      <a:lnTo>
                        <a:pt x="726" y="903"/>
                      </a:lnTo>
                      <a:lnTo>
                        <a:pt x="732" y="896"/>
                      </a:lnTo>
                      <a:lnTo>
                        <a:pt x="732" y="889"/>
                      </a:lnTo>
                      <a:lnTo>
                        <a:pt x="738" y="885"/>
                      </a:lnTo>
                      <a:lnTo>
                        <a:pt x="738" y="878"/>
                      </a:lnTo>
                      <a:lnTo>
                        <a:pt x="738" y="870"/>
                      </a:lnTo>
                      <a:lnTo>
                        <a:pt x="744" y="863"/>
                      </a:lnTo>
                      <a:lnTo>
                        <a:pt x="744" y="859"/>
                      </a:lnTo>
                      <a:lnTo>
                        <a:pt x="750" y="852"/>
                      </a:lnTo>
                      <a:lnTo>
                        <a:pt x="750" y="845"/>
                      </a:lnTo>
                      <a:lnTo>
                        <a:pt x="750" y="838"/>
                      </a:lnTo>
                      <a:lnTo>
                        <a:pt x="756" y="830"/>
                      </a:lnTo>
                      <a:lnTo>
                        <a:pt x="756" y="823"/>
                      </a:lnTo>
                      <a:lnTo>
                        <a:pt x="762" y="816"/>
                      </a:lnTo>
                      <a:lnTo>
                        <a:pt x="762" y="808"/>
                      </a:lnTo>
                      <a:lnTo>
                        <a:pt x="762" y="805"/>
                      </a:lnTo>
                      <a:lnTo>
                        <a:pt x="768" y="797"/>
                      </a:lnTo>
                      <a:lnTo>
                        <a:pt x="768" y="790"/>
                      </a:lnTo>
                      <a:lnTo>
                        <a:pt x="768" y="783"/>
                      </a:lnTo>
                      <a:lnTo>
                        <a:pt x="774" y="775"/>
                      </a:lnTo>
                      <a:lnTo>
                        <a:pt x="774" y="768"/>
                      </a:lnTo>
                      <a:lnTo>
                        <a:pt x="780" y="761"/>
                      </a:lnTo>
                      <a:lnTo>
                        <a:pt x="780" y="750"/>
                      </a:lnTo>
                      <a:lnTo>
                        <a:pt x="780" y="742"/>
                      </a:lnTo>
                      <a:lnTo>
                        <a:pt x="786" y="735"/>
                      </a:lnTo>
                      <a:lnTo>
                        <a:pt x="786" y="728"/>
                      </a:lnTo>
                      <a:lnTo>
                        <a:pt x="792" y="721"/>
                      </a:lnTo>
                      <a:lnTo>
                        <a:pt x="792" y="713"/>
                      </a:lnTo>
                      <a:lnTo>
                        <a:pt x="792" y="706"/>
                      </a:lnTo>
                      <a:lnTo>
                        <a:pt x="798" y="699"/>
                      </a:lnTo>
                      <a:lnTo>
                        <a:pt x="798" y="691"/>
                      </a:lnTo>
                      <a:lnTo>
                        <a:pt x="804" y="680"/>
                      </a:lnTo>
                      <a:lnTo>
                        <a:pt x="804" y="673"/>
                      </a:lnTo>
                      <a:lnTo>
                        <a:pt x="804" y="666"/>
                      </a:lnTo>
                      <a:lnTo>
                        <a:pt x="810" y="658"/>
                      </a:lnTo>
                      <a:lnTo>
                        <a:pt x="810" y="647"/>
                      </a:lnTo>
                      <a:lnTo>
                        <a:pt x="810" y="640"/>
                      </a:lnTo>
                      <a:lnTo>
                        <a:pt x="816" y="633"/>
                      </a:lnTo>
                      <a:lnTo>
                        <a:pt x="816" y="626"/>
                      </a:lnTo>
                      <a:lnTo>
                        <a:pt x="822" y="615"/>
                      </a:lnTo>
                      <a:lnTo>
                        <a:pt x="822" y="607"/>
                      </a:lnTo>
                      <a:lnTo>
                        <a:pt x="822" y="600"/>
                      </a:lnTo>
                      <a:lnTo>
                        <a:pt x="828" y="589"/>
                      </a:lnTo>
                      <a:lnTo>
                        <a:pt x="828" y="582"/>
                      </a:lnTo>
                      <a:lnTo>
                        <a:pt x="834" y="571"/>
                      </a:lnTo>
                      <a:lnTo>
                        <a:pt x="834" y="563"/>
                      </a:lnTo>
                      <a:lnTo>
                        <a:pt x="834" y="556"/>
                      </a:lnTo>
                      <a:lnTo>
                        <a:pt x="840" y="545"/>
                      </a:lnTo>
                      <a:lnTo>
                        <a:pt x="840" y="538"/>
                      </a:lnTo>
                      <a:lnTo>
                        <a:pt x="846" y="527"/>
                      </a:lnTo>
                      <a:lnTo>
                        <a:pt x="846" y="520"/>
                      </a:lnTo>
                      <a:lnTo>
                        <a:pt x="846" y="509"/>
                      </a:lnTo>
                      <a:lnTo>
                        <a:pt x="852" y="501"/>
                      </a:lnTo>
                      <a:lnTo>
                        <a:pt x="852" y="490"/>
                      </a:lnTo>
                      <a:lnTo>
                        <a:pt x="852" y="479"/>
                      </a:lnTo>
                      <a:lnTo>
                        <a:pt x="858" y="472"/>
                      </a:lnTo>
                      <a:lnTo>
                        <a:pt x="858" y="461"/>
                      </a:lnTo>
                      <a:lnTo>
                        <a:pt x="864" y="454"/>
                      </a:lnTo>
                      <a:lnTo>
                        <a:pt x="864" y="443"/>
                      </a:lnTo>
                      <a:lnTo>
                        <a:pt x="864" y="432"/>
                      </a:lnTo>
                      <a:lnTo>
                        <a:pt x="870" y="424"/>
                      </a:lnTo>
                      <a:lnTo>
                        <a:pt x="870" y="413"/>
                      </a:lnTo>
                      <a:lnTo>
                        <a:pt x="876" y="403"/>
                      </a:lnTo>
                      <a:lnTo>
                        <a:pt x="876" y="395"/>
                      </a:lnTo>
                      <a:lnTo>
                        <a:pt x="876" y="384"/>
                      </a:lnTo>
                      <a:lnTo>
                        <a:pt x="882" y="373"/>
                      </a:lnTo>
                      <a:lnTo>
                        <a:pt x="882" y="362"/>
                      </a:lnTo>
                      <a:lnTo>
                        <a:pt x="888" y="355"/>
                      </a:lnTo>
                      <a:lnTo>
                        <a:pt x="888" y="344"/>
                      </a:lnTo>
                      <a:lnTo>
                        <a:pt x="888" y="333"/>
                      </a:lnTo>
                      <a:lnTo>
                        <a:pt x="894" y="322"/>
                      </a:lnTo>
                      <a:lnTo>
                        <a:pt x="894" y="311"/>
                      </a:lnTo>
                      <a:lnTo>
                        <a:pt x="894" y="304"/>
                      </a:lnTo>
                      <a:lnTo>
                        <a:pt x="900" y="293"/>
                      </a:lnTo>
                      <a:lnTo>
                        <a:pt x="900" y="282"/>
                      </a:lnTo>
                      <a:lnTo>
                        <a:pt x="906" y="271"/>
                      </a:lnTo>
                      <a:lnTo>
                        <a:pt x="906" y="260"/>
                      </a:lnTo>
                      <a:lnTo>
                        <a:pt x="906" y="249"/>
                      </a:lnTo>
                      <a:lnTo>
                        <a:pt x="912" y="238"/>
                      </a:lnTo>
                      <a:lnTo>
                        <a:pt x="912" y="227"/>
                      </a:lnTo>
                      <a:lnTo>
                        <a:pt x="918" y="216"/>
                      </a:lnTo>
                      <a:lnTo>
                        <a:pt x="918" y="205"/>
                      </a:lnTo>
                      <a:lnTo>
                        <a:pt x="918" y="194"/>
                      </a:lnTo>
                      <a:lnTo>
                        <a:pt x="924" y="183"/>
                      </a:lnTo>
                      <a:lnTo>
                        <a:pt x="924" y="172"/>
                      </a:lnTo>
                      <a:lnTo>
                        <a:pt x="930" y="161"/>
                      </a:lnTo>
                      <a:lnTo>
                        <a:pt x="930" y="150"/>
                      </a:lnTo>
                      <a:lnTo>
                        <a:pt x="930" y="139"/>
                      </a:lnTo>
                      <a:lnTo>
                        <a:pt x="936" y="128"/>
                      </a:lnTo>
                      <a:lnTo>
                        <a:pt x="936" y="117"/>
                      </a:lnTo>
                      <a:lnTo>
                        <a:pt x="936" y="106"/>
                      </a:lnTo>
                      <a:lnTo>
                        <a:pt x="942" y="92"/>
                      </a:lnTo>
                      <a:lnTo>
                        <a:pt x="942" y="81"/>
                      </a:lnTo>
                      <a:lnTo>
                        <a:pt x="948" y="70"/>
                      </a:lnTo>
                      <a:lnTo>
                        <a:pt x="948" y="59"/>
                      </a:lnTo>
                      <a:lnTo>
                        <a:pt x="948" y="48"/>
                      </a:lnTo>
                      <a:lnTo>
                        <a:pt x="954" y="33"/>
                      </a:lnTo>
                      <a:lnTo>
                        <a:pt x="954" y="22"/>
                      </a:lnTo>
                      <a:lnTo>
                        <a:pt x="960" y="11"/>
                      </a:lnTo>
                      <a:lnTo>
                        <a:pt x="960" y="0"/>
                      </a:lnTo>
                    </a:path>
                  </a:pathLst>
                </a:custGeom>
                <a:noFill/>
                <a:ln w="38160">
                  <a:solidFill>
                    <a:srgbClr val="333399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20" name=""/>
              <p:cNvSpPr/>
              <p:nvPr/>
            </p:nvSpPr>
            <p:spPr>
              <a:xfrm>
                <a:off x="5724360" y="3789360"/>
                <a:ext cx="2448000" cy="0"/>
              </a:xfrm>
              <a:prstGeom prst="line">
                <a:avLst/>
              </a:prstGeom>
              <a:ln w="3816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7886520" y="3932280"/>
              <a:ext cx="576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125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Comic Sans MS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2" dur="30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3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95280" y="1452600"/>
            <a:ext cx="7993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800" spc="-1" strike="noStrike">
                <a:solidFill>
                  <a:srgbClr val="ff3300"/>
                </a:solidFill>
                <a:latin typeface="Times New Roman"/>
              </a:rPr>
              <a:t>结论：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二次函数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y=ax</a:t>
            </a:r>
            <a:r>
              <a:rPr b="1" lang="zh-CN" sz="2800" spc="-1" strike="noStrike" baseline="30000">
                <a:solidFill>
                  <a:srgbClr val="000000"/>
                </a:solidFill>
                <a:latin typeface="Times New Roman"/>
              </a:rPr>
              <a:t>2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的图象与性质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84360" y="2276640"/>
            <a:ext cx="4405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1.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顶点都在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原点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;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684360" y="3141720"/>
            <a:ext cx="525600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&g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开口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上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当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a&lt;0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时，开口向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</a:rPr>
              <a:t>下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684360" y="4581360"/>
            <a:ext cx="7056360" cy="116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还可以发现，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｜越大，则开口越小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　　　　　　   ｜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｜越小，则开口越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2-04T16:18:18Z</dcterms:created>
  <dc:creator>xl</dc:creator>
  <dc:description/>
  <dc:language>en-US</dc:language>
  <cp:lastModifiedBy>User</cp:lastModifiedBy>
  <dcterms:modified xsi:type="dcterms:W3CDTF">2013-12-13T01:47:15Z</dcterms:modified>
  <cp:revision>11</cp:revision>
  <dc:subject/>
  <dc:title>幻灯片 1</dc:title>
</cp:coreProperties>
</file>