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arrow.wav" ContentType="audio/x-wav"/>
  <Override PartName="/ppt/media/image9.png" ContentType="image/png"/>
  <Override PartName="/ppt/media/image17.wmf" ContentType="image/x-wmf"/>
  <Override PartName="/ppt/media/chimes.wav" ContentType="audio/x-wav"/>
  <Override PartName="/ppt/media/image16.png" ContentType="image/png"/>
  <Override PartName="/ppt/media/image8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6.png" ContentType="image/png"/>
  <Override PartName="/ppt/media/image14.wmf" ContentType="image/x-wmf"/>
  <Override PartName="/ppt/media/image4.png" ContentType="image/png"/>
  <Override PartName="/ppt/media/image12.wmf" ContentType="image/x-wmf"/>
  <Override PartName="/ppt/media/image27.png" ContentType="image/png"/>
  <Override PartName="/ppt/media/image26.wmf" ContentType="image/x-wmf"/>
  <Override PartName="/ppt/media/image25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21.png" ContentType="image/png"/>
  <Override PartName="/ppt/media/image20.wmf" ContentType="image/x-wmf"/>
  <Override PartName="/ppt/media/image18.jpeg" ContentType="image/jpeg"/>
  <Override PartName="/ppt/media/image19.wmf" ContentType="image/x-wmf"/>
  <Override PartName="/ppt/media/image2.png" ContentType="image/png"/>
  <Override PartName="/ppt/media/image13.wmf" ContentType="image/x-wmf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11BA-2CE8-4668-84B4-70A967962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AC02-1853-4E9E-9FB4-D065A4311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40D7C4-169A-47B5-B12C-3E7458723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D11F1B-AE1B-46D5-A1F4-105D7BE71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2A87C6-A7CC-4856-BB7E-870075B84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205563-B45F-4FDB-AED0-59416934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F73470-5E88-4D77-93B1-3140F737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0E1B63-EE0B-4A79-84C4-ACF0006F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8007F6-461E-4926-A78A-226996BC6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527F34-F5EA-44DC-8214-E578E9A87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723FD3-FD73-44C0-9F69-8E08B2523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91C005-E373-4D20-8991-C22E6A816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CCFE-A155-4C14-8230-4F6348561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36230A-F058-46E1-8C8C-E56FA695B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FE71BB-3418-4353-9FA7-09FFBAEEA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6AE8BF-16C4-4BE9-BB1F-C61689405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4E4199-A568-4DE6-B398-B26BBE3E9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185B70-730A-47E4-921E-BEB912B12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8F0457-38A8-4BAC-AB2E-0570E4C0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C2F703-ADA9-4EA6-8BC0-00ADEF1E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1D54C5-AA78-49EF-9E17-FB3BFDB5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FFB076-D668-44AB-99C2-16CB8628C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E38657-2172-46FE-AB32-5DFE03F36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326F-4EC3-4DE1-B173-45516D1BE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15CF04-7A62-4A10-83A2-395D5D55A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554285-F0B8-4295-A56C-52ED295D3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23C87A-56BA-4E04-890D-51B7A76DF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847E6D-741F-4160-A9D3-FDB610E5E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9AB849-A11F-4D70-8892-CD7E60091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CE289D-C201-437E-B3C8-31E6CEDBB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70E762-9659-4CBB-813A-871BB5F09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8CE06C-923C-4D51-954E-2F4E54E5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EDB84B-2081-4050-8767-7736C7CB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FA21E8-C51C-41F8-A6C9-9617FAB3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E97F6-6845-49F8-A21F-549C169AB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30E27A-A7C7-4634-B9EA-DE3163CBC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616393-8855-496B-9FB5-B1FD64C02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B3BDAF-97BC-4E26-B8E6-F80E658DC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A5EAE9-190B-44B5-906A-E05A066F6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029D92-5575-4F34-BD70-05BA10F21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D18017-3D61-478A-AA1D-D4870877A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8F19EF-E784-4420-A3CF-543575825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56A9BD-4E1C-44A7-9DBB-3118CCC11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FE60F2-64A5-4651-BD4A-C1044F7F5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5A8718-A314-40AD-AB1C-7E44BDF0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4DED8-958B-4B89-AEED-158A1A032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A2F4A8-0CAC-4BE9-8DF6-634B805E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07BA58-255C-4390-8250-F305F181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D702E6-A14A-4BA2-88B8-1F39BF648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51CC61-5D2C-4A5B-8BAD-10F112E5A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475C3E-201F-470E-B934-0CCA06638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64F50C-6EAE-42ED-9A05-F56C6B2D2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CAAF89-4FC7-439F-91D5-833A0F3BA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F9DDD8-892A-461F-A296-6FB10F9F8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5C9DFA-9C9D-40A9-BF64-8B356F466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57105F-029E-49F5-A717-14FB19653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103C2-6C2A-4F6E-99A9-C9C00168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CEA26A-F073-43F1-B28C-719B8ADD5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A65953-2A87-44AB-849E-7083989C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A1E49E-5BEC-4BE6-B865-4B1A5024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C9A0C8-752B-49F4-B0B5-5E6F971D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A40BDA-6C61-4662-A69E-8DDC8E905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67DD53-F953-4B1D-85B2-52CD9A888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58B46B-91EC-419B-A7BE-F5A9FCE91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65ADB-F109-4135-8B53-3196D79D6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79FBA-0E67-4A28-84A3-06F46C825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BE432-79D1-4595-9986-04E4B8AEC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7AA68-E333-484C-AC42-FDB4EB5A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A1D5-AE7D-422B-A0F7-7EE06B0AA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6DFF1-252A-4468-BE8E-D27AA592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2573B-8CCC-466D-91A4-BE86FED9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0FE46-135A-46B1-A119-FF5585F68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B76F9-F843-45F9-A81A-BAAC12850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7F2E1-E069-4CA8-93D3-D7783E789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FF26A-AEEC-4CA2-8AAC-B6BCBA0B7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66629-725F-443A-A091-76CBDE448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E95F4-ADBE-40BF-A828-B63BA98B6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78624-A301-4321-AA6C-6C059ECAA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674AF-F77B-4BED-8110-0956DF45C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B67B-0C4E-41C3-8B56-D9A2E5294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92E4B-DB4A-4973-9700-E97D75AB9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C98A4-D96A-4B60-942B-2727B2B0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CF160-C240-4029-A0AF-1DE8A90E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C4CC7-E178-403C-9846-51681216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227CA-356E-47E0-B1B5-290C34E7C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81F7B-2191-498B-A1DB-1A0059688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E94FB-ECA3-4694-8ABF-D1DD0AF0D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F0268-B598-4B29-A899-9556BB44F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1708B-4F0D-49D3-A73D-F803056A1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7C129-A6AA-4913-9BE3-006DB3E97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C25E-3F59-4F82-A9F6-5EE51268E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BC82E-C98C-4B57-AA32-9C7EEFBC0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BE2F6-0795-4774-9777-7B56957A5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AB820-EB60-421C-9B90-5C0238EC5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A97C2-C6CE-4576-8C4D-C6D42865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D6C18-8A3D-44EE-A3B0-B904699F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EB607-F405-4D38-88A5-0A40CD83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9F4D7-7482-49B9-9F86-4ABD4E25E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81C2B-397A-4B37-8362-D733FEB48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A968F-8701-496E-9EEB-840D52DE0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BBECF-7745-4BEE-B90A-0CA477B42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440B-95C4-40B0-AAFD-63EFFEA2B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1A0BB-48C6-4338-A566-17BFD60D9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7BF31-D895-4B1D-9C32-4919C3088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6CED3-0746-46C2-AD20-745D2D9D8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B09541-6B06-4577-BB0E-CDEE3CF78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11DF9-D236-447A-A2DD-092E12CA7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BBCA6-C8DB-4970-9594-75485981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E6E98-6A3C-4AE5-AAB6-DF48B19F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E0C86-61B3-4D84-BA3C-4252CF97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A3215-D216-45EF-808A-163DF2AD1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DD895-4978-4FB5-9036-9FD5755E1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6DBD-85AF-4025-8979-DDF8177B9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8F95E-FB77-49ED-942F-E195AEE2B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C3CB7-B0A8-4569-9EB4-350482E5C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BFBEBB-152B-4ECB-899F-7AD3B7BAB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2467D4-E66F-4E05-A80B-28B4C241F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E73C8-B9B4-40EF-9BF2-CEAFF18D3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F3B3E-FA21-4BD2-BAF2-2E2939709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6169A-9ECB-4518-AE60-61E47687D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6D4799-C8A9-475C-B638-5B4B0974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C88514-1164-4CDB-9F5E-792692B7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6582C9-A65D-401C-BD80-090878E4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C029-06D6-41AA-9C37-E2977E50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B93EF-384E-476E-AC86-475B1C167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A40E11-E911-49D3-BBB9-BFDCF8418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CCD41-6B08-4815-8726-203C62976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C4AFD-DC4D-4A01-BD84-2BD5D8B94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3C73E-86D1-4309-9F83-3DCD1AB3A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B2F5CA-D33B-4442-A42F-19D640482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4921A-D906-4B06-97D8-03CE0533A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E813F-A142-4392-9B77-A5D61C3C5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A3C63-9A3B-4CAF-B0B8-40B79F5BE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919F4F-56DD-4316-B5D9-E3486D35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6439-E9B5-4105-85A3-FF2DC1EB2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0AEF79-F7C3-40C5-86C4-CEE298EF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41D308-07D4-4434-83A8-FFACE5B3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1132E-2E0A-4A89-A7BC-46F23CF19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6D58F-B35A-488D-BBE5-05B6C68AC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63EC3B-1763-4394-8820-0315458F7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9912A4-7AEE-4B2F-8F7D-C1EB6BC60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020ADA-95A4-4658-95A4-EC5090487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8DA6E3-2747-47CF-A1CE-638D1931F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90A3FA-D4CE-4DC5-B241-4133B3313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374286-AB20-408D-A965-85668FD1D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64FE-F19D-4C00-9739-4B3329F2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81761A-0F3E-47F3-BF05-8FC2492B2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0EF1CE-F713-40DB-B251-BCDF84F3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0024F4-DC8F-4935-B6F8-6CD294F2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206599-7FAE-4836-975E-6F546EB8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15E422-B454-4815-9B14-A8430324C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0DF3BB-2824-4410-A508-F51948C19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DB88B3-85B8-49D8-B14D-B9D1BD486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583ACF-DBF6-4178-BA5E-0332A8CDB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DDB548-E6C3-4674-A900-5F169B29B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A19A63-235A-472D-B7F1-108BA2681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0C72D-E6C9-4BC5-ABDC-A985F7377A9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396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98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09120" y="6492960"/>
            <a:ext cx="16765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2286000" y="6492960"/>
            <a:ext cx="2643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758880" y="5859000"/>
            <a:ext cx="435960" cy="282240"/>
          </a:xfrm>
          <a:prstGeom prst="rect">
            <a:avLst/>
          </a:prstGeom>
          <a:noFill/>
          <a:ln w="25560">
            <a:solidFill>
              <a:srgbClr val="50742f"/>
            </a:solidFill>
            <a:miter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F0917-29AA-4EF4-93F9-6D5EC3D930B0}" type="slidenum">
              <a:rPr b="0" lang="en-US" sz="1200" spc="-1" strike="noStrike">
                <a:solidFill>
                  <a:srgbClr val="ffffff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441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43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2FEB5-34B4-4FFB-8127-51FDFBD5F2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486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88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D0845-A55C-4059-A5A0-FF0A3A5A534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A717B-656D-42CB-A360-138A6EC2B5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3"/>
          <a:stretch/>
        </p:blipFill>
        <p:spPr>
          <a:xfrm>
            <a:off x="-6480" y="5205240"/>
            <a:ext cx="1481400" cy="1659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3EE35-0159-47B0-90A5-7FEEE003CFF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84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86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3FB9A-F1EA-4EE4-ACCF-142C04BF713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6" descr=""/>
          <p:cNvPicPr/>
          <p:nvPr/>
        </p:nvPicPr>
        <p:blipFill>
          <a:blip r:embed="rId3"/>
          <a:stretch/>
        </p:blipFill>
        <p:spPr>
          <a:xfrm>
            <a:off x="7473960" y="-6480"/>
            <a:ext cx="1676520" cy="23716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5AEFF-3842-4CD0-B17A-5E9CA3F654D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矩形 6"/>
          <p:cNvGrpSpPr/>
          <p:nvPr/>
        </p:nvGrpSpPr>
        <p:grpSpPr>
          <a:xfrm>
            <a:off x="-6480" y="-6480"/>
            <a:ext cx="665280" cy="6870960"/>
            <a:chOff x="-6480" y="-6480"/>
            <a:chExt cx="665280" cy="6870960"/>
          </a:xfrm>
        </p:grpSpPr>
        <p:pic>
          <p:nvPicPr>
            <p:cNvPr id="171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652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0" y="0"/>
              <a:ext cx="6555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73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A4410-BCCC-4530-9F4E-652139F01F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矩形 6"/>
          <p:cNvGrpSpPr/>
          <p:nvPr/>
        </p:nvGrpSpPr>
        <p:grpSpPr>
          <a:xfrm>
            <a:off x="-6480" y="-6480"/>
            <a:ext cx="652680" cy="6870960"/>
            <a:chOff x="-6480" y="-6480"/>
            <a:chExt cx="652680" cy="6870960"/>
          </a:xfrm>
        </p:grpSpPr>
        <p:pic>
          <p:nvPicPr>
            <p:cNvPr id="216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526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0" y="0"/>
              <a:ext cx="6415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18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AE786-E3D1-4DA6-ABEF-E8C36DBC407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261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63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13F15-A2A2-492F-8EF8-F78B9898733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306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08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BA845-33DA-4622-BF37-922BD0A4172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351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0" y="0"/>
              <a:ext cx="6732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53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7E5EA-43B7-4874-A793-8AFE10D7BFB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himes.wav" TargetMode="External"/><Relationship Id="rId2" Type="http://schemas.microsoft.com/office/2007/relationships/media" Target="file:///tmp/home/.config/libreoffice/4/user/gallery/chimes.wav" TargetMode="External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arrow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arrow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arrow.wav"/><Relationship Id="rId1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WordArt 4" descr=""/>
          <p:cNvPicPr/>
          <p:nvPr/>
        </p:nvPicPr>
        <p:blipFill>
          <a:blip r:embed="rId2"/>
          <a:stretch/>
        </p:blipFill>
        <p:spPr>
          <a:xfrm>
            <a:off x="-268200" y="1689120"/>
            <a:ext cx="852156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Text Box 4"/>
          <p:cNvSpPr/>
          <p:nvPr/>
        </p:nvSpPr>
        <p:spPr>
          <a:xfrm>
            <a:off x="269280" y="260280"/>
            <a:ext cx="91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解</a:t>
            </a:r>
            <a:r>
              <a:rPr b="1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9" name="Object 5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8640720" cy="4540320"/>
          </a:xfrm>
          <a:prstGeom prst="rect">
            <a:avLst/>
          </a:prstGeom>
          <a:ln w="0">
            <a:noFill/>
          </a:ln>
        </p:spPr>
      </p:pic>
      <p:pic>
        <p:nvPicPr>
          <p:cNvPr id="650" name="Object 7" descr=""/>
          <p:cNvPicPr/>
          <p:nvPr/>
        </p:nvPicPr>
        <p:blipFill>
          <a:blip r:embed="rId2"/>
          <a:stretch/>
        </p:blipFill>
        <p:spPr>
          <a:xfrm>
            <a:off x="5954760" y="2516040"/>
            <a:ext cx="142560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WordArt 4" descr=""/>
          <p:cNvPicPr/>
          <p:nvPr/>
        </p:nvPicPr>
        <p:blipFill>
          <a:blip r:embed="rId1"/>
          <a:stretch/>
        </p:blipFill>
        <p:spPr>
          <a:xfrm>
            <a:off x="-146160" y="176040"/>
            <a:ext cx="1700280" cy="787680"/>
          </a:xfrm>
          <a:prstGeom prst="rect">
            <a:avLst/>
          </a:prstGeom>
          <a:ln w="0">
            <a:noFill/>
          </a:ln>
        </p:spPr>
      </p:pic>
      <p:pic>
        <p:nvPicPr>
          <p:cNvPr id="652" name="Object 5" descr=""/>
          <p:cNvPicPr/>
          <p:nvPr/>
        </p:nvPicPr>
        <p:blipFill>
          <a:blip r:embed="rId2"/>
          <a:stretch/>
        </p:blipFill>
        <p:spPr>
          <a:xfrm>
            <a:off x="324000" y="982800"/>
            <a:ext cx="8496000" cy="2801880"/>
          </a:xfrm>
          <a:prstGeom prst="rect">
            <a:avLst/>
          </a:prstGeom>
          <a:ln w="0">
            <a:noFill/>
          </a:ln>
        </p:spPr>
      </p:pic>
      <p:pic>
        <p:nvPicPr>
          <p:cNvPr id="653" name="Object 7" descr=""/>
          <p:cNvPicPr/>
          <p:nvPr/>
        </p:nvPicPr>
        <p:blipFill>
          <a:blip r:embed="rId3"/>
          <a:stretch/>
        </p:blipFill>
        <p:spPr>
          <a:xfrm>
            <a:off x="250920" y="3933720"/>
            <a:ext cx="8388360" cy="615960"/>
          </a:xfrm>
          <a:prstGeom prst="rect">
            <a:avLst/>
          </a:prstGeom>
          <a:ln w="0">
            <a:noFill/>
          </a:ln>
        </p:spPr>
      </p:pic>
      <p:sp>
        <p:nvSpPr>
          <p:cNvPr id="654" name="Text Box 10"/>
          <p:cNvSpPr/>
          <p:nvPr/>
        </p:nvSpPr>
        <p:spPr>
          <a:xfrm>
            <a:off x="959040" y="4692600"/>
            <a:ext cx="46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1)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没有公共点                  没有实数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AutoShape 11"/>
          <p:cNvSpPr/>
          <p:nvPr/>
        </p:nvSpPr>
        <p:spPr>
          <a:xfrm>
            <a:off x="2916360" y="4797360"/>
            <a:ext cx="1150920" cy="287280"/>
          </a:xfrm>
          <a:prstGeom prst="leftRightArrow">
            <a:avLst>
              <a:gd name="adj1" fmla="val 50000"/>
              <a:gd name="adj2" fmla="val 79754"/>
            </a:avLst>
          </a:prstGeom>
          <a:solidFill>
            <a:srgbClr val="5074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Text Box 12"/>
          <p:cNvSpPr/>
          <p:nvPr/>
        </p:nvSpPr>
        <p:spPr>
          <a:xfrm>
            <a:off x="266760" y="5373720"/>
            <a:ext cx="88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有一个公共点                  有两个相等的实数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AutoShape 13"/>
          <p:cNvSpPr/>
          <p:nvPr/>
        </p:nvSpPr>
        <p:spPr>
          <a:xfrm>
            <a:off x="3203640" y="5516640"/>
            <a:ext cx="1081080" cy="288720"/>
          </a:xfrm>
          <a:prstGeom prst="leftRightArrow">
            <a:avLst>
              <a:gd name="adj1" fmla="val 50000"/>
              <a:gd name="adj2" fmla="val 74541"/>
            </a:avLst>
          </a:prstGeom>
          <a:solidFill>
            <a:srgbClr val="5074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Text Box 14"/>
          <p:cNvSpPr/>
          <p:nvPr/>
        </p:nvSpPr>
        <p:spPr>
          <a:xfrm>
            <a:off x="1338120" y="6093000"/>
            <a:ext cx="557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3)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有两个公共点                  有两个不等的实数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AutoShape 15"/>
          <p:cNvSpPr/>
          <p:nvPr/>
        </p:nvSpPr>
        <p:spPr>
          <a:xfrm>
            <a:off x="3276720" y="6237360"/>
            <a:ext cx="1079280" cy="287280"/>
          </a:xfrm>
          <a:prstGeom prst="leftRightArrow">
            <a:avLst>
              <a:gd name="adj1" fmla="val 50000"/>
              <a:gd name="adj2" fmla="val 74790"/>
            </a:avLst>
          </a:prstGeom>
          <a:solidFill>
            <a:srgbClr val="5074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Picture 4" descr=""/>
          <p:cNvPicPr/>
          <p:nvPr/>
        </p:nvPicPr>
        <p:blipFill>
          <a:blip r:embed="rId1"/>
          <a:stretch/>
        </p:blipFill>
        <p:spPr>
          <a:xfrm>
            <a:off x="4572000" y="1700280"/>
            <a:ext cx="4284720" cy="3116160"/>
          </a:xfrm>
          <a:prstGeom prst="rect">
            <a:avLst/>
          </a:prstGeom>
          <a:ln w="0">
            <a:noFill/>
          </a:ln>
        </p:spPr>
      </p:pic>
      <p:sp>
        <p:nvSpPr>
          <p:cNvPr id="661" name="Line 5"/>
          <p:cNvSpPr/>
          <p:nvPr/>
        </p:nvSpPr>
        <p:spPr>
          <a:xfrm>
            <a:off x="6084720" y="3933720"/>
            <a:ext cx="7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Line 6"/>
          <p:cNvSpPr/>
          <p:nvPr/>
        </p:nvSpPr>
        <p:spPr>
          <a:xfrm>
            <a:off x="6084720" y="299736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Line 7"/>
          <p:cNvSpPr/>
          <p:nvPr/>
        </p:nvSpPr>
        <p:spPr>
          <a:xfrm>
            <a:off x="6084720" y="4797360"/>
            <a:ext cx="7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WordArt 8"/>
          <p:cNvSpPr txBox="1"/>
          <p:nvPr/>
        </p:nvSpPr>
        <p:spPr>
          <a:xfrm>
            <a:off x="179280" y="189000"/>
            <a:ext cx="733680" cy="51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665" name="Object 9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7920000" cy="1377720"/>
          </a:xfrm>
          <a:prstGeom prst="rect">
            <a:avLst/>
          </a:prstGeom>
          <a:ln w="0">
            <a:noFill/>
          </a:ln>
        </p:spPr>
      </p:pic>
      <p:pic>
        <p:nvPicPr>
          <p:cNvPr id="666" name="Object 12" descr=""/>
          <p:cNvPicPr/>
          <p:nvPr/>
        </p:nvPicPr>
        <p:blipFill>
          <a:blip r:embed="rId3"/>
          <a:stretch/>
        </p:blipFill>
        <p:spPr>
          <a:xfrm>
            <a:off x="900000" y="3789360"/>
            <a:ext cx="8064720" cy="2697120"/>
          </a:xfrm>
          <a:prstGeom prst="rect">
            <a:avLst/>
          </a:prstGeom>
          <a:ln w="0">
            <a:noFill/>
          </a:ln>
        </p:spPr>
      </p:pic>
      <p:sp>
        <p:nvSpPr>
          <p:cNvPr id="667" name="Text Box 11"/>
          <p:cNvSpPr/>
          <p:nvPr/>
        </p:nvSpPr>
        <p:spPr>
          <a:xfrm>
            <a:off x="217800" y="3716280"/>
            <a:ext cx="71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解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Text Box 15"/>
          <p:cNvSpPr/>
          <p:nvPr/>
        </p:nvSpPr>
        <p:spPr>
          <a:xfrm>
            <a:off x="589680" y="2021040"/>
            <a:ext cx="365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方法</a:t>
            </a:r>
            <a:r>
              <a:rPr b="1" lang="en-US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: (1)</a:t>
            </a: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先作出图象</a:t>
            </a:r>
            <a:r>
              <a:rPr b="1" lang="en-US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       </a:t>
            </a:r>
            <a:r>
              <a:rPr b="1" lang="en-US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(2)</a:t>
            </a: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写出交点的坐标</a:t>
            </a:r>
            <a:r>
              <a:rPr b="1" lang="en-US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       </a:t>
            </a:r>
            <a:r>
              <a:rPr b="1" lang="en-US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(3)</a:t>
            </a: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得出方程的解</a:t>
            </a:r>
            <a:r>
              <a:rPr b="1" lang="en-US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 txBox="1"/>
          <p:nvPr/>
        </p:nvSpPr>
        <p:spPr>
          <a:xfrm>
            <a:off x="324000" y="620640"/>
            <a:ext cx="2519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总结提高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670" name=""/>
          <p:cNvSpPr/>
          <p:nvPr/>
        </p:nvSpPr>
        <p:spPr>
          <a:xfrm>
            <a:off x="324000" y="2060640"/>
            <a:ext cx="748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通过本节课的学习，你有哪些收获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还有什么疑惑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38836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restart="whenNotActive" nodeType="interactiveSeq" fill="hold">
                <p:stCondLst>
                  <p:cond evt="onClick">
                    <p:tgtEl>
                      <p:spTgt spid="671"/>
                    </p:tgtEl>
                  </p:cond>
                </p:stCondLst>
                <p:childTnLst>
                  <p:par>
                    <p:cTn id="262" fill="hold">
                      <p:stCondLst>
                        <p:cond evt="onClick">
                          <p:tgtEl>
                            <p:spTgt spid="671"/>
                          </p:tgtEl>
                        </p:cond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5" dur="256045" fill="hold"/>
                                        <p:tgtEl>
                                          <p:spTgt spid="6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71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4"/>
          <p:cNvSpPr/>
          <p:nvPr/>
        </p:nvSpPr>
        <p:spPr>
          <a:xfrm>
            <a:off x="1547640" y="26028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复习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Rectangle 5"/>
          <p:cNvSpPr/>
          <p:nvPr/>
        </p:nvSpPr>
        <p:spPr>
          <a:xfrm>
            <a:off x="684360" y="90792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一元二次方程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x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+bx+c=0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的根的情况可由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确定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Rectangle 6"/>
          <p:cNvSpPr/>
          <p:nvPr/>
        </p:nvSpPr>
        <p:spPr>
          <a:xfrm>
            <a:off x="2124000" y="1989000"/>
            <a:ext cx="107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＞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隶书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Rectangle 7"/>
          <p:cNvSpPr/>
          <p:nvPr/>
        </p:nvSpPr>
        <p:spPr>
          <a:xfrm>
            <a:off x="2124000" y="2781360"/>
            <a:ext cx="97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隶书"/>
              </a:rPr>
              <a:t>=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Rectangle 8"/>
          <p:cNvSpPr/>
          <p:nvPr/>
        </p:nvSpPr>
        <p:spPr>
          <a:xfrm>
            <a:off x="2124000" y="3500280"/>
            <a:ext cx="111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＜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隶书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Rectangle 9"/>
          <p:cNvSpPr/>
          <p:nvPr/>
        </p:nvSpPr>
        <p:spPr>
          <a:xfrm>
            <a:off x="3995640" y="1989000"/>
            <a:ext cx="446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</a:rPr>
              <a:t>有两个不相等的实数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Rectangle 10"/>
          <p:cNvSpPr/>
          <p:nvPr/>
        </p:nvSpPr>
        <p:spPr>
          <a:xfrm>
            <a:off x="4067280" y="2709720"/>
            <a:ext cx="446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</a:rPr>
              <a:t>有两个相等的实数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Rectangle 11"/>
          <p:cNvSpPr/>
          <p:nvPr/>
        </p:nvSpPr>
        <p:spPr>
          <a:xfrm>
            <a:off x="4140360" y="3429000"/>
            <a:ext cx="288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</a:rPr>
              <a:t>没有实数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AutoShape 12"/>
          <p:cNvSpPr/>
          <p:nvPr/>
        </p:nvSpPr>
        <p:spPr>
          <a:xfrm>
            <a:off x="3132000" y="2060640"/>
            <a:ext cx="863640" cy="503280"/>
          </a:xfrm>
          <a:prstGeom prst="leftRightArrow">
            <a:avLst>
              <a:gd name="adj1" fmla="val 50000"/>
              <a:gd name="adj2" fmla="val 34162"/>
            </a:avLst>
          </a:prstGeom>
          <a:solidFill>
            <a:srgbClr val="5074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AutoShape 13"/>
          <p:cNvSpPr/>
          <p:nvPr/>
        </p:nvSpPr>
        <p:spPr>
          <a:xfrm>
            <a:off x="3132000" y="2782800"/>
            <a:ext cx="863640" cy="505080"/>
          </a:xfrm>
          <a:prstGeom prst="leftRightArrow">
            <a:avLst>
              <a:gd name="adj1" fmla="val 50000"/>
              <a:gd name="adj2" fmla="val 34040"/>
            </a:avLst>
          </a:prstGeom>
          <a:solidFill>
            <a:srgbClr val="5074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AutoShape 14"/>
          <p:cNvSpPr/>
          <p:nvPr/>
        </p:nvSpPr>
        <p:spPr>
          <a:xfrm>
            <a:off x="3203640" y="3429000"/>
            <a:ext cx="790560" cy="576360"/>
          </a:xfrm>
          <a:prstGeom prst="leftRightArrow">
            <a:avLst>
              <a:gd name="adj1" fmla="val 50000"/>
              <a:gd name="adj2" fmla="val 27306"/>
            </a:avLst>
          </a:prstGeom>
          <a:solidFill>
            <a:srgbClr val="5074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Rectangle 15"/>
          <p:cNvSpPr/>
          <p:nvPr/>
        </p:nvSpPr>
        <p:spPr>
          <a:xfrm>
            <a:off x="2411280" y="141300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 4a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4" name="WordArt 16" descr=""/>
          <p:cNvPicPr/>
          <p:nvPr/>
        </p:nvPicPr>
        <p:blipFill>
          <a:blip r:embed="rId2"/>
          <a:stretch/>
        </p:blipFill>
        <p:spPr>
          <a:xfrm>
            <a:off x="-6480" y="176040"/>
            <a:ext cx="1549440" cy="762120"/>
          </a:xfrm>
          <a:prstGeom prst="rect">
            <a:avLst/>
          </a:prstGeom>
          <a:ln w="0">
            <a:noFill/>
          </a:ln>
        </p:spPr>
      </p:pic>
      <p:sp>
        <p:nvSpPr>
          <p:cNvPr id="585" name="Text Box 17"/>
          <p:cNvSpPr/>
          <p:nvPr/>
        </p:nvSpPr>
        <p:spPr>
          <a:xfrm>
            <a:off x="324000" y="4221000"/>
            <a:ext cx="8497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6" name="Picture 24" descr=""/>
          <p:cNvPicPr/>
          <p:nvPr/>
        </p:nvPicPr>
        <p:blipFill>
          <a:blip r:embed="rId3"/>
          <a:stretch/>
        </p:blipFill>
        <p:spPr>
          <a:xfrm>
            <a:off x="611280" y="1916280"/>
            <a:ext cx="1646280" cy="230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WordArt 4"/>
          <p:cNvSpPr txBox="1"/>
          <p:nvPr/>
        </p:nvSpPr>
        <p:spPr>
          <a:xfrm>
            <a:off x="179280" y="2602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问题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88" name="Text Box 5"/>
          <p:cNvSpPr/>
          <p:nvPr/>
        </p:nvSpPr>
        <p:spPr>
          <a:xfrm>
            <a:off x="1056960" y="765000"/>
            <a:ext cx="6975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以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0m/s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的速度将小球沿与地面成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0°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角的方向击出时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球的飞行路线将是一条抛物线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如果不考虑空气阻力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的飞行高度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(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单位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m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与飞行时间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 (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单位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s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之间具有关系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9" name="Object 6" descr=""/>
          <p:cNvPicPr/>
          <p:nvPr/>
        </p:nvPicPr>
        <p:blipFill>
          <a:blip r:embed="rId1"/>
          <a:stretch/>
        </p:blipFill>
        <p:spPr>
          <a:xfrm>
            <a:off x="2700360" y="2205000"/>
            <a:ext cx="2448000" cy="841320"/>
          </a:xfrm>
          <a:prstGeom prst="rect">
            <a:avLst/>
          </a:prstGeom>
          <a:ln w="0">
            <a:noFill/>
          </a:ln>
        </p:spPr>
      </p:pic>
      <p:sp>
        <p:nvSpPr>
          <p:cNvPr id="590" name="Text Box 8"/>
          <p:cNvSpPr/>
          <p:nvPr/>
        </p:nvSpPr>
        <p:spPr>
          <a:xfrm>
            <a:off x="1609560" y="3284640"/>
            <a:ext cx="52070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考虑以下问题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球的飞行高度能否达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5m?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如能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需要多少飞行时间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球的飞行高度能否达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0m?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如能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需要多少飞行时间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3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球的飞行高度能否达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0.5m?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为什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4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球从飞出到落地要用多少时间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5"/>
          <p:cNvSpPr/>
          <p:nvPr/>
        </p:nvSpPr>
        <p:spPr>
          <a:xfrm>
            <a:off x="468360" y="404640"/>
            <a:ext cx="610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球的飞行高度能否达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5m?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如能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需要多少飞行时间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Text Box 6"/>
          <p:cNvSpPr/>
          <p:nvPr/>
        </p:nvSpPr>
        <p:spPr>
          <a:xfrm>
            <a:off x="580320" y="1452600"/>
            <a:ext cx="185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解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(1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解方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3" name="Object 7" descr=""/>
          <p:cNvPicPr/>
          <p:nvPr/>
        </p:nvPicPr>
        <p:blipFill>
          <a:blip r:embed="rId1"/>
          <a:stretch/>
        </p:blipFill>
        <p:spPr>
          <a:xfrm>
            <a:off x="1258920" y="2060640"/>
            <a:ext cx="2952720" cy="2738520"/>
          </a:xfrm>
          <a:prstGeom prst="rect">
            <a:avLst/>
          </a:prstGeom>
          <a:ln w="0">
            <a:noFill/>
          </a:ln>
        </p:spPr>
      </p:pic>
      <p:sp>
        <p:nvSpPr>
          <p:cNvPr id="594" name="Text Box 9"/>
          <p:cNvSpPr/>
          <p:nvPr/>
        </p:nvSpPr>
        <p:spPr>
          <a:xfrm>
            <a:off x="1465920" y="5300640"/>
            <a:ext cx="482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当球飞行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s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s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时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它的高度为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5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AutoShape 10"/>
          <p:cNvSpPr/>
          <p:nvPr/>
        </p:nvSpPr>
        <p:spPr>
          <a:xfrm>
            <a:off x="4859280" y="3429000"/>
            <a:ext cx="3960720" cy="1657440"/>
          </a:xfrm>
          <a:prstGeom prst="cloudCallout">
            <a:avLst>
              <a:gd name="adj1" fmla="val -71361"/>
              <a:gd name="adj2" fmla="val 53638"/>
            </a:avLst>
          </a:prstGeom>
          <a:solidFill>
            <a:srgbClr val="5074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Text Box 11"/>
          <p:cNvSpPr/>
          <p:nvPr/>
        </p:nvSpPr>
        <p:spPr>
          <a:xfrm>
            <a:off x="5454360" y="3716280"/>
            <a:ext cx="2644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1f0ff"/>
                </a:solidFill>
                <a:latin typeface="Arial"/>
              </a:rPr>
              <a:t>为什么在两个时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1f0ff"/>
                </a:solidFill>
                <a:latin typeface="Arial"/>
              </a:rPr>
              <a:t>球的高度为</a:t>
            </a:r>
            <a:r>
              <a:rPr b="1" lang="en-US" sz="2800" spc="-1" strike="noStrike">
                <a:solidFill>
                  <a:srgbClr val="e1f0ff"/>
                </a:solidFill>
                <a:latin typeface="Arial"/>
              </a:rPr>
              <a:t>15m</a:t>
            </a:r>
            <a:r>
              <a:rPr b="1" lang="zh-CN" sz="2800" spc="-1" strike="noStrike">
                <a:solidFill>
                  <a:srgbClr val="e1f0ff"/>
                </a:solidFill>
                <a:latin typeface="Arial"/>
              </a:rPr>
              <a:t>呢</a:t>
            </a:r>
            <a:r>
              <a:rPr b="1" lang="en-US" sz="2800" spc="-1" strike="noStrike">
                <a:solidFill>
                  <a:srgbClr val="e1f0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5"/>
          <p:cNvSpPr/>
          <p:nvPr/>
        </p:nvSpPr>
        <p:spPr>
          <a:xfrm>
            <a:off x="826920" y="549360"/>
            <a:ext cx="59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球的飞行高度能否达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0m?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如能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需要多少飞行时间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Text Box 6"/>
          <p:cNvSpPr/>
          <p:nvPr/>
        </p:nvSpPr>
        <p:spPr>
          <a:xfrm>
            <a:off x="599400" y="1916280"/>
            <a:ext cx="185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解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(2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解方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9" name="Object 7" descr=""/>
          <p:cNvPicPr/>
          <p:nvPr/>
        </p:nvPicPr>
        <p:blipFill>
          <a:blip r:embed="rId1"/>
          <a:stretch/>
        </p:blipFill>
        <p:spPr>
          <a:xfrm>
            <a:off x="1332000" y="2492280"/>
            <a:ext cx="2950920" cy="2697120"/>
          </a:xfrm>
          <a:prstGeom prst="rect">
            <a:avLst/>
          </a:prstGeom>
          <a:ln w="0">
            <a:noFill/>
          </a:ln>
        </p:spPr>
      </p:pic>
      <p:sp>
        <p:nvSpPr>
          <p:cNvPr id="600" name="Text Box 9"/>
          <p:cNvSpPr/>
          <p:nvPr/>
        </p:nvSpPr>
        <p:spPr>
          <a:xfrm>
            <a:off x="1623600" y="5734080"/>
            <a:ext cx="404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当球飞行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s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时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它的高度为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0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AutoShape 10"/>
          <p:cNvSpPr/>
          <p:nvPr/>
        </p:nvSpPr>
        <p:spPr>
          <a:xfrm>
            <a:off x="4932360" y="3500280"/>
            <a:ext cx="3600360" cy="2017800"/>
          </a:xfrm>
          <a:prstGeom prst="cloudCallout">
            <a:avLst>
              <a:gd name="adj1" fmla="val -73500"/>
              <a:gd name="adj2" fmla="val 52990"/>
            </a:avLst>
          </a:prstGeom>
          <a:solidFill>
            <a:srgbClr val="5074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Text Box 11"/>
          <p:cNvSpPr/>
          <p:nvPr/>
        </p:nvSpPr>
        <p:spPr>
          <a:xfrm>
            <a:off x="5526360" y="3933720"/>
            <a:ext cx="2858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1f0ff"/>
                </a:solidFill>
                <a:latin typeface="Arial"/>
              </a:rPr>
              <a:t>为什么只在一个时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1f0ff"/>
                </a:solidFill>
                <a:latin typeface="Arial"/>
              </a:rPr>
              <a:t>内球的高度为</a:t>
            </a:r>
            <a:r>
              <a:rPr b="1" lang="en-US" sz="2800" spc="-1" strike="noStrike">
                <a:solidFill>
                  <a:srgbClr val="e1f0ff"/>
                </a:solidFill>
                <a:latin typeface="Arial"/>
              </a:rPr>
              <a:t>20m</a:t>
            </a:r>
            <a:r>
              <a:rPr b="1" lang="zh-CN" sz="2800" spc="-1" strike="noStrike">
                <a:solidFill>
                  <a:srgbClr val="e1f0ff"/>
                </a:solidFill>
                <a:latin typeface="Arial"/>
              </a:rPr>
              <a:t>呢</a:t>
            </a:r>
            <a:r>
              <a:rPr b="1" lang="en-US" sz="2800" spc="-1" strike="noStrike">
                <a:solidFill>
                  <a:srgbClr val="e1f0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5"/>
          <p:cNvSpPr/>
          <p:nvPr/>
        </p:nvSpPr>
        <p:spPr>
          <a:xfrm>
            <a:off x="1466640" y="549360"/>
            <a:ext cx="520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3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球的飞行高度能否达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0.5m?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为什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4" name="Object 6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6408720" cy="3133800"/>
          </a:xfrm>
          <a:prstGeom prst="rect">
            <a:avLst/>
          </a:prstGeom>
          <a:ln w="0">
            <a:noFill/>
          </a:ln>
        </p:spPr>
      </p:pic>
      <p:sp>
        <p:nvSpPr>
          <p:cNvPr id="605" name="Text Box 8"/>
          <p:cNvSpPr/>
          <p:nvPr/>
        </p:nvSpPr>
        <p:spPr>
          <a:xfrm>
            <a:off x="672480" y="1413000"/>
            <a:ext cx="185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解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(3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解方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 Box 4"/>
          <p:cNvSpPr/>
          <p:nvPr/>
        </p:nvSpPr>
        <p:spPr>
          <a:xfrm>
            <a:off x="743760" y="1628640"/>
            <a:ext cx="185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解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(4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解方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Rectangle 6"/>
          <p:cNvSpPr/>
          <p:nvPr/>
        </p:nvSpPr>
        <p:spPr>
          <a:xfrm>
            <a:off x="1607760" y="549360"/>
            <a:ext cx="377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4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球从飞出到落地要用多少时间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8" name="Object 7" descr=""/>
          <p:cNvPicPr/>
          <p:nvPr/>
        </p:nvPicPr>
        <p:blipFill>
          <a:blip r:embed="rId1"/>
          <a:stretch/>
        </p:blipFill>
        <p:spPr>
          <a:xfrm>
            <a:off x="1042920" y="2349360"/>
            <a:ext cx="2824200" cy="2824200"/>
          </a:xfrm>
          <a:prstGeom prst="rect">
            <a:avLst/>
          </a:prstGeom>
          <a:ln w="0">
            <a:noFill/>
          </a:ln>
        </p:spPr>
      </p:pic>
      <p:sp>
        <p:nvSpPr>
          <p:cNvPr id="609" name="Text Box 9"/>
          <p:cNvSpPr/>
          <p:nvPr/>
        </p:nvSpPr>
        <p:spPr>
          <a:xfrm>
            <a:off x="1766160" y="5373720"/>
            <a:ext cx="468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当球飞行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s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s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时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它的高度为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m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即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s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时球从地面飞出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4s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时球落回地面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AutoShape 10"/>
          <p:cNvSpPr/>
          <p:nvPr/>
        </p:nvSpPr>
        <p:spPr>
          <a:xfrm>
            <a:off x="4859280" y="3573360"/>
            <a:ext cx="3960720" cy="1657440"/>
          </a:xfrm>
          <a:prstGeom prst="cloudCallout">
            <a:avLst>
              <a:gd name="adj1" fmla="val -72444"/>
              <a:gd name="adj2" fmla="val 62453"/>
            </a:avLst>
          </a:prstGeom>
          <a:solidFill>
            <a:srgbClr val="5074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Text Box 11"/>
          <p:cNvSpPr/>
          <p:nvPr/>
        </p:nvSpPr>
        <p:spPr>
          <a:xfrm>
            <a:off x="5454360" y="3789360"/>
            <a:ext cx="244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1f0ff"/>
                </a:solidFill>
                <a:latin typeface="Arial"/>
              </a:rPr>
              <a:t>为什么在两个时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1f0ff"/>
                </a:solidFill>
                <a:latin typeface="Arial"/>
              </a:rPr>
              <a:t>球的高度为</a:t>
            </a:r>
            <a:r>
              <a:rPr b="1" lang="en-US" sz="2800" spc="-1" strike="noStrike">
                <a:solidFill>
                  <a:srgbClr val="e1f0ff"/>
                </a:solidFill>
                <a:latin typeface="Arial"/>
              </a:rPr>
              <a:t>0m</a:t>
            </a:r>
            <a:r>
              <a:rPr b="1" lang="zh-CN" sz="2800" spc="-1" strike="noStrike">
                <a:solidFill>
                  <a:srgbClr val="e1f0ff"/>
                </a:solidFill>
                <a:latin typeface="Arial"/>
              </a:rPr>
              <a:t>呢</a:t>
            </a:r>
            <a:r>
              <a:rPr b="1" lang="en-US" sz="2800" spc="-1" strike="noStrike">
                <a:solidFill>
                  <a:srgbClr val="e1f0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WordArt 4" descr=""/>
          <p:cNvPicPr/>
          <p:nvPr/>
        </p:nvPicPr>
        <p:blipFill>
          <a:blip r:embed="rId1"/>
          <a:stretch/>
        </p:blipFill>
        <p:spPr>
          <a:xfrm>
            <a:off x="-139680" y="176040"/>
            <a:ext cx="1766880" cy="787680"/>
          </a:xfrm>
          <a:prstGeom prst="rect">
            <a:avLst/>
          </a:prstGeom>
          <a:ln w="0">
            <a:noFill/>
          </a:ln>
        </p:spPr>
      </p:pic>
      <p:pic>
        <p:nvPicPr>
          <p:cNvPr id="613" name="Object 5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8424720" cy="44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0" y="1413000"/>
            <a:ext cx="8820000" cy="35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下列二次函数的图象与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轴有公共点吗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若有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公共点的横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标是多少？当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取公共点的横坐标时，函数的值是多少？由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你能得出相应的一元二次方程的根吗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1)  y = 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+x-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2)  y = 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- 6x +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3)  y = 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– x+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1547640" y="260280"/>
            <a:ext cx="1440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观察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616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549440" cy="896760"/>
          </a:xfrm>
          <a:prstGeom prst="rect">
            <a:avLst/>
          </a:prstGeom>
          <a:ln w="0">
            <a:noFill/>
          </a:ln>
        </p:spPr>
      </p:pic>
      <p:sp>
        <p:nvSpPr>
          <p:cNvPr id="617" name=""/>
          <p:cNvSpPr/>
          <p:nvPr/>
        </p:nvSpPr>
        <p:spPr>
          <a:xfrm flipV="1">
            <a:off x="5724360" y="5084280"/>
            <a:ext cx="0" cy="7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6300720" y="5084280"/>
            <a:ext cx="0" cy="7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6588000" y="5084280"/>
            <a:ext cx="0" cy="7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6877080" y="5084280"/>
            <a:ext cx="0" cy="7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7164360" y="5084280"/>
            <a:ext cx="0" cy="7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5435640" y="5084280"/>
            <a:ext cx="0" cy="7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5148360" y="5084280"/>
            <a:ext cx="0" cy="7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4859280" y="5084280"/>
            <a:ext cx="0" cy="7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012000" y="4869000"/>
            <a:ext cx="7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012000" y="4508640"/>
            <a:ext cx="7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6012000" y="4149720"/>
            <a:ext cx="7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6012000" y="3789360"/>
            <a:ext cx="7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012000" y="3500280"/>
            <a:ext cx="7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6012000" y="5445000"/>
            <a:ext cx="7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6012000" y="5805360"/>
            <a:ext cx="7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6012000" y="2781360"/>
            <a:ext cx="5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740720" y="50133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4140360" y="3141360"/>
            <a:ext cx="5182920" cy="3166920"/>
            <a:chOff x="4140360" y="3141360"/>
            <a:chExt cx="5182920" cy="3166920"/>
          </a:xfrm>
        </p:grpSpPr>
        <p:sp>
          <p:nvSpPr>
            <p:cNvPr id="635" name=""/>
            <p:cNvSpPr/>
            <p:nvPr/>
          </p:nvSpPr>
          <p:spPr>
            <a:xfrm>
              <a:off x="4500720" y="5157720"/>
              <a:ext cx="3311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 flipV="1">
              <a:off x="6012000" y="3141360"/>
              <a:ext cx="0" cy="3166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351400" y="4599000"/>
              <a:ext cx="1076400" cy="1333440"/>
            </a:xfrm>
            <a:custGeom>
              <a:avLst/>
              <a:gdLst/>
              <a:ahLst/>
              <a:rect l="l" t="t" r="r" b="b"/>
              <a:pathLst>
                <a:path w="678" h="840">
                  <a:moveTo>
                    <a:pt x="0" y="8"/>
                  </a:moveTo>
                  <a:cubicBezTo>
                    <a:pt x="18" y="104"/>
                    <a:pt x="58" y="446"/>
                    <a:pt x="110" y="584"/>
                  </a:cubicBezTo>
                  <a:cubicBezTo>
                    <a:pt x="162" y="722"/>
                    <a:pt x="246" y="838"/>
                    <a:pt x="314" y="839"/>
                  </a:cubicBezTo>
                  <a:cubicBezTo>
                    <a:pt x="382" y="840"/>
                    <a:pt x="456" y="733"/>
                    <a:pt x="517" y="593"/>
                  </a:cubicBezTo>
                  <a:cubicBezTo>
                    <a:pt x="578" y="453"/>
                    <a:pt x="645" y="124"/>
                    <a:pt x="678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651640" y="3632040"/>
              <a:ext cx="1036440" cy="1320840"/>
            </a:xfrm>
            <a:custGeom>
              <a:avLst/>
              <a:gdLst/>
              <a:ahLst/>
              <a:rect l="l" t="t" r="r" b="b"/>
              <a:pathLst>
                <a:path w="653" h="832">
                  <a:moveTo>
                    <a:pt x="0" y="0"/>
                  </a:moveTo>
                  <a:cubicBezTo>
                    <a:pt x="18" y="96"/>
                    <a:pt x="58" y="438"/>
                    <a:pt x="110" y="576"/>
                  </a:cubicBezTo>
                  <a:cubicBezTo>
                    <a:pt x="162" y="714"/>
                    <a:pt x="246" y="830"/>
                    <a:pt x="314" y="831"/>
                  </a:cubicBezTo>
                  <a:cubicBezTo>
                    <a:pt x="382" y="832"/>
                    <a:pt x="461" y="723"/>
                    <a:pt x="517" y="585"/>
                  </a:cubicBezTo>
                  <a:cubicBezTo>
                    <a:pt x="573" y="447"/>
                    <a:pt x="625" y="122"/>
                    <a:pt x="653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372360" y="3835440"/>
              <a:ext cx="1036440" cy="1320840"/>
            </a:xfrm>
            <a:custGeom>
              <a:avLst/>
              <a:gdLst/>
              <a:ahLst/>
              <a:rect l="l" t="t" r="r" b="b"/>
              <a:pathLst>
                <a:path w="653" h="832">
                  <a:moveTo>
                    <a:pt x="0" y="0"/>
                  </a:moveTo>
                  <a:cubicBezTo>
                    <a:pt x="18" y="96"/>
                    <a:pt x="58" y="438"/>
                    <a:pt x="110" y="576"/>
                  </a:cubicBezTo>
                  <a:cubicBezTo>
                    <a:pt x="162" y="714"/>
                    <a:pt x="246" y="830"/>
                    <a:pt x="314" y="831"/>
                  </a:cubicBezTo>
                  <a:cubicBezTo>
                    <a:pt x="382" y="832"/>
                    <a:pt x="461" y="723"/>
                    <a:pt x="517" y="585"/>
                  </a:cubicBezTo>
                  <a:cubicBezTo>
                    <a:pt x="573" y="447"/>
                    <a:pt x="625" y="122"/>
                    <a:pt x="653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236000" y="3284640"/>
              <a:ext cx="20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y=x</a:t>
              </a:r>
              <a:r>
                <a:rPr b="0" lang="en-US" sz="24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-6x+9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643280" y="3357720"/>
              <a:ext cx="151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y=x</a:t>
              </a:r>
              <a:r>
                <a:rPr b="0" lang="en-US" sz="24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-x+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140360" y="4221000"/>
              <a:ext cx="15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y=x</a:t>
              </a:r>
              <a:r>
                <a:rPr b="0" lang="en-US" sz="24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+x-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6156360" y="515772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732720" y="515772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6084720" y="558972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219640" y="515772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6084720" y="4365720"/>
            <a:ext cx="2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9T01:35:50Z</dcterms:created>
  <dc:creator/>
  <dc:description/>
  <dc:language>en-US</dc:language>
  <cp:lastModifiedBy>微软用户</cp:lastModifiedBy>
  <dcterms:modified xsi:type="dcterms:W3CDTF">2011-12-17T09:44:12Z</dcterms:modified>
  <cp:revision>2</cp:revision>
  <dc:subject/>
  <dc:title>幻灯片 1</dc:title>
</cp:coreProperties>
</file>