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0F4-CFDB-4B88-91A2-C59B6F2F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CA7-721F-4B51-8BE6-9A27E9C9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C9D9-E943-4083-B0C8-8949C34B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B8C-E864-4419-AEDD-35DE139B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610-F4F4-4EBD-97DC-AF41E3CB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F70-F360-4366-8D10-B7DD030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2CB-4507-43BC-92F4-7F8C8421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127-63B0-4B51-A375-48A1664C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EE4-42E2-4F9F-AE84-B236A192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E61-D22D-43A8-828B-00BE933F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185-87D0-4B5D-A110-49C0090D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F53-3095-4150-B654-9913EBC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D531-720C-4C5F-B481-CB99ACB0DB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98560" y="1197000"/>
            <a:ext cx="756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二次函数的图象和性质</a:t>
            </a: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(6)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446120" y="3500280"/>
            <a:ext cx="651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次函数的应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64000" y="2241720"/>
            <a:ext cx="3105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第</a:t>
            </a:r>
            <a:r>
              <a:rPr b="1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22</a:t>
            </a: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页第</a:t>
            </a:r>
            <a:r>
              <a:rPr b="1" lang="en-US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3</a:t>
            </a: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题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0000" y="620640"/>
            <a:ext cx="3311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2754360"/>
            <a:ext cx="5410080" cy="819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15920"/>
            <a:ext cx="7489800" cy="642600"/>
          </a:xfrm>
          <a:prstGeom prst="rect">
            <a:avLst/>
          </a:prstGeom>
          <a:solidFill>
            <a:srgbClr val="ff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顾：二次函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y=a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+bx+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981000"/>
          <a:ext cx="8748720" cy="5616720"/>
        </p:xfrm>
        <a:graphic>
          <a:graphicData uri="http://schemas.openxmlformats.org/drawingml/2006/table">
            <a:tbl>
              <a:tblPr/>
              <a:tblGrid>
                <a:gridCol w="3276360"/>
                <a:gridCol w="2735280"/>
                <a:gridCol w="2737080"/>
              </a:tblGrid>
              <a:tr h="70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=a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bx+c(a≠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g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lt;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口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0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顶点坐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02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254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极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427640" y="17575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29440" y="1773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92360" y="387684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在对称轴的左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在对称轴的右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27640" y="386064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在对称轴的左侧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增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在对称轴的右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随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的增大而减小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067280" y="3038400"/>
            <a:ext cx="1207800" cy="825480"/>
            <a:chOff x="4067280" y="3038400"/>
            <a:chExt cx="1207800" cy="825480"/>
          </a:xfrm>
        </p:grpSpPr>
        <p:sp>
          <p:nvSpPr>
            <p:cNvPr id="50" name=""/>
            <p:cNvSpPr/>
            <p:nvPr/>
          </p:nvSpPr>
          <p:spPr>
            <a:xfrm>
              <a:off x="4067280" y="3141720"/>
              <a:ext cx="10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= 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4789440" y="3038400"/>
              <a:ext cx="485640" cy="825480"/>
              <a:chOff x="4789440" y="3038400"/>
              <a:chExt cx="485640" cy="825480"/>
            </a:xfrm>
          </p:grpSpPr>
          <p:sp>
            <p:nvSpPr>
              <p:cNvPr id="52" name=""/>
              <p:cNvSpPr/>
              <p:nvPr/>
            </p:nvSpPr>
            <p:spPr>
              <a:xfrm>
                <a:off x="4789440" y="3038400"/>
                <a:ext cx="485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2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816800" y="3450960"/>
                <a:ext cx="43164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6531120" y="2997360"/>
            <a:ext cx="1207800" cy="825480"/>
            <a:chOff x="6531120" y="2997360"/>
            <a:chExt cx="1207800" cy="825480"/>
          </a:xfrm>
        </p:grpSpPr>
        <p:sp>
          <p:nvSpPr>
            <p:cNvPr id="55" name=""/>
            <p:cNvSpPr/>
            <p:nvPr/>
          </p:nvSpPr>
          <p:spPr>
            <a:xfrm>
              <a:off x="6531120" y="3100680"/>
              <a:ext cx="10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= 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7253280" y="2997360"/>
              <a:ext cx="485640" cy="825480"/>
              <a:chOff x="7253280" y="2997360"/>
              <a:chExt cx="485640" cy="825480"/>
            </a:xfrm>
          </p:grpSpPr>
          <p:sp>
            <p:nvSpPr>
              <p:cNvPr id="57" name=""/>
              <p:cNvSpPr/>
              <p:nvPr/>
            </p:nvSpPr>
            <p:spPr>
              <a:xfrm>
                <a:off x="7253280" y="2997360"/>
                <a:ext cx="485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2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280640" y="3409920"/>
                <a:ext cx="43164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3722760" y="5229360"/>
            <a:ext cx="2361960" cy="1371600"/>
            <a:chOff x="3722760" y="5229360"/>
            <a:chExt cx="2361960" cy="1371600"/>
          </a:xfrm>
        </p:grpSpPr>
        <p:grpSp>
          <p:nvGrpSpPr>
            <p:cNvPr id="60" name=""/>
            <p:cNvGrpSpPr/>
            <p:nvPr/>
          </p:nvGrpSpPr>
          <p:grpSpPr>
            <a:xfrm>
              <a:off x="3781440" y="5775480"/>
              <a:ext cx="2303280" cy="825480"/>
              <a:chOff x="3781440" y="5775480"/>
              <a:chExt cx="2303280" cy="825480"/>
            </a:xfrm>
          </p:grpSpPr>
          <p:sp>
            <p:nvSpPr>
              <p:cNvPr id="61" name=""/>
              <p:cNvSpPr/>
              <p:nvPr/>
            </p:nvSpPr>
            <p:spPr>
              <a:xfrm>
                <a:off x="3781440" y="5934240"/>
                <a:ext cx="2303280" cy="54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y</a:t>
                </a:r>
                <a:r>
                  <a:rPr b="1" lang="zh-CN" sz="2000" spc="-1" strike="noStrike" baseline="-25000">
                    <a:solidFill>
                      <a:srgbClr val="ff0066"/>
                    </a:solidFill>
                    <a:latin typeface="Times New Roman"/>
                  </a:rPr>
                  <a:t>最小值</a:t>
                </a:r>
                <a:r>
                  <a:rPr b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867200" y="5775480"/>
                <a:ext cx="981000" cy="825480"/>
                <a:chOff x="4867200" y="5775480"/>
                <a:chExt cx="981000" cy="8254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867200" y="5775480"/>
                  <a:ext cx="981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66"/>
                      </a:solidFill>
                      <a:latin typeface="Times New Roman"/>
                      <a:ea typeface="楷体_GB2312"/>
                    </a:rPr>
                    <a:t>4ac-b</a:t>
                  </a:r>
                  <a:r>
                    <a:rPr b="1" lang="en-US" sz="2400" spc="-1" strike="noStrike" baseline="30000">
                      <a:solidFill>
                        <a:srgbClr val="ff0066"/>
                      </a:solidFill>
                      <a:latin typeface="Times New Roman"/>
                      <a:ea typeface="楷体_GB2312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66"/>
                      </a:solidFill>
                      <a:latin typeface="Times New Roman"/>
                      <a:ea typeface="楷体_GB2312"/>
                    </a:rPr>
                    <a:t>4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897440" y="6207120"/>
                  <a:ext cx="86184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" name=""/>
            <p:cNvGrpSpPr/>
            <p:nvPr/>
          </p:nvGrpSpPr>
          <p:grpSpPr>
            <a:xfrm>
              <a:off x="3722760" y="5229360"/>
              <a:ext cx="1207800" cy="825480"/>
              <a:chOff x="3722760" y="5229360"/>
              <a:chExt cx="1207800" cy="825480"/>
            </a:xfrm>
          </p:grpSpPr>
          <p:sp>
            <p:nvSpPr>
              <p:cNvPr id="66" name=""/>
              <p:cNvSpPr/>
              <p:nvPr/>
            </p:nvSpPr>
            <p:spPr>
              <a:xfrm>
                <a:off x="3722760" y="5332680"/>
                <a:ext cx="100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= 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4444920" y="5229360"/>
                <a:ext cx="485640" cy="825480"/>
                <a:chOff x="4444920" y="5229360"/>
                <a:chExt cx="485640" cy="8254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444920" y="5229360"/>
                  <a:ext cx="4856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66"/>
                      </a:solidFill>
                      <a:latin typeface="Times New Roman"/>
                      <a:ea typeface="楷体_GB2312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66"/>
                      </a:solidFill>
                      <a:latin typeface="Times New Roman"/>
                      <a:ea typeface="楷体_GB2312"/>
                    </a:rPr>
                    <a:t>2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472280" y="5641920"/>
                  <a:ext cx="43164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" name=""/>
          <p:cNvGrpSpPr/>
          <p:nvPr/>
        </p:nvGrpSpPr>
        <p:grpSpPr>
          <a:xfrm>
            <a:off x="3708360" y="2319480"/>
            <a:ext cx="2411280" cy="825480"/>
            <a:chOff x="3708360" y="2319480"/>
            <a:chExt cx="2411280" cy="825480"/>
          </a:xfrm>
        </p:grpSpPr>
        <p:sp>
          <p:nvSpPr>
            <p:cNvPr id="71" name=""/>
            <p:cNvSpPr/>
            <p:nvPr/>
          </p:nvSpPr>
          <p:spPr>
            <a:xfrm>
              <a:off x="3708360" y="2421000"/>
              <a:ext cx="24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(-        ,          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4119480" y="2319480"/>
              <a:ext cx="485640" cy="825480"/>
              <a:chOff x="4119480" y="2319480"/>
              <a:chExt cx="485640" cy="825480"/>
            </a:xfrm>
          </p:grpSpPr>
          <p:sp>
            <p:nvSpPr>
              <p:cNvPr id="73" name=""/>
              <p:cNvSpPr/>
              <p:nvPr/>
            </p:nvSpPr>
            <p:spPr>
              <a:xfrm>
                <a:off x="4119480" y="2319480"/>
                <a:ext cx="485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2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46840" y="2732040"/>
                <a:ext cx="43164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4842000" y="2319480"/>
              <a:ext cx="981000" cy="825480"/>
              <a:chOff x="4842000" y="2319480"/>
              <a:chExt cx="981000" cy="825480"/>
            </a:xfrm>
          </p:grpSpPr>
          <p:sp>
            <p:nvSpPr>
              <p:cNvPr id="76" name=""/>
              <p:cNvSpPr/>
              <p:nvPr/>
            </p:nvSpPr>
            <p:spPr>
              <a:xfrm>
                <a:off x="4842000" y="2319480"/>
                <a:ext cx="981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4ac-b</a:t>
                </a:r>
                <a:r>
                  <a:rPr b="1" lang="en-US" sz="2400" spc="-1" strike="noStrike" baseline="30000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4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72240" y="2751120"/>
                <a:ext cx="86184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6408720" y="2319480"/>
            <a:ext cx="2411280" cy="825480"/>
            <a:chOff x="6408720" y="2319480"/>
            <a:chExt cx="2411280" cy="825480"/>
          </a:xfrm>
        </p:grpSpPr>
        <p:sp>
          <p:nvSpPr>
            <p:cNvPr id="79" name=""/>
            <p:cNvSpPr/>
            <p:nvPr/>
          </p:nvSpPr>
          <p:spPr>
            <a:xfrm>
              <a:off x="6408720" y="2421000"/>
              <a:ext cx="24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</a:rPr>
                <a:t>(-        ,          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819840" y="2319480"/>
              <a:ext cx="485640" cy="825480"/>
              <a:chOff x="6819840" y="2319480"/>
              <a:chExt cx="485640" cy="825480"/>
            </a:xfrm>
          </p:grpSpPr>
          <p:sp>
            <p:nvSpPr>
              <p:cNvPr id="81" name=""/>
              <p:cNvSpPr/>
              <p:nvPr/>
            </p:nvSpPr>
            <p:spPr>
              <a:xfrm>
                <a:off x="6819840" y="2319480"/>
                <a:ext cx="485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2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47200" y="2732040"/>
                <a:ext cx="43164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7542360" y="2319480"/>
              <a:ext cx="981000" cy="825480"/>
              <a:chOff x="7542360" y="2319480"/>
              <a:chExt cx="981000" cy="825480"/>
            </a:xfrm>
          </p:grpSpPr>
          <p:sp>
            <p:nvSpPr>
              <p:cNvPr id="84" name=""/>
              <p:cNvSpPr/>
              <p:nvPr/>
            </p:nvSpPr>
            <p:spPr>
              <a:xfrm>
                <a:off x="7542360" y="2319480"/>
                <a:ext cx="981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4ac-b</a:t>
                </a:r>
                <a:r>
                  <a:rPr b="1" lang="en-US" sz="2400" spc="-1" strike="noStrike" baseline="30000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  <a:ea typeface="楷体_GB2312"/>
                  </a:rPr>
                  <a:t>4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572600" y="2751120"/>
                <a:ext cx="861840" cy="0"/>
              </a:xfrm>
              <a:prstGeom prst="line">
                <a:avLst/>
              </a:prstGeom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6588000" y="5229360"/>
            <a:ext cx="2361960" cy="1371600"/>
            <a:chOff x="6588000" y="5229360"/>
            <a:chExt cx="2361960" cy="1371600"/>
          </a:xfrm>
        </p:grpSpPr>
        <p:grpSp>
          <p:nvGrpSpPr>
            <p:cNvPr id="87" name=""/>
            <p:cNvGrpSpPr/>
            <p:nvPr/>
          </p:nvGrpSpPr>
          <p:grpSpPr>
            <a:xfrm>
              <a:off x="6646680" y="5775480"/>
              <a:ext cx="2303280" cy="825480"/>
              <a:chOff x="6646680" y="5775480"/>
              <a:chExt cx="2303280" cy="825480"/>
            </a:xfrm>
          </p:grpSpPr>
          <p:sp>
            <p:nvSpPr>
              <p:cNvPr id="88" name=""/>
              <p:cNvSpPr/>
              <p:nvPr/>
            </p:nvSpPr>
            <p:spPr>
              <a:xfrm>
                <a:off x="6646680" y="5934240"/>
                <a:ext cx="2303280" cy="54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y</a:t>
                </a:r>
                <a:r>
                  <a:rPr b="1" lang="zh-CN" sz="2000" spc="-1" strike="noStrike" baseline="-25000">
                    <a:solidFill>
                      <a:srgbClr val="ff0066"/>
                    </a:solidFill>
                    <a:latin typeface="Times New Roman"/>
                  </a:rPr>
                  <a:t>最大值</a:t>
                </a:r>
                <a:r>
                  <a:rPr b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7732440" y="5775480"/>
                <a:ext cx="981000" cy="825480"/>
                <a:chOff x="7732440" y="5775480"/>
                <a:chExt cx="981000" cy="825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7732440" y="5775480"/>
                  <a:ext cx="981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66"/>
                      </a:solidFill>
                      <a:latin typeface="Times New Roman"/>
                      <a:ea typeface="楷体_GB2312"/>
                    </a:rPr>
                    <a:t>4ac-b</a:t>
                  </a:r>
                  <a:r>
                    <a:rPr b="1" lang="en-US" sz="2400" spc="-1" strike="noStrike" baseline="30000">
                      <a:solidFill>
                        <a:srgbClr val="ff0066"/>
                      </a:solidFill>
                      <a:latin typeface="Times New Roman"/>
                      <a:ea typeface="楷体_GB2312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66"/>
                      </a:solidFill>
                      <a:latin typeface="Times New Roman"/>
                      <a:ea typeface="楷体_GB2312"/>
                    </a:rPr>
                    <a:t>4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762680" y="6207120"/>
                  <a:ext cx="86184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" name=""/>
            <p:cNvGrpSpPr/>
            <p:nvPr/>
          </p:nvGrpSpPr>
          <p:grpSpPr>
            <a:xfrm>
              <a:off x="6588000" y="5229360"/>
              <a:ext cx="1207800" cy="825480"/>
              <a:chOff x="6588000" y="5229360"/>
              <a:chExt cx="1207800" cy="825480"/>
            </a:xfrm>
          </p:grpSpPr>
          <p:sp>
            <p:nvSpPr>
              <p:cNvPr id="93" name=""/>
              <p:cNvSpPr/>
              <p:nvPr/>
            </p:nvSpPr>
            <p:spPr>
              <a:xfrm>
                <a:off x="6588000" y="5332680"/>
                <a:ext cx="100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ff0066"/>
                    </a:solidFill>
                    <a:latin typeface="Times New Roman"/>
                  </a:rPr>
                  <a:t>= 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7310160" y="5229360"/>
                <a:ext cx="485640" cy="825480"/>
                <a:chOff x="7310160" y="5229360"/>
                <a:chExt cx="485640" cy="8254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7310160" y="5229360"/>
                  <a:ext cx="4856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66"/>
                      </a:solidFill>
                      <a:latin typeface="Times New Roman"/>
                      <a:ea typeface="楷体_GB2312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66"/>
                      </a:solidFill>
                      <a:latin typeface="Times New Roman"/>
                      <a:ea typeface="楷体_GB2312"/>
                    </a:rPr>
                    <a:t>2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337520" y="5641920"/>
                  <a:ext cx="43164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 anchorCtr="1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blinds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11280" y="907920"/>
            <a:ext cx="1847880" cy="5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探究问题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6286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要用总长为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米的铁栏杆，一面靠墙，围成一个矩形的花圃。怎样围法，才能使围成的面积最大？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3213000"/>
            <a:ext cx="2376720" cy="647640"/>
          </a:xfrm>
          <a:prstGeom prst="wedgeRoundRectCallout">
            <a:avLst>
              <a:gd name="adj1" fmla="val -95356"/>
              <a:gd name="adj2" fmla="val -76962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会解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3357720"/>
            <a:ext cx="2664000" cy="576000"/>
          </a:xfrm>
          <a:prstGeom prst="wedgeRoundRectCallout">
            <a:avLst>
              <a:gd name="adj1" fmla="val 51787"/>
              <a:gd name="adj2" fmla="val -114185"/>
              <a:gd name="adj3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课本的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157560" y="4052880"/>
            <a:ext cx="2828880" cy="1752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1280" y="7542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要用总长为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米的铁栏杆，一面靠墙，围成一个矩形的花圃。怎样围法，才能使围成的面积最大？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2560" y="1690560"/>
            <a:ext cx="6769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矩形的靠墙的一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，矩形的面积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。由题意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8920" y="24670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x(20-2x)    (0&lt;x&lt;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29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即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=-2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+20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0240" y="3429000"/>
            <a:ext cx="25581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将这个函数关系式配方，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=-2(x-5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+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8640" y="4292640"/>
            <a:ext cx="33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抛物线的顶点坐标是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8720" y="4724280"/>
            <a:ext cx="3672000" cy="87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∵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抛物线的开口方向向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=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最大值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56307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与墙垂直的一边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，花圃的面积最大，最大面积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435640" y="2612880"/>
            <a:ext cx="2828880" cy="1752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052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某商店将每件商品进价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的商品按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出售，一天可售出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件。该店想通过降低售价、增加销售量的办法来提高利润。经市场调查，发现这种商品单价每降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.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元，其销售量可增加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件。将这种商品的售价降低多少时，能使销售利润最大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63400" y="477720"/>
            <a:ext cx="184788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探究问题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2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3" name=""/>
          <p:cNvSpPr/>
          <p:nvPr/>
        </p:nvSpPr>
        <p:spPr>
          <a:xfrm>
            <a:off x="7308720" y="3573360"/>
            <a:ext cx="1440000" cy="432000"/>
          </a:xfrm>
          <a:prstGeom prst="wedgeRoundRectCallout">
            <a:avLst>
              <a:gd name="adj1" fmla="val -35777"/>
              <a:gd name="adj2" fmla="val -104777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你会解吗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149720"/>
            <a:ext cx="2664000" cy="934920"/>
          </a:xfrm>
          <a:prstGeom prst="wedgeRoundRectCallout">
            <a:avLst>
              <a:gd name="adj1" fmla="val 52981"/>
              <a:gd name="adj2" fmla="val -119268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同学们完成这个问题的解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21600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：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的铝合金型材料做一个形状如图所示的矩形窗框。窗框的长、宽各为多少时，它的透光面积最大？最大透光面积是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6560" y="1413000"/>
            <a:ext cx="6769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：设矩形的宽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，矩形的透光面积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米。由题意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38960" y="361944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配方，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53720" y="426708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它的顶点坐标是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580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当矩形窗框的宽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，长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5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，它的透光面积最大，最大面积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5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03400" y="2205000"/>
            <a:ext cx="3141720" cy="825480"/>
            <a:chOff x="1103400" y="2205000"/>
            <a:chExt cx="3141720" cy="825480"/>
          </a:xfrm>
        </p:grpSpPr>
        <p:sp>
          <p:nvSpPr>
            <p:cNvPr id="121" name=""/>
            <p:cNvSpPr/>
            <p:nvPr/>
          </p:nvSpPr>
          <p:spPr>
            <a:xfrm>
              <a:off x="1103400" y="234936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=x·                  (0&lt;x&lt;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851840" y="2205000"/>
              <a:ext cx="740160" cy="825480"/>
              <a:chOff x="1851840" y="2205000"/>
              <a:chExt cx="740160" cy="825480"/>
            </a:xfrm>
          </p:grpSpPr>
          <p:sp>
            <p:nvSpPr>
              <p:cNvPr id="123" name=""/>
              <p:cNvSpPr/>
              <p:nvPr/>
            </p:nvSpPr>
            <p:spPr>
              <a:xfrm>
                <a:off x="1851840" y="2205000"/>
                <a:ext cx="740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6-3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34640" y="2616120"/>
                <a:ext cx="575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872280" y="2894040"/>
            <a:ext cx="2453040" cy="825480"/>
            <a:chOff x="872280" y="2894040"/>
            <a:chExt cx="2453040" cy="825480"/>
          </a:xfrm>
        </p:grpSpPr>
        <p:sp>
          <p:nvSpPr>
            <p:cNvPr id="126" name=""/>
            <p:cNvSpPr/>
            <p:nvPr/>
          </p:nvSpPr>
          <p:spPr>
            <a:xfrm>
              <a:off x="872280" y="303696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即：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y=-     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3x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924200" y="2894040"/>
              <a:ext cx="333000" cy="825480"/>
              <a:chOff x="1924200" y="2894040"/>
              <a:chExt cx="333000" cy="825480"/>
            </a:xfrm>
          </p:grpSpPr>
          <p:sp>
            <p:nvSpPr>
              <p:cNvPr id="128" name=""/>
              <p:cNvSpPr/>
              <p:nvPr/>
            </p:nvSpPr>
            <p:spPr>
              <a:xfrm>
                <a:off x="1924200" y="289404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47600" y="3305160"/>
                <a:ext cx="287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2346480" y="3429000"/>
            <a:ext cx="2472840" cy="855720"/>
            <a:chOff x="2346480" y="3429000"/>
            <a:chExt cx="2472840" cy="855720"/>
          </a:xfrm>
        </p:grpSpPr>
        <p:sp>
          <p:nvSpPr>
            <p:cNvPr id="131" name=""/>
            <p:cNvSpPr/>
            <p:nvPr/>
          </p:nvSpPr>
          <p:spPr>
            <a:xfrm>
              <a:off x="2346480" y="3594240"/>
              <a:ext cx="24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y=-     (x-1)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+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894040" y="3459240"/>
              <a:ext cx="333000" cy="825480"/>
              <a:chOff x="2894040" y="3459240"/>
              <a:chExt cx="333000" cy="825480"/>
            </a:xfrm>
          </p:grpSpPr>
          <p:sp>
            <p:nvSpPr>
              <p:cNvPr id="133" name=""/>
              <p:cNvSpPr/>
              <p:nvPr/>
            </p:nvSpPr>
            <p:spPr>
              <a:xfrm>
                <a:off x="2894040" y="345924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16000" y="3872160"/>
                <a:ext cx="2890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165560" y="3429000"/>
              <a:ext cx="333000" cy="825480"/>
              <a:chOff x="4165560" y="3429000"/>
              <a:chExt cx="333000" cy="825480"/>
            </a:xfrm>
          </p:grpSpPr>
          <p:sp>
            <p:nvSpPr>
              <p:cNvPr id="136" name=""/>
              <p:cNvSpPr/>
              <p:nvPr/>
            </p:nvSpPr>
            <p:spPr>
              <a:xfrm>
                <a:off x="4165560" y="342900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87520" y="3841920"/>
                <a:ext cx="2890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468360" y="4700520"/>
            <a:ext cx="30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=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最大值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81520" y="2205000"/>
            <a:ext cx="256248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95280" y="5054760"/>
            <a:ext cx="5689440" cy="998280"/>
            <a:chOff x="395280" y="5054760"/>
            <a:chExt cx="5689440" cy="998280"/>
          </a:xfrm>
        </p:grpSpPr>
        <p:sp>
          <p:nvSpPr>
            <p:cNvPr id="141" name=""/>
            <p:cNvSpPr/>
            <p:nvPr/>
          </p:nvSpPr>
          <p:spPr>
            <a:xfrm>
              <a:off x="395280" y="5227560"/>
              <a:ext cx="568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因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x=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时，满足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0&lt;x&lt;2,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这时 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=1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501800" y="5054760"/>
              <a:ext cx="740160" cy="825480"/>
              <a:chOff x="4501800" y="5054760"/>
              <a:chExt cx="740160" cy="825480"/>
            </a:xfrm>
          </p:grpSpPr>
          <p:sp>
            <p:nvSpPr>
              <p:cNvPr id="143" name=""/>
              <p:cNvSpPr/>
              <p:nvPr/>
            </p:nvSpPr>
            <p:spPr>
              <a:xfrm>
                <a:off x="4501800" y="5054760"/>
                <a:ext cx="740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6-3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84600" y="5465880"/>
                <a:ext cx="5760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hecker dir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25480" y="204840"/>
            <a:ext cx="10098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练习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19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y=x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-3x+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32000" y="907920"/>
            <a:ext cx="5184720" cy="576360"/>
          </a:xfrm>
          <a:prstGeom prst="wedgeRoundRectCallout">
            <a:avLst>
              <a:gd name="adj1" fmla="val 60592"/>
              <a:gd name="adj2" fmla="val 30717"/>
              <a:gd name="adj3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下列函数的最大值或最小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19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y=1-2x-x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16360" y="31370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y=100-5x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429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5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y=-6x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+12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00000" y="2852640"/>
            <a:ext cx="3743280" cy="1068840"/>
            <a:chOff x="900000" y="2852640"/>
            <a:chExt cx="3743280" cy="1068840"/>
          </a:xfrm>
        </p:grpSpPr>
        <p:sp>
          <p:nvSpPr>
            <p:cNvPr id="152" name=""/>
            <p:cNvSpPr/>
            <p:nvPr/>
          </p:nvSpPr>
          <p:spPr>
            <a:xfrm>
              <a:off x="900000" y="3137040"/>
              <a:ext cx="36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）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=7x</a:t>
              </a:r>
              <a:r>
                <a:rPr b="1" lang="en-US" sz="3200" spc="-1" strike="noStrike" baseline="30000">
                  <a:solidFill>
                    <a:srgbClr val="0000cc"/>
                  </a:solidFill>
                  <a:latin typeface="Times New Roman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-       x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3060360" y="3135240"/>
                  <a:ext cx="85572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grpSp>
          <p:nvGrpSpPr>
            <p:cNvPr id="154" name=""/>
            <p:cNvGrpSpPr/>
            <p:nvPr/>
          </p:nvGrpSpPr>
          <p:grpSpPr>
            <a:xfrm>
              <a:off x="4258440" y="2852640"/>
              <a:ext cx="384840" cy="1068840"/>
              <a:chOff x="4258440" y="2852640"/>
              <a:chExt cx="384840" cy="1068840"/>
            </a:xfrm>
          </p:grpSpPr>
          <p:sp>
            <p:nvSpPr>
              <p:cNvPr id="155" name=""/>
              <p:cNvSpPr/>
              <p:nvPr/>
            </p:nvSpPr>
            <p:spPr>
              <a:xfrm>
                <a:off x="4258440" y="2852640"/>
                <a:ext cx="3848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08120" y="3435120"/>
                <a:ext cx="287640" cy="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4645080" y="4076640"/>
            <a:ext cx="3743280" cy="1068840"/>
            <a:chOff x="4645080" y="4076640"/>
            <a:chExt cx="3743280" cy="1068840"/>
          </a:xfrm>
        </p:grpSpPr>
        <p:sp>
          <p:nvSpPr>
            <p:cNvPr id="158" name=""/>
            <p:cNvSpPr/>
            <p:nvPr/>
          </p:nvSpPr>
          <p:spPr>
            <a:xfrm>
              <a:off x="4645080" y="4292640"/>
              <a:ext cx="37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6</a:t>
              </a: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）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=-     x</a:t>
              </a:r>
              <a:r>
                <a:rPr b="1" lang="en-US" sz="3200" spc="-1" strike="noStrike" baseline="30000">
                  <a:solidFill>
                    <a:srgbClr val="0000cc"/>
                  </a:solidFill>
                  <a:latin typeface="Times New Roman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-4x+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6417720" y="4076640"/>
              <a:ext cx="384840" cy="1068840"/>
              <a:chOff x="6417720" y="4076640"/>
              <a:chExt cx="384840" cy="1068840"/>
            </a:xfrm>
          </p:grpSpPr>
          <p:sp>
            <p:nvSpPr>
              <p:cNvPr id="160" name=""/>
              <p:cNvSpPr/>
              <p:nvPr/>
            </p:nvSpPr>
            <p:spPr>
              <a:xfrm>
                <a:off x="6417720" y="4076640"/>
                <a:ext cx="3848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楷体_GB2312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楷体_GB2312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467400" y="4659120"/>
                <a:ext cx="287640" cy="0"/>
              </a:xfrm>
              <a:prstGeom prst="line">
                <a:avLst/>
              </a:prstGeom>
              <a:ln w="1908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4000" y="969840"/>
            <a:ext cx="83516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一根长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0c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铁丝，把它弯成一个矩形框。当矩形框的长、宽各是多少时，矩形的面积最大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4360" y="204840"/>
            <a:ext cx="10094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练习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396720" y="3890880"/>
            <a:ext cx="8352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已知两个正数的和是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，它们的积最大是多少？（提示：设其中的一个正数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，将它们的积表示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函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547640" y="1628640"/>
            <a:ext cx="546588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谈谈你的收获</a:t>
            </a:r>
            <a:endParaRPr b="0" lang="en-US" sz="4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92360" y="476280"/>
            <a:ext cx="331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结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5410080" cy="819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1:31:41Z</dcterms:created>
  <dc:creator>w</dc:creator>
  <dc:description>w</dc:description>
  <cp:keywords>w</cp:keywords>
  <dc:language>en-US</dc:language>
  <cp:lastModifiedBy>User</cp:lastModifiedBy>
  <cp:lastPrinted>1899-12-30T00:00:00Z</cp:lastPrinted>
  <dcterms:modified xsi:type="dcterms:W3CDTF">2013-12-13T01:48:10Z</dcterms:modified>
  <cp:revision>129</cp:revision>
  <dc:subject>w</dc:subject>
  <dc:title>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