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492-66B6-4C6A-965E-7264EA2C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E2E-26C9-4422-A3E8-6B6F4211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803-D94F-42F6-87BC-C1EB277F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89C-E817-4A75-8F12-8C76320E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69E-8898-4489-BEB7-E25B4CE3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D68-0747-4BE5-8530-389B6E08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CA4-E8BB-4C0C-B461-C06492E7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A31-A141-48E3-96BC-7021EB70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F57-F35B-4748-B564-46E5557B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0F2-CD82-415A-A9DF-D93D8E5E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049-DCF1-4450-8B13-054945B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6E1-5478-4987-9689-B48D841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D1B1-BC8D-4A15-A8EA-9AF620CD6F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98560" y="1197000"/>
            <a:ext cx="756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二次函数的图象和性质</a:t>
            </a: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(5)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654120" y="3500280"/>
            <a:ext cx="831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ax</a:t>
            </a:r>
            <a:r>
              <a:rPr b="1" lang="en-US" sz="5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bx+c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图象与性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43280" y="235080"/>
            <a:ext cx="186696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来模仿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∴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开口方向：向上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3440" y="4681440"/>
            <a:ext cx="21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对称轴：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x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8320" y="511344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顶点坐标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(2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765000"/>
            <a:ext cx="0" cy="338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465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∴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开口方向：向上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5440" y="5041800"/>
            <a:ext cx="21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对称轴：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x=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79960" y="547380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顶点坐标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(3,-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643280" y="981000"/>
                <a:ext cx="3024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（1）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2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29040" y="1484280"/>
                <a:ext cx="3527640" cy="32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2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6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x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23920" y="841320"/>
                <a:ext cx="3273480" cy="358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4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763640" y="2182680"/>
                <a:ext cx="57596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你能把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改写成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吗？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 txBox="1"/>
          <p:nvPr/>
        </p:nvSpPr>
        <p:spPr>
          <a:xfrm>
            <a:off x="1474920" y="1197000"/>
            <a:ext cx="1123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分析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6083280" y="4581360"/>
            <a:ext cx="2305080" cy="648000"/>
          </a:xfrm>
          <a:prstGeom prst="wedgeRoundRectCallout">
            <a:avLst>
              <a:gd name="adj1" fmla="val -54750"/>
              <a:gd name="adj2" fmla="val -173037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知道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7840" y="4653000"/>
            <a:ext cx="1873080" cy="647640"/>
          </a:xfrm>
          <a:prstGeom prst="wedgeRectCallout">
            <a:avLst>
              <a:gd name="adj1" fmla="val 78388"/>
              <a:gd name="adj2" fmla="val -18284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配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8360" y="1413000"/>
                <a:ext cx="5343480" cy="512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a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ac-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 txBox="1"/>
          <p:nvPr/>
        </p:nvSpPr>
        <p:spPr>
          <a:xfrm>
            <a:off x="684360" y="333360"/>
            <a:ext cx="1123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试一试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68360" y="1413000"/>
                <a:ext cx="5343480" cy="512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a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ac-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 txBox="1"/>
          <p:nvPr/>
        </p:nvSpPr>
        <p:spPr>
          <a:xfrm>
            <a:off x="684360" y="333360"/>
            <a:ext cx="1123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试一试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476280"/>
            <a:ext cx="36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∴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开口方向：由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决定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788000" y="1000080"/>
                <a:ext cx="2317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称轴： 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788000" y="1771560"/>
                <a:ext cx="36716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顶点坐标： 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den>
                    </m:f>
                    <m:r>
                      <m:t xml:space="preserve">，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6084720" y="3357720"/>
            <a:ext cx="2988000" cy="647640"/>
          </a:xfrm>
          <a:prstGeom prst="wedgeRoundRectCallout">
            <a:avLst>
              <a:gd name="adj1" fmla="val -11050"/>
              <a:gd name="adj2" fmla="val -185782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记住公式哦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4360" y="930240"/>
                <a:ext cx="26636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2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 txBox="1"/>
          <p:nvPr/>
        </p:nvSpPr>
        <p:spPr>
          <a:xfrm>
            <a:off x="900000" y="189000"/>
            <a:ext cx="122868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试一试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66720" y="3562200"/>
                <a:ext cx="3328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称轴： 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39640" y="4653000"/>
                <a:ext cx="38894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顶点坐标：（2，1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84360" y="2249640"/>
                <a:ext cx="26636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∵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开口方向：向上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443480" y="836640"/>
            <a:ext cx="0" cy="547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4653000"/>
                <a:ext cx="38894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顶点坐标：（2，1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443480" y="836640"/>
            <a:ext cx="0" cy="547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3280" y="1341360"/>
            <a:ext cx="163836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来模仿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284720" y="333360"/>
                <a:ext cx="31669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（1）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2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84360" y="930240"/>
                <a:ext cx="26636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2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 txBox="1"/>
          <p:nvPr/>
        </p:nvSpPr>
        <p:spPr>
          <a:xfrm>
            <a:off x="900000" y="189000"/>
            <a:ext cx="122868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试一试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66720" y="3562200"/>
                <a:ext cx="3328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称轴： 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84360" y="2249640"/>
                <a:ext cx="26636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∵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开口方向：向上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9640" y="4653000"/>
                <a:ext cx="38894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顶点坐标：（2，1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443480" y="836640"/>
            <a:ext cx="0" cy="547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3280" y="1341360"/>
            <a:ext cx="163836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来模仿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84720" y="333360"/>
                <a:ext cx="31669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（1）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2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00440" y="3699000"/>
                <a:ext cx="3306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称轴： 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00720" y="4746600"/>
                <a:ext cx="42670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5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顶点坐标：（3，</m:t>
                        </m:r>
                        <m:r>
                          <m:rPr>
                            <m:lit/>
                            <m:nor/>
                          </m:rPr>
                          <m:t xml:space="preserve">-5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606920" y="2598840"/>
                <a:ext cx="26640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∵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开口方向：向上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66720" y="3562200"/>
                <a:ext cx="3328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称轴： 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84360" y="2249640"/>
                <a:ext cx="26636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∵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开口方向：向上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84360" y="930240"/>
                <a:ext cx="26636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2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 txBox="1"/>
          <p:nvPr/>
        </p:nvSpPr>
        <p:spPr>
          <a:xfrm>
            <a:off x="900000" y="189000"/>
            <a:ext cx="1228680" cy="63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试一试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413000" y="909720"/>
            <a:ext cx="2438280" cy="8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试牛刀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863640" y="1887480"/>
            <a:ext cx="67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抛物线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x+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的交点坐标是      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的交点坐标是        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89040" y="1892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0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225252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1,0)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或（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6640" y="2852640"/>
            <a:ext cx="3286080" cy="3819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562200" y="2709720"/>
            <a:ext cx="2376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54560" y="2349360"/>
            <a:ext cx="936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997360"/>
            <a:ext cx="2303640" cy="792000"/>
          </a:xfrm>
          <a:prstGeom prst="wedgeRoundRectCallout">
            <a:avLst>
              <a:gd name="adj1" fmla="val 107407"/>
              <a:gd name="adj2" fmla="val 88277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抛物线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轴的交点有什么特征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4508640"/>
            <a:ext cx="2303280" cy="792000"/>
          </a:xfrm>
          <a:prstGeom prst="wedgeRoundRectCallout">
            <a:avLst>
              <a:gd name="adj1" fmla="val 119055"/>
              <a:gd name="adj2" fmla="val 4538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抛物线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轴的交点有什么特征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107280" y="5084640"/>
            <a:ext cx="59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        值，最         值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=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476280"/>
            <a:ext cx="243828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试牛刀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436572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函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4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3x-1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函数值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取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6360" y="5559480"/>
            <a:ext cx="77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抛物线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5x+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的交点坐标是      ，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的交点坐标是       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484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二次函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-5(x-   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a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bx+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形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1400" y="1309680"/>
            <a:ext cx="363600" cy="825480"/>
            <a:chOff x="3551400" y="1309680"/>
            <a:chExt cx="363600" cy="825480"/>
          </a:xfrm>
        </p:grpSpPr>
        <p:sp>
          <p:nvSpPr>
            <p:cNvPr id="162" name=""/>
            <p:cNvSpPr/>
            <p:nvPr/>
          </p:nvSpPr>
          <p:spPr>
            <a:xfrm>
              <a:off x="3551400" y="1309680"/>
              <a:ext cx="36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87760" y="1741320"/>
              <a:ext cx="289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438800" y="1309680"/>
            <a:ext cx="363600" cy="825480"/>
            <a:chOff x="4438800" y="1309680"/>
            <a:chExt cx="363600" cy="825480"/>
          </a:xfrm>
        </p:grpSpPr>
        <p:sp>
          <p:nvSpPr>
            <p:cNvPr id="165" name=""/>
            <p:cNvSpPr/>
            <p:nvPr/>
          </p:nvSpPr>
          <p:spPr>
            <a:xfrm>
              <a:off x="4438800" y="1309680"/>
              <a:ext cx="36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75160" y="1741320"/>
              <a:ext cx="289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11280" y="2133720"/>
            <a:ext cx="4392360" cy="825480"/>
            <a:chOff x="611280" y="2133720"/>
            <a:chExt cx="4392360" cy="825480"/>
          </a:xfrm>
        </p:grpSpPr>
        <p:sp>
          <p:nvSpPr>
            <p:cNvPr id="168" name=""/>
            <p:cNvSpPr/>
            <p:nvPr/>
          </p:nvSpPr>
          <p:spPr>
            <a:xfrm>
              <a:off x="611280" y="2133720"/>
              <a:ext cx="439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则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a=     b=      c=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03280" y="2567160"/>
              <a:ext cx="648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1280" y="2567160"/>
              <a:ext cx="649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2567160"/>
              <a:ext cx="648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971640" y="5516640"/>
            <a:ext cx="649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5516640"/>
            <a:ext cx="649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22560" y="4797360"/>
            <a:ext cx="649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2560" y="5589720"/>
            <a:ext cx="649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9640" y="3213000"/>
            <a:ext cx="7561440" cy="825480"/>
            <a:chOff x="539640" y="3213000"/>
            <a:chExt cx="7561440" cy="825480"/>
          </a:xfrm>
        </p:grpSpPr>
        <p:sp>
          <p:nvSpPr>
            <p:cNvPr id="177" name=""/>
            <p:cNvSpPr/>
            <p:nvPr/>
          </p:nvSpPr>
          <p:spPr>
            <a:xfrm>
              <a:off x="539640" y="3403440"/>
              <a:ext cx="756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抛物线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y=-   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-x+   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的顶点坐标是      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2398680" y="3213000"/>
              <a:ext cx="363600" cy="825480"/>
              <a:chOff x="2398680" y="3213000"/>
              <a:chExt cx="363600" cy="825480"/>
            </a:xfrm>
          </p:grpSpPr>
          <p:sp>
            <p:nvSpPr>
              <p:cNvPr id="179" name=""/>
              <p:cNvSpPr/>
              <p:nvPr/>
            </p:nvSpPr>
            <p:spPr>
              <a:xfrm>
                <a:off x="2398680" y="3213000"/>
                <a:ext cx="363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35040" y="3644640"/>
                <a:ext cx="289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51400" y="3213000"/>
              <a:ext cx="363600" cy="825480"/>
              <a:chOff x="3551400" y="3213000"/>
              <a:chExt cx="363600" cy="8254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51400" y="3213000"/>
                <a:ext cx="363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87760" y="3644640"/>
                <a:ext cx="289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868720" y="3789000"/>
              <a:ext cx="792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826920" y="3933720"/>
            <a:ext cx="2737080" cy="459720"/>
            <a:chOff x="826920" y="3933720"/>
            <a:chExt cx="2737080" cy="459720"/>
          </a:xfrm>
        </p:grpSpPr>
        <p:sp>
          <p:nvSpPr>
            <p:cNvPr id="186" name=""/>
            <p:cNvSpPr/>
            <p:nvPr/>
          </p:nvSpPr>
          <p:spPr>
            <a:xfrm>
              <a:off x="82692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对称轴是      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68360" y="4367160"/>
              <a:ext cx="792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9640" y="2708280"/>
            <a:ext cx="7777080" cy="459720"/>
            <a:chOff x="539640" y="2708280"/>
            <a:chExt cx="7777080" cy="459720"/>
          </a:xfrm>
        </p:grpSpPr>
        <p:sp>
          <p:nvSpPr>
            <p:cNvPr id="189" name=""/>
            <p:cNvSpPr/>
            <p:nvPr/>
          </p:nvSpPr>
          <p:spPr>
            <a:xfrm>
              <a:off x="539640" y="2708280"/>
              <a:ext cx="65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抛物线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y=2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-4x-5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化成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y=a(x-h)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+k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的形式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04000" y="3140280"/>
              <a:ext cx="1512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869080" y="5950080"/>
            <a:ext cx="936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6308640"/>
            <a:ext cx="2087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4808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1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08360" y="213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77000" y="268452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y=2(x-1)</a:t>
            </a:r>
            <a:r>
              <a:rPr b="1" lang="en-US" sz="2400" spc="-1" strike="noStrike" baseline="30000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940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-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39337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x=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01760" y="551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0,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58770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(2,0)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或（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83040" y="4076640"/>
            <a:ext cx="363600" cy="825480"/>
            <a:chOff x="3983040" y="4076640"/>
            <a:chExt cx="363600" cy="825480"/>
          </a:xfrm>
        </p:grpSpPr>
        <p:sp>
          <p:nvSpPr>
            <p:cNvPr id="202" name=""/>
            <p:cNvSpPr/>
            <p:nvPr/>
          </p:nvSpPr>
          <p:spPr>
            <a:xfrm>
              <a:off x="3983040" y="4076640"/>
              <a:ext cx="36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9400" y="4508280"/>
              <a:ext cx="2890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935520" y="4869000"/>
            <a:ext cx="564840" cy="825480"/>
            <a:chOff x="3935520" y="4869000"/>
            <a:chExt cx="564840" cy="825480"/>
          </a:xfrm>
        </p:grpSpPr>
        <p:sp>
          <p:nvSpPr>
            <p:cNvPr id="205" name=""/>
            <p:cNvSpPr/>
            <p:nvPr/>
          </p:nvSpPr>
          <p:spPr>
            <a:xfrm>
              <a:off x="3935520" y="4869000"/>
              <a:ext cx="56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50000" y="5300640"/>
              <a:ext cx="331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106280" y="50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33400" y="50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763640" y="2062080"/>
            <a:ext cx="546588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谈谈你的收获</a:t>
            </a:r>
            <a:endParaRPr b="0" lang="en-US" sz="4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92360" y="476280"/>
            <a:ext cx="33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5410080" cy="8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15920"/>
            <a:ext cx="74898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顾：二次函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a(x-h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+k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981000"/>
          <a:ext cx="8748720" cy="5616720"/>
        </p:xfrm>
        <a:graphic>
          <a:graphicData uri="http://schemas.openxmlformats.org/drawingml/2006/table">
            <a:tbl>
              <a:tblPr/>
              <a:tblGrid>
                <a:gridCol w="3097440"/>
                <a:gridCol w="2663640"/>
                <a:gridCol w="29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a(x-h)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k(a≠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极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462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89440" y="1484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9440" y="148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9440" y="198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h ,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58160" y="1989000"/>
            <a:ext cx="12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h ,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2360" y="254952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73800" y="2549520"/>
            <a:ext cx="10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84720" y="3213000"/>
            <a:ext cx="280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h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gt;h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21440" y="321300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h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gt;h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4720" y="4581360"/>
            <a:ext cx="23032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1" lang="zh-CN" sz="2000" spc="-1" strike="noStrike" baseline="-25000">
                <a:solidFill>
                  <a:srgbClr val="ff0066"/>
                </a:solidFill>
                <a:latin typeface="Times New Roman"/>
              </a:rPr>
              <a:t>最小值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37440" y="4581360"/>
            <a:ext cx="23032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x=h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1" lang="zh-CN" sz="2000" spc="-1" strike="noStrike" baseline="-25000">
                <a:solidFill>
                  <a:srgbClr val="ff0066"/>
                </a:solidFill>
                <a:latin typeface="Times New Roman"/>
              </a:rPr>
              <a:t>最大值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0360" y="5445000"/>
            <a:ext cx="83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抛物线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=a(x-h)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+k(a≠0)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的图象可由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=ax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的图象通过上下和左右平移得到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211640" y="3789360"/>
            <a:ext cx="310500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第</a:t>
            </a:r>
            <a:r>
              <a:rPr b="0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22</a:t>
            </a: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页第</a:t>
            </a:r>
            <a:r>
              <a:rPr b="0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2</a:t>
            </a: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题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5440" y="1270080"/>
            <a:ext cx="331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754360"/>
            <a:ext cx="5410080" cy="81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360" y="947880"/>
            <a:ext cx="1523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68360" y="1654200"/>
                <a:ext cx="79120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试研究二次函数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的图象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76360" y="3784680"/>
                <a:ext cx="525636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将函数关系式配方，得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 txBox="1"/>
          <p:nvPr/>
        </p:nvSpPr>
        <p:spPr>
          <a:xfrm>
            <a:off x="826920" y="2781360"/>
            <a:ext cx="1124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分析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476360" y="1554120"/>
                <a:ext cx="540072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怎样把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改写成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呢？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 txBox="1"/>
          <p:nvPr/>
        </p:nvSpPr>
        <p:spPr>
          <a:xfrm>
            <a:off x="826920" y="620640"/>
            <a:ext cx="1124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分析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765000"/>
            <a:ext cx="2305080" cy="648000"/>
          </a:xfrm>
          <a:prstGeom prst="wedgeRoundRectCallout">
            <a:avLst>
              <a:gd name="adj1" fmla="val -64120"/>
              <a:gd name="adj2" fmla="val 282842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知道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581360"/>
            <a:ext cx="1873440" cy="720720"/>
          </a:xfrm>
          <a:prstGeom prst="wedgeRectCallout">
            <a:avLst>
              <a:gd name="adj1" fmla="val 89916"/>
              <a:gd name="adj2" fmla="val -1537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配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68360" y="1590840"/>
                <a:ext cx="4154760" cy="46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4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 txBox="1"/>
          <p:nvPr/>
        </p:nvSpPr>
        <p:spPr>
          <a:xfrm>
            <a:off x="684360" y="260280"/>
            <a:ext cx="1123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试一试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047320" y="189000"/>
            <a:ext cx="3082320" cy="1191240"/>
            <a:chOff x="2047320" y="189000"/>
            <a:chExt cx="3082320" cy="1191240"/>
          </a:xfrm>
        </p:grpSpPr>
        <p:sp>
          <p:nvSpPr>
            <p:cNvPr id="67" name=""/>
            <p:cNvSpPr/>
            <p:nvPr/>
          </p:nvSpPr>
          <p:spPr>
            <a:xfrm>
              <a:off x="2047320" y="430200"/>
              <a:ext cx="308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y=  x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-2x+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855880" y="189000"/>
              <a:ext cx="455040" cy="1191240"/>
              <a:chOff x="2855880" y="189000"/>
              <a:chExt cx="455040" cy="1191240"/>
            </a:xfrm>
          </p:grpSpPr>
          <p:sp>
            <p:nvSpPr>
              <p:cNvPr id="69" name=""/>
              <p:cNvSpPr/>
              <p:nvPr/>
            </p:nvSpPr>
            <p:spPr>
              <a:xfrm>
                <a:off x="2855880" y="189000"/>
                <a:ext cx="455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866680" y="779400"/>
                <a:ext cx="431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1352880" y="1708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587600" y="928800"/>
                <a:ext cx="3705120" cy="41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4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 txBox="1"/>
          <p:nvPr/>
        </p:nvSpPr>
        <p:spPr>
          <a:xfrm rot="5400000">
            <a:off x="-174240" y="573480"/>
            <a:ext cx="1514520" cy="7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试一试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3637080"/>
            <a:ext cx="36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∴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开口方向：向上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46680" y="4357800"/>
            <a:ext cx="29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对称轴：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x=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29040" y="5081760"/>
            <a:ext cx="33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顶点坐标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(2,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1197000"/>
            <a:ext cx="2663640" cy="647640"/>
          </a:xfrm>
          <a:prstGeom prst="wedgeRoundRectCallout">
            <a:avLst>
              <a:gd name="adj1" fmla="val -90824"/>
              <a:gd name="adj2" fmla="val 171078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记住方法哦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907920" y="625320"/>
                <a:ext cx="3273480" cy="358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4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97964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∴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开口方向：向上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3440" y="4681440"/>
            <a:ext cx="21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对称轴：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x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08320" y="511344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顶点坐标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(2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765000"/>
            <a:ext cx="0" cy="338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836640"/>
            <a:ext cx="4095720" cy="4486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43280" y="235080"/>
            <a:ext cx="186696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来模仿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197964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∴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开口方向：向上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3440" y="4681440"/>
            <a:ext cx="21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对称轴：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x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08320" y="511344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顶点坐标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(2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643280" y="981000"/>
                <a:ext cx="3024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（1）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2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500720" y="765000"/>
            <a:ext cx="0" cy="338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123920" y="841320"/>
                <a:ext cx="3273480" cy="358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4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43280" y="235080"/>
            <a:ext cx="186696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来模仿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∴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开口方向：向上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3440" y="4681440"/>
            <a:ext cx="21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对称轴：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x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8320" y="511344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顶点坐标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(2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643280" y="981000"/>
                <a:ext cx="3024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（1）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12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500720" y="765000"/>
            <a:ext cx="0" cy="338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829040" y="1484280"/>
                <a:ext cx="3527640" cy="32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12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6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x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23920" y="841320"/>
                <a:ext cx="3273480" cy="358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4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1:31:41Z</dcterms:created>
  <dc:creator>w</dc:creator>
  <dc:description>w</dc:description>
  <cp:keywords>w</cp:keywords>
  <dc:language>en-US</dc:language>
  <cp:lastModifiedBy>User</cp:lastModifiedBy>
  <cp:lastPrinted>1899-12-30T00:00:00Z</cp:lastPrinted>
  <dcterms:modified xsi:type="dcterms:W3CDTF">2013-12-13T01:47:59Z</dcterms:modified>
  <cp:revision>117</cp:revision>
  <dc:subject>w</dc:subject>
  <dc:title>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