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0B0-E5C6-4D61-9027-F77A326F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F2A-96C0-47BB-AE8B-BABF9EB8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D44-FB11-4BA4-B0FA-637B2589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6BE-F2C4-45B8-BECF-E51E2B49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053-F308-4CD3-80E6-EFC1974C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340-DC83-4453-B945-5E2E8DE5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65C-B210-416A-A133-7D037B57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46B-0A8D-47DD-902B-BDA4DC5A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5F4-7E6D-4850-88B5-ADC81DE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AE6-F0F9-470E-928B-E92D53C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A91-1691-4073-8EA8-21F2AB62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8E6-E644-48B9-A0AC-B40430EC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0E80-1F25-461A-8A7E-8D5E6D1EFE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98560" y="1197000"/>
            <a:ext cx="756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二次函数的图象和性质</a:t>
            </a: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(3)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871560" y="3532320"/>
                <a:ext cx="75931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-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图象与性质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156360" y="260280"/>
            <a:ext cx="2736720" cy="1557360"/>
          </a:xfrm>
          <a:prstGeom prst="wedgeRectCallout">
            <a:avLst>
              <a:gd name="adj1" fmla="val -82194"/>
              <a:gd name="adj2" fmla="val 5326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(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向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单位长度得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89080"/>
            <a:ext cx="2735280" cy="1584000"/>
          </a:xfrm>
          <a:prstGeom prst="wedgeRectCallout">
            <a:avLst>
              <a:gd name="adj1" fmla="val 63462"/>
              <a:gd name="adj2" fmla="val 46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(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向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单位长度得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5516640"/>
            <a:ext cx="5616360" cy="1081080"/>
          </a:xfrm>
          <a:prstGeom prst="wedgeRoundRectCallout">
            <a:avLst>
              <a:gd name="adj1" fmla="val -1837"/>
              <a:gd name="adj2" fmla="val -96254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图象向左移还是向右移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移多少个单位长度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有什么规律吗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47640" y="1555920"/>
            <a:ext cx="6048720" cy="3673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73080" y="4365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(x+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49800" y="4797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479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(x-2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 rot="465000">
            <a:off x="744120" y="-27000"/>
            <a:ext cx="112392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察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79280" y="909720"/>
                <a:ext cx="8707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根据所画出的图象，说出这两个函数图象的开口方向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对称轴和顶点坐标，并填写下表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395280" y="2133720"/>
          <a:ext cx="8229600" cy="2302920"/>
        </p:xfrm>
        <a:graphic>
          <a:graphicData uri="http://schemas.openxmlformats.org/drawingml/2006/table">
            <a:tbl>
              <a:tblPr/>
              <a:tblGrid>
                <a:gridCol w="2170080"/>
                <a:gridCol w="2532240"/>
                <a:gridCol w="1763640"/>
                <a:gridCol w="1763640"/>
              </a:tblGrid>
              <a:tr h="76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357720" y="305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7720" y="378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62440" y="30542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9720" y="378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75520" y="30542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 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4080" y="378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2 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00280" y="2925720"/>
                <a:ext cx="1117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20640" y="3646440"/>
                <a:ext cx="172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-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3492360" y="4581360"/>
            <a:ext cx="2592360" cy="936720"/>
          </a:xfrm>
          <a:prstGeom prst="wedgeRoundRectCallout">
            <a:avLst>
              <a:gd name="adj1" fmla="val -117726"/>
              <a:gd name="adj2" fmla="val -64236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有哪些相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哪些不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362320" y="1125360"/>
            <a:ext cx="441936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000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两个函数的图象有什么关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076720" y="1271520"/>
                <a:ext cx="10288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40360" y="2286000"/>
                <a:ext cx="1482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6227640" y="3537000"/>
            <a:ext cx="2665440" cy="981000"/>
          </a:xfrm>
          <a:prstGeom prst="wedgeRoundRectCallout">
            <a:avLst>
              <a:gd name="adj1" fmla="val -79837"/>
              <a:gd name="adj2" fmla="val 88671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两个函数的图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口方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2200" y="3438360"/>
            <a:ext cx="2233800" cy="935280"/>
          </a:xfrm>
          <a:prstGeom prst="wedgeRectCallout">
            <a:avLst>
              <a:gd name="adj1" fmla="val 75300"/>
              <a:gd name="adj2" fmla="val 95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称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顶点坐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00720" y="331920"/>
            <a:ext cx="3663720" cy="4184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638760" y="189000"/>
                <a:ext cx="10288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574040" y="1052640"/>
                <a:ext cx="14824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6" name=""/>
          <p:cNvGrpSpPr/>
          <p:nvPr/>
        </p:nvGrpSpPr>
        <p:grpSpPr>
          <a:xfrm>
            <a:off x="395280" y="549360"/>
            <a:ext cx="3311280" cy="3168720"/>
            <a:chOff x="395280" y="549360"/>
            <a:chExt cx="3311280" cy="3168720"/>
          </a:xfrm>
        </p:grpSpPr>
        <p:sp>
          <p:nvSpPr>
            <p:cNvPr id="187" name=""/>
            <p:cNvSpPr/>
            <p:nvPr/>
          </p:nvSpPr>
          <p:spPr>
            <a:xfrm>
              <a:off x="395280" y="549360"/>
              <a:ext cx="3311280" cy="3168720"/>
            </a:xfrm>
            <a:prstGeom prst="wedgeRectCallout">
              <a:avLst>
                <a:gd name="adj1" fmla="val 83749"/>
                <a:gd name="adj2" fmla="val -11074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函数                    的图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可由                  的图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沿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轴向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移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度得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260360" y="1486080"/>
                  <a:ext cx="102888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1144440" y="838440"/>
                  <a:ext cx="148284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6659640" y="4869000"/>
            <a:ext cx="2233440" cy="1224000"/>
          </a:xfrm>
          <a:prstGeom prst="wedgeRectCallout">
            <a:avLst>
              <a:gd name="adj1" fmla="val -52629"/>
              <a:gd name="adj2" fmla="val -11796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称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顶点坐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1280" y="3220920"/>
            <a:ext cx="81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(a≠0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函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-h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(a≠0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形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只是位置不同；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&gt;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函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(x-h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可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单位得到，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&lt;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函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(x-h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可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向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单位得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3652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362320" y="404640"/>
            <a:ext cx="3433680" cy="286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74920" y="5661000"/>
                <a:ext cx="57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68360" y="4691160"/>
                <a:ext cx="57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116240" y="4724280"/>
                <a:ext cx="336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564000" y="5589720"/>
                <a:ext cx="573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28916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(x+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可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得到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(x-1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得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465300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左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，所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的函数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5(x+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的函数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27288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3(x+4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；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(x-7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位得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。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(x-7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可得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168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844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97160" y="20811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2138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693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541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4560" y="267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3880" y="267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99240" y="313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2240" y="3132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3970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9704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5037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4(x+3)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5875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-5(x-4)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16000" y="115920"/>
            <a:ext cx="244800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试牛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58920" y="3773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3773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2492280"/>
            <a:ext cx="856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-h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取得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这个值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a (x-h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取得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这个值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242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h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716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45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5013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h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24720" y="54309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5430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587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13080" y="587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6160" y="58626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360360"/>
            <a:ext cx="468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观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察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考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013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82680" y="181080"/>
            <a:ext cx="2857680" cy="23842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4140360" y="476280"/>
            <a:ext cx="4859280" cy="1081080"/>
            <a:chOff x="4140360" y="476280"/>
            <a:chExt cx="4859280" cy="1081080"/>
          </a:xfrm>
        </p:grpSpPr>
        <p:sp>
          <p:nvSpPr>
            <p:cNvPr id="234" name=""/>
            <p:cNvSpPr/>
            <p:nvPr/>
          </p:nvSpPr>
          <p:spPr>
            <a:xfrm>
              <a:off x="4140360" y="476280"/>
              <a:ext cx="4859280" cy="1081080"/>
            </a:xfrm>
            <a:prstGeom prst="wedgeRectCallout">
              <a:avLst>
                <a:gd name="adj1" fmla="val -58101"/>
                <a:gd name="adj2" fmla="val 146768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这是函数                           的性质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581800" y="765000"/>
                  <a:ext cx="19429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h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1187280" y="3284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436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1773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3(x+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取得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这个值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990960"/>
            <a:ext cx="829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7(x-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取得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这个值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33880" y="17114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54880" y="1711440"/>
            <a:ext cx="10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5000" y="21686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-5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565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549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3006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006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6160" y="30542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06880" y="391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45520" y="391464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43718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3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829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8290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增大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52862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5210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70520" y="5229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00000" y="549360"/>
            <a:ext cx="244800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试牛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24000" y="144360"/>
            <a:ext cx="2376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及时小结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79280" y="1125360"/>
          <a:ext cx="8748720" cy="5616720"/>
        </p:xfrm>
        <a:graphic>
          <a:graphicData uri="http://schemas.openxmlformats.org/drawingml/2006/table">
            <a:tbl>
              <a:tblPr/>
              <a:tblGrid>
                <a:gridCol w="2880000"/>
                <a:gridCol w="2881080"/>
                <a:gridCol w="29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(x-h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≠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462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3852720" y="1628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93080" y="1628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2720" y="2133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h 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21440" y="213372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h 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95640" y="26938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7440" y="2693880"/>
            <a:ext cx="10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328608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h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gt;h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328608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h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gt;h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472608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1" lang="zh-CN" sz="2000" spc="-1" strike="noStrike" baseline="-25000">
                <a:solidFill>
                  <a:srgbClr val="ff0066"/>
                </a:solidFill>
                <a:latin typeface="Times New Roman"/>
              </a:rPr>
              <a:t>最小值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00720" y="472608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1" lang="zh-CN" sz="2000" spc="-1" strike="noStrike" baseline="-25000">
                <a:solidFill>
                  <a:srgbClr val="ff0066"/>
                </a:solidFill>
                <a:latin typeface="Times New Roman"/>
              </a:rPr>
              <a:t>最大值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551808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(a≠0)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图象可由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图象通过左右平移得到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 rot="465000">
            <a:off x="744120" y="271080"/>
            <a:ext cx="112392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17440" y="1184400"/>
                <a:ext cx="88185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试说出函数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的图象的开口方向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对称轴和顶点坐标,并填写下表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72" name=""/>
          <p:cNvGraphicFramePr/>
          <p:nvPr/>
        </p:nvGraphicFramePr>
        <p:xfrm>
          <a:off x="457200" y="2819520"/>
          <a:ext cx="8229600" cy="1904760"/>
        </p:xfrm>
        <a:graphic>
          <a:graphicData uri="http://schemas.openxmlformats.org/drawingml/2006/table">
            <a:tbl>
              <a:tblPr/>
              <a:tblGrid>
                <a:gridCol w="2170080"/>
                <a:gridCol w="1297080"/>
                <a:gridCol w="1235160"/>
                <a:gridCol w="1763640"/>
                <a:gridCol w="1763640"/>
              </a:tblGrid>
              <a:tr h="6343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4067280" y="35575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68720" y="42051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81800" y="35575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80000" y="4149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7440" y="35575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h 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6000" y="42051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h 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71520" y="3573360"/>
                <a:ext cx="225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-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979560"/>
          <a:ext cx="8136000" cy="5678280"/>
        </p:xfrm>
        <a:graphic>
          <a:graphicData uri="http://schemas.openxmlformats.org/drawingml/2006/table">
            <a:tbl>
              <a:tblPr/>
              <a:tblGrid>
                <a:gridCol w="1665360"/>
                <a:gridCol w="3249720"/>
                <a:gridCol w="32209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开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对称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增减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097280" y="115920"/>
            <a:ext cx="49032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顾：二次函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+k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9480" y="3116160"/>
            <a:ext cx="1033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开口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53480" y="3044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开口向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0480" y="3573360"/>
            <a:ext cx="23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|a|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越大，开口越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0840" y="407664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轴对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5156280"/>
            <a:ext cx="23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顶点是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低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24400" y="5156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顶点是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高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2280" y="5851440"/>
            <a:ext cx="280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</a:t>
            </a:r>
            <a:r>
              <a:rPr b="1" lang="en-US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x&lt;0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，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</a:t>
            </a:r>
            <a:r>
              <a:rPr b="1" lang="en-US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x&gt;0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，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68360" y="1411200"/>
            <a:ext cx="1236600" cy="1295280"/>
            <a:chOff x="2268360" y="1411200"/>
            <a:chExt cx="1236600" cy="1295280"/>
          </a:xfrm>
        </p:grpSpPr>
        <p:sp>
          <p:nvSpPr>
            <p:cNvPr id="53" name=""/>
            <p:cNvSpPr/>
            <p:nvPr/>
          </p:nvSpPr>
          <p:spPr>
            <a:xfrm flipH="1">
              <a:off x="2856960" y="1411200"/>
              <a:ext cx="1800" cy="1295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68360" y="249084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95440" y="141264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651640" y="1410480"/>
            <a:ext cx="1249200" cy="1297080"/>
            <a:chOff x="5651640" y="1410480"/>
            <a:chExt cx="1249200" cy="1297080"/>
          </a:xfrm>
        </p:grpSpPr>
        <p:sp>
          <p:nvSpPr>
            <p:cNvPr id="57" name=""/>
            <p:cNvSpPr/>
            <p:nvPr/>
          </p:nvSpPr>
          <p:spPr>
            <a:xfrm>
              <a:off x="5651640" y="2057400"/>
              <a:ext cx="124920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251400" y="1410480"/>
              <a:ext cx="1440" cy="1297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5792400" y="1641240"/>
              <a:ext cx="91404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24360" y="1411200"/>
            <a:ext cx="1236600" cy="1295280"/>
            <a:chOff x="3924360" y="1411200"/>
            <a:chExt cx="1236600" cy="1295280"/>
          </a:xfrm>
        </p:grpSpPr>
        <p:sp>
          <p:nvSpPr>
            <p:cNvPr id="61" name=""/>
            <p:cNvSpPr/>
            <p:nvPr/>
          </p:nvSpPr>
          <p:spPr>
            <a:xfrm flipH="1">
              <a:off x="4513320" y="1411200"/>
              <a:ext cx="1440" cy="1295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24360" y="184284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51440" y="141588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354800" y="1411200"/>
            <a:ext cx="1249560" cy="1296720"/>
            <a:chOff x="7354800" y="1411200"/>
            <a:chExt cx="1249560" cy="1296720"/>
          </a:xfrm>
        </p:grpSpPr>
        <p:sp>
          <p:nvSpPr>
            <p:cNvPr id="65" name=""/>
            <p:cNvSpPr/>
            <p:nvPr/>
          </p:nvSpPr>
          <p:spPr>
            <a:xfrm>
              <a:off x="7354800" y="1699920"/>
              <a:ext cx="124956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954560" y="1411200"/>
              <a:ext cx="1800" cy="12967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7496280" y="184428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41800" y="256536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25639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17160" y="25606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9080" y="25606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88720" y="45813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42280" y="5851440"/>
            <a:ext cx="280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</a:t>
            </a:r>
            <a:r>
              <a:rPr b="1" lang="en-US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x&lt;0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，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</a:t>
            </a:r>
            <a:r>
              <a:rPr b="1" lang="en-US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x&gt;0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，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763640" y="1413000"/>
            <a:ext cx="54658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谈谈你的收获</a:t>
            </a:r>
            <a:endParaRPr b="0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476360" y="476280"/>
            <a:ext cx="33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0" y="1268280"/>
            <a:ext cx="5410080" cy="81936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640" y="4114800"/>
            <a:ext cx="3105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第</a:t>
            </a: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13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页第</a:t>
            </a: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2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题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3565440" y="1270080"/>
            <a:ext cx="33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0" y="2754360"/>
            <a:ext cx="54100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71640" y="3186000"/>
                <a:ext cx="71276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画出函数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与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-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图象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 txBox="1"/>
          <p:nvPr/>
        </p:nvSpPr>
        <p:spPr>
          <a:xfrm>
            <a:off x="1116000" y="2027160"/>
            <a:ext cx="7621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2197080" y="198900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在同一直角坐标系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55640" y="54936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434880"/>
            <a:ext cx="165420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列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4120" y="1628640"/>
          <a:ext cx="8291520" cy="266364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042920" y="2492280"/>
                <a:ext cx="1290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26920" y="3355920"/>
                <a:ext cx="1968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54936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34880"/>
            <a:ext cx="165420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列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1628640"/>
          <a:ext cx="8291520" cy="266364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02452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2328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227640" y="2492280"/>
                <a:ext cx="3384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70692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42920" y="2492280"/>
                <a:ext cx="1290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26920" y="3355920"/>
                <a:ext cx="1968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55640" y="54936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434880"/>
            <a:ext cx="165420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列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4120" y="1628640"/>
          <a:ext cx="8291520" cy="266364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02452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2328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227640" y="2492280"/>
                <a:ext cx="3384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70692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042920" y="2492280"/>
                <a:ext cx="1290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26920" y="3355920"/>
                <a:ext cx="1968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632040" y="3355920"/>
                <a:ext cx="522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527960" y="3355920"/>
                <a:ext cx="338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99280" y="3355920"/>
                <a:ext cx="338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024520" y="3355920"/>
                <a:ext cx="338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042920" y="5013360"/>
            <a:ext cx="2737080" cy="836640"/>
          </a:xfrm>
          <a:prstGeom prst="wedgeRoundRectCallout">
            <a:avLst>
              <a:gd name="adj1" fmla="val 4467"/>
              <a:gd name="adj2" fmla="val -147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两个函数有什么不一样的地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38560" y="1989000"/>
            <a:ext cx="4419360" cy="48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57200" y="115920"/>
          <a:ext cx="8291520" cy="199872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9760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62948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372360" y="76500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14280" y="692280"/>
                <a:ext cx="10288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768840" y="1413000"/>
                <a:ext cx="393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648560" y="1484280"/>
                <a:ext cx="230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37236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859200" y="765000"/>
                <a:ext cx="255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09760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82520" y="1413000"/>
                <a:ext cx="1482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9640" y="3068640"/>
            <a:ext cx="165420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115920"/>
          <a:ext cx="8291520" cy="199872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9760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948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372360" y="76500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4280" y="692280"/>
                <a:ext cx="10288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8840" y="1413000"/>
                <a:ext cx="393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648560" y="1484280"/>
                <a:ext cx="230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37236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59200" y="765000"/>
                <a:ext cx="255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9760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82520" y="1413000"/>
                <a:ext cx="1482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41440" y="3068640"/>
            <a:ext cx="165420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连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419720" cy="4829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199120" y="2133720"/>
                <a:ext cx="1028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940360" y="3070080"/>
                <a:ext cx="1482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227640" y="4032360"/>
            <a:ext cx="2305080" cy="836640"/>
          </a:xfrm>
          <a:prstGeom prst="wedgeRoundRectCallout">
            <a:avLst>
              <a:gd name="adj1" fmla="val -84504"/>
              <a:gd name="adj2" fmla="val 112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两个函数的图象的形状相同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200" y="4076640"/>
            <a:ext cx="1728720" cy="649440"/>
          </a:xfrm>
          <a:prstGeom prst="wedgeRectCallout">
            <a:avLst>
              <a:gd name="adj1" fmla="val 111893"/>
              <a:gd name="adj2" fmla="val 13753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2276640"/>
            <a:ext cx="1836720" cy="836280"/>
          </a:xfrm>
          <a:prstGeom prst="wedgeRoundRectCallout">
            <a:avLst>
              <a:gd name="adj1" fmla="val -95722"/>
              <a:gd name="adj2" fmla="val 257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会比较这两个函数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115920"/>
          <a:ext cx="8291520" cy="199872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09760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948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372360" y="76500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14280" y="692280"/>
                <a:ext cx="10288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768840" y="1413000"/>
                <a:ext cx="393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648560" y="1484280"/>
                <a:ext cx="230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7236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859200" y="765000"/>
                <a:ext cx="255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9760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082520" y="1413000"/>
                <a:ext cx="1482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419720" cy="4829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9120" y="2133720"/>
                <a:ext cx="1028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940360" y="3070080"/>
                <a:ext cx="1482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5940360" y="3716280"/>
            <a:ext cx="3203640" cy="1513080"/>
            <a:chOff x="5940360" y="3716280"/>
            <a:chExt cx="3203640" cy="1513080"/>
          </a:xfrm>
        </p:grpSpPr>
        <p:sp>
          <p:nvSpPr>
            <p:cNvPr id="151" name=""/>
            <p:cNvSpPr/>
            <p:nvPr/>
          </p:nvSpPr>
          <p:spPr>
            <a:xfrm>
              <a:off x="5940360" y="3789360"/>
              <a:ext cx="3203640" cy="1440000"/>
            </a:xfrm>
            <a:prstGeom prst="wedgeRoundRectCallout">
              <a:avLst>
                <a:gd name="adj1" fmla="val -62439"/>
                <a:gd name="adj2" fmla="val 5032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=    (x-2)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图象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=    x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图象的位置有什么关系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481800" y="4292640"/>
                  <a:ext cx="2556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7018200" y="3716280"/>
                  <a:ext cx="2556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108000" y="2924280"/>
            <a:ext cx="2592360" cy="2520720"/>
            <a:chOff x="108000" y="2924280"/>
            <a:chExt cx="2592360" cy="2520720"/>
          </a:xfrm>
        </p:grpSpPr>
        <p:sp>
          <p:nvSpPr>
            <p:cNvPr id="155" name=""/>
            <p:cNvSpPr/>
            <p:nvPr/>
          </p:nvSpPr>
          <p:spPr>
            <a:xfrm>
              <a:off x="108000" y="2997360"/>
              <a:ext cx="2592360" cy="2447640"/>
            </a:xfrm>
            <a:prstGeom prst="wedgeRectCallout">
              <a:avLst>
                <a:gd name="adj1" fmla="val 72226"/>
                <a:gd name="adj2" fmla="val 3534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=    (x-2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图象可由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=    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图象沿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轴向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移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单位长度得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1258920" y="2924280"/>
                  <a:ext cx="25380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943280" y="3573360"/>
                  <a:ext cx="25380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1:31:41Z</dcterms:created>
  <dc:creator>w</dc:creator>
  <dc:description>w</dc:description>
  <cp:keywords>w</cp:keywords>
  <dc:language>en-US</dc:language>
  <cp:lastModifiedBy>User</cp:lastModifiedBy>
  <cp:lastPrinted>1899-12-30T00:00:00Z</cp:lastPrinted>
  <dcterms:modified xsi:type="dcterms:W3CDTF">2013-12-13T01:47:38Z</dcterms:modified>
  <cp:revision>61</cp:revision>
  <dc:subject>w</dc:subject>
  <dc:title>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