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88A-1414-40A6-A7C2-DEF36FF3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4FA-F11F-4459-B4F1-FACAEBEB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C35-57A4-4C97-B32C-0168828A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547-3D29-4A4D-8D42-E5A69114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7BF-0CDC-4FBC-B7E0-7B78BDD3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74B-CD70-4A3C-8669-CA4D1F7A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AF8-7813-4523-BE1A-17DE7B60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50B-9B13-45A9-820C-F9EDB9B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8CE-C0E8-4CFF-B3AE-F4901E40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291-C4F3-445B-A212-8EC6422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325-27F7-4C44-B769-C886F266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930-E520-4EE4-AAD0-F159B0B6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8947-C35D-4D0E-908A-387C7B1861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549360"/>
            <a:ext cx="756144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二次函数的图象和性质</a:t>
            </a: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(2)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116000" y="2708280"/>
                <a:ext cx="71042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的图象与性质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115920"/>
          <a:ext cx="8291520" cy="199872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9760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62948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372360" y="765000"/>
                <a:ext cx="253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189080" y="692280"/>
                <a:ext cx="1079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780000" y="1413000"/>
                <a:ext cx="371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596360" y="1484280"/>
                <a:ext cx="334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37236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859200" y="765000"/>
                <a:ext cx="255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09760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63520" y="1413000"/>
                <a:ext cx="13208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41440" y="3068640"/>
            <a:ext cx="165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描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9640" y="2282760"/>
            <a:ext cx="4610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115920"/>
          <a:ext cx="8291520" cy="199872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09760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948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372360" y="765000"/>
                <a:ext cx="253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89080" y="692280"/>
                <a:ext cx="1079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780000" y="1413000"/>
                <a:ext cx="371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596360" y="1484280"/>
                <a:ext cx="334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37236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859200" y="765000"/>
                <a:ext cx="255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09760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63520" y="1413000"/>
                <a:ext cx="13208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227640" y="4032360"/>
            <a:ext cx="2305080" cy="836640"/>
          </a:xfrm>
          <a:prstGeom prst="wedgeRoundRectCallout">
            <a:avLst>
              <a:gd name="adj1" fmla="val -84504"/>
              <a:gd name="adj2" fmla="val 112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两个函数的图象的形状相同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4076640"/>
            <a:ext cx="1728720" cy="649440"/>
          </a:xfrm>
          <a:prstGeom prst="wedgeRectCallout">
            <a:avLst>
              <a:gd name="adj1" fmla="val 111893"/>
              <a:gd name="adj2" fmla="val 13753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796000" y="2924280"/>
                <a:ext cx="1079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70440" y="2205000"/>
                <a:ext cx="1320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2708280"/>
            <a:ext cx="165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连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99280" y="2781360"/>
            <a:ext cx="1836720" cy="836640"/>
          </a:xfrm>
          <a:prstGeom prst="wedgeRoundRectCallout">
            <a:avLst>
              <a:gd name="adj1" fmla="val -74546"/>
              <a:gd name="adj2" fmla="val -30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你会比较这两个函数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78200" y="2282760"/>
            <a:ext cx="4609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57200" y="115920"/>
          <a:ext cx="8291520" cy="199872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09760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948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72360" y="765000"/>
                <a:ext cx="253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89080" y="692280"/>
                <a:ext cx="1079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780000" y="1413000"/>
                <a:ext cx="371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596360" y="1484280"/>
                <a:ext cx="334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37236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59200" y="765000"/>
                <a:ext cx="255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9760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63520" y="1413000"/>
                <a:ext cx="13208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66920" y="2282760"/>
            <a:ext cx="4610160" cy="431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084720" y="2924280"/>
                <a:ext cx="1079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059520" y="2205000"/>
                <a:ext cx="1320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8" name=""/>
          <p:cNvGrpSpPr/>
          <p:nvPr/>
        </p:nvGrpSpPr>
        <p:grpSpPr>
          <a:xfrm>
            <a:off x="5940360" y="3716280"/>
            <a:ext cx="3060720" cy="1513080"/>
            <a:chOff x="5940360" y="3716280"/>
            <a:chExt cx="3060720" cy="1513080"/>
          </a:xfrm>
        </p:grpSpPr>
        <p:sp>
          <p:nvSpPr>
            <p:cNvPr id="169" name=""/>
            <p:cNvSpPr/>
            <p:nvPr/>
          </p:nvSpPr>
          <p:spPr>
            <a:xfrm>
              <a:off x="5940360" y="3789360"/>
              <a:ext cx="3060720" cy="1440000"/>
            </a:xfrm>
            <a:prstGeom prst="wedgeRoundRectCallout">
              <a:avLst>
                <a:gd name="adj1" fmla="val -63018"/>
                <a:gd name="adj2" fmla="val 50328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=    x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图象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=    x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图象的位置有什么关系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481800" y="4292640"/>
                  <a:ext cx="2556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7018560" y="3716280"/>
                  <a:ext cx="2556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108000" y="2924280"/>
            <a:ext cx="2592360" cy="2520720"/>
            <a:chOff x="108000" y="2924280"/>
            <a:chExt cx="2592360" cy="2520720"/>
          </a:xfrm>
        </p:grpSpPr>
        <p:sp>
          <p:nvSpPr>
            <p:cNvPr id="173" name=""/>
            <p:cNvSpPr/>
            <p:nvPr/>
          </p:nvSpPr>
          <p:spPr>
            <a:xfrm>
              <a:off x="108000" y="2997360"/>
              <a:ext cx="2592360" cy="2447640"/>
            </a:xfrm>
            <a:prstGeom prst="wedgeRectCallout">
              <a:avLst>
                <a:gd name="adj1" fmla="val 72226"/>
                <a:gd name="adj2" fmla="val 3534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函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=    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图象可由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=     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图象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轴向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上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平移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单位长度得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366920" y="2924280"/>
                  <a:ext cx="25380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943280" y="3573360"/>
                  <a:ext cx="253800" cy="7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436920" y="326880"/>
            <a:ext cx="4448160" cy="5838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948360" y="5581800"/>
            <a:ext cx="18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61080" y="2844720"/>
            <a:ext cx="14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05440" y="421308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2133720"/>
            <a:ext cx="2592360" cy="1557360"/>
          </a:xfrm>
          <a:prstGeom prst="wedgeRectCallout">
            <a:avLst>
              <a:gd name="adj1" fmla="val 72412"/>
              <a:gd name="adj2" fmla="val 349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向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单位长度得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89080"/>
            <a:ext cx="2592360" cy="1584000"/>
          </a:xfrm>
          <a:prstGeom prst="wedgeRectCallout">
            <a:avLst>
              <a:gd name="adj1" fmla="val 69717"/>
              <a:gd name="adj2" fmla="val 46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+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向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单位长度得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229360"/>
            <a:ext cx="5616360" cy="1081080"/>
          </a:xfrm>
          <a:prstGeom prst="wedgeRoundRectCallout">
            <a:avLst>
              <a:gd name="adj1" fmla="val 61250"/>
              <a:gd name="adj2" fmla="val -10447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图象向上移还是向下移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移多少个单位长度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有什么规律吗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844560" y="189000"/>
            <a:ext cx="3367080" cy="28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55640" y="299736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(a≠0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函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k (a≠0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形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只是位置不同；当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&gt;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函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k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可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单位得到，当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&lt;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函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k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可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向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单位得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03640" y="6066000"/>
            <a:ext cx="2232360" cy="549000"/>
          </a:xfrm>
          <a:prstGeom prst="wedgeRoundRectCallout">
            <a:avLst>
              <a:gd name="adj1" fmla="val -144097"/>
              <a:gd name="adj2" fmla="val -780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上加下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34290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06920" y="4437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08720" y="4437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1280" y="5373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53080" y="537372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|k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579920" y="206280"/>
            <a:ext cx="33768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128916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可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得到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得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4653000"/>
            <a:ext cx="74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上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，所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的函数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5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下平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的函数式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272880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可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；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位得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。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单位可得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684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16844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7160" y="20811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2138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693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541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26748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6748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313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31320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9704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39704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5037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4x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5875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-5x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16000" y="115920"/>
            <a:ext cx="244800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试牛刀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3068640"/>
            <a:ext cx="835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取得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这个值等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取得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这个值等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05200" cy="2936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0000" cy="2922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64360" y="2276640"/>
            <a:ext cx="18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48360" y="461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4360" y="1341360"/>
            <a:ext cx="165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-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11280" y="20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115920"/>
            <a:ext cx="14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29080" y="1125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2997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34290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0,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6360" y="3860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4292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86160" y="429264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429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72360" y="4724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508464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360" y="5157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0,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558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08720" y="558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602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13080" y="6021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53440" y="6021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468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观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察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考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4000" y="177336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-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取得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这个值等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990960"/>
            <a:ext cx="80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抛物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=7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取得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，这个值等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171144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17114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2168640"/>
            <a:ext cx="9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0,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2625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2549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006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006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308304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914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39146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43718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0,-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4829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减小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48290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增大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2862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5210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52862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00000" y="549360"/>
            <a:ext cx="244800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试牛刀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24000" y="0"/>
            <a:ext cx="2376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及时小结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9280" y="981000"/>
          <a:ext cx="8748720" cy="5616720"/>
        </p:xfrm>
        <a:graphic>
          <a:graphicData uri="http://schemas.openxmlformats.org/drawingml/2006/table">
            <a:tbl>
              <a:tblPr/>
              <a:tblGrid>
                <a:gridCol w="2521080"/>
                <a:gridCol w="2992320"/>
                <a:gridCol w="323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k (a≠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极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462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3708360" y="1484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48360" y="148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35280" y="198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0 ,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04000" y="2060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0 ,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38240" y="25653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33880" y="25653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3141720"/>
            <a:ext cx="295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314172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58136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1" lang="zh-CN" sz="2000" spc="-1" strike="noStrike" baseline="-25000">
                <a:solidFill>
                  <a:srgbClr val="ff0066"/>
                </a:solidFill>
                <a:latin typeface="Times New Roman"/>
              </a:rPr>
              <a:t>最小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84720" y="458136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1" lang="zh-CN" sz="2000" spc="-1" strike="noStrike" baseline="-25000">
                <a:solidFill>
                  <a:srgbClr val="ff0066"/>
                </a:solidFill>
                <a:latin typeface="Times New Roman"/>
              </a:rPr>
              <a:t>最大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537372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抛物线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+k (a≠0)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图象可由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的图象通过上下平移得到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 rot="465000">
            <a:off x="744120" y="271080"/>
            <a:ext cx="1123920" cy="6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90520" y="1238400"/>
                <a:ext cx="84582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试说出函数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的图象的开口方向、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对称轴和顶点坐标,并填写下表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70" name=""/>
          <p:cNvGraphicFramePr/>
          <p:nvPr/>
        </p:nvGraphicFramePr>
        <p:xfrm>
          <a:off x="457200" y="2819520"/>
          <a:ext cx="8229600" cy="1904760"/>
        </p:xfrm>
        <a:graphic>
          <a:graphicData uri="http://schemas.openxmlformats.org/drawingml/2006/table">
            <a:tbl>
              <a:tblPr/>
              <a:tblGrid>
                <a:gridCol w="2170080"/>
                <a:gridCol w="1297080"/>
                <a:gridCol w="1235160"/>
                <a:gridCol w="1763640"/>
                <a:gridCol w="1763640"/>
              </a:tblGrid>
              <a:tr h="6343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4067280" y="35575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68720" y="42051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81800" y="35575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80000" y="4149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7440" y="35575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0 , 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6000" y="42051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0 , 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24000" y="3573360"/>
                <a:ext cx="2214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00" y="0"/>
            <a:ext cx="19443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温故知新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404640"/>
          <a:ext cx="8748720" cy="6324480"/>
        </p:xfrm>
        <a:graphic>
          <a:graphicData uri="http://schemas.openxmlformats.org/drawingml/2006/table">
            <a:tbl>
              <a:tblPr/>
              <a:tblGrid>
                <a:gridCol w="2214720"/>
                <a:gridCol w="3298680"/>
                <a:gridCol w="323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≠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极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71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2987640" y="979560"/>
            <a:ext cx="1512720" cy="1384200"/>
            <a:chOff x="2987640" y="979560"/>
            <a:chExt cx="1512720" cy="1384200"/>
          </a:xfrm>
        </p:grpSpPr>
        <p:sp>
          <p:nvSpPr>
            <p:cNvPr id="46" name=""/>
            <p:cNvSpPr/>
            <p:nvPr/>
          </p:nvSpPr>
          <p:spPr>
            <a:xfrm>
              <a:off x="2987640" y="1974960"/>
              <a:ext cx="1512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708360" y="1039680"/>
              <a:ext cx="0" cy="1223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3060720" y="1011240"/>
            <a:ext cx="1307880" cy="97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60720" y="1011240"/>
                      <a:ext cx="130788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4068720" y="184320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37080" y="9795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1080" y="1916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227640" y="907920"/>
            <a:ext cx="1547640" cy="1339920"/>
            <a:chOff x="6227640" y="907920"/>
            <a:chExt cx="1547640" cy="1339920"/>
          </a:xfrm>
        </p:grpSpPr>
        <p:sp>
          <p:nvSpPr>
            <p:cNvPr id="54" name=""/>
            <p:cNvSpPr/>
            <p:nvPr/>
          </p:nvSpPr>
          <p:spPr>
            <a:xfrm>
              <a:off x="7019640" y="90792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27640" y="1382760"/>
              <a:ext cx="1512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948360" y="1023840"/>
              <a:ext cx="0" cy="1224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6300720" y="1384200"/>
              <a:ext cx="122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451640" y="145728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32360" y="1457280"/>
              <a:ext cx="3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276720" y="2276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27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2779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2779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22240" y="3284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2600" y="3284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4005360"/>
            <a:ext cx="29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56360" y="3860640"/>
            <a:ext cx="29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530064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小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27640" y="530064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大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5805360"/>
            <a:ext cx="83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抛物线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0" lang="en-US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(a≠0)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的形状是由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|a|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来确定的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一般说来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, |a|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越大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抛物线的开口就越小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763640" y="1413000"/>
            <a:ext cx="546588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谈谈你的收获</a:t>
            </a:r>
            <a:endParaRPr b="0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476360" y="476280"/>
            <a:ext cx="331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0" y="1268280"/>
            <a:ext cx="5410080" cy="81936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995640" y="4114800"/>
            <a:ext cx="3105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第</a:t>
            </a: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10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页第</a:t>
            </a:r>
            <a:r>
              <a:rPr b="0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2</a:t>
            </a:r>
            <a:r>
              <a:rPr b="0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题</a:t>
            </a:r>
            <a:endParaRPr b="0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3565440" y="1270080"/>
            <a:ext cx="331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0" y="2754360"/>
            <a:ext cx="5410080" cy="81900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4360" y="947880"/>
            <a:ext cx="1523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8360" y="1650960"/>
                <a:ext cx="79120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试研究二次函数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的图象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76360" y="3784680"/>
                <a:ext cx="525636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将函数关系式配方，得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 txBox="1"/>
          <p:nvPr/>
        </p:nvSpPr>
        <p:spPr>
          <a:xfrm>
            <a:off x="826920" y="2781360"/>
            <a:ext cx="1124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析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19080" y="3862440"/>
                <a:ext cx="70376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我们设法寻求它与函数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的联系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76360" y="1916280"/>
                <a:ext cx="525636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将函数关系式配方，得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 txBox="1"/>
          <p:nvPr/>
        </p:nvSpPr>
        <p:spPr>
          <a:xfrm>
            <a:off x="826920" y="907920"/>
            <a:ext cx="1124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析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1474920" y="51544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我们先来看几个简单的例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71640" y="3168720"/>
                <a:ext cx="71276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画出函数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与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的图象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 txBox="1"/>
          <p:nvPr/>
        </p:nvSpPr>
        <p:spPr>
          <a:xfrm>
            <a:off x="1116000" y="2027160"/>
            <a:ext cx="7621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例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2197080" y="198900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在同一直角坐标系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54936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34880"/>
            <a:ext cx="165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列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1628640"/>
          <a:ext cx="8291520" cy="266364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042920" y="2492280"/>
                <a:ext cx="12906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017720" y="3355920"/>
                <a:ext cx="1752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640" y="54936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434880"/>
            <a:ext cx="165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列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4120" y="1628640"/>
          <a:ext cx="8291520" cy="266364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2452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52328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27640" y="2492280"/>
                <a:ext cx="3384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42920" y="2492280"/>
                <a:ext cx="12906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0692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17720" y="3355920"/>
                <a:ext cx="1752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55640" y="54936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解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434880"/>
            <a:ext cx="165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列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4120" y="1628640"/>
          <a:ext cx="8291520" cy="266364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2452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52328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227640" y="2492280"/>
                <a:ext cx="3384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042920" y="2492280"/>
                <a:ext cx="12906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646440" y="3355920"/>
                <a:ext cx="4921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451640" y="3355920"/>
                <a:ext cx="490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299280" y="3355920"/>
                <a:ext cx="338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706920" y="2492280"/>
                <a:ext cx="338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24520" y="3355920"/>
                <a:ext cx="3380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17720" y="3355920"/>
                <a:ext cx="1752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042920" y="5013360"/>
            <a:ext cx="2737080" cy="836640"/>
          </a:xfrm>
          <a:prstGeom prst="wedgeRoundRectCallout">
            <a:avLst>
              <a:gd name="adj1" fmla="val 4467"/>
              <a:gd name="adj2" fmla="val -147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两个函数有什么不一样的地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57200" y="115920"/>
          <a:ext cx="8291520" cy="1998720"/>
        </p:xfrm>
        <a:graphic>
          <a:graphicData uri="http://schemas.openxmlformats.org/drawingml/2006/table">
            <a:tbl>
              <a:tblPr/>
              <a:tblGrid>
                <a:gridCol w="2550960"/>
                <a:gridCol w="640080"/>
                <a:gridCol w="603000"/>
                <a:gridCol w="671760"/>
                <a:gridCol w="634680"/>
                <a:gridCol w="640080"/>
                <a:gridCol w="636480"/>
                <a:gridCol w="636480"/>
                <a:gridCol w="638280"/>
                <a:gridCol w="6397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9760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629480" y="765000"/>
                <a:ext cx="255600" cy="7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372360" y="765000"/>
                <a:ext cx="253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89080" y="692280"/>
                <a:ext cx="1079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0000" y="1413000"/>
                <a:ext cx="371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596360" y="1484280"/>
                <a:ext cx="334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37236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59200" y="765000"/>
                <a:ext cx="255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97600" y="1413000"/>
                <a:ext cx="255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63520" y="1413000"/>
                <a:ext cx="13208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79640" y="2282760"/>
            <a:ext cx="4610160" cy="4314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1440" y="3068640"/>
            <a:ext cx="165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描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1:31:41Z</dcterms:created>
  <dc:creator/>
  <dc:description/>
  <cp:keywords/>
  <dc:language>en-US</dc:language>
  <cp:lastModifiedBy>User</cp:lastModifiedBy>
  <cp:lastPrinted>1899-12-30T00:00:00Z</cp:lastPrinted>
  <dcterms:modified xsi:type="dcterms:W3CDTF">2013-12-13T01:47:24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