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C9A-CFED-4AED-BA41-B0E2C73C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502-89F8-412E-8250-5230E3E2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4F9-9C92-41EE-85C8-2225A1B9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D5D-6E8D-469A-A1F8-7B49EAAA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9C8C-3DF0-415B-ADFF-B07CED48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85B4-BB2A-4097-95E6-B9412CDC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4C29-FC6E-4A29-9CBB-F1C75752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4422-DFCB-4A1D-928B-1095E622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79C2-A423-41E1-ACBE-3FF56183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7237-C3F9-44F7-893B-91BD4032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7CF1-76CA-4094-9551-AC1AD8A0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8DE-2342-4783-B4F5-5D4A66E0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2EE7-53EF-4109-B8C7-666F794F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E615-1ED4-4424-B8EC-8B8A027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E00F-AE93-43BB-8BEA-079782D1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52F4-2606-4BA1-A15A-4D2BDBC1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692D-6A1F-4DB5-85AD-DB397D93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761-0F48-4D03-AB26-21FC0258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43A-9BC6-4E33-A5C4-19888DB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A7E-D3F5-4AB9-8F5D-89D560C1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60D-1E04-4016-A94E-B6DF4083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C03-9862-45C2-B603-C71ECB9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DD7-9EB3-4C55-BBC9-005341F1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5F1-026E-400D-A3F8-2F37AB4E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E582-E47D-410F-B891-75C7056CB0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C842-D16D-4B27-90CE-0605324CEA7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I:\&#35828;&#35838;&#27604;&#36187;\&#26149;&#37326;ganqin.mp3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6">
            <a:hlinkClick r:id="rId1"/>
          </p:cNvPr>
          <p:cNvSpPr/>
          <p:nvPr/>
        </p:nvSpPr>
        <p:spPr>
          <a:xfrm>
            <a:off x="8172360" y="623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e4a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矩形 5" descr=""/>
          <p:cNvPicPr/>
          <p:nvPr/>
        </p:nvPicPr>
        <p:blipFill>
          <a:blip r:embed="rId2"/>
          <a:stretch/>
        </p:blipFill>
        <p:spPr>
          <a:xfrm>
            <a:off x="865080" y="927000"/>
            <a:ext cx="74073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5"/>
          <p:cNvSpPr/>
          <p:nvPr/>
        </p:nvSpPr>
        <p:spPr>
          <a:xfrm>
            <a:off x="357120" y="19512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Strike while the iron is hot.(</a:t>
            </a:r>
            <a:r>
              <a:rPr b="1" lang="zh-CN" sz="3600" spc="-1" strike="noStrike">
                <a:solidFill>
                  <a:srgbClr val="000066"/>
                </a:solidFill>
                <a:latin typeface="Calibri"/>
              </a:rPr>
              <a:t>趁热打铁</a:t>
            </a: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0" y="907920"/>
            <a:ext cx="88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I have too much ice cream and I have a s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Take the m____________ and you will feel b______(good) than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---What’s the ___________(</a:t>
            </a:r>
            <a:r>
              <a:rPr b="1" lang="zh-CN" sz="3200" spc="-1" strike="noStrike">
                <a:solidFill>
                  <a:srgbClr val="800000"/>
                </a:solidFill>
                <a:latin typeface="Calibri"/>
              </a:rPr>
              <a:t>问题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) with your fa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---Nothing much. A little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4.    I have a headache. I want to ____________(</a:t>
            </a:r>
            <a:r>
              <a:rPr b="1" lang="zh-CN" sz="3200" spc="-1" strike="noStrike">
                <a:solidFill>
                  <a:srgbClr val="800000"/>
                </a:solidFill>
                <a:latin typeface="Calibri"/>
              </a:rPr>
              <a:t>呆在家里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) and _________________(</a:t>
            </a:r>
            <a:r>
              <a:rPr b="1" lang="zh-CN" sz="3200" spc="-1" strike="noStrike">
                <a:solidFill>
                  <a:srgbClr val="800000"/>
                </a:solidFill>
                <a:latin typeface="Calibri"/>
              </a:rPr>
              <a:t>好好休息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1042920" y="14130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omach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3132000" y="19162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1835280" y="23493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3363840" y="28494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椭圆 18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750960" cy="8240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1042920" y="479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tay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1042920" y="53006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have a good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5"/>
          <p:cNvSpPr/>
          <p:nvPr/>
        </p:nvSpPr>
        <p:spPr>
          <a:xfrm>
            <a:off x="357120" y="25704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trike while the iron is hot.(</a:t>
            </a: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趁热打铁</a:t>
            </a: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79280" y="76500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5. You’d better go and see a doctor.(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译成中文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6. feel, you, do,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________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7. take, medicine, this, times, a, three,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_____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8. You should stay home and have a rest.(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改为祈使句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332000" y="1916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你最好去看看医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1187280" y="299736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Do you feel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椭圆 18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750960" cy="8240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4"/>
          <p:cNvSpPr/>
          <p:nvPr/>
        </p:nvSpPr>
        <p:spPr>
          <a:xfrm>
            <a:off x="611280" y="465300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ake this medicine three times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1116000" y="6237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tay home and have a goo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6"/>
          <p:cNvSpPr/>
          <p:nvPr/>
        </p:nvSpPr>
        <p:spPr>
          <a:xfrm>
            <a:off x="500040" y="428760"/>
            <a:ext cx="864396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Work in pairs. What’s the matter? Make up a dialog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椭圆 17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750960" cy="82224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1"/>
          <p:cNvGrpSpPr/>
          <p:nvPr/>
        </p:nvGrpSpPr>
        <p:grpSpPr>
          <a:xfrm>
            <a:off x="0" y="1989000"/>
            <a:ext cx="3389400" cy="4004640"/>
            <a:chOff x="0" y="1989000"/>
            <a:chExt cx="3389400" cy="4004640"/>
          </a:xfrm>
        </p:grpSpPr>
        <p:sp>
          <p:nvSpPr>
            <p:cNvPr id="152" name="圆角矩形 8"/>
            <p:cNvSpPr/>
            <p:nvPr/>
          </p:nvSpPr>
          <p:spPr>
            <a:xfrm>
              <a:off x="0" y="1989000"/>
              <a:ext cx="3286080" cy="3215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9"/>
            <p:cNvSpPr/>
            <p:nvPr/>
          </p:nvSpPr>
          <p:spPr>
            <a:xfrm>
              <a:off x="428400" y="2000160"/>
              <a:ext cx="296100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The doctor ma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as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What’s wrong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What’s th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matter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Are you O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"/>
          <p:cNvGrpSpPr/>
          <p:nvPr/>
        </p:nvGrpSpPr>
        <p:grpSpPr>
          <a:xfrm>
            <a:off x="2987640" y="1987560"/>
            <a:ext cx="3319560" cy="3506040"/>
            <a:chOff x="2987640" y="1987560"/>
            <a:chExt cx="3319560" cy="3506040"/>
          </a:xfrm>
        </p:grpSpPr>
        <p:sp>
          <p:nvSpPr>
            <p:cNvPr id="155" name="圆角矩形 18"/>
            <p:cNvSpPr/>
            <p:nvPr/>
          </p:nvSpPr>
          <p:spPr>
            <a:xfrm>
              <a:off x="2987640" y="2060640"/>
              <a:ext cx="3287160" cy="321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19"/>
            <p:cNvSpPr/>
            <p:nvPr/>
          </p:nvSpPr>
          <p:spPr>
            <a:xfrm>
              <a:off x="3345480" y="1987560"/>
              <a:ext cx="2961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You may tell the doctor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 hurt my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 have a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 feel sick/col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0"/>
          <p:cNvGrpSpPr/>
          <p:nvPr/>
        </p:nvGrpSpPr>
        <p:grpSpPr>
          <a:xfrm>
            <a:off x="5961240" y="1989000"/>
            <a:ext cx="3182760" cy="4065480"/>
            <a:chOff x="5961240" y="1989000"/>
            <a:chExt cx="3182760" cy="4065480"/>
          </a:xfrm>
        </p:grpSpPr>
        <p:sp>
          <p:nvSpPr>
            <p:cNvPr id="158" name="圆角矩形 21"/>
            <p:cNvSpPr/>
            <p:nvPr/>
          </p:nvSpPr>
          <p:spPr>
            <a:xfrm>
              <a:off x="5961240" y="1989000"/>
              <a:ext cx="3182760" cy="3214800"/>
            </a:xfrm>
            <a:custGeom>
              <a:avLst/>
              <a:gdLst>
                <a:gd name="textAreaLeft" fmla="*/ 155160 w 3182760"/>
                <a:gd name="textAreaRight" fmla="*/ 3027600 w 3182760"/>
                <a:gd name="textAreaTop" fmla="*/ 155160 h 3214800"/>
                <a:gd name="textAreaBottom" fmla="*/ 3059640 h 3214800"/>
              </a:gdLst>
              <a:ahLst/>
              <a:rect l="textAreaLeft" t="textAreaTop" r="textAreaRight" b="textAreaBottom"/>
              <a:pathLst>
                <a:path w="21600" h="21817">
                  <a:moveTo>
                    <a:pt x="3600" y="0"/>
                  </a:moveTo>
                  <a:arcTo wR="3600" hR="3600" stAng="16200000" swAng="-5400000"/>
                  <a:lnTo>
                    <a:pt x="0" y="18217"/>
                  </a:lnTo>
                  <a:arcTo wR="3600" hR="3600" stAng="10800000" swAng="-5400000"/>
                  <a:lnTo>
                    <a:pt x="18000" y="218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22"/>
            <p:cNvSpPr/>
            <p:nvPr/>
          </p:nvSpPr>
          <p:spPr>
            <a:xfrm>
              <a:off x="6144840" y="2061000"/>
              <a:ext cx="29991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The doctor may say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Take thi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medicine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Have a good rest. Stay hom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6"/>
          <p:cNvSpPr/>
          <p:nvPr/>
        </p:nvSpPr>
        <p:spPr>
          <a:xfrm>
            <a:off x="500040" y="357120"/>
            <a:ext cx="86439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g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椭圆 17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750960" cy="8222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9"/>
          <p:cNvSpPr/>
          <p:nvPr/>
        </p:nvSpPr>
        <p:spPr>
          <a:xfrm>
            <a:off x="857160" y="142884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Calibri"/>
              </a:rPr>
              <a:t>美语三级跳 </a:t>
            </a:r>
            <a:r>
              <a:rPr b="1" lang="zh-CN" sz="4000" spc="-1" strike="noStrike">
                <a:solidFill>
                  <a:srgbClr val="800000"/>
                </a:solidFill>
                <a:latin typeface="Calibri"/>
              </a:rPr>
              <a:t>听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Calibri"/>
              </a:rPr>
              <a:t>医药单元初级课程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0"/>
          <p:cNvSpPr/>
          <p:nvPr/>
        </p:nvSpPr>
        <p:spPr>
          <a:xfrm>
            <a:off x="428760" y="500076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785880" y="3071880"/>
            <a:ext cx="7429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An apple a day keeps the doctor a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All work and no play makes Jack a dull bo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644400" y="1054080"/>
            <a:ext cx="788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member the words and phrases in this lesson. Try to recite this less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   Finish exercises 2-3 on P4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   Extra reading </a:t>
            </a:r>
            <a:r>
              <a:rPr b="1" i="1" lang="zh-CN" sz="3600" spc="-1" strike="noStrike">
                <a:solidFill>
                  <a:srgbClr val="000000"/>
                </a:solidFill>
                <a:latin typeface="Calibri"/>
              </a:rPr>
              <a:t>美语三级跳 医药单元初级课程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take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5"/>
          <p:cNvSpPr/>
          <p:nvPr/>
        </p:nvSpPr>
        <p:spPr>
          <a:xfrm>
            <a:off x="179280" y="2602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57120" y="122544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's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ə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] n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肚子痛；胃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3059280" y="227340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Wang Mei has a stomacha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=Wang Mei’s stomach hu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=She has a pain in his stomac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57120" y="528624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should you do when you have a stomachach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4120" y="1859040"/>
            <a:ext cx="253224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9"/>
          <p:cNvSpPr/>
          <p:nvPr/>
        </p:nvSpPr>
        <p:spPr>
          <a:xfrm>
            <a:off x="250920" y="13413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r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['b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ə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dj. &amp;adv. (good/well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的比较级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)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更好的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(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地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1187280" y="2852640"/>
            <a:ext cx="514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od, better, bes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ever let it res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ill good is better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d better, b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5280" y="2602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9"/>
          <p:cNvSpPr/>
          <p:nvPr/>
        </p:nvSpPr>
        <p:spPr>
          <a:xfrm>
            <a:off x="571680" y="12254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r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'm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æ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ə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n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179280" y="1916280"/>
            <a:ext cx="792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1. Don't you think this is now a matter for the pol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难道你不觉得这件事现在该交由警方处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50920" y="26028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539640" y="430380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Age doesn’t matter.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年龄不是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What’s the matter with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9"/>
          <p:cNvSpPr/>
          <p:nvPr/>
        </p:nvSpPr>
        <p:spPr>
          <a:xfrm>
            <a:off x="0" y="141300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 ['h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]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 n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头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250920" y="18900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3746520" y="2511360"/>
            <a:ext cx="49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Danny gets a bad headache when he thinks of his home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He got a headache playing baske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rcRect l="0" t="25740" r="37229" b="0"/>
          <a:stretch/>
        </p:blipFill>
        <p:spPr>
          <a:xfrm>
            <a:off x="-108000" y="1916280"/>
            <a:ext cx="357840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9"/>
          <p:cNvSpPr/>
          <p:nvPr/>
        </p:nvSpPr>
        <p:spPr>
          <a:xfrm>
            <a:off x="571680" y="148428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 ['m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]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 n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179280" y="2602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84360" y="2276640"/>
            <a:ext cx="49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My mother had a bad cold yesterday. She had some medicine and went to bed. She became better after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t1.baidu.com/it/u=3983761457,3087847553&amp;fm=21&amp;gp=0.jpg"/>
          <p:cNvPicPr/>
          <p:nvPr/>
        </p:nvPicPr>
        <p:blipFill>
          <a:blip r:embed="rId1"/>
          <a:stretch/>
        </p:blipFill>
        <p:spPr>
          <a:xfrm>
            <a:off x="6357960" y="2071800"/>
            <a:ext cx="2408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9"/>
          <p:cNvSpPr/>
          <p:nvPr/>
        </p:nvSpPr>
        <p:spPr>
          <a:xfrm>
            <a:off x="250920" y="148428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[st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]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v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停留；留下；待一段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250920" y="26028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Do you know the new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6"/>
          <p:cNvSpPr/>
          <p:nvPr/>
        </p:nvSpPr>
        <p:spPr>
          <a:xfrm>
            <a:off x="324000" y="37162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e boy coughed a lot last night. Now he stays home and have a good rest. He should drink plenty of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250920" y="26370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 [r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]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v. &amp;n. </a:t>
            </a:r>
            <a:r>
              <a:rPr b="1" lang="zh-CN" sz="3600" spc="-1" strike="noStrike">
                <a:solidFill>
                  <a:srgbClr val="800000"/>
                </a:solidFill>
                <a:latin typeface="Calibri"/>
              </a:rPr>
              <a:t>休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5"/>
          <p:cNvSpPr/>
          <p:nvPr/>
        </p:nvSpPr>
        <p:spPr>
          <a:xfrm>
            <a:off x="571680" y="5000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Listen and write true(T) or false(F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34920" y="192888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Jim’s leg hurts.     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Wang Mei has a headache. 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Li Ming tells Wang Mei to go and 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doctor.  (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2484360" y="41497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6521400" y="251136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4500720" y="19288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Calibri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椭圆 20" descr=""/>
          <p:cNvPicPr/>
          <p:nvPr/>
        </p:nvPicPr>
        <p:blipFill>
          <a:blip r:embed="rId1"/>
          <a:stretch/>
        </p:blipFill>
        <p:spPr>
          <a:xfrm>
            <a:off x="407880" y="407880"/>
            <a:ext cx="7509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6"/>
          <p:cNvSpPr/>
          <p:nvPr/>
        </p:nvSpPr>
        <p:spPr>
          <a:xfrm>
            <a:off x="500040" y="357120"/>
            <a:ext cx="792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Read the text in group of four and then act it 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椭圆 17" descr=""/>
          <p:cNvPicPr/>
          <p:nvPr/>
        </p:nvPicPr>
        <p:blipFill>
          <a:blip r:embed="rId1"/>
          <a:stretch/>
        </p:blipFill>
        <p:spPr>
          <a:xfrm>
            <a:off x="231840" y="244440"/>
            <a:ext cx="749160" cy="822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t1.baidu.com/it/u=2703805843,490777727&amp;fm=21&amp;gp=0.jpg"/>
          <p:cNvPicPr/>
          <p:nvPr/>
        </p:nvPicPr>
        <p:blipFill>
          <a:blip r:embed="rId2"/>
          <a:stretch/>
        </p:blipFill>
        <p:spPr>
          <a:xfrm>
            <a:off x="2286000" y="235728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0:28:52Z</dcterms:created>
  <dc:creator> </dc:creator>
  <dc:description> </dc:description>
  <cp:keywords/>
  <dc:language>en-US</dc:language>
  <cp:lastModifiedBy>USER</cp:lastModifiedBy>
  <dcterms:modified xsi:type="dcterms:W3CDTF">2013-09-24T08:59:32Z</dcterms:modified>
  <cp:revision>1</cp:revision>
  <dc:subject> </dc:subject>
  <dc:title> </dc:title>
</cp:coreProperties>
</file>