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20.jpeg" ContentType="image/jpeg"/>
  <Override PartName="/ppt/media/image12.png" ContentType="image/png"/>
  <Override PartName="/ppt/media/image4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48.jpeg" ContentType="image/jpeg"/>
  <Override PartName="/ppt/media/image46.png" ContentType="image/pn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0.png" ContentType="image/png"/>
  <Override PartName="/ppt/media/image45.png" ContentType="image/png"/>
  <Override PartName="/ppt/media/image51.jpeg" ContentType="image/jpeg"/>
  <Override PartName="/ppt/media/image11.png" ContentType="image/png"/>
  <Override PartName="/ppt/media/image55.gif" ContentType="image/gif"/>
  <Override PartName="/ppt/media/image40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applause.wav" ContentType="audio/x-wav"/>
  <Override PartName="/ppt/media/image35.png" ContentType="image/png"/>
  <Override PartName="/ppt/media/image56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1.jpeg" ContentType="image/jpeg"/>
  <Override PartName="/ppt/media/image10.jpeg" ContentType="image/jpeg"/>
  <Override PartName="/ppt/media/image7.jpeg" ContentType="image/jpeg"/>
  <Override PartName="/ppt/media/image5.gif" ContentType="image/gif"/>
  <Override PartName="/ppt/media/image28.png" ContentType="image/png"/>
  <Override PartName="/ppt/media/image14.jpeg" ContentType="image/jpeg"/>
  <Override PartName="/ppt/media/image54.png" ContentType="image/png"/>
  <Override PartName="/ppt/media/image19.jpeg" ContentType="image/jpe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85E-A644-49DE-B34B-E37D653C9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换图片，最后一个字母不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换第三个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723-FFF2-4D08-A9AF-65168C3D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5AB-C470-4055-9ED1-EC0649E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92B-B9BE-46B7-8D83-8D9B9290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049-9AC2-4F35-A9F3-8B22A06E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5A6-5435-4F3F-B6A0-5F4A77C7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A84-BD1D-4CDE-A312-677D818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CDB-DBA5-4313-95B2-7A10F6E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C26-A1FE-4762-9679-93C30BEB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2B5-F18E-4AC2-9086-A89979D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FD2-770F-4313-8FA8-24F2601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935-09F3-4A75-B76C-6A1FBE6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72A-D28D-4B7E-8836-BE0C244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EC90-B648-4C5F-A881-DA61F664E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7.png"/><Relationship Id="rId3" Type="http://schemas.openxmlformats.org/officeDocument/2006/relationships/image" Target="../media/image2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image" Target="../media/image15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18.png"/><Relationship Id="rId10" Type="http://schemas.openxmlformats.org/officeDocument/2006/relationships/image" Target="../media/image41.pn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7.png"/><Relationship Id="rId3" Type="http://schemas.openxmlformats.org/officeDocument/2006/relationships/image" Target="../media/image2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15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18.png"/><Relationship Id="rId10" Type="http://schemas.openxmlformats.org/officeDocument/2006/relationships/image" Target="../media/image41.pn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1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" Target="slide17.xml"/><Relationship Id="rId9" Type="http://schemas.openxmlformats.org/officeDocument/2006/relationships/image" Target="../media/image4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slide" Target="slide1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1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1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11.png"/><Relationship Id="rId7" Type="http://schemas.openxmlformats.org/officeDocument/2006/relationships/image" Target="../media/image21.wmf"/><Relationship Id="rId8" Type="http://schemas.openxmlformats.org/officeDocument/2006/relationships/image" Target="../media/image17.png"/><Relationship Id="rId9" Type="http://schemas.openxmlformats.org/officeDocument/2006/relationships/image" Target="../media/image40.png"/><Relationship Id="rId10" Type="http://schemas.openxmlformats.org/officeDocument/2006/relationships/image" Target="../media/image18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8.png"/><Relationship Id="rId3" Type="http://schemas.openxmlformats.org/officeDocument/2006/relationships/image" Target="../media/image5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6160" y="981000"/>
            <a:ext cx="3670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arter Unit 2</a:t>
            </a:r>
            <a:endParaRPr b="1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979640" y="2276640"/>
            <a:ext cx="4174560" cy="3868560"/>
            <a:chOff x="1979640" y="2276640"/>
            <a:chExt cx="4174560" cy="38685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979640" y="2276640"/>
              <a:ext cx="4032000" cy="38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635280" y="2298600"/>
              <a:ext cx="251892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矩形标注 17"/>
          <p:cNvSpPr/>
          <p:nvPr/>
        </p:nvSpPr>
        <p:spPr>
          <a:xfrm>
            <a:off x="755640" y="1052640"/>
            <a:ext cx="2664000" cy="1439640"/>
          </a:xfrm>
          <a:prstGeom prst="wedgeRectCallout">
            <a:avLst>
              <a:gd name="adj1" fmla="val 25624"/>
              <a:gd name="adj2" fmla="val 94101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at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标注 16"/>
          <p:cNvSpPr/>
          <p:nvPr/>
        </p:nvSpPr>
        <p:spPr>
          <a:xfrm>
            <a:off x="6264360" y="3718080"/>
            <a:ext cx="2124000" cy="790560"/>
          </a:xfrm>
          <a:prstGeom prst="wedgeRectCallout">
            <a:avLst>
              <a:gd name="adj1" fmla="val -69583"/>
              <a:gd name="adj2" fmla="val 60842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 key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11530" t="61818" r="19854" b="13085"/>
          <a:stretch/>
        </p:blipFill>
        <p:spPr>
          <a:xfrm>
            <a:off x="5651640" y="1773360"/>
            <a:ext cx="1512720" cy="779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343160"/>
            <a:ext cx="2160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B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C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D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E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F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G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H 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6920" y="1270080"/>
            <a:ext cx="57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2"/>
          <p:cNvSpPr/>
          <p:nvPr/>
        </p:nvSpPr>
        <p:spPr>
          <a:xfrm>
            <a:off x="106200" y="87480"/>
            <a:ext cx="720720" cy="82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-36360" y="260280"/>
            <a:ext cx="903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Look for the small letters in the picture for these big letters. Check (√) the ones you found.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98560" y="40784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98560" y="278280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900000" y="544680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12977" r="0" b="0"/>
          <a:stretch/>
        </p:blipFill>
        <p:spPr>
          <a:xfrm>
            <a:off x="2987640" y="1631880"/>
            <a:ext cx="5832360" cy="5181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92360" y="2719440"/>
            <a:ext cx="285300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780000" y="649440"/>
            <a:ext cx="4897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isten and repeat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组合 24"/>
          <p:cNvGrpSpPr/>
          <p:nvPr/>
        </p:nvGrpSpPr>
        <p:grpSpPr>
          <a:xfrm>
            <a:off x="144360" y="133200"/>
            <a:ext cx="2556000" cy="1065240"/>
            <a:chOff x="144360" y="133200"/>
            <a:chExt cx="2556000" cy="1065240"/>
          </a:xfrm>
        </p:grpSpPr>
        <p:pic>
          <p:nvPicPr>
            <p:cNvPr id="151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144360" y="133200"/>
              <a:ext cx="255600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7"/>
            <p:cNvSpPr/>
            <p:nvPr/>
          </p:nvSpPr>
          <p:spPr>
            <a:xfrm>
              <a:off x="144360" y="347400"/>
              <a:ext cx="24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Listening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Oval 2"/>
          <p:cNvSpPr/>
          <p:nvPr/>
        </p:nvSpPr>
        <p:spPr>
          <a:xfrm>
            <a:off x="2771640" y="495360"/>
            <a:ext cx="9003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标注 8"/>
          <p:cNvSpPr/>
          <p:nvPr/>
        </p:nvSpPr>
        <p:spPr>
          <a:xfrm>
            <a:off x="611280" y="1631880"/>
            <a:ext cx="2952720" cy="1366920"/>
          </a:xfrm>
          <a:prstGeom prst="wedgeRectCallout">
            <a:avLst>
              <a:gd name="adj1" fmla="val 49300"/>
              <a:gd name="adj2" fmla="val 85541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标注 14"/>
          <p:cNvSpPr/>
          <p:nvPr/>
        </p:nvSpPr>
        <p:spPr>
          <a:xfrm>
            <a:off x="5580000" y="1774800"/>
            <a:ext cx="3095640" cy="719280"/>
          </a:xfrm>
          <a:prstGeom prst="wedgeRectCallout">
            <a:avLst>
              <a:gd name="adj1" fmla="val -33435"/>
              <a:gd name="adj2" fmla="val 116226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n orang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标注 8"/>
          <p:cNvSpPr/>
          <p:nvPr/>
        </p:nvSpPr>
        <p:spPr>
          <a:xfrm>
            <a:off x="468360" y="4869000"/>
            <a:ext cx="3024000" cy="1366560"/>
          </a:xfrm>
          <a:prstGeom prst="wedgeRectCallout">
            <a:avLst>
              <a:gd name="adj1" fmla="val 52046"/>
              <a:gd name="adj2" fmla="val -86351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at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标注 8"/>
          <p:cNvSpPr/>
          <p:nvPr/>
        </p:nvSpPr>
        <p:spPr>
          <a:xfrm>
            <a:off x="5867280" y="5373720"/>
            <a:ext cx="2233800" cy="719280"/>
          </a:xfrm>
          <a:prstGeom prst="wedgeRectCallout">
            <a:avLst>
              <a:gd name="adj1" fmla="val -52347"/>
              <a:gd name="adj2" fmla="val -133666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 ma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956720" y="620640"/>
            <a:ext cx="599760" cy="7621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448080" y="3222720"/>
            <a:ext cx="2852640" cy="2365200"/>
          </a:xfrm>
          <a:prstGeom prst="rect">
            <a:avLst/>
          </a:prstGeom>
          <a:ln w="0">
            <a:noFill/>
          </a:ln>
        </p:spPr>
      </p:pic>
      <p:sp>
        <p:nvSpPr>
          <p:cNvPr id="160" name="矩形标注 8"/>
          <p:cNvSpPr/>
          <p:nvPr/>
        </p:nvSpPr>
        <p:spPr>
          <a:xfrm>
            <a:off x="395280" y="2131920"/>
            <a:ext cx="2592360" cy="1440000"/>
          </a:xfrm>
          <a:prstGeom prst="wedgeRectCallout">
            <a:avLst>
              <a:gd name="adj1" fmla="val 70944"/>
              <a:gd name="adj2" fmla="val 85722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标注 8"/>
          <p:cNvSpPr/>
          <p:nvPr/>
        </p:nvSpPr>
        <p:spPr>
          <a:xfrm>
            <a:off x="6012000" y="5229360"/>
            <a:ext cx="2233440" cy="792000"/>
          </a:xfrm>
          <a:prstGeom prst="wedgeRectCallout">
            <a:avLst>
              <a:gd name="adj1" fmla="val -55046"/>
              <a:gd name="adj2" fmla="val -124148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It’s a ma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492360" y="260280"/>
            <a:ext cx="532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actice the conversations in the picture with your partner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627280" y="476280"/>
            <a:ext cx="90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组合 24"/>
          <p:cNvGrpSpPr/>
          <p:nvPr/>
        </p:nvGrpSpPr>
        <p:grpSpPr>
          <a:xfrm>
            <a:off x="0" y="331920"/>
            <a:ext cx="2556000" cy="1065240"/>
            <a:chOff x="0" y="331920"/>
            <a:chExt cx="2556000" cy="1065240"/>
          </a:xfrm>
        </p:grpSpPr>
        <p:pic>
          <p:nvPicPr>
            <p:cNvPr id="165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0" y="331920"/>
              <a:ext cx="255600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7"/>
            <p:cNvSpPr/>
            <p:nvPr/>
          </p:nvSpPr>
          <p:spPr>
            <a:xfrm>
              <a:off x="0" y="546120"/>
              <a:ext cx="244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Pairwork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矩形标注 14"/>
          <p:cNvSpPr/>
          <p:nvPr/>
        </p:nvSpPr>
        <p:spPr>
          <a:xfrm>
            <a:off x="5580000" y="2133720"/>
            <a:ext cx="3095640" cy="790560"/>
          </a:xfrm>
          <a:prstGeom prst="wedgeRectCallout">
            <a:avLst>
              <a:gd name="adj1" fmla="val -37078"/>
              <a:gd name="adj2" fmla="val 92166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It’s an orang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标注 8"/>
          <p:cNvSpPr/>
          <p:nvPr/>
        </p:nvSpPr>
        <p:spPr>
          <a:xfrm>
            <a:off x="468360" y="4941720"/>
            <a:ext cx="3024000" cy="1438560"/>
          </a:xfrm>
          <a:prstGeom prst="wedgeRectCallout">
            <a:avLst>
              <a:gd name="adj1" fmla="val 45907"/>
              <a:gd name="adj2" fmla="val -74833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at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95640" y="4476600"/>
            <a:ext cx="230328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146560" y="4118040"/>
            <a:ext cx="1562040" cy="2087640"/>
          </a:xfrm>
          <a:prstGeom prst="rect">
            <a:avLst/>
          </a:prstGeom>
          <a:ln w="0">
            <a:noFill/>
          </a:ln>
        </p:spPr>
      </p:pic>
      <p:sp>
        <p:nvSpPr>
          <p:cNvPr id="171" name="矩形标注 8"/>
          <p:cNvSpPr/>
          <p:nvPr/>
        </p:nvSpPr>
        <p:spPr>
          <a:xfrm>
            <a:off x="1042920" y="2676600"/>
            <a:ext cx="3024360" cy="1473120"/>
          </a:xfrm>
          <a:prstGeom prst="wedgeRectCallout">
            <a:avLst>
              <a:gd name="adj1" fmla="val 26166"/>
              <a:gd name="adj2" fmla="val 79527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标注 14"/>
          <p:cNvSpPr/>
          <p:nvPr/>
        </p:nvSpPr>
        <p:spPr>
          <a:xfrm>
            <a:off x="5867280" y="2820960"/>
            <a:ext cx="2160720" cy="792360"/>
          </a:xfrm>
          <a:prstGeom prst="wedgeRectCallout">
            <a:avLst>
              <a:gd name="adj1" fmla="val -33245"/>
              <a:gd name="adj2" fmla="val 131162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 p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组合 24"/>
          <p:cNvGrpSpPr/>
          <p:nvPr/>
        </p:nvGrpSpPr>
        <p:grpSpPr>
          <a:xfrm>
            <a:off x="934920" y="171360"/>
            <a:ext cx="2700360" cy="1065240"/>
            <a:chOff x="934920" y="171360"/>
            <a:chExt cx="2700360" cy="1065240"/>
          </a:xfrm>
        </p:grpSpPr>
        <p:pic>
          <p:nvPicPr>
            <p:cNvPr id="174" name="Picture 6" descr="BAN_052"/>
            <p:cNvPicPr/>
            <p:nvPr/>
          </p:nvPicPr>
          <p:blipFill>
            <a:blip r:embed="rId4"/>
            <a:stretch/>
          </p:blipFill>
          <p:spPr>
            <a:xfrm>
              <a:off x="934920" y="171360"/>
              <a:ext cx="2700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7"/>
            <p:cNvSpPr/>
            <p:nvPr/>
          </p:nvSpPr>
          <p:spPr>
            <a:xfrm>
              <a:off x="934920" y="385560"/>
              <a:ext cx="258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Practice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71280" y="1596960"/>
            <a:ext cx="6378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ke your own conversations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3745080" cy="2554560"/>
          </a:xfrm>
          <a:prstGeom prst="rect">
            <a:avLst/>
          </a:prstGeom>
          <a:ln w="0">
            <a:noFill/>
          </a:ln>
        </p:spPr>
      </p:pic>
      <p:sp>
        <p:nvSpPr>
          <p:cNvPr id="178" name="矩形标注 8"/>
          <p:cNvSpPr/>
          <p:nvPr/>
        </p:nvSpPr>
        <p:spPr>
          <a:xfrm>
            <a:off x="250920" y="476280"/>
            <a:ext cx="3025800" cy="1440000"/>
          </a:xfrm>
          <a:prstGeom prst="wedgeRectCallout">
            <a:avLst>
              <a:gd name="adj1" fmla="val 24712"/>
              <a:gd name="adj2" fmla="val 84180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标注 8"/>
          <p:cNvSpPr/>
          <p:nvPr/>
        </p:nvSpPr>
        <p:spPr>
          <a:xfrm>
            <a:off x="4500720" y="1341360"/>
            <a:ext cx="2592360" cy="792360"/>
          </a:xfrm>
          <a:prstGeom prst="wedgeRectCallout">
            <a:avLst>
              <a:gd name="adj1" fmla="val -45162"/>
              <a:gd name="adj2" fmla="val 111722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/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308720" y="692280"/>
            <a:ext cx="1225800" cy="99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596360" y="3645000"/>
          <a:ext cx="12254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96360" y="3645000"/>
                    <a:ext cx="1225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364000" y="5084640"/>
            <a:ext cx="1729080" cy="1309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635280" y="5445000"/>
            <a:ext cx="144000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rcRect l="16244" t="10500" r="54219" b="6328"/>
          <a:stretch/>
        </p:blipFill>
        <p:spPr>
          <a:xfrm rot="3329400">
            <a:off x="7704000" y="1952640"/>
            <a:ext cx="64764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rcRect l="32487" t="18208" r="33784" b="3797"/>
          <a:stretch/>
        </p:blipFill>
        <p:spPr>
          <a:xfrm>
            <a:off x="1979640" y="5300640"/>
            <a:ext cx="844560" cy="107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rcRect l="18712" t="7274" r="19772" b="4586"/>
          <a:stretch/>
        </p:blipFill>
        <p:spPr>
          <a:xfrm>
            <a:off x="7740720" y="4941720"/>
            <a:ext cx="1179360" cy="165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539640" y="5445000"/>
            <a:ext cx="1041480" cy="1041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2098800"/>
            <a:ext cx="3744720" cy="255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946920" y="692280"/>
            <a:ext cx="1225440" cy="992160"/>
          </a:xfrm>
          <a:prstGeom prst="rect">
            <a:avLst/>
          </a:prstGeom>
          <a:ln w="0">
            <a:noFill/>
          </a:ln>
        </p:spPr>
      </p:pic>
      <p:sp>
        <p:nvSpPr>
          <p:cNvPr id="191" name="矩形标注 8"/>
          <p:cNvSpPr/>
          <p:nvPr/>
        </p:nvSpPr>
        <p:spPr>
          <a:xfrm>
            <a:off x="649440" y="260280"/>
            <a:ext cx="2698560" cy="1440000"/>
          </a:xfrm>
          <a:prstGeom prst="wedgeRectCallout">
            <a:avLst>
              <a:gd name="adj1" fmla="val 30824"/>
              <a:gd name="adj2" fmla="val 76902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矩形标注 8"/>
          <p:cNvSpPr/>
          <p:nvPr/>
        </p:nvSpPr>
        <p:spPr>
          <a:xfrm>
            <a:off x="3997440" y="907920"/>
            <a:ext cx="2519280" cy="792360"/>
          </a:xfrm>
          <a:prstGeom prst="wedgeRectCallout">
            <a:avLst>
              <a:gd name="adj1" fmla="val -20888"/>
              <a:gd name="adj2" fmla="val 13336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/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093080" y="3497400"/>
          <a:ext cx="12254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93080" y="3497400"/>
                    <a:ext cx="1225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580000" y="5013360"/>
            <a:ext cx="1513080" cy="1146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276720" y="4984920"/>
            <a:ext cx="1873080" cy="1252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rcRect l="16244" t="10500" r="54219" b="6328"/>
          <a:stretch/>
        </p:blipFill>
        <p:spPr>
          <a:xfrm rot="3329400">
            <a:off x="7272000" y="1952640"/>
            <a:ext cx="647640" cy="1295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rcRect l="32487" t="18208" r="33784" b="3797"/>
          <a:stretch/>
        </p:blipFill>
        <p:spPr>
          <a:xfrm>
            <a:off x="1979640" y="5013360"/>
            <a:ext cx="844560" cy="107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rcRect l="18712" t="7274" r="19772" b="4586"/>
          <a:stretch/>
        </p:blipFill>
        <p:spPr>
          <a:xfrm>
            <a:off x="7596360" y="4726080"/>
            <a:ext cx="117936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8360" y="5084640"/>
            <a:ext cx="1041480" cy="1041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971640" y="3456000"/>
            <a:ext cx="7200720" cy="6098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I 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4814da"/>
                </a:solidFill>
                <a:latin typeface="Times New Roman"/>
              </a:rPr>
              <a:t>J 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 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ff"/>
                </a:solidFill>
                <a:latin typeface="Times New Roman"/>
              </a:rPr>
              <a:t>M 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N 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411280" y="206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isten and repea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组合 24"/>
          <p:cNvGrpSpPr/>
          <p:nvPr/>
        </p:nvGrpSpPr>
        <p:grpSpPr>
          <a:xfrm>
            <a:off x="900000" y="476280"/>
            <a:ext cx="3059280" cy="1065240"/>
            <a:chOff x="900000" y="476280"/>
            <a:chExt cx="3059280" cy="1065240"/>
          </a:xfrm>
        </p:grpSpPr>
        <p:pic>
          <p:nvPicPr>
            <p:cNvPr id="204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900000" y="476280"/>
              <a:ext cx="3059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7"/>
            <p:cNvSpPr/>
            <p:nvPr/>
          </p:nvSpPr>
          <p:spPr>
            <a:xfrm>
              <a:off x="900000" y="690480"/>
              <a:ext cx="292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Listening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Oval 2"/>
          <p:cNvSpPr/>
          <p:nvPr/>
        </p:nvSpPr>
        <p:spPr>
          <a:xfrm>
            <a:off x="1258920" y="1862280"/>
            <a:ext cx="9000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908000" y="4691160"/>
            <a:ext cx="4824720" cy="6098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 o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P 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Q q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4814da"/>
                </a:solidFill>
                <a:latin typeface="Times New Roman"/>
              </a:rPr>
              <a:t>R 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77080" y="2133720"/>
            <a:ext cx="600120" cy="76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2911320"/>
            <a:ext cx="896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l            o             q           k            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n           p             r            m           j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765440" y="1555920"/>
            <a:ext cx="684036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isten and number the letters you hear [1-10]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2"/>
          <p:cNvSpPr/>
          <p:nvPr/>
        </p:nvSpPr>
        <p:spPr>
          <a:xfrm>
            <a:off x="720720" y="1628640"/>
            <a:ext cx="90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组合 24"/>
          <p:cNvGrpSpPr/>
          <p:nvPr/>
        </p:nvGrpSpPr>
        <p:grpSpPr>
          <a:xfrm>
            <a:off x="611280" y="276120"/>
            <a:ext cx="2987640" cy="1065240"/>
            <a:chOff x="611280" y="276120"/>
            <a:chExt cx="2987640" cy="1065240"/>
          </a:xfrm>
        </p:grpSpPr>
        <p:pic>
          <p:nvPicPr>
            <p:cNvPr id="213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611280" y="276120"/>
              <a:ext cx="298764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7"/>
            <p:cNvSpPr/>
            <p:nvPr/>
          </p:nvSpPr>
          <p:spPr>
            <a:xfrm>
              <a:off x="611280" y="490320"/>
              <a:ext cx="2858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Listening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740720" y="49276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6000" y="34146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4146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49276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48546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34862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68360" y="49989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4862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8360" y="3486240"/>
            <a:ext cx="7775640" cy="2112840"/>
            <a:chOff x="468360" y="3486240"/>
            <a:chExt cx="7775640" cy="2112840"/>
          </a:xfrm>
        </p:grpSpPr>
        <p:sp>
          <p:nvSpPr>
            <p:cNvPr id="224" name=""/>
            <p:cNvSpPr/>
            <p:nvPr/>
          </p:nvSpPr>
          <p:spPr>
            <a:xfrm>
              <a:off x="468360" y="34862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68360" y="34862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360" y="3486240"/>
              <a:ext cx="57600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6000" y="34862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360" y="49514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68360" y="502272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11640" y="49514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7280" y="49514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6360" y="3510000"/>
              <a:ext cx="57600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67640" y="4951440"/>
              <a:ext cx="576360" cy="576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40360" y="49276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87640" y="289080"/>
            <a:ext cx="3924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Look and copy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组合 24"/>
          <p:cNvGrpSpPr/>
          <p:nvPr/>
        </p:nvGrpSpPr>
        <p:grpSpPr>
          <a:xfrm>
            <a:off x="142920" y="-84240"/>
            <a:ext cx="2700360" cy="1065240"/>
            <a:chOff x="142920" y="-84240"/>
            <a:chExt cx="2700360" cy="1065240"/>
          </a:xfrm>
        </p:grpSpPr>
        <p:pic>
          <p:nvPicPr>
            <p:cNvPr id="238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142920" y="-84240"/>
              <a:ext cx="2700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7"/>
            <p:cNvSpPr/>
            <p:nvPr/>
          </p:nvSpPr>
          <p:spPr>
            <a:xfrm>
              <a:off x="142920" y="129960"/>
              <a:ext cx="258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Writing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Oval 2"/>
          <p:cNvSpPr/>
          <p:nvPr/>
        </p:nvSpPr>
        <p:spPr>
          <a:xfrm>
            <a:off x="3024360" y="44280"/>
            <a:ext cx="90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39640" y="1052640"/>
            <a:ext cx="7777440" cy="18777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39640" y="2997360"/>
            <a:ext cx="8136000" cy="1823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395280" y="4857840"/>
            <a:ext cx="4103640" cy="200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A1_196"/>
          <p:cNvPicPr/>
          <p:nvPr/>
        </p:nvPicPr>
        <p:blipFill>
          <a:blip r:embed="rId2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A1_196"/>
          <p:cNvPicPr/>
          <p:nvPr/>
        </p:nvPicPr>
        <p:blipFill>
          <a:blip r:embed="rId3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A1_196"/>
          <p:cNvPicPr/>
          <p:nvPr/>
        </p:nvPicPr>
        <p:blipFill>
          <a:blip r:embed="rId4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1_196"/>
          <p:cNvPicPr/>
          <p:nvPr/>
        </p:nvPicPr>
        <p:blipFill>
          <a:blip r:embed="rId5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1_196"/>
          <p:cNvPicPr/>
          <p:nvPr/>
        </p:nvPicPr>
        <p:blipFill>
          <a:blip r:embed="rId6"/>
          <a:stretch/>
        </p:blipFill>
        <p:spPr>
          <a:xfrm>
            <a:off x="4876920" y="4572000"/>
            <a:ext cx="13507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5"/>
          <p:cNvSpPr/>
          <p:nvPr/>
        </p:nvSpPr>
        <p:spPr>
          <a:xfrm>
            <a:off x="3564000" y="4508640"/>
            <a:ext cx="431640" cy="720720"/>
          </a:xfrm>
          <a:custGeom>
            <a:avLst/>
            <a:gdLst>
              <a:gd name="textAreaLeft" fmla="*/ 0 w 431640"/>
              <a:gd name="textAreaRight" fmla="*/ 432000 w 431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788000" y="4508640"/>
            <a:ext cx="360360" cy="731520"/>
          </a:xfrm>
          <a:custGeom>
            <a:avLst/>
            <a:gdLst>
              <a:gd name="textAreaLeft" fmla="*/ 0 w 360360"/>
              <a:gd name="textAreaRight" fmla="*/ 360720 w 360360"/>
              <a:gd name="textAreaTop" fmla="*/ 0 h 731520"/>
              <a:gd name="textAreaBottom" fmla="*/ 731880 h 731520"/>
            </a:gdLst>
            <a:ahLst/>
            <a:rect l="textAreaLeft" t="textAreaTop" r="textAreaRight" b="textAreaBottom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2700360" y="4508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6012000" y="4653000"/>
            <a:ext cx="360360" cy="647640"/>
          </a:xfrm>
          <a:custGeom>
            <a:avLst/>
            <a:gdLst>
              <a:gd name="textAreaLeft" fmla="*/ 0 w 360360"/>
              <a:gd name="textAreaRight" fmla="*/ 360720 w 360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0"/>
          <p:cNvSpPr/>
          <p:nvPr/>
        </p:nvSpPr>
        <p:spPr>
          <a:xfrm>
            <a:off x="2266920" y="4581360"/>
            <a:ext cx="144360" cy="432000"/>
          </a:xfrm>
          <a:custGeom>
            <a:avLst/>
            <a:gdLst>
              <a:gd name="textAreaLeft" fmla="*/ 0 w 144360"/>
              <a:gd name="textAreaRight" fmla="*/ 144720 w 144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3" descr="A1_196"/>
          <p:cNvPicPr/>
          <p:nvPr/>
        </p:nvPicPr>
        <p:blipFill>
          <a:blip r:embed="rId7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9"/>
          <p:cNvSpPr/>
          <p:nvPr/>
        </p:nvSpPr>
        <p:spPr>
          <a:xfrm>
            <a:off x="7885080" y="4581360"/>
            <a:ext cx="216000" cy="935280"/>
          </a:xfrm>
          <a:custGeom>
            <a:avLst/>
            <a:gdLst>
              <a:gd name="textAreaLeft" fmla="*/ 0 w 216000"/>
              <a:gd name="textAreaRight" fmla="*/ 216360 w 21600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6">
            <a:hlinkClick r:id="rId8" action="ppaction://hlinksldjump"/>
          </p:cNvPr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7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5" descr="气球2"/>
          <p:cNvPicPr/>
          <p:nvPr/>
        </p:nvPicPr>
        <p:blipFill>
          <a:blip r:embed="rId9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ZW_020"/>
          <p:cNvPicPr/>
          <p:nvPr/>
        </p:nvPicPr>
        <p:blipFill>
          <a:blip r:embed="rId10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ZW_020"/>
          <p:cNvPicPr/>
          <p:nvPr/>
        </p:nvPicPr>
        <p:blipFill>
          <a:blip r:embed="rId11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ZW_020"/>
          <p:cNvPicPr/>
          <p:nvPr/>
        </p:nvPicPr>
        <p:blipFill>
          <a:blip r:embed="rId12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9" descr="ZW_020"/>
          <p:cNvPicPr/>
          <p:nvPr/>
        </p:nvPicPr>
        <p:blipFill>
          <a:blip r:embed="rId13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ZW_020"/>
          <p:cNvPicPr/>
          <p:nvPr/>
        </p:nvPicPr>
        <p:blipFill>
          <a:blip r:embed="rId14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1" descr="A1_196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971640" y="54936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99"/>
                    </a:gs>
                    <a:gs pos="100000">
                      <a:srgbClr val="d4d41a"/>
                    </a:gs>
                  </a:gsLst>
                  <a:lin ang="5400000"/>
                </a:gradFill>
                <a:latin typeface="Times New Roman"/>
              </a:rPr>
              <a:t>Starter Unit 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99"/>
                  </a:gs>
                  <a:gs pos="100000">
                    <a:srgbClr val="d4d41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0" y="1773360"/>
            <a:ext cx="7956720" cy="19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3e806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Times New Roman"/>
              </a:rPr>
              <a:t>What's this in English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3e806"/>
                  </a:gs>
                  <a:gs pos="100000">
                    <a:srgbClr val="ff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85080" y="3429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3933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4365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40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4149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4221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81080" y="3486240"/>
            <a:ext cx="8928000" cy="20304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4"/>
          <p:cNvGrpSpPr/>
          <p:nvPr/>
        </p:nvGrpSpPr>
        <p:grpSpPr>
          <a:xfrm>
            <a:off x="612720" y="404640"/>
            <a:ext cx="2735280" cy="1065240"/>
            <a:chOff x="612720" y="404640"/>
            <a:chExt cx="2735280" cy="1065240"/>
          </a:xfrm>
        </p:grpSpPr>
        <p:pic>
          <p:nvPicPr>
            <p:cNvPr id="246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612720" y="404640"/>
              <a:ext cx="27352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7"/>
            <p:cNvSpPr/>
            <p:nvPr/>
          </p:nvSpPr>
          <p:spPr>
            <a:xfrm>
              <a:off x="612720" y="618840"/>
              <a:ext cx="261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Writing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Rectangle 2"/>
          <p:cNvSpPr/>
          <p:nvPr/>
        </p:nvSpPr>
        <p:spPr>
          <a:xfrm>
            <a:off x="1873080" y="1771560"/>
            <a:ext cx="65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Write the missing big letter or small letter for each pair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"/>
          <p:cNvSpPr/>
          <p:nvPr/>
        </p:nvSpPr>
        <p:spPr>
          <a:xfrm>
            <a:off x="649440" y="1860480"/>
            <a:ext cx="90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81080" y="35179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 Narrow"/>
                <a:ea typeface="隶书"/>
              </a:rPr>
              <a:t>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1080" y="3365640"/>
            <a:ext cx="50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ff"/>
                </a:solidFill>
                <a:latin typeface="Arial Narrow"/>
                <a:ea typeface="隶书"/>
              </a:rPr>
              <a:t>K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65800" y="3427560"/>
            <a:ext cx="502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p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77080" y="3284640"/>
            <a:ext cx="502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R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21800" y="3355920"/>
            <a:ext cx="502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j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0720" y="4508640"/>
            <a:ext cx="503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Q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5440" y="4441680"/>
            <a:ext cx="503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l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48000" y="4435560"/>
            <a:ext cx="503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O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65800" y="4518000"/>
            <a:ext cx="50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ff"/>
                </a:solidFill>
                <a:latin typeface="Arial Narrow"/>
                <a:ea typeface="隶书"/>
              </a:rPr>
              <a:t>n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3080" y="4435560"/>
            <a:ext cx="360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ff"/>
                </a:solidFill>
                <a:latin typeface="Arial Narrow"/>
                <a:ea typeface="隶书"/>
              </a:rPr>
              <a:t>I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24"/>
          <p:cNvGrpSpPr/>
          <p:nvPr/>
        </p:nvGrpSpPr>
        <p:grpSpPr>
          <a:xfrm>
            <a:off x="792000" y="333360"/>
            <a:ext cx="2700360" cy="1065240"/>
            <a:chOff x="792000" y="333360"/>
            <a:chExt cx="2700360" cy="1065240"/>
          </a:xfrm>
        </p:grpSpPr>
        <p:pic>
          <p:nvPicPr>
            <p:cNvPr id="261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792000" y="333360"/>
              <a:ext cx="2700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7"/>
            <p:cNvSpPr/>
            <p:nvPr/>
          </p:nvSpPr>
          <p:spPr>
            <a:xfrm>
              <a:off x="792000" y="547560"/>
              <a:ext cx="258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Talking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2"/>
          <p:cNvSpPr/>
          <p:nvPr/>
        </p:nvSpPr>
        <p:spPr>
          <a:xfrm>
            <a:off x="2482920" y="1627200"/>
            <a:ext cx="59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Talk about what these letters mean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"/>
          <p:cNvSpPr/>
          <p:nvPr/>
        </p:nvSpPr>
        <p:spPr>
          <a:xfrm>
            <a:off x="1295280" y="1771560"/>
            <a:ext cx="9003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54388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NB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05440" y="54435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k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rcRect l="1893" t="7322" r="2826" b="14688"/>
          <a:stretch/>
        </p:blipFill>
        <p:spPr>
          <a:xfrm>
            <a:off x="900000" y="3139920"/>
            <a:ext cx="7272360" cy="2303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24"/>
          <p:cNvGrpSpPr/>
          <p:nvPr/>
        </p:nvGrpSpPr>
        <p:grpSpPr>
          <a:xfrm>
            <a:off x="468360" y="347760"/>
            <a:ext cx="4248000" cy="1065240"/>
            <a:chOff x="468360" y="347760"/>
            <a:chExt cx="4248000" cy="1065240"/>
          </a:xfrm>
        </p:grpSpPr>
        <p:pic>
          <p:nvPicPr>
            <p:cNvPr id="270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468360" y="347760"/>
              <a:ext cx="424800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17"/>
            <p:cNvSpPr/>
            <p:nvPr/>
          </p:nvSpPr>
          <p:spPr>
            <a:xfrm>
              <a:off x="468360" y="561960"/>
              <a:ext cx="4062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Explanation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7"/>
          <p:cNvSpPr/>
          <p:nvPr/>
        </p:nvSpPr>
        <p:spPr>
          <a:xfrm>
            <a:off x="539640" y="1631880"/>
            <a:ext cx="8317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his 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是指示代词，意为“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这；这个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”，指近处或距说话人近的人或事物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hat 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那；那个”，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指远处或距说话人远的人或事物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580000" y="4653000"/>
            <a:ext cx="1530360" cy="1873080"/>
          </a:xfrm>
          <a:prstGeom prst="rect">
            <a:avLst/>
          </a:prstGeom>
          <a:ln w="0">
            <a:noFill/>
          </a:ln>
        </p:spPr>
      </p:pic>
      <p:sp>
        <p:nvSpPr>
          <p:cNvPr id="274" name="矩形标注 8"/>
          <p:cNvSpPr/>
          <p:nvPr/>
        </p:nvSpPr>
        <p:spPr>
          <a:xfrm>
            <a:off x="1692360" y="4941720"/>
            <a:ext cx="3205080" cy="648000"/>
          </a:xfrm>
          <a:prstGeom prst="wedgeRectCallout">
            <a:avLst>
              <a:gd name="adj1" fmla="val 73824"/>
              <a:gd name="adj2" fmla="val 4607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s is a rul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388200" y="1268280"/>
            <a:ext cx="1496880" cy="1656000"/>
          </a:xfrm>
          <a:prstGeom prst="rect">
            <a:avLst/>
          </a:prstGeom>
          <a:ln w="0">
            <a:noFill/>
          </a:ln>
        </p:spPr>
      </p:pic>
      <p:sp>
        <p:nvSpPr>
          <p:cNvPr id="276" name="矩形标注 8"/>
          <p:cNvSpPr/>
          <p:nvPr/>
        </p:nvSpPr>
        <p:spPr>
          <a:xfrm>
            <a:off x="3419640" y="693720"/>
            <a:ext cx="2952720" cy="719280"/>
          </a:xfrm>
          <a:prstGeom prst="wedgeRectCallout">
            <a:avLst>
              <a:gd name="adj1" fmla="val 52259"/>
              <a:gd name="adj2" fmla="val 13697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 is a ke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rcRect l="16244" t="10500" r="54219" b="6328"/>
          <a:stretch/>
        </p:blipFill>
        <p:spPr>
          <a:xfrm rot="3329400">
            <a:off x="1655640" y="944280"/>
            <a:ext cx="648000" cy="1295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3067200"/>
            <a:ext cx="8461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in Englis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用英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”，其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介词，表示“用语言、声音、方式等”。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n Chinese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用汉语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n Japanese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用日语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 in Chinese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用汉语怎么说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5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8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8720" y="404640"/>
            <a:ext cx="8675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三、冠词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的用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冠词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n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是一种虚词，只用在单数可数名词前，表示“一”的意思。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用在以辅音音素开头的单词之前，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n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用在以元音音素开头的单词之前。这里的元音音素和辅音音素是指读音，而不是指字母。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 pen /pen/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一支钢笔         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/p/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为辅音音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an apple /</a:t>
            </a:r>
            <a:r>
              <a:rPr b="1" lang="ar-SA" sz="3600" spc="-1" strike="noStrike">
                <a:solidFill>
                  <a:srgbClr val="9900ff"/>
                </a:solidFill>
                <a:latin typeface="Dotum"/>
                <a:cs typeface="Times New Roman"/>
              </a:rPr>
              <a:t>ٓ</a:t>
            </a:r>
            <a:r>
              <a:rPr b="1" lang="en-US" sz="3600" spc="-1" strike="noStrike">
                <a:solidFill>
                  <a:srgbClr val="9900ff"/>
                </a:solidFill>
                <a:latin typeface="Times New Roman"/>
                <a:ea typeface="Dotum"/>
              </a:rPr>
              <a:t>'</a:t>
            </a: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æpl/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一个苹果      </a:t>
            </a: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/æ/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为元音音素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4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四、</a:t>
            </a: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What’s this in English?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这个用英语怎么说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What’s this in Englis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这个用英语怎么说？”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用来询问某物，回答时要用“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It is/ It’s a(n) +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名词”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i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来指代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is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what’s = what 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是什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。英语中用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来提问的特殊疑问句总是放在句子的开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68360" y="574560"/>
            <a:ext cx="838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一点与汉语不同，同学们要特别注意英语的语序。例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What’s this in English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这个用英语怎么说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It’s a jacket.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它是一件夹克衫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What’s that in English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那个用英语怎么说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It’s an egg.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那是一只鸡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18712" t="7274" r="19772" b="4586"/>
          <a:stretch/>
        </p:blipFill>
        <p:spPr>
          <a:xfrm>
            <a:off x="7101000" y="1700280"/>
            <a:ext cx="1179360" cy="165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5426" t="20394" r="13867" b="9196"/>
          <a:stretch/>
        </p:blipFill>
        <p:spPr>
          <a:xfrm>
            <a:off x="7201080" y="4538520"/>
            <a:ext cx="1214280" cy="1411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4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6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6360" y="260280"/>
            <a:ext cx="8496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五、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析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】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字母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音标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音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英语字母就如同我们汉语中的笔画一样，是拼写单词的组成元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音素是英语语音的最小单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把音素记录下来的符号叫音标，通常写在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/    /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[    ]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里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口诀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冠词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a, an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两种帽，单数名词常需要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辅音单数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提前，元音单数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</a:rPr>
              <a:t>优先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4"/>
          <p:cNvSpPr/>
          <p:nvPr/>
        </p:nvSpPr>
        <p:spPr>
          <a:xfrm>
            <a:off x="1763640" y="1122480"/>
            <a:ext cx="5689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3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课下练习用英语询问你知道的事物的名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3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背诵字母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到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r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组合 24"/>
          <p:cNvGrpSpPr/>
          <p:nvPr/>
        </p:nvGrpSpPr>
        <p:grpSpPr>
          <a:xfrm>
            <a:off x="216000" y="-27000"/>
            <a:ext cx="3492360" cy="1065240"/>
            <a:chOff x="216000" y="-27000"/>
            <a:chExt cx="3492360" cy="1065240"/>
          </a:xfrm>
        </p:grpSpPr>
        <p:pic>
          <p:nvPicPr>
            <p:cNvPr id="287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16000" y="-27000"/>
              <a:ext cx="3492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7"/>
            <p:cNvSpPr/>
            <p:nvPr/>
          </p:nvSpPr>
          <p:spPr>
            <a:xfrm>
              <a:off x="216000" y="187200"/>
              <a:ext cx="334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Homework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newsflash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974520" cy="1041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1295280" cy="981000"/>
          </a:xfrm>
          <a:prstGeom prst="rect">
            <a:avLst/>
          </a:prstGeom>
          <a:ln w="0">
            <a:noFill/>
          </a:ln>
        </p:spPr>
      </p:pic>
      <p:sp>
        <p:nvSpPr>
          <p:cNvPr id="291" name="矩形标注 14"/>
          <p:cNvSpPr/>
          <p:nvPr/>
        </p:nvSpPr>
        <p:spPr>
          <a:xfrm>
            <a:off x="4861080" y="2637000"/>
            <a:ext cx="1223640" cy="647640"/>
          </a:xfrm>
          <a:prstGeom prst="wedgeRectCallout">
            <a:avLst>
              <a:gd name="adj1" fmla="val -6291"/>
              <a:gd name="adj2" fmla="val -3970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ke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523280" y="4000680"/>
          <a:ext cx="12254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23280" y="4000680"/>
                    <a:ext cx="1225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矩形标注 14"/>
          <p:cNvSpPr/>
          <p:nvPr/>
        </p:nvSpPr>
        <p:spPr>
          <a:xfrm>
            <a:off x="4645080" y="1413000"/>
            <a:ext cx="1297080" cy="647640"/>
          </a:xfrm>
          <a:prstGeom prst="wedgeRectCallout">
            <a:avLst>
              <a:gd name="adj1" fmla="val -19643"/>
              <a:gd name="adj2" fmla="val -4975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p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矩形标注 14"/>
          <p:cNvSpPr/>
          <p:nvPr/>
        </p:nvSpPr>
        <p:spPr>
          <a:xfrm>
            <a:off x="2484360" y="1413000"/>
            <a:ext cx="1584360" cy="647640"/>
          </a:xfrm>
          <a:prstGeom prst="wedgeRectCallout">
            <a:avLst>
              <a:gd name="adj1" fmla="val -18736"/>
              <a:gd name="adj2" fmla="val -4436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rul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矩形标注 14"/>
          <p:cNvSpPr/>
          <p:nvPr/>
        </p:nvSpPr>
        <p:spPr>
          <a:xfrm>
            <a:off x="2484360" y="5589720"/>
            <a:ext cx="1297080" cy="647640"/>
          </a:xfrm>
          <a:prstGeom prst="wedgeRectCallout">
            <a:avLst>
              <a:gd name="adj1" fmla="val -20500"/>
              <a:gd name="adj2" fmla="val -3651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c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矩形标注 14"/>
          <p:cNvSpPr/>
          <p:nvPr/>
        </p:nvSpPr>
        <p:spPr>
          <a:xfrm>
            <a:off x="4789440" y="4076640"/>
            <a:ext cx="1440000" cy="647640"/>
          </a:xfrm>
          <a:prstGeom prst="wedgeRectCallout">
            <a:avLst>
              <a:gd name="adj1" fmla="val -23208"/>
              <a:gd name="adj2" fmla="val -2352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ma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标注 14"/>
          <p:cNvSpPr/>
          <p:nvPr/>
        </p:nvSpPr>
        <p:spPr>
          <a:xfrm>
            <a:off x="4429080" y="5589720"/>
            <a:ext cx="1944720" cy="647640"/>
          </a:xfrm>
          <a:prstGeom prst="wedgeRectCallout">
            <a:avLst>
              <a:gd name="adj1" fmla="val -4449"/>
              <a:gd name="adj2" fmla="val -4068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jack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矩形标注 14"/>
          <p:cNvSpPr/>
          <p:nvPr/>
        </p:nvSpPr>
        <p:spPr>
          <a:xfrm>
            <a:off x="2484360" y="2708280"/>
            <a:ext cx="1513080" cy="647640"/>
          </a:xfrm>
          <a:prstGeom prst="wedgeRectCallout">
            <a:avLst>
              <a:gd name="adj1" fmla="val -24083"/>
              <a:gd name="adj2" fmla="val -4436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quil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矩形标注 14"/>
          <p:cNvSpPr/>
          <p:nvPr/>
        </p:nvSpPr>
        <p:spPr>
          <a:xfrm>
            <a:off x="2340000" y="4076640"/>
            <a:ext cx="2160720" cy="647640"/>
          </a:xfrm>
          <a:prstGeom prst="wedgeRectCallout">
            <a:avLst>
              <a:gd name="adj1" fmla="val -16199"/>
              <a:gd name="adj2" fmla="val -3308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or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组合 24"/>
          <p:cNvGrpSpPr/>
          <p:nvPr/>
        </p:nvGrpSpPr>
        <p:grpSpPr>
          <a:xfrm>
            <a:off x="217440" y="-84240"/>
            <a:ext cx="3132360" cy="1065240"/>
            <a:chOff x="217440" y="-84240"/>
            <a:chExt cx="3132360" cy="1065240"/>
          </a:xfrm>
        </p:grpSpPr>
        <p:pic>
          <p:nvPicPr>
            <p:cNvPr id="302" name="Picture 6" descr="BAN_052"/>
            <p:cNvPicPr/>
            <p:nvPr/>
          </p:nvPicPr>
          <p:blipFill>
            <a:blip r:embed="rId6"/>
            <a:stretch/>
          </p:blipFill>
          <p:spPr>
            <a:xfrm>
              <a:off x="217440" y="-84240"/>
              <a:ext cx="3132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7"/>
            <p:cNvSpPr/>
            <p:nvPr/>
          </p:nvSpPr>
          <p:spPr>
            <a:xfrm>
              <a:off x="217440" y="129960"/>
              <a:ext cx="29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Exercises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492360" y="2667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将单词与图片连线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541440" y="5445000"/>
            <a:ext cx="1225440" cy="99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332000" y="1916280"/>
            <a:ext cx="1152360" cy="40338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3500280"/>
            <a:ext cx="1009440" cy="72072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549440" y="3068640"/>
            <a:ext cx="936720" cy="14400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405080" y="1916280"/>
            <a:ext cx="1079280" cy="396072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084720" y="1916280"/>
            <a:ext cx="1368720" cy="100800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373440" y="3068640"/>
            <a:ext cx="1150920" cy="280836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700280"/>
            <a:ext cx="1584360" cy="223344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29440" y="4437000"/>
            <a:ext cx="1295280" cy="137016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252360" y="4005360"/>
            <a:ext cx="1333440" cy="892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rcRect l="16244" t="10500" r="54219" b="6328"/>
          <a:stretch/>
        </p:blipFill>
        <p:spPr>
          <a:xfrm rot="3329400">
            <a:off x="7705440" y="944280"/>
            <a:ext cx="648000" cy="1295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rcRect l="32487" t="18208" r="33784" b="3797"/>
          <a:stretch/>
        </p:blipFill>
        <p:spPr>
          <a:xfrm>
            <a:off x="396720" y="2708280"/>
            <a:ext cx="84456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1"/>
          <a:srcRect l="18712" t="7274" r="19772" b="4586"/>
          <a:stretch/>
        </p:blipFill>
        <p:spPr>
          <a:xfrm>
            <a:off x="7597800" y="2276640"/>
            <a:ext cx="1077840" cy="1512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55744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79640" y="1414440"/>
            <a:ext cx="5329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4814d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a-2e</a:t>
            </a:r>
            <a:endParaRPr b="1" lang="en-US" sz="36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4814da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4753080" cy="290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7272360" y="1922400"/>
            <a:ext cx="1366920" cy="884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905200" y="3429000"/>
            <a:ext cx="1511280" cy="907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-36360" y="909720"/>
            <a:ext cx="936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在四线三格中写出所给字母的左邻右舍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600120" y="1917720"/>
            <a:ext cx="1297080" cy="8319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2976480" y="1917720"/>
            <a:ext cx="1368360" cy="885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00120" y="3429000"/>
            <a:ext cx="1297080" cy="863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816120" y="1874880"/>
            <a:ext cx="97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I 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095640" y="187488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K 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71400" y="3387600"/>
            <a:ext cx="148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O 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7415280" y="1874880"/>
            <a:ext cx="13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N 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4680000" y="1922400"/>
            <a:ext cx="1368360" cy="8780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4751280" y="3433680"/>
            <a:ext cx="1368360" cy="8780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7343640" y="3433680"/>
            <a:ext cx="1366920" cy="8841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0"/>
          <a:stretch/>
        </p:blipFill>
        <p:spPr>
          <a:xfrm>
            <a:off x="647640" y="4776840"/>
            <a:ext cx="1368360" cy="8776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1"/>
          <a:stretch/>
        </p:blipFill>
        <p:spPr>
          <a:xfrm>
            <a:off x="2951280" y="4776840"/>
            <a:ext cx="1366560" cy="884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112840" y="2062080"/>
            <a:ext cx="72072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J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19640" y="2066760"/>
            <a:ext cx="107964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M 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97200" y="3573360"/>
            <a:ext cx="86364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P 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64360" y="3573360"/>
            <a:ext cx="100800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Q  q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8400" y="4900680"/>
            <a:ext cx="72072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F 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4896000" y="1874880"/>
            <a:ext cx="111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L 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095640" y="33876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Q 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968720" y="33876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P 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7559640" y="3387600"/>
            <a:ext cx="111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R 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790560" y="4756320"/>
            <a:ext cx="13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E 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3013200" y="4754520"/>
            <a:ext cx="13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G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Dotum"/>
              </a:rPr>
              <a:t>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719280" y="1437840"/>
            <a:ext cx="7956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This is ______ orang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a     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an      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/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That is ______ ma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a   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an   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/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What’s this?     — _______ “I”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is is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4200" y="809640"/>
            <a:ext cx="41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选择填空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284720" y="2465280"/>
            <a:ext cx="720720" cy="674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58920" y="3833640"/>
            <a:ext cx="720720" cy="675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187280" y="520236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12720" y="11955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千克”的英文缩写是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UN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. cm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k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（美国）全国篮球协会 ”的英文缩写是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14da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NBA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. BBC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 U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804000" y="1962000"/>
            <a:ext cx="720720" cy="675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330200" y="4049640"/>
            <a:ext cx="720720" cy="674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0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24000" y="733320"/>
            <a:ext cx="41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看图填空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6360" y="1557360"/>
            <a:ext cx="709128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Hello, Helen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Oh, ______, Eric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What’s ______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_______ ______ pen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nd _______ ______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It’s ______ 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2197080" y="2262240"/>
            <a:ext cx="1295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ell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87640" y="2997360"/>
            <a:ext cx="1440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619280" y="3716280"/>
            <a:ext cx="2448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t’s         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340000" y="4437000"/>
            <a:ext cx="3166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hat’s    t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413080" y="5157720"/>
            <a:ext cx="2735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n      or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rcRect l="32487" t="18208" r="33784" b="3797"/>
          <a:stretch/>
        </p:blipFill>
        <p:spPr>
          <a:xfrm>
            <a:off x="7667640" y="4941720"/>
            <a:ext cx="844560" cy="1079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rcRect l="5695" t="11479" r="9394" b="6268"/>
          <a:stretch/>
        </p:blipFill>
        <p:spPr>
          <a:xfrm>
            <a:off x="5724360" y="631800"/>
            <a:ext cx="280836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7093080" y="2997360"/>
          <a:ext cx="12254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93080" y="2997360"/>
                    <a:ext cx="1225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u"/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500"/>
                            </p:stCondLst>
                            <p:childTnLst>
                              <p:par>
                                <p:cTn id="17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 rot="289200">
            <a:off x="1836720" y="1773000"/>
            <a:ext cx="612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4814da"/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华文彩云"/>
              </a:rPr>
              <a:t>Thank you!</a:t>
            </a:r>
            <a:endParaRPr b="1" lang="en-US" sz="9600" spc="1" strike="noStrike">
              <a:ln w="9360">
                <a:solidFill>
                  <a:srgbClr val="6600cc"/>
                </a:solidFill>
                <a:miter/>
              </a:ln>
              <a:solidFill>
                <a:srgbClr val="4814da"/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>
    <p:newsflash/>
  </p:transition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24"/>
          <p:cNvGrpSpPr/>
          <p:nvPr/>
        </p:nvGrpSpPr>
        <p:grpSpPr>
          <a:xfrm>
            <a:off x="2195640" y="333360"/>
            <a:ext cx="3203280" cy="1134360"/>
            <a:chOff x="2195640" y="333360"/>
            <a:chExt cx="3203280" cy="1134360"/>
          </a:xfrm>
        </p:grpSpPr>
        <p:pic>
          <p:nvPicPr>
            <p:cNvPr id="86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195640" y="333360"/>
              <a:ext cx="320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7"/>
            <p:cNvSpPr/>
            <p:nvPr/>
          </p:nvSpPr>
          <p:spPr>
            <a:xfrm>
              <a:off x="2195640" y="550800"/>
              <a:ext cx="306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Lead in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16244" t="10500" r="54219" b="6328"/>
          <a:stretch/>
        </p:blipFill>
        <p:spPr>
          <a:xfrm rot="3329400">
            <a:off x="1295280" y="1017360"/>
            <a:ext cx="6476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4"/>
          <p:cNvGrpSpPr/>
          <p:nvPr/>
        </p:nvGrpSpPr>
        <p:grpSpPr>
          <a:xfrm>
            <a:off x="34920" y="-27000"/>
            <a:ext cx="3995640" cy="1065240"/>
            <a:chOff x="34920" y="-27000"/>
            <a:chExt cx="3995640" cy="1065240"/>
          </a:xfrm>
        </p:grpSpPr>
        <p:pic>
          <p:nvPicPr>
            <p:cNvPr id="91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34920" y="-27000"/>
              <a:ext cx="399564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"/>
            <p:cNvSpPr/>
            <p:nvPr/>
          </p:nvSpPr>
          <p:spPr>
            <a:xfrm>
              <a:off x="34920" y="187200"/>
              <a:ext cx="382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Presentation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55640" y="3533760"/>
            <a:ext cx="1727280" cy="13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71640" y="1197000"/>
          <a:ext cx="1225800" cy="86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197000"/>
                    <a:ext cx="12258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229440" y="52992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427640" y="3809880"/>
            <a:ext cx="1584360" cy="105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rcRect l="32487" t="18208" r="33784" b="3797"/>
          <a:stretch/>
        </p:blipFill>
        <p:spPr>
          <a:xfrm>
            <a:off x="6732720" y="3789360"/>
            <a:ext cx="84456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rcRect l="18712" t="7274" r="19772" b="4586"/>
          <a:stretch/>
        </p:blipFill>
        <p:spPr>
          <a:xfrm>
            <a:off x="2887560" y="3357720"/>
            <a:ext cx="1179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4826160" y="1052640"/>
            <a:ext cx="1041120" cy="104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3080" y="2205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ke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3080" y="2205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p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1960" y="2205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c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3120" y="2205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rul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79120" y="530064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ma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37000" y="537372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jack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53085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quil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8520" y="53085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6588000" y="1052640"/>
            <a:ext cx="1584360" cy="992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标注 18"/>
          <p:cNvSpPr/>
          <p:nvPr/>
        </p:nvSpPr>
        <p:spPr>
          <a:xfrm>
            <a:off x="1187280" y="1125360"/>
            <a:ext cx="1224000" cy="649440"/>
          </a:xfrm>
          <a:prstGeom prst="wedgeRectCallout">
            <a:avLst>
              <a:gd name="adj1" fmla="val 103694"/>
              <a:gd name="adj2" fmla="val 12457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标注 16"/>
          <p:cNvSpPr/>
          <p:nvPr/>
        </p:nvSpPr>
        <p:spPr>
          <a:xfrm>
            <a:off x="4572000" y="1052640"/>
            <a:ext cx="1224000" cy="647640"/>
          </a:xfrm>
          <a:prstGeom prst="wedgeRectCallout">
            <a:avLst>
              <a:gd name="adj1" fmla="val 163879"/>
              <a:gd name="adj2" fmla="val -4068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47640" y="2205000"/>
            <a:ext cx="1990800" cy="1209600"/>
            <a:chOff x="1547640" y="2205000"/>
            <a:chExt cx="1990800" cy="12096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 flipH="1">
              <a:off x="1547640" y="2205000"/>
              <a:ext cx="129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555640" y="2781360"/>
              <a:ext cx="982800" cy="63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3924360" y="620640"/>
            <a:ext cx="4219200" cy="2720880"/>
            <a:chOff x="3924360" y="620640"/>
            <a:chExt cx="4219200" cy="272088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3924360" y="1989000"/>
              <a:ext cx="13096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7078320" y="851040"/>
              <a:ext cx="12956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标注 16"/>
          <p:cNvSpPr/>
          <p:nvPr/>
        </p:nvSpPr>
        <p:spPr>
          <a:xfrm>
            <a:off x="4716360" y="4292640"/>
            <a:ext cx="2016360" cy="720720"/>
          </a:xfrm>
          <a:prstGeom prst="wedgeRectCallout">
            <a:avLst>
              <a:gd name="adj1" fmla="val -84958"/>
              <a:gd name="adj2" fmla="val 2092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glish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rcRect l="8450" t="18979" r="0" b="19033"/>
          <a:stretch/>
        </p:blipFill>
        <p:spPr>
          <a:xfrm>
            <a:off x="1332000" y="4221000"/>
            <a:ext cx="2627280" cy="1779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标注 8"/>
          <p:cNvSpPr/>
          <p:nvPr/>
        </p:nvSpPr>
        <p:spPr>
          <a:xfrm>
            <a:off x="971640" y="1484280"/>
            <a:ext cx="2952720" cy="1440000"/>
          </a:xfrm>
          <a:prstGeom prst="wedgeRectCallout">
            <a:avLst>
              <a:gd name="adj1" fmla="val 49087"/>
              <a:gd name="adj2" fmla="val 68523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标注 14"/>
          <p:cNvSpPr/>
          <p:nvPr/>
        </p:nvSpPr>
        <p:spPr>
          <a:xfrm>
            <a:off x="5219640" y="2060640"/>
            <a:ext cx="2376720" cy="792000"/>
          </a:xfrm>
          <a:prstGeom prst="wedgeRectCallout">
            <a:avLst>
              <a:gd name="adj1" fmla="val -29226"/>
              <a:gd name="adj2" fmla="val 159819"/>
            </a:avLst>
          </a:prstGeom>
          <a:solidFill>
            <a:srgbClr val="ffff66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 rul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211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1967040" cy="201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3213000"/>
            <a:ext cx="3889440" cy="2521080"/>
          </a:xfrm>
          <a:prstGeom prst="rect">
            <a:avLst/>
          </a:prstGeom>
          <a:ln w="0">
            <a:noFill/>
          </a:ln>
        </p:spPr>
      </p:pic>
      <p:sp>
        <p:nvSpPr>
          <p:cNvPr id="125" name="矩形标注 12"/>
          <p:cNvSpPr/>
          <p:nvPr/>
        </p:nvSpPr>
        <p:spPr>
          <a:xfrm>
            <a:off x="969840" y="1268280"/>
            <a:ext cx="3024360" cy="1440000"/>
          </a:xfrm>
          <a:prstGeom prst="wedgeRectCallout">
            <a:avLst>
              <a:gd name="adj1" fmla="val 26481"/>
              <a:gd name="adj2" fmla="val 86606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标注 13"/>
          <p:cNvSpPr/>
          <p:nvPr/>
        </p:nvSpPr>
        <p:spPr>
          <a:xfrm>
            <a:off x="5076720" y="2422440"/>
            <a:ext cx="3168720" cy="790560"/>
          </a:xfrm>
          <a:prstGeom prst="wedgeRectCallout">
            <a:avLst>
              <a:gd name="adj1" fmla="val -34120"/>
              <a:gd name="adj2" fmla="val 127912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n orang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rcRect l="32487" t="18208" r="33784" b="3797"/>
          <a:stretch/>
        </p:blipFill>
        <p:spPr>
          <a:xfrm>
            <a:off x="3494160" y="5086440"/>
            <a:ext cx="844560" cy="107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303640" y="2852640"/>
            <a:ext cx="4174920" cy="3097080"/>
            <a:chOff x="2303640" y="2852640"/>
            <a:chExt cx="4174920" cy="309708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303640" y="2852640"/>
              <a:ext cx="403200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59280" y="2854080"/>
              <a:ext cx="251928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08720" y="1216080"/>
            <a:ext cx="1874880" cy="1420920"/>
          </a:xfrm>
          <a:prstGeom prst="rect">
            <a:avLst/>
          </a:prstGeom>
          <a:ln w="0">
            <a:noFill/>
          </a:ln>
        </p:spPr>
      </p:pic>
      <p:sp>
        <p:nvSpPr>
          <p:cNvPr id="132" name="矩形标注 17"/>
          <p:cNvSpPr/>
          <p:nvPr/>
        </p:nvSpPr>
        <p:spPr>
          <a:xfrm>
            <a:off x="900000" y="1773360"/>
            <a:ext cx="2698920" cy="1439640"/>
          </a:xfrm>
          <a:prstGeom prst="wedgeRectCallout">
            <a:avLst>
              <a:gd name="adj1" fmla="val 47939"/>
              <a:gd name="adj2" fmla="val 78115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’s that in Eng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标注 16"/>
          <p:cNvSpPr/>
          <p:nvPr/>
        </p:nvSpPr>
        <p:spPr>
          <a:xfrm>
            <a:off x="6264360" y="3573360"/>
            <a:ext cx="2411280" cy="790560"/>
          </a:xfrm>
          <a:prstGeom prst="wedgeRectCallout">
            <a:avLst>
              <a:gd name="adj1" fmla="val -67250"/>
              <a:gd name="adj2" fmla="val 60842"/>
            </a:avLst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 map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2:59:25Z</dcterms:created>
  <dc:creator/>
  <dc:description/>
  <dc:language>en-US</dc:language>
  <cp:lastModifiedBy>User</cp:lastModifiedBy>
  <dcterms:modified xsi:type="dcterms:W3CDTF">2012-08-28T03:39:37Z</dcterms:modified>
  <cp:revision>0</cp:revision>
  <dc:subject/>
  <dc:title>幻灯片 1</dc:title>
</cp:coreProperties>
</file>